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67F-C808-4368-9B65-1771FE4E825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12D-283F-4C4F-BED9-C9249E9C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369-8A8A-443E-BEBF-6E87E1A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6CE-46FB-4D71-8FFE-122CA57C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404-61F5-436E-B1C9-FC47A083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65EF-E5C3-4647-8C90-0A349563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6738-C1BA-4B63-9E33-81F0258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717D-2100-43D7-87DF-49C9876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31CC-A0AA-4BB9-98C6-D491F150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EE53-7946-4F9F-8939-834AFFA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8A3-C5F9-48AF-A69E-43D16B5F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869A-5176-49F3-BC67-5EF88B13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822-1B3C-42AF-83F9-86DDAB87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E92C-C598-4767-953D-D506CC6A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A29F-5C4B-40CA-898B-94A0D9F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56EC-6A32-4FC9-93C6-6831EBA8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F724-1A37-44DB-ACCB-7ED974A0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82A0-60C9-42D3-8936-843C5866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0D0-97B5-4B1B-BC46-8139682C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658-F9AE-42E0-AAB7-38BC6308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446-700D-4E90-82BC-D8C02836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967-188B-4C16-BFFD-4B36F7D6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54F-42A4-479F-BA79-C50ABB5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67E-5017-490F-9398-BF3CCC2F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F13-3415-443A-B199-69D7449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C9E-BB3D-4288-8B07-B22FC6C06672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A2F9-8075-48CF-8AD1-B609C6655DBD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Times New Roman"/>
              </a:rPr>
              <a:t>How Impersonal Can You Get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19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Anna Siewiersk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Dik Bakker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(Lancaster University)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308-BAB1-44FC-B430-FE3236AF8B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087920" y="2141640"/>
            <a:ext cx="651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1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 Lack of human 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Weather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Bodily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sensatio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and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52F-749F-4059-9814-9AF24CAD1F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ubjects: active not passiv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Fuer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arrestados (por la polic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í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were.3P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arrested      by the polic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They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were arrested by the police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Only specific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23D-B6AB-4C2D-A43D-DA8F4660775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erb types: not ergativ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Muere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en  defensa de la   democraci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die.3P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in  defense of  the democrac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They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die in defense of democracy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nly specific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106-B4AF-4B17-BB43-F52C9FBCED5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ot in copulative claus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talia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eri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on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stati villani con tutt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esterday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were.3P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rude         for  al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Yesterday they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were rude to all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nly specific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174-413F-46ED-ACD9-D6C7A8029F8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ragmatic/stylistic properti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pression of negative emotions or negative assessment of the situation expressed in the claus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olloquial; spoken as opposed to written languag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CD9-26C6-4E1F-B066-915783A940D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arameters of vari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otentially all of the abov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w: interpretation of the nature of the plural refer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vailability of individual reading and nature of this read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vailability and nature of alternative strategies to 3P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C9A-6C2F-40F8-A891-471EE27513C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ature of plural refer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Official instituti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such as government, municipal council, army, university, or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recogniz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group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ncident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group of persons involved in a common activit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740-C762-4E77-957E-C8BFD7F95EB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stitutiona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war came along, but prior to that, in the radio field there was a challenge from a, a radio firm in er London.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he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aid that a certain article could not be repair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…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is er very good orderly got local leave after he’d done his stint up country ‘cos he’d made such a good job of it,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the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gave him local leave. …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A5B-8594-4B3D-B40D-911AA646B32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roup of persons 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hill (1997:814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X: Guess what? We found a liberal docto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: What? Alread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X: Yes sir. The body’s on its way. Surgery is scheduled for tonight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: My God. Are we sure he was a liberal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X: Pretty sure.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pulled him from a Volvo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EBA-ACC1-4B78-A765-590EDB33EDF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dividual read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What happened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My car has been broken into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The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’ve taken the radi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Why are you here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They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ld me to come here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0DF-CAC7-43C8-ACC3-1DA7AA89595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sample  (n=31)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Lgs with NO 3PL IMP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: 6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Cantonese, Finnish (Standard),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German(1), Japanese, Coll. Singhalese, Tha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Lgs with 3PL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IMP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: 25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rganizations &gt; Group &gt; Individu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25                     23         17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B36-783B-456D-85E4-EE1104220AC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r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a’  ocras     orm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s   hunger   on-m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`I am hungry.’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A38-A9CD-4655-8B86-E0ED883427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o individual read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Finnish (South West dialect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rman(2), Icelandic, Danish,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rwegian, Swed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Frenc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andari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216-A8AD-435D-AE3C-2913FB547B4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cceptability of individual read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/Galician/Italian/Portuguese  &gt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olish/Russian/Croatian/Bulgarian     &gt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Dutch/Engl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Degree of context required, e.g. Hebrew vs. Engl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703-337A-42BA-B99E-AB8643EEE3D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ole of contex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talian (Cinque 1988: 543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ma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hann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telefonato;  mi  parev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rlier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have.3P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elephoned; me seemed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ua sorell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r sist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`Someone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/*the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elephoned earlier. It wa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r sister.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522-4AD4-4BFC-A77B-C82D7EF3C31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ole of contex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Dutc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Ze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ebben   gebeld. 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3P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have.PL  ru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y rang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et was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irsten / de bank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   was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irsten / the bank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FA4-C418-483F-833E-F9C14E16101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o Group read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nly for  Swedish and Finnish (South-West Dialect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18C-0608-4027-81C2-4D1B0EBA1A9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adings of 3pl &amp; Pro dro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 pro-drop languages impersonal interpretation possible only with bound forms not with free forms: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14C-340C-4907-97EF-AB6D69BDC46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. Llam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a   la   puert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ling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3PL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t  the doo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/someone is calling  at the door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Ellos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lama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a  la puert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calling:3pl at the doo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`They/*someone are calling at the door.'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E4F-31FD-4940-A938-F927D5B4598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adings &amp; Pro dro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&amp;S: for impersonal (arbitrary) readings pronominal form must be weak or deficient but for generic it may be weak or strong (not confirmed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&amp;B: individual interpretations of 3pl favour languages which are pro-drop: Romance, Slavic, Turkish, Hungarian, Persian, Arabic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but als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English, Dutc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B9E-2B34-4C58-A115-89FECCE2824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lternative strategies to 3P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Lgs which use 3pl “impersonally”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Pass Vimp GP 3sg Indef   Nou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gan.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4    2     1                5   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roup   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3    4     1      2        2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divid  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1    1     1      5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tal   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8    7     1      7        7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80E-CA72-4162-824E-135485DD676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gentless passiv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o referential restrictions: agent may be definite, specific, arbitrary, generic (but Myhill 1997:823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o semantic restrictions (unless diachronic ties to refl); implied  agent may be any grammatical person; may be human or non-human or inanimate; may be semantically singular or non-singular; no additonal restrictions on its natu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F42-1AB5-4730-B057-33537270CF1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087920" y="2141640"/>
            <a:ext cx="651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1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 Lack of human 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Weather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Bodily sensations and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Expression of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mod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BD6-8323-4EE0-8704-52C7A3BB2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erbal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ference: VImp more often generic than 3p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erson: VImp in contrast to 3PL typically include 1</a:t>
            </a:r>
            <a:r>
              <a:rPr b="0" lang="en-GB" sz="3200" spc="-1" strike="noStrike" baseline="30000">
                <a:solidFill>
                  <a:srgbClr val="3333cc"/>
                </a:solidFill>
                <a:latin typeface="Tahoma"/>
              </a:rPr>
              <a:t>s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pers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Humanness: same as 3PL (?Russian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umber: VImp less restricted in regard to number than 3P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DE7-9892-4F40-84F2-0C3F9C207CD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stric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ammatical pers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pl &gt; VImp &gt; pass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pl &gt; VImp &gt; pass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umanne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pl &amp; VImp &gt; pass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gentivit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pl &gt; V Imp &gt; pass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D3B-2B21-4584-A4E7-51C78AA55B5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Degress of imperson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f impersonal: without restrictions relating to referential value and semantic properti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pl &gt; Vimp &gt; Passiv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98A-CF56-46C4-85DB-E2D828742C3F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&amp; VImp vs. Pas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erbal valency; 3pl &amp; VImp do not affect the basic valency of the verb while passives d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gent suppression vs. dele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resence of agent for grammatical rul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ssues of register and styl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933-2637-4852-9250-5E55D1B0F674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ncluding remark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pl obviously under-investigat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orthy of investigation both from syntactic and pragmatic perspectiv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readings it may express appear to conform to a hierarchy: organisation &gt; group &gt; individu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s in competion mainly with the agentless passiv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CCF-D10E-4AE2-A48A-0C4AC77A84F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ncluding remark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s more restricted referentially and semantically than the agentless passive and thus may be seen to reflect a lower degree of impersonalization than the agentless passive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A7A-CE94-4689-AC68-7F04E241886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vadas Afonso, S. P. 2003. Impersonal Constructions in portuguese: A Construction Grammar Approach. Master’s disserattion, Manchester Universit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Cardinaletti, Anna &amp; Starke, Michael. 1999. The typology of structural deficiency. </a:t>
            </a:r>
            <a:r>
              <a:rPr b="0" lang="nl-NL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In: Henk van Riemsdijk (ed.), 145-233</a:t>
            </a:r>
            <a:r>
              <a:rPr b="0" lang="nl-NL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inque, G. 1988. The Si Constructions and the theory of Arb. Linguistic Inquiry 19.4, 521-581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779-AFB1-4FDE-ACA6-D5A28899B2B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aeggli, O. A. 1986. Arbitrary Plural pronominals. Natural language and Linguistic Theory 4, 43-76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Kitagawa, C &amp; A. Lehrer 1990. Impersonal uses of personal pronouns. Journal of Pragmatics 14, 739-759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hill, J. 1997. Towards a functional typology of agent defocusing. Linguistics 35, 799-844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533-EF0A-4F91-B652-90822A07E422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einer, E. J &amp; W. Labov 1983. Journal of Linguistics 19, 29-58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A8A-46CC-4A76-930E-4CC320B287C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286520" y="316872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F90-1971-4A58-B7AB-42C91E8DB39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ol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rzeba      odej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śċ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cessary  leave.3S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`It is neccesary to leave.’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05E-3C70-4F97-B67D-03E6637BB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2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141200" y="214164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2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Lack of fully specified human 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17E-1EFA-4FE1-9113-AA23DB710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alicia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se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de  ensinar   trucos   novo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REF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can    teach     tricks    new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   un    can     vell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  a      dog     ol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`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You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’t teach an old dog new trick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CDC-D4ED-4478-9E92-2885FF7219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3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149120" y="2141640"/>
            <a:ext cx="74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3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Lack of overt grammatical su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A46-AD2F-49C4-8AF5-67D6DCC88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3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49480" y="2141640"/>
            <a:ext cx="744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3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Lack of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overt grammatical su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Impersonal pas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B0B-BDA2-4458-899D-C85D884217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Lithuania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Vaikũ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bùvo miĕgam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sodé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Child.PL.G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b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sleep.PP.N   garden.LO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`The children slept in the garden.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Lit. Of the children was being slept in the garden.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D62-FD36-48C4-B2FF-8FD7B620BC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3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012680" y="2057400"/>
            <a:ext cx="744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3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Lack of overt grammatical su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Impersonal pas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onstructions with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exple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element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in subject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984-96EB-4598-987C-B190E43769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Times New Roman"/>
              </a:rPr>
              <a:t>How Impersonal Can You Get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9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Anna Siewiersk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Dik Bakker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(Lancaster University)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4120" y="1371600"/>
            <a:ext cx="129528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1371600"/>
            <a:ext cx="12952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BDE9-22C6-4B9B-AE8D-CD70A2EA1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renc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est      venu       quelques  homm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3SG  is.3SG  come.PP  some       m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Some men have come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245-CC9F-4424-82C6-05A1B4AC5A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3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90080" y="2141640"/>
            <a:ext cx="7565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3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Lack of overt grammatical su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Impersonal pas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onstructions with exple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elements in subject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Location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&amp;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 Existenti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FC9-ED80-4F35-B9E7-2A3475ACBD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3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090080" y="2141640"/>
            <a:ext cx="7565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3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Lack of overt grammatical su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Impersonal pas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onstructions with exple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elements in subject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Locational &amp; Existential 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Extra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94A-12BA-453F-862F-2D7013AE6D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4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34000" y="2141640"/>
            <a:ext cx="706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4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esence of verb with no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ifferent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436-34B7-4800-BF28-005B08D86C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4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134000" y="2141640"/>
            <a:ext cx="706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4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esence of verb with no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ifferent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Infinitiv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834-3FDC-4B66-BD9A-AC6E30032D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4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134000" y="2141640"/>
            <a:ext cx="706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•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4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esence of verb with no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ifferent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Infinitiv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Participi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1DF-FFF8-4003-B019-FDE19FA598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4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86120" y="2141640"/>
            <a:ext cx="806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4.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esence of verb with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no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ifferent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Infinitival 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Participial 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(Grammaticalized)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3SG-neuter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in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D3F-E844-4A03-B43F-166E277361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F57-1731-42F9-AAF9-5A4E1DA287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controll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514600" y="2666880"/>
            <a:ext cx="17524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EA5-1D41-4805-BB82-9C16F5851B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controll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controll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514600" y="2666880"/>
            <a:ext cx="17524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2666880"/>
            <a:ext cx="1981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F06-598A-45DF-9E25-B43D88694F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Times New Roman"/>
              </a:rPr>
              <a:t>How Impersonal Can ‘They’ Get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Anna Siewiersk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Dik Bakker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(Lancaster University)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60B9-686F-4215-B833-8EBCBB4E1C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controll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controll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ter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133720" y="2666880"/>
            <a:ext cx="17524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666880"/>
            <a:ext cx="1981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219320" y="373392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D05-2CCD-4AE0-BA27-6498B0A32D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controll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controll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ternal   inter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133720" y="2666880"/>
            <a:ext cx="17524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666880"/>
            <a:ext cx="1981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19320" y="373392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373392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859-3E45-4D0E-99F7-4DE8EABF03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96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controll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controll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ternal   inter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nonspecific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g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                                 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514600" y="2666880"/>
            <a:ext cx="17524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2666880"/>
            <a:ext cx="1981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600200" y="373392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73392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86040" y="37339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73C-9C66-4EF9-AAD2-960F40DAF5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96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controll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controll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ternal   inter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nonspecific     specific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gent             cover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                               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g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514600" y="2666880"/>
            <a:ext cx="17524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2666880"/>
            <a:ext cx="1981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600200" y="373392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373392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86040" y="37339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37339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6CF-4735-450F-AAF1-1AFD3A7F28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 Typology: Moreno Cabrera (1987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96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controlle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controll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ternal   inter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nonspecif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specific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agent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cover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                               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g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514600" y="2666880"/>
            <a:ext cx="17524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2666880"/>
            <a:ext cx="1981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600200" y="373392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373392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86040" y="37339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37339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A52-FF04-4785-89AE-868FB637AB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SAI: re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191-9C13-43B6-A97F-BA8C977815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SAI: re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756720" y="2133720"/>
            <a:ext cx="7611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Generalized nou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peopl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huma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2DC-A34C-486B-80EE-7E581C7D3F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SAI: re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80480" y="2133720"/>
            <a:ext cx="78721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neralized nouns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peopl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huma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Generalized pronou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ma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un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6C9-EA61-4B1D-B9C5-CDC64E0CDA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SAI: re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780480" y="2133720"/>
            <a:ext cx="7872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neralized nouns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peopl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huma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neralized pronouns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ma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un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nspecif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use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ndef Pr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someon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570-FC0E-478D-89B2-ABC1721B6E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SAI: re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80480" y="2133720"/>
            <a:ext cx="787212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neralized nouns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peopl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huma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neralized pronouns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ma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un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nspecific use Indef Pro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someon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nspecif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uses of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erson form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(free or bound):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1P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2SG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3SG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2DF-475F-4FF4-AB50-338100FE39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14560" y="2141640"/>
            <a:ext cx="649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Impersonality: work in its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in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D4E-63C5-4D09-AE50-7229F1D23D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SAI: re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80480" y="2133720"/>
            <a:ext cx="787212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neralized nouns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peopl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human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eneralized pronouns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ma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,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un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nspecific use Indef Pro: ‘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someon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nspecific uses of person 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(free or bound):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1P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2SG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3SG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pecial verbal form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imperso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reflexive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infini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2D3-6D09-4D9C-9682-EC7DA6B8C0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SAI: realiz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81560" y="2133720"/>
            <a:ext cx="685116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ahoma"/>
              </a:rPr>
              <a:t>AND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assiv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constructions wher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gent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s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Cover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and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Non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F1E-746F-4A9D-88AD-E149C35661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search Ques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269-36DA-4AF9-BD15-D24CD6A2A3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search Ques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61280" y="2424240"/>
            <a:ext cx="87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 what extent are the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ypes of NSAI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functionally equivalen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9E4-6B06-4B85-9482-A2FB8147AF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search Ques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61280" y="2424240"/>
            <a:ext cx="8701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 what extent are the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ypes of NSAI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functionally equivalen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. Is the notion of Impersonality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unified concep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B0C-5E30-4400-9EE4-DFC47C0A33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search Ques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69920" y="2424240"/>
            <a:ext cx="9241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 what extent are the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ypes of NSAI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functionally equivalen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. Is the notion of Impersonality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unified concep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 If not so, is there a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ystematic us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SAI types for the respective s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f Impersonality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cross language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485-542D-46F3-8517-D62E7272DD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ocus of present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F51-E765-4125-A691-65B999496C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ocus of present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869760" y="221760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Pronominal: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DF0-ADDC-42B1-836F-3BC138F23F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ocus of present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774720" y="2217600"/>
            <a:ext cx="66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Pronominal: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ery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comm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amo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A6D-D687-438D-B3DF-3683E43EA75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ocus of present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61760" y="2217600"/>
            <a:ext cx="727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Pronominal: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ery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comm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amo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Underinvestigated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lative to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and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068-FA7B-46D6-8037-B3E62D4EB6C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14560" y="2141640"/>
            <a:ext cx="649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Impersonality: work in its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in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- very 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- understu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- ill-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BB0-08AD-4D9A-981E-6D1D36C9A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ocus of present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761760" y="2217600"/>
            <a:ext cx="727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Pronominal: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ery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comm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amo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Underinvestigated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lative t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mpersonals and pas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onsequence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: lack of in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0A4-6246-48ED-8587-73F60532585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ersonals: free form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Icelandic (+English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Þeir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ru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únir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ð loka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the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BE.3PL    finished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close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eginum         einu sinni  enn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ad.DEF.DAT one  time  agai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They’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e closed the road once again.’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621-E6A6-4339-A8C1-CFA82E4312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ersonals: bound form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Russia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ovor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ja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ct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budet    vojn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ay.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3P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tha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will.be   wa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say there will be war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AA2-384E-4E6A-B6C0-1C1484F6215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ersonals: bound form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Greek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      klepsa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ta     left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.GEN  stole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3P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the   money.ACC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`They stole my money from me.`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25F-4819-43B9-B09C-C970F0B658B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D6F-55E0-4774-9000-DF1AADCEC1B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Eurasi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I-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Romance, Slavic, Germanic, Baltic, Greek, Kashmiri, Persian, Sinhala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Fino-Ugr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Courier New"/>
              </a:rPr>
              <a:t>Hungarian, Finnish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Erzya Mordvin, Nenets, Mari (Chermis), Udmurt, Komi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Turk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Turkish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Basqu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Dravidian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Tami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F2F-F012-4C2A-B70B-226FD585C2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Eurasi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I-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Romance, Slavic, Germanic, Baltic, Greek, Kashmiri, Persian, Sinhala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Fino-Ugr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Courier New"/>
              </a:rPr>
              <a:t>Hungarian, Finnish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Erzya Mordvin, Nenets, Mari (Chermis), Udmurt, Komi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Turk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Turkish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Basqu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Dravidian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Tami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fric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A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Arabic, Hebrew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Godie, Mupun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;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N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Babungo, Nkore- Kiga, Fonge, Koromfe, 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  <a:ea typeface="Courier New"/>
              </a:rPr>
              <a:t>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Kunama, Mundani, Ngit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A53-A1B3-41C9-B072-3D9CC5E8276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New Guine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Amele, Kob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6B8-FE3A-4DAC-B498-CBF9E11BE7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New Guine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Amele, Kob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Oceani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Tawala, Paamese, lgs of New Caledon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E04-4B0C-496C-88FE-24173E18C77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New Guine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Amele, Kob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Oceani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Tawala, Paamese, lgs of New Caledon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Courier New"/>
              </a:rPr>
              <a:t>Australi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Courier New"/>
              </a:rPr>
              <a:t> Marunguk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ABB-9614-4D41-8055-09F6E91065B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FA5-051B-4BDB-8D0A-58D73DC96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New Guine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Amele, Kob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Oceani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Tawala, Paamese, lgs of New Caledon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Courier New"/>
              </a:rPr>
              <a:t>Australi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Courier New"/>
              </a:rPr>
              <a:t> Marunguk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meric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Copala Trique, Tetelcingo Nahuat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5F8-992A-406F-903D-FE43BC7854D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: comm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New Guine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Amele, Kob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Oceani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 Tawala, Paamese, lgs of New Caledon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  <a:ea typeface="Courier New"/>
              </a:rPr>
              <a:t>Australi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Courier New"/>
              </a:rPr>
              <a:t> Marunguk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meric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Courier New"/>
              </a:rPr>
              <a:t>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Copala Trique, Tetelcingo Nahuat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UNIVERSAL</a:t>
            </a: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9AE-DDEA-4973-9E20-E2AC36946F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 &amp; Univers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7EC-CA99-445E-B38B-8201EA8171D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 &amp; Univers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in languages without free and bound person forms, or numb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A3C-492A-42F0-891A-E8C066FD51B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 &amp; Univers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in languages without free and bound person forms, or numb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in Cantonese, Colloq. Sinhal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622-BCCD-4856-8A12-113B93741FD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 IMPRS &amp; Univers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in languages without free and bound person forms, or numb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in Cantonese, Colloq. Sinhal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many American lgs </a:t>
            </a:r>
            <a:r>
              <a:rPr b="1" lang="en-GB" sz="3200" spc="-1" strike="noStrike">
                <a:solidFill>
                  <a:srgbClr val="499b62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special NONSPEC forms on the verb (old 3PL??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(Mithun 1999)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C24-92F6-4849-A30E-3D17C2B2BA1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175400" y="2370240"/>
            <a:ext cx="30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C47-C8D2-4F32-9AB8-5536CE3B36F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099440" y="2370240"/>
            <a:ext cx="63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data collectio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500-D5BB-4301-B0B9-FAC3CB30D19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098360" y="2370240"/>
            <a:ext cx="710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data col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grammar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poor &amp; 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415-BAF9-4CE6-B529-14493756D64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159560" y="2370240"/>
            <a:ext cx="7302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data col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 grammars: poor &amp; 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corpora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poken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!): un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D50-C2D0-4902-8C5D-6E6DB846895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17880" y="2141640"/>
            <a:ext cx="50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1. Lack of human 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BD2-79CE-4697-9E85-CB9B7FA31E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159920" y="2370240"/>
            <a:ext cx="730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data col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 grammars: poor &amp; 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. corpora (spoken!): un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ative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DED-B994-43E8-9759-057F367B813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099440" y="2370240"/>
            <a:ext cx="6357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data col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Native speakers (linguis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27 questions about 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624-62F4-4A12-8C5A-ED30292BEF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099440" y="2370240"/>
            <a:ext cx="63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data col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Native spea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27 questions about 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English examples (</a:t>
            </a:r>
            <a:r>
              <a:rPr b="0" i="1" lang="en-GB" sz="3200" spc="-1" strike="noStrike">
                <a:solidFill>
                  <a:srgbClr val="ff33cc"/>
                </a:solidFill>
                <a:latin typeface="Tahoma"/>
              </a:rPr>
              <a:t>SIC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776-903E-447F-B5DA-273C8DD93A7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099440" y="2370240"/>
            <a:ext cx="6357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data col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Native spea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27 questions about 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English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Translation (glo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38B-0908-4BF0-9D07-B9B7FB5C10F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Imperson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099440" y="2370240"/>
            <a:ext cx="6357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Questionn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ight method of data col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Native spea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27 questions about 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English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Translation (gloss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Alternative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594-CF83-4955-8050-94210295219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Resp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063800" y="1828800"/>
            <a:ext cx="585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GERM               7  (22.58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ROM                6  (19.3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LAV               4  (12.9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EM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IRAN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FIN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IN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GRK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UGR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JAP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INDIC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DAIC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TURK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C3D-461B-4784-AC5A-4D57825B1EC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Resp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062000" y="1828800"/>
            <a:ext cx="767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GERM               7  (22.58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ROM                6  (19.3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LAV               4  (12.9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EM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IRAN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FIN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IN                2  ( 6.45 %)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31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 l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GRK                1  ( 3.23 %) 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39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 q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UGR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JAP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INDIC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DAIC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TURK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1905120"/>
            <a:ext cx="304560" cy="4572000"/>
          </a:xfrm>
          <a:custGeom>
            <a:avLst/>
            <a:gdLst>
              <a:gd name="textAreaLeft" fmla="*/ 0 w 304560"/>
              <a:gd name="textAreaRight" fmla="*/ 109800 w 30456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A66-8B8C-4F98-8637-4AEEDC70983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Resp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064520" y="1828800"/>
            <a:ext cx="76179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GERM               7  (22.58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ROM                6  (19.3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SLAV               4  (12.9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EM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IRAN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FIN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IN                2  ( 6.45 %)  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MS Mincho"/>
              </a:rPr>
              <a:t>21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GRK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UGR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JAP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INDIC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DAIC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TURK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1905120"/>
            <a:ext cx="304560" cy="4572000"/>
          </a:xfrm>
          <a:custGeom>
            <a:avLst/>
            <a:gdLst>
              <a:gd name="textAreaLeft" fmla="*/ 0 w 304560"/>
              <a:gd name="textAreaRight" fmla="*/ 109800 w 30456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FE5-8AA5-4DC7-8BD5-66EBFB05947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Questionnaire Resp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064520" y="1828800"/>
            <a:ext cx="76179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GERM               7  (22.58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ROM                6  (19.3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SLAV               4  (12.9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EM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IRAN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IN                2  ( 6.4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SIN                2  ( 6.45 %)  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MS Mincho"/>
              </a:rPr>
              <a:t>21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GRK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UGR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JAP 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INDIC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DAIC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 Mincho"/>
              </a:rPr>
              <a:t>TURK               1  ( 3.2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1905120"/>
            <a:ext cx="304560" cy="4572000"/>
          </a:xfrm>
          <a:custGeom>
            <a:avLst/>
            <a:gdLst>
              <a:gd name="textAreaLeft" fmla="*/ 0 w 304560"/>
              <a:gd name="textAreaRight" fmla="*/ 109800 w 30456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76C-7C2F-4104-8B16-CCB7431DB54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768040" y="3159000"/>
            <a:ext cx="1978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ahoma"/>
              </a:rPr>
              <a:t>D </a:t>
            </a:r>
            <a:r>
              <a:rPr b="1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4800" spc="-1" strike="noStrike">
                <a:solidFill>
                  <a:srgbClr val="ff0000"/>
                </a:solidFill>
                <a:latin typeface="Tahoma"/>
              </a:rPr>
              <a:t>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933-7385-416F-B32F-D14CDF9AA78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notion “impersonal” :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217880" y="2141640"/>
            <a:ext cx="50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1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 Lack of human 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•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ahoma"/>
              </a:rPr>
              <a:t>Weather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900-7CAF-4778-A652-F0907FDBD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Characteristics 3PL IMPR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036800" y="2341440"/>
            <a:ext cx="603252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ferenti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emantic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rammatic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erb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ragmatic/stylist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7B2-B020-4DAC-9348-282DD3E7C74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tial properties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075680" y="2341440"/>
            <a:ext cx="67615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2 types of  “impersonal” re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vs.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Va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(Kitagawa &amp; Lehrer 19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641-42B3-41DD-853E-E6B8B6A2BE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mpersonal vs. vagu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00200" y="2008080"/>
            <a:ext cx="82044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Impersonal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applies to anyone or every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ith possible inclusion of speake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ddressee; quasi universal quant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-   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for every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Vague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applies to specific individuals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e not identified or identifiable by the spea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nd exclude the speaker and adresse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uasi existential quantific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    there is a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5F3-8E69-4A86-B304-EA719140DBE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38720" y="1959120"/>
            <a:ext cx="79696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K&amp;L: Vague rather than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ecific individuals are not identif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nd since the speaker and hearer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cluded, 3PL cannot embrace any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DA8-B983-46FD-A0F3-2A57E981844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3P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14240" y="1959120"/>
            <a:ext cx="8209440" cy="41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vadas Afonso (2003): both vagu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gue: unknown individuals belonging 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known restricted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group; individuals cannot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dentified but the group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ersonal: unknown individuals belon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o an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unidentified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oup; neither individu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or group can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149-8C83-4D76-9862-CECE797967F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Unidentified grou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767520" y="1959120"/>
            <a:ext cx="81345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…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ell I saw a demolition order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ctually – a few months ago –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ey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ey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ere going to demolish some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flats – which is a pity – I don’t know w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ey’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 doing with Edinburgh th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–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s long as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don’t do what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ith Glasgow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20C-F51F-4952-A30E-64977249F6A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ague vs. Impersona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693360" y="1959120"/>
            <a:ext cx="857484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Vagu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indeterminacy of the referen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part of the addressee but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ecessarily on the part of the 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indeterminacy of the re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n the part of both addressee and 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BB6-C638-494A-A0C1-EA30B34467C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ague vs. Impersonal?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704160" y="1959120"/>
            <a:ext cx="75502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ague vs.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Degree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of vagueness/im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736-902D-4FA6-A363-707AACB409E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Degrees of vagueness: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22160" y="1959120"/>
            <a:ext cx="752184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G p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…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ell my father’s best friend w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rocer but he unfortunately died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ey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ut a manager into the shop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 got a job as an apprentice, well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authorised apprentice.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793-6FBC-4C9E-8272-48AA49835AD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Degrees of vagueness: 2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740160" y="1752480"/>
            <a:ext cx="808488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R p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…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’d been around to the hall but not a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actual gardens themselves. I think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’re marvellous now really, I mean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’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 lot of work to do on them, hopefully with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is money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’re getting,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’ll be able to 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omething. Because in certain areas,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glected, you can see that,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haven’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esources to actually deal with </a:t>
            </a:r>
            <a:r>
              <a:rPr b="0" lang="en-GB" sz="2800" spc="-1" strike="noStrike">
                <a:solidFill>
                  <a:srgbClr val="33cc33"/>
                </a:solidFill>
                <a:latin typeface="Tahoma"/>
              </a:rPr>
              <a:t>them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.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D87-0C45-4EDA-B593-779C728848C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alicia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Est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á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      choven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e-3sg    rain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`Its raining.’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E72-A185-49DA-B404-65E084C73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Degrees of vagueness: 3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781560" y="1959120"/>
            <a:ext cx="831132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R p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…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t 7 you went into the, we called it the b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chool, you know it was just a junior schoo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you knew your 12, up to your 12 times tabl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t was just like pressing a button, if she sa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leven elevens, 121, it came out just like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nd I think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’re coming back to that no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re’s a move in that direction …   </a:t>
            </a: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 ~ </a:t>
            </a: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5638680"/>
            <a:ext cx="23623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F00-D131-4468-B055-64C65E18F7A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tial properties 2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1085040" y="2367000"/>
            <a:ext cx="71442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ahoma"/>
              </a:rPr>
              <a:t>2 types of  “impersonal” re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vs.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Va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(Kitagawa &amp; Lehrer 19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arbitrary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) vs.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Gener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(Jaeggli (1986);Cinque (1988:544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Cardinaletti &amp; Starke (1998: 1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470-F93C-41C7-8248-6AA7FD6AE5C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mpersonal vs. generic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522360" y="2367000"/>
            <a:ext cx="7723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</a:t>
            </a: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quasi existent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-   there is a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leaned a cow toda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witz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  <a:ea typeface="Times New Roman"/>
              </a:rPr>
              <a:t>Generic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~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quasi univers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-  for every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usually clean cows in Switzerland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A4A-75DC-47B5-A76E-DFE9D56B5A0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mpersonal vs. generic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499680" y="2367000"/>
            <a:ext cx="85622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mperso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: Somebody, whoever, clea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a cow today and this event took plac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witz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  <a:ea typeface="Times New Roman"/>
              </a:rPr>
              <a:t>Gener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: People who inhabit Switzer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typically clean c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F3C-6A44-42BC-9D0E-02FD13C3CB4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mpersonal vs. generic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506520" y="2367000"/>
            <a:ext cx="85564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quir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pecific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referenc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; preclude a range restr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n the subject; speaker may not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cluded among potential re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Gener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bid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pecific time referenc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quire a range restriction on the subjec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eaker may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86B-CCAD-4936-8234-8084B1FC571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mparison 1 &amp; 2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629280" y="2367000"/>
            <a:ext cx="652176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K&amp;L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vagu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= C&amp;S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K&amp;L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person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# C&amp;S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me C&amp;S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gener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~ K&amp;L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va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C2C-6967-4355-9084-A5D278BCD13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otions of impersonalit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68480" y="2286000"/>
            <a:ext cx="88214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K&amp;L: anybody or everybody potenti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ncluding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eech ac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&amp;S: some unspecified group of individu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ot including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speech ac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Degree of imperson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K&amp;L: one &gt; you &gt; we &gt; 3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&amp;S: 3pl &gt; we &gt; you &gt;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DEE-5021-454C-A635-A4D8DD991A9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emantic properti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771120" y="2286000"/>
            <a:ext cx="74052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Humannes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necessarily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Number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morphologically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plural b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t necessarily </a:t>
            </a:r>
            <a:r>
              <a:rPr b="0" lang="en-GB" sz="3200" spc="-1" strike="noStrike">
                <a:solidFill>
                  <a:srgbClr val="33cc33"/>
                </a:solidFill>
                <a:latin typeface="Tahoma"/>
              </a:rPr>
              <a:t>semantically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368-8719-4FD2-B111-BD86381B460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umber: indeterminat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Engl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. They ran over my dog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. llam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a   la   puert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ling-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3PL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t  the doo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/someone is calling at the door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FA8-950C-4553-B5FA-B0128F72885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rammatical rela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376560" y="2286000"/>
            <a:ext cx="85118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PL “impersonal” interpretation restri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 subjec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ain or subordinate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ctive clauses not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erbs that are not ergative or copu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des of Imperson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E55-0CC9-4416-BFFD-0C881BA625D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09:08:52Z</dcterms:created>
  <dc:creator>Compaq</dc:creator>
  <dc:description/>
  <dc:language>en-US</dc:language>
  <cp:lastModifiedBy>Compaq</cp:lastModifiedBy>
  <dcterms:modified xsi:type="dcterms:W3CDTF">2006-06-18T09:06:34Z</dcterms:modified>
  <cp:revision>543</cp:revision>
  <dc:subject/>
  <dc:title>PowerPoint Presentation</dc:title>
</cp:coreProperties>
</file>