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D90-49F6-45F2-82EF-5F7D2502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1A6-820C-4BDF-8373-0C9B582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BC3-C394-4369-9ED1-1F570421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911-70F6-4F6E-A4D7-3E7A50F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C2A5-CF27-4988-9250-FBB313C7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8EA-30C6-453F-829F-7FB6B26D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EE4-96AA-418D-8B4F-875E118C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8AC4-01CE-4FFB-AA42-FA54371F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8BCB-01A8-4CF3-ACB2-22B2BD21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67A-D33B-4D5D-A348-6B7B341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E704-1706-4957-90FF-A8551B6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D48-512C-4198-A9F3-0221267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EE4F-6768-4B28-BEBD-3F801DB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62D-5039-48FA-B351-910F12D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235-0710-4552-98E5-2F89606B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E40-8897-4F8C-9605-BC931128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47F7-CEBB-4747-9BBF-4A51BA0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4F1-7002-4406-A28B-078AADFE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2DD-411C-465E-8539-E875BE11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4CA-9821-43BA-9250-8D4546B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DFF-E691-40D0-938E-7A5C04C8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42C-D2F6-421D-B121-5328F3B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B3F-E6BB-430F-B8D2-453943F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C1-C74E-4B94-B16B-81AD57E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36A-EED8-4C05-86F7-95A9A7719256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76E3-FA78-4E54-A96B-A24C8F8CF765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028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asuring the stability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f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ical parameter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msterd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80280" y="2217600"/>
            <a:ext cx="7500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ign Morph+Syn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C+ACC, ERG+ACC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ach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tabili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73408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522936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208-4373-4C5E-8168-F64E7344C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539640" y="2133720"/>
            <a:ext cx="817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MADABS Absence Common Consonants</a:t>
            </a:r>
            <a:r>
              <a:rPr b="0" lang="de-DE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42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2. DRYADP Order Aspos-N                 0.144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3. DRYREL Order RelCl-N                 0.185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4. MADFRV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ront Rounded Vowel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8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98C-3D09-41EA-82EC-1CA89ABEC16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39640" y="2133720"/>
            <a:ext cx="81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MADABS Absence Common Consonants</a:t>
            </a:r>
            <a:r>
              <a:rPr b="0" lang="de-DE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42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2. DRYADP Order Aspos-N                 0.144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3. DRYREL Order RelCl-N                 0.185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4. MADFRV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ront Rounded Vowel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87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6. BICHDC Head-Dept Clause              0.494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7. KAYBCC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sic Colour Categories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0.500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8. BICHDN Head-Dept NP                  0.505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9. BICSY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flectional Synthesis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0.5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8CF-FD82-4B2D-B3D0-3E2CCE8BBAB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539640" y="2133720"/>
            <a:ext cx="81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MADABS Absence Common Consonants</a:t>
            </a:r>
            <a:r>
              <a:rPr b="0" lang="de-DE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42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2. DRYADP Order Aspos-N                 0.144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3. DRYREL Order RelCl-N                 0.185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4. MADFRV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ront Rounded Vowel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0.187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6. BICHDC Head-Dept Clause              0.494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7. KAYBCC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sic Colour Categories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0.500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8. BICHDN Head-Dept NP                  0.505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9. BICSY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flectional Synthesis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0.5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17080" y="386064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7885080" y="386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885080" y="6308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1FD-B652-48CC-BB76-E8D6B467364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2133720"/>
            <a:ext cx="86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ourier New"/>
              </a:rPr>
              <a:t>Fct2B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1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DABS Absence Common Consonant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142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 1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2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RYADP Order Aspos-N                 0.144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12 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3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RYREL Order RelCl-N                 0.185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43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4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DFR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Rounded Vowe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187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 3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6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HDC Head-Dept Clause              0.494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33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7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AYBC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 Colour Categorie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500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39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8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HDN Head-Dept NP                  0.505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23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9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SY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lectional Synthes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528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028-A47C-43BD-B140-4DAA3F5B96C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324000" y="2133720"/>
            <a:ext cx="86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ourier New"/>
              </a:rPr>
              <a:t>Fct2B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1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DABS Absence Common Consonant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142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 1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2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RYADP Order Aspos-N                 0.144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12 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3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RYREL Order RelCl-N                 0.185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43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4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MADFR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Rounded Vowe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187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   3</a:t>
            </a:r>
            <a:br>
              <a:rPr sz="2000"/>
            </a:b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6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HDC Head-Dept Clause              0.494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33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7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AYBC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 Colour Categorie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500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39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8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HDN Head-Dept NP                  0.505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23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139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ICSY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lectional Synthes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0.528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04000" y="2852640"/>
            <a:ext cx="161928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38440" y="2057400"/>
            <a:ext cx="26708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arson 0.568; p &lt;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ova   p = 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2DE-5960-4476-B968-7FD88A547B4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"/>
          <p:cNvSpPr/>
          <p:nvPr/>
        </p:nvSpPr>
        <p:spPr>
          <a:xfrm>
            <a:off x="826920" y="250344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 Word Orde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0.2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2. Phonology        4.9       0.3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 Lexic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3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 Morphology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3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443-A01B-4042-BD8B-082ECBE012E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7" name=""/>
          <p:cNvSpPr/>
          <p:nvPr/>
        </p:nvSpPr>
        <p:spPr>
          <a:xfrm>
            <a:off x="826920" y="250344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2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ord Ord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41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Phonology        4.9       0.334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exic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347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orpholog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383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40720" y="3645000"/>
            <a:ext cx="50328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7B3-E510-4BE6-B72A-9BF15CB4B2E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"/>
          <p:cNvSpPr/>
          <p:nvPr/>
        </p:nvSpPr>
        <p:spPr>
          <a:xfrm>
            <a:off x="826920" y="250344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2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ord Ord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24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Phonology        4.9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0.33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exic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347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orpholog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38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740720" y="3645000"/>
            <a:ext cx="50328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156360" y="3141720"/>
            <a:ext cx="136836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56360" y="4941720"/>
            <a:ext cx="1440000" cy="71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77080" y="400536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70F-8D2B-4001-9ACA-063761B3C32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DDF-C698-4BF0-8B1F-6331FCD1A19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>
            <a:off x="345240" y="2060640"/>
            <a:ext cx="694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WO in Germanic: SOV (2) vs. SVO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ylum: not significantly differe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 change from value A to B? (n &gt;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3CF-A9B4-4DF4-BC39-35F0AC592F8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80280" y="2217600"/>
            <a:ext cx="7500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ign Morph+Syn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C+ACC, ERG+ACC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ach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tabili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anguag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73408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522936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CFA-538C-4176-9898-7FEEB6E9E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>
            <a:off x="188640" y="2060640"/>
            <a:ext cx="71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C74-1296-44AF-B6F2-6813DD6840F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>
            <a:off x="188280" y="2060640"/>
            <a:ext cx="91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fferent distributions values / transitions 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A65-B211-482A-BE11-AA61C2381B8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3" name=""/>
          <p:cNvSpPr/>
          <p:nvPr/>
        </p:nvSpPr>
        <p:spPr>
          <a:xfrm>
            <a:off x="188280" y="2060640"/>
            <a:ext cx="912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Different distributions values / transitions 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fferent group size (1(!) - 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CB9-2099-4D21-8D8A-0DDF6CD834D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202320" y="2060640"/>
            <a:ext cx="912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. Different distributions values / transitions 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. Different group size (1(!) - 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fferent distribution of variables (WALS = emp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68D-5B64-415A-9951-6F8857876A5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02320" y="2060640"/>
            <a:ext cx="912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. Different distributions values / transitions 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. Different group size (1(!) - 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. Different distribution of variables (WALS = emp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ight statistics/measu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distributions &lt;&gt;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combinatorial explosion groups &gt; 12 l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C7B-42BB-4D85-8240-DD4490E3D3F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02320" y="2060640"/>
            <a:ext cx="912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Most frequent =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Different number of values /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. Different distributions values / transitions 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. Different group size (1(!) - 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. Different distribution of variables (WALS = emp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. Right statistics/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rategic comparison with diachron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en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ED4-F7AB-44C1-A74A-87F96E1C15F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1050840" y="2997360"/>
            <a:ext cx="7050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al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ng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BFF-0B33-423F-A4D7-CF270855D95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86200" y="2971800"/>
            <a:ext cx="10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B98-C63A-44B9-858C-600360213D5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FA8-E626-492D-A273-086AFEC31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339920" y="2360520"/>
            <a:ext cx="49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 Measuring Stability: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367-C0B7-4A47-9336-C6A0D384A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350360" y="2360520"/>
            <a:ext cx="51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Measuring Stability: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 Measuring Stability: meth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952-45A9-49C6-8616-746F247616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350360" y="2360520"/>
            <a:ext cx="510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Measuring Stability: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Measuring Stability: meth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 Measuring Stability: meth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DCE-E147-4F63-8605-F9DA6FC61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50360" y="2360520"/>
            <a:ext cx="510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Measuring Stability: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Measuring Stability: meth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Measuring Stability: meth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. Comparing 1 &amp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05C-902F-4B5F-A751-607ED4C0A4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350360" y="2360520"/>
            <a:ext cx="510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. Measuring Stability: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 Measuring Stability: meth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 Measuring Stability: meth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. Comparing 1 &amp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5. Some of th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438-2202-4E91-BC19-170CB67DF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3C4-F7A3-4DB9-BDF3-5552C5ADC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324440" y="236052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026-7CFF-47D3-B5EB-429AB0B836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30240" y="2217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9B4-D81C-4483-B79F-95F5B5430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324440" y="2360520"/>
            <a:ext cx="61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1FA-520C-4293-9375-A33F5D40C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324440" y="2360520"/>
            <a:ext cx="61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ma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DE6-4ED1-491B-8E09-BB239C938D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24440" y="2360520"/>
            <a:ext cx="611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ma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n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roes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D22-14BF-4B57-AFC7-A4F411D878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324440" y="2360520"/>
            <a:ext cx="611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ma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n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roes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006800"/>
            <a:ext cx="433440" cy="1943280"/>
          </a:xfrm>
          <a:custGeom>
            <a:avLst/>
            <a:gdLst>
              <a:gd name="textAreaLeft" fmla="*/ 0 w 433440"/>
              <a:gd name="textAreaRight" fmla="*/ 156600 w 433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0880" y="4233960"/>
            <a:ext cx="18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3000 y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648-09B3-4002-A92F-5B9A3D8303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322280" y="236052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5B7-73FF-4B07-A6A0-B5EC59601A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322280" y="2360520"/>
            <a:ext cx="658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V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9CE-1DF4-4D7B-A0AB-6BE8F52CC0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322280" y="2360520"/>
            <a:ext cx="658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V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b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S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0.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5D8-553C-4188-873F-018CF442D7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22280" y="2360520"/>
            <a:ext cx="658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V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9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rber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S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a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O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4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173-B2FA-4C51-A5CE-4BD391CB32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322280" y="2360520"/>
            <a:ext cx="749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V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9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rber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S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a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O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52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var high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451640" y="328428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32360" y="3284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32360" y="37162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A74-D7EC-4020-83BC-EDCC163A6B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326600" y="2360520"/>
            <a:ext cx="758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.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3141720"/>
            <a:ext cx="360360" cy="574560"/>
          </a:xfrm>
          <a:custGeom>
            <a:avLst/>
            <a:gdLst>
              <a:gd name="textAreaLeft" fmla="*/ 0 w 360360"/>
              <a:gd name="textAreaRight" fmla="*/ 129960 w 36036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547-0797-4DEF-956D-0DF2212986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32760" y="2217600"/>
            <a:ext cx="68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D07-CA3D-4DF5-A129-2F0E0E5B1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326600" y="2360520"/>
            <a:ext cx="75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storical lingu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-German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.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.9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.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O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3141720"/>
            <a:ext cx="360360" cy="574560"/>
          </a:xfrm>
          <a:custGeom>
            <a:avLst/>
            <a:gdLst>
              <a:gd name="textAreaLeft" fmla="*/ 0 w 360360"/>
              <a:gd name="textAreaRight" fmla="*/ 129960 w 36036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221000"/>
            <a:ext cx="360360" cy="574920"/>
          </a:xfrm>
          <a:custGeom>
            <a:avLst/>
            <a:gdLst>
              <a:gd name="textAreaLeft" fmla="*/ 0 w 360360"/>
              <a:gd name="textAreaRight" fmla="*/ 129960 w 360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3D0-9EBA-4121-86B5-89E52A08B7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421000"/>
            <a:ext cx="4392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stor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299736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3280" y="5043600"/>
            <a:ext cx="4474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6AE-99D5-4334-B727-82CB4D93AE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421000"/>
            <a:ext cx="4392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storical Data (recon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5445000"/>
            <a:ext cx="28908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544500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6560" y="544500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1640" y="5445000"/>
            <a:ext cx="28908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33240" y="52419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763640" y="3068280"/>
            <a:ext cx="187164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59280" y="3141720"/>
            <a:ext cx="129672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92360" y="3139560"/>
            <a:ext cx="122400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579640" y="3068280"/>
            <a:ext cx="201636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11280" y="3141720"/>
            <a:ext cx="15843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38560" y="443700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393372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653000"/>
            <a:ext cx="28872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78200" y="3716280"/>
            <a:ext cx="28908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013360"/>
            <a:ext cx="289080" cy="2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66B-4464-422C-B0AF-31B186496E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824040" y="2289240"/>
            <a:ext cx="727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ypothetical reconstruction on th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a large typologica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1C5-D19C-48CF-8399-0BA6AEB9F0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42960" y="2289240"/>
            <a:ext cx="748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orld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tlas of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anguag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pelmath, Martin, Matthew S. Dryer, David Gi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nard Comrie (eds) (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ford: Oxford University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976-57D2-4854-9732-920FBAD0E2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251720" y="2289240"/>
            <a:ext cx="66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orld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tlas of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anguag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30B-D379-4911-8A5B-75EDDCD0D8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68360" y="2068560"/>
          <a:ext cx="834696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8560"/>
                    <a:ext cx="83469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446480" y="1012680"/>
            <a:ext cx="61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72. Imperative-Hor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114-8CBD-48CF-ABC9-2CCB8E0FA6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251720" y="2289240"/>
            <a:ext cx="66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0F5-B238-476E-A67A-4919118F0F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251720" y="2289240"/>
            <a:ext cx="669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m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rb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r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aspel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ich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iewierska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4DE-DB5C-4B10-A145-ED577D8E2F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251720" y="2289240"/>
            <a:ext cx="66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97F-2654-4BAE-A702-D0C5F2AEF2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32760" y="2217600"/>
            <a:ext cx="68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stituent order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451-C010-4FF6-AB54-788F3DBBC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251720" y="2289240"/>
            <a:ext cx="669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67B-6229-4B5B-9254-D813FA51A8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51720" y="2289240"/>
            <a:ext cx="669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er Var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417 lgs (min 116; max 1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7C5-214D-4EA6-A9C1-BF0CC43E24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51720" y="2289240"/>
            <a:ext cx="669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Var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17 lgs (min 116; max 1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otal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~ 58,000 datapoints (= 1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CB4-FDCE-4A79-8844-846945CBF3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726-2901-4290-8063-9195ECD9D4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8BB-9C3F-4EF0-8AF9-C7D0DC3CF7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624120" y="2792520"/>
          <a:ext cx="166716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72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C03-6C46-4C56-8A6C-2EED8B574D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24120" y="2792520"/>
          <a:ext cx="1667160" cy="94608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720"/>
                <a:gridCol w="333360"/>
                <a:gridCol w="333360"/>
              </a:tblGrid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D98-10BE-4D27-9E76-6EBFAD609F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 &amp;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610-A842-4EEA-BDDA-6B8FCAB04C6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 &amp;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47D-7CFA-47CB-BBB1-38FFA07DFE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 &amp;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141720"/>
            <a:ext cx="216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796000" y="422100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01080" y="3645000"/>
            <a:ext cx="792000" cy="79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92F-9BE7-4402-8C62-0FC6912EA8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32760" y="2217600"/>
            <a:ext cx="68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25D-4CB1-42FB-BCB1-33210144E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: WALS &amp;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24360" y="3141720"/>
            <a:ext cx="216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796000" y="422100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64080" y="2759040"/>
            <a:ext cx="46872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374-AD5A-4654-87B0-525B08AB44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A6D-2981-4761-B08C-1C1CCE1C52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3924360" y="270828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BDB-37AA-413D-A9E9-F03C6A8840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70828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9564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79F-D039-43CA-8760-E3062F5CFE8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9564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638-407C-4305-8B32-E8EE9EDB6AE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2436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9564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3C7-25A9-488D-B796-233D544A1B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624120" y="2792520"/>
          <a:ext cx="166716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72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2436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9564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757-63A2-4C87-A466-709A214267A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1164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8292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4F1-210F-4445-8F83-EA98761C60E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1164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8292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513-9559-43BC-B03B-7C9D1E94C4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1164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292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B34-333A-4F38-B64A-4715979705A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80280" y="2217600"/>
            <a:ext cx="75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D2C-FB04-48A8-8EA9-1B45BE7AD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4328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D70-952C-4E29-ABBF-8ED1E76FCB9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328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48A-F82B-4DEF-BE16-81632DE755A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828720" y="4579920"/>
            <a:ext cx="1511280" cy="1657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hn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26920" y="2492280"/>
            <a:ext cx="165600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770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624120" y="2792520"/>
          <a:ext cx="1666800" cy="97776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"/>
          <p:cNvSpPr/>
          <p:nvPr/>
        </p:nvSpPr>
        <p:spPr>
          <a:xfrm>
            <a:off x="255600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780000" y="4724280"/>
            <a:ext cx="863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572000" y="472428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43280" y="4724280"/>
            <a:ext cx="4334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4724280"/>
            <a:ext cx="1008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140000" y="5229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522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76720" y="522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76720" y="5229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51640" y="523080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51640" y="5229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34800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80000" y="5229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57164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3236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868720" y="566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29440" y="5661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364000" y="566100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850920" y="55897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40360" y="55897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916000" y="55897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4800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270036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1636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421080" y="587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37080" y="5877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068720" y="595008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84720" y="5950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5653080" y="6021360"/>
            <a:ext cx="216000" cy="432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69080" y="6021360"/>
            <a:ext cx="142920" cy="432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300720" y="6093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609300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2709720"/>
            <a:ext cx="431640" cy="35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43280" y="2060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975-67DE-4280-ACAD-84C11597B33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B86-9D75-453A-9FDC-11E87ABCC6F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57400" y="5457960"/>
            <a:ext cx="67827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ssumption: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frequen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value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D43-AFD1-4BE2-ADA3-32ACE5192CC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037-6BB9-4C25-9196-6BE6659B025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392-5996-4D51-9ECF-DBA68DF0AA9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7E6-2225-48DC-950F-77ABA86EB52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C26-42D1-4F51-A344-C75FE355C45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79A-71B8-42FF-8CF5-EEE1699722B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80280" y="2217600"/>
            <a:ext cx="75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lign Morph+Syn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C+ACC, ERG+ACC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722-AEC5-4E91-84AA-106B03652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69560" y="206064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ABD-13CF-4222-BF02-B1E1E291F4E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16360" y="47260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7040" y="5483160"/>
            <a:ext cx="3647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ormula: Stability =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033-A116-41D9-94EC-04E3537C765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7880" y="5483160"/>
            <a:ext cx="221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FEA-95C5-4935-9528-78395AA6933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7880" y="5483160"/>
            <a:ext cx="221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 &gt;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BE9-C509-4FEF-9C97-D76974C73BD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62280" y="5483160"/>
            <a:ext cx="723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 (weighted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5*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+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*2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+(</a:t>
            </a:r>
            <a:r>
              <a:rPr b="1" lang="en-GB" sz="2400" spc="-1" strike="noStrike">
                <a:solidFill>
                  <a:srgbClr val="ffcf01"/>
                </a:solidFill>
                <a:latin typeface="Tahoma"/>
              </a:rPr>
              <a:t>1*3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 / </a:t>
            </a:r>
            <a:r>
              <a:rPr b="1" lang="en-GB" sz="2400" spc="-1" strike="noStrike">
                <a:solidFill>
                  <a:srgbClr val="f30ddd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BA1-C83C-4506-B591-7CABB7A5943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>
            <a:off x="4429080" y="2637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916360" y="47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64000" y="4724280"/>
            <a:ext cx="287280" cy="287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40360" y="4724280"/>
            <a:ext cx="287280" cy="2872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16360" y="472428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292720" y="47242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869080" y="4724280"/>
            <a:ext cx="28728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45080" y="4724280"/>
            <a:ext cx="287640" cy="287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13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708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428472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0" y="292428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0" y="292428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2924280"/>
            <a:ext cx="287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72000" y="2924280"/>
            <a:ext cx="144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22400" y="2505240"/>
            <a:ext cx="124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535480" y="5483160"/>
            <a:ext cx="3930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 (weighted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40000" y="4724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2556000" y="2924280"/>
            <a:ext cx="201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B17-FCA7-46E7-AF92-04DCE467694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3347640" y="3213000"/>
            <a:ext cx="8636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4140360" y="3213000"/>
            <a:ext cx="7128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11640" y="3213000"/>
            <a:ext cx="4334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211640" y="3213000"/>
            <a:ext cx="100800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3708360" y="371808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40360" y="371808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45080" y="3718080"/>
            <a:ext cx="7128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5080" y="371808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219640" y="37195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219640" y="3718080"/>
            <a:ext cx="576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916000" y="371808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348000" y="371808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4140000" y="4149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00720" y="414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5436720" y="4149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97440" y="414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4932000" y="41497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419640" y="407844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708360" y="407844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2484360" y="407844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916360" y="40784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268360" y="443880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484360" y="443880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2989080" y="436572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05080" y="436572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636720" y="443880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52720" y="443880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221080" y="451008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37080" y="4510080"/>
            <a:ext cx="14292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5868720" y="458136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4581360"/>
            <a:ext cx="142920" cy="432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81E-6E03-4C16-8557-01A0CECEB7A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3347640" y="3213000"/>
            <a:ext cx="8636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140360" y="3213000"/>
            <a:ext cx="7128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11640" y="3213000"/>
            <a:ext cx="4334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211640" y="3213000"/>
            <a:ext cx="100800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371808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140360" y="371808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5080" y="3718080"/>
            <a:ext cx="7128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45080" y="371808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219640" y="37195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19640" y="3718080"/>
            <a:ext cx="576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916000" y="371808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48000" y="371808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140000" y="4149720"/>
            <a:ext cx="360360" cy="36036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00720" y="4149720"/>
            <a:ext cx="287280" cy="4316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5436720" y="4149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97440" y="414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932000" y="41497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419640" y="407844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708360" y="407844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484360" y="407844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16360" y="407844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268360" y="4438800"/>
            <a:ext cx="21600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84360" y="4438800"/>
            <a:ext cx="14292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989080" y="4365720"/>
            <a:ext cx="21564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05080" y="4365720"/>
            <a:ext cx="14292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636720" y="4438800"/>
            <a:ext cx="21564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52720" y="4438800"/>
            <a:ext cx="14292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5221080" y="4510080"/>
            <a:ext cx="215640" cy="43164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37080" y="4510080"/>
            <a:ext cx="142920" cy="43164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5868720" y="4581360"/>
            <a:ext cx="215640" cy="432000"/>
          </a:xfrm>
          <a:prstGeom prst="line">
            <a:avLst/>
          </a:prstGeom>
          <a:ln w="2844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84720" y="4581360"/>
            <a:ext cx="142920" cy="432000"/>
          </a:xfrm>
          <a:prstGeom prst="line">
            <a:avLst/>
          </a:prstGeom>
          <a:ln w="2844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86280" y="5483160"/>
            <a:ext cx="5153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GB" sz="2400" spc="-1" strike="noStrike">
                <a:solidFill>
                  <a:srgbClr val="00ff00"/>
                </a:solidFill>
                <a:latin typeface="Tahoma"/>
              </a:rPr>
              <a:t>mean / lowest group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26920" y="429264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DB7-3674-4D41-A9D7-DEECA739CD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347640" y="3213000"/>
            <a:ext cx="8636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4140360" y="3213000"/>
            <a:ext cx="7128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11640" y="3213000"/>
            <a:ext cx="4334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211640" y="3213000"/>
            <a:ext cx="100800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708360" y="371808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40360" y="3718080"/>
            <a:ext cx="36036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645080" y="3718080"/>
            <a:ext cx="71280" cy="36036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645080" y="3718080"/>
            <a:ext cx="431640" cy="4316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3719520"/>
            <a:ext cx="144360" cy="35892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219640" y="3718080"/>
            <a:ext cx="57636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916000" y="3718080"/>
            <a:ext cx="431640" cy="36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348000" y="3718080"/>
            <a:ext cx="144360" cy="36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4140000" y="414972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00720" y="4149720"/>
            <a:ext cx="28728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5436720" y="4149720"/>
            <a:ext cx="360360" cy="36036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97440" y="4149720"/>
            <a:ext cx="28728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932000" y="4149720"/>
            <a:ext cx="144360" cy="35892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3419640" y="407844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708360" y="407844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484360" y="4078440"/>
            <a:ext cx="432000" cy="36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916360" y="4078440"/>
            <a:ext cx="287280" cy="287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268360" y="4438800"/>
            <a:ext cx="21600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484360" y="4438800"/>
            <a:ext cx="14292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989080" y="4365720"/>
            <a:ext cx="21564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05080" y="4365720"/>
            <a:ext cx="14292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3636720" y="4438800"/>
            <a:ext cx="21564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52720" y="4438800"/>
            <a:ext cx="14292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5221080" y="4510080"/>
            <a:ext cx="21564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37080" y="4510080"/>
            <a:ext cx="142920" cy="43164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5868720" y="4581360"/>
            <a:ext cx="215640" cy="43200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84720" y="4581360"/>
            <a:ext cx="142920" cy="432000"/>
          </a:xfrm>
          <a:prstGeom prst="line">
            <a:avLst/>
          </a:prstGeom>
          <a:ln w="28440">
            <a:solidFill>
              <a:srgbClr val="ffcf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92040" y="5483160"/>
            <a:ext cx="650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ean/highest groups (phyl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26920" y="350028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FE7-84C6-495D-A05A-5D58AEAE447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3347640" y="3213000"/>
            <a:ext cx="8636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140360" y="3213000"/>
            <a:ext cx="7128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11640" y="3213000"/>
            <a:ext cx="43344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211640" y="3213000"/>
            <a:ext cx="1008000" cy="505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08360" y="371808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40360" y="371808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645080" y="3718080"/>
            <a:ext cx="7128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645080" y="371808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219640" y="37195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219640" y="3718080"/>
            <a:ext cx="57636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16000" y="371808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48000" y="371808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4140000" y="4149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00720" y="414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5436720" y="414972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797440" y="4149720"/>
            <a:ext cx="28728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32000" y="41497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419640" y="4078440"/>
            <a:ext cx="288720" cy="36036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08360" y="4078440"/>
            <a:ext cx="144360" cy="36036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2484360" y="4078440"/>
            <a:ext cx="432000" cy="36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16360" y="4078440"/>
            <a:ext cx="287280" cy="287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268360" y="4438800"/>
            <a:ext cx="21600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84360" y="4438800"/>
            <a:ext cx="14292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2989080" y="4365720"/>
            <a:ext cx="21564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205080" y="4365720"/>
            <a:ext cx="142920" cy="431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636720" y="4438800"/>
            <a:ext cx="215640" cy="4316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52720" y="4438800"/>
            <a:ext cx="142920" cy="4316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221080" y="4510080"/>
            <a:ext cx="21564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37080" y="4510080"/>
            <a:ext cx="14292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5868720" y="4581360"/>
            <a:ext cx="215640" cy="43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4581360"/>
            <a:ext cx="1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16600" y="5483160"/>
            <a:ext cx="6636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ili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ean / genus (Dryer) 3000-4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26920" y="386064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AE6-297F-4072-812F-B04565A766A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80280" y="2217600"/>
            <a:ext cx="75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ign Morph+Syn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C+ACC, ERG+ACC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17A-5E10-4B60-97AA-F5736936A8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883-A90C-4BB6-B238-83EC48439C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7" name=""/>
          <p:cNvSpPr/>
          <p:nvPr/>
        </p:nvSpPr>
        <p:spPr>
          <a:xfrm>
            <a:off x="539640" y="2133720"/>
            <a:ext cx="817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1C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1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D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ABS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Absence Common Consonant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46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2.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R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SEX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Sex-based Gender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49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3.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D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FRV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Front Rounded Vowel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53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4.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IC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MTP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M-T Pronouns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5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A78-B55C-4648-92E1-63D02F78234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9" name=""/>
          <p:cNvSpPr/>
          <p:nvPr/>
        </p:nvSpPr>
        <p:spPr>
          <a:xfrm>
            <a:off x="539640" y="2133720"/>
            <a:ext cx="81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1C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</a:rPr>
              <a:t>Fct1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 MADABS Absence Common Consonants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46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2. CORSEX Sex-based Gende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49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3. MADFRV Front Rounded Vowel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53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4. NICMTP M-T Pronoun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.055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36. GOEFAC Weight-Sensitive Stres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37. DRYIND Indefinite Article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4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38. DRYDEF Definite Article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4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39. KAYBCC Basic Colour Categories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9A8-FE20-42E4-A25E-58EBE205317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>
            <a:off x="1116000" y="25034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08B-EDAB-4301-A46F-6C464D698CA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1116000" y="250344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 Word Orde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3D1-95E1-4DC9-8129-6FF6C0FFDED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>
            <a:off x="1116000" y="2503440"/>
            <a:ext cx="70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 Word Orde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4. Lexicon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160-9471-4C33-9C28-80A60980C34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>
            <a:off x="1116000" y="250344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 Word Orde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4. Lexicon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Courier New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8. Phonology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9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 Morphology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654-9244-48F6-9343-17743D6BB30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>
            <a:off x="1116000" y="250344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va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ct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 Word Orde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4.6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 Lexic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. Phonolog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9. Morphology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.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3141720"/>
            <a:ext cx="1224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443640" y="5013360"/>
            <a:ext cx="1224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3B1-AF37-4B05-895A-A76B513081C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1116000" y="250344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lation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ener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Phylum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869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(p &lt; 0.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FB8-5EC2-4AB0-8FC6-07DF802D44F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71D-E73A-4C97-A1E7-B119028A5A5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80280" y="2217600"/>
            <a:ext cx="7500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guistic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ituent order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V, SVO, VSO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position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, Post,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rphological type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ol, Aggl, Fuse, Polisy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ign Morph+Syn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C+ACC, ERG+ACC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tability ???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B22-B354-4BA9-A0C6-F57A82D1D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152280" y="2205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A76-A94D-431C-BBB5-635E3FFB60A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152280" y="220500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679-DCEE-4640-AEDD-DD0B35474D8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"/>
          <p:cNvSpPr/>
          <p:nvPr/>
        </p:nvSpPr>
        <p:spPr>
          <a:xfrm>
            <a:off x="152280" y="2205000"/>
            <a:ext cx="530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8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688-14BE-47FC-AB39-73AE028E49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152280" y="2205000"/>
            <a:ext cx="53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8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8C3-AFFB-4446-96B6-8EE88DB9635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152280" y="2205000"/>
            <a:ext cx="530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8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3(5)   1     3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412-BD37-42CC-9A1D-37184D3680F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146160" y="2205000"/>
            <a:ext cx="7495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3(5)   1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Assumption: Highest = 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82920" y="443700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32000" y="515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050920" y="371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64E-823A-43B8-9707-5A4116A1B09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1" name=""/>
          <p:cNvSpPr/>
          <p:nvPr/>
        </p:nvSpPr>
        <p:spPr>
          <a:xfrm>
            <a:off x="146160" y="2205000"/>
            <a:ext cx="7495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O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0     0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6       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3(5)   1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1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Assumption: Highest = 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50920" y="371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282920" y="443700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32000" y="515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003640" y="443700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003640" y="371628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03640" y="515772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99-2432-4E3E-8031-8979DDE5D70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9" name=""/>
          <p:cNvSpPr/>
          <p:nvPr/>
        </p:nvSpPr>
        <p:spPr>
          <a:xfrm>
            <a:off x="149040" y="2205000"/>
            <a:ext cx="87760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O   X  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0     0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0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0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6       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1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0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3(5)   1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1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2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24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Assumption: Highest = 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050920" y="371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284720" y="443700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132000" y="515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03640" y="443700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003640" y="371628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03640" y="515772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2CA-C7F1-4DDA-8032-15AD3526CD0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>
            <a:off x="149040" y="2205000"/>
            <a:ext cx="87760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VARIABLE i (nvals = 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A     B     C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urier New"/>
              </a:rPr>
              <a:t>O   X  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1(8)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0     0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0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0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2(7)   1     0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6       6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1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0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3(5)   1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1   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2   </a:t>
            </a:r>
            <a:r>
              <a:rPr b="1" lang="en-GB" sz="2400" spc="-1" strike="noStrike">
                <a:solidFill>
                  <a:srgbClr val="cc0066"/>
                </a:solidFill>
                <a:latin typeface="Courier New"/>
              </a:rPr>
              <a:t>0.4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Assumption: Highest = 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50920" y="371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84720" y="443700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32000" y="5156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003640" y="443700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03640" y="371628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003640" y="515772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020000" y="3500280"/>
            <a:ext cx="1584360" cy="223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025400" y="1268280"/>
            <a:ext cx="15019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ahoma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ahom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172360" y="2638440"/>
            <a:ext cx="360360" cy="719280"/>
          </a:xfrm>
          <a:prstGeom prst="upArrow">
            <a:avLst>
              <a:gd name="adj1" fmla="val 50000"/>
              <a:gd name="adj2" fmla="val 499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E14-D2E8-4E94-93A5-115ABB5EB48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ability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539640" y="2133720"/>
            <a:ext cx="817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bility factor Fct2B pe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el: 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of languages: 2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imum group size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ical 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D40-A201-47C5-ABC2-055F2BF1405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Dik Bakker</cp:lastModifiedBy>
  <dcterms:modified xsi:type="dcterms:W3CDTF">2007-08-27T20:59:34Z</dcterms:modified>
  <cp:revision>953</cp:revision>
  <dc:subject/>
  <dc:title>Semantic Parameters of the Grammaticalization of Agreement</dc:title>
</cp:coreProperties>
</file>