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5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123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149.xml.rels" ContentType="application/vnd.openxmlformats-package.relationships+xml"/>
  <Override PartName="/ppt/slides/_rels/slide195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79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156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210.xml" ContentType="application/vnd.openxmlformats-officedocument.presentationml.slide+xml"/>
  <Override PartName="/ppt/slides/slide208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211.xml" ContentType="application/vnd.openxmlformats-officedocument.presentationml.slide+xml"/>
  <Override PartName="/ppt/slides/slide212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30.xml" ContentType="application/vnd.openxmlformats-officedocument.presentationml.slide+xml"/>
  <Override PartName="/ppt/slides/slide214.xml" ContentType="application/vnd.openxmlformats-officedocument.presentationml.slide+xml"/>
  <Override PartName="/ppt/slides/slide2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51.xml" ContentType="application/vnd.openxmlformats-officedocument.presentationml.slide+xml"/>
  <Override PartName="/ppt/slides/slide220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136.xml" ContentType="application/vnd.openxmlformats-officedocument.presentationml.slide+xml"/>
  <Override PartName="/ppt/slides/slide221.xml" ContentType="application/vnd.openxmlformats-officedocument.presentationml.slide+xml"/>
  <Override PartName="/ppt/slides/slide207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66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073-F636-4B6E-BFE7-2960FFCC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09E-FE04-4161-A406-5CC6B772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266-D0D7-41AE-8A0B-A41A3C6C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076-9346-4ABA-B10F-A6206E14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70E8-7888-423A-AC82-5B18BB5D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8C42-D292-4CB1-A2F9-92D6E33C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8CE8-0B73-4B9E-ACF9-07152E8F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5870-019D-45CB-BC64-365B573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9535-6F0A-4779-999F-6E70BE7C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14EF-1680-4CAC-8F48-F80C70AB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7DDC-8B9E-41DF-AE0C-C8E5DC06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60D-EF5B-49F0-B808-10563DE1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0280-909C-4251-BFE4-0B07881E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1FE2-86AA-498A-8783-E60904C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BF24-077A-4BCB-AD38-1BF9846C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5D03-3C9E-4901-BA5C-3E0B139A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0ADD-71A0-4194-BFAA-0C0770F9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E2B-A195-4E84-B227-745ACB95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9AB-7AB0-4E5C-BD5A-2DC207B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E52-AD17-4A42-B820-5B13FE72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D95-EDE8-4647-BF31-BB46A665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C53-3420-4739-924D-7563D16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82D-B7CD-4547-B064-9B6399E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B54-B7CC-4C5F-9D3A-3E02AFAF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AC71-408D-434B-88B6-B0B55F112B15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E41-6759-44C4-A05B-315BBE53EA58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hyperlink" Target="http://email.eva.mpg.de/~wichmann/Advances.pdf" TargetMode="External"/><Relationship Id="rId2" Type="http://schemas.openxmlformats.org/officeDocument/2006/relationships/hyperlink" Target="http://email.eva.mpg.de/~wichmann/Explorations.pdf" TargetMode="External"/><Relationship Id="rId3" Type="http://schemas.openxmlformats.org/officeDocument/2006/relationships/hyperlink" Target="http://email.eva.mpg.de/~wichmann/AutomatedLanguageClassification.pdf" TargetMode="External"/><Relationship Id="rId4" Type="http://schemas.openxmlformats.org/officeDocument/2006/relationships/hyperlink" Target="http://email.eva.mpg.de/~wichmann/AutomatedLanguageClassification.pdf" TargetMode="External"/><Relationship Id="rId5" Type="http://schemas.openxmlformats.org/officeDocument/2006/relationships/hyperlink" Target="http://email.eva.mpg.de/~wichmann/AutomatedLanguageClassification.pdf" TargetMode="External"/><Relationship Id="rId6" Type="http://schemas.openxmlformats.org/officeDocument/2006/relationships/hyperlink" Target="http://email.eva.mpg.de/~wichmann/AutomatedLanguageClassification.pdf" TargetMode="External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hyperlink" Target="file:///email.eva.mpg.de./~wichmann/ASJPHomePage" TargetMode="External"/><Relationship Id="rId2" Type="http://schemas.openxmlformats.org/officeDocument/2006/relationships/slideLayout" Target="../slideLayouts/slideLayout5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5562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GB" sz="4400" spc="-1" strike="noStrike">
                <a:solidFill>
                  <a:srgbClr val="ff0000"/>
                </a:solidFill>
                <a:latin typeface="Tahoma"/>
              </a:rPr>
              <a:t>dvances in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Tahoma"/>
              </a:rPr>
              <a:t>Automated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Tahoma"/>
              </a:rPr>
              <a:t>Langua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Tahoma"/>
              </a:rPr>
              <a:t>Classification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SJP Consortium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(Dik Bakker)</a:t>
            </a:r>
            <a:br>
              <a:rPr sz="32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2182680"/>
            <a:ext cx="777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tomatic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nstru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languag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Ba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tance matric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between individua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anguag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he basis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inguistic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921-A1AF-40BE-8F58-2604CD5742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9640" y="2165400"/>
            <a:ext cx="7991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wo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Value depends on length of longes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ormalize: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= (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L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ahoma"/>
              </a:rPr>
              <a:t>max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Difference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between lgs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honological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22A-2B9C-49C2-975F-7C043DAF38F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39640" y="2165400"/>
            <a:ext cx="799164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wo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Value depends on length of longes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ormalize: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= (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L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ahoma"/>
              </a:rPr>
              <a:t>max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Difference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between lgs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honological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Eliminate ‘ background noise’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= (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/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ahoma"/>
              </a:rPr>
              <a:t>different pairs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C28-FC7B-4ABD-AC8F-082837C5540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9640" y="216540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evenshtein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. between 2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D =  0     -    100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946-8F75-4613-9F34-105985257CE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9640" y="2165400"/>
            <a:ext cx="79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evenshtein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. between 2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D =  0     -    100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b. between 2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ea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of all LDND’s of words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397-A238-4F6B-BFEC-E566F8CAB87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33520" y="196524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AGUACATEC (agu)   &lt;&gt;   MOCHO (mh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MAYAN (45) &gt; MAYAN          [GeoD=97; GenD=1.8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ONE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xun=hun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3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WO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kob=kabe7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R1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67.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ONE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aq=baq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R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  0.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AR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Cin=Cikin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67.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ATER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7=ha7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R1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37.4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EF7-F432-4AEE-A1FD-C137E56C24B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3520" y="196524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AGUACATEC (agu)   &lt;&gt;   MOCHO (mh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MAYAN (45) &gt; MAYAN          [GeoD=97; GenD=1.8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ONE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xun=hun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3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WO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kob=kabe7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R1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67.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ONE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aq=baq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R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  0.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AR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Cin=Cikin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67.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ATER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7=ha7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R1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37.4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 O T A L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LSP  = 58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CD8-F415-4956-A286-6FD2BA42E24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520" y="196524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AGUACATEC (agu)   &lt;&gt;   MOCHO (mh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MAYAN (45) &gt; MAYAN          [GeoD=97; GenD=1.8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ONE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xun=hun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3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WO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kob=kabe7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R1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67.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ONE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aq=baq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R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  0.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AR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Cin=Cikin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67.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ATER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7=ha7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R1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= 37.4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 O T A L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LSP  = 58.14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 = 51.68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(n=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C85-E16D-48C2-9E45-F228B425836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96524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AGUACATEC (agu)   &lt;&gt;   MOCHO (mh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MAYAN (45) &gt; MAYAN          [GeoD=97; GenD=1.8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ONE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xun=hun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-       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LDND= 3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TWO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kob=kabe7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R1    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LDND= 67.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BONE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baq=baq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R3    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LDND=  0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EAR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SCin=Cikin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-      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LDND= 67.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WATER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a7=ha7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R10   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7dfff0"/>
                </a:solidFill>
                <a:latin typeface="Tahoma"/>
              </a:rPr>
              <a:t>LDND= 37.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ahoma"/>
              </a:rPr>
              <a:t>HIGH CORRELATION: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LSP  = 58.14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DND = 51.68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(n=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50920" y="5516640"/>
            <a:ext cx="8066160" cy="10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F30-940E-4093-82CB-A1657619CA9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66760" y="2205000"/>
            <a:ext cx="59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HIGH CORRELATION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LSP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~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LD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18B-32A9-4C39-AEA7-292E5E794BE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66760" y="220500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HIGH CORRELATION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LSP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~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LD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MAYA (n=34)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0.93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INDO-EUROPEAN (n=129)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0.97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MERINDIAN (n=511)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0.59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089-7E33-47D4-A602-BA0CEEB09A2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182680"/>
            <a:ext cx="777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tomatic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nstru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languag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Ba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tance matric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between individua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anguag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he basis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inguistic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Metho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exicostatistic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: mass comparison of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asic lexical item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FA5-3BCF-4369-99E0-B164ED290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66760" y="220500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BEST PERFORMERS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Within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EY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2. LOUS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8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3. DI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6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4. BREA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1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5. STON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36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D9D-995A-463C-88CB-FAB31CBCE77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166760" y="2205000"/>
            <a:ext cx="59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BEST PERFORMERS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Within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EY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2. LOUS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8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3. DI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6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4. BREA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1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5. STON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36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Across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I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7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2. DI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6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3. W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6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4. YOU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5. BREA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5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9B5-FB8A-4740-A42C-6D9FB8235C5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166760" y="2205000"/>
            <a:ext cx="59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BEST PERFORMERS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Within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EY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2. LOUS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8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3. DIE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469</a:t>
            </a:r>
            <a:br>
              <a:rPr sz="1800"/>
            </a:b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 4. BREAST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41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5. STON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36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Across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I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7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2. DIE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06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3. W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6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4. YOU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57</a:t>
            </a:r>
            <a:br>
              <a:rPr sz="1800"/>
            </a:b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 5. BREAST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05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B62-00F0-4720-B2D6-785386AF981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166760" y="2205000"/>
            <a:ext cx="59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BEST PERFORMERS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Within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EY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2. LOUS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8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3. DI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6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4. BREA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41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5. STON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36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Across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I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72</a:t>
            </a:r>
            <a:br>
              <a:rPr sz="1800"/>
            </a:b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 2. DIE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06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3. W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6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4. YOU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5. BREAST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05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070600" y="49417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Sound Symbolis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C45-05EB-41AC-91D6-6E913CDF0D1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166760" y="2205000"/>
            <a:ext cx="599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WORST PERFORMERS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Within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6. HOR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1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7. SEE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9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8. KNEE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9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9. NIGHT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7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40. MOUNTAIN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8D1-278A-443D-B6F4-EB99B5BB862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166760" y="2205000"/>
            <a:ext cx="59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WORST PERFORMERS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Within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6. HOR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1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7. SEE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9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8. KNEE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9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9. NIGHT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7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40. MOUNTAIN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75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Across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6. NIGHT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7. HEAR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2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8. HORN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2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9. STAR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2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40. KNEE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2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551-6F39-46B5-A80A-D578864021D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166760" y="2205000"/>
            <a:ext cx="59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WORST PERFORMERS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Within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36. HORN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1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7. SEE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9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38. KNEE               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095</a:t>
            </a:r>
            <a:br>
              <a:rPr sz="1800"/>
            </a:b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39. NIGHT            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07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40. MOUNTAIN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75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Across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36. NIGHT            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0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7. HEAR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27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38. HORN              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02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39. STAR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2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40. KNEE              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0.02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DE8-F81A-49BA-B438-17B33DBED85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539640" y="1009800"/>
          <a:ext cx="8137440" cy="5514840"/>
        </p:xfrm>
        <a:graphic>
          <a:graphicData uri="http://schemas.openxmlformats.org/drawingml/2006/table">
            <a:tbl>
              <a:tblPr/>
              <a:tblGrid>
                <a:gridCol w="1587240"/>
                <a:gridCol w="2772720"/>
                <a:gridCol w="1135800"/>
                <a:gridCol w="844200"/>
                <a:gridCol w="846000"/>
                <a:gridCol w="95148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N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N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A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A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Times New Roman"/>
                        </a:rPr>
                        <a:t>L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Courier New"/>
                          <a:ea typeface="Times New Roman"/>
                        </a:rPr>
                        <a:t>LD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ICOMUCEL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6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OL_T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6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ONTAL_TABAS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3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XIL_CHA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7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AQCHIKEL_NORTHE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4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_YUCA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8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6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4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1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ANJOBAL_EASTE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BINAL_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9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KAPULTE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1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PAKAPE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4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KTITE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7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ZELTAL_OXCH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6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2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UACA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ZOTZIL_SAN_AND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Y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9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6" name=""/>
          <p:cNvSpPr/>
          <p:nvPr/>
        </p:nvSpPr>
        <p:spPr>
          <a:xfrm>
            <a:off x="999000" y="404640"/>
            <a:ext cx="65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or 2440 lgs:   ~   3,000,000  ( * 36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~  ± 3.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ahoma"/>
              </a:rPr>
              <a:t>9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D3F-5D7C-41D3-8EA2-5841A4F6172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2256840" y="3376440"/>
            <a:ext cx="46735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3. Genetic proxi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3CD-495B-45B2-8431-0187E272F62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3560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19640" y="4724280"/>
            <a:ext cx="93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4068360" y="4292640"/>
            <a:ext cx="35892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92436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837-8DC1-4D90-B34C-048D8DA367DB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2182680"/>
            <a:ext cx="777708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tomatic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nstru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languag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Ba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tance matric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between individua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anguag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he basis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inguistic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Metho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exicostatistic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: mass comparison of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asic lexical item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extended by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 all relevant data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289-238F-47BE-AF22-599B9A9881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3560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419640" y="4724280"/>
            <a:ext cx="936360" cy="576360"/>
          </a:xfrm>
          <a:prstGeom prst="rect">
            <a:avLst/>
          </a:prstGeom>
          <a:solidFill>
            <a:srgbClr val="d3f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291280" y="4724280"/>
            <a:ext cx="93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G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4068360" y="4292640"/>
            <a:ext cx="35892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148360" y="4292640"/>
            <a:ext cx="360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2436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72436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326-1B9D-47E4-971D-7DF5F07D349C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3560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19640" y="4724280"/>
            <a:ext cx="936360" cy="576360"/>
          </a:xfrm>
          <a:prstGeom prst="rect">
            <a:avLst/>
          </a:prstGeom>
          <a:solidFill>
            <a:srgbClr val="d3f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291280" y="4724280"/>
            <a:ext cx="93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G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4068360" y="4292640"/>
            <a:ext cx="35892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148360" y="4292640"/>
            <a:ext cx="360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92436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2436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822720" y="4460760"/>
            <a:ext cx="18648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eighb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Jo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EA9-A6CA-4350-9676-9041CC264500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714240" y="476280"/>
            <a:ext cx="3857760" cy="584820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581040" y="612468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277320" y="5493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7C9-1C3F-459F-B6AB-03F5C3AFF7FD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0" y="907920"/>
            <a:ext cx="88930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714240" y="476280"/>
            <a:ext cx="3857760" cy="584820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581040" y="612468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08280" y="2421000"/>
            <a:ext cx="29484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TH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.325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FE8-B49B-4700-8FA2-74331E9F8910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0" y="907920"/>
            <a:ext cx="88930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714240" y="476280"/>
            <a:ext cx="3857760" cy="584820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581040" y="612468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422320" y="50706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n = 3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408280" y="2421000"/>
            <a:ext cx="2948400" cy="198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TH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.325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n = 6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72360" y="4508640"/>
            <a:ext cx="215640" cy="576000"/>
          </a:xfrm>
          <a:prstGeom prst="upDownArrow">
            <a:avLst>
              <a:gd name="adj1" fmla="val 50000"/>
              <a:gd name="adj2" fmla="val 5317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9C9-4E24-4EC9-BA7A-477EF28738FF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0" y="907920"/>
            <a:ext cx="88930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714240" y="476280"/>
            <a:ext cx="3857760" cy="58482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581040" y="612468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408280" y="2421000"/>
            <a:ext cx="29484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TH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.325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68360" y="5300640"/>
            <a:ext cx="194472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87200" y="5435640"/>
            <a:ext cx="3527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re structure than ET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A37-308E-4AEB-B5AD-B71A068DABE9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0" y="907920"/>
            <a:ext cx="88930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714240" y="476280"/>
            <a:ext cx="3857760" cy="584820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581040" y="612468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408280" y="2421000"/>
            <a:ext cx="29484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TH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.325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700360" y="5157720"/>
            <a:ext cx="934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979640" y="3357720"/>
            <a:ext cx="934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35040" y="3500280"/>
            <a:ext cx="2065320" cy="1800360"/>
          </a:xfrm>
          <a:custGeom>
            <a:avLst/>
            <a:gdLst/>
            <a:ahLst/>
            <a:rect l="l" t="t" r="r" b="b"/>
            <a:pathLst>
              <a:path w="1301" h="1134">
                <a:moveTo>
                  <a:pt x="847" y="0"/>
                </a:moveTo>
                <a:cubicBezTo>
                  <a:pt x="423" y="246"/>
                  <a:pt x="0" y="492"/>
                  <a:pt x="76" y="681"/>
                </a:cubicBezTo>
                <a:cubicBezTo>
                  <a:pt x="152" y="870"/>
                  <a:pt x="1097" y="1059"/>
                  <a:pt x="1301" y="1134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497400" y="4076640"/>
            <a:ext cx="15692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CA7-D550-4C11-8D99-B93B03C374D2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592440" cy="584532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501480" y="61498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D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424120" y="3445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Levensh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B60-7149-4382-A781-781C90F00169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592440" cy="584532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501480" y="61498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D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408280" y="2421000"/>
            <a:ext cx="29484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THN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195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424120" y="3445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Levensh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ACC-1268-4358-8A80-4307D14A3478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592440" cy="584532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501480" y="61498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D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408280" y="2421000"/>
            <a:ext cx="294840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THN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195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LSP = .3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424120" y="3445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Levensh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D0D-20DF-4FE2-8BD6-8A1B5A71847A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473-6B0E-441C-A20D-0B02242D42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57400" cy="584820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603720" y="612468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2"/>
          <a:stretch/>
        </p:blipFill>
        <p:spPr>
          <a:xfrm>
            <a:off x="4651200" y="476280"/>
            <a:ext cx="3592800" cy="584532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4919400" y="61498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D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483-AEFC-4F60-83D3-39C101023E4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57400" cy="584820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/>
          <p:nvPr/>
        </p:nvSpPr>
        <p:spPr>
          <a:xfrm>
            <a:off x="603720" y="612468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2"/>
          <a:stretch/>
        </p:blipFill>
        <p:spPr>
          <a:xfrm>
            <a:off x="4651200" y="476280"/>
            <a:ext cx="3592800" cy="584532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4919400" y="61498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D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258920" y="458136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92720" y="443700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828600" y="45957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cho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18A-5FF6-4031-9BCD-5ED2D18D19D5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57400" cy="58482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603720" y="612468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1" name="" descr=""/>
          <p:cNvPicPr/>
          <p:nvPr/>
        </p:nvPicPr>
        <p:blipFill>
          <a:blip r:embed="rId2"/>
          <a:stretch/>
        </p:blipFill>
        <p:spPr>
          <a:xfrm>
            <a:off x="4651200" y="476280"/>
            <a:ext cx="3592800" cy="5845320"/>
          </a:xfrm>
          <a:prstGeom prst="rect">
            <a:avLst/>
          </a:prstGeom>
          <a:ln w="0">
            <a:noFill/>
          </a:ln>
        </p:spPr>
      </p:pic>
      <p:sp>
        <p:nvSpPr>
          <p:cNvPr id="1132" name=""/>
          <p:cNvSpPr/>
          <p:nvPr/>
        </p:nvSpPr>
        <p:spPr>
          <a:xfrm>
            <a:off x="4919400" y="61498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D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58920" y="458136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292720" y="443700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187280" y="5229360"/>
            <a:ext cx="259272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828600" y="45957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cho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848040" y="55101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tzelta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971640" y="4869000"/>
            <a:ext cx="2872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971640" y="4869000"/>
            <a:ext cx="0" cy="865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971640" y="5734080"/>
            <a:ext cx="215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E13-FB0B-40D0-988C-97F2AC17D323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57400" cy="584820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603720" y="612468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2"/>
          <a:stretch/>
        </p:blipFill>
        <p:spPr>
          <a:xfrm>
            <a:off x="4651200" y="476280"/>
            <a:ext cx="3592800" cy="584532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4919400" y="61498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D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258920" y="458136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292720" y="443700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187280" y="5229360"/>
            <a:ext cx="259272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219640" y="3500280"/>
            <a:ext cx="259236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28600" y="45957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cho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848040" y="55101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tzelta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971640" y="4869000"/>
            <a:ext cx="2872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971640" y="4869000"/>
            <a:ext cx="0" cy="865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71640" y="5734080"/>
            <a:ext cx="215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90C-3F82-44D7-A837-2726354EFB05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57400" cy="584820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603720" y="612468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4651200" y="476280"/>
            <a:ext cx="3592800" cy="584532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4919400" y="61498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D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58920" y="458136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292720" y="443700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87280" y="5229360"/>
            <a:ext cx="259272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971640" y="4869000"/>
            <a:ext cx="2872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971640" y="4869000"/>
            <a:ext cx="0" cy="865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71640" y="5734080"/>
            <a:ext cx="215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219640" y="3500280"/>
            <a:ext cx="259236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435640" y="5086440"/>
            <a:ext cx="1944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5005440" y="4724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003640" y="4724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003640" y="544500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449480" y="52228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yucate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FA5-A058-4778-B5B1-666FCB93BFEA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57400" cy="584820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603720" y="612468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4651200" y="476280"/>
            <a:ext cx="3592800" cy="584532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4919400" y="61498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D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58920" y="458136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292720" y="443700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87280" y="5229360"/>
            <a:ext cx="259272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971640" y="4869000"/>
            <a:ext cx="2872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971640" y="4869000"/>
            <a:ext cx="0" cy="865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971640" y="5734080"/>
            <a:ext cx="215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19640" y="3500280"/>
            <a:ext cx="259236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435640" y="5086440"/>
            <a:ext cx="1944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5005440" y="4724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003640" y="4724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003640" y="544500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572000" y="4005000"/>
            <a:ext cx="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572000" y="400536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572000" y="515772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73D-3A93-423D-8C37-ADBB292A296A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57400" cy="584820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603720" y="612468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4651200" y="476280"/>
            <a:ext cx="3592800" cy="584532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4919400" y="61498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D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8920" y="458136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292720" y="443700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187280" y="5229360"/>
            <a:ext cx="259272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971640" y="4869000"/>
            <a:ext cx="2872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71640" y="4869000"/>
            <a:ext cx="0" cy="865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971640" y="5734080"/>
            <a:ext cx="215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219640" y="3500280"/>
            <a:ext cx="259236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187280" y="3860640"/>
            <a:ext cx="194472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435640" y="5086440"/>
            <a:ext cx="1944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610920" y="5300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611280" y="4149360"/>
            <a:ext cx="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11280" y="414972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5005440" y="4724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003640" y="4724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003640" y="544500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572000" y="4005000"/>
            <a:ext cx="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572000" y="400536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572000" y="515772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2056200">
            <a:off x="3276360" y="256536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D4B-FCF1-45E6-BB38-E45B1091BCAF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7" name=""/>
          <p:cNvGraphicFramePr/>
          <p:nvPr/>
        </p:nvGraphicFramePr>
        <p:xfrm>
          <a:off x="1258920" y="2060640"/>
          <a:ext cx="7416720" cy="3816360"/>
        </p:xfrm>
        <a:graphic>
          <a:graphicData uri="http://schemas.openxmlformats.org/drawingml/2006/table">
            <a:tbl>
              <a:tblPr/>
              <a:tblGrid>
                <a:gridCol w="3211560"/>
                <a:gridCol w="1376280"/>
                <a:gridCol w="1300320"/>
                <a:gridCol w="152856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L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D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7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.6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.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ro-Asia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.1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1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 New-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.2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-Co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.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"/>
          <p:cNvSpPr/>
          <p:nvPr/>
        </p:nvSpPr>
        <p:spPr>
          <a:xfrm>
            <a:off x="361440" y="609300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**all significant &gt;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116000" y="4005360"/>
            <a:ext cx="777708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309-0943-42FC-B638-F3FC8753D644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1258920" y="2060640"/>
          <a:ext cx="7416720" cy="3816360"/>
        </p:xfrm>
        <a:graphic>
          <a:graphicData uri="http://schemas.openxmlformats.org/drawingml/2006/table">
            <a:tbl>
              <a:tblPr/>
              <a:tblGrid>
                <a:gridCol w="3211560"/>
                <a:gridCol w="1376280"/>
                <a:gridCol w="1300320"/>
                <a:gridCol w="152856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L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D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7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.6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.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ro-Asia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.1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1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 New-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.2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-Co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.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3" name=""/>
          <p:cNvSpPr/>
          <p:nvPr/>
        </p:nvSpPr>
        <p:spPr>
          <a:xfrm>
            <a:off x="361440" y="609300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**all significant &gt;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BBE-F2C5-4BCF-9EEB-F177044E39BF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73360" y="2381400"/>
            <a:ext cx="600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83E-2588-4219-A502-1A4B3AB7B194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C66-BE32-4E1F-80A3-B418FF9CC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3492360" y="1916280"/>
            <a:ext cx="86544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28472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146560" y="1916280"/>
            <a:ext cx="865440" cy="792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58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530960" y="19162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ECE-3FC3-42EF-A8AC-A5D87AEC4701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28472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95640" y="1413000"/>
            <a:ext cx="1513080" cy="1295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WAL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5F1-FF91-412C-9C41-2B3483BAB67C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73360" y="2381400"/>
            <a:ext cx="60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9F0-B8EF-468B-8C5C-C441A7FB10D3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73360" y="2381400"/>
            <a:ext cx="60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T 1:1 with ASJP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BEA-2EA7-4FEC-B4FF-E7D646C7DB25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28472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284720" y="1844640"/>
            <a:ext cx="934920" cy="863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WAL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5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rot="20464800">
            <a:off x="3203640" y="249192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BF8-27DB-4D90-8DB5-F2D811A29499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89560" y="2381400"/>
            <a:ext cx="656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1:1 with ASJP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LS variables very unevenl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3F3-80B6-4511-9144-922BC6792B7C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89560" y="2381400"/>
            <a:ext cx="656460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1:1 with ASJP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LS variables very unevenl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ximum subset: 85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most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8EB-F8DC-405B-9868-8985DF1795B2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ost stable WALS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5" name=""/>
          <p:cNvSpPr/>
          <p:nvPr/>
        </p:nvSpPr>
        <p:spPr>
          <a:xfrm>
            <a:off x="0" y="25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6" name=""/>
          <p:cNvGraphicFramePr/>
          <p:nvPr/>
        </p:nvGraphicFramePr>
        <p:xfrm>
          <a:off x="992160" y="2276640"/>
          <a:ext cx="7035840" cy="3778200"/>
        </p:xfrm>
        <a:graphic>
          <a:graphicData uri="http://schemas.openxmlformats.org/drawingml/2006/table">
            <a:tbl>
              <a:tblPr/>
              <a:tblGrid>
                <a:gridCol w="1233360"/>
                <a:gridCol w="4676760"/>
                <a:gridCol w="1125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S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-based and Non-sex-based Gender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icative Adjec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Gen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l and Locational Pred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cretism in Verbal Person/Number Mar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7" name="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459640" y="3284640"/>
            <a:ext cx="0" cy="266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1F6-A19F-4DED-8A6D-17900E2CAC89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73360" y="2381400"/>
            <a:ext cx="60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ximum subset: 85 most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0CA-A5D2-41B1-99CF-FC6CBC5CFDF5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4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83160" y="2381400"/>
            <a:ext cx="72489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ximum subset: 85 most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orrelation with Swadesh: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0.063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(&gt; 0.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384240" y="4789440"/>
            <a:ext cx="447480" cy="76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5A4-26C6-4C15-9D45-A6E074A86A8D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669-60F8-45AD-AAEB-AAFDD22385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983160" y="2381400"/>
            <a:ext cx="724896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ximum subset: 85 most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rrelation with Swadesh: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0.063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&gt; 0.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antel Test: 10.000 simula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792-5E3B-4A78-B8A2-51FF4B511E5E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017360" y="2381400"/>
            <a:ext cx="724896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ximum subset: 85 most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rrelation with Swadesh: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0.063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&gt; 0.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antel Test: 10.000 simula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best +0.050 &lt; &gt; - 0.043 (mean 0.00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187280" y="587700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333-C195-4A5F-9540-524DC601E849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8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053360" y="2381400"/>
            <a:ext cx="662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Database 40 most stable Swadesh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             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85 most stable WALS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57B-B7D7-432B-8246-2465053F6984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053360" y="2381400"/>
            <a:ext cx="6622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base 40 most stable Swadesh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85 most stable WALS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- Optimal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eight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of bo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858-0A3C-483A-BF8B-D3487BF76DA8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1596960" y="1268280"/>
            <a:ext cx="5567400" cy="537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DF7-E714-4463-A76B-26EBE9775A58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1596960" y="1268280"/>
            <a:ext cx="5567400" cy="537048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>
            <a:off x="2627280" y="3141720"/>
            <a:ext cx="57636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012000" y="5302080"/>
            <a:ext cx="576000" cy="5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353-3946-42E9-899C-61AD3B69C1FC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1596960" y="1268280"/>
            <a:ext cx="5567400" cy="5370480"/>
          </a:xfrm>
          <a:prstGeom prst="rect">
            <a:avLst/>
          </a:prstGeom>
          <a:ln w="0">
            <a:noFill/>
          </a:ln>
        </p:spPr>
      </p:pic>
      <p:sp>
        <p:nvSpPr>
          <p:cNvPr id="1393" name=""/>
          <p:cNvSpPr/>
          <p:nvPr/>
        </p:nvSpPr>
        <p:spPr>
          <a:xfrm>
            <a:off x="2268360" y="2060640"/>
            <a:ext cx="4751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572000" y="1773360"/>
            <a:ext cx="0" cy="40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92C-1ED2-4583-9905-28926FF2067F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1430640" y="3592440"/>
            <a:ext cx="66150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4. On Inheritance vs Bor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7F6-76A4-49CB-A2BB-821968117B8A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95280" y="2276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AVAR (AVA)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/ </a:t>
            </a:r>
            <a:r>
              <a:rPr b="1" lang="en-GB" sz="2400" spc="-1" strike="noStrike" u="sng">
                <a:solidFill>
                  <a:srgbClr val="33cc33"/>
                </a:solidFill>
                <a:uFillTx/>
                <a:latin typeface="Courier New"/>
                <a:ea typeface="Times New Roman"/>
              </a:rPr>
              <a:t>AGUL (AGL)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437-0B1E-4AE5-BDE1-6DE13C5A0FD5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95280" y="2276640"/>
            <a:ext cx="86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AVAR (AVA)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/ </a:t>
            </a:r>
            <a:r>
              <a:rPr b="1" lang="en-GB" sz="2400" spc="-1" strike="noStrike" u="sng">
                <a:solidFill>
                  <a:srgbClr val="33cc33"/>
                </a:solidFill>
                <a:uFillTx/>
                <a:latin typeface="Courier New"/>
                <a:ea typeface="Times New Roman"/>
              </a:rPr>
              <a:t>AGUL (AGL)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      : dun=zun   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3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OU     : mun=wun   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36.6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RN    : tLar=k"arC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6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RE    : c"a=c"a   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LL    : c"ura=ac"uf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6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    : c"iya=c"EyEr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B1A-476E-4458-B62A-37101812EB5C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E92-FF5E-48D8-AA56-B9ED950A16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95280" y="2276640"/>
            <a:ext cx="86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AVAR (AVA)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/ </a:t>
            </a:r>
            <a:r>
              <a:rPr b="1" lang="en-GB" sz="2400" spc="-1" strike="noStrike" u="sng">
                <a:solidFill>
                  <a:srgbClr val="33cc33"/>
                </a:solidFill>
                <a:uFillTx/>
                <a:latin typeface="Courier New"/>
                <a:ea typeface="Times New Roman"/>
              </a:rPr>
              <a:t>AGUL (AGL)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      : dun=zun   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3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OU     : mun=wun   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36.6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RN    : tLar=k"arC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6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RE    : c"a=c"a   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LL    : c"ura=ac"uf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6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    : c"iya=c"EyEr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6 items &lt; 7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2924280"/>
            <a:ext cx="1944720" cy="25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3635280" y="5445000"/>
            <a:ext cx="22320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700360" y="5445000"/>
            <a:ext cx="9349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943-5824-49C3-BC3C-90460D79A87E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5280" y="2276640"/>
            <a:ext cx="8569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AVAR (AVA)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/ </a:t>
            </a:r>
            <a:r>
              <a:rPr b="1" lang="en-GB" sz="2400" spc="-1" strike="noStrike" u="sng">
                <a:solidFill>
                  <a:srgbClr val="33cc33"/>
                </a:solidFill>
                <a:uFillTx/>
                <a:latin typeface="Courier New"/>
                <a:ea typeface="Times New Roman"/>
              </a:rPr>
              <a:t>AGUL (AGL)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      : dun=zun   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3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OU     : mun=wun   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36.6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RN    : tLar=k"arC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6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RE    : c"a=c"a    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LL    : c"ura=ac"uf 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6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    : c"iya=c"EyEr      *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DND=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6 items &lt; 70.0 </a:t>
            </a:r>
            <a:r>
              <a:rPr b="1" lang="en-GB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r>
              <a:rPr b="1" i="1" lang="en-GB" sz="2800" spc="-1" strike="noStrike" u="sng">
                <a:solidFill>
                  <a:srgbClr val="33cc33"/>
                </a:solidFill>
                <a:uFillTx/>
                <a:latin typeface="Courier New"/>
                <a:ea typeface="Times New Roman"/>
              </a:rPr>
              <a:t>Genetically related </a:t>
            </a:r>
            <a:r>
              <a:rPr b="1" lang="en-GB" sz="2800" spc="-1" strike="noStrike" u="sng">
                <a:solidFill>
                  <a:srgbClr val="33cc33"/>
                </a:solidFill>
                <a:uFillTx/>
                <a:latin typeface="Courier New"/>
                <a:ea typeface="Times New Roman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30C-7426-4480-8AC4-CDA61AD050D6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6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55640" y="24321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urier New"/>
              </a:rPr>
              <a:t>SPANISH (SPA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/ </a:t>
            </a:r>
            <a:r>
              <a:rPr b="1" lang="en-US" sz="2400" spc="-1" strike="noStrike" u="sng">
                <a:solidFill>
                  <a:srgbClr val="33cc33"/>
                </a:solidFill>
                <a:uFillTx/>
                <a:latin typeface="Courier New"/>
              </a:rPr>
              <a:t>CHAMORRO (C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EFB-D8C7-4B64-ACFF-36261DC1DA4C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0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55640" y="243216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urier New"/>
              </a:rPr>
              <a:t>SPANISH (SPA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/ </a:t>
            </a:r>
            <a:r>
              <a:rPr b="1" lang="en-US" sz="2400" spc="-1" strike="noStrike" u="sng">
                <a:solidFill>
                  <a:srgbClr val="33cc33"/>
                </a:solidFill>
                <a:uFillTx/>
                <a:latin typeface="Courier New"/>
              </a:rPr>
              <a:t>CHAMORRO (C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NE     : uno=unu        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36.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WO     : dos=dos        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 0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SON  : persona=petsona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15.8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TAR    : estreya=estrecas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27.6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IGHT   : noCe=noces      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44.2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EW     : nuevo=nueba     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44.2</a:t>
            </a:r>
            <a:r>
              <a:rPr b="0" lang="es-E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AE2-D020-489A-9EA8-9301D403E7A2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55640" y="2432160"/>
            <a:ext cx="7920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urier New"/>
              </a:rPr>
              <a:t>SPANISH (SPA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/ </a:t>
            </a:r>
            <a:r>
              <a:rPr b="1" lang="en-US" sz="2400" spc="-1" strike="noStrike" u="sng">
                <a:solidFill>
                  <a:srgbClr val="33cc33"/>
                </a:solidFill>
                <a:uFillTx/>
                <a:latin typeface="Courier New"/>
              </a:rPr>
              <a:t>CHAMORRO (C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NE     : uno=unu        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36.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WO     : dos=dos        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 0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SON  : persona=petsona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15.8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TAR    : estreya=estrecas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27.6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IGHT   : noCe=noces      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44.2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EW     : nuevo=nueba     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4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6 items &lt; 70.0</a:t>
            </a:r>
            <a:r>
              <a:rPr b="0" lang="es-E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372360" y="3068640"/>
            <a:ext cx="1944720" cy="252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571640" y="5587920"/>
            <a:ext cx="180036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B53-1917-47E1-B1D2-EEC7FF37ED10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55640" y="2432160"/>
            <a:ext cx="7920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urier New"/>
              </a:rPr>
              <a:t>SPANISH (SPA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/ </a:t>
            </a:r>
            <a:r>
              <a:rPr b="1" lang="en-US" sz="2400" spc="-1" strike="noStrike" u="sng">
                <a:solidFill>
                  <a:srgbClr val="33cc33"/>
                </a:solidFill>
                <a:uFillTx/>
                <a:latin typeface="Courier New"/>
              </a:rPr>
              <a:t>CHAMORRO (C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NE     : uno=unu        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36.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WO     : dos=dos        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 0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SON  : persona=petsona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15.8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TAR    : estreya=estrecas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27.6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IGHT   : noCe=noces      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44.2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EW     : nuevo=nueba     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4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NOT Related: Chance?</a:t>
            </a:r>
            <a:r>
              <a:rPr b="0" lang="es-E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372360" y="3068640"/>
            <a:ext cx="1944720" cy="252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4571640" y="5587920"/>
            <a:ext cx="180036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BC0-4534-4337-8A69-4C27234625E8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6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55640" y="2432160"/>
            <a:ext cx="7920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urier New"/>
              </a:rPr>
              <a:t>SPANISH (SPA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/ </a:t>
            </a:r>
            <a:r>
              <a:rPr b="1" lang="en-US" sz="2400" spc="-1" strike="noStrike" u="sng">
                <a:solidFill>
                  <a:srgbClr val="33cc33"/>
                </a:solidFill>
                <a:uFillTx/>
                <a:latin typeface="Courier New"/>
              </a:rPr>
              <a:t>CHAMORRO (C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NE     : uno=unu        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36.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WO     : dos=dos        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 0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SON  : persona=petsona   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DND=15.8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TAR    : estreya=estrecas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27.6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IGHT   : noCe=noces      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44.2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EW     : nuevo=nueba        *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LDND=4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NOT Related: </a:t>
            </a: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Chance?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 Or Borrowing?</a:t>
            </a:r>
            <a:r>
              <a:rPr b="0" lang="es-E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3068640"/>
            <a:ext cx="1944720" cy="252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5292360" y="5300640"/>
            <a:ext cx="1079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308-A395-473C-BD71-3FDEC4229081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17840" y="2338560"/>
            <a:ext cx="7754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DO-EUROPE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128) &gt;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24000" y="3357720"/>
            <a:ext cx="107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871-69F0-4F9D-898A-21C6FC612CC4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17480" y="2236680"/>
            <a:ext cx="77547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DO-EUROPE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128) &gt;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7dfff0"/>
                </a:solidFill>
                <a:latin typeface="Tahoma"/>
              </a:rPr>
              <a:t>CHAMORRO (CHA) AUSTRONESIAN (310) &gt; 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7dfff0"/>
                </a:solidFill>
                <a:latin typeface="Tahoma"/>
              </a:rPr>
              <a:t>estrecas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  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(= % &lt;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7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067280" y="4076640"/>
            <a:ext cx="79200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419640" y="2636640"/>
            <a:ext cx="863280" cy="14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59280" y="4076640"/>
            <a:ext cx="79236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5292720" y="2707920"/>
            <a:ext cx="79200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D84-A1E9-42A0-B21A-3874819FC868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7840" y="2236680"/>
            <a:ext cx="77544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867280" y="4076640"/>
            <a:ext cx="79236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659640" y="4076640"/>
            <a:ext cx="79200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 flipV="1">
            <a:off x="5435280" y="3357360"/>
            <a:ext cx="64764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7020000" y="3284640"/>
            <a:ext cx="35856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CF3-CA8E-46F7-8C19-E9C3C4429D60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E7F-5E12-473D-8F37-15C12AB994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17840" y="2236680"/>
            <a:ext cx="77544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900000" y="4149720"/>
            <a:ext cx="64764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437080" y="4149720"/>
            <a:ext cx="64764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B1F-63CA-4CF3-8DDF-26D5AFE7FC2E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17840" y="2236680"/>
            <a:ext cx="77544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062-A510-424E-9E81-21C7C67BED91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17840" y="2236680"/>
            <a:ext cx="77544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= mean LDND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AA0-799C-46D4-A4A8-74A6D1C61848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17840" y="2236680"/>
            <a:ext cx="775440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= mean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81E-0953-422C-BA0E-907DDBF22C88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01280" y="2236680"/>
            <a:ext cx="79714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lt;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= mn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26B-7E11-406E-876E-21A42250D939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44840" y="2236680"/>
            <a:ext cx="77544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lt;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=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strecas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3E9-C6B8-4884-BDD7-AEB27BD12E50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17840" y="2236680"/>
            <a:ext cx="77544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lt;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803760" y="5229360"/>
            <a:ext cx="3144600" cy="768240"/>
          </a:xfrm>
          <a:custGeom>
            <a:avLst/>
            <a:gdLst/>
            <a:ahLst/>
            <a:rect l="l" t="t" r="r" b="b"/>
            <a:pathLst>
              <a:path w="1981" h="484">
                <a:moveTo>
                  <a:pt x="0" y="408"/>
                </a:moveTo>
                <a:cubicBezTo>
                  <a:pt x="303" y="204"/>
                  <a:pt x="606" y="0"/>
                  <a:pt x="908" y="0"/>
                </a:cubicBezTo>
                <a:cubicBezTo>
                  <a:pt x="1210" y="0"/>
                  <a:pt x="1649" y="332"/>
                  <a:pt x="1815" y="408"/>
                </a:cubicBezTo>
                <a:cubicBezTo>
                  <a:pt x="1981" y="484"/>
                  <a:pt x="1943" y="469"/>
                  <a:pt x="1906" y="454"/>
                </a:cubicBezTo>
              </a:path>
            </a:pathLst>
          </a:cu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518-CF3B-46D3-BF12-136A7BEB667D}" type="slidenum">
              <a:t>1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4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17840" y="2236680"/>
            <a:ext cx="77544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900000" y="4726080"/>
            <a:ext cx="64764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859280" y="4726080"/>
            <a:ext cx="64764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E6A-A466-4C45-A3DA-06FABBF5E074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0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17840" y="2236680"/>
            <a:ext cx="77544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hwF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1DF-8669-495F-AD42-376B875E26B8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4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07040" y="2236680"/>
            <a:ext cx="7776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wF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00.0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phon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0D7-C70E-4B92-B6DB-E6DBDAB0F836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27360" y="3274920"/>
            <a:ext cx="14990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DF4-9D32-4275-B9E5-F9155D88E4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8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9080" y="2236680"/>
            <a:ext cx="77544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wF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00.00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phon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454-3433-4C77-BC2F-B79A0D5DFEA3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17840" y="2236680"/>
            <a:ext cx="77544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wF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00.00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900000" y="5373720"/>
            <a:ext cx="64764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859280" y="5373720"/>
            <a:ext cx="64764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C7D-0866-42AF-B5CA-A9FDBCA1F5C3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8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17840" y="2236680"/>
            <a:ext cx="77544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INDO-EUROP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8)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&gt; ROMAN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2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STAR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strey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27.6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17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8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wF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00.00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: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uti7o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f: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.0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20F-0604-43D4-97D6-CEEF896FA7C2}" type="slidenum">
              <a:t>1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17480" y="2338560"/>
            <a:ext cx="7754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DO-EUROPE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128) &gt; ROMA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CHAMORRO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cc33"/>
                </a:solidFill>
                <a:latin typeface="Tahoma"/>
              </a:rPr>
              <a:t>ON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: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un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nu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* LDND=</a:t>
            </a: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36.9</a:t>
            </a:r>
            <a:r>
              <a:rPr b="1" lang="en-US" sz="2000" spc="-1" strike="noStrike">
                <a:solidFill>
                  <a:srgbClr val="d3fff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CH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0.24/0.8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&gt;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03/0.00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97-106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110-9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hwF=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12.00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24000" y="3357720"/>
            <a:ext cx="107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BA6-6908-4C22-B829-98C72D285A7B}" type="slidenum">
              <a:t>1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17480" y="2338560"/>
            <a:ext cx="77547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DO-EUROPE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128) &gt; ROMA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CHAMORRO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cc33"/>
                </a:solidFill>
                <a:latin typeface="Tahoma"/>
              </a:rPr>
              <a:t>TW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: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o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o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* LDND= </a:t>
            </a: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0.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CHA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0.6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.00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12/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78-99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102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7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wF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00.00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24000" y="3357720"/>
            <a:ext cx="107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8AA-099C-46A5-8297-959030113F42}" type="slidenum">
              <a:t>1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17480" y="2338560"/>
            <a:ext cx="7754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DO-EUROPE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128) &gt; ROMA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NIGHT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noCe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noces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  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44.2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PA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CHA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23/0.55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4/0.0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wwF=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89-100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105-9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hwF=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100.00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10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68360" y="3357720"/>
            <a:ext cx="107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C96-BFB2-4B23-AA9C-4A1602CFF046}" type="slidenum">
              <a:t>1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17480" y="2338560"/>
            <a:ext cx="7754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DO-EUROPE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128) &gt; ROMA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CHAMORR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NEW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: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nuevo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nueb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          * LDND=</a:t>
            </a:r>
            <a:r>
              <a:rPr b="1" lang="es-ES" sz="2000" spc="-1" strike="noStrike">
                <a:solidFill>
                  <a:srgbClr val="cc0066"/>
                </a:solidFill>
                <a:latin typeface="Tahoma"/>
              </a:rPr>
              <a:t>44.2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PA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CHA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/g=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0.50/0.64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0.04/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68-104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05-8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wF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4.27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24000" y="3357720"/>
            <a:ext cx="107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A55-7D5C-411D-9DB0-1B93E211C193}" type="slidenum">
              <a:t>1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17480" y="2338560"/>
            <a:ext cx="7754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PANIS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A)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DO-EUROPE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128) &gt; ROMA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/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MOR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CHA)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STRONESI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310) &gt; CHAMORRO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cc33"/>
                </a:solidFill>
                <a:latin typeface="Tahoma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: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erson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etson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* LDND=</a:t>
            </a: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15.8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CHA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/g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0.20/0.64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01/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F=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89-98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98-90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wF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2.40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: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taotao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f: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.0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39640" y="3357720"/>
            <a:ext cx="107964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22C-ED02-4EE2-8757-39D915BFEABB}" type="slidenum">
              <a:t>1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53920" y="2351160"/>
            <a:ext cx="298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Further output filt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5FC-F4B1-44C3-B005-E74DB082BB92}" type="slidenum">
              <a:t>1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50320" y="2351160"/>
            <a:ext cx="472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Further output filt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1. Minimum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potential borrow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E3D-FA92-422E-99E0-C28424966647}" type="slidenum">
              <a:t>1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7360" y="3274920"/>
            <a:ext cx="14990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8764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612-3FE3-44EF-832C-3B09DF58DE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3120" y="2351160"/>
            <a:ext cx="563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Further output filt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. Minimum N potential borrow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2. All in the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same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E31-1032-44BB-95D4-EA6F2D739C8E}" type="slidenum">
              <a:t>1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3120" y="2351160"/>
            <a:ext cx="5638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Further output filt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. Minimum N potential borrow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2. All in the same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3.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Geographic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DD2-EC88-479A-B7DC-30AD0E3D34C7}" type="slidenum">
              <a:t>1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900000" y="2133720"/>
            <a:ext cx="784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ANISH (spa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O-EUROPEAN (128) &gt; ROMANCE (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UR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PAI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MORRO (cha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TRONESIAN (678) &gt; CHAMO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CEA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U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EODIST=1324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 GENDIST=3.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774-237F-406D-9BD7-58456566489D}" type="slidenum">
              <a:t>1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3287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76364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176364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589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176184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436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68400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08000" y="1627200"/>
            <a:ext cx="1150920" cy="10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826920" y="2924280"/>
            <a:ext cx="2808360" cy="576000"/>
          </a:xfrm>
          <a:prstGeom prst="rightArrow">
            <a:avLst>
              <a:gd name="adj1" fmla="val 50000"/>
              <a:gd name="adj2" fmla="val 1218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704240" y="507960"/>
            <a:ext cx="652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paniards in Pacific since 1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entury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1042920" y="1052280"/>
            <a:ext cx="79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D3D-80DB-4E70-93F0-C6C50BD478F5}" type="slidenum">
              <a:t>1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93120" y="2351160"/>
            <a:ext cx="56383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Further output filt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. Minimum N potential borrow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2. All in the same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3. Geograph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4.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Role of form and meaning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?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01F-B9DB-49AD-A7FC-77416AA0CB02}" type="slidenum">
              <a:t>1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ited or borrow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6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93120" y="2351160"/>
            <a:ext cx="56383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Further output filt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. Minimum N potential borrow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2. All in the same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3. Geograph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4.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Role of form and meaning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?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508720" y="494172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531840" y="4672080"/>
            <a:ext cx="12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LW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21A-B50A-46DA-8E2A-420527452A41}" type="slidenum">
              <a:t>1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rrowe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22760" y="2338560"/>
            <a:ext cx="5078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R = spa TO cha  6 (=15.0%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DND = 76.63  (shared=40; crit=70.00 - U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nu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*sp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os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*sp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etsona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*s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strecas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*s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noces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*s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nueba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*s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D52-89D4-42D0-8286-8EE153822EEA}" type="slidenum">
              <a:t>1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1859760" y="3592440"/>
            <a:ext cx="539424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5. Immanent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7F0-64B5-402B-BA41-61959CE7A8ED}" type="slidenum">
              <a:t>1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396960" cy="50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1BE-2CCB-4585-85AD-0F395300DEB5}" type="slidenum">
              <a:t>1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3012480" y="1584360"/>
            <a:ext cx="4705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ahoma"/>
              </a:rPr>
              <a:t>GARBAG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4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ahoma"/>
              </a:rPr>
              <a:t>GARBAG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627280" y="765000"/>
            <a:ext cx="5329440" cy="47530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C5B-D959-4DC5-AFBB-77A072AD593B}" type="slidenum">
              <a:t>1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218268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 (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Tahoma"/>
              </a:rPr>
              <a:t>MAY 2007 -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 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CDC-0225-4BB6-A12B-72981B2A42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287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6364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76364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589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76184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8764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7964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858-8653-456F-9CFF-5BD53068C8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0" name=""/>
          <p:cNvSpPr/>
          <p:nvPr/>
        </p:nvSpPr>
        <p:spPr>
          <a:xfrm>
            <a:off x="539640" y="22766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cond year of project (2008-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eplace ASJP code b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ll IPA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583-C9B1-4D1F-AA9C-8549101EA0B6}" type="slidenum">
              <a:t>2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4" name=""/>
          <p:cNvSpPr/>
          <p:nvPr/>
        </p:nvSpPr>
        <p:spPr>
          <a:xfrm>
            <a:off x="539640" y="22766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cond year of project (2008-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eplace ASJP code b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ll IPA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rot="19473600">
            <a:off x="5219280" y="3499920"/>
            <a:ext cx="432000" cy="1008360"/>
          </a:xfrm>
          <a:prstGeom prst="downArrow">
            <a:avLst>
              <a:gd name="adj1" fmla="val 50000"/>
              <a:gd name="adj2" fmla="val 583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083920" y="4560840"/>
            <a:ext cx="1476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Juli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Je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85D-2BC7-452B-9A36-8E93C3C23189}" type="slidenum">
              <a:t>2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0" name=""/>
          <p:cNvSpPr/>
          <p:nvPr/>
        </p:nvSpPr>
        <p:spPr>
          <a:xfrm>
            <a:off x="539640" y="22766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cond year of project (2008-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roblems with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ll IPA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representation sol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314-C519-4E55-A254-662AF0C2EFB8}" type="slidenum">
              <a:t>2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"/>
          <p:cNvSpPr/>
          <p:nvPr/>
        </p:nvSpPr>
        <p:spPr>
          <a:xfrm>
            <a:off x="539640" y="2276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cond year of project (2008-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roblems with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ll IPA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representation sol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 scan/download/… full IPA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D7C-22C6-4EF1-B2B9-2D2020ECAAD9}" type="slidenum">
              <a:t>2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8" name=""/>
          <p:cNvSpPr/>
          <p:nvPr/>
        </p:nvSpPr>
        <p:spPr>
          <a:xfrm>
            <a:off x="539640" y="227664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cond year of project (2008-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roblems with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ll IPA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representation sol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 scan/download/… full IPA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utomatic conversion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IPA to integer (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5F0-1D5D-411E-BE2E-913D1226E591}" type="slidenum">
              <a:t>2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2" name=""/>
          <p:cNvSpPr/>
          <p:nvPr/>
        </p:nvSpPr>
        <p:spPr>
          <a:xfrm>
            <a:off x="539640" y="227664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Second year of project (2008-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oblems with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ull IPA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representation sol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scan/download/… full IPA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utomatic conversio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IPA to integer (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(semi-)automatic recoding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to ASJP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duction on the basis of a forma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80B-30C3-48A9-A8D6-B6DFFA4AFB57}" type="slidenum">
              <a:t>2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39640" y="213372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aza (Caucasia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Meaning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703-75E1-43B5-8E8E-DA9D311EF07D}" type="slidenum">
              <a:t>2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0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39640" y="213372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aza (Caucasia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Meaning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IP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ʕʷɨʧʼʲʷʕʷɨ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84360" y="3284640"/>
            <a:ext cx="360360" cy="504720"/>
          </a:xfrm>
          <a:prstGeom prst="smileyFace">
            <a:avLst>
              <a:gd name="adj" fmla="val 92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FB1-2180-4282-8765-6048ACEFF402}" type="slidenum">
              <a:t>2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39640" y="213372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aza (Caucasia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Meaning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IP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ʕʷɨʧʼʲʷʕʷɨ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Decimal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61,695,616,679,700,690,695,661,695,616,115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11280" y="436572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4360" y="3284640"/>
            <a:ext cx="360360" cy="504720"/>
          </a:xfrm>
          <a:prstGeom prst="smileyFace">
            <a:avLst>
              <a:gd name="adj" fmla="val 92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B92-E663-471F-AAD7-E9F7964E0721}" type="slidenum">
              <a:t>2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39640" y="213372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aza (Caucasia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Meaning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IP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ʕʷɨʧʼʲʷʕʷɨ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Decimal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61,695,616,679,700,690,695,661,695,616,115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ASJPcode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8,119,126,51,67,34,121,119,126,88,119,126,51 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 = Xw~3Cw"y~Xw~3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11280" y="436572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11280" y="5084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84360" y="3284640"/>
            <a:ext cx="360360" cy="504720"/>
          </a:xfrm>
          <a:prstGeom prst="smileyFace">
            <a:avLst>
              <a:gd name="adj" fmla="val 92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B12-F665-4EC7-A881-DA82315F0014}" type="slidenum">
              <a:t>2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287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6364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76364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589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76184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436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8400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8764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7964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464-BB50-4AA4-BBD6-96277D765A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8" name=""/>
          <p:cNvSpPr/>
          <p:nvPr/>
        </p:nvSpPr>
        <p:spPr>
          <a:xfrm>
            <a:off x="539640" y="2276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Second year of project (2008-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automatic conversion IPA to integer (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(semi-)automatic recoding to ASJP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duction on the basis of a forma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50920" y="3429000"/>
            <a:ext cx="8208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 rot="16349400">
            <a:off x="252360" y="4579920"/>
            <a:ext cx="1150920" cy="1008000"/>
          </a:xfrm>
          <a:custGeom>
            <a:avLst/>
            <a:gdLst>
              <a:gd name="textAreaLeft" fmla="*/ -360 w 1150920"/>
              <a:gd name="textAreaRight" fmla="*/ 115092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284480" y="5276880"/>
            <a:ext cx="4642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Why not run on full IPA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5B9-BDC5-404F-A8B4-D5FCD4129421}" type="slidenum">
              <a:t>2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5" name=""/>
          <p:cNvSpPr/>
          <p:nvPr/>
        </p:nvSpPr>
        <p:spPr>
          <a:xfrm>
            <a:off x="539640" y="2276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Second year of project (2008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automatic conversion IPA to integer (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(semi-)automatic recoding to ASJP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duction on the basis of a forma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50920" y="3429000"/>
            <a:ext cx="8208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H="1" rot="16349400">
            <a:off x="252360" y="4579920"/>
            <a:ext cx="1150920" cy="1008000"/>
          </a:xfrm>
          <a:custGeom>
            <a:avLst/>
            <a:gdLst>
              <a:gd name="textAreaLeft" fmla="*/ -360 w 1150920"/>
              <a:gd name="textAreaRight" fmla="*/ 115092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387080" y="5157720"/>
            <a:ext cx="610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aucasian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rrelation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IPA ~ ASJP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89A-4FC7-43B4-86D4-2B9369311FCF}" type="slidenum">
              <a:t>2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2" name=""/>
          <p:cNvSpPr/>
          <p:nvPr/>
        </p:nvSpPr>
        <p:spPr>
          <a:xfrm>
            <a:off x="539640" y="2276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Second year of project (2008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automatic conversion IPA to integer (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(semi-)automatic recoding to ASJP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duction on the basis of a forma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50920" y="3429000"/>
            <a:ext cx="8208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H="1" rot="16349400">
            <a:off x="252360" y="4579920"/>
            <a:ext cx="1150920" cy="1008000"/>
          </a:xfrm>
          <a:custGeom>
            <a:avLst/>
            <a:gdLst>
              <a:gd name="textAreaLeft" fmla="*/ -360 w 1150920"/>
              <a:gd name="textAreaRight" fmla="*/ 115092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301040" y="5111640"/>
            <a:ext cx="6168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correlation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IPA ~ ASJP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but: ASJP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etter fi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ith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lass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IPA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oo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94C-0C92-4AA1-9971-941BF4583BC4}" type="slidenum">
              <a:t>2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39640" y="213372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IP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ʕʷɨʧʼʲʷʕʷɨ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Decimal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61,695,616,679,700,690,695,661,695,616,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ASJP</a:t>
            </a:r>
            <a:r>
              <a:rPr b="1" lang="en-GB" sz="2400" spc="-1" strike="noStrike" baseline="30000">
                <a:solidFill>
                  <a:srgbClr val="ff0000"/>
                </a:solidFill>
                <a:latin typeface="Lucida Sans Unicode"/>
              </a:rPr>
              <a:t>++</a:t>
            </a: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code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( =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any unicode subse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11280" y="3789360"/>
            <a:ext cx="3529080" cy="1297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11280" y="249228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11280" y="3284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11280" y="5300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889560" y="3828960"/>
            <a:ext cx="22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a’ &lt;- 661, 895, 416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663080" y="4037040"/>
            <a:ext cx="2937600" cy="5205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formal gramm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E0A-95E1-460F-9BD6-020D7EC81B4F}" type="slidenum">
              <a:t>2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9640" y="213372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IP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ʕʷɨʧʼʲʷʕʷɨ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Decimal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61,695,616,679,700,690,695,661,695,616,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ASJP</a:t>
            </a:r>
            <a:r>
              <a:rPr b="1" lang="en-GB" sz="2400" spc="-1" strike="noStrike" baseline="30000">
                <a:solidFill>
                  <a:srgbClr val="ff0000"/>
                </a:solidFill>
                <a:latin typeface="Lucida Sans Unicode"/>
              </a:rPr>
              <a:t>++</a:t>
            </a: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code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( =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any unicode subse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11280" y="3789360"/>
            <a:ext cx="3529080" cy="1297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11280" y="249228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11280" y="3284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11280" y="5300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017000" y="3828960"/>
            <a:ext cx="288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a’ &lt;- 661, 895, 416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 [-V] &lt;- C [+V] / -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 [+V] &lt;- C [-V, +PL] / - C [+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663080" y="4037040"/>
            <a:ext cx="2937600" cy="5205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formal gramm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187-A2A6-49E8-B346-C976F46CB995}" type="slidenum">
              <a:t>2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39640" y="213372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IP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ʕʷɨʧʼʲʷʕʷɨ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Decimal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61,695,616,679,700,690,695,661,695,616,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ASJP</a:t>
            </a:r>
            <a:r>
              <a:rPr b="1" lang="en-GB" sz="2400" spc="-1" strike="noStrike" baseline="30000">
                <a:solidFill>
                  <a:srgbClr val="ff0000"/>
                </a:solidFill>
                <a:latin typeface="Lucida Sans Unicode"/>
              </a:rPr>
              <a:t>++</a:t>
            </a:r>
            <a:r>
              <a:rPr b="1" lang="en-GB" sz="2400" spc="-1" strike="noStrike">
                <a:solidFill>
                  <a:srgbClr val="ff0000"/>
                </a:solidFill>
                <a:latin typeface="Lucida Sans Unicode"/>
              </a:rPr>
              <a:t>code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( =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any unicode subse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789360"/>
            <a:ext cx="3529080" cy="1297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11280" y="249228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11280" y="3284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11280" y="5300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870520" y="3441600"/>
            <a:ext cx="2582640" cy="19227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optim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of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or histo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hon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constru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859280" y="3645000"/>
            <a:ext cx="432000" cy="1584360"/>
          </a:xfrm>
          <a:custGeom>
            <a:avLst/>
            <a:gdLst>
              <a:gd name="textAreaLeft" fmla="*/ 0 w 432000"/>
              <a:gd name="textAreaRight" fmla="*/ 15588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17000" y="3828960"/>
            <a:ext cx="288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a’ &lt;- 661, 895, 416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 [-V] &lt;- C [+V] / -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 [+V] &lt;- C [-V, +PL] / - C [+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2B6-152F-4B4F-A9EA-E9CB308F7EC2}" type="slidenum">
              <a:t>2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3287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76364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176364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2589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176184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5092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68400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796000" y="321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6804000" y="2708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067280" y="1484280"/>
            <a:ext cx="1368360" cy="115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84720" y="1555920"/>
            <a:ext cx="1368720" cy="115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933880" y="4108320"/>
            <a:ext cx="2152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orrow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948360" y="2708280"/>
            <a:ext cx="144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D5F-62DB-458A-A22A-3E68048375DA}" type="slidenum">
              <a:t>2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8" name=""/>
          <p:cNvGraphicFramePr/>
          <p:nvPr/>
        </p:nvGraphicFramePr>
        <p:xfrm>
          <a:off x="1258920" y="2060640"/>
          <a:ext cx="7416720" cy="3816360"/>
        </p:xfrm>
        <a:graphic>
          <a:graphicData uri="http://schemas.openxmlformats.org/drawingml/2006/table">
            <a:tbl>
              <a:tblPr/>
              <a:tblGrid>
                <a:gridCol w="3211560"/>
                <a:gridCol w="1376280"/>
                <a:gridCol w="1300320"/>
                <a:gridCol w="152856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L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D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.7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6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.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ro-Asia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1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.1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 New-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2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.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-Co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.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.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9" name=""/>
          <p:cNvSpPr/>
          <p:nvPr/>
        </p:nvSpPr>
        <p:spPr>
          <a:xfrm>
            <a:off x="361440" y="609300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**all significant &gt;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C3F-07E1-461A-836A-8BB153826C6B}" type="slidenum">
              <a:t>2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3" name=""/>
          <p:cNvGraphicFramePr/>
          <p:nvPr/>
        </p:nvGraphicFramePr>
        <p:xfrm>
          <a:off x="1258920" y="2060640"/>
          <a:ext cx="6070680" cy="3816360"/>
        </p:xfrm>
        <a:graphic>
          <a:graphicData uri="http://schemas.openxmlformats.org/drawingml/2006/table">
            <a:tbl>
              <a:tblPr/>
              <a:tblGrid>
                <a:gridCol w="3193560"/>
                <a:gridCol w="1368720"/>
                <a:gridCol w="1293120"/>
                <a:gridCol w="21600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L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PH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.72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.325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ro-Asia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.17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 New-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.325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-Co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.125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4" name=""/>
          <p:cNvSpPr/>
          <p:nvPr/>
        </p:nvSpPr>
        <p:spPr>
          <a:xfrm>
            <a:off x="361440" y="609300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**all significant &gt;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DC5-D945-4AA1-819A-1F9B3F955752}" type="slidenum">
              <a:t>2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/>
          <p:nvPr/>
        </p:nvSpPr>
        <p:spPr>
          <a:xfrm>
            <a:off x="684360" y="2158920"/>
            <a:ext cx="792000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lman, Eric et al. (2008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dvances in automated language classificatio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rppe, Antti, Kaius Sinnemäki and Urp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ikanne (eds.)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Quantitative Investigations in 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Linguistic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40-43. Helsinki: University of Helsinki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Holman et al. (forthc. 200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xplorations in automated language classificatio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olia Lingui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- Brown et al. (forthc. 200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Automated Classification of the World’s languag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 A description of the method an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prelimary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result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Sprachtypologie und Universalien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- Bakker et al. (2009?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Using WALS for the ASJP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19F-189E-4D81-A3B6-B8426B6A57CC}" type="slidenum">
              <a:t>2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287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6364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76364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589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76184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68400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3723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96000" y="321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804000" y="2708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642-F493-4CF3-8435-08BA69D0F0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910440" y="3292560"/>
            <a:ext cx="7230600" cy="1241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mail.eva.mpg.de./~wichmann/ASJPHomePag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275-196A-4479-B08B-B04FADDD04AD}" type="slidenum">
              <a:t>2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/>
          <p:nvPr/>
        </p:nvSpPr>
        <p:spPr>
          <a:xfrm>
            <a:off x="4278600" y="3130560"/>
            <a:ext cx="762840" cy="1557000"/>
          </a:xfrm>
          <a:prstGeom prst="rect">
            <a:avLst/>
          </a:prstGeom>
          <a:solidFill>
            <a:srgbClr val="00e4a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7D9-45A2-4ED7-A1FB-381D6A9BCE10}" type="slidenum">
              <a:t>2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287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6364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76364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589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76184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092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8400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723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96000" y="321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6804000" y="2708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9122000">
            <a:off x="7451280" y="2491920"/>
            <a:ext cx="289080" cy="935280"/>
          </a:xfrm>
          <a:prstGeom prst="downArrow">
            <a:avLst>
              <a:gd name="adj1" fmla="val 50000"/>
              <a:gd name="adj2" fmla="val 80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42840" y="3389400"/>
            <a:ext cx="12733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Je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iel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00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1F2-B4B2-4086-AED6-F354F9A552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4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782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5928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067280" y="2492280"/>
            <a:ext cx="3585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46560" y="2492280"/>
            <a:ext cx="360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40360" y="350028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074920" y="350028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287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6364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76364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76184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092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436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8400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723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96000" y="321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804000" y="2708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2328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O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32720" y="32130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956720" y="2708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348-803B-4E30-8D9B-DA0E0028A7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367200" y="2263680"/>
            <a:ext cx="76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Reconstruction of Language Relationship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A14-91C4-4B3D-A0E0-450609E488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367200" y="2263680"/>
            <a:ext cx="76698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Reconstruction of Language Relationship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Derived 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C0C-827F-494D-BE55-52CE339ADA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"/>
          <p:cNvSpPr/>
          <p:nvPr/>
        </p:nvSpPr>
        <p:spPr>
          <a:xfrm>
            <a:off x="337320" y="2263680"/>
            <a:ext cx="81090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Reconstruction of Language Relationship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Derived 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Critical assessmen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and refinement of existing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C48-D361-4D50-AD87-AAF647D7B1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337320" y="2263680"/>
            <a:ext cx="81090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Reconstruction of Language Relationship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Derived 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Critical assessmen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and refinement of existing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y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newly described and unclassified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712-C142-4418-AEFB-01C67212B3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37320" y="2263680"/>
            <a:ext cx="81090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Reconstruction of Language Relationship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Derived 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Critical assessmen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and refinement of existing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y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newly described and unclassified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earch f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(ir)regularitie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in phyloge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72D-A970-4EB6-B5C0-FFDAAF0FCF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18268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5040" y="405288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280" y="3703680"/>
            <a:ext cx="3492720" cy="1104840"/>
          </a:xfrm>
          <a:custGeom>
            <a:avLst/>
            <a:gdLst/>
            <a:ahLst/>
            <a:rect l="l" t="t" r="r" b="b"/>
            <a:pathLst>
              <a:path w="2200" h="696">
                <a:moveTo>
                  <a:pt x="333" y="281"/>
                </a:moveTo>
                <a:cubicBezTo>
                  <a:pt x="174" y="372"/>
                  <a:pt x="0" y="493"/>
                  <a:pt x="242" y="553"/>
                </a:cubicBezTo>
                <a:cubicBezTo>
                  <a:pt x="484" y="613"/>
                  <a:pt x="1474" y="696"/>
                  <a:pt x="1784" y="643"/>
                </a:cubicBezTo>
                <a:cubicBezTo>
                  <a:pt x="2094" y="590"/>
                  <a:pt x="2200" y="341"/>
                  <a:pt x="2102" y="235"/>
                </a:cubicBezTo>
                <a:cubicBezTo>
                  <a:pt x="2004" y="129"/>
                  <a:pt x="1489" y="0"/>
                  <a:pt x="1194" y="8"/>
                </a:cubicBezTo>
                <a:cubicBezTo>
                  <a:pt x="899" y="16"/>
                  <a:pt x="492" y="190"/>
                  <a:pt x="333" y="281"/>
                </a:cubicBezTo>
                <a:close/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29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93960" y="4024440"/>
            <a:ext cx="19393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29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68640" y="3573360"/>
            <a:ext cx="204336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EB4-70B5-4CB5-984E-93969F4A7A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>
            <a:off x="443880" y="2263680"/>
            <a:ext cx="83466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Reconstruction of Language Relationship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Derived 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Critical assessmen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and refinement of existing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y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newly described and unclassified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earch f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(ir)regularitie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in phyloge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 hypothese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(e.g. Atkinson et al 2008; ‘elbow’ phenomen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747-1DE0-46DD-B3F3-E7826E732C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>
            <a:off x="443880" y="2263680"/>
            <a:ext cx="83466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Reconstruction of Language Relationship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Derived 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Critical assessmen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and refinement of existing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y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newly described and unclassified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earch f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(ir)regularitie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in phyloge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 hypothese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(e.g. Atkinson et al 2008; ‘elbow’ phenomen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Experimentally find an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optimal dat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1CF-C5D9-46D6-9295-59BAB2E0FE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43880" y="2263680"/>
            <a:ext cx="83466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Reconstruction of Language Relationship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Derived 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Critical assessmen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and refinement of existing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y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newly described and unclassified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earch f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(ir)regularitie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in phyloge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 hypothese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(e.g. Atkinson et al 2008; ‘elbow’ phenomen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Experimentally find an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optimal dat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Automatically detect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borrow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536-5B71-4E29-80A4-BD1D68285A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443880" y="2263680"/>
            <a:ext cx="83466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Reconstruction of Language Relationship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Derived goals: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Critical assessment and refinement of existing class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dfff0"/>
                </a:solidFill>
                <a:latin typeface="Tahoma"/>
              </a:rPr>
              <a:t>- Classify newly described and unclassified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dfff0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7dfff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7dfff0"/>
                </a:solidFill>
                <a:latin typeface="Tahoma"/>
              </a:rPr>
              <a:t>Search for (ir)regularities in phyloge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dfff0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7dfff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7dfff0"/>
                </a:solidFill>
                <a:latin typeface="Tahoma"/>
              </a:rPr>
              <a:t>Test hypotheses (e.g. Atkinson et al 2008; ‘elbow’ phenomen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dfff0"/>
                </a:solidFill>
                <a:latin typeface="Tahoma"/>
              </a:rPr>
              <a:t>- Experimentally find the best/optimal dat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Automatically detect borrow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348000" y="4076640"/>
            <a:ext cx="145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day ..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05B-3525-46AA-B485-7A528A0A4D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932040" y="22399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82000" y="2498760"/>
            <a:ext cx="75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 The list of basic lexical items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0F0-E46C-442A-90CE-AB898052EE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932040" y="22399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440" y="2498760"/>
            <a:ext cx="688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 The list of basic lexical items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 Comparing words &amp;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D45-F17B-4949-837A-E299A121D4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932040" y="22399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89120" y="2498760"/>
            <a:ext cx="66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 The list of basic lexic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 Comparing words &amp;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 Some results: genetic proximity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000-45B1-4EB9-85AE-1CDBB9083E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932040" y="22399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18280" y="2498760"/>
            <a:ext cx="713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The list of basic lexic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Comparing words &amp;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3. Some results: genetic proximity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4. On Inheritance vs Bor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2AE-A647-401D-BB02-111786EBB8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932040" y="22399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5360" y="2498760"/>
            <a:ext cx="62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The list of basic lexic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Comparing words &amp;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3. Some results: genetic proxi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4. On Inheritance vs Bor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5. Immanent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520-802F-4E00-A3C8-23BD15AEAC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132200" y="3386160"/>
            <a:ext cx="65527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1. The list of basic lexic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A7D-03BF-4DA4-B6BA-80DFE1FF4A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18268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3213000"/>
            <a:ext cx="1081080" cy="1079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74000">
            <a:off x="2771640" y="393372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5013360"/>
            <a:ext cx="1081080" cy="1079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560800">
            <a:off x="2771640" y="508428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8640" y="3573360"/>
            <a:ext cx="204336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376-7322-4091-9B5A-4BE5EDE435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1165320" y="22096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ord list: Swadesh 100 basic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B4A-C306-4647-A8C6-B0BC01C80FE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1165320" y="220968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ord list: Swadesh 100 basic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coin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FE3-6B26-420A-A20A-335634E3881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1165320" y="220968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ord list: Swadesh 100 basic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coin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ollect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eld work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lexicon /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240-8E23-4789-8E02-F9AF16B9CF4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1165320" y="2209680"/>
            <a:ext cx="6912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ord list: Swadesh 100 basic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coin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ollect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eld work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lexicon /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herit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rather tha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3B0-CDFE-45D1-A006-323D3F9C7EB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1165320" y="2209680"/>
            <a:ext cx="69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ord list: Swadesh 100 basic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coin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ollect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eld work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lexicon /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herit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rather tha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ulturally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8C9-D5B4-4748-9025-DB70423E849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1165320" y="2209680"/>
            <a:ext cx="6912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ord list: Swadesh 100 basic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coin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ollect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eld work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lexicon /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herit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rather tha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ulturally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l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89D-D4F2-4087-A373-A5D26E6FFD3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1165320" y="2209680"/>
            <a:ext cx="691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ord list: Swadesh 100 basic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coin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ollect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eld work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lexicon /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herit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rather tha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ulturally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l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Few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767-A9A4-457A-89C1-1B85745DB35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1165320" y="2209680"/>
            <a:ext cx="691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ord list: Swadesh 100 basic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coin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ollect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eld work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lexicon /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herit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rather tha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ulturally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l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Few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23240" y="4508640"/>
            <a:ext cx="762840" cy="155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969-183C-422B-9C32-30807222D36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165320" y="2209680"/>
            <a:ext cx="691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ord list: Swadesh 100 basic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coin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ollected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eld work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lexicon /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herit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rather tha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Culturally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l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Few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23240" y="4508640"/>
            <a:ext cx="762840" cy="155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00720" y="443700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120800" y="4292640"/>
            <a:ext cx="12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LW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2F8-4C53-49B4-9F0B-810D5B7051C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2050920" y="744480"/>
          <a:ext cx="5092560" cy="5492880"/>
        </p:xfrm>
        <a:graphic>
          <a:graphicData uri="http://schemas.openxmlformats.org/drawingml/2006/table">
            <a:tbl>
              <a:tblPr/>
              <a:tblGrid>
                <a:gridCol w="1006560"/>
                <a:gridCol w="995400"/>
                <a:gridCol w="1011240"/>
                <a:gridCol w="898560"/>
                <a:gridCol w="1180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.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1. d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1. n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1. 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1. smo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. y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2. lo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2. m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2. 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2. f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. 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3. t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3. 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3. sw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3. a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. t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4. s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4. ton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4. 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4. b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. t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5. lea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5. c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5. wa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5.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. w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6. ro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6. fo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6. 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6. mount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. w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7. b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7. kn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7. 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7. 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. 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8. sk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8. h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8. s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8. g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. 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9. fle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9. be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9. 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9. yel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0. 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0. b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0. n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0. g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0. wh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1. 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1. b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1. brea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1. s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1. 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2. tw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2. g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2. he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2. s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2. n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3. b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3. e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3. l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3. mo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3. h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4. l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4. ho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4. dr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4.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4. c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5. s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5. 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5. 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5.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5. f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6. wo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6. fea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6. b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6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6.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7. 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7. h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7. s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7. st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7. 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8. per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8. 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8. h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8. s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8. 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9. f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9. 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9. k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9.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9. d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0. bi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0. e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0. sle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0. clo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00.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E5B-D250-4D87-8534-6AA143DBBE4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218268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3213000"/>
            <a:ext cx="10810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5013360"/>
            <a:ext cx="10810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080200">
            <a:off x="6013440" y="393336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965400">
            <a:off x="6084720" y="494136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3213000"/>
            <a:ext cx="1081080" cy="1079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4000">
            <a:off x="2771640" y="393372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5013360"/>
            <a:ext cx="1081080" cy="1079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560800">
            <a:off x="2771640" y="508428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68640" y="3573360"/>
            <a:ext cx="204336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C80-3772-4955-8B84-D7381A9897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050920" y="744480"/>
          <a:ext cx="5092920" cy="5521320"/>
        </p:xfrm>
        <a:graphic>
          <a:graphicData uri="http://schemas.openxmlformats.org/drawingml/2006/table">
            <a:tbl>
              <a:tblPr/>
              <a:tblGrid>
                <a:gridCol w="1006560"/>
                <a:gridCol w="995400"/>
                <a:gridCol w="1011240"/>
                <a:gridCol w="898560"/>
                <a:gridCol w="1181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.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1. d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1. n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1. 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1. smo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. y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2. lo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2. m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2. 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2. f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. 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3. t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3. 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3. sw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3. a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. t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4. s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4. ton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4. 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4. b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. t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5. lea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5. c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5. wa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5.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. w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6. ro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6. fo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6. 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6. mount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. w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7. b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7. kn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7. 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7. 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. 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8. sk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8. h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8. s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8. g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. 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9. fle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9. be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9. 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9. yel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0. 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0. b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0. n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0. g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0. wh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1. 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1. b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1. brea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1. s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1. 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2. tw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2. g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2. he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2. s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2. n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3. b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3. e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3. l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3. mo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3. h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4. l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34. ho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4. dr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4.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4. c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5. s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5. 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5. 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5.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5. f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6. wo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6. fea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6. b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6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6.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7. 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7. h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7. s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7. st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7. 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8. per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8. 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8. h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8. s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8. 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9. f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9. 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9. k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9.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9. d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0. bi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0. e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0. sle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0. clo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00.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2987640" y="4149720"/>
            <a:ext cx="1152720" cy="57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68920" y="2957400"/>
            <a:ext cx="156600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Ot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140360" y="3573000"/>
            <a:ext cx="3240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51C-6CD1-46EB-BD35-AACD29D7A86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9000" y="2324160"/>
            <a:ext cx="796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Early analyses have sh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 40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/100 item subset gives sam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B9D-B29A-462E-B058-7D2D2845028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9000" y="2324160"/>
            <a:ext cx="7963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Early analyses have sh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 40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/100 item subset gives sam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ss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C77-3070-4C83-A398-EF07701A98E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16040" y="2324160"/>
            <a:ext cx="79639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Early analyses have sh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Most stable 40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/100 item subset gives sam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ss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ss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issing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C64-E7D1-4494-9250-1FA7B41B8EC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-29988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6040" y="2324160"/>
            <a:ext cx="796392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Early analyses have sh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 40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/100 item subset gives sam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ss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ss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issing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Faster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rocessing;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mbinatorial explo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~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9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&lt;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10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55640" y="5950080"/>
            <a:ext cx="7632720" cy="57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BFF-8FF5-4B9C-954F-DD13AC5EA63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29988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" y="2324160"/>
            <a:ext cx="796392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d3fff3"/>
                </a:solidFill>
                <a:uFillTx/>
                <a:latin typeface="Tahoma"/>
              </a:rPr>
              <a:t>Early analyses have sh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fff3"/>
                </a:solidFill>
                <a:latin typeface="Tahoma"/>
              </a:rPr>
              <a:t>- Most stable 40/100 item subset gives sam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3fff3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fff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d3fff3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d3fff3"/>
                </a:solidFill>
                <a:latin typeface="Tahoma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fff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d3fff3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d3fff3"/>
                </a:solidFill>
                <a:latin typeface="Tahoma"/>
              </a:rPr>
              <a:t>Less miss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3fff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fff3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d3fff3"/>
                </a:solidFill>
                <a:latin typeface="Tahoma"/>
              </a:rPr>
              <a:t>Faster processing; combinatorial explo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~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9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&lt;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10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55640" y="5950080"/>
            <a:ext cx="7632720" cy="57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3718080" y="2540160"/>
            <a:ext cx="1707840" cy="17776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3635280" y="2276640"/>
            <a:ext cx="3205080" cy="33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44A-2E27-4651-9725-41F84A81B6F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-29988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41320" y="2324160"/>
            <a:ext cx="4873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1" lang="en-US" sz="2800" spc="-1" strike="noStrike" u="sng" baseline="-25000">
                <a:solidFill>
                  <a:srgbClr val="3333cc"/>
                </a:solidFill>
                <a:uFillTx/>
                <a:latin typeface="Tahoma"/>
              </a:rPr>
              <a:t>SM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= (R – U) / (1 – 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65440" y="2997360"/>
            <a:ext cx="4535280" cy="86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01800" y="25495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19480" y="5789520"/>
            <a:ext cx="21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e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215-BAE1-4077-927D-28DBB110B5A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29988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7480" y="2324160"/>
            <a:ext cx="6263280" cy="24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1" lang="en-US" sz="2800" spc="-1" strike="noStrike" u="sng" baseline="-25000">
                <a:solidFill>
                  <a:srgbClr val="3333cc"/>
                </a:solidFill>
                <a:uFillTx/>
                <a:latin typeface="Tahoma"/>
              </a:rPr>
              <a:t>SM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= (R – U) / (1 – 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 = mean proportion ‘</a:t>
            </a: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same form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’ for SM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/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765440" y="2997360"/>
            <a:ext cx="4535280" cy="86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01F-FACF-42F8-AC1E-84E2DD2C0C6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9988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15960" y="2324160"/>
            <a:ext cx="752328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1" lang="en-US" sz="2800" spc="-1" strike="noStrike" u="sng" baseline="-25000">
                <a:solidFill>
                  <a:srgbClr val="3333cc"/>
                </a:solidFill>
                <a:uFillTx/>
                <a:latin typeface="Tahoma"/>
              </a:rPr>
              <a:t>SM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= (R – U) / (1 – 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 = mean proportion ‘</a:t>
            </a: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same form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’ for SM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/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U = mean proportion ‘</a:t>
            </a: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same form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’ for different SM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/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65440" y="2997360"/>
            <a:ext cx="4535280" cy="86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278-8A38-4C93-B9BE-3FDB6382882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29988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5960" y="2324160"/>
            <a:ext cx="752328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1" lang="en-US" sz="2800" spc="-1" strike="noStrike" u="sng" baseline="-25000">
                <a:solidFill>
                  <a:srgbClr val="3333cc"/>
                </a:solidFill>
                <a:uFillTx/>
                <a:latin typeface="Tahoma"/>
              </a:rPr>
              <a:t>SM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= (R – U) / (1 – 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 = mean proportion ‘</a:t>
            </a: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same form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’ for SM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/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U = mean proportion ‘</a:t>
            </a: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same form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’ for different SM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/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765440" y="2997360"/>
            <a:ext cx="4535280" cy="86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0160" y="5477040"/>
            <a:ext cx="713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.B. 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s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high correlation between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029-480C-4B69-A110-A47EC68B92D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18268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940360" y="3789000"/>
            <a:ext cx="2232000" cy="144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365720"/>
            <a:ext cx="2087640" cy="43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5013360"/>
            <a:ext cx="194472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484360" y="306864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23640" y="4076640"/>
            <a:ext cx="1800360" cy="144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10920" y="4581360"/>
            <a:ext cx="331308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410920" y="5084640"/>
            <a:ext cx="151308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95640" y="3797280"/>
            <a:ext cx="1916280" cy="164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>
            <a:off x="3419640" y="551664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35640" y="544464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3068640"/>
            <a:ext cx="3585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508360" y="299736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59280" y="55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40A-99D0-410C-B0E0-34C1F55096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Chart 4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947880" y="914400"/>
            <a:ext cx="6648480" cy="539424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449568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Ethnologue (Goodmann-Krusk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2852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cc33"/>
                </a:solidFill>
                <a:uFillTx/>
                <a:latin typeface="Tahoma"/>
              </a:rPr>
              <a:t>WALS (Pear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40360" y="141300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85600" y="60930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++ &lt; Stability &gt;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3A7-B00B-4B58-8F2F-C3F71123B6F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2143080" y="260280"/>
          <a:ext cx="5092920" cy="6064200"/>
        </p:xfrm>
        <a:graphic>
          <a:graphicData uri="http://schemas.openxmlformats.org/drawingml/2006/table">
            <a:tbl>
              <a:tblPr/>
              <a:tblGrid>
                <a:gridCol w="1006560"/>
                <a:gridCol w="995400"/>
                <a:gridCol w="1011240"/>
                <a:gridCol w="898560"/>
                <a:gridCol w="1181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d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d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mo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k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o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w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ong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u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e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la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a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oun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kn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k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l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e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t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ye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l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e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rea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e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g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o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o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dr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o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ea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k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a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d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y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l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l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4B6-79E5-46FC-B085-3BFDDC52DA0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143080" y="260280"/>
          <a:ext cx="5092920" cy="6064200"/>
        </p:xfrm>
        <a:graphic>
          <a:graphicData uri="http://schemas.openxmlformats.org/drawingml/2006/table">
            <a:tbl>
              <a:tblPr/>
              <a:tblGrid>
                <a:gridCol w="1006560"/>
                <a:gridCol w="995400"/>
                <a:gridCol w="1011240"/>
                <a:gridCol w="898560"/>
                <a:gridCol w="1181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d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d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mo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l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k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f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o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w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ong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u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le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la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a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p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moun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kn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k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h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l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e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t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ye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bl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e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b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br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e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g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l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o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ho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dr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f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o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ea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h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f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k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a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d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ey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l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l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>
            <a:off x="7413120" y="692280"/>
            <a:ext cx="146088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3F8-CDAB-4AD5-8011-F9783222169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143080" y="260280"/>
          <a:ext cx="5092920" cy="6064200"/>
        </p:xfrm>
        <a:graphic>
          <a:graphicData uri="http://schemas.openxmlformats.org/drawingml/2006/table">
            <a:tbl>
              <a:tblPr/>
              <a:tblGrid>
                <a:gridCol w="1006560"/>
                <a:gridCol w="995400"/>
                <a:gridCol w="1011240"/>
                <a:gridCol w="898560"/>
                <a:gridCol w="1181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d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d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mo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l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k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f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o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w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ong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u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le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la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a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p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moun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kn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k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h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l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e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t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ye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bl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e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b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br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e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g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l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o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ho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dr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f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o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ea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h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f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k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a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d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ey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l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l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0" name=""/>
          <p:cNvSpPr/>
          <p:nvPr/>
        </p:nvSpPr>
        <p:spPr>
          <a:xfrm>
            <a:off x="7413120" y="692280"/>
            <a:ext cx="146088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2000" y="3213000"/>
            <a:ext cx="86508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76720" y="4437000"/>
            <a:ext cx="86544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59280" y="1989000"/>
            <a:ext cx="86508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FCD-7005-4985-9A09-9435CBEA9EC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755640" y="227664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First phase of project (200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roblems with full IPA representation of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1A9-3794-4D71-98F2-6216901E295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755640" y="2276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First phase of project (200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roblems with full IPA representation of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data entry via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6D5-CBC4-4FEF-ABFC-57D43B779BC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755640" y="227664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First phase of project (200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roblems with full IPA representation of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data entry via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simpl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gramming languag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(Fortran; Pa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488-422D-4112-AE8D-B5E911FD012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755640" y="227664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First phase of project (200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oblems with full IPA representation of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data entry via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simpl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rogramming languag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(Fortran; Pa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coding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to simplified ASJPcode (only Asc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ADC-3C87-47D6-B059-DA7C6F1B2EC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971640" y="19162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48A-BF11-4B14-8526-EF651240844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971640" y="1916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Vow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49E-5001-484C-8179-3DE4E33A906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182680"/>
            <a:ext cx="7777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ö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ren Wichman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BRD; Netherl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Viveka Velupillai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BRD)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Andr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 Mülle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B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Robert Mailhamme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B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Hagen Jung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B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Eric Holma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Anthony Gran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Dmitry Egorov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Russ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Pamela Brown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Cecil Brow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Dik Bakke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UK; Netherl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70B-5B04-4180-8AD0-6B6111FF0F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"/>
          <p:cNvSpPr/>
          <p:nvPr/>
        </p:nvSpPr>
        <p:spPr>
          <a:xfrm>
            <a:off x="971640" y="191628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Vow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34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Conso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C6B-B1A6-481E-BDE0-F77BA24630A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971640" y="191628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Vow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34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Conso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708360" y="2349360"/>
            <a:ext cx="432000" cy="1008360"/>
          </a:xfrm>
          <a:custGeom>
            <a:avLst/>
            <a:gdLst>
              <a:gd name="textAreaLeft" fmla="*/ 0 w 432000"/>
              <a:gd name="textAreaRight" fmla="*/ 15588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816520" y="2540160"/>
            <a:ext cx="2640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losest sou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00720" y="2708280"/>
            <a:ext cx="1008000" cy="289080"/>
          </a:xfrm>
          <a:prstGeom prst="leftArrow">
            <a:avLst>
              <a:gd name="adj1" fmla="val 50000"/>
              <a:gd name="adj2" fmla="val 871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54E-4163-41D4-83D0-B6D12B70007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971640" y="1916280"/>
            <a:ext cx="741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Vow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34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Conso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perator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for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as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ab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alat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Glott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CDA-B9FF-4A2E-B569-1B0DEAAA3BC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77120" y="673200"/>
            <a:ext cx="302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aza (Caucasia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Meaning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PERSON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LEAF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SKIN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HORN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NOSE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TOOTH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0DE-7FE1-4B95-BBD6-753B511A116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40080" y="673200"/>
            <a:ext cx="5667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aza (Caucasia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Meaning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PA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ERSO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ʕʷɨʧʼʲʷʕʷɨs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EAF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bɣʲɨ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ʧʷazʲ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HOR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ʧʼʷɨʕʷ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NOSE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pɨnʦʼ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OOTH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pɨʦ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8EF-CCDB-44FD-94C5-8DF969EE6A9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07280" y="673200"/>
            <a:ext cx="743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aza (Caucasia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Meaning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PA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SJ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ERSO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ʕʷɨʧʼʲʷʕʷɨ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Xw~3Cw"yXw~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EAF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ɣʲɨ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bxy~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ʧʷazʲ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Cw~azy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HOR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ʧʼʷɨʕʷ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Cw"~3Xw~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NOSE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ɨnʦʼ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p3nc"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OOTH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ɨʦ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p3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59280" y="227664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59280" y="299736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59280" y="371628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59280" y="443700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59280" y="515628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59280" y="587700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E00-E2F4-41B3-BB32-6B3C806CF31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539640" y="24321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llected to d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Close to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500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nguages (incl. dialects and pro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ECA-50A8-475A-944C-544B8EB69A4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539640" y="2432160"/>
            <a:ext cx="8064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llected to d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Close to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500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nguages (incl. dialects and pro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Mean number of items/language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5.8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/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C6F-5FBB-4CC3-8D05-838666ACAD4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1116000" y="2133720"/>
            <a:ext cx="633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real distribution (not a sample!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mericas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urasia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ustralia/PNG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ustronesia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frica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reoles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rtificial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C27-D495-4B21-80A1-E58A51D136E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34920" y="966960"/>
            <a:ext cx="9110520" cy="45496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3017880" y="5799240"/>
            <a:ext cx="34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Languages currently samp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B67-C665-4782-99B0-53D23EB3004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1826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A63-CC7D-4CDE-BBFA-703C0E3463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858240" y="3376440"/>
            <a:ext cx="74196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2. Comparing  words and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B8B-D34D-4D1A-9DD8-73F601C2275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15640" y="2236680"/>
            <a:ext cx="271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wo strateg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357-164C-4239-A35D-A2C6D256606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15640" y="2236680"/>
            <a:ext cx="271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wo strateg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. ASJP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ED0-971E-41DE-8C4A-F1B9086A937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9640" y="21654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1. ASJP context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E43-2278-4F30-B076-4FCCCF01D92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216540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SJP context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. between 2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0B8-131F-4240-8051-F248AAAC135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9640" y="21654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SJP context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28440" y="2781360"/>
            <a:ext cx="530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lg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=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OR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</a:rPr>
              <a:t>l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671480" y="2381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E77-9C95-4F9F-9139-130F56C95DD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9640" y="21654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 context rules 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/V=general; c/v=specific; X=*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6000" y="2781360"/>
            <a:ext cx="70783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lg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=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OR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</a:rPr>
              <a:t>l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VcX#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Vc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2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(V)c(V)cX#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(V)c(V)c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AVcvX#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VcvX#    A=h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3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cVX#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cV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2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cv#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CV)cv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671480" y="2381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509-06F9-4825-97CA-44DD76F8149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39640" y="21654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 context rules 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/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V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=general; c/v=specific; X=*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66000" y="2781360"/>
            <a:ext cx="70783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 WOR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lg1                   </a:t>
            </a: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l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X#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2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(V)c(V)cX#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(V)c(V)c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AVcvX#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VcvX#    A=h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3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cVX#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cV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2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cv#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CV)cv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ttern W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lg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UNIF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ttern W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</a:rPr>
              <a:t>lg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71480" y="2381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BEE-8B0B-41F6-89D9-EEF8E3AAE56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39640" y="21654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 context rules 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/V=general;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c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/v=specific; X=*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66000" y="2781360"/>
            <a:ext cx="70783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lg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=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OR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</a:rPr>
              <a:t>l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#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2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(V)c(V)cX#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(V)c(V)c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AVcvX#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VcvX#    A=h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3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cVX#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cV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2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cv#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CV)cv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71480" y="2381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03E-04C3-4F7D-894A-3C3D6DF1DC8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9640" y="21654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 context rules 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/V=general; c/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v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=specific; X=*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68520" y="2781360"/>
            <a:ext cx="70970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lg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=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OR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</a:rPr>
              <a:t>l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VcX#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Vc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2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(V)c(V)cX#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Xc(V)c(V)c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AVc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#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Vc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#    A=h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13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cVX#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V)ccV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2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cv#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(CV)cv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71480" y="2381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655-A338-4EC2-98C2-BA29AB81A31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182680"/>
            <a:ext cx="77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tomatic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nstru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languag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84E-D2EE-40D3-87C8-CCEEFE691E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39640" y="21654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 context rules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/V=general; c/v=specific; X=*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66000" y="2781360"/>
            <a:ext cx="70783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R1   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#(V)cVcX#        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#XcVc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R2   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#Xc(V)c(V)cX#    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#Xc(V)c(V)c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1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#AVcvX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#VcvX#    A=h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R13  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#(V)ccVX#        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#(V)ccV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R22  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#cv#             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#(CV)cv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#yap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#o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547640" y="3860640"/>
            <a:ext cx="151164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47640" y="5805360"/>
            <a:ext cx="151164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148360" y="5805360"/>
            <a:ext cx="151128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148360" y="3860640"/>
            <a:ext cx="151128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268360" y="4292640"/>
            <a:ext cx="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67280" y="4292640"/>
            <a:ext cx="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490920" y="5805360"/>
            <a:ext cx="1368360" cy="287640"/>
          </a:xfrm>
          <a:prstGeom prst="leftRightArrow">
            <a:avLst>
              <a:gd name="adj1" fmla="val 50000"/>
              <a:gd name="adj2" fmla="val 9470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F8C-13F4-4C4E-B181-8F5DCFC619D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39640" y="216540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 context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. between 2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value 0 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4E7-DB3A-4186-A40B-CB16C5F639A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9640" y="2165400"/>
            <a:ext cx="79916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 context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. between 2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value 0 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b. between 2 languages: RELATE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(n of matching words / total pairs) *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A80-78B1-4017-AB22-A26B8017AEF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39640" y="2165400"/>
            <a:ext cx="86043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SJP context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. between 2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value 0 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b. between 2 languages: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SP=100 – ((matching words / total pairs) * 10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510-8A5C-4488-87D0-905EB449C72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9640" y="21654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2. Levenshtein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D1C-0527-4521-8924-4A57D9B425F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9640" y="2165400"/>
            <a:ext cx="799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evenshtein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. between 2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umber of transformation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o get from the shorter form to the longer on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(changes, add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in = 0  /  max = length longes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452-7BC4-4BF4-B28E-335C106347C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9640" y="2165400"/>
            <a:ext cx="799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evenshtein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. between 2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umber of transformation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to get from the shorter form to the longer one (changes, add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b. between 2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ean L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for total number of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2E2-41CD-437E-B46D-BEC8E0AE579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9640" y="21654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wo problems with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ple LD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053-C138-49F1-AF69-2F6BECC29B6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9640" y="216540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wo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alue depends on length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onges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F21-20F4-4AD1-AA87-3C839CE8B21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3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39640" y="2165400"/>
            <a:ext cx="7991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wo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Value depends on length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onges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ormalize: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= (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L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ahoma"/>
              </a:rPr>
              <a:t>max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JP: Automatic Reconstr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722-0BB4-4809-A0D9-317E769750D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4:32:28Z</dcterms:created>
  <dc:creator>bakker</dc:creator>
  <dc:description/>
  <dc:language>en-US</dc:language>
  <cp:lastModifiedBy>bakker</cp:lastModifiedBy>
  <dcterms:modified xsi:type="dcterms:W3CDTF">2008-09-10T12:24:55Z</dcterms:modified>
  <cp:revision>1638</cp:revision>
  <dc:subject/>
  <dc:title>Semantic Parameters of the Grammaticalization of Agreement</dc:title>
</cp:coreProperties>
</file>