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223.xml.rels" ContentType="application/vnd.openxmlformats-package.relationships+xml"/>
  <Override PartName="/ppt/slides/_rels/slide197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169.xml.rels" ContentType="application/vnd.openxmlformats-package.relationships+xml"/>
  <Override PartName="/ppt/slides/_rels/slide174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06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298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97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133.xml.rels" ContentType="application/vnd.openxmlformats-package.relationships+xml"/>
  <Override PartName="/ppt/slides/_rels/slide280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85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125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02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73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2.xml.rels" ContentType="application/vnd.openxmlformats-package.relationships+xml"/>
  <Override PartName="/ppt/slides/_rels/slide154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57.xml.rels" ContentType="application/vnd.openxmlformats-package.relationships+xml"/>
  <Override PartName="/ppt/slides/_rels/slide1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235.xml.rels" ContentType="application/vnd.openxmlformats-package.relationships+xml"/>
  <Override PartName="/ppt/slides/_rels/slide5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121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15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6.xml.rels" ContentType="application/vnd.openxmlformats-package.relationships+xml"/>
  <Override PartName="/ppt/slides/_rels/slide84.xml.rels" ContentType="application/vnd.openxmlformats-package.relationships+xml"/>
  <Override PartName="/ppt/slides/_rels/slide264.xml.rels" ContentType="application/vnd.openxmlformats-package.relationships+xml"/>
  <Override PartName="/ppt/slides/_rels/slide117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281.xml.rels" ContentType="application/vnd.openxmlformats-package.relationships+xml"/>
  <Override PartName="/ppt/slides/_rels/slide276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68.xml.rels" ContentType="application/vnd.openxmlformats-package.relationships+xml"/>
  <Override PartName="/ppt/slides/_rels/slide1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9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96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95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20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289.xml.rels" ContentType="application/vnd.openxmlformats-package.relationships+xml"/>
  <Override PartName="/ppt/slides/_rels/slide14.xml.rels" ContentType="application/vnd.openxmlformats-package.relationships+xml"/>
  <Override PartName="/ppt/slides/_rels/slide207.xml.rels" ContentType="application/vnd.openxmlformats-package.relationships+xml"/>
  <Override PartName="/ppt/slides/_rels/slide290.xml.rels" ContentType="application/vnd.openxmlformats-package.relationships+xml"/>
  <Override PartName="/ppt/slides/_rels/slide186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91.xml.rels" ContentType="application/vnd.openxmlformats-package.relationships+xml"/>
  <Override PartName="/ppt/slides/_rels/slide208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0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36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3.xml.rels" ContentType="application/vnd.openxmlformats-package.relationships+xml"/>
  <Override PartName="/ppt/slides/_rels/slide16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37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138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164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180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66.xml" ContentType="application/vnd.openxmlformats-officedocument.presentationml.slide+xml"/>
  <Override PartName="/ppt/slides/slide68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122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00.xml" ContentType="application/vnd.openxmlformats-officedocument.presentationml.slide+xml"/>
  <Override PartName="/ppt/slides/slide101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03.xml" ContentType="application/vnd.openxmlformats-officedocument.presentationml.slide+xml"/>
  <Override PartName="/ppt/slides/slide171.xml" ContentType="application/vnd.openxmlformats-officedocument.presentationml.slide+xml"/>
  <Override PartName="/ppt/slides/slide75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2.xml" ContentType="application/vnd.openxmlformats-officedocument.presentationml.slide+xml"/>
  <Override PartName="/ppt/slides/slide273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2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279.xml" ContentType="application/vnd.openxmlformats-officedocument.presentationml.slide+xml"/>
  <Override PartName="/ppt/slides/slide23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82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18.xml" ContentType="application/vnd.openxmlformats-officedocument.presentationml.slide+xml"/>
  <Override PartName="/ppt/slides/slide283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284.xml" ContentType="application/vnd.openxmlformats-officedocument.presentationml.slide+xml"/>
  <Override PartName="/ppt/slides/slide298.xml" ContentType="application/vnd.openxmlformats-officedocument.presentationml.slide+xml"/>
  <Override PartName="/ppt/slides/slide261.xml" ContentType="application/vnd.openxmlformats-officedocument.presentationml.slide+xml"/>
  <Override PartName="/ppt/slides/slide297.xml" ContentType="application/vnd.openxmlformats-officedocument.presentationml.slide+xml"/>
  <Override PartName="/ppt/slides/slide260.xml" ContentType="application/vnd.openxmlformats-officedocument.presentationml.slide+xml"/>
  <Override PartName="/ppt/slides/slide296.xml" ContentType="application/vnd.openxmlformats-officedocument.presentationml.slide+xml"/>
  <Override PartName="/ppt/slides/slide295.xml" ContentType="application/vnd.openxmlformats-officedocument.presentationml.slide+xml"/>
  <Override PartName="/ppt/slides/slide294.xml" ContentType="application/vnd.openxmlformats-officedocument.presentationml.slide+xml"/>
  <Override PartName="/ppt/slides/slide293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292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291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290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7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289.xml" ContentType="application/vnd.openxmlformats-officedocument.presentationml.slide+xml"/>
  <Override PartName="/ppt/slides/slide286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288.xml" ContentType="application/vnd.openxmlformats-officedocument.presentationml.slide+xml"/>
  <Override PartName="/ppt/slides/slide285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143.xml" ContentType="application/vnd.openxmlformats-officedocument.presentationml.slide+xml"/>
  <Override PartName="/ppt/slides/slide12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13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168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216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7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226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7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405-BF57-4348-A825-56C53B72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56D-ED43-4DDF-893F-D4B36109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23D-2D72-44FA-9616-26DB7D51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95E-52E1-4E5B-823E-3BE7EE27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CB30-816C-4B4C-85B7-D37971BC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17F5-4B31-44D5-B93C-ECD4CBAD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9D79-875F-440E-B427-7F562221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7E4E-0AE4-4C33-A41C-63FAFE9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F07E-8049-4A4A-8F46-3DA154C1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A3B1-F446-47F7-ACE9-B4F39904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6A8B-5E88-4C9A-9AA1-CB48DAF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945-8622-4417-B5EE-C14D2B78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FB37-9E99-458E-8B9B-67DE0DB2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9213-A411-4AA5-AE0A-C46F07F6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F4E9-9A2F-4CBE-963E-DCD32704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1E08-BDC1-444B-92E3-429EC830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11F4-684C-405D-97E2-F8B4A0FB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A87-FD8F-40FE-ACF1-1107988D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CAE-F7CC-4251-9F1F-C516BFFB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495-4CCB-4209-8F0A-73FEBA35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F5D-2F84-46DE-A129-FCEB402C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015-D72C-4C0A-BEA6-F0CBEF0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16C-7FDE-4BCE-B11E-CBDB7E1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2F6-9D41-4AAB-8708-D55310D2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BE37-76AE-4097-89FA-F760208717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100-5ED6-424A-BAFD-2377600F96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als.info/" TargetMode="External"/><Relationship Id="rId2" Type="http://schemas.openxmlformats.org/officeDocument/2006/relationships/hyperlink" Target="http://wals.info/" TargetMode="External"/><Relationship Id="rId3" Type="http://schemas.openxmlformats.org/officeDocument/2006/relationships/hyperlink" Target="http://wals.info/" TargetMode="External"/><Relationship Id="rId4" Type="http://schemas.openxmlformats.org/officeDocument/2006/relationships/hyperlink" Target="http://wals.info/" TargetMode="External"/><Relationship Id="rId5" Type="http://schemas.openxmlformats.org/officeDocument/2006/relationships/hyperlink" Target="http://wals.info/" TargetMode="Externa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orrowing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nything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oes,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ut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ithin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imits</a:t>
            </a:r>
            <a:r>
              <a:rPr b="1" lang="nl-NL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47640" y="5013000"/>
            <a:ext cx="604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ahoma"/>
              </a:rPr>
              <a:t>Dik Bak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cc"/>
                </a:solidFill>
                <a:latin typeface="Tahoma"/>
              </a:rPr>
              <a:t>Lancaster Univers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08880" y="3352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n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a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09080" y="1996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265600">
            <a:off x="1331640" y="249228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4B9-7F41-43BD-B583-2EA3C73BE4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283760" y="2128680"/>
            <a:ext cx="21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C28-990A-42C1-B80E-AD5AF9F5327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1130760" y="2133720"/>
            <a:ext cx="6806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804-F1C0-45BE-BD13-5BB4BCAD835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042920" y="409680"/>
            <a:ext cx="7416720" cy="5972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 rot="3412200">
            <a:off x="4786560" y="3933000"/>
            <a:ext cx="5050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32360" y="299736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10d4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C05-8E39-4686-BDD6-7BCDFD06E41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30760" y="2133720"/>
            <a:ext cx="68065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C23-8FE7-4B67-9A9A-D62B5E27A64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1130760" y="2133720"/>
            <a:ext cx="68065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/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2DA-8C26-45D8-B24B-B61CF7E450E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1130760" y="2133720"/>
            <a:ext cx="68065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/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d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8C0-04DA-4969-8118-B8D9117322F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1130760" y="2133720"/>
            <a:ext cx="68065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/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d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ini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E2E-3D50-44F8-B49B-C7686AAD3A8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1130760" y="2133720"/>
            <a:ext cx="68065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 Ot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o-Mangue (Querétaro, Mex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9 dialects, 2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/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d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ini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id: only V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 , n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640-02F3-413F-ACD0-D84F1512607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1241640" y="2217600"/>
            <a:ext cx="74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d-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nduxte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RES.1-DET.SG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bad’ (&gt; I am the bad one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9F3-5A25-4D5B-8A7A-E625CAC0752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241640" y="2217600"/>
            <a:ext cx="7495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d-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nduxte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RES.1-DET.SG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bad’ (&gt; I am the bad one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i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i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.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ill’ (&gt; I am illing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intra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9F5-FF3A-4274-B205-FA20960BAE7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81520" y="3352680"/>
            <a:ext cx="51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n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a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2 (Minority langu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3600" y="199692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 (Mandar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265600">
            <a:off x="1331640" y="249228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AE3-70EF-47F8-A073-0050EA2996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241640" y="2217600"/>
            <a:ext cx="74959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d-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nduxte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RES.1-DET.SG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bad’ (&gt; I am the bad one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i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i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.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ill’ (&gt; I am illing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intra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xi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nts’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t’i-gi</a:t>
            </a:r>
            <a:r>
              <a:rPr b="1" i="1" lang="es-E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F.3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lim-1.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am slim’ (&gt; It has slimmed me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B42-4161-47B7-81D7-4073174BDD6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1071000" y="213372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1A4-E5E0-42C5-B2E9-7278375C71F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1071000" y="2133720"/>
            <a:ext cx="264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53A-DD3A-4204-9F01-984D8024577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935000" y="260280"/>
            <a:ext cx="5589720" cy="61930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287880" y="1246320"/>
            <a:ext cx="1331640" cy="2493720"/>
          </a:xfrm>
          <a:custGeom>
            <a:avLst/>
            <a:gdLst/>
            <a:ahLst/>
            <a:rect l="l" t="t" r="r" b="b"/>
            <a:pathLst>
              <a:path w="839" h="1571">
                <a:moveTo>
                  <a:pt x="310" y="60"/>
                </a:moveTo>
                <a:cubicBezTo>
                  <a:pt x="265" y="22"/>
                  <a:pt x="121" y="0"/>
                  <a:pt x="83" y="60"/>
                </a:cubicBezTo>
                <a:cubicBezTo>
                  <a:pt x="45" y="120"/>
                  <a:pt x="0" y="256"/>
                  <a:pt x="83" y="422"/>
                </a:cubicBezTo>
                <a:cubicBezTo>
                  <a:pt x="166" y="588"/>
                  <a:pt x="491" y="875"/>
                  <a:pt x="582" y="1057"/>
                </a:cubicBezTo>
                <a:cubicBezTo>
                  <a:pt x="673" y="1239"/>
                  <a:pt x="590" y="1451"/>
                  <a:pt x="628" y="1511"/>
                </a:cubicBezTo>
                <a:cubicBezTo>
                  <a:pt x="666" y="1571"/>
                  <a:pt x="779" y="1496"/>
                  <a:pt x="809" y="1420"/>
                </a:cubicBezTo>
                <a:cubicBezTo>
                  <a:pt x="839" y="1344"/>
                  <a:pt x="824" y="1148"/>
                  <a:pt x="809" y="1057"/>
                </a:cubicBezTo>
                <a:cubicBezTo>
                  <a:pt x="794" y="966"/>
                  <a:pt x="771" y="944"/>
                  <a:pt x="718" y="876"/>
                </a:cubicBezTo>
                <a:cubicBezTo>
                  <a:pt x="665" y="808"/>
                  <a:pt x="551" y="747"/>
                  <a:pt x="491" y="649"/>
                </a:cubicBezTo>
                <a:cubicBezTo>
                  <a:pt x="431" y="551"/>
                  <a:pt x="385" y="384"/>
                  <a:pt x="355" y="286"/>
                </a:cubicBezTo>
                <a:cubicBezTo>
                  <a:pt x="325" y="188"/>
                  <a:pt x="355" y="98"/>
                  <a:pt x="310" y="6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651640" y="5661000"/>
            <a:ext cx="1800000" cy="720720"/>
          </a:xfrm>
          <a:prstGeom prst="rect">
            <a:avLst/>
          </a:prstGeom>
          <a:solidFill>
            <a:srgbClr val="ad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897-550F-42C4-A075-EF0933AED80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962280" y="2133720"/>
            <a:ext cx="7067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our variety from 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E61-895A-4E78-A269-89F8E4F7066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1024200" y="2133720"/>
            <a:ext cx="55497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dialects/langu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.5 million P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.5 million Bol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1.5 million Ecu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65.000 Argentina+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DEB-A002-402D-BBB7-30EA7DA5E57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969840" y="2060640"/>
            <a:ext cx="66740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B63-E856-45AD-9CFF-0B87AB6B338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969840" y="2060640"/>
            <a:ext cx="66740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AD9-F659-4DB0-A276-6136D3DD6F6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969840" y="2060640"/>
            <a:ext cx="667404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182-D2D8-4423-B7A3-F03E4213D4E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969840" y="2060640"/>
            <a:ext cx="66740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2. Quec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ean (Ec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5 varieties, 8.5 million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le: V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 ~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89F-6D21-43AF-8705-B752940D2854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738800">
            <a:off x="1402920" y="285228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80D-0788-431D-9C9C-A828A3D201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781280" y="2360520"/>
            <a:ext cx="50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rika-sha-ka: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i-FI" sz="2400" spc="-1" strike="noStrike">
                <a:solidFill>
                  <a:srgbClr val="ff0000"/>
                </a:solidFill>
                <a:latin typeface="Tahoma"/>
              </a:rPr>
              <a:t>hatun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-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see-PAST-1SG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big-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saw the big one’ ( &gt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34E-1D7F-443B-896B-CCA8AED5A0DF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"/>
          <p:cNvSpPr/>
          <p:nvPr/>
        </p:nvSpPr>
        <p:spPr>
          <a:xfrm>
            <a:off x="1781280" y="2360520"/>
            <a:ext cx="501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rika-sha-ka: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i-FI" sz="2400" spc="-1" strike="noStrike">
                <a:solidFill>
                  <a:srgbClr val="ff0000"/>
                </a:solidFill>
                <a:latin typeface="Tahoma"/>
              </a:rPr>
              <a:t>hatun</a:t>
            </a:r>
            <a:r>
              <a:rPr b="1" i="1" lang="fi-FI" sz="2400" spc="-1" strike="noStrike">
                <a:solidFill>
                  <a:srgbClr val="000000"/>
                </a:solidFill>
                <a:latin typeface="Tahoma"/>
              </a:rPr>
              <a:t>-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see-PAST-1SG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ahoma"/>
              </a:rPr>
              <a:t>big-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saw the big one’ ( &gt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hay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2400" spc="-1" strike="noStrike">
                <a:solidFill>
                  <a:srgbClr val="ff0000"/>
                </a:solidFill>
                <a:latin typeface="Tahoma"/>
              </a:rPr>
              <a:t>hatun</a:t>
            </a:r>
            <a:r>
              <a:rPr b="1" i="1" lang="de-DE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de-DE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M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ig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at big man’ ( &gt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928-AA2B-4144-9024-757D65119F7B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1061280" y="2133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9D8-A084-4289-8090-E433AAE7FEA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1065600" y="2133720"/>
            <a:ext cx="3461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17C-2400-4CD8-B422-D5D453976E37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935000" y="260280"/>
            <a:ext cx="5589720" cy="61930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4643280" y="2997360"/>
            <a:ext cx="911520" cy="865080"/>
          </a:xfrm>
          <a:custGeom>
            <a:avLst/>
            <a:gdLst/>
            <a:ahLst/>
            <a:rect l="l" t="t" r="r" b="b"/>
            <a:pathLst>
              <a:path w="574" h="545">
                <a:moveTo>
                  <a:pt x="287" y="23"/>
                </a:moveTo>
                <a:cubicBezTo>
                  <a:pt x="378" y="46"/>
                  <a:pt x="544" y="303"/>
                  <a:pt x="559" y="386"/>
                </a:cubicBezTo>
                <a:cubicBezTo>
                  <a:pt x="574" y="469"/>
                  <a:pt x="469" y="545"/>
                  <a:pt x="378" y="522"/>
                </a:cubicBezTo>
                <a:cubicBezTo>
                  <a:pt x="287" y="499"/>
                  <a:pt x="30" y="333"/>
                  <a:pt x="15" y="250"/>
                </a:cubicBezTo>
                <a:cubicBezTo>
                  <a:pt x="0" y="167"/>
                  <a:pt x="196" y="0"/>
                  <a:pt x="287" y="23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FA9-58AF-4EB9-B666-8F77F0DDD89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>
            <a:off x="1062720" y="2133720"/>
            <a:ext cx="69285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: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official language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F12-443D-4864-8C78-A7E6B09C9FB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969120" y="2133720"/>
            <a:ext cx="73108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8F3-F47E-4CEF-AB5A-607FE79D663D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969120" y="2176560"/>
            <a:ext cx="73108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433-76A2-4788-B860-D133038FCA8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969120" y="2133720"/>
            <a:ext cx="73108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2AE-C427-4A3F-B94C-2CE2362EF98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969120" y="2133720"/>
            <a:ext cx="73108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579-19D8-4CB2-91DD-0E8995205D85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7760" y="2076480"/>
            <a:ext cx="100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1240" y="3429000"/>
            <a:ext cx="3512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Many languages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512600">
            <a:off x="1547280" y="285264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608-8331-4B0A-A17F-76E96660A4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969120" y="2133720"/>
            <a:ext cx="73108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3. Guar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pi (Paragu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4.7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le: V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 ~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2BB-9765-4124-ABE4-09EBAE52BA0D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>
            <a:off x="1457280" y="2360520"/>
            <a:ext cx="749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6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he-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vy’á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-recha-re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SG.POSS-happ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ACC-see-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am happy to see you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&gt; my happiness of seeing you; &gt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583-8B1C-462A-B8D0-0382965B98B1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1457280" y="236052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6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he-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vy’á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-recha-reh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SG.POSS-happ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ACC-see-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am happy to see you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&gt; my happiness of seeing you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7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vy’á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-recha-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SG-happ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ACC-see-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am happy to see you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 &gt; happy me when I see you;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997-3BA7-4186-9496-75C5757E113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1043640" y="1844640"/>
            <a:ext cx="35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FD2-F962-4358-BB9F-7802BEEB01A6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978120" y="1844640"/>
            <a:ext cx="76752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in Americ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;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93E-2D4A-4944-A19D-B68C73DA498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292480" y="189000"/>
            <a:ext cx="5087880" cy="6480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556000" y="4737240"/>
            <a:ext cx="1704960" cy="1428480"/>
          </a:xfrm>
          <a:custGeom>
            <a:avLst/>
            <a:gdLst/>
            <a:ahLst/>
            <a:rect l="l" t="t" r="r" b="b"/>
            <a:pathLst>
              <a:path w="1074" h="900">
                <a:moveTo>
                  <a:pt x="121" y="15"/>
                </a:moveTo>
                <a:cubicBezTo>
                  <a:pt x="53" y="30"/>
                  <a:pt x="0" y="114"/>
                  <a:pt x="30" y="152"/>
                </a:cubicBezTo>
                <a:cubicBezTo>
                  <a:pt x="60" y="190"/>
                  <a:pt x="294" y="151"/>
                  <a:pt x="302" y="242"/>
                </a:cubicBezTo>
                <a:cubicBezTo>
                  <a:pt x="310" y="333"/>
                  <a:pt x="38" y="590"/>
                  <a:pt x="76" y="696"/>
                </a:cubicBezTo>
                <a:cubicBezTo>
                  <a:pt x="114" y="802"/>
                  <a:pt x="416" y="900"/>
                  <a:pt x="529" y="877"/>
                </a:cubicBezTo>
                <a:cubicBezTo>
                  <a:pt x="642" y="854"/>
                  <a:pt x="680" y="598"/>
                  <a:pt x="756" y="560"/>
                </a:cubicBezTo>
                <a:cubicBezTo>
                  <a:pt x="832" y="522"/>
                  <a:pt x="930" y="659"/>
                  <a:pt x="983" y="651"/>
                </a:cubicBezTo>
                <a:cubicBezTo>
                  <a:pt x="1036" y="643"/>
                  <a:pt x="1074" y="574"/>
                  <a:pt x="1074" y="514"/>
                </a:cubicBezTo>
                <a:cubicBezTo>
                  <a:pt x="1074" y="454"/>
                  <a:pt x="1051" y="348"/>
                  <a:pt x="983" y="288"/>
                </a:cubicBezTo>
                <a:cubicBezTo>
                  <a:pt x="915" y="228"/>
                  <a:pt x="741" y="152"/>
                  <a:pt x="665" y="152"/>
                </a:cubicBezTo>
                <a:cubicBezTo>
                  <a:pt x="589" y="152"/>
                  <a:pt x="567" y="303"/>
                  <a:pt x="529" y="288"/>
                </a:cubicBezTo>
                <a:cubicBezTo>
                  <a:pt x="491" y="273"/>
                  <a:pt x="507" y="106"/>
                  <a:pt x="439" y="61"/>
                </a:cubicBezTo>
                <a:cubicBezTo>
                  <a:pt x="371" y="16"/>
                  <a:pt x="189" y="0"/>
                  <a:pt x="121" y="15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726-0160-456D-9D2F-23961E541E9D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124000" y="214200"/>
            <a:ext cx="4921200" cy="645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003400" y="79200"/>
            <a:ext cx="3816360" cy="6661440"/>
          </a:xfrm>
          <a:custGeom>
            <a:avLst/>
            <a:gdLst/>
            <a:ahLst/>
            <a:rect l="l" t="t" r="r" b="b"/>
            <a:pathLst>
              <a:path w="2404" h="4196">
                <a:moveTo>
                  <a:pt x="30" y="386"/>
                </a:moveTo>
                <a:cubicBezTo>
                  <a:pt x="60" y="515"/>
                  <a:pt x="197" y="719"/>
                  <a:pt x="303" y="795"/>
                </a:cubicBezTo>
                <a:cubicBezTo>
                  <a:pt x="409" y="871"/>
                  <a:pt x="514" y="772"/>
                  <a:pt x="665" y="840"/>
                </a:cubicBezTo>
                <a:cubicBezTo>
                  <a:pt x="816" y="908"/>
                  <a:pt x="1150" y="1090"/>
                  <a:pt x="1210" y="1203"/>
                </a:cubicBezTo>
                <a:cubicBezTo>
                  <a:pt x="1270" y="1316"/>
                  <a:pt x="975" y="1346"/>
                  <a:pt x="1028" y="1520"/>
                </a:cubicBezTo>
                <a:cubicBezTo>
                  <a:pt x="1081" y="1694"/>
                  <a:pt x="1489" y="1853"/>
                  <a:pt x="1527" y="2246"/>
                </a:cubicBezTo>
                <a:cubicBezTo>
                  <a:pt x="1565" y="2639"/>
                  <a:pt x="1194" y="3562"/>
                  <a:pt x="1255" y="3879"/>
                </a:cubicBezTo>
                <a:cubicBezTo>
                  <a:pt x="1316" y="4196"/>
                  <a:pt x="1799" y="4166"/>
                  <a:pt x="1890" y="4151"/>
                </a:cubicBezTo>
                <a:cubicBezTo>
                  <a:pt x="1981" y="4136"/>
                  <a:pt x="1731" y="4007"/>
                  <a:pt x="1799" y="3788"/>
                </a:cubicBezTo>
                <a:cubicBezTo>
                  <a:pt x="1867" y="3569"/>
                  <a:pt x="2245" y="3025"/>
                  <a:pt x="2298" y="2836"/>
                </a:cubicBezTo>
                <a:cubicBezTo>
                  <a:pt x="2351" y="2647"/>
                  <a:pt x="2109" y="2722"/>
                  <a:pt x="2117" y="2654"/>
                </a:cubicBezTo>
                <a:cubicBezTo>
                  <a:pt x="2125" y="2586"/>
                  <a:pt x="2404" y="2579"/>
                  <a:pt x="2344" y="2428"/>
                </a:cubicBezTo>
                <a:cubicBezTo>
                  <a:pt x="2284" y="2277"/>
                  <a:pt x="1875" y="1853"/>
                  <a:pt x="1754" y="1747"/>
                </a:cubicBezTo>
                <a:cubicBezTo>
                  <a:pt x="1633" y="1641"/>
                  <a:pt x="1671" y="1807"/>
                  <a:pt x="1618" y="1792"/>
                </a:cubicBezTo>
                <a:cubicBezTo>
                  <a:pt x="1565" y="1777"/>
                  <a:pt x="1430" y="1724"/>
                  <a:pt x="1437" y="1656"/>
                </a:cubicBezTo>
                <a:cubicBezTo>
                  <a:pt x="1444" y="1588"/>
                  <a:pt x="1580" y="1444"/>
                  <a:pt x="1663" y="1384"/>
                </a:cubicBezTo>
                <a:cubicBezTo>
                  <a:pt x="1746" y="1324"/>
                  <a:pt x="1876" y="1377"/>
                  <a:pt x="1936" y="1294"/>
                </a:cubicBezTo>
                <a:cubicBezTo>
                  <a:pt x="1996" y="1211"/>
                  <a:pt x="2109" y="961"/>
                  <a:pt x="2026" y="885"/>
                </a:cubicBezTo>
                <a:cubicBezTo>
                  <a:pt x="1943" y="809"/>
                  <a:pt x="1543" y="878"/>
                  <a:pt x="1437" y="840"/>
                </a:cubicBezTo>
                <a:cubicBezTo>
                  <a:pt x="1331" y="802"/>
                  <a:pt x="1384" y="720"/>
                  <a:pt x="1391" y="659"/>
                </a:cubicBezTo>
                <a:cubicBezTo>
                  <a:pt x="1398" y="598"/>
                  <a:pt x="1542" y="522"/>
                  <a:pt x="1482" y="477"/>
                </a:cubicBezTo>
                <a:cubicBezTo>
                  <a:pt x="1422" y="432"/>
                  <a:pt x="1126" y="386"/>
                  <a:pt x="1028" y="386"/>
                </a:cubicBezTo>
                <a:cubicBezTo>
                  <a:pt x="930" y="386"/>
                  <a:pt x="952" y="447"/>
                  <a:pt x="892" y="477"/>
                </a:cubicBezTo>
                <a:cubicBezTo>
                  <a:pt x="832" y="507"/>
                  <a:pt x="718" y="553"/>
                  <a:pt x="665" y="568"/>
                </a:cubicBezTo>
                <a:cubicBezTo>
                  <a:pt x="612" y="583"/>
                  <a:pt x="590" y="621"/>
                  <a:pt x="575" y="568"/>
                </a:cubicBezTo>
                <a:cubicBezTo>
                  <a:pt x="560" y="515"/>
                  <a:pt x="651" y="341"/>
                  <a:pt x="575" y="250"/>
                </a:cubicBezTo>
                <a:cubicBezTo>
                  <a:pt x="499" y="159"/>
                  <a:pt x="212" y="0"/>
                  <a:pt x="121" y="23"/>
                </a:cubicBezTo>
                <a:cubicBezTo>
                  <a:pt x="30" y="46"/>
                  <a:pt x="0" y="257"/>
                  <a:pt x="30" y="386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E63-BEDE-41D5-938C-C5AA2EFC34CA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1028160" y="1844640"/>
            <a:ext cx="79768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CA2-F8EC-4587-BE31-11E964E6340D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028160" y="1844640"/>
            <a:ext cx="79768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773-4B17-4251-A752-C1A1A4799EF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1028160" y="1844640"/>
            <a:ext cx="79768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55A-7BE2-43FD-AB5D-FC2E7FE07E51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7760" y="2076480"/>
            <a:ext cx="100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512600">
            <a:off x="1547280" y="285264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1240" y="3429000"/>
            <a:ext cx="3512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Many languages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37B-F20C-4C4B-9181-33C3FC35C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1028160" y="1844640"/>
            <a:ext cx="79768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 and Indef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140-F6F0-4672-87BB-1F2E3AC93A5E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1028160" y="1844640"/>
            <a:ext cx="79768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 and Indef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verbal 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C77-7EF9-4C17-B5C7-4DC231AFDEC0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>
            <a:off x="395280" y="2276640"/>
            <a:ext cx="811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o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mo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ay 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ier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might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estoy 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nd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am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do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27D-F837-4C56-829B-C7D27DCFAFE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2276640"/>
            <a:ext cx="811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o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mo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ay 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ier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might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estoy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nd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am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do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551-A1AE-4B7C-A0FE-13342F609E71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2276640"/>
            <a:ext cx="811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o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mo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ay 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ier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might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estoy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nd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am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do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92360" y="3357720"/>
            <a:ext cx="5327640" cy="50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305-0080-4FE5-AC68-B536EC7966E7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028160" y="1844640"/>
            <a:ext cx="797688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ource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-European (Spain; LatAm; USA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alects,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260.000.000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f and Indef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lex verbal 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ized: V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8F9-6FB3-4A1C-AFD3-AC1351BD6425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2801880"/>
            <a:ext cx="81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 (N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8B0-E165-4943-84D9-DA1C6160B32D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95280" y="2801880"/>
            <a:ext cx="81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 (N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os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43280" y="292428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E3D-D375-4E85-B001-7777B9FBF9AC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2801880"/>
            <a:ext cx="811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 (N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os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10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co (A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ich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43280" y="292428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EBF-D5FB-4455-9811-81F2F4959B17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2801880"/>
            <a:ext cx="811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 (N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nt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ñ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os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ountain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10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co (A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qu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eza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ich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ich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43280" y="292428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643280" y="436392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E8D-33A6-4B45-9BA5-381EAC2A7FF5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7760" y="2076480"/>
            <a:ext cx="100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4222800"/>
            <a:ext cx="14436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6200" y="5172120"/>
            <a:ext cx="2442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00"/>
                </a:solidFill>
                <a:latin typeface="Tahoma"/>
              </a:rPr>
              <a:t>(mainly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512600">
            <a:off x="1547280" y="285264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71240" y="3429000"/>
            <a:ext cx="3512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Many languages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EAF-16D2-47EA-8222-8DCAA0BF7E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50920" y="2233440"/>
          <a:ext cx="8640720" cy="3716640"/>
        </p:xfrm>
        <a:graphic>
          <a:graphicData uri="http://schemas.openxmlformats.org/drawingml/2006/table">
            <a:tbl>
              <a:tblPr/>
              <a:tblGrid>
                <a:gridCol w="2089080"/>
                <a:gridCol w="1512720"/>
                <a:gridCol w="1559160"/>
                <a:gridCol w="1681200"/>
                <a:gridCol w="179856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 + In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of Spe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 / N /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A97-E2B6-4878-8A59-F2BFB80105CC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250920" y="2233440"/>
          <a:ext cx="8640720" cy="3716640"/>
        </p:xfrm>
        <a:graphic>
          <a:graphicData uri="http://schemas.openxmlformats.org/drawingml/2006/table">
            <a:tbl>
              <a:tblPr/>
              <a:tblGrid>
                <a:gridCol w="2089080"/>
                <a:gridCol w="1512720"/>
                <a:gridCol w="1559160"/>
                <a:gridCol w="1681200"/>
                <a:gridCol w="179856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 + In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of Spe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 / N /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438-2202-4BCA-9E38-ADAD33EB46AA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50920" y="2233440"/>
          <a:ext cx="8640720" cy="3716640"/>
        </p:xfrm>
        <a:graphic>
          <a:graphicData uri="http://schemas.openxmlformats.org/drawingml/2006/table">
            <a:tbl>
              <a:tblPr/>
              <a:tblGrid>
                <a:gridCol w="2089080"/>
                <a:gridCol w="1512720"/>
                <a:gridCol w="1559160"/>
                <a:gridCol w="1681200"/>
                <a:gridCol w="179856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 + In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of Spe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 / N /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+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4D4-BA6E-4C80-A546-7033FCAC639F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250920" y="2233440"/>
          <a:ext cx="8640720" cy="3716640"/>
        </p:xfrm>
        <a:graphic>
          <a:graphicData uri="http://schemas.openxmlformats.org/drawingml/2006/table">
            <a:tbl>
              <a:tblPr/>
              <a:tblGrid>
                <a:gridCol w="2089080"/>
                <a:gridCol w="1512720"/>
                <a:gridCol w="1559160"/>
                <a:gridCol w="1681200"/>
                <a:gridCol w="179856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RA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CH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 + In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f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of Spe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 / N /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+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 / N+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4C1-24F9-492A-8B38-E1CE8D9FE0BB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206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4.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1116000" y="247176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D3A-0617-4887-88FD-5F63D4F1D77E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1180080" y="2471760"/>
            <a:ext cx="405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EFA-D530-4563-AD3C-0A6BC1D3C556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1116000" y="2471760"/>
            <a:ext cx="658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963-88B5-4CC2-B364-8F3334841191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1118520" y="2471760"/>
            <a:ext cx="77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00cc00"/>
                </a:solidFill>
                <a:uFillTx/>
                <a:latin typeface="Tahoma"/>
              </a:rPr>
              <a:t>Guar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57,8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0EC-33CE-4564-8B83-FC5342169DFD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1118520" y="2471760"/>
            <a:ext cx="77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Otomí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3333cc"/>
                </a:solidFill>
                <a:uFillTx/>
                <a:latin typeface="Tahoma"/>
              </a:rPr>
              <a:t>Quechua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 u="sng">
                <a:solidFill>
                  <a:srgbClr val="00cc00"/>
                </a:solidFill>
                <a:uFillTx/>
                <a:latin typeface="Tahoma"/>
              </a:rPr>
              <a:t>Guar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onden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9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38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alect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ken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10,540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79,718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1" lang="nl-NL" sz="2400" spc="-1" strike="noStrike">
                <a:solidFill>
                  <a:srgbClr val="00cc00"/>
                </a:solidFill>
                <a:latin typeface="Tahoma"/>
              </a:rPr>
              <a:t>57,8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08360" y="2997360"/>
            <a:ext cx="4608720" cy="158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F45-9343-4B52-9E30-598BCC502B81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50280" y="2076480"/>
            <a:ext cx="10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02200" y="321300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Quichua (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738800">
            <a:off x="1402920" y="285228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1CC-B809-4612-B63D-5A8F72FF4C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674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1D0-9260-4A13-9294-0BD110D01394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693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9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3419640" y="1989000"/>
            <a:ext cx="2736720" cy="100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219280" y="404640"/>
            <a:ext cx="863640" cy="13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4C5-292F-4FD7-A876-D845675ABFC5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14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0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6084720" y="1989000"/>
            <a:ext cx="2808360" cy="100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7811640" y="404640"/>
            <a:ext cx="863640" cy="13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198-5787-46B5-8A35-E87EE1E0ECBF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35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1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50920" y="2276640"/>
            <a:ext cx="10810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11280" y="292428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7C6-8F73-4197-A464-308F1CF77C26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56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sapo 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sapo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ko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sapo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bot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sapo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bota 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2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4788000" y="299556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8243640" y="765000"/>
            <a:ext cx="2156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D75-E60A-4F92-A54D-FC0DC09932EA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77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niño está viendo (-) el perro, el perro está viendo (-) el ... el sapo, su camisa está tirado 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niño está dormido con su perro y su camisa está tirado ahí. El sapo ya salió (-)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ya se despiertó con su perro. Y el ... su camisa está tirado 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está buscando (-) su ... su sapo. El perro se metió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perro se metió su cabeza en el ... la botella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... el perro se cayó. El niño está somando 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611280" y="292428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9FF-2BCE-4634-99EE-872DE8D9E1B9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797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r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niño está viend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perro, el perro está viend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l ... el sapo,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en el suel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niño está dormido con su perro y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ahí. El sapo ya salió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ya se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despiert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con su perro. Y el ... su camisa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ira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ahí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niño está buscand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(-)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u ... su sapo. El perr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la cabeza en la botell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perro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e metió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u cabeza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en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el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...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la botella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y el niño está gritand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El ... el ... el perro se cayó. El niño está 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somando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la ventana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4788000" y="292428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4DD-ECB0-4FF0-85AF-2B00923458A2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731520" y="242100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 collected to ass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A8D-D66E-4F82-B916-3285B9356CE2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748800" y="2421000"/>
            <a:ext cx="655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 collected to ass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vel of bilingualism (individual;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CEF-EFB1-4642-82A4-CDB5D8A67961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732600" y="2421000"/>
            <a:ext cx="80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 collected to ass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Level of bilingu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fluence of Target language o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348000" y="4365720"/>
            <a:ext cx="3960720" cy="863640"/>
          </a:xfrm>
          <a:custGeom>
            <a:avLst/>
            <a:gdLst>
              <a:gd name="textAreaLeft" fmla="*/ 693000 w 3960720"/>
              <a:gd name="textAreaRight" fmla="*/ 2871720 w 39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480-7615-4CF6-B511-76DC7DBE5BAC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468120" y="5189400"/>
            <a:ext cx="241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relex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0280" y="2076480"/>
            <a:ext cx="10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4005360"/>
            <a:ext cx="504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738800">
            <a:off x="1402920" y="285228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02200" y="321300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Quichua (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BEE-43D0-46C7-9B87-5A42E6B81B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ata collec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732600" y="2421000"/>
            <a:ext cx="802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panish collected to ass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Level of bilingu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Influence of Target language o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udy the local variety of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F7B-9788-4183-94F7-184C63FB6218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609480" y="1981080"/>
            <a:ext cx="8305560" cy="4495680"/>
            <a:chOff x="609480" y="1981080"/>
            <a:chExt cx="8305560" cy="4495680"/>
          </a:xfrm>
        </p:grpSpPr>
        <p:grpSp>
          <p:nvGrpSpPr>
            <p:cNvPr id="826" name=""/>
            <p:cNvGrpSpPr/>
            <p:nvPr/>
          </p:nvGrpSpPr>
          <p:grpSpPr>
            <a:xfrm>
              <a:off x="615960" y="1986840"/>
              <a:ext cx="8291520" cy="4482720"/>
              <a:chOff x="615960" y="1986840"/>
              <a:chExt cx="8291520" cy="4482720"/>
            </a:xfrm>
          </p:grpSpPr>
          <p:grpSp>
            <p:nvGrpSpPr>
              <p:cNvPr id="827" name=""/>
              <p:cNvGrpSpPr/>
              <p:nvPr/>
            </p:nvGrpSpPr>
            <p:grpSpPr>
              <a:xfrm>
                <a:off x="615960" y="1986840"/>
                <a:ext cx="2805840" cy="974160"/>
                <a:chOff x="615960" y="1986840"/>
                <a:chExt cx="2805840" cy="97416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78240" y="1986840"/>
                  <a:ext cx="26809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 corregida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marzo 200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15960" y="1986840"/>
                  <a:ext cx="28058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3422160" y="1986840"/>
                <a:ext cx="2678400" cy="974160"/>
                <a:chOff x="3422160" y="1986840"/>
                <a:chExt cx="2678400" cy="97416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3484800" y="1986840"/>
                  <a:ext cx="25531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a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uana Juárez Pérez (44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422160" y="1986840"/>
                  <a:ext cx="26784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100920" y="1986840"/>
                <a:ext cx="2806200" cy="974160"/>
                <a:chOff x="6100920" y="1986840"/>
                <a:chExt cx="2806200" cy="9741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163560" y="1986840"/>
                  <a:ext cx="26802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trevistador: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swaldo Chaparr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100920" y="1986840"/>
                  <a:ext cx="2806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615960" y="2961360"/>
                <a:ext cx="4145400" cy="3508200"/>
                <a:chOff x="615960" y="2961360"/>
                <a:chExt cx="4145400" cy="350820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678240" y="2961360"/>
                  <a:ext cx="402048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-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Ar bätsi kät’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, 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kät’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o jar xito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bí ‘ñähä ... ähwa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thiza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Ner bätsi ya bí nangi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ko</a:t>
                  </a:r>
                  <a:r>
                    <a:rPr b="0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r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ayu ne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r xito ne bí 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x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ne ‘bond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wa ya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Ar ... ar bätsi honga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sapo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... k’ät ... ya ‘b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ár </a:t>
                  </a:r>
                  <a:r>
                    <a:rPr b="1" i="1" lang="nl-NL" sz="16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bota</a:t>
                  </a:r>
                  <a:r>
                    <a:rPr b="1" i="1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ne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bí fot’ár ñä jar xito ... ne ar bätsi ya bí nangi ... ya bí nangi ... ne nör tx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k</a:t>
                  </a:r>
                  <a:r>
                    <a:rPr b="0" lang="nl-NL" sz="16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Times New Roman"/>
                    </a:rPr>
                    <a:t>u</a:t>
                  </a:r>
                  <a:r>
                    <a:rPr b="0" lang="nl-NL" sz="16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 xi fotár ñä jar xito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600" spc="-1" strike="noStrike">
                      <a:solidFill>
                        <a:srgbClr val="3333cc"/>
                      </a:solidFill>
                      <a:latin typeface="Courier New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15960" y="2961360"/>
                  <a:ext cx="414540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4761720" y="2961360"/>
                <a:ext cx="4145760" cy="3508200"/>
                <a:chOff x="4761720" y="2961360"/>
                <a:chExt cx="4145760" cy="35082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4824360" y="2961360"/>
                  <a:ext cx="4019760" cy="35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3333cc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761720" y="2961360"/>
                  <a:ext cx="4145760" cy="350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"/>
            <p:cNvSpPr/>
            <p:nvPr/>
          </p:nvSpPr>
          <p:spPr>
            <a:xfrm>
              <a:off x="609480" y="1981080"/>
              <a:ext cx="830556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4876920" y="3048120"/>
            <a:ext cx="4038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800600" y="2971800"/>
            <a:ext cx="403848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11280" y="2924280"/>
            <a:ext cx="4176720" cy="352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02C-4614-4BC4-9490-BD92BD21B90C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838080" y="220968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ource: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18F-BC5E-444C-92A2-67FEDB29A503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838080" y="2209680"/>
            <a:ext cx="784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urce: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791320" y="3276720"/>
            <a:ext cx="27432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380360" y="220500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2FB-D7DF-4B64-B080-66EDF76B5116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2209680"/>
            <a:ext cx="784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urce: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91320" y="3276720"/>
            <a:ext cx="27432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276720" y="3787920"/>
            <a:ext cx="424800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374200" y="5918040"/>
            <a:ext cx="182520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art 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308720" y="34290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F09-B0D1-43B0-A9A8-51267E71731B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italized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2209680"/>
            <a:ext cx="784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formant: Simon Eleuterio Lucio (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: Ot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urce: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Ne nör 'yo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ja ya ... j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kolmenä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N-HR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Bí kaku jar ... jar ñö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... 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kong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</a:t>
            </a:r>
            <a:r>
              <a:rPr b="1" lang="en-GB" sz="2000" spc="-1" strike="noStrike">
                <a:solidFill>
                  <a:srgbClr val="00cc00"/>
                </a:solidFill>
                <a:latin typeface="Courier New"/>
                <a:ea typeface="MS Mincho"/>
              </a:rPr>
              <a:t>/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a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'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yo mi ... mi hong</a:t>
            </a:r>
            <a:r>
              <a:rPr b="1" lang="nl-NL" sz="2000" spc="-1" strike="noStrike" u="sng">
                <a:solidFill>
                  <a:srgbClr val="3333cc"/>
                </a:solidFill>
                <a:uFillTx/>
                <a:latin typeface="Courier New"/>
                <a:ea typeface="Times New Roman"/>
              </a:rPr>
              <a:t>u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jar 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ask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-HR</a:t>
            </a:r>
            <a:r>
              <a:rPr b="1" lang="nl-NL" sz="2000" spc="-1" strike="noStrike">
                <a:solidFill>
                  <a:srgbClr val="00cc00"/>
                </a:solidFill>
                <a:latin typeface="Courier New"/>
                <a:ea typeface="Times New Roman"/>
              </a:rPr>
              <a:t>/</a:t>
            </a:r>
            <a:r>
              <a:rPr b="1" lang="nl-NL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&lt; . . 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91320" y="3276720"/>
            <a:ext cx="27432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276720" y="3787920"/>
            <a:ext cx="424800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374200" y="5918040"/>
            <a:ext cx="182520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art 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1360" y="5950080"/>
            <a:ext cx="1186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Ot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7164000" y="3789360"/>
            <a:ext cx="792360" cy="20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308720" y="34290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740720" y="342900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098-0B28-4513-98CF-8883CEAD008E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47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5.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876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16C-F985-4448-894E-BDA8FC58FF83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946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7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4FD-7931-4D9F-82D0-B0CADE811739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017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018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8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65760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516-6950-4E8E-931F-BC9C3B2C3567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6468120" y="5189400"/>
            <a:ext cx="241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relex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0280" y="2076480"/>
            <a:ext cx="10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4005360"/>
            <a:ext cx="504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738800">
            <a:off x="1402920" y="285228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0600" y="2997360"/>
            <a:ext cx="2183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Quichua (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e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dia L</a:t>
            </a: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e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ngu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04C-53DB-45F5-8114-BF79004CDD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3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089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0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65760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105520" y="4419720"/>
            <a:ext cx="14475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047-A570-4119-A035-E3B840EDC305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overall (toke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3240" y="1247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40" y="49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240" y="90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40" y="594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40" y="728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746280" y="2274840"/>
            <a:ext cx="5730840" cy="3668760"/>
            <a:chOff x="746280" y="2274840"/>
            <a:chExt cx="5730840" cy="3668760"/>
          </a:xfrm>
        </p:grpSpPr>
        <p:grpSp>
          <p:nvGrpSpPr>
            <p:cNvPr id="1162" name=""/>
            <p:cNvGrpSpPr/>
            <p:nvPr/>
          </p:nvGrpSpPr>
          <p:grpSpPr>
            <a:xfrm>
              <a:off x="750960" y="2279520"/>
              <a:ext cx="5721480" cy="3659400"/>
              <a:chOff x="750960" y="2279520"/>
              <a:chExt cx="5721480" cy="3659400"/>
            </a:xfrm>
          </p:grpSpPr>
          <p:grpSp>
            <p:nvGrpSpPr>
              <p:cNvPr id="1163" name=""/>
              <p:cNvGrpSpPr/>
              <p:nvPr/>
            </p:nvGrpSpPr>
            <p:grpSpPr>
              <a:xfrm>
                <a:off x="750960" y="2279520"/>
                <a:ext cx="1636560" cy="731880"/>
                <a:chOff x="750960" y="2279520"/>
                <a:chExt cx="1636560" cy="7318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795240" y="2279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50960" y="2279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387520" y="2279520"/>
                <a:ext cx="1395720" cy="731880"/>
                <a:chOff x="2387520" y="2279520"/>
                <a:chExt cx="1395720" cy="7318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4321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3875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783240" y="2279520"/>
                <a:ext cx="1293480" cy="731880"/>
                <a:chOff x="3783240" y="2279520"/>
                <a:chExt cx="1293480" cy="7318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827520" y="2279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83240" y="2279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076720" y="2279520"/>
                <a:ext cx="1395720" cy="731880"/>
                <a:chOff x="5076720" y="2279520"/>
                <a:chExt cx="1395720" cy="7318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121360" y="2279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076720" y="2279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750960" y="3011400"/>
                <a:ext cx="1636560" cy="731880"/>
                <a:chOff x="750960" y="3011400"/>
                <a:chExt cx="1636560" cy="7318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795240" y="30114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im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50960" y="30114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2387520" y="3011400"/>
                <a:ext cx="1395720" cy="731880"/>
                <a:chOff x="2387520" y="3011400"/>
                <a:chExt cx="1395720" cy="7318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24321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875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783240" y="3011400"/>
                <a:ext cx="1293480" cy="731880"/>
                <a:chOff x="3783240" y="3011400"/>
                <a:chExt cx="1293480" cy="73188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827520" y="30114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5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783240" y="30114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5076720" y="3011400"/>
                <a:ext cx="1395720" cy="731880"/>
                <a:chOff x="5076720" y="3011400"/>
                <a:chExt cx="1395720" cy="7318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5121360" y="30114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076720" y="30114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750960" y="3743280"/>
                <a:ext cx="1636560" cy="731880"/>
                <a:chOff x="750960" y="3743280"/>
                <a:chExt cx="1636560" cy="7318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795240" y="37432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aximu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50960" y="37432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2387520" y="3743280"/>
                <a:ext cx="1395720" cy="731880"/>
                <a:chOff x="2387520" y="3743280"/>
                <a:chExt cx="1395720" cy="73188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24321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7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875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783240" y="3743280"/>
                <a:ext cx="1293480" cy="731880"/>
                <a:chOff x="3783240" y="3743280"/>
                <a:chExt cx="1293480" cy="73188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827520" y="37432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83240" y="37432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5076720" y="3743280"/>
                <a:ext cx="1395720" cy="731880"/>
                <a:chOff x="5076720" y="3743280"/>
                <a:chExt cx="1395720" cy="73188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121360" y="37432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076720" y="37432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750960" y="4475160"/>
                <a:ext cx="1636560" cy="731880"/>
                <a:chOff x="750960" y="4475160"/>
                <a:chExt cx="1636560" cy="7318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795240" y="44751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50960" y="44751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387520" y="4475160"/>
                <a:ext cx="1395720" cy="731880"/>
                <a:chOff x="2387520" y="4475160"/>
                <a:chExt cx="1395720" cy="7318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4321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8.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875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3783240" y="4475160"/>
                <a:ext cx="1293480" cy="731880"/>
                <a:chOff x="3783240" y="4475160"/>
                <a:chExt cx="1293480" cy="73188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3827520" y="44751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783240" y="44751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076720" y="4475160"/>
                <a:ext cx="1395720" cy="731880"/>
                <a:chOff x="5076720" y="4475160"/>
                <a:chExt cx="1395720" cy="73188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5121360" y="44751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4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14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076720" y="44751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750960" y="5207040"/>
                <a:ext cx="1636560" cy="731880"/>
                <a:chOff x="750960" y="5207040"/>
                <a:chExt cx="1636560" cy="73188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795240" y="52070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50960" y="52070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387520" y="5207040"/>
                <a:ext cx="1395720" cy="731880"/>
                <a:chOff x="2387520" y="5207040"/>
                <a:chExt cx="1395720" cy="73188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21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8.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3875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3783240" y="5207040"/>
                <a:ext cx="1293480" cy="731880"/>
                <a:chOff x="3783240" y="5207040"/>
                <a:chExt cx="1293480" cy="73188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3827520" y="52070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783240" y="52070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5076720" y="5207040"/>
                <a:ext cx="1395720" cy="731880"/>
                <a:chOff x="5076720" y="5207040"/>
                <a:chExt cx="1395720" cy="7318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5121360" y="52070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.9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076720" y="52070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"/>
            <p:cNvSpPr/>
            <p:nvPr/>
          </p:nvSpPr>
          <p:spPr>
            <a:xfrm>
              <a:off x="746280" y="227484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3240" y="5214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65760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105520" y="4419720"/>
            <a:ext cx="14475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44197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823800" y="4245120"/>
            <a:ext cx="18115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 0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FED-28A3-4264-86E0-C162544CE47A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0" name=""/>
          <p:cNvSpPr/>
          <p:nvPr/>
        </p:nvSpPr>
        <p:spPr>
          <a:xfrm>
            <a:off x="1136160" y="247176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chu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Guaran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4BE-3054-4A15-982E-3E3778E8FD92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2" name=""/>
          <p:cNvSpPr/>
          <p:nvPr/>
        </p:nvSpPr>
        <p:spPr>
          <a:xfrm>
            <a:off x="1063800" y="2471760"/>
            <a:ext cx="56642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chu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Guaran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In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relative length of contac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6D2-D9EF-4D36-8329-97BBBF1758AF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"/>
          <p:cNvSpPr/>
          <p:nvPr/>
        </p:nvSpPr>
        <p:spPr>
          <a:xfrm>
            <a:off x="1063800" y="2471760"/>
            <a:ext cx="56642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chu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Guaran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In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relative length of contac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ocio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DD8-5438-43EB-92C8-0B1A58D2F0F0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1063800" y="2471760"/>
            <a:ext cx="56642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chu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Guaran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Oto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0000"/>
                </a:solidFill>
                <a:uFillTx/>
                <a:latin typeface="Tahoma"/>
              </a:rPr>
              <a:t>In lin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relative length of contac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socio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amount of bilingu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B11-3E6D-4C79-A840-988051844641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8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240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2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1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96800" y="2471760"/>
            <a:ext cx="206892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Tok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11280" y="2781360"/>
            <a:ext cx="72072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FA4-ACD3-4D61-AD40-611A61E149B4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309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62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0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796800" y="2471760"/>
            <a:ext cx="206892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Tok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411280" y="5300640"/>
            <a:ext cx="4105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622-2E69-40B6-9CF9-42FD2AAF51B7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6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378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379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8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2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9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48084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133720" y="2971800"/>
            <a:ext cx="30477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084-A10C-439F-89F5-944C0C9EC3F8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448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449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9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48084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133720" y="2971800"/>
            <a:ext cx="30477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399840" y="450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40452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33720" y="3657600"/>
            <a:ext cx="3047760" cy="14479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E64-FC4B-4606-8945-C92598AE2296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4005360"/>
            <a:ext cx="17287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560" y="5157720"/>
            <a:ext cx="2666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578000">
            <a:off x="140292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D53-689A-4149-8977-51F4C9D48A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9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521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522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523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5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8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1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541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3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6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547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7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568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2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657600" y="2971800"/>
            <a:ext cx="3048120" cy="685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86828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2D3-EB20-4C6A-BA66-67C15DACB8D0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9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591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592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0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1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632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4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3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6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2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657600" y="2971800"/>
            <a:ext cx="3048120" cy="685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85244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86828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796800" y="247176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999680" y="4519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85244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979640" y="3716280"/>
            <a:ext cx="446400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414240" y="1860480"/>
            <a:ext cx="2026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ue &gt; Gua &gt; 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3D0-2893-4A6B-BAC0-F0937BE8180F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1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81D-7089-4666-831F-A7FB956F6835}" type="slidenum">
              <a:t>1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1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4" name=""/>
          <p:cNvSpPr/>
          <p:nvPr/>
        </p:nvSpPr>
        <p:spPr>
          <a:xfrm>
            <a:off x="1333080" y="247176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ainly N (open ++), few V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6AA-293E-4CE5-8FA9-1D0AC1B8388B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1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6" name=""/>
          <p:cNvSpPr/>
          <p:nvPr/>
        </p:nvSpPr>
        <p:spPr>
          <a:xfrm>
            <a:off x="1333080" y="2471760"/>
            <a:ext cx="65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ainly N (open ++), few V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+1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ore V &amp; A (open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68A-ECF2-4665-9AC8-BAC3503FA9DC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1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8" name=""/>
          <p:cNvSpPr/>
          <p:nvPr/>
        </p:nvSpPr>
        <p:spPr>
          <a:xfrm>
            <a:off x="1333080" y="2471760"/>
            <a:ext cx="651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ainly N (open ++), few V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+1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ore V &amp; A (open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tage n+2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Que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more N (open 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D5C-614A-4811-B3D4-79F84C995732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"/>
          <p:cNvSpPr/>
          <p:nvPr/>
        </p:nvSpPr>
        <p:spPr>
          <a:xfrm>
            <a:off x="1108440" y="2781360"/>
            <a:ext cx="528624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Open Clas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a   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V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9ED-A6F0-4981-8AE2-B6F72651476D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674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675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1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4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0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691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6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700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2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4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715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5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485244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86828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796800" y="198900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999680" y="4519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485244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471120" y="2997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529800" y="3713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544200" y="4433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FF0-20AE-4CAB-AE35-B08016981499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6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748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749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2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1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4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765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7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3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6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9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5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8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1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792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795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7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798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3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804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6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9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85244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868280" y="2994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796800" y="198900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014440" y="45194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85244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757200" y="3767040"/>
            <a:ext cx="2161800" cy="265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peti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7356600" y="30686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471120" y="2997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7453440" y="515772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7281000" y="5375520"/>
            <a:ext cx="486000" cy="713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7994520" y="5379120"/>
            <a:ext cx="496440" cy="70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544200" y="4433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544200" y="3716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72B-7D5D-4817-A832-F248031E986E}" type="slidenum">
              <a:t>1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5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796800" y="198900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7543800" y="310356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796800" y="4008600"/>
            <a:ext cx="20689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762120" y="2351160"/>
            <a:ext cx="5730840" cy="3668760"/>
            <a:chOff x="762120" y="2351160"/>
            <a:chExt cx="5730840" cy="3668760"/>
          </a:xfrm>
        </p:grpSpPr>
        <p:grpSp>
          <p:nvGrpSpPr>
            <p:cNvPr id="1831" name=""/>
            <p:cNvGrpSpPr/>
            <p:nvPr/>
          </p:nvGrpSpPr>
          <p:grpSpPr>
            <a:xfrm>
              <a:off x="766800" y="2355840"/>
              <a:ext cx="5721480" cy="3659040"/>
              <a:chOff x="766800" y="2355840"/>
              <a:chExt cx="5721480" cy="3659040"/>
            </a:xfrm>
          </p:grpSpPr>
          <p:grpSp>
            <p:nvGrpSpPr>
              <p:cNvPr id="1832" name=""/>
              <p:cNvGrpSpPr/>
              <p:nvPr/>
            </p:nvGrpSpPr>
            <p:grpSpPr>
              <a:xfrm>
                <a:off x="766800" y="2355840"/>
                <a:ext cx="1636560" cy="731880"/>
                <a:chOff x="766800" y="2355840"/>
                <a:chExt cx="1636560" cy="73188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811080" y="2355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766800" y="2355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2403360" y="2355840"/>
                <a:ext cx="1395720" cy="731880"/>
                <a:chOff x="2403360" y="2355840"/>
                <a:chExt cx="1395720" cy="73188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24480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4033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8" name=""/>
              <p:cNvGrpSpPr/>
              <p:nvPr/>
            </p:nvGrpSpPr>
            <p:grpSpPr>
              <a:xfrm>
                <a:off x="3799080" y="2355840"/>
                <a:ext cx="1293480" cy="731880"/>
                <a:chOff x="3799080" y="2355840"/>
                <a:chExt cx="1293480" cy="731880"/>
              </a:xfrm>
            </p:grpSpPr>
            <p:sp>
              <p:nvSpPr>
                <p:cNvPr id="1839" name=""/>
                <p:cNvSpPr/>
                <p:nvPr/>
              </p:nvSpPr>
              <p:spPr>
                <a:xfrm>
                  <a:off x="3843360" y="2355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3799080" y="2355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5092560" y="2355840"/>
                <a:ext cx="1395720" cy="731880"/>
                <a:chOff x="5092560" y="2355840"/>
                <a:chExt cx="1395720" cy="73188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5137200" y="2355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5092560" y="2355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4" name=""/>
              <p:cNvGrpSpPr/>
              <p:nvPr/>
            </p:nvGrpSpPr>
            <p:grpSpPr>
              <a:xfrm>
                <a:off x="766800" y="3087720"/>
                <a:ext cx="1636560" cy="731880"/>
                <a:chOff x="766800" y="3087720"/>
                <a:chExt cx="1636560" cy="73188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811080" y="3087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66800" y="3087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2403360" y="3087720"/>
                <a:ext cx="1395720" cy="731880"/>
                <a:chOff x="2403360" y="3087720"/>
                <a:chExt cx="1395720" cy="73188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24480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54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24033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799080" y="3087720"/>
                <a:ext cx="1293480" cy="731880"/>
                <a:chOff x="3799080" y="3087720"/>
                <a:chExt cx="1293480" cy="73188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843360" y="3087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37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799080" y="3087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3" name=""/>
              <p:cNvGrpSpPr/>
              <p:nvPr/>
            </p:nvGrpSpPr>
            <p:grpSpPr>
              <a:xfrm>
                <a:off x="5092560" y="3087720"/>
                <a:ext cx="1395720" cy="731880"/>
                <a:chOff x="5092560" y="3087720"/>
                <a:chExt cx="1395720" cy="731880"/>
              </a:xfrm>
            </p:grpSpPr>
            <p:sp>
              <p:nvSpPr>
                <p:cNvPr id="1854" name=""/>
                <p:cNvSpPr/>
                <p:nvPr/>
              </p:nvSpPr>
              <p:spPr>
                <a:xfrm>
                  <a:off x="5137200" y="3087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3333cc"/>
                      </a:solidFill>
                      <a:latin typeface="Courier New"/>
                      <a:ea typeface="MS Mincho"/>
                    </a:rPr>
                    <a:t>40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092560" y="3087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766800" y="3819600"/>
                <a:ext cx="1636560" cy="731880"/>
                <a:chOff x="766800" y="3819600"/>
                <a:chExt cx="1636560" cy="73188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811080" y="38196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766800" y="38196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9" name=""/>
              <p:cNvGrpSpPr/>
              <p:nvPr/>
            </p:nvGrpSpPr>
            <p:grpSpPr>
              <a:xfrm>
                <a:off x="2403360" y="3819600"/>
                <a:ext cx="1395720" cy="731880"/>
                <a:chOff x="2403360" y="3819600"/>
                <a:chExt cx="1395720" cy="73188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24480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7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24033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3799080" y="3819600"/>
                <a:ext cx="1293480" cy="731880"/>
                <a:chOff x="3799080" y="3819600"/>
                <a:chExt cx="1293480" cy="73188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843360" y="38196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799080" y="38196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5092560" y="3819600"/>
                <a:ext cx="1395720" cy="731880"/>
                <a:chOff x="5092560" y="3819600"/>
                <a:chExt cx="1395720" cy="73188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5137200" y="38196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.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092560" y="38196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766800" y="4551480"/>
                <a:ext cx="1636560" cy="731520"/>
                <a:chOff x="766800" y="4551480"/>
                <a:chExt cx="1636560" cy="73152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811080" y="455148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766800" y="455148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2403360" y="4551480"/>
                <a:ext cx="1395720" cy="731520"/>
                <a:chOff x="2403360" y="4551480"/>
                <a:chExt cx="1395720" cy="73152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24480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24033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3799080" y="4551480"/>
                <a:ext cx="1293480" cy="731520"/>
                <a:chOff x="3799080" y="4551480"/>
                <a:chExt cx="1293480" cy="73152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3843360" y="455148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799080" y="455148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5092560" y="4551480"/>
                <a:ext cx="1395720" cy="731520"/>
                <a:chOff x="5092560" y="4551480"/>
                <a:chExt cx="1395720" cy="73152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5137200" y="455148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092560" y="455148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766800" y="5283000"/>
                <a:ext cx="1636560" cy="731880"/>
                <a:chOff x="766800" y="5283000"/>
                <a:chExt cx="1636560" cy="73188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811080" y="52830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766800" y="52830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2403360" y="5283000"/>
                <a:ext cx="1395720" cy="731880"/>
                <a:chOff x="2403360" y="5283000"/>
                <a:chExt cx="1395720" cy="73188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24480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24033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3799080" y="5283000"/>
                <a:ext cx="1293480" cy="731880"/>
                <a:chOff x="3799080" y="5283000"/>
                <a:chExt cx="1293480" cy="73188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3843360" y="52830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799080" y="52830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5092560" y="5283000"/>
                <a:ext cx="1395720" cy="731880"/>
                <a:chOff x="5092560" y="5283000"/>
                <a:chExt cx="1395720" cy="73188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5137200" y="52830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092560" y="52830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2" name=""/>
            <p:cNvSpPr/>
            <p:nvPr/>
          </p:nvSpPr>
          <p:spPr>
            <a:xfrm>
              <a:off x="762120" y="2351160"/>
              <a:ext cx="5730840" cy="3668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3471120" y="2997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839480" y="3713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839480" y="4433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014440" y="45194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86828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B73-41E8-4861-BECF-ADF979E18B38}" type="slidenum">
              <a:t>1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51760" y="191628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etween languages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yth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may b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Thomason &amp; Kaufmann 1988;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ampbell 1989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omason 2001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BUT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59E-69A3-4E8E-83C3-82F608372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37640" y="2421000"/>
            <a:ext cx="67582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ocio-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560" y="5157720"/>
            <a:ext cx="2666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578000">
            <a:off x="140292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551-08AB-4D39-BAF4-C3853F8762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9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3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47640" y="5300640"/>
            <a:ext cx="3673800" cy="72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AAE-96D1-4797-A373-6230ED8417D2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2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3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547640" y="5300640"/>
            <a:ext cx="3673800" cy="72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219640" y="5300640"/>
            <a:ext cx="36734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96C-F441-42F3-B55B-8FD26B8609C6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6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114600" y="3191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259524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2556000" y="314172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84720" y="3141720"/>
            <a:ext cx="43200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8188560" y="1333440"/>
            <a:ext cx="500760" cy="764280"/>
          </a:xfrm>
          <a:prstGeom prst="rect">
            <a:avLst/>
          </a:prstGeom>
          <a:noFill/>
          <a:ln w="7632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d41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2E9-353D-4FDF-B78E-540B73B9CEDA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8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1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2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727524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3747600" y="3141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7236000" y="3141720"/>
            <a:ext cx="431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3708360" y="3141720"/>
            <a:ext cx="432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8176320" y="1366920"/>
            <a:ext cx="541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087-CAAA-4A6D-8D94-26859C2B35C1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7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8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12396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084720" y="3860640"/>
            <a:ext cx="43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252360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484360" y="3860640"/>
            <a:ext cx="43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176320" y="1366920"/>
            <a:ext cx="541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834-D879-44AF-B128-73637E9CD477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0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3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4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727524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27524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236000" y="3860640"/>
            <a:ext cx="431640" cy="43200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236000" y="465300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564000" y="465300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60324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60324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564000" y="3933720"/>
            <a:ext cx="431640" cy="43200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8188560" y="1366920"/>
            <a:ext cx="500760" cy="764280"/>
          </a:xfrm>
          <a:prstGeom prst="rect">
            <a:avLst/>
          </a:prstGeom>
          <a:noFill/>
          <a:ln w="7632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d41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0F2-98D4-4CB2-A762-B52FEE1CA417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0" name=""/>
          <p:cNvSpPr/>
          <p:nvPr/>
        </p:nvSpPr>
        <p:spPr>
          <a:xfrm>
            <a:off x="234000" y="213372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101-E162-4DB0-8181-1E04691B1565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234000" y="2133720"/>
            <a:ext cx="53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95C-32DC-497E-925F-0D87531D7685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4" name=""/>
          <p:cNvSpPr/>
          <p:nvPr/>
        </p:nvSpPr>
        <p:spPr>
          <a:xfrm>
            <a:off x="280440" y="2133720"/>
            <a:ext cx="6023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referential ( ~ objects &gt; concret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527-677C-4D60-A091-8BB8F6A6AFCF}" type="slidenum">
              <a:t>2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6" name=""/>
          <p:cNvSpPr/>
          <p:nvPr/>
        </p:nvSpPr>
        <p:spPr>
          <a:xfrm>
            <a:off x="184680" y="2133720"/>
            <a:ext cx="7935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yntactically relatively independent: easy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9ED-5D28-4B12-9D6B-92DB0B25A886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37640" y="2421000"/>
            <a:ext cx="67582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ocio-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ypology of </a:t>
            </a:r>
            <a:r>
              <a:rPr b="0" lang="en-GB" sz="2400" spc="-1" strike="noStrike">
                <a:solidFill>
                  <a:srgbClr val="10d419"/>
                </a:solidFill>
                <a:latin typeface="Tahoma"/>
              </a:rPr>
              <a:t>T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6800" y="422100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d41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9440" y="4280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560" y="5157720"/>
            <a:ext cx="2666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578000">
            <a:off x="140292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170-1444-48AF-8AF2-5B0336BFC8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8" name=""/>
          <p:cNvSpPr/>
          <p:nvPr/>
        </p:nvSpPr>
        <p:spPr>
          <a:xfrm>
            <a:off x="309600" y="2133720"/>
            <a:ext cx="85978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218-EC8F-4DC8-8B60-55EE8C3278F8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0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3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4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727524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747600" y="3141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7236000" y="3141720"/>
            <a:ext cx="431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708360" y="3141720"/>
            <a:ext cx="432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8176320" y="1366920"/>
            <a:ext cx="541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982-8054-457E-818F-9DF3B19020A3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6" name=""/>
          <p:cNvSpPr/>
          <p:nvPr/>
        </p:nvSpPr>
        <p:spPr>
          <a:xfrm>
            <a:off x="309600" y="2133720"/>
            <a:ext cx="85978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E24-0E44-4A0A-B0CE-5E8D0EA4D1E3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8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1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2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114600" y="3191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59524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556000" y="314172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6084720" y="3141720"/>
            <a:ext cx="43200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188560" y="1366920"/>
            <a:ext cx="500760" cy="764280"/>
          </a:xfrm>
          <a:prstGeom prst="rect">
            <a:avLst/>
          </a:prstGeom>
          <a:noFill/>
          <a:ln w="7632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d41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3F6-33BE-4D66-A1D7-55A8B59EFC23}" type="slidenum">
              <a:t>2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4" name=""/>
          <p:cNvSpPr/>
          <p:nvPr/>
        </p:nvSpPr>
        <p:spPr>
          <a:xfrm>
            <a:off x="309600" y="2133720"/>
            <a:ext cx="8597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E4C-1422-4B3F-91F1-8ACF0F96259D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6" name=""/>
          <p:cNvSpPr/>
          <p:nvPr/>
        </p:nvSpPr>
        <p:spPr>
          <a:xfrm>
            <a:off x="318600" y="2133720"/>
            <a:ext cx="87242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sem / synt / morph complex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NISH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!): less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692-606D-4BFD-8873-3622BD649F96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8" name=""/>
          <p:cNvSpPr/>
          <p:nvPr/>
        </p:nvSpPr>
        <p:spPr>
          <a:xfrm>
            <a:off x="395280" y="2276640"/>
            <a:ext cx="811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o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mos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w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é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ay I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iera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might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estoy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ndo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am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do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I 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A41-F580-4CEB-949A-731171614029}" type="slidenum">
              <a:t>2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0" name=""/>
          <p:cNvSpPr/>
          <p:nvPr/>
        </p:nvSpPr>
        <p:spPr>
          <a:xfrm>
            <a:off x="327240" y="2133720"/>
            <a:ext cx="85978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easier when in same syntactic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(SVO=Spa) &gt; Que (SOV#Spa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113-DB28-4CD1-AFE1-77AEC41D4A94}" type="slidenum">
              <a:t>2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5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6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612396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6084720" y="3860640"/>
            <a:ext cx="43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52360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484360" y="3860640"/>
            <a:ext cx="43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8176320" y="1366920"/>
            <a:ext cx="541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C62-5AA8-44EB-A1F4-F6402EB64002}" type="slidenum">
              <a:t>2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8" name=""/>
          <p:cNvSpPr/>
          <p:nvPr/>
        </p:nvSpPr>
        <p:spPr>
          <a:xfrm>
            <a:off x="309600" y="2133720"/>
            <a:ext cx="85978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56E-2767-422C-8AEF-F81C1E55FA54}" type="slidenum">
              <a:t>2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ACD-6540-4DFE-83A2-8B1C84BD4E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0" name=""/>
          <p:cNvSpPr/>
          <p:nvPr/>
        </p:nvSpPr>
        <p:spPr>
          <a:xfrm>
            <a:off x="309600" y="2133720"/>
            <a:ext cx="85978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D17-2916-453E-9A60-D6D28AD0C24C}" type="slidenum">
              <a:t>2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2" name=""/>
          <p:cNvSpPr/>
          <p:nvPr/>
        </p:nvSpPr>
        <p:spPr>
          <a:xfrm>
            <a:off x="309600" y="2133720"/>
            <a:ext cx="8597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epends on PoS 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F50-1949-4182-B079-680320D4BEE1}" type="slidenum">
              <a:t>2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4" name=""/>
          <p:cNvSpPr/>
          <p:nvPr/>
        </p:nvSpPr>
        <p:spPr>
          <a:xfrm>
            <a:off x="309600" y="2133720"/>
            <a:ext cx="8597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e,Gua: flexible (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 ~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3CE-5563-469A-B955-CE2B8C4D2346}" type="slidenum">
              <a:t>2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6" name=""/>
          <p:cNvSpPr/>
          <p:nvPr/>
        </p:nvSpPr>
        <p:spPr>
          <a:xfrm>
            <a:off x="309600" y="2133720"/>
            <a:ext cx="85978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e,Gua: flexible (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 ~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to: rigid ( 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,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860-1583-45B2-988A-3E3385CA5A07}" type="slidenum">
              <a:t>2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Borrow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cenario (2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temp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8" name=""/>
          <p:cNvSpPr/>
          <p:nvPr/>
        </p:nvSpPr>
        <p:spPr>
          <a:xfrm>
            <a:off x="309600" y="2133720"/>
            <a:ext cx="85978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echua &gt; Guaraní &gt; Oto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rrowing of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re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ctically relative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first category borrowed: most ope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Oto  &gt;&gt; Que,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orrowing never stop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Que &gt; Gu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rrowing of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sem / synt / morph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easier when in same syntactic position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{Gua &gt; Q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ing of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optional, unlike V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e,Gua: flexible (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 ~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to: rigid ( V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,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Ad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5435640" y="573408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967720" y="586728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{Que,Gua &gt;&gt; Oto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2EE-8F6A-45FB-AECB-4DBC0C71DC72}" type="slidenum">
              <a:t>2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2" name=""/>
          <p:cNvSpPr/>
          <p:nvPr/>
        </p:nvSpPr>
        <p:spPr>
          <a:xfrm>
            <a:off x="3240" y="86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240" y="5261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5" name=""/>
          <p:cNvGraphicFramePr/>
          <p:nvPr/>
        </p:nvGraphicFramePr>
        <p:xfrm>
          <a:off x="604800" y="2349360"/>
          <a:ext cx="8215200" cy="3816360"/>
        </p:xfrm>
        <a:graphic>
          <a:graphicData uri="http://schemas.openxmlformats.org/drawingml/2006/table">
            <a:tbl>
              <a:tblPr/>
              <a:tblGrid>
                <a:gridCol w="1087560"/>
                <a:gridCol w="1260360"/>
                <a:gridCol w="1173240"/>
                <a:gridCol w="1173240"/>
                <a:gridCol w="1172880"/>
                <a:gridCol w="1175040"/>
                <a:gridCol w="11728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6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61928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5219640" y="2349360"/>
            <a:ext cx="73080" cy="381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757240" y="181944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310080" y="1819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643280" y="1989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727524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727524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236000" y="3860640"/>
            <a:ext cx="431640" cy="43200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236000" y="465300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564000" y="4653000"/>
            <a:ext cx="431640" cy="43164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60324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60324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564000" y="3933720"/>
            <a:ext cx="431640" cy="432000"/>
          </a:xfrm>
          <a:prstGeom prst="ellipse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8188560" y="1366920"/>
            <a:ext cx="500760" cy="764280"/>
          </a:xfrm>
          <a:prstGeom prst="rect">
            <a:avLst/>
          </a:prstGeom>
          <a:noFill/>
          <a:ln w="7632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d419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813-2892-4444-B15A-EB1C14D15881}" type="slidenum">
              <a:t>2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major 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437760" y="2884320"/>
            <a:ext cx="839808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enario I (length of conta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enario II (typological differ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516720" y="3282840"/>
            <a:ext cx="287280" cy="14414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82844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262-21A3-49D4-AC72-7385D6C4CB26}" type="slidenum">
              <a:t>2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8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23D-3321-4B46-ABEE-B306B4129B05}" type="slidenum">
              <a:t>2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1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6" name=""/>
          <p:cNvGrpSpPr/>
          <p:nvPr/>
        </p:nvGrpSpPr>
        <p:grpSpPr>
          <a:xfrm>
            <a:off x="1447920" y="2747880"/>
            <a:ext cx="5895720" cy="2205000"/>
            <a:chOff x="1447920" y="2747880"/>
            <a:chExt cx="5895720" cy="2205000"/>
          </a:xfrm>
        </p:grpSpPr>
        <p:grpSp>
          <p:nvGrpSpPr>
            <p:cNvPr id="2107" name=""/>
            <p:cNvGrpSpPr/>
            <p:nvPr/>
          </p:nvGrpSpPr>
          <p:grpSpPr>
            <a:xfrm>
              <a:off x="1452600" y="2752920"/>
              <a:ext cx="5886360" cy="2195280"/>
              <a:chOff x="1452600" y="2752920"/>
              <a:chExt cx="5886360" cy="2195280"/>
            </a:xfrm>
          </p:grpSpPr>
          <p:grpSp>
            <p:nvGrpSpPr>
              <p:cNvPr id="2108" name=""/>
              <p:cNvGrpSpPr/>
              <p:nvPr/>
            </p:nvGrpSpPr>
            <p:grpSpPr>
              <a:xfrm>
                <a:off x="1452600" y="2752920"/>
                <a:ext cx="2190600" cy="731520"/>
                <a:chOff x="1452600" y="2752920"/>
                <a:chExt cx="2190600" cy="73152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1496880" y="27529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452600" y="27529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1" name=""/>
              <p:cNvGrpSpPr/>
              <p:nvPr/>
            </p:nvGrpSpPr>
            <p:grpSpPr>
              <a:xfrm>
                <a:off x="3643200" y="2752920"/>
                <a:ext cx="1231920" cy="731520"/>
                <a:chOff x="3643200" y="2752920"/>
                <a:chExt cx="1231920" cy="73152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368784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64320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4" name=""/>
              <p:cNvGrpSpPr/>
              <p:nvPr/>
            </p:nvGrpSpPr>
            <p:grpSpPr>
              <a:xfrm>
                <a:off x="4875120" y="2752920"/>
                <a:ext cx="1231920" cy="731520"/>
                <a:chOff x="4875120" y="2752920"/>
                <a:chExt cx="1231920" cy="73152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491976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487512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6107040" y="2752920"/>
                <a:ext cx="1231920" cy="731520"/>
                <a:chOff x="6107040" y="2752920"/>
                <a:chExt cx="1231920" cy="73152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615168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10704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0" name=""/>
              <p:cNvGrpSpPr/>
              <p:nvPr/>
            </p:nvGrpSpPr>
            <p:grpSpPr>
              <a:xfrm>
                <a:off x="1452600" y="3484440"/>
                <a:ext cx="2190600" cy="731880"/>
                <a:chOff x="1452600" y="3484440"/>
                <a:chExt cx="2190600" cy="731880"/>
              </a:xfrm>
            </p:grpSpPr>
            <p:sp>
              <p:nvSpPr>
                <p:cNvPr id="2121" name=""/>
                <p:cNvSpPr/>
                <p:nvPr/>
              </p:nvSpPr>
              <p:spPr>
                <a:xfrm>
                  <a:off x="1496880" y="34844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452600" y="34844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3643200" y="3484440"/>
                <a:ext cx="1231920" cy="731880"/>
                <a:chOff x="3643200" y="3484440"/>
                <a:chExt cx="1231920" cy="73188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368784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364320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6" name=""/>
              <p:cNvGrpSpPr/>
              <p:nvPr/>
            </p:nvGrpSpPr>
            <p:grpSpPr>
              <a:xfrm>
                <a:off x="4875120" y="3484440"/>
                <a:ext cx="1231920" cy="731880"/>
                <a:chOff x="4875120" y="3484440"/>
                <a:chExt cx="1231920" cy="731880"/>
              </a:xfrm>
            </p:grpSpPr>
            <p:sp>
              <p:nvSpPr>
                <p:cNvPr id="2127" name=""/>
                <p:cNvSpPr/>
                <p:nvPr/>
              </p:nvSpPr>
              <p:spPr>
                <a:xfrm>
                  <a:off x="491976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487512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"/>
              <p:cNvGrpSpPr/>
              <p:nvPr/>
            </p:nvGrpSpPr>
            <p:grpSpPr>
              <a:xfrm>
                <a:off x="6107040" y="3484440"/>
                <a:ext cx="1231920" cy="731880"/>
                <a:chOff x="6107040" y="3484440"/>
                <a:chExt cx="1231920" cy="731880"/>
              </a:xfrm>
            </p:grpSpPr>
            <p:sp>
              <p:nvSpPr>
                <p:cNvPr id="2130" name=""/>
                <p:cNvSpPr/>
                <p:nvPr/>
              </p:nvSpPr>
              <p:spPr>
                <a:xfrm>
                  <a:off x="615168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610704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2" name=""/>
              <p:cNvGrpSpPr/>
              <p:nvPr/>
            </p:nvGrpSpPr>
            <p:grpSpPr>
              <a:xfrm>
                <a:off x="1452600" y="4216320"/>
                <a:ext cx="2190600" cy="731880"/>
                <a:chOff x="1452600" y="4216320"/>
                <a:chExt cx="2190600" cy="73188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1496880" y="42163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452600" y="42163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5" name=""/>
              <p:cNvGrpSpPr/>
              <p:nvPr/>
            </p:nvGrpSpPr>
            <p:grpSpPr>
              <a:xfrm>
                <a:off x="3643200" y="4216320"/>
                <a:ext cx="1231920" cy="731880"/>
                <a:chOff x="3643200" y="4216320"/>
                <a:chExt cx="1231920" cy="731880"/>
              </a:xfrm>
            </p:grpSpPr>
            <p:sp>
              <p:nvSpPr>
                <p:cNvPr id="2136" name=""/>
                <p:cNvSpPr/>
                <p:nvPr/>
              </p:nvSpPr>
              <p:spPr>
                <a:xfrm>
                  <a:off x="368784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364320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8" name=""/>
              <p:cNvGrpSpPr/>
              <p:nvPr/>
            </p:nvGrpSpPr>
            <p:grpSpPr>
              <a:xfrm>
                <a:off x="4875120" y="4216320"/>
                <a:ext cx="1231920" cy="731880"/>
                <a:chOff x="4875120" y="4216320"/>
                <a:chExt cx="1231920" cy="731880"/>
              </a:xfrm>
            </p:grpSpPr>
            <p:sp>
              <p:nvSpPr>
                <p:cNvPr id="2139" name=""/>
                <p:cNvSpPr/>
                <p:nvPr/>
              </p:nvSpPr>
              <p:spPr>
                <a:xfrm>
                  <a:off x="491976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487512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1" name=""/>
              <p:cNvGrpSpPr/>
              <p:nvPr/>
            </p:nvGrpSpPr>
            <p:grpSpPr>
              <a:xfrm>
                <a:off x="6107040" y="4216320"/>
                <a:ext cx="1231920" cy="731880"/>
                <a:chOff x="6107040" y="4216320"/>
                <a:chExt cx="1231920" cy="731880"/>
              </a:xfrm>
            </p:grpSpPr>
            <p:sp>
              <p:nvSpPr>
                <p:cNvPr id="2142" name=""/>
                <p:cNvSpPr/>
                <p:nvPr/>
              </p:nvSpPr>
              <p:spPr>
                <a:xfrm>
                  <a:off x="615168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610704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4" name=""/>
            <p:cNvSpPr/>
            <p:nvPr/>
          </p:nvSpPr>
          <p:spPr>
            <a:xfrm>
              <a:off x="1447920" y="27478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660560" y="2614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895360" y="2604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737-6EF0-44D9-AE6C-48613D430095}" type="slidenum">
              <a:t>2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9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1447920" y="2747880"/>
            <a:ext cx="5895720" cy="2205000"/>
            <a:chOff x="1447920" y="2747880"/>
            <a:chExt cx="5895720" cy="2205000"/>
          </a:xfrm>
        </p:grpSpPr>
        <p:grpSp>
          <p:nvGrpSpPr>
            <p:cNvPr id="2155" name=""/>
            <p:cNvGrpSpPr/>
            <p:nvPr/>
          </p:nvGrpSpPr>
          <p:grpSpPr>
            <a:xfrm>
              <a:off x="1452600" y="2752920"/>
              <a:ext cx="5886360" cy="2195280"/>
              <a:chOff x="1452600" y="2752920"/>
              <a:chExt cx="5886360" cy="2195280"/>
            </a:xfrm>
          </p:grpSpPr>
          <p:grpSp>
            <p:nvGrpSpPr>
              <p:cNvPr id="2156" name=""/>
              <p:cNvGrpSpPr/>
              <p:nvPr/>
            </p:nvGrpSpPr>
            <p:grpSpPr>
              <a:xfrm>
                <a:off x="1452600" y="2752920"/>
                <a:ext cx="2190600" cy="731520"/>
                <a:chOff x="1452600" y="2752920"/>
                <a:chExt cx="2190600" cy="731520"/>
              </a:xfrm>
            </p:grpSpPr>
            <p:sp>
              <p:nvSpPr>
                <p:cNvPr id="2157" name=""/>
                <p:cNvSpPr/>
                <p:nvPr/>
              </p:nvSpPr>
              <p:spPr>
                <a:xfrm>
                  <a:off x="1496880" y="27529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1452600" y="27529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9" name=""/>
              <p:cNvGrpSpPr/>
              <p:nvPr/>
            </p:nvGrpSpPr>
            <p:grpSpPr>
              <a:xfrm>
                <a:off x="3643200" y="2752920"/>
                <a:ext cx="1231920" cy="731520"/>
                <a:chOff x="3643200" y="2752920"/>
                <a:chExt cx="1231920" cy="73152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368784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64320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2" name=""/>
              <p:cNvGrpSpPr/>
              <p:nvPr/>
            </p:nvGrpSpPr>
            <p:grpSpPr>
              <a:xfrm>
                <a:off x="4875120" y="2752920"/>
                <a:ext cx="1231920" cy="731520"/>
                <a:chOff x="4875120" y="2752920"/>
                <a:chExt cx="1231920" cy="731520"/>
              </a:xfrm>
            </p:grpSpPr>
            <p:sp>
              <p:nvSpPr>
                <p:cNvPr id="2163" name=""/>
                <p:cNvSpPr/>
                <p:nvPr/>
              </p:nvSpPr>
              <p:spPr>
                <a:xfrm>
                  <a:off x="491976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87512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5" name=""/>
              <p:cNvGrpSpPr/>
              <p:nvPr/>
            </p:nvGrpSpPr>
            <p:grpSpPr>
              <a:xfrm>
                <a:off x="6107040" y="2752920"/>
                <a:ext cx="1231920" cy="731520"/>
                <a:chOff x="6107040" y="2752920"/>
                <a:chExt cx="1231920" cy="731520"/>
              </a:xfrm>
            </p:grpSpPr>
            <p:sp>
              <p:nvSpPr>
                <p:cNvPr id="2166" name=""/>
                <p:cNvSpPr/>
                <p:nvPr/>
              </p:nvSpPr>
              <p:spPr>
                <a:xfrm>
                  <a:off x="6151680" y="27529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6107040" y="27529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8" name=""/>
              <p:cNvGrpSpPr/>
              <p:nvPr/>
            </p:nvGrpSpPr>
            <p:grpSpPr>
              <a:xfrm>
                <a:off x="1452600" y="3484440"/>
                <a:ext cx="2190600" cy="731880"/>
                <a:chOff x="1452600" y="3484440"/>
                <a:chExt cx="2190600" cy="73188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1496880" y="34844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452600" y="34844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1" name=""/>
              <p:cNvGrpSpPr/>
              <p:nvPr/>
            </p:nvGrpSpPr>
            <p:grpSpPr>
              <a:xfrm>
                <a:off x="3643200" y="3484440"/>
                <a:ext cx="1231920" cy="731880"/>
                <a:chOff x="3643200" y="3484440"/>
                <a:chExt cx="1231920" cy="731880"/>
              </a:xfrm>
            </p:grpSpPr>
            <p:sp>
              <p:nvSpPr>
                <p:cNvPr id="2172" name=""/>
                <p:cNvSpPr/>
                <p:nvPr/>
              </p:nvSpPr>
              <p:spPr>
                <a:xfrm>
                  <a:off x="368784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64320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4875120" y="3484440"/>
                <a:ext cx="1231920" cy="731880"/>
                <a:chOff x="4875120" y="3484440"/>
                <a:chExt cx="1231920" cy="7318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491976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87512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6107040" y="3484440"/>
                <a:ext cx="1231920" cy="731880"/>
                <a:chOff x="6107040" y="3484440"/>
                <a:chExt cx="1231920" cy="731880"/>
              </a:xfrm>
            </p:grpSpPr>
            <p:sp>
              <p:nvSpPr>
                <p:cNvPr id="2178" name=""/>
                <p:cNvSpPr/>
                <p:nvPr/>
              </p:nvSpPr>
              <p:spPr>
                <a:xfrm>
                  <a:off x="6151680" y="34844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6107040" y="34844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0" name=""/>
              <p:cNvGrpSpPr/>
              <p:nvPr/>
            </p:nvGrpSpPr>
            <p:grpSpPr>
              <a:xfrm>
                <a:off x="1452600" y="4216320"/>
                <a:ext cx="2190600" cy="731880"/>
                <a:chOff x="1452600" y="4216320"/>
                <a:chExt cx="2190600" cy="7318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1496880" y="42163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1452600" y="42163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3643200" y="4216320"/>
                <a:ext cx="1231920" cy="731880"/>
                <a:chOff x="3643200" y="4216320"/>
                <a:chExt cx="1231920" cy="73188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368784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364320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6" name=""/>
              <p:cNvGrpSpPr/>
              <p:nvPr/>
            </p:nvGrpSpPr>
            <p:grpSpPr>
              <a:xfrm>
                <a:off x="4875120" y="4216320"/>
                <a:ext cx="1231920" cy="731880"/>
                <a:chOff x="4875120" y="4216320"/>
                <a:chExt cx="1231920" cy="73188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491976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487512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6107040" y="4216320"/>
                <a:ext cx="1231920" cy="731880"/>
                <a:chOff x="6107040" y="4216320"/>
                <a:chExt cx="1231920" cy="73188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6151680" y="42163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6107040" y="42163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2" name=""/>
            <p:cNvSpPr/>
            <p:nvPr/>
          </p:nvSpPr>
          <p:spPr>
            <a:xfrm>
              <a:off x="1447920" y="27478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3" name=""/>
          <p:cNvSpPr/>
          <p:nvPr/>
        </p:nvSpPr>
        <p:spPr>
          <a:xfrm>
            <a:off x="7715520" y="38178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913000" y="2614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4660560" y="2614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879520" y="4138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635000" y="4138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635280" y="4149720"/>
            <a:ext cx="37450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B26-9BFA-43F0-B632-1C7F1C750450}" type="slidenum">
              <a:t>2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897-759D-478A-8AA4-648B6E4134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0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202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203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204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6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207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213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5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8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1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222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4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225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7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228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0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231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3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234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237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9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240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2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243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5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246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8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249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252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4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255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7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258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0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3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267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9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2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5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6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741360" y="2548080"/>
            <a:ext cx="192564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7C8-03AD-4C20-9665-AB789A5A95AE}" type="slidenum">
              <a:t>2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28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28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28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28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28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29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31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31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32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33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33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34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34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34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35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003640" y="270828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914-A515-4BC6-B339-FBA297D05DF1}" type="slidenum">
              <a:t>2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755640" y="2060640"/>
            <a:ext cx="5730840" cy="4400640"/>
            <a:chOff x="755640" y="2060640"/>
            <a:chExt cx="5730840" cy="4400640"/>
          </a:xfrm>
        </p:grpSpPr>
        <p:grpSp>
          <p:nvGrpSpPr>
            <p:cNvPr id="2361" name=""/>
            <p:cNvGrpSpPr/>
            <p:nvPr/>
          </p:nvGrpSpPr>
          <p:grpSpPr>
            <a:xfrm>
              <a:off x="760320" y="2065680"/>
              <a:ext cx="5721480" cy="4390920"/>
              <a:chOff x="760320" y="2065680"/>
              <a:chExt cx="5721480" cy="4390920"/>
            </a:xfrm>
          </p:grpSpPr>
          <p:grpSp>
            <p:nvGrpSpPr>
              <p:cNvPr id="2362" name=""/>
              <p:cNvGrpSpPr/>
              <p:nvPr/>
            </p:nvGrpSpPr>
            <p:grpSpPr>
              <a:xfrm>
                <a:off x="760320" y="2065680"/>
                <a:ext cx="1636560" cy="731880"/>
                <a:chOff x="760320" y="2065680"/>
                <a:chExt cx="1636560" cy="73188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804600" y="2065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760320" y="2065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2396880" y="2065680"/>
                <a:ext cx="1395720" cy="731880"/>
                <a:chOff x="2396880" y="2065680"/>
                <a:chExt cx="1395720" cy="73188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2441520" y="2065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2396880" y="2065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3792600" y="2065680"/>
                <a:ext cx="1293480" cy="731880"/>
                <a:chOff x="3792600" y="2065680"/>
                <a:chExt cx="1293480" cy="73188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3836880" y="2065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792600" y="2065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5086080" y="2065680"/>
                <a:ext cx="1395720" cy="731880"/>
                <a:chOff x="5086080" y="2065680"/>
                <a:chExt cx="1395720" cy="73188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5130720" y="2065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086080" y="2065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4" name=""/>
              <p:cNvGrpSpPr/>
              <p:nvPr/>
            </p:nvGrpSpPr>
            <p:grpSpPr>
              <a:xfrm>
                <a:off x="760320" y="2797560"/>
                <a:ext cx="1636560" cy="731520"/>
                <a:chOff x="760320" y="2797560"/>
                <a:chExt cx="1636560" cy="731520"/>
              </a:xfrm>
            </p:grpSpPr>
            <p:sp>
              <p:nvSpPr>
                <p:cNvPr id="2375" name=""/>
                <p:cNvSpPr/>
                <p:nvPr/>
              </p:nvSpPr>
              <p:spPr>
                <a:xfrm>
                  <a:off x="804600" y="279756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760320" y="279756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7" name=""/>
              <p:cNvGrpSpPr/>
              <p:nvPr/>
            </p:nvGrpSpPr>
            <p:grpSpPr>
              <a:xfrm>
                <a:off x="2396880" y="2797560"/>
                <a:ext cx="1395720" cy="731520"/>
                <a:chOff x="2396880" y="2797560"/>
                <a:chExt cx="1395720" cy="731520"/>
              </a:xfrm>
            </p:grpSpPr>
            <p:sp>
              <p:nvSpPr>
                <p:cNvPr id="2378" name=""/>
                <p:cNvSpPr/>
                <p:nvPr/>
              </p:nvSpPr>
              <p:spPr>
                <a:xfrm>
                  <a:off x="2441520" y="279756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2396880" y="279756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3792600" y="2797560"/>
                <a:ext cx="1293480" cy="731520"/>
                <a:chOff x="3792600" y="2797560"/>
                <a:chExt cx="1293480" cy="73152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3836880" y="279756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3792600" y="279756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5086080" y="2797560"/>
                <a:ext cx="1395720" cy="731520"/>
                <a:chOff x="5086080" y="2797560"/>
                <a:chExt cx="1395720" cy="73152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5130720" y="279756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086080" y="279756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760320" y="3529080"/>
                <a:ext cx="1636560" cy="731880"/>
                <a:chOff x="760320" y="3529080"/>
                <a:chExt cx="1636560" cy="73188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804600" y="35290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760320" y="35290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9" name=""/>
              <p:cNvGrpSpPr/>
              <p:nvPr/>
            </p:nvGrpSpPr>
            <p:grpSpPr>
              <a:xfrm>
                <a:off x="2396880" y="3529080"/>
                <a:ext cx="1395720" cy="731880"/>
                <a:chOff x="2396880" y="3529080"/>
                <a:chExt cx="1395720" cy="731880"/>
              </a:xfrm>
            </p:grpSpPr>
            <p:sp>
              <p:nvSpPr>
                <p:cNvPr id="2390" name=""/>
                <p:cNvSpPr/>
                <p:nvPr/>
              </p:nvSpPr>
              <p:spPr>
                <a:xfrm>
                  <a:off x="2441520" y="35290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2396880" y="35290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3792600" y="3529080"/>
                <a:ext cx="1293480" cy="731880"/>
                <a:chOff x="3792600" y="3529080"/>
                <a:chExt cx="1293480" cy="731880"/>
              </a:xfrm>
            </p:grpSpPr>
            <p:sp>
              <p:nvSpPr>
                <p:cNvPr id="2393" name=""/>
                <p:cNvSpPr/>
                <p:nvPr/>
              </p:nvSpPr>
              <p:spPr>
                <a:xfrm>
                  <a:off x="3836880" y="35290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3792600" y="35290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5086080" y="3529080"/>
                <a:ext cx="1395720" cy="731880"/>
                <a:chOff x="5086080" y="3529080"/>
                <a:chExt cx="1395720" cy="731880"/>
              </a:xfrm>
            </p:grpSpPr>
            <p:sp>
              <p:nvSpPr>
                <p:cNvPr id="2396" name=""/>
                <p:cNvSpPr/>
                <p:nvPr/>
              </p:nvSpPr>
              <p:spPr>
                <a:xfrm>
                  <a:off x="5130720" y="35290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086080" y="35290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8" name=""/>
              <p:cNvGrpSpPr/>
              <p:nvPr/>
            </p:nvGrpSpPr>
            <p:grpSpPr>
              <a:xfrm>
                <a:off x="760320" y="4260960"/>
                <a:ext cx="1636560" cy="731880"/>
                <a:chOff x="760320" y="4260960"/>
                <a:chExt cx="1636560" cy="73188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804600" y="42609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60320" y="42609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2396880" y="4260960"/>
                <a:ext cx="1395720" cy="731880"/>
                <a:chOff x="2396880" y="4260960"/>
                <a:chExt cx="1395720" cy="73188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2441520" y="42609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2396880" y="42609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4" name=""/>
              <p:cNvGrpSpPr/>
              <p:nvPr/>
            </p:nvGrpSpPr>
            <p:grpSpPr>
              <a:xfrm>
                <a:off x="3792600" y="4260960"/>
                <a:ext cx="1293480" cy="731880"/>
                <a:chOff x="3792600" y="4260960"/>
                <a:chExt cx="1293480" cy="731880"/>
              </a:xfrm>
            </p:grpSpPr>
            <p:sp>
              <p:nvSpPr>
                <p:cNvPr id="2405" name=""/>
                <p:cNvSpPr/>
                <p:nvPr/>
              </p:nvSpPr>
              <p:spPr>
                <a:xfrm>
                  <a:off x="3836880" y="42609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3792600" y="42609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"/>
              <p:cNvGrpSpPr/>
              <p:nvPr/>
            </p:nvGrpSpPr>
            <p:grpSpPr>
              <a:xfrm>
                <a:off x="5086080" y="4260960"/>
                <a:ext cx="1395720" cy="731880"/>
                <a:chOff x="5086080" y="4260960"/>
                <a:chExt cx="1395720" cy="73188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5130720" y="42609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086080" y="42609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"/>
              <p:cNvGrpSpPr/>
              <p:nvPr/>
            </p:nvGrpSpPr>
            <p:grpSpPr>
              <a:xfrm>
                <a:off x="760320" y="4992840"/>
                <a:ext cx="1636560" cy="731880"/>
                <a:chOff x="760320" y="4992840"/>
                <a:chExt cx="1636560" cy="731880"/>
              </a:xfrm>
            </p:grpSpPr>
            <p:sp>
              <p:nvSpPr>
                <p:cNvPr id="2411" name=""/>
                <p:cNvSpPr/>
                <p:nvPr/>
              </p:nvSpPr>
              <p:spPr>
                <a:xfrm>
                  <a:off x="804600" y="499284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760320" y="499284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3" name=""/>
              <p:cNvGrpSpPr/>
              <p:nvPr/>
            </p:nvGrpSpPr>
            <p:grpSpPr>
              <a:xfrm>
                <a:off x="2396880" y="4992840"/>
                <a:ext cx="1395720" cy="731880"/>
                <a:chOff x="2396880" y="4992840"/>
                <a:chExt cx="1395720" cy="73188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2441520" y="4992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396880" y="4992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3792600" y="4992840"/>
                <a:ext cx="1293480" cy="731880"/>
                <a:chOff x="3792600" y="4992840"/>
                <a:chExt cx="1293480" cy="73188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3836880" y="499284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3792600" y="499284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5086080" y="4992840"/>
                <a:ext cx="1395720" cy="731880"/>
                <a:chOff x="5086080" y="4992840"/>
                <a:chExt cx="1395720" cy="73188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5130720" y="499284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086080" y="499284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760320" y="5724720"/>
                <a:ext cx="1636560" cy="731880"/>
                <a:chOff x="760320" y="5724720"/>
                <a:chExt cx="1636560" cy="73188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804600" y="57247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760320" y="57247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2396880" y="5724720"/>
                <a:ext cx="1395720" cy="731880"/>
                <a:chOff x="2396880" y="5724720"/>
                <a:chExt cx="1395720" cy="7318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2441520" y="5724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396880" y="5724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3792600" y="5724720"/>
                <a:ext cx="1293480" cy="731880"/>
                <a:chOff x="3792600" y="5724720"/>
                <a:chExt cx="1293480" cy="73188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3836880" y="57247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3792600" y="57247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5086080" y="5724720"/>
                <a:ext cx="1395720" cy="731880"/>
                <a:chOff x="5086080" y="5724720"/>
                <a:chExt cx="1395720" cy="731880"/>
              </a:xfrm>
            </p:grpSpPr>
            <p:sp>
              <p:nvSpPr>
                <p:cNvPr id="2432" name=""/>
                <p:cNvSpPr/>
                <p:nvPr/>
              </p:nvSpPr>
              <p:spPr>
                <a:xfrm>
                  <a:off x="5130720" y="57247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086080" y="57247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4" name=""/>
            <p:cNvSpPr/>
            <p:nvPr/>
          </p:nvSpPr>
          <p:spPr>
            <a:xfrm>
              <a:off x="755640" y="206064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5280" y="342900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237-7645-4BC3-BB2F-8608CCE6EE84}" type="slidenum">
              <a:t>2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44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44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46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4932360" y="414972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67F-13EF-4A20-9DC9-AC2A42ED0AD1}" type="slidenum">
              <a:t>2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52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52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53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53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53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54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55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56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or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9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4859280" y="486900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9C1-8F44-416F-AFF2-EC27478F72CC}" type="slidenum">
              <a:t>2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60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60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60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61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61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61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62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62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63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63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i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64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64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65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6882840" y="2548080"/>
            <a:ext cx="1640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rot="19926600">
            <a:off x="3492360" y="2781000"/>
            <a:ext cx="295272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994-4179-41CA-9F97-591E5F46B1CF}" type="slidenum">
              <a:t>2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9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0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681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682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683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5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4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701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3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7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728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0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731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3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734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737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9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740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2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743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5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746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8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752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4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5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457200" y="362592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6671160" y="1752480"/>
            <a:ext cx="2140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V="1">
            <a:off x="6477120" y="25909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85E-B2AB-4082-A83E-D376A8DE90F2}" type="slidenum">
              <a:t>2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1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2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763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764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765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7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768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0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771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3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774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6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777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9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780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10d419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2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783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10d419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5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786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8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789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1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792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4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795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7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798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0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3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804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6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807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9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810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2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813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5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816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8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819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1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822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4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825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7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828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0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831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3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834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6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7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457200" y="362592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6671160" y="1752480"/>
            <a:ext cx="2140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6477120" y="25909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2411280" y="2781360"/>
            <a:ext cx="230508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513-64A7-4094-B3EC-9C79B2C1695B}" type="slidenum">
              <a:t>2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4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5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846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847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848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0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851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3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6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857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9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860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2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863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5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866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8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869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872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4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875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881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884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6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887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890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2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893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5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8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1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902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4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19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0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561600" y="3733920"/>
            <a:ext cx="12229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3D8-2D7D-4484-9152-6CF4E1DD5764}" type="slidenum">
              <a:t>2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5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6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2927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2928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7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2968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0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0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1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627120" y="3733920"/>
            <a:ext cx="35604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 (prep; 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4FD-5230-4680-AB49-860252AACF77}" type="slidenum">
              <a:t>2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5A9-7B4C-4ED0-B3A4-ED41BACBF3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6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7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008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009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010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2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5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016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8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019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1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022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4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025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7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028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0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031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3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034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6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037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9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040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2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043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5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046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8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049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1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052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4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055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058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0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061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3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064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6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067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9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070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2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073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076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8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079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1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39528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581400" y="3733920"/>
            <a:ext cx="48758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other way of case 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636-001E-4303-8616-F625D7DE8C29}" type="slidenum">
              <a:t>2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7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8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089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3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094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6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097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9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100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2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103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5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106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8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109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1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112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4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115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7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118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0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121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3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124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6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127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9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130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2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133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5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136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8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139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1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142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4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145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7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148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0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151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3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154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6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157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9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160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2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3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73480" y="3733920"/>
            <a:ext cx="411228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A76-547F-4FF5-9ECA-CB3D22BA82FA}" type="slidenum">
              <a:t>2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8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9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170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171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172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4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175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7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178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0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181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3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184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6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187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9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190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2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193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5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196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8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199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1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202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4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205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7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208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0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211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3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6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217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9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220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2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223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5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226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8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229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1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232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4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235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7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238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0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241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3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4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799200" y="3733920"/>
            <a:ext cx="7786440" cy="1617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                   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+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4703760" y="43149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C98-D3EF-4EB3-96E0-77305662DC47}" type="slidenum">
              <a:t>2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0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1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252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253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254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6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9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260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2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263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5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266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8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269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1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272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4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275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7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278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0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281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9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290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8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302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4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305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0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311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3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314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6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317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9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320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2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323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5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6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17928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799200" y="3733920"/>
            <a:ext cx="7786440" cy="2349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                   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+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, 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4703760" y="43149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1ED-9810-4607-85B1-4634C5E3A545}" type="slidenum">
              <a:t>2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2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3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334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335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336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8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339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1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342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4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345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7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348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0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351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3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354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6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357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9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360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2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363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5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366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8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369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1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372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4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375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7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378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0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3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384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6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387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2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393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396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8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399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1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402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4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405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07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8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805320" y="3733920"/>
            <a:ext cx="7845840" cy="271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                   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+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, 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p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ost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ositions / case markers (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4703760" y="43149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500-CCA8-460A-B3E2-2C8CD3095D1B}" type="slidenum">
              <a:t>2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4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5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416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417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418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0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421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3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424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6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427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9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430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( = PREP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2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433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5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436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8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439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1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442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4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445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7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448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0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3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454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6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457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9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460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2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5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466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8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469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1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472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4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475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7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478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0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481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3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484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6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487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9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0" name=""/>
          <p:cNvSpPr/>
          <p:nvPr/>
        </p:nvSpPr>
        <p:spPr>
          <a:xfrm>
            <a:off x="3240" y="5764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5029200" y="27432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457200" y="3581280"/>
            <a:ext cx="64771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791640" y="3733920"/>
            <a:ext cx="7846200" cy="277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no case markers                   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</a:t>
            </a:r>
            <a:r>
              <a:rPr b="1" lang="nl-NL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+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but: prenominal adverb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, 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P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ost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ositions / case(Que) 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Functio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Syntax: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(-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4703760" y="43149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2411280" y="2781360"/>
            <a:ext cx="230508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6DE-6C7D-4B1A-BAB3-6109D2247DE4}" type="slidenum">
              <a:t>2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7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499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500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501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3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504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6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507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9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510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2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513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5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516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8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519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1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522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4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525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7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528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0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531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3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534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6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537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9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540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2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543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5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546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8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549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1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552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4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555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7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558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0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561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3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564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6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567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9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570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2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3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4752000" y="4626000"/>
            <a:ext cx="2140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4724280" y="39625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BFF-FAFF-42EF-B521-ED3167086696}" type="slidenum">
              <a:t>2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8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9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580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581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582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4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585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7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588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0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591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3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594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6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597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9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600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2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603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5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606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8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609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10d419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1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612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4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615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10d419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7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618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0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621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3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624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6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627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9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630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2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633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5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636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8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639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1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642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4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645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7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648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0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651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3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4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4752000" y="4626000"/>
            <a:ext cx="2140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4724280" y="39625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411280" y="3500280"/>
            <a:ext cx="936720" cy="5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5148360" y="3500280"/>
            <a:ext cx="936360" cy="5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857-9C13-4692-84A4-E96F28179DF8}" type="slidenum">
              <a:t>2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1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2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663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664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665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7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668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0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671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3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674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6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677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9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680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2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683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5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686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8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689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0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1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692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4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695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7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698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0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701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3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704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6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707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9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710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2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713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5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716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8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719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1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722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4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725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7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728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0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731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3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734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36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7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474480" y="4686480"/>
            <a:ext cx="83494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a’ ART(+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e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)1764   nsp=37 (of 38)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EFF-00ED-4DF8-8576-DFD1811BA1D2}" type="slidenum">
              <a:t>2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1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2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743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744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745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7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748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0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751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3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754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6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757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9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760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2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763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5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766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8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769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1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772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4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775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7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778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0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781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3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784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6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787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9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790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2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793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5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796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8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799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1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802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4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805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7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808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0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811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3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814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6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7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474480" y="4686480"/>
            <a:ext cx="83494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a’ ART(+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fe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)1764   nsp=37 (of 38)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o’ ART(+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pl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)  157   nsp=19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308-4121-428C-8EC2-BF23CADAC554}" type="slidenum">
              <a:t>2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7280" y="3789360"/>
            <a:ext cx="1008000" cy="360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532-19EC-40CA-831D-0FFDD7B636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1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823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824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825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7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828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0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831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3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834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6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837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9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840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2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843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5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846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8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849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1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852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4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855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7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858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0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861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3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864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6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867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9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870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2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873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5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876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8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1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882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4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885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7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888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0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891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3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894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6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7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1772640" y="4657680"/>
            <a:ext cx="45424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   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Def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 flipV="1">
            <a:off x="5029200" y="3886200"/>
            <a:ext cx="3808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00A-F2C6-4975-9D97-B3B01A2F07EC}" type="slidenum">
              <a:t>2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2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3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904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905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906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8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909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1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912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4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915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7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0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3921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3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3924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6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3927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9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3930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2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3933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5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3936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8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3939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1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3942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4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3945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7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3948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0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3951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3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3954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6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3957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9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3960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2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3963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5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3966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8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3969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1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3972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4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3975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77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8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1772640" y="4657680"/>
            <a:ext cx="45424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   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Def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 flipH="1" flipV="1">
            <a:off x="4191120" y="3962520"/>
            <a:ext cx="380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552-3803-4868-BB2A-4570F61A4C68}" type="slidenum">
              <a:t>2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3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4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3985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3986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3987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9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3990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2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3993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5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8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3999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1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4002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4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4005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7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4008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0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4011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3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4014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6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4017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9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4020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2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4023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5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4026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8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4029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1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4032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4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4035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7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4038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0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4041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3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4044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6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4047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9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4050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2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4053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5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4056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8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9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1772640" y="4657680"/>
            <a:ext cx="45424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   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Def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 flipH="1" flipV="1">
            <a:off x="2971440" y="3886200"/>
            <a:ext cx="152388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075-D959-4134-A625-3FAC286D5616}" type="slidenum">
              <a:t>2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4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5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4066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4067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4068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0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4071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3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4074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6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4077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9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4080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2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4083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5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4086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7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8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4089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1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4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4095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6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7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4098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0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4101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3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4104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6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4107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9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4110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1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2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4113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5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4116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7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8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4119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1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4122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4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4125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6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7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4128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0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4131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3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4134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6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4137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9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0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1770480" y="4657680"/>
            <a:ext cx="401976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Ot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í   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í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Quechu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6990120" y="438768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4267080" y="4952880"/>
            <a:ext cx="160020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2116080" y="350028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DD0-42A2-4673-A3CA-965EA640ED31}" type="slidenum">
              <a:t>2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7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8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4149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4150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4151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3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4154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5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6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4157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9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4160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2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4163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5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4166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8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4169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1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4172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4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4175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7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4178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0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4181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3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4184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6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4187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9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4190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2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4193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5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4196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8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4199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1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4202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4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4205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7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4208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0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4211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3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4214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6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4217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9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4220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22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3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513720" y="4876920"/>
            <a:ext cx="74228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Guarani: ‘la’ and ‘lo’ typically us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emonstra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not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definitenes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FA3-93D2-41CE-B665-56900BA21977}" type="slidenum">
              <a:t>2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grammatical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7" name=""/>
          <p:cNvSpPr/>
          <p:nvPr/>
        </p:nvSpPr>
        <p:spPr>
          <a:xfrm>
            <a:off x="3240" y="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8" name=""/>
          <p:cNvGrpSpPr/>
          <p:nvPr/>
        </p:nvGrpSpPr>
        <p:grpSpPr>
          <a:xfrm>
            <a:off x="762120" y="2076480"/>
            <a:ext cx="5730840" cy="4400640"/>
            <a:chOff x="762120" y="2076480"/>
            <a:chExt cx="5730840" cy="4400640"/>
          </a:xfrm>
        </p:grpSpPr>
        <p:grpSp>
          <p:nvGrpSpPr>
            <p:cNvPr id="4229" name=""/>
            <p:cNvGrpSpPr/>
            <p:nvPr/>
          </p:nvGrpSpPr>
          <p:grpSpPr>
            <a:xfrm>
              <a:off x="766800" y="2081520"/>
              <a:ext cx="5721480" cy="4390920"/>
              <a:chOff x="766800" y="2081520"/>
              <a:chExt cx="5721480" cy="4390920"/>
            </a:xfrm>
          </p:grpSpPr>
          <p:grpSp>
            <p:nvGrpSpPr>
              <p:cNvPr id="4230" name=""/>
              <p:cNvGrpSpPr/>
              <p:nvPr/>
            </p:nvGrpSpPr>
            <p:grpSpPr>
              <a:xfrm>
                <a:off x="766800" y="2081520"/>
                <a:ext cx="1636560" cy="731880"/>
                <a:chOff x="766800" y="2081520"/>
                <a:chExt cx="1636560" cy="731880"/>
              </a:xfrm>
            </p:grpSpPr>
            <p:sp>
              <p:nvSpPr>
                <p:cNvPr id="4231" name=""/>
                <p:cNvSpPr/>
                <p:nvPr/>
              </p:nvSpPr>
              <p:spPr>
                <a:xfrm>
                  <a:off x="811080" y="20815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>
                  <a:off x="766800" y="20815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3" name=""/>
              <p:cNvGrpSpPr/>
              <p:nvPr/>
            </p:nvGrpSpPr>
            <p:grpSpPr>
              <a:xfrm>
                <a:off x="2403360" y="2081520"/>
                <a:ext cx="1395720" cy="731880"/>
                <a:chOff x="2403360" y="2081520"/>
                <a:chExt cx="1395720" cy="731880"/>
              </a:xfrm>
            </p:grpSpPr>
            <p:sp>
              <p:nvSpPr>
                <p:cNvPr id="4234" name=""/>
                <p:cNvSpPr/>
                <p:nvPr/>
              </p:nvSpPr>
              <p:spPr>
                <a:xfrm>
                  <a:off x="24480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24033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6" name=""/>
              <p:cNvGrpSpPr/>
              <p:nvPr/>
            </p:nvGrpSpPr>
            <p:grpSpPr>
              <a:xfrm>
                <a:off x="3799080" y="2081520"/>
                <a:ext cx="1293480" cy="731880"/>
                <a:chOff x="3799080" y="2081520"/>
                <a:chExt cx="1293480" cy="731880"/>
              </a:xfrm>
            </p:grpSpPr>
            <p:sp>
              <p:nvSpPr>
                <p:cNvPr id="4237" name=""/>
                <p:cNvSpPr/>
                <p:nvPr/>
              </p:nvSpPr>
              <p:spPr>
                <a:xfrm>
                  <a:off x="3843360" y="20815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ff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>
                  <a:off x="3799080" y="20815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9" name=""/>
              <p:cNvGrpSpPr/>
              <p:nvPr/>
            </p:nvGrpSpPr>
            <p:grpSpPr>
              <a:xfrm>
                <a:off x="5092560" y="2081520"/>
                <a:ext cx="1395720" cy="731880"/>
                <a:chOff x="5092560" y="2081520"/>
                <a:chExt cx="1395720" cy="731880"/>
              </a:xfrm>
            </p:grpSpPr>
            <p:sp>
              <p:nvSpPr>
                <p:cNvPr id="4240" name=""/>
                <p:cNvSpPr/>
                <p:nvPr/>
              </p:nvSpPr>
              <p:spPr>
                <a:xfrm>
                  <a:off x="5137200" y="20815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>
                  <a:off x="5092560" y="20815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2" name=""/>
              <p:cNvGrpSpPr/>
              <p:nvPr/>
            </p:nvGrpSpPr>
            <p:grpSpPr>
              <a:xfrm>
                <a:off x="766800" y="2813400"/>
                <a:ext cx="1636560" cy="731520"/>
                <a:chOff x="766800" y="2813400"/>
                <a:chExt cx="1636560" cy="731520"/>
              </a:xfrm>
            </p:grpSpPr>
            <p:sp>
              <p:nvSpPr>
                <p:cNvPr id="4243" name=""/>
                <p:cNvSpPr/>
                <p:nvPr/>
              </p:nvSpPr>
              <p:spPr>
                <a:xfrm>
                  <a:off x="811080" y="2813400"/>
                  <a:ext cx="1548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d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766800" y="2813400"/>
                  <a:ext cx="1636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5" name=""/>
              <p:cNvGrpSpPr/>
              <p:nvPr/>
            </p:nvGrpSpPr>
            <p:grpSpPr>
              <a:xfrm>
                <a:off x="2403360" y="2813400"/>
                <a:ext cx="1395720" cy="731520"/>
                <a:chOff x="2403360" y="2813400"/>
                <a:chExt cx="1395720" cy="731520"/>
              </a:xfrm>
            </p:grpSpPr>
            <p:sp>
              <p:nvSpPr>
                <p:cNvPr id="4246" name=""/>
                <p:cNvSpPr/>
                <p:nvPr/>
              </p:nvSpPr>
              <p:spPr>
                <a:xfrm>
                  <a:off x="24480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24033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8" name=""/>
              <p:cNvGrpSpPr/>
              <p:nvPr/>
            </p:nvGrpSpPr>
            <p:grpSpPr>
              <a:xfrm>
                <a:off x="3799080" y="2813400"/>
                <a:ext cx="1293480" cy="731520"/>
                <a:chOff x="3799080" y="2813400"/>
                <a:chExt cx="1293480" cy="731520"/>
              </a:xfrm>
            </p:grpSpPr>
            <p:sp>
              <p:nvSpPr>
                <p:cNvPr id="4249" name=""/>
                <p:cNvSpPr/>
                <p:nvPr/>
              </p:nvSpPr>
              <p:spPr>
                <a:xfrm>
                  <a:off x="3843360" y="2813400"/>
                  <a:ext cx="1204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3799080" y="2813400"/>
                  <a:ext cx="129348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1" name=""/>
              <p:cNvGrpSpPr/>
              <p:nvPr/>
            </p:nvGrpSpPr>
            <p:grpSpPr>
              <a:xfrm>
                <a:off x="5092560" y="2813400"/>
                <a:ext cx="1395720" cy="731520"/>
                <a:chOff x="5092560" y="2813400"/>
                <a:chExt cx="1395720" cy="731520"/>
              </a:xfrm>
            </p:grpSpPr>
            <p:sp>
              <p:nvSpPr>
                <p:cNvPr id="4252" name=""/>
                <p:cNvSpPr/>
                <p:nvPr/>
              </p:nvSpPr>
              <p:spPr>
                <a:xfrm>
                  <a:off x="5137200" y="2813400"/>
                  <a:ext cx="13064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21.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5092560" y="2813400"/>
                  <a:ext cx="1395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4" name=""/>
              <p:cNvGrpSpPr/>
              <p:nvPr/>
            </p:nvGrpSpPr>
            <p:grpSpPr>
              <a:xfrm>
                <a:off x="766800" y="3544920"/>
                <a:ext cx="1636560" cy="731880"/>
                <a:chOff x="766800" y="3544920"/>
                <a:chExt cx="1636560" cy="731880"/>
              </a:xfrm>
            </p:grpSpPr>
            <p:sp>
              <p:nvSpPr>
                <p:cNvPr id="4255" name=""/>
                <p:cNvSpPr/>
                <p:nvPr/>
              </p:nvSpPr>
              <p:spPr>
                <a:xfrm>
                  <a:off x="811080" y="354492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>
                  <a:off x="766800" y="354492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7" name=""/>
              <p:cNvGrpSpPr/>
              <p:nvPr/>
            </p:nvGrpSpPr>
            <p:grpSpPr>
              <a:xfrm>
                <a:off x="2403360" y="3544920"/>
                <a:ext cx="1395720" cy="731880"/>
                <a:chOff x="2403360" y="3544920"/>
                <a:chExt cx="1395720" cy="731880"/>
              </a:xfrm>
            </p:grpSpPr>
            <p:sp>
              <p:nvSpPr>
                <p:cNvPr id="4258" name=""/>
                <p:cNvSpPr/>
                <p:nvPr/>
              </p:nvSpPr>
              <p:spPr>
                <a:xfrm>
                  <a:off x="24480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>
                  <a:off x="24033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0" name=""/>
              <p:cNvGrpSpPr/>
              <p:nvPr/>
            </p:nvGrpSpPr>
            <p:grpSpPr>
              <a:xfrm>
                <a:off x="3799080" y="3544920"/>
                <a:ext cx="1293480" cy="731880"/>
                <a:chOff x="3799080" y="3544920"/>
                <a:chExt cx="1293480" cy="731880"/>
              </a:xfrm>
            </p:grpSpPr>
            <p:sp>
              <p:nvSpPr>
                <p:cNvPr id="4261" name=""/>
                <p:cNvSpPr/>
                <p:nvPr/>
              </p:nvSpPr>
              <p:spPr>
                <a:xfrm>
                  <a:off x="3843360" y="354492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9.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>
                  <a:off x="3799080" y="354492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3" name=""/>
              <p:cNvGrpSpPr/>
              <p:nvPr/>
            </p:nvGrpSpPr>
            <p:grpSpPr>
              <a:xfrm>
                <a:off x="5092560" y="3544920"/>
                <a:ext cx="1395720" cy="731880"/>
                <a:chOff x="5092560" y="3544920"/>
                <a:chExt cx="1395720" cy="731880"/>
              </a:xfrm>
            </p:grpSpPr>
            <p:sp>
              <p:nvSpPr>
                <p:cNvPr id="4264" name=""/>
                <p:cNvSpPr/>
                <p:nvPr/>
              </p:nvSpPr>
              <p:spPr>
                <a:xfrm>
                  <a:off x="5137200" y="354492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>
                  <a:off x="5092560" y="354492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6" name=""/>
              <p:cNvGrpSpPr/>
              <p:nvPr/>
            </p:nvGrpSpPr>
            <p:grpSpPr>
              <a:xfrm>
                <a:off x="766800" y="4276800"/>
                <a:ext cx="1636560" cy="731880"/>
                <a:chOff x="766800" y="4276800"/>
                <a:chExt cx="1636560" cy="731880"/>
              </a:xfrm>
            </p:grpSpPr>
            <p:sp>
              <p:nvSpPr>
                <p:cNvPr id="4267" name=""/>
                <p:cNvSpPr/>
                <p:nvPr/>
              </p:nvSpPr>
              <p:spPr>
                <a:xfrm>
                  <a:off x="811080" y="427680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DsMr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766800" y="427680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9" name=""/>
              <p:cNvGrpSpPr/>
              <p:nvPr/>
            </p:nvGrpSpPr>
            <p:grpSpPr>
              <a:xfrm>
                <a:off x="2403360" y="4276800"/>
                <a:ext cx="1395720" cy="731880"/>
                <a:chOff x="2403360" y="4276800"/>
                <a:chExt cx="1395720" cy="731880"/>
              </a:xfrm>
            </p:grpSpPr>
            <p:sp>
              <p:nvSpPr>
                <p:cNvPr id="4270" name=""/>
                <p:cNvSpPr/>
                <p:nvPr/>
              </p:nvSpPr>
              <p:spPr>
                <a:xfrm>
                  <a:off x="24480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24033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2" name=""/>
              <p:cNvGrpSpPr/>
              <p:nvPr/>
            </p:nvGrpSpPr>
            <p:grpSpPr>
              <a:xfrm>
                <a:off x="3799080" y="4276800"/>
                <a:ext cx="1293480" cy="731880"/>
                <a:chOff x="3799080" y="4276800"/>
                <a:chExt cx="1293480" cy="731880"/>
              </a:xfrm>
            </p:grpSpPr>
            <p:sp>
              <p:nvSpPr>
                <p:cNvPr id="4273" name=""/>
                <p:cNvSpPr/>
                <p:nvPr/>
              </p:nvSpPr>
              <p:spPr>
                <a:xfrm>
                  <a:off x="3843360" y="427680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0.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>
                  <a:off x="3799080" y="427680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5" name=""/>
              <p:cNvGrpSpPr/>
              <p:nvPr/>
            </p:nvGrpSpPr>
            <p:grpSpPr>
              <a:xfrm>
                <a:off x="5092560" y="4276800"/>
                <a:ext cx="1395720" cy="731880"/>
                <a:chOff x="5092560" y="4276800"/>
                <a:chExt cx="1395720" cy="731880"/>
              </a:xfrm>
            </p:grpSpPr>
            <p:sp>
              <p:nvSpPr>
                <p:cNvPr id="4276" name=""/>
                <p:cNvSpPr/>
                <p:nvPr/>
              </p:nvSpPr>
              <p:spPr>
                <a:xfrm>
                  <a:off x="5137200" y="427680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>
                  <a:off x="5092560" y="427680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8" name=""/>
              <p:cNvGrpSpPr/>
              <p:nvPr/>
            </p:nvGrpSpPr>
            <p:grpSpPr>
              <a:xfrm>
                <a:off x="766800" y="5008680"/>
                <a:ext cx="1636560" cy="731880"/>
                <a:chOff x="766800" y="5008680"/>
                <a:chExt cx="1636560" cy="731880"/>
              </a:xfrm>
            </p:grpSpPr>
            <p:sp>
              <p:nvSpPr>
                <p:cNvPr id="4279" name=""/>
                <p:cNvSpPr/>
                <p:nvPr/>
              </p:nvSpPr>
              <p:spPr>
                <a:xfrm>
                  <a:off x="811080" y="500868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Sub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766800" y="500868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1" name=""/>
              <p:cNvGrpSpPr/>
              <p:nvPr/>
            </p:nvGrpSpPr>
            <p:grpSpPr>
              <a:xfrm>
                <a:off x="2403360" y="5008680"/>
                <a:ext cx="1395720" cy="731880"/>
                <a:chOff x="2403360" y="5008680"/>
                <a:chExt cx="1395720" cy="731880"/>
              </a:xfrm>
            </p:grpSpPr>
            <p:sp>
              <p:nvSpPr>
                <p:cNvPr id="4282" name=""/>
                <p:cNvSpPr/>
                <p:nvPr/>
              </p:nvSpPr>
              <p:spPr>
                <a:xfrm>
                  <a:off x="24480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24033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4" name=""/>
              <p:cNvGrpSpPr/>
              <p:nvPr/>
            </p:nvGrpSpPr>
            <p:grpSpPr>
              <a:xfrm>
                <a:off x="3799080" y="5008680"/>
                <a:ext cx="1293480" cy="731880"/>
                <a:chOff x="3799080" y="5008680"/>
                <a:chExt cx="1293480" cy="731880"/>
              </a:xfrm>
            </p:grpSpPr>
            <p:sp>
              <p:nvSpPr>
                <p:cNvPr id="4285" name=""/>
                <p:cNvSpPr/>
                <p:nvPr/>
              </p:nvSpPr>
              <p:spPr>
                <a:xfrm>
                  <a:off x="3843360" y="500868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3799080" y="500868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7" name=""/>
              <p:cNvGrpSpPr/>
              <p:nvPr/>
            </p:nvGrpSpPr>
            <p:grpSpPr>
              <a:xfrm>
                <a:off x="5092560" y="5008680"/>
                <a:ext cx="1395720" cy="731880"/>
                <a:chOff x="5092560" y="5008680"/>
                <a:chExt cx="1395720" cy="731880"/>
              </a:xfrm>
            </p:grpSpPr>
            <p:sp>
              <p:nvSpPr>
                <p:cNvPr id="4288" name=""/>
                <p:cNvSpPr/>
                <p:nvPr/>
              </p:nvSpPr>
              <p:spPr>
                <a:xfrm>
                  <a:off x="5137200" y="500868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>
                  <a:off x="5092560" y="500868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0" name=""/>
              <p:cNvGrpSpPr/>
              <p:nvPr/>
            </p:nvGrpSpPr>
            <p:grpSpPr>
              <a:xfrm>
                <a:off x="766800" y="5740560"/>
                <a:ext cx="1636560" cy="731880"/>
                <a:chOff x="766800" y="5740560"/>
                <a:chExt cx="1636560" cy="731880"/>
              </a:xfrm>
            </p:grpSpPr>
            <p:sp>
              <p:nvSpPr>
                <p:cNvPr id="4291" name=""/>
                <p:cNvSpPr/>
                <p:nvPr/>
              </p:nvSpPr>
              <p:spPr>
                <a:xfrm>
                  <a:off x="811080" y="5740560"/>
                  <a:ext cx="1548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Conj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766800" y="5740560"/>
                  <a:ext cx="163656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3" name=""/>
              <p:cNvGrpSpPr/>
              <p:nvPr/>
            </p:nvGrpSpPr>
            <p:grpSpPr>
              <a:xfrm>
                <a:off x="2403360" y="5740560"/>
                <a:ext cx="1395720" cy="731880"/>
                <a:chOff x="2403360" y="5740560"/>
                <a:chExt cx="1395720" cy="731880"/>
              </a:xfrm>
            </p:grpSpPr>
            <p:sp>
              <p:nvSpPr>
                <p:cNvPr id="4294" name=""/>
                <p:cNvSpPr/>
                <p:nvPr/>
              </p:nvSpPr>
              <p:spPr>
                <a:xfrm>
                  <a:off x="24480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>
                  <a:off x="24033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6" name=""/>
              <p:cNvGrpSpPr/>
              <p:nvPr/>
            </p:nvGrpSpPr>
            <p:grpSpPr>
              <a:xfrm>
                <a:off x="3799080" y="5740560"/>
                <a:ext cx="1293480" cy="731880"/>
                <a:chOff x="3799080" y="5740560"/>
                <a:chExt cx="1293480" cy="731880"/>
              </a:xfrm>
            </p:grpSpPr>
            <p:sp>
              <p:nvSpPr>
                <p:cNvPr id="4297" name=""/>
                <p:cNvSpPr/>
                <p:nvPr/>
              </p:nvSpPr>
              <p:spPr>
                <a:xfrm>
                  <a:off x="3843360" y="5740560"/>
                  <a:ext cx="1204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.4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>
                  <a:off x="3799080" y="5740560"/>
                  <a:ext cx="129348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9" name=""/>
              <p:cNvGrpSpPr/>
              <p:nvPr/>
            </p:nvGrpSpPr>
            <p:grpSpPr>
              <a:xfrm>
                <a:off x="5092560" y="5740560"/>
                <a:ext cx="1395720" cy="731880"/>
                <a:chOff x="5092560" y="5740560"/>
                <a:chExt cx="1395720" cy="731880"/>
              </a:xfrm>
            </p:grpSpPr>
            <p:sp>
              <p:nvSpPr>
                <p:cNvPr id="4300" name=""/>
                <p:cNvSpPr/>
                <p:nvPr/>
              </p:nvSpPr>
              <p:spPr>
                <a:xfrm>
                  <a:off x="5137200" y="5740560"/>
                  <a:ext cx="13064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7.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>
                  <a:off x="5092560" y="5740560"/>
                  <a:ext cx="13957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2" name=""/>
            <p:cNvSpPr/>
            <p:nvPr/>
          </p:nvSpPr>
          <p:spPr>
            <a:xfrm>
              <a:off x="762120" y="2076480"/>
              <a:ext cx="5730840" cy="4400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3657600" y="35053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609480" y="4343400"/>
            <a:ext cx="6096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522360" y="4876920"/>
            <a:ext cx="766368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in Guarani: ‘la’ and ‘lo’ typically us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demonstra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not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definitenes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opic marke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in Gua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st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in Que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-ka’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62A-0201-43C6-B6D0-E7370F28B4EE}" type="slidenum">
              <a:t>2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7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2" name=""/>
          <p:cNvGrpSpPr/>
          <p:nvPr/>
        </p:nvGrpSpPr>
        <p:grpSpPr>
          <a:xfrm>
            <a:off x="1447920" y="2049480"/>
            <a:ext cx="5895720" cy="2205000"/>
            <a:chOff x="1447920" y="2049480"/>
            <a:chExt cx="5895720" cy="2205000"/>
          </a:xfrm>
        </p:grpSpPr>
        <p:grpSp>
          <p:nvGrpSpPr>
            <p:cNvPr id="4313" name=""/>
            <p:cNvGrpSpPr/>
            <p:nvPr/>
          </p:nvGrpSpPr>
          <p:grpSpPr>
            <a:xfrm>
              <a:off x="1452600" y="2054520"/>
              <a:ext cx="5886360" cy="2195280"/>
              <a:chOff x="1452600" y="2054520"/>
              <a:chExt cx="5886360" cy="2195280"/>
            </a:xfrm>
          </p:grpSpPr>
          <p:grpSp>
            <p:nvGrpSpPr>
              <p:cNvPr id="4314" name=""/>
              <p:cNvGrpSpPr/>
              <p:nvPr/>
            </p:nvGrpSpPr>
            <p:grpSpPr>
              <a:xfrm>
                <a:off x="1452600" y="2054520"/>
                <a:ext cx="2190600" cy="731520"/>
                <a:chOff x="1452600" y="2054520"/>
                <a:chExt cx="2190600" cy="731520"/>
              </a:xfrm>
            </p:grpSpPr>
            <p:sp>
              <p:nvSpPr>
                <p:cNvPr id="4315" name=""/>
                <p:cNvSpPr/>
                <p:nvPr/>
              </p:nvSpPr>
              <p:spPr>
                <a:xfrm>
                  <a:off x="1496880" y="20545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1452600" y="20545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7" name=""/>
              <p:cNvGrpSpPr/>
              <p:nvPr/>
            </p:nvGrpSpPr>
            <p:grpSpPr>
              <a:xfrm>
                <a:off x="3643200" y="2054520"/>
                <a:ext cx="1231920" cy="731520"/>
                <a:chOff x="3643200" y="2054520"/>
                <a:chExt cx="1231920" cy="731520"/>
              </a:xfrm>
            </p:grpSpPr>
            <p:sp>
              <p:nvSpPr>
                <p:cNvPr id="4318" name=""/>
                <p:cNvSpPr/>
                <p:nvPr/>
              </p:nvSpPr>
              <p:spPr>
                <a:xfrm>
                  <a:off x="368784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364320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0" name=""/>
              <p:cNvGrpSpPr/>
              <p:nvPr/>
            </p:nvGrpSpPr>
            <p:grpSpPr>
              <a:xfrm>
                <a:off x="4875120" y="2054520"/>
                <a:ext cx="1231920" cy="731520"/>
                <a:chOff x="4875120" y="2054520"/>
                <a:chExt cx="1231920" cy="731520"/>
              </a:xfrm>
            </p:grpSpPr>
            <p:sp>
              <p:nvSpPr>
                <p:cNvPr id="4321" name=""/>
                <p:cNvSpPr/>
                <p:nvPr/>
              </p:nvSpPr>
              <p:spPr>
                <a:xfrm>
                  <a:off x="491976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>
                  <a:off x="487512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3" name=""/>
              <p:cNvGrpSpPr/>
              <p:nvPr/>
            </p:nvGrpSpPr>
            <p:grpSpPr>
              <a:xfrm>
                <a:off x="6107040" y="2054520"/>
                <a:ext cx="1231920" cy="731520"/>
                <a:chOff x="6107040" y="2054520"/>
                <a:chExt cx="1231920" cy="73152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615168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610704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6" name=""/>
              <p:cNvGrpSpPr/>
              <p:nvPr/>
            </p:nvGrpSpPr>
            <p:grpSpPr>
              <a:xfrm>
                <a:off x="1452600" y="2786040"/>
                <a:ext cx="2190600" cy="731880"/>
                <a:chOff x="1452600" y="2786040"/>
                <a:chExt cx="2190600" cy="731880"/>
              </a:xfrm>
            </p:grpSpPr>
            <p:sp>
              <p:nvSpPr>
                <p:cNvPr id="4327" name=""/>
                <p:cNvSpPr/>
                <p:nvPr/>
              </p:nvSpPr>
              <p:spPr>
                <a:xfrm>
                  <a:off x="1496880" y="27860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1452600" y="27860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9" name=""/>
              <p:cNvGrpSpPr/>
              <p:nvPr/>
            </p:nvGrpSpPr>
            <p:grpSpPr>
              <a:xfrm>
                <a:off x="3643200" y="2786040"/>
                <a:ext cx="1231920" cy="731880"/>
                <a:chOff x="3643200" y="2786040"/>
                <a:chExt cx="1231920" cy="731880"/>
              </a:xfrm>
            </p:grpSpPr>
            <p:sp>
              <p:nvSpPr>
                <p:cNvPr id="4330" name=""/>
                <p:cNvSpPr/>
                <p:nvPr/>
              </p:nvSpPr>
              <p:spPr>
                <a:xfrm>
                  <a:off x="368784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364320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2" name=""/>
              <p:cNvGrpSpPr/>
              <p:nvPr/>
            </p:nvGrpSpPr>
            <p:grpSpPr>
              <a:xfrm>
                <a:off x="4875120" y="2786040"/>
                <a:ext cx="1231920" cy="731880"/>
                <a:chOff x="4875120" y="2786040"/>
                <a:chExt cx="1231920" cy="731880"/>
              </a:xfrm>
            </p:grpSpPr>
            <p:sp>
              <p:nvSpPr>
                <p:cNvPr id="4333" name=""/>
                <p:cNvSpPr/>
                <p:nvPr/>
              </p:nvSpPr>
              <p:spPr>
                <a:xfrm>
                  <a:off x="491976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4" name=""/>
                <p:cNvSpPr/>
                <p:nvPr/>
              </p:nvSpPr>
              <p:spPr>
                <a:xfrm>
                  <a:off x="487512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5" name=""/>
              <p:cNvGrpSpPr/>
              <p:nvPr/>
            </p:nvGrpSpPr>
            <p:grpSpPr>
              <a:xfrm>
                <a:off x="6107040" y="2786040"/>
                <a:ext cx="1231920" cy="731880"/>
                <a:chOff x="6107040" y="2786040"/>
                <a:chExt cx="1231920" cy="731880"/>
              </a:xfrm>
            </p:grpSpPr>
            <p:sp>
              <p:nvSpPr>
                <p:cNvPr id="4336" name=""/>
                <p:cNvSpPr/>
                <p:nvPr/>
              </p:nvSpPr>
              <p:spPr>
                <a:xfrm>
                  <a:off x="615168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>
                  <a:off x="610704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8" name=""/>
              <p:cNvGrpSpPr/>
              <p:nvPr/>
            </p:nvGrpSpPr>
            <p:grpSpPr>
              <a:xfrm>
                <a:off x="1452600" y="3517920"/>
                <a:ext cx="2190600" cy="731880"/>
                <a:chOff x="1452600" y="3517920"/>
                <a:chExt cx="2190600" cy="731880"/>
              </a:xfrm>
            </p:grpSpPr>
            <p:sp>
              <p:nvSpPr>
                <p:cNvPr id="4339" name=""/>
                <p:cNvSpPr/>
                <p:nvPr/>
              </p:nvSpPr>
              <p:spPr>
                <a:xfrm>
                  <a:off x="1496880" y="35179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1452600" y="35179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1" name=""/>
              <p:cNvGrpSpPr/>
              <p:nvPr/>
            </p:nvGrpSpPr>
            <p:grpSpPr>
              <a:xfrm>
                <a:off x="3643200" y="3517920"/>
                <a:ext cx="1231920" cy="731880"/>
                <a:chOff x="3643200" y="3517920"/>
                <a:chExt cx="1231920" cy="731880"/>
              </a:xfrm>
            </p:grpSpPr>
            <p:sp>
              <p:nvSpPr>
                <p:cNvPr id="4342" name=""/>
                <p:cNvSpPr/>
                <p:nvPr/>
              </p:nvSpPr>
              <p:spPr>
                <a:xfrm>
                  <a:off x="368784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>
                  <a:off x="364320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4" name=""/>
              <p:cNvGrpSpPr/>
              <p:nvPr/>
            </p:nvGrpSpPr>
            <p:grpSpPr>
              <a:xfrm>
                <a:off x="4875120" y="3517920"/>
                <a:ext cx="1231920" cy="731880"/>
                <a:chOff x="4875120" y="3517920"/>
                <a:chExt cx="1231920" cy="731880"/>
              </a:xfrm>
            </p:grpSpPr>
            <p:sp>
              <p:nvSpPr>
                <p:cNvPr id="4345" name=""/>
                <p:cNvSpPr/>
                <p:nvPr/>
              </p:nvSpPr>
              <p:spPr>
                <a:xfrm>
                  <a:off x="491976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487512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7" name=""/>
              <p:cNvGrpSpPr/>
              <p:nvPr/>
            </p:nvGrpSpPr>
            <p:grpSpPr>
              <a:xfrm>
                <a:off x="6107040" y="3517920"/>
                <a:ext cx="1231920" cy="731880"/>
                <a:chOff x="6107040" y="3517920"/>
                <a:chExt cx="1231920" cy="731880"/>
              </a:xfrm>
            </p:grpSpPr>
            <p:sp>
              <p:nvSpPr>
                <p:cNvPr id="4348" name=""/>
                <p:cNvSpPr/>
                <p:nvPr/>
              </p:nvSpPr>
              <p:spPr>
                <a:xfrm>
                  <a:off x="615168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>
                  <a:off x="610704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50" name=""/>
            <p:cNvSpPr/>
            <p:nvPr/>
          </p:nvSpPr>
          <p:spPr>
            <a:xfrm>
              <a:off x="1447920" y="20494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1" name=""/>
          <p:cNvSpPr/>
          <p:nvPr/>
        </p:nvSpPr>
        <p:spPr>
          <a:xfrm>
            <a:off x="7715520" y="306864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5879520" y="3440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4635000" y="3440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44B-DC88-4FC5-B92A-CD2F30D690D3}" type="slidenum">
              <a:t>2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7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2" name=""/>
          <p:cNvGrpSpPr/>
          <p:nvPr/>
        </p:nvGrpSpPr>
        <p:grpSpPr>
          <a:xfrm>
            <a:off x="1447920" y="2049480"/>
            <a:ext cx="5895720" cy="2205000"/>
            <a:chOff x="1447920" y="2049480"/>
            <a:chExt cx="5895720" cy="2205000"/>
          </a:xfrm>
        </p:grpSpPr>
        <p:grpSp>
          <p:nvGrpSpPr>
            <p:cNvPr id="4363" name=""/>
            <p:cNvGrpSpPr/>
            <p:nvPr/>
          </p:nvGrpSpPr>
          <p:grpSpPr>
            <a:xfrm>
              <a:off x="1452600" y="2054520"/>
              <a:ext cx="5886360" cy="2195280"/>
              <a:chOff x="1452600" y="2054520"/>
              <a:chExt cx="5886360" cy="2195280"/>
            </a:xfrm>
          </p:grpSpPr>
          <p:grpSp>
            <p:nvGrpSpPr>
              <p:cNvPr id="4364" name=""/>
              <p:cNvGrpSpPr/>
              <p:nvPr/>
            </p:nvGrpSpPr>
            <p:grpSpPr>
              <a:xfrm>
                <a:off x="1452600" y="2054520"/>
                <a:ext cx="2190600" cy="731520"/>
                <a:chOff x="1452600" y="2054520"/>
                <a:chExt cx="2190600" cy="731520"/>
              </a:xfrm>
            </p:grpSpPr>
            <p:sp>
              <p:nvSpPr>
                <p:cNvPr id="4365" name=""/>
                <p:cNvSpPr/>
                <p:nvPr/>
              </p:nvSpPr>
              <p:spPr>
                <a:xfrm>
                  <a:off x="1496880" y="20545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1452600" y="20545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7" name=""/>
              <p:cNvGrpSpPr/>
              <p:nvPr/>
            </p:nvGrpSpPr>
            <p:grpSpPr>
              <a:xfrm>
                <a:off x="3643200" y="2054520"/>
                <a:ext cx="1231920" cy="731520"/>
                <a:chOff x="3643200" y="2054520"/>
                <a:chExt cx="1231920" cy="731520"/>
              </a:xfrm>
            </p:grpSpPr>
            <p:sp>
              <p:nvSpPr>
                <p:cNvPr id="4368" name=""/>
                <p:cNvSpPr/>
                <p:nvPr/>
              </p:nvSpPr>
              <p:spPr>
                <a:xfrm>
                  <a:off x="368784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364320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0" name=""/>
              <p:cNvGrpSpPr/>
              <p:nvPr/>
            </p:nvGrpSpPr>
            <p:grpSpPr>
              <a:xfrm>
                <a:off x="4875120" y="2054520"/>
                <a:ext cx="1231920" cy="731520"/>
                <a:chOff x="4875120" y="2054520"/>
                <a:chExt cx="1231920" cy="731520"/>
              </a:xfrm>
            </p:grpSpPr>
            <p:sp>
              <p:nvSpPr>
                <p:cNvPr id="4371" name=""/>
                <p:cNvSpPr/>
                <p:nvPr/>
              </p:nvSpPr>
              <p:spPr>
                <a:xfrm>
                  <a:off x="491976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487512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3" name=""/>
              <p:cNvGrpSpPr/>
              <p:nvPr/>
            </p:nvGrpSpPr>
            <p:grpSpPr>
              <a:xfrm>
                <a:off x="6107040" y="2054520"/>
                <a:ext cx="1231920" cy="731520"/>
                <a:chOff x="6107040" y="2054520"/>
                <a:chExt cx="1231920" cy="731520"/>
              </a:xfrm>
            </p:grpSpPr>
            <p:sp>
              <p:nvSpPr>
                <p:cNvPr id="4374" name=""/>
                <p:cNvSpPr/>
                <p:nvPr/>
              </p:nvSpPr>
              <p:spPr>
                <a:xfrm>
                  <a:off x="615168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610704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6" name=""/>
              <p:cNvGrpSpPr/>
              <p:nvPr/>
            </p:nvGrpSpPr>
            <p:grpSpPr>
              <a:xfrm>
                <a:off x="1452600" y="2786040"/>
                <a:ext cx="2190600" cy="731880"/>
                <a:chOff x="1452600" y="2786040"/>
                <a:chExt cx="2190600" cy="731880"/>
              </a:xfrm>
            </p:grpSpPr>
            <p:sp>
              <p:nvSpPr>
                <p:cNvPr id="4377" name=""/>
                <p:cNvSpPr/>
                <p:nvPr/>
              </p:nvSpPr>
              <p:spPr>
                <a:xfrm>
                  <a:off x="1496880" y="27860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8" name=""/>
                <p:cNvSpPr/>
                <p:nvPr/>
              </p:nvSpPr>
              <p:spPr>
                <a:xfrm>
                  <a:off x="1452600" y="27860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9" name=""/>
              <p:cNvGrpSpPr/>
              <p:nvPr/>
            </p:nvGrpSpPr>
            <p:grpSpPr>
              <a:xfrm>
                <a:off x="3643200" y="2786040"/>
                <a:ext cx="1231920" cy="731880"/>
                <a:chOff x="3643200" y="2786040"/>
                <a:chExt cx="1231920" cy="73188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368784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364320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2" name=""/>
              <p:cNvGrpSpPr/>
              <p:nvPr/>
            </p:nvGrpSpPr>
            <p:grpSpPr>
              <a:xfrm>
                <a:off x="4875120" y="2786040"/>
                <a:ext cx="1231920" cy="731880"/>
                <a:chOff x="4875120" y="2786040"/>
                <a:chExt cx="1231920" cy="731880"/>
              </a:xfrm>
            </p:grpSpPr>
            <p:sp>
              <p:nvSpPr>
                <p:cNvPr id="4383" name=""/>
                <p:cNvSpPr/>
                <p:nvPr/>
              </p:nvSpPr>
              <p:spPr>
                <a:xfrm>
                  <a:off x="491976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7512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5" name=""/>
              <p:cNvGrpSpPr/>
              <p:nvPr/>
            </p:nvGrpSpPr>
            <p:grpSpPr>
              <a:xfrm>
                <a:off x="6107040" y="2786040"/>
                <a:ext cx="1231920" cy="731880"/>
                <a:chOff x="6107040" y="2786040"/>
                <a:chExt cx="1231920" cy="731880"/>
              </a:xfrm>
            </p:grpSpPr>
            <p:sp>
              <p:nvSpPr>
                <p:cNvPr id="4386" name=""/>
                <p:cNvSpPr/>
                <p:nvPr/>
              </p:nvSpPr>
              <p:spPr>
                <a:xfrm>
                  <a:off x="615168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610704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8" name=""/>
              <p:cNvGrpSpPr/>
              <p:nvPr/>
            </p:nvGrpSpPr>
            <p:grpSpPr>
              <a:xfrm>
                <a:off x="1452600" y="3517920"/>
                <a:ext cx="2190600" cy="731880"/>
                <a:chOff x="1452600" y="3517920"/>
                <a:chExt cx="2190600" cy="731880"/>
              </a:xfrm>
            </p:grpSpPr>
            <p:sp>
              <p:nvSpPr>
                <p:cNvPr id="4389" name=""/>
                <p:cNvSpPr/>
                <p:nvPr/>
              </p:nvSpPr>
              <p:spPr>
                <a:xfrm>
                  <a:off x="1496880" y="35179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0" name=""/>
                <p:cNvSpPr/>
                <p:nvPr/>
              </p:nvSpPr>
              <p:spPr>
                <a:xfrm>
                  <a:off x="1452600" y="35179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1" name=""/>
              <p:cNvGrpSpPr/>
              <p:nvPr/>
            </p:nvGrpSpPr>
            <p:grpSpPr>
              <a:xfrm>
                <a:off x="3643200" y="3517920"/>
                <a:ext cx="1231920" cy="731880"/>
                <a:chOff x="3643200" y="3517920"/>
                <a:chExt cx="1231920" cy="731880"/>
              </a:xfrm>
            </p:grpSpPr>
            <p:sp>
              <p:nvSpPr>
                <p:cNvPr id="4392" name=""/>
                <p:cNvSpPr/>
                <p:nvPr/>
              </p:nvSpPr>
              <p:spPr>
                <a:xfrm>
                  <a:off x="368784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>
                  <a:off x="364320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4" name=""/>
              <p:cNvGrpSpPr/>
              <p:nvPr/>
            </p:nvGrpSpPr>
            <p:grpSpPr>
              <a:xfrm>
                <a:off x="4875120" y="3517920"/>
                <a:ext cx="1231920" cy="731880"/>
                <a:chOff x="4875120" y="3517920"/>
                <a:chExt cx="1231920" cy="731880"/>
              </a:xfrm>
            </p:grpSpPr>
            <p:sp>
              <p:nvSpPr>
                <p:cNvPr id="4395" name=""/>
                <p:cNvSpPr/>
                <p:nvPr/>
              </p:nvSpPr>
              <p:spPr>
                <a:xfrm>
                  <a:off x="491976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19.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487512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7" name=""/>
              <p:cNvGrpSpPr/>
              <p:nvPr/>
            </p:nvGrpSpPr>
            <p:grpSpPr>
              <a:xfrm>
                <a:off x="6107040" y="3517920"/>
                <a:ext cx="1231920" cy="731880"/>
                <a:chOff x="6107040" y="3517920"/>
                <a:chExt cx="1231920" cy="731880"/>
              </a:xfrm>
            </p:grpSpPr>
            <p:sp>
              <p:nvSpPr>
                <p:cNvPr id="4398" name=""/>
                <p:cNvSpPr/>
                <p:nvPr/>
              </p:nvSpPr>
              <p:spPr>
                <a:xfrm>
                  <a:off x="615168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9" name=""/>
                <p:cNvSpPr/>
                <p:nvPr/>
              </p:nvSpPr>
              <p:spPr>
                <a:xfrm>
                  <a:off x="610704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0" name=""/>
            <p:cNvSpPr/>
            <p:nvPr/>
          </p:nvSpPr>
          <p:spPr>
            <a:xfrm>
              <a:off x="1447920" y="20494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1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915840" y="4102200"/>
            <a:ext cx="288108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act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= topic mar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G: in gramm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ypassing lex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 flipH="1">
            <a:off x="3850920" y="4114800"/>
            <a:ext cx="11430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E40-9813-47DD-B6E0-C747CF40C497}" type="slidenum">
              <a:t>2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6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1" name=""/>
          <p:cNvGrpSpPr/>
          <p:nvPr/>
        </p:nvGrpSpPr>
        <p:grpSpPr>
          <a:xfrm>
            <a:off x="1447920" y="2049480"/>
            <a:ext cx="5895720" cy="2205000"/>
            <a:chOff x="1447920" y="2049480"/>
            <a:chExt cx="5895720" cy="2205000"/>
          </a:xfrm>
        </p:grpSpPr>
        <p:grpSp>
          <p:nvGrpSpPr>
            <p:cNvPr id="4412" name=""/>
            <p:cNvGrpSpPr/>
            <p:nvPr/>
          </p:nvGrpSpPr>
          <p:grpSpPr>
            <a:xfrm>
              <a:off x="1452600" y="2054520"/>
              <a:ext cx="5886360" cy="2195280"/>
              <a:chOff x="1452600" y="2054520"/>
              <a:chExt cx="5886360" cy="2195280"/>
            </a:xfrm>
          </p:grpSpPr>
          <p:grpSp>
            <p:nvGrpSpPr>
              <p:cNvPr id="4413" name=""/>
              <p:cNvGrpSpPr/>
              <p:nvPr/>
            </p:nvGrpSpPr>
            <p:grpSpPr>
              <a:xfrm>
                <a:off x="1452600" y="2054520"/>
                <a:ext cx="2190600" cy="731520"/>
                <a:chOff x="1452600" y="2054520"/>
                <a:chExt cx="2190600" cy="731520"/>
              </a:xfrm>
            </p:grpSpPr>
            <p:sp>
              <p:nvSpPr>
                <p:cNvPr id="4414" name=""/>
                <p:cNvSpPr/>
                <p:nvPr/>
              </p:nvSpPr>
              <p:spPr>
                <a:xfrm>
                  <a:off x="1496880" y="205452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5" name=""/>
                <p:cNvSpPr/>
                <p:nvPr/>
              </p:nvSpPr>
              <p:spPr>
                <a:xfrm>
                  <a:off x="1452600" y="205452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6" name=""/>
              <p:cNvGrpSpPr/>
              <p:nvPr/>
            </p:nvGrpSpPr>
            <p:grpSpPr>
              <a:xfrm>
                <a:off x="3643200" y="2054520"/>
                <a:ext cx="1231920" cy="731520"/>
                <a:chOff x="3643200" y="2054520"/>
                <a:chExt cx="1231920" cy="731520"/>
              </a:xfrm>
            </p:grpSpPr>
            <p:sp>
              <p:nvSpPr>
                <p:cNvPr id="4417" name=""/>
                <p:cNvSpPr/>
                <p:nvPr/>
              </p:nvSpPr>
              <p:spPr>
                <a:xfrm>
                  <a:off x="368784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>
                  <a:off x="364320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9" name=""/>
              <p:cNvGrpSpPr/>
              <p:nvPr/>
            </p:nvGrpSpPr>
            <p:grpSpPr>
              <a:xfrm>
                <a:off x="4875120" y="2054520"/>
                <a:ext cx="1231920" cy="731520"/>
                <a:chOff x="4875120" y="2054520"/>
                <a:chExt cx="1231920" cy="731520"/>
              </a:xfrm>
            </p:grpSpPr>
            <p:sp>
              <p:nvSpPr>
                <p:cNvPr id="4420" name=""/>
                <p:cNvSpPr/>
                <p:nvPr/>
              </p:nvSpPr>
              <p:spPr>
                <a:xfrm>
                  <a:off x="491976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>
                  <a:off x="487512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2" name=""/>
              <p:cNvGrpSpPr/>
              <p:nvPr/>
            </p:nvGrpSpPr>
            <p:grpSpPr>
              <a:xfrm>
                <a:off x="6107040" y="2054520"/>
                <a:ext cx="1231920" cy="731520"/>
                <a:chOff x="6107040" y="2054520"/>
                <a:chExt cx="1231920" cy="731520"/>
              </a:xfrm>
            </p:grpSpPr>
            <p:sp>
              <p:nvSpPr>
                <p:cNvPr id="4423" name=""/>
                <p:cNvSpPr/>
                <p:nvPr/>
              </p:nvSpPr>
              <p:spPr>
                <a:xfrm>
                  <a:off x="6151680" y="205452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>
                  <a:off x="6107040" y="205452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5" name=""/>
              <p:cNvGrpSpPr/>
              <p:nvPr/>
            </p:nvGrpSpPr>
            <p:grpSpPr>
              <a:xfrm>
                <a:off x="1452600" y="2786040"/>
                <a:ext cx="2190600" cy="731880"/>
                <a:chOff x="1452600" y="2786040"/>
                <a:chExt cx="2190600" cy="731880"/>
              </a:xfrm>
            </p:grpSpPr>
            <p:sp>
              <p:nvSpPr>
                <p:cNvPr id="4426" name=""/>
                <p:cNvSpPr/>
                <p:nvPr/>
              </p:nvSpPr>
              <p:spPr>
                <a:xfrm>
                  <a:off x="1496880" y="278604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>
                  <a:off x="1452600" y="278604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8" name=""/>
              <p:cNvGrpSpPr/>
              <p:nvPr/>
            </p:nvGrpSpPr>
            <p:grpSpPr>
              <a:xfrm>
                <a:off x="3643200" y="2786040"/>
                <a:ext cx="1231920" cy="731880"/>
                <a:chOff x="3643200" y="2786040"/>
                <a:chExt cx="1231920" cy="731880"/>
              </a:xfrm>
            </p:grpSpPr>
            <p:sp>
              <p:nvSpPr>
                <p:cNvPr id="4429" name=""/>
                <p:cNvSpPr/>
                <p:nvPr/>
              </p:nvSpPr>
              <p:spPr>
                <a:xfrm>
                  <a:off x="368784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>
                  <a:off x="364320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1" name=""/>
              <p:cNvGrpSpPr/>
              <p:nvPr/>
            </p:nvGrpSpPr>
            <p:grpSpPr>
              <a:xfrm>
                <a:off x="4875120" y="2786040"/>
                <a:ext cx="1231920" cy="731880"/>
                <a:chOff x="4875120" y="2786040"/>
                <a:chExt cx="1231920" cy="731880"/>
              </a:xfrm>
            </p:grpSpPr>
            <p:sp>
              <p:nvSpPr>
                <p:cNvPr id="4432" name=""/>
                <p:cNvSpPr/>
                <p:nvPr/>
              </p:nvSpPr>
              <p:spPr>
                <a:xfrm>
                  <a:off x="491976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487512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4" name=""/>
              <p:cNvGrpSpPr/>
              <p:nvPr/>
            </p:nvGrpSpPr>
            <p:grpSpPr>
              <a:xfrm>
                <a:off x="6107040" y="2786040"/>
                <a:ext cx="1231920" cy="731880"/>
                <a:chOff x="6107040" y="2786040"/>
                <a:chExt cx="1231920" cy="731880"/>
              </a:xfrm>
            </p:grpSpPr>
            <p:sp>
              <p:nvSpPr>
                <p:cNvPr id="4435" name=""/>
                <p:cNvSpPr/>
                <p:nvPr/>
              </p:nvSpPr>
              <p:spPr>
                <a:xfrm>
                  <a:off x="6151680" y="278604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>
                  <a:off x="6107040" y="278604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7" name=""/>
              <p:cNvGrpSpPr/>
              <p:nvPr/>
            </p:nvGrpSpPr>
            <p:grpSpPr>
              <a:xfrm>
                <a:off x="1452600" y="3517920"/>
                <a:ext cx="2190600" cy="731880"/>
                <a:chOff x="1452600" y="3517920"/>
                <a:chExt cx="2190600" cy="731880"/>
              </a:xfrm>
            </p:grpSpPr>
            <p:sp>
              <p:nvSpPr>
                <p:cNvPr id="4438" name=""/>
                <p:cNvSpPr/>
                <p:nvPr/>
              </p:nvSpPr>
              <p:spPr>
                <a:xfrm>
                  <a:off x="1496880" y="351792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1452600" y="351792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0" name=""/>
              <p:cNvGrpSpPr/>
              <p:nvPr/>
            </p:nvGrpSpPr>
            <p:grpSpPr>
              <a:xfrm>
                <a:off x="3643200" y="3517920"/>
                <a:ext cx="1231920" cy="731880"/>
                <a:chOff x="3643200" y="3517920"/>
                <a:chExt cx="1231920" cy="731880"/>
              </a:xfrm>
            </p:grpSpPr>
            <p:sp>
              <p:nvSpPr>
                <p:cNvPr id="4441" name=""/>
                <p:cNvSpPr/>
                <p:nvPr/>
              </p:nvSpPr>
              <p:spPr>
                <a:xfrm>
                  <a:off x="368784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2" name=""/>
                <p:cNvSpPr/>
                <p:nvPr/>
              </p:nvSpPr>
              <p:spPr>
                <a:xfrm>
                  <a:off x="364320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3" name=""/>
              <p:cNvGrpSpPr/>
              <p:nvPr/>
            </p:nvGrpSpPr>
            <p:grpSpPr>
              <a:xfrm>
                <a:off x="4875120" y="3517920"/>
                <a:ext cx="1231920" cy="731880"/>
                <a:chOff x="4875120" y="3517920"/>
                <a:chExt cx="1231920" cy="731880"/>
              </a:xfrm>
            </p:grpSpPr>
            <p:sp>
              <p:nvSpPr>
                <p:cNvPr id="4444" name=""/>
                <p:cNvSpPr/>
                <p:nvPr/>
              </p:nvSpPr>
              <p:spPr>
                <a:xfrm>
                  <a:off x="491976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-19.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>
                  <a:off x="487512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6" name=""/>
              <p:cNvGrpSpPr/>
              <p:nvPr/>
            </p:nvGrpSpPr>
            <p:grpSpPr>
              <a:xfrm>
                <a:off x="6107040" y="3517920"/>
                <a:ext cx="1231920" cy="731880"/>
                <a:chOff x="6107040" y="3517920"/>
                <a:chExt cx="1231920" cy="731880"/>
              </a:xfrm>
            </p:grpSpPr>
            <p:sp>
              <p:nvSpPr>
                <p:cNvPr id="4447" name=""/>
                <p:cNvSpPr/>
                <p:nvPr/>
              </p:nvSpPr>
              <p:spPr>
                <a:xfrm>
                  <a:off x="6151680" y="351792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nl-NL" sz="2400" spc="-1" strike="noStrike">
                      <a:solidFill>
                        <a:srgbClr val="000000"/>
                      </a:solidFill>
                      <a:latin typeface="Times New Roman"/>
                    </a:rPr>
                    <a:t>2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8" name=""/>
                <p:cNvSpPr/>
                <p:nvPr/>
              </p:nvSpPr>
              <p:spPr>
                <a:xfrm>
                  <a:off x="6107040" y="351792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49" name=""/>
            <p:cNvSpPr/>
            <p:nvPr/>
          </p:nvSpPr>
          <p:spPr>
            <a:xfrm>
              <a:off x="1447920" y="204948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0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915840" y="4102200"/>
            <a:ext cx="288108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act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= topic mar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G: in gramm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ypassing lex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 flipH="1">
            <a:off x="3850920" y="4114800"/>
            <a:ext cx="11430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5079960" y="4641840"/>
            <a:ext cx="36921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po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~ADV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7058160" y="4102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770-5DC8-4CEC-820D-8B214B947B00}" type="slidenum">
              <a:t>2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7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2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463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464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465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7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468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9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0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471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3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474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6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477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9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480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2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483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5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486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8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489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1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492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3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4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495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7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498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9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0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1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559-8E7A-4732-9130-A2779C73169D}" type="slidenum">
              <a:t>2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Rel 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DB9-B73D-4EC6-8B8B-6551452222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4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9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510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511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512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3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4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515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7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518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0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521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3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524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5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6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527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84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9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530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65.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2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533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51.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4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5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536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7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8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539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16.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0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1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542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34.7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4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545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48.1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47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461772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587160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7842960" y="34290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74C-128A-4B75-855C-4B02EC0224F0}" type="slidenum">
              <a:t>2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4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560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561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562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4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565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7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568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0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571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3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574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6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577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9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580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2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583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5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586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8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589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1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592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4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595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97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8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1512720" y="46530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940320" y="47721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4577040" y="4894200"/>
            <a:ext cx="442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nlimited: large, open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842960" y="34290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676-DA7A-43CE-BCDE-276E500FC315}" type="slidenum">
              <a:t>2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5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0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611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612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613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5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616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8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619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1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622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4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625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7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628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9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0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631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3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634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6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637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9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640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2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643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646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8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9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1512720" y="46530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940320" y="47721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4665600" y="4894200"/>
            <a:ext cx="4066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Lim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omplete relexification (10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Media Lengua; Creoles;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7842960" y="34290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304-21DC-440A-AE41-20F6BF75519F}" type="slidenum">
              <a:t>2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6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1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662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663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664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6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667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9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670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2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673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5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676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8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679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1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682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4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685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7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688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0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691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3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694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6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697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99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0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1512720" y="46530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940320" y="47721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4577040" y="4894200"/>
            <a:ext cx="442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nlimited: large, open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867600" y="5851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3564000" y="54975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4590720" y="5648400"/>
            <a:ext cx="432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imited: small, close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1547640" y="57340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2484360" y="573408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7842960" y="34290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14F-D7D1-4939-B1DA-1176216617E8}" type="slidenum">
              <a:t>2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rrow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lex vs 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2" name=""/>
          <p:cNvSpPr/>
          <p:nvPr/>
        </p:nvSpPr>
        <p:spPr>
          <a:xfrm>
            <a:off x="3240" y="106380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3240" y="515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3240" y="460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3240" y="143028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7" name=""/>
          <p:cNvGrpSpPr/>
          <p:nvPr/>
        </p:nvGrpSpPr>
        <p:grpSpPr>
          <a:xfrm>
            <a:off x="1447920" y="2060640"/>
            <a:ext cx="5895720" cy="2205000"/>
            <a:chOff x="1447920" y="2060640"/>
            <a:chExt cx="5895720" cy="2205000"/>
          </a:xfrm>
        </p:grpSpPr>
        <p:grpSp>
          <p:nvGrpSpPr>
            <p:cNvPr id="4718" name=""/>
            <p:cNvGrpSpPr/>
            <p:nvPr/>
          </p:nvGrpSpPr>
          <p:grpSpPr>
            <a:xfrm>
              <a:off x="1452600" y="2065680"/>
              <a:ext cx="5886360" cy="2195280"/>
              <a:chOff x="1452600" y="2065680"/>
              <a:chExt cx="5886360" cy="2195280"/>
            </a:xfrm>
          </p:grpSpPr>
          <p:grpSp>
            <p:nvGrpSpPr>
              <p:cNvPr id="4719" name=""/>
              <p:cNvGrpSpPr/>
              <p:nvPr/>
            </p:nvGrpSpPr>
            <p:grpSpPr>
              <a:xfrm>
                <a:off x="1452600" y="2065680"/>
                <a:ext cx="2190600" cy="731520"/>
                <a:chOff x="1452600" y="2065680"/>
                <a:chExt cx="2190600" cy="731520"/>
              </a:xfrm>
            </p:grpSpPr>
            <p:sp>
              <p:nvSpPr>
                <p:cNvPr id="4720" name=""/>
                <p:cNvSpPr/>
                <p:nvPr/>
              </p:nvSpPr>
              <p:spPr>
                <a:xfrm>
                  <a:off x="1496880" y="2065680"/>
                  <a:ext cx="2102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>
                  <a:off x="1452600" y="2065680"/>
                  <a:ext cx="219060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2" name=""/>
              <p:cNvGrpSpPr/>
              <p:nvPr/>
            </p:nvGrpSpPr>
            <p:grpSpPr>
              <a:xfrm>
                <a:off x="3643200" y="2065680"/>
                <a:ext cx="1231920" cy="731520"/>
                <a:chOff x="3643200" y="2065680"/>
                <a:chExt cx="1231920" cy="731520"/>
              </a:xfrm>
            </p:grpSpPr>
            <p:sp>
              <p:nvSpPr>
                <p:cNvPr id="4723" name=""/>
                <p:cNvSpPr/>
                <p:nvPr/>
              </p:nvSpPr>
              <p:spPr>
                <a:xfrm>
                  <a:off x="368784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Quechu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4" name=""/>
                <p:cNvSpPr/>
                <p:nvPr/>
              </p:nvSpPr>
              <p:spPr>
                <a:xfrm>
                  <a:off x="364320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5" name=""/>
              <p:cNvGrpSpPr/>
              <p:nvPr/>
            </p:nvGrpSpPr>
            <p:grpSpPr>
              <a:xfrm>
                <a:off x="4875120" y="2065680"/>
                <a:ext cx="1231920" cy="731520"/>
                <a:chOff x="4875120" y="2065680"/>
                <a:chExt cx="1231920" cy="731520"/>
              </a:xfrm>
            </p:grpSpPr>
            <p:sp>
              <p:nvSpPr>
                <p:cNvPr id="4726" name=""/>
                <p:cNvSpPr/>
                <p:nvPr/>
              </p:nvSpPr>
              <p:spPr>
                <a:xfrm>
                  <a:off x="491976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Guaran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487512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8" name=""/>
              <p:cNvGrpSpPr/>
              <p:nvPr/>
            </p:nvGrpSpPr>
            <p:grpSpPr>
              <a:xfrm>
                <a:off x="6107040" y="2065680"/>
                <a:ext cx="1231920" cy="731520"/>
                <a:chOff x="6107040" y="2065680"/>
                <a:chExt cx="1231920" cy="731520"/>
              </a:xfrm>
            </p:grpSpPr>
            <p:sp>
              <p:nvSpPr>
                <p:cNvPr id="4729" name=""/>
                <p:cNvSpPr/>
                <p:nvPr/>
              </p:nvSpPr>
              <p:spPr>
                <a:xfrm>
                  <a:off x="6151680" y="2065680"/>
                  <a:ext cx="11430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Otom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>
                  <a:off x="6107040" y="2065680"/>
                  <a:ext cx="12319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1" name=""/>
              <p:cNvGrpSpPr/>
              <p:nvPr/>
            </p:nvGrpSpPr>
            <p:grpSpPr>
              <a:xfrm>
                <a:off x="1452600" y="2797200"/>
                <a:ext cx="2190600" cy="731880"/>
                <a:chOff x="1452600" y="2797200"/>
                <a:chExt cx="2190600" cy="731880"/>
              </a:xfrm>
            </p:grpSpPr>
            <p:sp>
              <p:nvSpPr>
                <p:cNvPr id="4732" name=""/>
                <p:cNvSpPr/>
                <p:nvPr/>
              </p:nvSpPr>
              <p:spPr>
                <a:xfrm>
                  <a:off x="1496880" y="279720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LEX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>
                  <a:off x="1452600" y="279720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4" name=""/>
              <p:cNvGrpSpPr/>
              <p:nvPr/>
            </p:nvGrpSpPr>
            <p:grpSpPr>
              <a:xfrm>
                <a:off x="3643200" y="2797200"/>
                <a:ext cx="1231920" cy="731880"/>
                <a:chOff x="3643200" y="2797200"/>
                <a:chExt cx="1231920" cy="731880"/>
              </a:xfrm>
            </p:grpSpPr>
            <p:sp>
              <p:nvSpPr>
                <p:cNvPr id="4735" name=""/>
                <p:cNvSpPr/>
                <p:nvPr/>
              </p:nvSpPr>
              <p:spPr>
                <a:xfrm>
                  <a:off x="368784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4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>
                  <a:off x="364320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7" name=""/>
              <p:cNvGrpSpPr/>
              <p:nvPr/>
            </p:nvGrpSpPr>
            <p:grpSpPr>
              <a:xfrm>
                <a:off x="4875120" y="2797200"/>
                <a:ext cx="1231920" cy="731880"/>
                <a:chOff x="4875120" y="2797200"/>
                <a:chExt cx="1231920" cy="731880"/>
              </a:xfrm>
            </p:grpSpPr>
            <p:sp>
              <p:nvSpPr>
                <p:cNvPr id="4738" name=""/>
                <p:cNvSpPr/>
                <p:nvPr/>
              </p:nvSpPr>
              <p:spPr>
                <a:xfrm>
                  <a:off x="491976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81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>
                  <a:off x="487512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0" name=""/>
              <p:cNvGrpSpPr/>
              <p:nvPr/>
            </p:nvGrpSpPr>
            <p:grpSpPr>
              <a:xfrm>
                <a:off x="6107040" y="2797200"/>
                <a:ext cx="1231920" cy="731880"/>
                <a:chOff x="6107040" y="2797200"/>
                <a:chExt cx="1231920" cy="731880"/>
              </a:xfrm>
            </p:grpSpPr>
            <p:sp>
              <p:nvSpPr>
                <p:cNvPr id="4741" name=""/>
                <p:cNvSpPr/>
                <p:nvPr/>
              </p:nvSpPr>
              <p:spPr>
                <a:xfrm>
                  <a:off x="6151680" y="279720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73.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>
                  <a:off x="6107040" y="279720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3" name=""/>
              <p:cNvGrpSpPr/>
              <p:nvPr/>
            </p:nvGrpSpPr>
            <p:grpSpPr>
              <a:xfrm>
                <a:off x="1452600" y="3529080"/>
                <a:ext cx="2190600" cy="731880"/>
                <a:chOff x="1452600" y="3529080"/>
                <a:chExt cx="2190600" cy="731880"/>
              </a:xfrm>
            </p:grpSpPr>
            <p:sp>
              <p:nvSpPr>
                <p:cNvPr id="4744" name=""/>
                <p:cNvSpPr/>
                <p:nvPr/>
              </p:nvSpPr>
              <p:spPr>
                <a:xfrm>
                  <a:off x="1496880" y="3529080"/>
                  <a:ext cx="2102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MS Mincho"/>
                    </a:rPr>
                    <a:t>GRAMMATICAL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>
                  <a:off x="1452600" y="3529080"/>
                  <a:ext cx="21906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6" name=""/>
              <p:cNvGrpSpPr/>
              <p:nvPr/>
            </p:nvGrpSpPr>
            <p:grpSpPr>
              <a:xfrm>
                <a:off x="3643200" y="3529080"/>
                <a:ext cx="1231920" cy="731880"/>
                <a:chOff x="3643200" y="3529080"/>
                <a:chExt cx="1231920" cy="731880"/>
              </a:xfrm>
            </p:grpSpPr>
            <p:sp>
              <p:nvSpPr>
                <p:cNvPr id="4747" name=""/>
                <p:cNvSpPr/>
                <p:nvPr/>
              </p:nvSpPr>
              <p:spPr>
                <a:xfrm>
                  <a:off x="368784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6.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>
                  <a:off x="364320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9" name=""/>
              <p:cNvGrpSpPr/>
              <p:nvPr/>
            </p:nvGrpSpPr>
            <p:grpSpPr>
              <a:xfrm>
                <a:off x="4875120" y="3529080"/>
                <a:ext cx="1231920" cy="731880"/>
                <a:chOff x="4875120" y="3529080"/>
                <a:chExt cx="1231920" cy="731880"/>
              </a:xfrm>
            </p:grpSpPr>
            <p:sp>
              <p:nvSpPr>
                <p:cNvPr id="4750" name=""/>
                <p:cNvSpPr/>
                <p:nvPr/>
              </p:nvSpPr>
              <p:spPr>
                <a:xfrm>
                  <a:off x="491976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18.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487512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2" name=""/>
              <p:cNvGrpSpPr/>
              <p:nvPr/>
            </p:nvGrpSpPr>
            <p:grpSpPr>
              <a:xfrm>
                <a:off x="6107040" y="3529080"/>
                <a:ext cx="1231920" cy="731880"/>
                <a:chOff x="6107040" y="3529080"/>
                <a:chExt cx="1231920" cy="731880"/>
              </a:xfrm>
            </p:grpSpPr>
            <p:sp>
              <p:nvSpPr>
                <p:cNvPr id="4753" name=""/>
                <p:cNvSpPr/>
                <p:nvPr/>
              </p:nvSpPr>
              <p:spPr>
                <a:xfrm>
                  <a:off x="6151680" y="3529080"/>
                  <a:ext cx="1143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0000"/>
                      </a:solidFill>
                      <a:latin typeface="Courier New"/>
                      <a:ea typeface="MS Mincho"/>
                    </a:rPr>
                    <a:t>26.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>
                  <a:off x="6107040" y="3529080"/>
                  <a:ext cx="12319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5" name=""/>
            <p:cNvSpPr/>
            <p:nvPr/>
          </p:nvSpPr>
          <p:spPr>
            <a:xfrm>
              <a:off x="1447920" y="2060640"/>
              <a:ext cx="5895720" cy="220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6" name=""/>
          <p:cNvSpPr/>
          <p:nvPr/>
        </p:nvSpPr>
        <p:spPr>
          <a:xfrm>
            <a:off x="46605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5913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1512720" y="46530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940320" y="47721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4577040" y="4894200"/>
            <a:ext cx="442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nlimited: large, open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867600" y="5851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3564000" y="54975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4590720" y="5648400"/>
            <a:ext cx="432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imited: small, close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1547640" y="57340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2484360" y="573408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4561920" y="6108840"/>
            <a:ext cx="44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Relative ‘overrepresentation’ early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3995640" y="5805360"/>
            <a:ext cx="576360" cy="576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7832160" y="2898720"/>
            <a:ext cx="52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070-6DDE-499A-9C95-664FC3E66F69}" type="slidenum">
              <a:t>2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7D5-52F4-4A43-92E8-4F8FE72732BC}" type="slidenum">
              <a:t>2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1077840" y="2708280"/>
            <a:ext cx="1432080" cy="201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QUECHU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IMBAB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BOL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(Pe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101-6D4C-4F7D-89B7-49CF532AE011}" type="slidenum">
              <a:t>2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6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3538800" y="2708280"/>
            <a:ext cx="2096280" cy="201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10d419"/>
                </a:solidFill>
                <a:uFillTx/>
                <a:latin typeface="Tahoma"/>
              </a:rPr>
              <a:t>GUARANI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(Asun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(several vill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1077840" y="2708280"/>
            <a:ext cx="143208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QUECHU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IMBAB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BOL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469-0958-475E-895B-9A08A910D397}" type="slidenum">
              <a:t>2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6697440" y="2708280"/>
            <a:ext cx="137844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OTOMI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TOL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3893400" y="2708280"/>
            <a:ext cx="132660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10d419"/>
                </a:solidFill>
                <a:uFillTx/>
                <a:latin typeface="Tahoma"/>
              </a:rPr>
              <a:t>GUARANI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d419"/>
                </a:solidFill>
                <a:latin typeface="Tahoma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1077840" y="2708280"/>
            <a:ext cx="143208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QUECHU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IMBAB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BOL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BE1-51DD-48C8-9842-49DD5AFC1D42}" type="slidenum">
              <a:t>2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4" name=""/>
          <p:cNvGraphicFramePr/>
          <p:nvPr/>
        </p:nvGraphicFramePr>
        <p:xfrm>
          <a:off x="800280" y="2349360"/>
          <a:ext cx="7804080" cy="349236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19512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ue.I – Que.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ua.C – Gua.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to.S – Oto.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5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2CE-7672-4726-B1B2-2590B5A94E6D}" type="slidenum">
              <a:t>2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4508640"/>
            <a:ext cx="18734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D33-D755-45CC-9555-2089773D7E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6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3" name=""/>
          <p:cNvGraphicFramePr/>
          <p:nvPr/>
        </p:nvGraphicFramePr>
        <p:xfrm>
          <a:off x="800280" y="2349360"/>
          <a:ext cx="7948440" cy="349272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209556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4" name=""/>
          <p:cNvSpPr/>
          <p:nvPr/>
        </p:nvSpPr>
        <p:spPr>
          <a:xfrm>
            <a:off x="4478400" y="290988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889-627C-464F-94AA-255571043C2B}" type="slidenum">
              <a:t>2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2" name=""/>
          <p:cNvGraphicFramePr/>
          <p:nvPr/>
        </p:nvGraphicFramePr>
        <p:xfrm>
          <a:off x="800280" y="2349360"/>
          <a:ext cx="7948440" cy="349272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209556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3" name=""/>
          <p:cNvSpPr/>
          <p:nvPr/>
        </p:nvSpPr>
        <p:spPr>
          <a:xfrm>
            <a:off x="6494400" y="348624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03A-ACF7-4C4E-899D-2AB56344CC6D}" type="slidenum">
              <a:t>2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2" name=""/>
          <p:cNvGraphicFramePr/>
          <p:nvPr/>
        </p:nvGraphicFramePr>
        <p:xfrm>
          <a:off x="800280" y="2349360"/>
          <a:ext cx="8019720" cy="349272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21668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3" name=""/>
          <p:cNvSpPr/>
          <p:nvPr/>
        </p:nvSpPr>
        <p:spPr>
          <a:xfrm>
            <a:off x="6494400" y="406224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97E-DD73-4D64-B5C5-A4C67B1E2864}" type="slidenum">
              <a:t>2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1" name=""/>
          <p:cNvGraphicFramePr/>
          <p:nvPr/>
        </p:nvGraphicFramePr>
        <p:xfrm>
          <a:off x="800280" y="2349360"/>
          <a:ext cx="8019720" cy="349272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21668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2" name=""/>
          <p:cNvSpPr/>
          <p:nvPr/>
        </p:nvSpPr>
        <p:spPr>
          <a:xfrm>
            <a:off x="6494400" y="463860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753-67AD-4CA5-81C1-D1FF2F6076AC}" type="slidenum">
              <a:t>2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4" name=""/>
          <p:cNvSpPr/>
          <p:nvPr/>
        </p:nvSpPr>
        <p:spPr>
          <a:xfrm>
            <a:off x="3240" y="27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3240" y="147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3240" y="607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3240" y="345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3240" y="5872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3240" y="13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3240" y="599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1" name=""/>
          <p:cNvGraphicFramePr/>
          <p:nvPr/>
        </p:nvGraphicFramePr>
        <p:xfrm>
          <a:off x="800280" y="2349360"/>
          <a:ext cx="7804080" cy="3492360"/>
        </p:xfrm>
        <a:graphic>
          <a:graphicData uri="http://schemas.openxmlformats.org/drawingml/2006/table">
            <a:tbl>
              <a:tblPr/>
              <a:tblGrid>
                <a:gridCol w="1950840"/>
                <a:gridCol w="1951200"/>
                <a:gridCol w="1950840"/>
                <a:gridCol w="19512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I - 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GC - 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S – 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: 56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: 34 –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: 40 –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: 17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:   4 –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:   9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:   8 -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:   2 –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:   1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: 18 – 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f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%: 23 –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%:   0 –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2" name=""/>
          <p:cNvSpPr/>
          <p:nvPr/>
        </p:nvSpPr>
        <p:spPr>
          <a:xfrm>
            <a:off x="6494400" y="521496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4211640" y="5229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1205640" y="1019160"/>
            <a:ext cx="56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bility across dial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951-98C1-419C-8E79-33A7888D7095}" type="slidenum">
              <a:t>2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1047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6.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319-36F6-4BDE-B509-B5972F100209}" type="slidenum">
              <a:t>2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8" name=""/>
          <p:cNvSpPr/>
          <p:nvPr/>
        </p:nvSpPr>
        <p:spPr>
          <a:xfrm>
            <a:off x="810360" y="231948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Discourse marker &gt; Ca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5FA-109B-4F11-9ED6-CCDA8D0FBE7D}" type="slidenum">
              <a:t>2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0" name=""/>
          <p:cNvSpPr/>
          <p:nvPr/>
        </p:nvSpPr>
        <p:spPr>
          <a:xfrm>
            <a:off x="816480" y="2319480"/>
            <a:ext cx="686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Discourse marker &gt; Ca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YES: Guaraní borrows Spanish Def Ar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terpreted as TOPIC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FF5-9FC8-4D4E-8165-86474F78AD4D}" type="slidenum">
              <a:t>2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2" name=""/>
          <p:cNvSpPr/>
          <p:nvPr/>
        </p:nvSpPr>
        <p:spPr>
          <a:xfrm>
            <a:off x="528120" y="231948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N &gt; V 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F34-69C2-470B-9516-7D86DA3B34F7}" type="slidenum">
              <a:t>2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005360"/>
            <a:ext cx="180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508640"/>
            <a:ext cx="18734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72A-47CC-4E2B-8616-AB10060B32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4" name=""/>
          <p:cNvSpPr/>
          <p:nvPr/>
        </p:nvSpPr>
        <p:spPr>
          <a:xfrm>
            <a:off x="846360" y="2319480"/>
            <a:ext cx="81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N &gt; V 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YES: for all 3 languages, but V &amp; A type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F9A-043C-47F2-9879-8249E499C6B3}" type="slidenum">
              <a:t>2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6" name=""/>
          <p:cNvSpPr/>
          <p:nvPr/>
        </p:nvSpPr>
        <p:spPr>
          <a:xfrm>
            <a:off x="687600" y="231948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a N &gt;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C3C-7FC2-4D06-BD1E-B385065F90B9}" type="slidenum">
              <a:t>2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8" name=""/>
          <p:cNvSpPr/>
          <p:nvPr/>
        </p:nvSpPr>
        <p:spPr>
          <a:xfrm>
            <a:off x="763200" y="2319480"/>
            <a:ext cx="81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a N &gt; Ad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YES, but different for different languag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50F-9776-487C-8816-452CA464C7B4}" type="slidenum">
              <a:t>2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0" name=""/>
          <p:cNvSpPr/>
          <p:nvPr/>
        </p:nvSpPr>
        <p:spPr>
          <a:xfrm>
            <a:off x="687600" y="2319480"/>
            <a:ext cx="81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b Adpos &gt; Aux &gt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91E-F916-451B-B876-1EC8A98850ED}" type="slidenum">
              <a:t>2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2" name=""/>
          <p:cNvSpPr/>
          <p:nvPr/>
        </p:nvSpPr>
        <p:spPr>
          <a:xfrm>
            <a:off x="687600" y="2319480"/>
            <a:ext cx="814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b Adpos &gt; Aux &gt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epends on type of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527-BFEF-4782-9FE9-88B4EC535E84}" type="slidenum">
              <a:t>2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4" name=""/>
          <p:cNvSpPr/>
          <p:nvPr/>
        </p:nvSpPr>
        <p:spPr>
          <a:xfrm>
            <a:off x="697320" y="2319480"/>
            <a:ext cx="81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Adpos &gt; Case af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6E0-7835-411F-BF14-88374AB93E3A}" type="slidenum">
              <a:t>2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6" name=""/>
          <p:cNvSpPr/>
          <p:nvPr/>
        </p:nvSpPr>
        <p:spPr>
          <a:xfrm>
            <a:off x="697320" y="2319480"/>
            <a:ext cx="81435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Adpos &gt; Case af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YES, but case not relevant for Span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EA6-1287-4524-89C4-0F7287365E0F}" type="slidenum">
              <a:t>2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8" name=""/>
          <p:cNvSpPr/>
          <p:nvPr/>
        </p:nvSpPr>
        <p:spPr>
          <a:xfrm>
            <a:off x="847440" y="2319480"/>
            <a:ext cx="784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Adpos &gt; Case affix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 No Preposition in Postposition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036-046C-4AFD-85E7-D01A7375ACAC}" type="slidenum">
              <a:t>2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0" name=""/>
          <p:cNvSpPr/>
          <p:nvPr/>
        </p:nvSpPr>
        <p:spPr>
          <a:xfrm>
            <a:off x="697320" y="2319480"/>
            <a:ext cx="81435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Adpos &gt; Case affix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 No Preposition in Postposition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YES, almost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CDE-C02E-486D-9DFE-7329836D3EB6}" type="slidenum">
              <a:t>2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2" name=""/>
          <p:cNvSpPr/>
          <p:nvPr/>
        </p:nvSpPr>
        <p:spPr>
          <a:xfrm>
            <a:off x="560160" y="2319480"/>
            <a:ext cx="8417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Discourse marker &gt; Case marker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N &gt; V &gt; A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a N &gt; Adpo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b Adpos &gt; Aux &gt; Articl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Adpos &gt; Case affix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5. No Prep in Post languag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10d419"/>
                </a:solidFill>
                <a:latin typeface="Tahoma"/>
              </a:rPr>
              <a:t>Y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7380360" y="2133720"/>
            <a:ext cx="122400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FD0-8E3A-486C-B0C6-E1161FAA274D}" type="slidenum">
              <a:t>2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3320" y="5805360"/>
            <a:ext cx="224424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r>
              <a:rPr b="1" lang="en-GB" sz="2400" spc="-1" strike="noStrike" baseline="-25000">
                <a:solidFill>
                  <a:srgbClr val="10d419"/>
                </a:solidFill>
                <a:latin typeface="Tahoma"/>
              </a:rPr>
              <a:t>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123640" y="494136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440" y="4881600"/>
            <a:ext cx="15768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ge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2D1-FA66-4495-AC6F-086EF26A5F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C53-2337-4EC7-9762-D84C78B54952}" type="slidenum">
              <a:t>2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6" name=""/>
          <p:cNvSpPr/>
          <p:nvPr/>
        </p:nvSpPr>
        <p:spPr>
          <a:xfrm>
            <a:off x="770400" y="1916280"/>
            <a:ext cx="76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882-21B4-4BED-A865-8A0C9F3F778A}" type="slidenum">
              <a:t>2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8" name=""/>
          <p:cNvSpPr/>
          <p:nvPr/>
        </p:nvSpPr>
        <p:spPr>
          <a:xfrm>
            <a:off x="770400" y="1916280"/>
            <a:ext cx="761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FF2-A128-412C-9ED1-2403FFDCC229}" type="slidenum">
              <a:t>2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0" name=""/>
          <p:cNvSpPr/>
          <p:nvPr/>
        </p:nvSpPr>
        <p:spPr>
          <a:xfrm>
            <a:off x="770400" y="1916280"/>
            <a:ext cx="761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. Other lexical PoS depend on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BB5-61DD-4EFA-A189-34B2ED1B868E}" type="slidenum">
              <a:t>2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2" name=""/>
          <p:cNvSpPr/>
          <p:nvPr/>
        </p:nvSpPr>
        <p:spPr>
          <a:xfrm>
            <a:off x="690480" y="1916280"/>
            <a:ext cx="817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Other lexical PoS depend on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. Adpos: function in target languag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ubcategorization i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00B-1D25-4A37-B7BC-642A07408BCC}" type="slidenum">
              <a:t>2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4" name=""/>
          <p:cNvSpPr/>
          <p:nvPr/>
        </p:nvSpPr>
        <p:spPr>
          <a:xfrm>
            <a:off x="690480" y="1916280"/>
            <a:ext cx="817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Other lexical PoS depend on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Adpos: function in target languag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categorization i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5. Article: (re)interpreted as discour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F25-143C-454C-B09D-3AF9EE9F1D5F}" type="slidenum">
              <a:t>2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6" name=""/>
          <p:cNvSpPr/>
          <p:nvPr/>
        </p:nvSpPr>
        <p:spPr>
          <a:xfrm>
            <a:off x="637920" y="1871640"/>
            <a:ext cx="86479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Simple borrowing hierarchies (N &gt; V &gt; 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work straightforwar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N is foremost, and continu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Other lexical PoS depend on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Adpos: function in target languag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categorization i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5. Article: (re)interpreted as discour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. Borrowing hierarchies should be r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 the basis of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ypologic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34920" y="4869000"/>
            <a:ext cx="792000" cy="1224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>
            <a:off x="900000" y="4653000"/>
            <a:ext cx="8064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0C4-AE76-4F15-A667-DC8965F5F737}" type="slidenum">
              <a:t>2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0" name=""/>
          <p:cNvSpPr/>
          <p:nvPr/>
        </p:nvSpPr>
        <p:spPr>
          <a:xfrm>
            <a:off x="250920" y="2133720"/>
            <a:ext cx="88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kker, D., J. Gómez-Rendón &amp; E. Hekking (2008)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anish meets Guaraní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tomí and Quichua: a multilingual confrontation’. In Th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l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 Bakker &amp; R. Palomo (eds) 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pects of Language Conta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ton de Gruyter, 165-23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mpbell, Lyle (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989). On proposed universals of grammatical borrowing.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apers from the 9th international conference on historical lingu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nk Aertsen, and Robert J. Jeffers (eds), 91–10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msterdam: John Benjam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k, Simon C. (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997). T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he theory of functional gramma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Berlin: Mouton de Gruy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ravcsik, Edith (1978). Universals of language contact. In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Universal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language, Vol I, Method and theory,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Joseph Greenberg (ed.), 95–1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SA: Stanford University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omason, Sarah G. (2001).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Language contact. An introductio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dinburgh: Edinburgh University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ED7-3E68-40F9-AA68-9333E3938D3B}" type="slidenum">
              <a:t>2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"/>
          <p:cNvSpPr/>
          <p:nvPr/>
        </p:nvSpPr>
        <p:spPr>
          <a:xfrm>
            <a:off x="3886560" y="27036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CC9-BFD6-467E-BE3D-A159E937D978}" type="slidenum">
              <a:t>2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4080" y="1916280"/>
            <a:ext cx="797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etween languages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yth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may b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Thomason &amp; Kaufmann 1988;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ampbell 1989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omason 2001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BUT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ypological differenc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between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d target language pu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ntitativ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an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ative?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constraint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n what may be borr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cf. Bakker, Hekking &amp; 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ó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ez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2A2-48F4-47A7-8849-CD34581B0F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4280" y="4881600"/>
            <a:ext cx="1575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ge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o     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2123640" y="494136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E67-B056-4C9A-AED4-01713B7228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5463720" y="4390920"/>
            <a:ext cx="174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08720" y="5877000"/>
            <a:ext cx="1152360" cy="431640"/>
          </a:xfrm>
          <a:prstGeom prst="rect">
            <a:avLst/>
          </a:prstGeom>
          <a:noFill/>
          <a:ln w="38160">
            <a:solidFill>
              <a:srgbClr val="10d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E86-900D-426D-8108-FFC3E52FD0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4390920"/>
            <a:ext cx="255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N Rel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65800" y="3394080"/>
            <a:ext cx="23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i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672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2472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016-0874-4EAB-9016-DCE7800559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5516640" y="4390920"/>
            <a:ext cx="255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N Rel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960" y="3394080"/>
            <a:ext cx="18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672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97160" y="2000160"/>
            <a:ext cx="27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LTAIC (Mong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20184000">
            <a:off x="5435640" y="3860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2472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2360" y="3141720"/>
            <a:ext cx="1224000" cy="35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A1E-C296-4749-9207-9782FF6451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4390920"/>
            <a:ext cx="255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N Rel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7960" y="3394080"/>
            <a:ext cx="18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1672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97160" y="2000160"/>
            <a:ext cx="27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LTAIC (Mong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184000">
            <a:off x="5435640" y="3860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59640" y="5013360"/>
            <a:ext cx="158436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876720" y="5013360"/>
            <a:ext cx="136692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2472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32360" y="3141720"/>
            <a:ext cx="1224000" cy="35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A2A-849E-4453-9C72-10E465AF9D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5472720" y="4390920"/>
            <a:ext cx="300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0d419"/>
                </a:solidFill>
                <a:uFillTx/>
                <a:latin typeface="Tahoma"/>
              </a:rPr>
              <a:t>Mandar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Prep N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4880" y="198900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PROTO SinoTibe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67960" y="3394080"/>
            <a:ext cx="18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PROTO S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V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35640" y="4797360"/>
            <a:ext cx="107964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52640" y="5805360"/>
            <a:ext cx="1927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Co-verb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850920" y="49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128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97160" y="2000160"/>
            <a:ext cx="27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ALTAIC (Mong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 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dj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l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20184000">
            <a:off x="5435640" y="3860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56360" y="3716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12000" y="3716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804000" y="609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573408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32360" y="3500280"/>
            <a:ext cx="1224000" cy="36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EE6-230B-42CF-BC7C-05B21456A8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E3E4-0134-49DD-87E9-7571DD783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ev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200-E0BE-432F-8549-7C5BD9ACCA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1B49-2E3E-463D-A374-6DB4FB63CD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ev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812960" y="2189160"/>
          <a:ext cx="5711760" cy="3616200"/>
        </p:xfrm>
        <a:graphic>
          <a:graphicData uri="http://schemas.openxmlformats.org/drawingml/2006/table">
            <a:tbl>
              <a:tblPr/>
              <a:tblGrid>
                <a:gridCol w="1904040"/>
                <a:gridCol w="1903680"/>
                <a:gridCol w="1904040"/>
              </a:tblGrid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V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0CF-582A-4358-A4B0-97E22D1BE7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DCE-2220-46D2-8156-310ED00465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ev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812960" y="2189160"/>
          <a:ext cx="5711760" cy="3616200"/>
        </p:xfrm>
        <a:graphic>
          <a:graphicData uri="http://schemas.openxmlformats.org/drawingml/2006/table">
            <a:tbl>
              <a:tblPr/>
              <a:tblGrid>
                <a:gridCol w="1904040"/>
                <a:gridCol w="1903680"/>
                <a:gridCol w="1904040"/>
              </a:tblGrid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V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o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4E6-4D4E-4687-A2EE-FB48CA9F540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C092-167E-4AB4-813F-98A999EEF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ev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812960" y="2189160"/>
          <a:ext cx="5711760" cy="3616200"/>
        </p:xfrm>
        <a:graphic>
          <a:graphicData uri="http://schemas.openxmlformats.org/drawingml/2006/table">
            <a:tbl>
              <a:tblPr/>
              <a:tblGrid>
                <a:gridCol w="1904040"/>
                <a:gridCol w="1903680"/>
                <a:gridCol w="1904040"/>
              </a:tblGrid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V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d113bf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o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d113bf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3C7-0571-4805-B189-329C7BFF0A7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009080" y="1996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1EF-D679-420F-931A-2065B57EE9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12C5-30F5-453B-945E-1D799F87E2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LS At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95280" y="2509920"/>
            <a:ext cx="8497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Haspelmath, M., M. Dryer,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. Gil &amp; B. Comrie (eds) (200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The World Atlas Of Language Structur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xford: Oxford University Pres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                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ALS Online: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als.info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73E-51B1-4BC3-B642-3EEC98FCD3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DAD4-36CA-43EE-81C6-792EC0FF5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57440" y="25750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W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C29-3B92-49C1-B08A-057E12B2BB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96E5-8FEA-4C35-841D-593589CE8C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509760" y="2575080"/>
            <a:ext cx="828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W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140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inguistic variables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(phonology, morpholog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yntax, lexicon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027-2DD5-461F-891B-FBE706D66E0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7005-1EF4-40BD-913D-860D45ADD6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olog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509760" y="2575080"/>
            <a:ext cx="82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W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140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inguistic variables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(phonology, morpholog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yntax, lexicon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er variable: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ap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with distribution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F0A-3578-4BE6-9388-59103BF88E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BB2-865E-4B34-B7C3-7CFBA369A2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435640" y="5300640"/>
            <a:ext cx="187164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09080" y="5688000"/>
            <a:ext cx="25765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92%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of VO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571640" y="54450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E56-B975-4DFA-A713-19DFEC476F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68360" y="3500280"/>
            <a:ext cx="43164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1520" y="5688000"/>
            <a:ext cx="2445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8%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of VO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27640" y="537372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35640" y="5157720"/>
            <a:ext cx="187164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3355200">
            <a:off x="7884000" y="3788640"/>
            <a:ext cx="431640" cy="64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3019800">
            <a:off x="1943640" y="2096280"/>
            <a:ext cx="432000" cy="64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C05-C74D-48A9-94E7-191AC3892AA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508720" y="4724280"/>
            <a:ext cx="187164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9080" y="5400720"/>
            <a:ext cx="25765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98%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of OV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572000" y="4797360"/>
            <a:ext cx="93672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BC9-F9E1-49E4-8363-0ABC7CDB3DE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901520" y="5688000"/>
            <a:ext cx="2445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2%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of OV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08720" y="4941720"/>
            <a:ext cx="187164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27280" y="5013360"/>
            <a:ext cx="1081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3500280"/>
            <a:ext cx="21564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27280" y="2852640"/>
            <a:ext cx="21600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62800">
            <a:off x="1907640" y="3068640"/>
            <a:ext cx="50328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AF7-EC84-4FC9-829F-D62642F49C2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c order vs Adposition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9036000" cy="4511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292720" y="5445000"/>
            <a:ext cx="151128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27640" y="537372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FAB-C458-4992-A544-2F4D35D562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08880" y="3352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09080" y="1996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3E3-B245-4FD9-890C-F869F28893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12120" y="5157720"/>
            <a:ext cx="279900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882800">
            <a:off x="1403280" y="2852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95640" y="4005360"/>
            <a:ext cx="17287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7C5-A4B9-4EBA-9A36-975B4625D12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516600" y="5172120"/>
            <a:ext cx="1651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40280" y="5157720"/>
            <a:ext cx="172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5600" y="33526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35800" y="199692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28080" y="2421000"/>
            <a:ext cx="66852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e4a8"/>
                </a:solidFill>
                <a:latin typeface="Tahoma"/>
              </a:rPr>
              <a:t>MOTIVATION: Socio-linguistic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TRAINTS: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ypolog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GB" sz="2400" spc="-1" strike="noStrike">
                <a:solidFill>
                  <a:srgbClr val="10d419"/>
                </a:solidFill>
                <a:latin typeface="Tahoma"/>
              </a:rPr>
              <a:t>TL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12120" y="5157720"/>
            <a:ext cx="279900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Lexical bor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Structural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882800">
            <a:off x="1403280" y="2852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56000" y="321300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19320" y="4648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4005360"/>
            <a:ext cx="17287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1D9-3503-4F44-A111-CC7CA2C187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4B3-555B-4CDD-BB1A-37F0B846E46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257840" y="2422440"/>
            <a:ext cx="26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21C-9CCC-4358-8782-3A6B2D05C1F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244880" y="2422440"/>
            <a:ext cx="358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7F1-DC01-40CC-8B7F-63A85F5E943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244880" y="2422440"/>
            <a:ext cx="358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AA9-B84B-435C-873E-22917E26190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244880" y="2422440"/>
            <a:ext cx="358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319-3009-4CB0-8BAF-B8468DCB36A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244880" y="2422440"/>
            <a:ext cx="358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018-BE8F-4BCF-AC22-6542C836F89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44880" y="2422440"/>
            <a:ext cx="358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4859280" y="3139920"/>
            <a:ext cx="865080" cy="3384720"/>
          </a:xfrm>
          <a:custGeom>
            <a:avLst/>
            <a:gdLst>
              <a:gd name="textAreaLeft" fmla="*/ 115920 w 865080"/>
              <a:gd name="textAreaRight" fmla="*/ 749160 w 865080"/>
              <a:gd name="textAreaTop" fmla="*/ 592200 h 3384720"/>
              <a:gd name="textAreaBottom" fmla="*/ 24541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864-4DE3-4452-81C0-C4BED1D22EB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8728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8880" y="3352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09080" y="1996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305200">
            <a:off x="1402920" y="2420640"/>
            <a:ext cx="360360" cy="1008000"/>
          </a:xfrm>
          <a:prstGeom prst="upDownArrow">
            <a:avLst>
              <a:gd name="adj1" fmla="val 50000"/>
              <a:gd name="adj2" fmla="val 556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16F-B893-4629-BEA2-7E9B44D7F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23367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ersu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50C-246C-4BE7-BA80-950D38AB8D3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23367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versu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71120" y="3753000"/>
            <a:ext cx="38656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Immigran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(e.g.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rdu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in Engl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urkish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in The Netherland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impover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2764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EFD-6BF4-4E06-A193-99DACA57DD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33676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first/onl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of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389-8C6E-4B2A-A10C-B6D0B03426B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233676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first/onl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minan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452-ED7F-4A82-BE85-9C0CA68E54B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367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first language of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dominant i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stribu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borrowing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among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244-A25D-4DD5-AE3F-8513A1BFE9B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first language of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 language is dominant i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ion of borrowings among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clud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d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67F-23BE-465F-B2DF-C8DC7F04C10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336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e Source Language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‘controlle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93A-59BE-4383-9C82-4751DCF040B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23367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 Spanis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ly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D9B-485E-4871-944B-66DA180C777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233676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Vari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134-A7FE-4F0F-B90A-1DB9E6E39FD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Vari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fferent genetic affiliatio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=language fami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C75-868F-469E-9802-165E253C05B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" y="3352680"/>
            <a:ext cx="19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ngu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09080" y="1996920"/>
            <a:ext cx="19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gu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305200">
            <a:off x="1402920" y="2420640"/>
            <a:ext cx="360360" cy="1008000"/>
          </a:xfrm>
          <a:prstGeom prst="upDownArrow">
            <a:avLst>
              <a:gd name="adj1" fmla="val 50000"/>
              <a:gd name="adj2" fmla="val 556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87B-C1CE-4317-B00E-E277ECD49B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33676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Vari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Different genetic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ological differenc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e.g. Word Or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position type, Morphological typ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BB6-D548-4EB9-870A-BEBA2251231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23367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ore than one dialect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683-CDA6-4915-AD7D-35FE4867D42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ocio-cultural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B2A-5510-4503-A42C-77E82A9C14A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22860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Socio-cultural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Latin America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DF7-3DE2-4799-8CE5-88DDAD56B62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233676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Socio-cultural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poke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 from a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representat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14A-F2A3-4A25-A134-7B8C7C8AA81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9810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poke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from a represent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ordings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ontaneou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AC0-FAE8-4CAA-874C-D86FA5A6469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77724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representat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erentiation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B5E-0A1C-4283-A4AB-9E0DF1DFFB0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981080"/>
            <a:ext cx="77724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representativ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erentiation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nder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3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ahoma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forma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886200"/>
            <a:ext cx="533160" cy="236232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776-C8DA-42F4-A3B1-56E8A3E1BD0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233676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Socio-cultural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 represent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ook at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achronic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9E9-4BDB-4D12-B1CC-EFA3DB64817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ook at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iachronic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ctionari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grammar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ritt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issio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521-4ABE-4882-A40A-22498F1497B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91240" y="3352680"/>
            <a:ext cx="49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nguage 2 (</a:t>
            </a:r>
            <a:r>
              <a:rPr b="1" lang="de-DE" sz="2400" spc="-1" strike="noStrike">
                <a:solidFill>
                  <a:srgbClr val="10d419"/>
                </a:solidFill>
                <a:latin typeface="Tahoma"/>
              </a:rPr>
              <a:t>Urdu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: Indo-Ary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72800" y="198900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10d419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guage 1  (</a:t>
            </a:r>
            <a:r>
              <a:rPr b="1" lang="de-DE" sz="2400" spc="-1" strike="noStrike">
                <a:solidFill>
                  <a:srgbClr val="ff0000"/>
                </a:solidFill>
                <a:latin typeface="Tahoma"/>
              </a:rPr>
              <a:t>Kannada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Dravidi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305200">
            <a:off x="1402920" y="2420640"/>
            <a:ext cx="360360" cy="1008000"/>
          </a:xfrm>
          <a:prstGeom prst="upDownArrow">
            <a:avLst>
              <a:gd name="adj1" fmla="val 50000"/>
              <a:gd name="adj2" fmla="val 556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880" y="2637000"/>
            <a:ext cx="3801600" cy="45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Kupwar, Souther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BB0-BA5B-42E2-9F58-23D0A2DDA7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233676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Socio-cultural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 represent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Look at diachronic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ypothese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rning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37E-12CD-4935-96F6-4333C3F977B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233676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ypothese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rning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Universal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from Language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Greenberg; Moravcsik; but: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mpbell 198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672-72DF-4B7D-9A96-08C3FB35E82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233676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Hypothese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rning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Universals from Language Ty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Greenberg; Moravcsik; but: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mpbell 198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orrowing scal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homason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0EC-E25B-43B2-897A-996F0DA163A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33676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ne sourc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Typological variety among targ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than one dialect per targ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Socio-cultural aspects optimall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Spoken data from a represent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. Look at diachronic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ypotheses concerning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9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xplanatio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the role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C2A-1165-41BC-976D-3BDA32B0210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233676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Borrowing versus shift-induce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9.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xplanatio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the role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Functional Grammar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FG; Dik 199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 </a:t>
            </a:r>
            <a:r>
              <a:rPr b="1" lang="nl-NL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Parts of speech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08A-0AE6-44F0-B548-50C16384A50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760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.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766-E0F1-47F3-B26B-57BA9941023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862200" y="2319480"/>
            <a:ext cx="68436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agmatically marked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’   </a:t>
            </a:r>
            <a:r>
              <a:rPr b="1" lang="nl-NL" sz="2400" spc="-1" strike="noStrike">
                <a:solidFill>
                  <a:srgbClr val="3333cc"/>
                </a:solidFill>
                <a:latin typeface="Tahoma"/>
              </a:rPr>
              <a:t>means: is borrowed easier tha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EF9-07F5-4F6F-9B30-624A6C811B1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812880" y="2319480"/>
            <a:ext cx="6732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agmatically marked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a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scourse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marker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a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F0D-A949-4D5D-9018-B73382191A0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812880" y="2319480"/>
            <a:ext cx="6732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 Pragmatically marked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1.a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scourse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marker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ase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44400" y="43052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ues, …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40000" y="3645000"/>
            <a:ext cx="431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67D-178F-4AD8-980A-B7CC41D91F9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+ 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08880" y="3352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Langu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3480" y="1996920"/>
            <a:ext cx="78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nguage 1 (majority, status, power, education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265600">
            <a:off x="1331640" y="249228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BA4-FF13-4FE7-9649-5BC3D31E52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785880" y="231948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Open Clas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7FC-9CFC-44AA-9802-D874D2E2B97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017000" y="2319480"/>
            <a:ext cx="719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 Open Class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2.a   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V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dv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(~ Thomason’s s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345-E0BD-4D04-AEDC-29BE137EABD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785880" y="2319480"/>
            <a:ext cx="67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 Lexical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84720" y="2852640"/>
            <a:ext cx="574920" cy="1008000"/>
          </a:xfrm>
          <a:custGeom>
            <a:avLst/>
            <a:gdLst>
              <a:gd name="textAreaLeft" fmla="*/ 77040 w 574920"/>
              <a:gd name="textAreaRight" fmla="*/ 497880 w 574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8EF-E811-4469-9772-A246A1FBA2F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785880" y="2319480"/>
            <a:ext cx="67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 Lexical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a   Nou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Pre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2852640"/>
            <a:ext cx="574920" cy="1008000"/>
          </a:xfrm>
          <a:custGeom>
            <a:avLst/>
            <a:gdLst>
              <a:gd name="textAreaLeft" fmla="*/ 77040 w 574920"/>
              <a:gd name="textAreaRight" fmla="*/ 497880 w 574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C4C-5194-489B-9B23-1626E2CDBFB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85880" y="2319480"/>
            <a:ext cx="67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 Lexical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a   Noun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Preposi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3.b   Prep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ux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84720" y="2852640"/>
            <a:ext cx="574920" cy="1008000"/>
          </a:xfrm>
          <a:custGeom>
            <a:avLst/>
            <a:gdLst>
              <a:gd name="textAreaLeft" fmla="*/ 77040 w 574920"/>
              <a:gd name="textAreaRight" fmla="*/ 497880 w 574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2C0-5E07-4299-BCCE-A9D46FA7E7A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785880" y="2319480"/>
            <a:ext cx="67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 Lexical &gt;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Free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8AF-10FA-432C-879F-8F26C42061C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785880" y="2319480"/>
            <a:ext cx="67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 Lexical &gt;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 Free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4.a   Adpos (Prep, Post)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Case suf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C5D-6B80-4503-92BF-D8D061C6B6D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neral Hypothe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785880" y="2319480"/>
            <a:ext cx="67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 Lexical &gt;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Free &gt;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 Borrowed with sub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258-469C-4AEA-8AEB-FE2F4492C3D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pecific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775800" y="2319480"/>
            <a:ext cx="819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1. Pragmatically marked &gt; un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2. Open Class &gt; Closed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3. Lexical &gt; Gram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4. Free &gt;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 Borrowed with sub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5.a  No Preposition in Postpositional languag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 Postposition in Prepositional</a:t>
            </a:r>
            <a:r>
              <a:rPr b="1" lang="nl-NL" sz="2400" spc="-1" strike="noStrike">
                <a:solidFill>
                  <a:srgbClr val="ff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aints on Borrow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9C9-1EFB-4D9E-8E03-9EA575499D1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7632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3. The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44:25Z</dcterms:created>
  <dc:creator>Dik Bakker</dc:creator>
  <dc:description/>
  <dc:language>en-US</dc:language>
  <cp:lastModifiedBy>Dik Bakker</cp:lastModifiedBy>
  <dcterms:modified xsi:type="dcterms:W3CDTF">2009-05-18T04:51:22Z</dcterms:modified>
  <cp:revision>184</cp:revision>
  <dc:subject/>
  <dc:title>Slide 1</dc:title>
</cp:coreProperties>
</file>