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164-9326-4538-979D-607E41AD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BE6-34E7-49B8-98E8-2C4DFB0B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52B-E512-47B1-8842-4C233EAC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173-1717-4697-AEB8-7673CE11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2CF4-49C5-49FB-B5B2-27FB93F8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01AA-1D57-4371-89DC-8B33FFCC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3CBE-F1E7-4001-804F-21472E07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6B3D-F90E-4A18-8721-2028A199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537F-9D1B-4F44-B382-9974CC96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EE31-E4EB-4294-9B9E-D763899D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BD4A-2D19-4788-9B1C-2EF6E725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9A5-44D2-48E8-80C5-4082B22A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074F-25DC-478D-833B-9C542C1A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4533-6008-4A08-B910-541739CB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4976-2681-4880-85C1-A3126AB2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4B37-5D94-4DF6-9508-4BFF204F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C655-037C-4B77-817F-5CA6A19D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526-C4AF-49B4-8344-162EA057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B56-8DD8-4BB9-B881-74AAFE50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D47-CD38-4E8E-90AB-1577A66F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0B3-FAE0-425D-8013-40E79CF6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92A-03E3-4B23-81FB-AA7BA6A4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86A-33A0-428E-AB3B-A64BB9B7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40B-5BF9-4C81-9791-11900BB6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6A85-C1D5-41A3-9935-D8F419F874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6D0E-7A0D-46A4-8F84-606ED069D7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60FC-0EDE-4642-9F77-DB8613186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9B63-BD70-4FC6-85DB-B980C30863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Arial"/>
              </a:rPr>
              <a:t>Passive agents: prototypical vs. canonical passiv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nna Siewierska &amp; Dik Bakke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Lancaster Univers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EF48-58EF-447C-B8BB-CB7CD319EB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Convergence of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?Passives with more canonical agents tend to have other more canonical feat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900-D6BF-4E4E-8560-A7616894AD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Agent overtly expressible &gt; not overtly expressible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equency of agent expr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gent expression and the passive su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gent expression and the passive ver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169B-60AC-4A61-8220-54B9A98232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A: Passives &amp; agent expres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80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152/234 languages= </a:t>
            </a:r>
            <a:r>
              <a:rPr b="0" lang="en-GB" sz="2500" spc="-1" strike="noStrike">
                <a:solidFill>
                  <a:srgbClr val="33cc33"/>
                </a:solidFill>
                <a:latin typeface="Verdana"/>
              </a:rPr>
              <a:t>65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116000" y="2421000"/>
          <a:ext cx="7345440" cy="37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21000"/>
                    <a:ext cx="734544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0A6-4160-4247-B28D-985A3DB1B8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A: Areal distribu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1619280" y="1700280"/>
          <a:ext cx="6192720" cy="47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700280"/>
                    <a:ext cx="6192720" cy="47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3E4-6432-411C-B42F-1AEA4FD274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A: Agents within languag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1258920" y="1700280"/>
          <a:ext cx="6769080" cy="467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676908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476360" y="1844640"/>
            <a:ext cx="100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ABA-FEBE-4A0B-A714-34D84A5858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A: Taking genre into accou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Granger (1983:275):Spoken English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Overt Agent   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Conversation 8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 6%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121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iscussion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30     16%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158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Oration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63     20%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248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Interview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 9     25%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 2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Commentary26     </a:t>
            </a:r>
            <a:r>
              <a:rPr b="0" lang="en-GB" sz="2500" spc="-1" strike="noStrike">
                <a:solidFill>
                  <a:srgbClr val="ff00ff"/>
                </a:solidFill>
                <a:latin typeface="Verdana"/>
              </a:rPr>
              <a:t>35%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 4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966-28CA-47AC-A0B5-EF9E87DA82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B: The passive subject: impersonal vs. personal passiv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ersonal passives (with a lexical subject) are more likely to be agentive than impersonal ones (without a lexical subject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In languages with personal and impersonal passives, if one is agentless it is the impersonal, e.g. Amharic, Evenki, Swedish, Kanada, Turkish, Moja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In languages with personal and impersonal passives, if the expression of the agent is highly restricted it is in the impers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03B-CA11-4388-AEA5-C71F6EE5A4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: No agent in Imp pass: Swedis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t s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ö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g-s     I ladorna (*av ungdomarn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t    sang-pass in barns    by young 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`There was singing (by young people) in the barns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t drick-s     mycket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öl (*av studentern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   drink-pass much   beer by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There is a lot of beer drinking by students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D903-CDAA-4AA9-A99E-7647FE9A1E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B: Restricted agent in Imp pass: Polish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Only nonspecific, generic agent: Słoń  (2003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zisiaj bylo juz       spr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ą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ne prz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day  was  already cleaned  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pr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ą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czki (*Pania Kowalsk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eaners         Mrs   Kowals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`There’s been some cleaning done today by the cleaners/*Mrs Kowalska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1EA-12B6-4AAE-A7A0-56D6E37D76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B: Languages with only IMP passiv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In the vast majority of languages which have only an impersonal passive, the passive is agentl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Our sample 12/16 = </a:t>
            </a:r>
            <a:r>
              <a:rPr b="0" lang="en-GB" sz="2500" spc="-1" strike="noStrike">
                <a:solidFill>
                  <a:srgbClr val="ff00ff"/>
                </a:solidFill>
                <a:latin typeface="Verdana"/>
              </a:rPr>
              <a:t>75%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agentl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No agent in: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reek, Eyak, Finnish, Konso, Luo, Maa, Mojave,  Slave, Seminola, Takelma,  Tukang-Besi, and U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n agent in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ptic, Itelmen, Nuer, and Tanacr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A2D-9A49-4FF1-812B-42B799DE95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Prototypes &amp; the pass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rototy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Have a cognitive statu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re either frequency or exemplar bas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re variable (culturally and also for individual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assive constructions are not universal unless perceived very broad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ny passive prototype must be language specif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Not always fully apprecia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ifferences between explicitly posited prototy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ossibility of agent expression: frequency vs. exemplar bas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CC3-CE34-498A-86F6-EE67C47157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: Semantic role of passive subjec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atient &gt; oth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ypical patient &gt; responsible pati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83B9-849E-4453-B984-E825DBF0B0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B: Recipient vs. Theme subjects: giv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assive clauses with patient subjects are more likely to be agentive than those with non-patient sub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assives with </a:t>
            </a:r>
            <a:r>
              <a:rPr b="0" lang="en-GB" sz="2900" spc="-1" strike="noStrike">
                <a:solidFill>
                  <a:srgbClr val="ff00ff"/>
                </a:solidFill>
                <a:latin typeface="Verdana"/>
              </a:rPr>
              <a:t>give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in the BN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cc33"/>
                </a:solidFill>
                <a:latin typeface="Verdana"/>
              </a:rPr>
              <a:t>Recipient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subjects: agentive passives 29/346 = </a:t>
            </a:r>
            <a:r>
              <a:rPr b="0" lang="en-GB" sz="2500" spc="-1" strike="noStrike">
                <a:solidFill>
                  <a:srgbClr val="33cc33"/>
                </a:solidFill>
                <a:latin typeface="Verdana"/>
              </a:rPr>
              <a:t>8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6600"/>
                </a:solidFill>
                <a:latin typeface="Verdana"/>
              </a:rPr>
              <a:t>Patient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ubjects: agentive passives 29/145 = </a:t>
            </a:r>
            <a:r>
              <a:rPr b="0" lang="en-GB" sz="2500" spc="-1" strike="noStrike">
                <a:solidFill>
                  <a:srgbClr val="ff6600"/>
                </a:solidFill>
                <a:latin typeface="Verdana"/>
              </a:rPr>
              <a:t>20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238-91AE-4231-ABFC-F5D9E9C099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: Responsible pati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assives in which the subject has no responsibility for the event are more likely to be agent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English be vs. get passiv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nversation: agenti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be= 6% vs.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get=1.4%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No agent in the Buru “get”-passive as opposed to the ek-passiv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625-C3A3-43AF-93C7-EBE5351ED5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: Buru (Grimes 1991)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Sira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dapa-k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eflali  (*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ring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y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get-acp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beat  (*him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y got beaten up.’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ubu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i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ek-fuka-k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rin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oor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ist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ass-open-acp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3s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 door was opened by him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641-5BCF-4EF6-8613-D691393618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C: The passive verb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ransitive verb &gt; intransitive ver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assives formed from transitive verbs are more often agentive than those formed from intransitive verb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gentive impersonal passives of intransitive verbs rare: e.g. German, Dutch, Hindi, Lat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995-6438-460F-89C0-34D9AE28DF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C: The passive verb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overt marking &gt; no mark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no verbal marking &amp; obligatory agent expres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aanyan: two passives(?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anggara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iangshan Nuosu (Tibeto-Burma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Kanuri (Nilo-Sahara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D03-9C14-46C3-A541-2CED19E421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Maanyan (Gudai 1985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Sapidaq yeruq   </a:t>
            </a:r>
            <a:r>
              <a:rPr b="1" lang="pl-PL" sz="2500" spc="-1" strike="noStrike">
                <a:solidFill>
                  <a:srgbClr val="33cccc"/>
                </a:solidFill>
                <a:latin typeface="Verdana"/>
              </a:rPr>
              <a:t>na</a:t>
            </a:r>
            <a:r>
              <a:rPr b="0" lang="pl-PL" sz="2500" spc="-1" strike="noStrike">
                <a:solidFill>
                  <a:srgbClr val="33cccc"/>
                </a:solidFill>
                <a:latin typeface="Verdana"/>
              </a:rPr>
              <a:t>-</a:t>
            </a: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widi   (daya ambah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Bicycle  the       pass-buy am     fath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The bicycle was bought by father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unsi    yeruq  </a:t>
            </a:r>
            <a:r>
              <a:rPr b="1" lang="en-GB" sz="2500" spc="-1" strike="noStrike">
                <a:solidFill>
                  <a:srgbClr val="33cccc"/>
                </a:solidFill>
                <a:latin typeface="Verdana"/>
              </a:rPr>
              <a:t>Ø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-alap      *(wawey yeruq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Banana the     pass-take      girl      th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The bananas were taken away by the girl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2EA-4259-4D30-80E1-55A82CBFD0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Manggarai (Arka &amp; Kosmas 2002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ku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ero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latung=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fry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orn=1s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`I fry/am frying corn.’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Latung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hitu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cero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l-aku=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orn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hat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fry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by-1sg=3s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he corn is being fried by me.’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CB9-395F-4E53-922E-DB3C7AB8F9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Kanuri (Hutchinson 1981:215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li shia cez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li him  kill:pa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`Ali killed him.’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hia Ali-ye cez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Him  Ali-by kill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`He was killed by Ali. Him, Ali killed.’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969-96E5-492D-BD2D-2208B604FD0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C: type of verbal mark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eriphrastic vs. synthetic mark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In sample 59 periph vs. 194 synt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No obvious relation between the two types of marking and expressibility of the ag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Languages with both types of passiv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cc33"/>
                </a:solidFill>
                <a:latin typeface="Verdana"/>
              </a:rPr>
              <a:t>Buru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periphrastic agentless, synthetic agenti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cc33"/>
                </a:solidFill>
                <a:latin typeface="Verdana"/>
              </a:rPr>
              <a:t>Punjabi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synthetic agentless, periphrastic agenti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A26-22A4-4C73-B271-C2E2208350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The passive prototype 1: agentl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Shibatani (1985:837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i) Primary pragmatic function: agent defocus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ii) Semantic properti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(a) Semantic valence: predicate (agent, patient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(b) Subject is affect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iii) Syntactic proper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(c ) Encoding:    </a:t>
            </a:r>
            <a:r>
              <a:rPr b="0" lang="en-GB" sz="1900" spc="-1" strike="noStrike">
                <a:solidFill>
                  <a:srgbClr val="ff00ff"/>
                </a:solidFill>
                <a:latin typeface="Verdana"/>
              </a:rPr>
              <a:t>agent </a:t>
            </a:r>
            <a:r>
              <a:rPr b="0" lang="en-GB" sz="1900" spc="-1" strike="noStrike">
                <a:solidFill>
                  <a:srgbClr val="ff00ff"/>
                </a:solidFill>
                <a:latin typeface="Wingdings"/>
                <a:ea typeface="Wingdings"/>
              </a:rPr>
              <a:t></a:t>
            </a:r>
            <a:r>
              <a:rPr b="0" lang="en-GB" sz="1900" spc="-1" strike="noStrike">
                <a:solidFill>
                  <a:srgbClr val="ff00ff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ff00ff"/>
                </a:solidFill>
                <a:latin typeface="Verdana"/>
              </a:rPr>
              <a:t>Ø (not encoded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tient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subje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d)  Valence of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dicate: Active = P/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ssive = P/n - 1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iv) Morphological proper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ctive = 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assive = P [+passive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531-A947-4F50-8BB8-0EBA201019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C: Agentive  periphrastic vs. synthetic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7056360" cy="48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2453-11C1-4ACC-9E25-6780D4AE25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C: obligatory ag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?Obligatory agents are found in periphrastic passives but not synthetic ones (?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initic languag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Hmong, Nung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?Philippine focus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?Form of verbal marking not part of the can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9BC-9CB4-4183-BC6D-505835D1BA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C: obligatory ag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Dynamic verb &gt; non dynamic ver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Obligatory agents are more likely to be found with non-dynamic than dynamic verb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coffee was followed *(by a culinary surpris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 was possessed *(by an irresistible urge to slap his fac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 her death she was succeeded *(by the Duke of Yor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7BE-99E4-4048-B720-0317161C05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Arial"/>
              </a:rPr>
              <a:t>More canonical agents &gt; less canonical agent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983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i)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lexical &gt; pronomin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983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ii)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not semantically restricted &gt; semantically restrict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983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iii)  non-core-marking &gt; core mark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983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3065-B19D-42E8-8E4F-4F09BBE59B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Pronominal ag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hibited in some pass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Lunda, Copt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No SAP agents in Indonesian di-passive, Maanyann na- passive,Tzotzil, Quiche (∫-passive), Kakchiquel ki-passive, Metzontla Popoloc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š-passive, Huehuetla Tepehua Vn-passive, Halkomelem passive, Ostyak passive, Russian, Czech and Slovak reflexive passiv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tremely rare in canonical passives in, e.g. English, Polish, Ndonga, Taria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on in otherwise non-canonical pass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 verbal marking pass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bligatory agent pass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029-DA5B-47A9-849F-924BFE9B3B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Manggarai (Arka &amp; Kosmas 2002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ku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ero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latung=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fry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orn=1s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`I fry/am frying corn.’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Latung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hitu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cero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l-</a:t>
            </a:r>
            <a:r>
              <a:rPr b="0" lang="pl-PL" sz="2900" spc="-1" strike="noStrike">
                <a:solidFill>
                  <a:srgbClr val="ff00ff"/>
                </a:solidFill>
                <a:latin typeface="Verdana"/>
              </a:rPr>
              <a:t>aku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=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orn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hat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fry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by-</a:t>
            </a:r>
            <a:r>
              <a:rPr b="0" lang="en-GB" sz="2900" spc="-1" strike="noStrike">
                <a:solidFill>
                  <a:srgbClr val="ff00ff"/>
                </a:solidFill>
                <a:latin typeface="Verdana"/>
              </a:rPr>
              <a:t>1sg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=3s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he corn is being fried by me.’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543-BCA9-4C50-8DEE-A2504512C7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Maanyan (Gudai 1985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1st &amp; 2</a:t>
            </a:r>
            <a:r>
              <a:rPr b="0" lang="en-GB" sz="21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person agents occur only with zero marked verbs while third person agents can occur with either na-marked verbs or zero-marked verb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nak yeruq  </a:t>
            </a:r>
            <a:r>
              <a:rPr b="1" lang="en-GB" sz="2100" spc="-1" strike="noStrike">
                <a:solidFill>
                  <a:srgbClr val="33cccc"/>
                </a:solidFill>
                <a:latin typeface="Verdana"/>
              </a:rPr>
              <a:t>Ø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-pupuk=</a:t>
            </a:r>
            <a:r>
              <a:rPr b="1" lang="en-GB" sz="2100" spc="-1" strike="noStrike">
                <a:solidFill>
                  <a:srgbClr val="33cccc"/>
                </a:solidFill>
                <a:latin typeface="Verdana"/>
              </a:rPr>
              <a:t>ku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  huniq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boy the        pass-hit-I         just no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`The boy was hit by me just now.’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Kawaweq yeruq    </a:t>
            </a:r>
            <a:r>
              <a:rPr b="1" lang="en-GB" sz="2100" spc="-1" strike="noStrike">
                <a:solidFill>
                  <a:srgbClr val="33cccc"/>
                </a:solidFill>
                <a:latin typeface="Verdana"/>
              </a:rPr>
              <a:t>Ø-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jalak-</a:t>
            </a:r>
            <a:r>
              <a:rPr b="0" lang="en-GB" sz="2100" spc="-1" strike="noStrike">
                <a:solidFill>
                  <a:srgbClr val="33cccc"/>
                </a:solidFill>
                <a:latin typeface="Verdana"/>
              </a:rPr>
              <a:t>n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deer         the      pass-spear-h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`The deer was speared by him.’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Kawaweq yeruq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2100" spc="-1" strike="noStrike">
                <a:solidFill>
                  <a:srgbClr val="33cccc"/>
                </a:solidFill>
                <a:latin typeface="Verdana"/>
              </a:rPr>
              <a:t>na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-jalak     </a:t>
            </a:r>
            <a:r>
              <a:rPr b="0" lang="pl-PL" sz="2100" spc="-1" strike="noStrike">
                <a:solidFill>
                  <a:srgbClr val="33cccc"/>
                </a:solidFill>
                <a:latin typeface="Verdana"/>
              </a:rPr>
              <a:t>daya-n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deer         the     pass-spear  by h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`The deer was speared         by him.’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4E2-65FD-42CC-AD4C-77C515ADAE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Pronominal agents in Siniti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000000"/>
                </a:solidFill>
                <a:latin typeface="Verdana"/>
              </a:rPr>
              <a:t>Shanghai Wu (Xiaonong Zhu 2006:164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Geq liangstaq jyqtsir    </a:t>
            </a:r>
            <a:r>
              <a:rPr b="0" lang="en-GB" sz="2100" spc="-1" strike="noStrike">
                <a:solidFill>
                  <a:srgbClr val="006666"/>
                </a:solidFill>
                <a:latin typeface="Verdana"/>
              </a:rPr>
              <a:t>peq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*(ngu)chitheq leq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his two-cl      orange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ass me     eat-perf 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hese oranges have been eaten by me.’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Jieyang (Matthews and Yip 2005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Ua   tiam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6666"/>
                </a:solidFill>
                <a:latin typeface="Verdana"/>
              </a:rPr>
              <a:t>k’e?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*(i)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1sg  always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ass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3sg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scol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`I keep being scolded by him.’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0E0-3555-43D4-8D56-628C1D74B3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Semantic propert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emantically restricted passive agents tend to coincide wit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Impersonal passives (human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ermanic, Slav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ersonal passives recently developed from imperson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Kaqchikel: agent of ki-passiv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imbudu: 3pl-passi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ADF-DD44-4818-A708-E391DB07CCF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??Agent encod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gent encoding not st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non-core &gt; co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overt marking &gt; no mark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oblique marking &gt; argument mark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805-A99C-448B-A276-26A54DB952E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The passive prototype 2: agen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Givon (1979), Siewierska (1984, 2005), Dixon &amp; Aikhenvald (2000:4): criteria for prototypical passiv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pplies to an underlying transitive &amp; derives intransi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underlying O becomes 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underlying A goes into peripheral function being marked by a non-core case, adposition, etc, </a:t>
            </a:r>
            <a:r>
              <a:rPr b="0" lang="en-GB" sz="2100" spc="-1" strike="noStrike">
                <a:solidFill>
                  <a:srgbClr val="ff00ff"/>
                </a:solidFill>
                <a:latin typeface="Verdana"/>
              </a:rPr>
              <a:t>argument can be omitted but there is always the option of including 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here is some explicit formal marking generally by verbal affix or periphrastic verbal construc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4C4-4A28-45ED-88ED-F0092D49AD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Overt marking vs. no mark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No overt marking of the agent is characteristic of otherwise non-canonical passiv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dversative passive in Tha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dversative passive in Sinitic if markers treated as verbs (fine for other than ‘bei’ in Patongu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Excep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Imbabura Quechua (Cole 1982 :133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Haya (Duranti &amp; Byarushengo 1977:47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D98-AD98-46C1-A910-DACB7A3184A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Thai (Praisithrathsint 2006:118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ù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k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ùk    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ɛɛ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moth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e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`The child was beaten by his/her mother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oo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hánit ní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ùuk7  khón- phó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isease    kind    this   pass      disco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ooy nák-wittayaasàat  chaaw-ci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y    scientist                Chine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`This kind of disease was discovered by a Chinese scientist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A1A-6B12-4389-B182-C7435347FF8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Argument mark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rgument marking of the agent is characteristic of otherwise non-canonical </a:t>
            </a:r>
            <a:r>
              <a:rPr b="0" lang="en-GB" sz="2900" spc="-1" strike="noStrike">
                <a:solidFill>
                  <a:srgbClr val="ff00ff"/>
                </a:solidFill>
                <a:latin typeface="Verdana"/>
              </a:rPr>
              <a:t>passi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ative marking of the agent of adversative passives, e.g. Tungusic, Japanese </a:t>
            </a:r>
            <a:r>
              <a:rPr b="0" lang="en-GB" sz="2500" spc="-1" strike="noStrike">
                <a:solidFill>
                  <a:srgbClr val="33cc33"/>
                </a:solidFill>
                <a:latin typeface="Verdana"/>
              </a:rPr>
              <a:t>ni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vs.  </a:t>
            </a:r>
            <a:r>
              <a:rPr b="0" lang="en-GB" sz="2500" spc="-1" strike="noStrike">
                <a:solidFill>
                  <a:srgbClr val="ff00ff"/>
                </a:solidFill>
                <a:latin typeface="Verdana"/>
              </a:rPr>
              <a:t>niyotte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in the more neutral passive (Kinsui 1997), Kore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ame marking of passive agent and object in disposal construction in Sinitic (Chappell 2007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73B-D1DD-4087-B851-0BA139A6E4C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Japanes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Kyoko ga Syotta   ni/*niyotte  izime-rare-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Kyoko subj Syotta                 bully-pass-pa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`Kyoko was bullied by Syota.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813-nen Uentowaasu-ra niyotte/*ni tairiku naibu e        mukau   michi 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813-year Wentworth-etc by        by  continent inside to    go          road  n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kkens-are-ta       no     de ar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cover-pass-past-comp c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`In 1813, a road to the interior of the continent was discovered by Wentworth etc.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A92-8299-432B-803C-31EBB912D88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6666"/>
                </a:solidFill>
                <a:latin typeface="Arial"/>
              </a:rPr>
              <a:t>Changning (Wu 2006:200)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ame marker for passive agent and obj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GB" sz="2900" spc="-1" strike="noStrike" baseline="30000">
                <a:solidFill>
                  <a:srgbClr val="000000"/>
                </a:solidFill>
                <a:latin typeface="Verdana"/>
              </a:rPr>
              <a:t>44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900" spc="-1" strike="noStrike">
                <a:solidFill>
                  <a:srgbClr val="ff33cc"/>
                </a:solidFill>
                <a:latin typeface="Verdana"/>
              </a:rPr>
              <a:t>te</a:t>
            </a:r>
            <a:r>
              <a:rPr b="0" lang="en-GB" sz="2900" spc="-1" strike="noStrike" baseline="30000">
                <a:solidFill>
                  <a:srgbClr val="ff33cc"/>
                </a:solidFill>
                <a:latin typeface="Verdana"/>
              </a:rPr>
              <a:t>33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ki</a:t>
            </a:r>
            <a:r>
              <a:rPr b="0" lang="en-GB" sz="2900" spc="-1" strike="noStrike" baseline="30000">
                <a:solidFill>
                  <a:srgbClr val="000000"/>
                </a:solidFill>
                <a:latin typeface="Verdana"/>
              </a:rPr>
              <a:t>44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ma</a:t>
            </a:r>
            <a:r>
              <a:rPr b="0" lang="en-GB" sz="2900" spc="-1" strike="noStrike" baseline="30000">
                <a:solidFill>
                  <a:srgbClr val="000000"/>
                </a:solidFill>
                <a:latin typeface="Verdana"/>
              </a:rPr>
              <a:t>24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     i</a:t>
            </a:r>
            <a:r>
              <a:rPr b="0" lang="en-GB" sz="2900" spc="-1" strike="noStrike" baseline="30000">
                <a:solidFill>
                  <a:srgbClr val="000000"/>
                </a:solidFill>
                <a:latin typeface="Verdana"/>
              </a:rPr>
              <a:t>33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  tue</a:t>
            </a:r>
            <a:r>
              <a:rPr b="0" lang="en-GB" sz="2900" spc="-1" strike="noStrike" baseline="30000">
                <a:solidFill>
                  <a:srgbClr val="000000"/>
                </a:solidFill>
                <a:latin typeface="Verdana"/>
              </a:rPr>
              <a:t>2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29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  prt  3sg to score one c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`I gave him a scolding./I was scolded by hi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133-E5F2-4C14-B381-B9BF3A0BB6F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Argument mark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rgument marking of the agent is characteristic of non-canonical </a:t>
            </a:r>
            <a:r>
              <a:rPr b="0" lang="en-GB" sz="2900" spc="-1" strike="noStrike">
                <a:solidFill>
                  <a:srgbClr val="ff00ff"/>
                </a:solidFill>
                <a:latin typeface="Verdana"/>
              </a:rPr>
              <a:t>ag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ative marking of the passive agent in Ancient Greek (George 2005:); mainly of pronominal ag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rgument marking of pronominal agents in Indonesian, Maanyan, Manggarai, Nias, Kayardil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424-36A9-4717-AE4B-604553C72B2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Maanyan (Gudai 1985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1st &amp; 2</a:t>
            </a:r>
            <a:r>
              <a:rPr b="0" lang="en-GB" sz="21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person agents are cliticised to the verb which is a feature of argument marking, while third person agents occur with prepositional mark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nak yeruq  </a:t>
            </a:r>
            <a:r>
              <a:rPr b="1" lang="en-GB" sz="2100" spc="-1" strike="noStrike">
                <a:solidFill>
                  <a:srgbClr val="33cccc"/>
                </a:solidFill>
                <a:latin typeface="Verdana"/>
              </a:rPr>
              <a:t>Ø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-pupuk=</a:t>
            </a:r>
            <a:r>
              <a:rPr b="1" lang="en-GB" sz="2100" spc="-1" strike="noStrike">
                <a:solidFill>
                  <a:srgbClr val="33cccc"/>
                </a:solidFill>
                <a:latin typeface="Verdana"/>
              </a:rPr>
              <a:t>ku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  huniq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boy the        pass-hit-I         just no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`The boy was hit by me just now.’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Kawaweq yeruq    </a:t>
            </a:r>
            <a:r>
              <a:rPr b="1" lang="en-GB" sz="2100" spc="-1" strike="noStrike">
                <a:solidFill>
                  <a:srgbClr val="33cccc"/>
                </a:solidFill>
                <a:latin typeface="Verdana"/>
              </a:rPr>
              <a:t>Ø-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jalak-</a:t>
            </a:r>
            <a:r>
              <a:rPr b="0" lang="en-GB" sz="2100" spc="-1" strike="noStrike">
                <a:solidFill>
                  <a:srgbClr val="33cccc"/>
                </a:solidFill>
                <a:latin typeface="Verdana"/>
              </a:rPr>
              <a:t>n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deer         the      pass-spear-h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`The deer was speared by him.’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Kawaweq yeruq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2100" spc="-1" strike="noStrike">
                <a:solidFill>
                  <a:srgbClr val="33cccc"/>
                </a:solidFill>
                <a:latin typeface="Verdana"/>
              </a:rPr>
              <a:t>na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-jalak     </a:t>
            </a:r>
            <a:r>
              <a:rPr b="0" lang="pl-PL" sz="2100" spc="-1" strike="noStrike">
                <a:solidFill>
                  <a:srgbClr val="33cccc"/>
                </a:solidFill>
                <a:latin typeface="Verdana"/>
              </a:rPr>
              <a:t>daya-n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deer         the     pass-spear  by h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`The deer was speared         by him.’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D68-96E4-402B-831E-A2B867756F5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Nias  (Brown 2001 :421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he agent is indicated as mutated if a noun (associated with non-core marking) and as a poss suffix on the verb if a pronoun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Nukha   ni-sasai       nakhi-g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lothes pass-wash   younger sibling:mut-1sg:po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`The clothes which  were washed by my little sister.’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Nukha   ni-sasai-ni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lothes pass-wash-3s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`The clothes which were washed by her.’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5A0-8771-44D5-89EE-A21A345E5EF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Kayardild (Evans 1995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Nominal agents- ablative or verbal alla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ronominal agents only in nominalized clauses and prefixed to the verb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Waldarr-a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ra-yii-ju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yuujband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moon-nom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spear-m-pot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long.ag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ngakuluwan-kurri-i-jarr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1inclposs-see-m-a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Moon was speared long ago, (it) wasn’t seen by us.’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9B7-5A84-4FA4-931F-99C52249BBC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2AD2-9CCE-44AA-B12F-2FFA97F8C58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A canon: Corbett (2005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 canonical instance of a phenomenon is viewed as </a:t>
            </a:r>
            <a:r>
              <a:rPr b="0" lang="en-GB" sz="2500" spc="-1" strike="noStrike">
                <a:solidFill>
                  <a:srgbClr val="ff33cc"/>
                </a:solidFill>
                <a:latin typeface="Verdana"/>
              </a:rPr>
              <a:t>a convergence of properties,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an ideal or theoretical point from which actual manifestations of a given phenomenon can be calibrat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 logical constru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n analytical tool vs. an actual language categ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Not exemplar based, though the “indisputable” does provide the starting poi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Not frequency base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09A-D5AC-4F0D-9E8B-2294F474B5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Passiv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ich are canonical with respect to the properties of the subject and verb do indeed tend to coincide with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gentive as opposed to agentless passives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on-obligatoriness of the agent if expressed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y coincide wit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gents which are semantically agentive and lexica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blique encoding of the ag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ill not clear whether semantic and/or encoding properties should be viewed as apart of the can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he canonical approach does not constrain the degree of granularity of the can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Perhaps yes for semantic, no for encod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47A-67C6-481F-AAF2-E49F2FCBDA5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rka I Wayan and Jeladu Kosmas. 2002. Passive without passive morphology? Evidence from Manggarai. Paper read at 9 ICAL, Canber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rown, Lea. 2001. A Grammar of Nias Selatan. Ph.D Dissertation, University of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ydne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happell Hilary (2007). Grammaticalization zones for the identical marking of agents and patients in Sinitic languages. Paper presented at the Fifth Conference of the European Association of Chinese Linguistics, 5-7 September 2007, Leipzig, German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rbett, Greville. 2005. The canonical approach in typology. In: Zygmunt Frajzyngier, Adam Hodges and David S. Rood eds.,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Linguistic Diversity and Language Theorie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 Amsterdam: John Benjamins. 25-49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xon, R. M. W &amp; A. Y. Aikhnevald. 2000.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Changing Valenc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 Cambridge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mbridge University Pr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vans, Nicholas.1995.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A Grammar of Kayardild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 Berlin: Mouton de Gruyte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308-5D7C-4D16-B27F-EA8EE2BF157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eorge, Coulter H. (2005). Expressions of Agency in Ancient Greek. Cambridge: C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ivon, Talmy. 1979.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Understanding Gramma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 New York: Academic Pr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anger, Sylviane 1983.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The Be + Past Participle Construction in Spoken English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 Amsterdam: North Holland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imes,  Charles E. 1991. The Buru Language of Eastern Indonesia. Ph. D.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ssertation, The Australian National Universit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udai, Darmansyah, H. 1985. A Grammar of  Maanyan, A Language of Central Kalimantan. Ph.D. Dissertation. Australian National Universit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Kinsui, Satishi 1997.  The influence of translation on the historical development of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Japanese passive construction.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Journal of Pragmatic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28: 759-779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3EE-EE73-4885-999C-8CD245C8492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asithrathsint, Amara. 2006. Development of the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thùuk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passive marker in Thai. In.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rner Abraham &amp; Larisa Leisiö eds,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Passivization and Typolog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 Amsterdam: John Benjamins, 115-13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hibatani, Masayoshi. 1985. Passives and related constructions: a prototype approach.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Languag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61, 821–848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ewierska, Anna. 1984.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The Passive: A Contrastive Linguistic Analysi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 London: Croom Hel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ewierska, Anna. 2005.  Passive constructions, In M. Haspelmath, M.S. Dryer, D. Gil &amp; B. Comrie eds,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World Atlas of Language Structure.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xford University Press, chapter 107: 434-43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łoń, Anna. 2003. Impersonal Constructions in English and Polish. A Cognitive Grammar Approach.  Ph.D. Dissertation, Maria Curie-Skłodowska University in Lubl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878-C6EC-413E-9DA0-6F4E0438588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A canonical passive is agen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gent &amp; its properties distinguish the passive from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ctive impers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nticausa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ve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 productive, pragmatically marked, but semantically neutral, detransitivized patient subject and agent defocused construction used for purposes of referent tracking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5B7-ED1E-4E59-986E-E445F790CE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Convergence of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he possibility of agent expression coincides with other features of the passive can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66D-D0D0-4CD2-B469-8B2A29251C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The passive can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Subje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)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vert subject &gt; no overt subje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ii)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patient subject  &gt; non-patient subje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ii)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patient not responsible &gt; patient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partially responsib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Ver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v)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formal verbal marking &gt; no formal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verbal mark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v)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synthetic verbal marking &gt;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periphrastic verbal mark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vi)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basic transitive verb &gt; basic intransitive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ver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ynamic verb &gt; non-dynamic ver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0B1-60CA-445C-8FAE-76B8C98FE4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Features of passive ag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ome types of passive agents are more canonical than oth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hi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emantic and referential proper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gentivity, humanness, specificity, pronominal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Encoding proper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blique encod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nonical Passi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926-5A1C-4CAC-A5A0-CA0E110631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k Bakker</cp:lastModifiedBy>
  <dcterms:modified xsi:type="dcterms:W3CDTF">2009-07-26T14:27:24Z</dcterms:modified>
  <cp:revision>245</cp:revision>
  <dc:subject/>
  <dc:title>PowerPoint Presentation</dc:title>
</cp:coreProperties>
</file>