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C18-72D2-4398-A6D7-FDAC6833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F25D-0C48-4F7A-94D1-163D635F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0503-B9BE-4990-BB9B-CD1D69FC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7D46-0D7D-4873-9991-B436CB2A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FACE-71A7-4F38-85E7-8308392F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74C9-E684-4665-AAD7-B38F96AB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387C-78FB-406E-A953-62D53262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3FA2-5D0B-4A80-9EAB-83307FED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28A2-5D09-43B0-BC46-9E0E7727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2045-29C8-4970-9D73-79633EFE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1AE1-8437-4AEA-8E27-3DC734A4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1A06-6A23-4ACF-8E20-F67396C0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93E2-2C14-4DF8-9D25-A46176C5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A377-C7B4-4560-8BB1-8AEB83A0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DFE3-FCFA-4402-87D8-49DDE4D6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33B4-2A8A-4546-B470-DBCFF809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BC0E-2420-41D7-AEDD-88237916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0F3-4EF4-4149-B82D-A630DF37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0B3-0AB6-4942-9A24-4519C06B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191-956C-4E66-A6D8-683CE953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44C5-3473-4114-BEF3-1D8EF56E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06A-5510-4F2B-939E-302E7DC6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129-9AE8-406B-A3CB-71C4BB6C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6763-21A5-48A9-962C-B8E244F2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F3A2BD-EB99-488F-84D0-3561D91D46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820ADD-9ECC-407D-9A5D-92F3021B75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288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Anna Siewierska &amp; Dik Bakk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Lancaster Univers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1052640"/>
            <a:ext cx="7956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1042920"/>
            <a:ext cx="72392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ever too much of a good thing: why so many languages have more than one passiv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0720" y="360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Current sample: 311 lgs with passiv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70160" y="1890720"/>
          <a:ext cx="7313400" cy="39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1890720"/>
                    <a:ext cx="731340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B13-E5C7-499D-A9AD-6445AA9119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0720" y="360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ore than 1 passive = 92/311 (30%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70160" y="1892160"/>
          <a:ext cx="7313400" cy="39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1892160"/>
                    <a:ext cx="7313400" cy="39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6809-0B46-4201-929C-3ECC0888CEE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Areal distribution of 1 &amp; 1+ passiv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9640" y="1800360"/>
          <a:ext cx="8099640" cy="431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00360"/>
                    <a:ext cx="8099640" cy="43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2A0-E2CA-440F-B790-31BD44ECE30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Areal distribution of 1 vs. 2  vs.  2+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0160" y="1892160"/>
          <a:ext cx="7313400" cy="39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1892160"/>
                    <a:ext cx="7313400" cy="39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erbal marking &amp; 1 &amp; 1+ passiv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08000" y="2276640"/>
          <a:ext cx="5832720" cy="39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76640"/>
                    <a:ext cx="58327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015-C166-4732-8F7A-AA119FAB289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y more than one passive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5880" y="1825560"/>
            <a:ext cx="767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iconic or economic motivation for  structural synonymy within languages (Croft  2003:105-106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me differences in fun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type of differences in func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are these differences distributed globally and in relation to type of passive verbal marking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E94-C716-44B2-B3A0-2A5480FAE6B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ype of differences between pass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1370160" y="1827360"/>
            <a:ext cx="731340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in constitu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Subj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Ag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Verb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mantic facto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T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Nature of state of affai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Assess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agmatic facto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Information struct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Text type &amp; gen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6A4F-9559-4D12-B744-0CCA91CCF76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ubjec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Presen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emantic ro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Anim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Pers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72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7C7A-B8DD-424C-865D-C24050AB94A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ubject: Presence: Kannad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Sridhar 1980) padu `experience’ vs. agu `become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rishnanu-indu Ramu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o-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att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rishna-IN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ma-NO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-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A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P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Rama was killed by Krishna.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ma-nann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ollal-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ay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y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m-AC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:INF-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PA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P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Ram was killed.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1B2-B2D8-42BA-B137-53387117D38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ubject: Semantic role: Dutc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Het boek </a:t>
            </a:r>
            <a:r>
              <a:rPr b="0" lang="en-GB" sz="2500" spc="-1" strike="noStrike">
                <a:solidFill>
                  <a:srgbClr val="ff0000"/>
                </a:solidFill>
                <a:latin typeface="Verdana"/>
              </a:rPr>
              <a:t>wordt 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 hem toegestuur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he book become him s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`The book is sent to him.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*Hij </a:t>
            </a:r>
            <a:r>
              <a:rPr b="0" lang="en-GB" sz="2500" spc="-1" strike="noStrike">
                <a:solidFill>
                  <a:srgbClr val="ff0000"/>
                </a:solidFill>
                <a:latin typeface="Verdana"/>
              </a:rPr>
              <a:t>wordt 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het boek toegestuurd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Hij </a:t>
            </a:r>
            <a:r>
              <a:rPr b="0" lang="en-GB" sz="2500" spc="-1" strike="noStrike">
                <a:solidFill>
                  <a:srgbClr val="0000ff"/>
                </a:solidFill>
                <a:latin typeface="Verdana"/>
              </a:rPr>
              <a:t>krijgt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het boek toegestuurd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he gets   the book s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`He is sent the book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6B1-52A7-451C-8C58-5CA8E24EBE5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canonical constru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1370160" y="1827360"/>
            <a:ext cx="7313400" cy="44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) Agent defocusing &amp; Patient pro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i) Semantic properti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(a) Semantic valence: predicate (agent, patie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(b) Subject is affec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ii) Syntactic prope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(c ) Encoding:    agent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oblique or not express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tien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ub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(d) Valence of predicate: Active = P/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ssive = P/n - 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v) Morphological prope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tive = Pred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ssive = Predicate [+passive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) Pragmatically marked vis a vis the ac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C77B-DC0F-49B6-B013-74397026E18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Subject: Animacy: </a:t>
            </a:r>
            <a:r>
              <a:rPr b="0" lang="pl-PL" sz="3200" spc="-1" strike="noStrike">
                <a:solidFill>
                  <a:srgbClr val="006666"/>
                </a:solidFill>
                <a:latin typeface="Arial"/>
              </a:rPr>
              <a:t>Imbabura Quechu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ria-ka   juya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-shk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pl-PL" sz="2400" spc="-1" strike="noStrike">
                <a:solidFill>
                  <a:srgbClr val="ff0000"/>
                </a:solidFill>
                <a:latin typeface="Verdana"/>
              </a:rPr>
              <a:t>ka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-r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ria-TOP  love-PAST.PART be-PAST: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`Maria was seen.’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ria-ka    juya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tuku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-r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ria-TOP  love-INF     become-PAST: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`Maria was seen.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ycha-k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miku-shka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k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r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eat-TOP  eat-PAST.PAR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-PAST: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`The meat was eaten.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*Aycha-ka  miku-y  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tuk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r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A646-93E8-4986-8206-A988248BFB6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ubject: Person: Coeur d’Ale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m (1SG or 3) vs. –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ε√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ε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q-n-t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Ø-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C.burr—d-t-3SG-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PA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`He was buried.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n√m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ε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y-n-t-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ε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li-</a:t>
            </a:r>
            <a:r>
              <a:rPr b="0" lang="en-GB" sz="2600" spc="-1" strike="noStrike">
                <a:solidFill>
                  <a:srgbClr val="0000ff"/>
                </a:solidFill>
                <a:latin typeface="Verdana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oint.know-d-t-1PAT-PA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`We were taught.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FD7-3063-4EBB-B1F6-706F3234809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g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Possibility of agent expres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Obligatoriness of ag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Nature of covert agent; human vs. an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Person of agent: non SAP vs. an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2D7-AF9D-41C5-BF8E-D0FE7768E1D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Agent: Presence: Buru (Grimes 1991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24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Sira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500" spc="-1" strike="noStrike">
                <a:solidFill>
                  <a:srgbClr val="ff0000"/>
                </a:solidFill>
                <a:latin typeface="Verdana"/>
              </a:rPr>
              <a:t>dapa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eflali  (*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ring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hey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get-ACP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beat  (*him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hey got beaten up.’ 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24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Subu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di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500" spc="-1" strike="noStrike">
                <a:solidFill>
                  <a:srgbClr val="0000ff"/>
                </a:solidFill>
                <a:latin typeface="Verdana"/>
              </a:rPr>
              <a:t>ek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-fuka-k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rin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door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DIST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PASS-open-ACP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3S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he door was opened by him.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93D6-DC99-445A-90E5-3A4BE334736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Agent: Omissability: Mandari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79280" y="20048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Jin-yu   </a:t>
            </a:r>
            <a:r>
              <a:rPr b="0" lang="en-GB" sz="2500" spc="-1" strike="noStrike">
                <a:solidFill>
                  <a:srgbClr val="0000ff"/>
                </a:solidFill>
                <a:latin typeface="Verdana"/>
              </a:rPr>
              <a:t>(bei)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  xiao-mao chi-diao 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goldfish PASS  cat          eat-up   PER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`The gold fish has been eaten by the cat.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Jin-yu   </a:t>
            </a:r>
            <a:r>
              <a:rPr b="0" lang="en-GB" sz="2500" spc="-1" strike="noStrike">
                <a:solidFill>
                  <a:srgbClr val="ff0000"/>
                </a:solidFill>
                <a:latin typeface="Verdana"/>
              </a:rPr>
              <a:t>(*rang)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 xiao-mao chi-diao 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goldfish   PASS   cat          eat-up   PER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`The gold fish has been eaten by the cat.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E8D-4424-4FEB-A0B2-D5B4E8772B1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Agent: any vs. human: Lund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9640" y="1800360"/>
            <a:ext cx="778356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Kasumbi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Ø-na-sum-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ew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mestic fowl   S/A-TAM-bite-PASS-FV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`A domestic fowl has been bitten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(e.g. by a snake.)’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0" lang="en-US" sz="2600" spc="-1" strike="noStrike">
                <a:solidFill>
                  <a:srgbClr val="33cc33"/>
                </a:solidFill>
                <a:latin typeface="Verdan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-sum-j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sumbi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SS-TAM-bite-FV   domestic fow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` A domestic fowl has been bitten (by a person not by a snak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EBD-5041-4856-AA78-290DEE8A3DB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gent: Person: Quich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809928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(Campbell 2000: 249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š-in-čay-</a:t>
            </a:r>
            <a:r>
              <a:rPr b="0" lang="en-US" sz="2500" spc="-1" strike="noStrike">
                <a:solidFill>
                  <a:srgbClr val="ff0000"/>
                </a:solidFill>
                <a:latin typeface="Verdana"/>
              </a:rPr>
              <a:t>tax </a:t>
            </a:r>
            <a:r>
              <a:rPr b="0" lang="en-US" sz="2500" spc="-1" strike="noStrike">
                <a:solidFill>
                  <a:srgbClr val="ff00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00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w-um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P-1SG-hit-PASS   2SG.POSS-b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`I got hit by you.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*š-in-č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a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500" spc="-1" strike="noStrike">
                <a:solidFill>
                  <a:srgbClr val="ff00ff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ff00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00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w-um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P-1SG-hit:PASS  2SG.POSS-b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`I got hit by you.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*š-in-č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a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500" spc="-1" strike="noStrike">
                <a:solidFill>
                  <a:srgbClr val="ff00ff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ff00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00f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f00ff"/>
                </a:solidFill>
                <a:latin typeface="Verdana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umal           ri    ači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P-1SG-hit:PASS  3SG.POSS-by the m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`I got hit by the man.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D27-0842-4129-A035-B23EE1D7B22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in constituents: Verb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7962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Lexic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72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morphological: derived vs. underiv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72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valen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5BAC-770D-4835-98D5-99F3802BFB2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Verb: Lexical: Tzutuji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7962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A few verbs take the archaic passive marker </a:t>
            </a:r>
            <a:r>
              <a:rPr b="0" lang="en-GB" sz="2900" spc="-1" strike="noStrike">
                <a:solidFill>
                  <a:srgbClr val="ff0000"/>
                </a:solidFill>
                <a:latin typeface="Verdana"/>
              </a:rPr>
              <a:t>vr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GB" sz="2900" spc="-1" strike="noStrike">
                <a:solidFill>
                  <a:srgbClr val="000000"/>
                </a:solidFill>
                <a:latin typeface="Verdana"/>
              </a:rPr>
              <a:t>k’amo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`carry’, </a:t>
            </a:r>
            <a:r>
              <a:rPr b="0" i="1" lang="en-GB" sz="2900" spc="-1" strike="noStrike">
                <a:solidFill>
                  <a:srgbClr val="000000"/>
                </a:solidFill>
                <a:latin typeface="Verdana"/>
              </a:rPr>
              <a:t>tojooj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`to pay’, </a:t>
            </a:r>
            <a:r>
              <a:rPr b="0" i="1" lang="en-GB" sz="2900" spc="-1" strike="noStrike">
                <a:solidFill>
                  <a:srgbClr val="000000"/>
                </a:solidFill>
                <a:latin typeface="Verdana"/>
              </a:rPr>
              <a:t>chapooj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`to grab, scold’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72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All other verbs can take the simple passive with the infix </a:t>
            </a:r>
            <a:r>
              <a:rPr b="0" i="1" lang="en-GB" sz="2900" spc="-1" strike="noStrike">
                <a:solidFill>
                  <a:srgbClr val="0000ff"/>
                </a:solidFill>
                <a:latin typeface="Verdana"/>
              </a:rPr>
              <a:t>–j-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or suffix </a:t>
            </a:r>
            <a:r>
              <a:rPr b="0" lang="en-GB" sz="2900" spc="-1" strike="noStrike">
                <a:solidFill>
                  <a:srgbClr val="666666"/>
                </a:solidFill>
                <a:latin typeface="Verdana"/>
              </a:rPr>
              <a:t>–</a:t>
            </a:r>
            <a:r>
              <a:rPr b="0" i="1" lang="en-GB" sz="2900" spc="-1" strike="noStrike">
                <a:solidFill>
                  <a:srgbClr val="666666"/>
                </a:solidFill>
                <a:latin typeface="Verdana"/>
              </a:rPr>
              <a:t>x</a:t>
            </a:r>
            <a:r>
              <a:rPr b="0" lang="en-GB" sz="2900" spc="-1" strike="noStrike">
                <a:solidFill>
                  <a:srgbClr val="666666"/>
                </a:solidFill>
                <a:latin typeface="Verdana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or the completive passive in </a:t>
            </a:r>
            <a:r>
              <a:rPr b="0" lang="en-GB" sz="2900" spc="-1" strike="noStrike">
                <a:solidFill>
                  <a:srgbClr val="0000ff"/>
                </a:solidFill>
                <a:latin typeface="Verdana"/>
              </a:rPr>
              <a:t>-</a:t>
            </a:r>
            <a:r>
              <a:rPr b="0" i="1" lang="en-GB" sz="2900" spc="-1" strike="noStrike">
                <a:solidFill>
                  <a:srgbClr val="0000ff"/>
                </a:solidFill>
                <a:latin typeface="Verdana"/>
              </a:rPr>
              <a:t>taj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911E-9EA1-4310-9FF4-A8B54B7231D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erb: Morphological: Older Egyptian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20360" y="1800000"/>
            <a:ext cx="79628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(Reintges 2008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1. Internal passive </a:t>
            </a:r>
            <a:r>
              <a:rPr b="0" lang="en-GB" sz="2900" spc="-1" strike="noStrike">
                <a:solidFill>
                  <a:srgbClr val="ff0000"/>
                </a:solidFill>
                <a:latin typeface="Verdana"/>
              </a:rPr>
              <a:t>ij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2. Suffixal passive </a:t>
            </a:r>
            <a:r>
              <a:rPr b="0" lang="en-GB" sz="2900" spc="-1" strike="noStrike">
                <a:solidFill>
                  <a:srgbClr val="0000ff"/>
                </a:solidFill>
                <a:latin typeface="Verdana"/>
              </a:rPr>
              <a:t>–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3. Reduplication applied to verbal roo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Passive 1 &amp; 2 can apply to any verb. Passive 3 can only apply to transitive verbs that are not deriv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37F9-860A-4298-857F-97819F5C75D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Skewed areal and genetic distribu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6880" y="1643040"/>
            <a:ext cx="828072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0448-7943-4713-B3C0-4D598BE0934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Valency: </a:t>
            </a:r>
            <a:r>
              <a:rPr b="0" lang="en-GB" sz="4000" spc="-1" strike="noStrike">
                <a:solidFill>
                  <a:srgbClr val="006666"/>
                </a:solidFill>
                <a:latin typeface="Arial"/>
              </a:rPr>
              <a:t>Krongo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00000" y="1800360"/>
            <a:ext cx="71992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(Reh 1985:228-9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-atini (TR) vs. –aca (DTR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-apa-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ti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ŋ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a?a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½-PRF:hit-PASS    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I have been hit.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-ada-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ac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nan-kurusi a-kaa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-PRF:give-PASS  PL-money  DAT-p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The money has been given to the man.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E21F-DFFE-4E08-AC48-BC57C7FBE5A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mantic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TAM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Nature of state of affai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generic vs. episodi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stative vs. dynami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accidental vs. volition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Assess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adversative vs. neutr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beneficial vs. adversativ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EDED-74D4-48D3-B53F-E1C28EC7F8A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Aspect: Polish by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ć</a:t>
            </a: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 vs. zosta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ć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6240" y="1800360"/>
            <a:ext cx="80326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Ciasto  </a:t>
            </a:r>
            <a:r>
              <a:rPr b="0" lang="en-GB" sz="2500" spc="-1" strike="noStrike">
                <a:solidFill>
                  <a:srgbClr val="ff0000"/>
                </a:solidFill>
                <a:latin typeface="Verdana"/>
              </a:rPr>
              <a:t>by</a:t>
            </a:r>
            <a:r>
              <a:rPr b="0" lang="en-US" sz="2500" spc="-1" strike="noStrike">
                <a:solidFill>
                  <a:srgbClr val="ff0000"/>
                </a:solidFill>
                <a:latin typeface="Verdana"/>
              </a:rPr>
              <a:t>ł</a:t>
            </a:r>
            <a:r>
              <a:rPr b="0" lang="en-GB" sz="2500" spc="-1" strike="noStrike">
                <a:solidFill>
                  <a:srgbClr val="ff0000"/>
                </a:solidFill>
                <a:latin typeface="Verdana"/>
              </a:rPr>
              <a:t>o 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pieczone / upieczo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cake    was baked:IMPERF / baked:PER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przez cioci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ę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Hel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by     aunt  Hel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`The cake was baked by aunty Helen.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Ciasto  </a:t>
            </a:r>
            <a:r>
              <a:rPr b="0" lang="en-GB" sz="2500" spc="-1" strike="noStrike">
                <a:solidFill>
                  <a:srgbClr val="0000ff"/>
                </a:solidFill>
                <a:latin typeface="Verdana"/>
              </a:rPr>
              <a:t>zosta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ło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*pieczone / upieczo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cake    remain   baked:IMPERF / baked:PER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Char char="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przez cioci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ę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Hel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by aunt Hel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0E31-FD18-4D9A-8A8C-AC698D762BA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Modality: Deonti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20720" y="18255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Gujara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ynthetic =a (possibility, necessity, prohibition) vs. periphrastic =aa `come’ (non-moda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ardini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eriphrastic-essere `be’ (non-modal) vs. periphrastic kerrere `need’ &amp; bollit ‘want’ (moda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E7F4-B577-419B-8AC0-CDF5D0E7290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Gujarati  -a vs. a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7962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ssibility (participant intern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okr=aa=thii    purU   bol=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y=U               nah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oy=OBL=ABL    fully    say=PASS=P.PRT=N   N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`The boy could not express himself.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n-mod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asav   thay=aa=nii        bhaaii=o=ne ja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livery being of brothers      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ar=v=aa=mA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Verdana"/>
              </a:rPr>
              <a:t>aa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o=INF=OBL=in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e=P.PL=FS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`The brother’s were informed about the delivery.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5BA-77C9-4095-8793-AF77A3F6D36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Sardinian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é</a:t>
            </a: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ssere vs. k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érrere vs. ?bo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0720" y="1278000"/>
            <a:ext cx="809928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24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Custa domo </a:t>
            </a:r>
            <a:r>
              <a:rPr b="0" lang="en-GB" sz="2500" spc="-1" strike="noStrike">
                <a:solidFill>
                  <a:srgbClr val="ff0000"/>
                </a:solidFill>
                <a:latin typeface="Verdana"/>
              </a:rPr>
              <a:t>est istata fraicata 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dae un'Italian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'This house  was built by an Italian.'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Cussas fainas </a:t>
            </a:r>
            <a:r>
              <a:rPr b="0" lang="en-GB" sz="2500" spc="-1" strike="noStrike">
                <a:solidFill>
                  <a:srgbClr val="0000ff"/>
                </a:solidFill>
                <a:latin typeface="Verdana"/>
              </a:rPr>
              <a:t>keren fattas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de nos corc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`Those chores need to be done before we go to bed.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Custa cicara de cafei </a:t>
            </a:r>
            <a:r>
              <a:rPr b="0" lang="en-GB" sz="2500" spc="-1" strike="noStrike">
                <a:solidFill>
                  <a:srgbClr val="00ae00"/>
                </a:solidFill>
                <a:latin typeface="Verdana"/>
              </a:rPr>
              <a:t>bollit buffad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`This cup of coffee must be drunk.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C561-0E86-43BE-8000-86DF30DBEEE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Modality: epistemic: Cayuvav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(Key1967:28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Synthetic: ada-: certain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Verdana"/>
              </a:rPr>
              <a:t>ada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æčæ `it is cut off.’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ra-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d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boro `it will be given with certainty’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Synthetic: bae-: probabil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-</a:t>
            </a:r>
            <a:r>
              <a:rPr b="0" lang="en-GB" sz="2200" spc="-1" strike="noStrike">
                <a:solidFill>
                  <a:srgbClr val="0000ff"/>
                </a:solidFill>
                <a:latin typeface="Verdana"/>
              </a:rPr>
              <a:t>b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æ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roæ `it is given, probably’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-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bæ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kočiro ‘if I am believed, I am probably believed’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1160-8DC2-43C4-A14D-5114D092E68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neric vs. Episodic: Norwegian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6240" y="1800360"/>
            <a:ext cx="80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s vs. bli (Faarlund 1997:514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Oppgavene    levere-</a:t>
            </a:r>
            <a:r>
              <a:rPr b="0" lang="en-GB" sz="25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lang="en-GB" sz="2500" spc="-1" strike="noStrike">
                <a:solidFill>
                  <a:srgbClr val="ff00ff"/>
                </a:solidFill>
                <a:latin typeface="Verdana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         hver uk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he.exercises hand.in-pass    every wee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`The exercises are handed in every week.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Oppgavene     </a:t>
            </a:r>
            <a:r>
              <a:rPr b="0" lang="en-GB" sz="2500" spc="-1" strike="noStrike">
                <a:solidFill>
                  <a:srgbClr val="0000ff"/>
                </a:solidFill>
                <a:latin typeface="Verdana"/>
              </a:rPr>
              <a:t>ble        levert 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  for sei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he.exercises  become handed  too l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`The exercises were handed in too late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2FA-14E0-443E-9CD4-A8A0B2D3DA9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Stative vs. Dynamic: Estonia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0360" y="1800000"/>
            <a:ext cx="796284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lema `be’ + -tud part. vs. saama `get’ + infinitive in -da (Torn-Leesik 2002:11-1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ja          projekt    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oli              valmistat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ouse:GEN plan:NOM be:PAST:3SG      ma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ürissoni poo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ürisson  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`The design plans of the house were drawn up by Mr Jürisson.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tsiendid     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said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arsti          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ä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st 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noom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tients:NOM get:3PL doctor:GEN from reprimand:IN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`The patients got reprimanded by the doctor.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AD7-3FBD-4A88-9DB5-C37D67CBA8D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Volitional vs. Accidental: Maanya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(Gudai 1985:226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Verdana"/>
              </a:rPr>
              <a:t>Kawaweq yeruq 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500" spc="-1" strike="noStrike">
                <a:solidFill>
                  <a:srgbClr val="ff0000"/>
                </a:solidFill>
                <a:latin typeface="Verdana"/>
              </a:rPr>
              <a:t>na</a:t>
            </a:r>
            <a:r>
              <a:rPr b="0" lang="pl-PL" sz="2500" spc="-1" strike="noStrike">
                <a:solidFill>
                  <a:srgbClr val="000000"/>
                </a:solidFill>
                <a:latin typeface="Verdana"/>
              </a:rPr>
              <a:t>-jalak      daya-n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deer        the     PASS-spear  by    h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`The deer was speared         by him.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Bukuku    </a:t>
            </a:r>
            <a:r>
              <a:rPr b="0" lang="en-GB" sz="2500" spc="-1" strike="noStrike">
                <a:solidFill>
                  <a:srgbClr val="0000ff"/>
                </a:solidFill>
                <a:latin typeface="Verdana"/>
              </a:rPr>
              <a:t>ta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-rakit       daya    anak-n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book-1SG PASS-burn  by       son-3S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`My book has been accidentally burnt by his son.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2146-AEED-4D09-BF4F-8809742C473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anguage internal distribu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Enormous differences in use of passi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Productivity of constru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ny transitive ver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Only one verb: Skou (Donahue 2004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Genre &amp; register facto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Number and variety of passive constru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AE5C-D1A9-45A6-ACAB-592BDFF644E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dversative vs. Beneficial: Vietnames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0360" y="1800000"/>
            <a:ext cx="79628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bi vs. duo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Anh ay   </a:t>
            </a:r>
            <a:r>
              <a:rPr b="0" lang="en-GB" sz="2500" spc="-1" strike="noStrike">
                <a:solidFill>
                  <a:srgbClr val="ff0000"/>
                </a:solidFill>
                <a:latin typeface="Verdana"/>
              </a:rPr>
              <a:t>bi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     nguoita dan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he         PASS  someone h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`He was hit by someone.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Anh ay </a:t>
            </a:r>
            <a:r>
              <a:rPr b="0" lang="en-GB" sz="2500" spc="-1" strike="noStrike">
                <a:solidFill>
                  <a:srgbClr val="0000ff"/>
                </a:solidFill>
                <a:latin typeface="Verdana"/>
              </a:rPr>
              <a:t>duoc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Kim dan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he       PASS Kim hit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`He was hit by Kim (fortunately, he liked  it)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0DF-EB35-414D-97C7-B7FDB2A62AF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dversative vs. Neutral: Indonesia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280" y="180036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(Ing Djiang 1988:49) kena`be hit’ vs. di-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i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ken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tipu       seorang   duk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i be hit deceive one-CLAS medicine m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`Ali was deceived by a medicine ma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uku ini   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d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beli          oleh nya di Athenae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ook this PASS-bought by   him at Athanae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`The book was bought by him at the Athanaeum bookshop.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CA9-25AC-42AF-820D-CE8EE1070C1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agmatic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40000" y="2160720"/>
            <a:ext cx="7245360" cy="37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formation struct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72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gister and gen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1A94-4804-4954-8669-40A8117C550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Information structure: </a:t>
            </a:r>
            <a:r>
              <a:rPr b="0" lang="en-GB" sz="3500" spc="-1" strike="noStrike">
                <a:solidFill>
                  <a:srgbClr val="006666"/>
                </a:solidFill>
                <a:latin typeface="Arial"/>
              </a:rPr>
              <a:t>Kakchiquel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640" y="2160720"/>
            <a:ext cx="760248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(Broadwell &amp; Duncan 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In the </a:t>
            </a:r>
            <a:r>
              <a:rPr b="1" lang="en-GB" sz="2900" spc="-1" strike="noStrike">
                <a:solidFill>
                  <a:srgbClr val="ff0000"/>
                </a:solidFill>
                <a:latin typeface="Verdana"/>
              </a:rPr>
              <a:t>ki</a:t>
            </a:r>
            <a:r>
              <a:rPr b="1" lang="en-GB" sz="2900" spc="-1" strike="noStrike">
                <a:solidFill>
                  <a:srgbClr val="ff00ff"/>
                </a:solidFill>
                <a:latin typeface="Verdana"/>
              </a:rPr>
              <a:t>-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passive in contrast to the standard </a:t>
            </a:r>
            <a:r>
              <a:rPr b="1" lang="en-US" sz="2900" spc="-1" strike="noStrike">
                <a:solidFill>
                  <a:srgbClr val="0000ff"/>
                </a:solidFill>
                <a:latin typeface="Verdana"/>
              </a:rPr>
              <a:t>äx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–passive both Agent and Patient convey </a:t>
            </a:r>
            <a:r>
              <a:rPr b="1" lang="en-GB" sz="2900" spc="-1" strike="noStrike">
                <a:solidFill>
                  <a:srgbClr val="000000"/>
                </a:solidFill>
                <a:latin typeface="Verdana"/>
              </a:rPr>
              <a:t>given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inform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E2F2-D599-47CE-A6F5-2360D2164D30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gister: Southern Min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(Matthews &amp; Yip 2001:269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Ngo seng4jat6  </a:t>
            </a:r>
            <a:r>
              <a:rPr b="0" lang="en-GB" sz="2500" spc="-1" strike="noStrike">
                <a:solidFill>
                  <a:srgbClr val="ff0000"/>
                </a:solidFill>
                <a:latin typeface="Verdana"/>
              </a:rPr>
              <a:t>bei2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 jan4     aa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 always      PASS people che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`I keep being cheated.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Jau5 saam </a:t>
            </a:r>
            <a:r>
              <a:rPr b="0" lang="en-GB" sz="2500" spc="-1" strike="noStrike">
                <a:solidFill>
                  <a:srgbClr val="0000ff"/>
                </a:solidFill>
                <a:latin typeface="Verdana"/>
              </a:rPr>
              <a:t>bei6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 hin2-faan2 loi6dei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exist three PASS send-back mainlan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`Three were sent back to the mainland.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1E3-3B38-429C-AFAE-D0175788E4C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tribution of dif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66600" y="20048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Are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72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Type passive mark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A0C1-03CE-49CF-9700-ACC1FFC6713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rea &amp; semantic dif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370160" y="1890720"/>
          <a:ext cx="7313400" cy="39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1890720"/>
                    <a:ext cx="731340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90E6-EFA8-435B-8173-C05E4F8CEB90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rea &amp; semantic dif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476360" y="1989000"/>
          <a:ext cx="7311960" cy="39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89000"/>
                    <a:ext cx="7311960" cy="39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 flipH="1">
            <a:off x="4571640" y="278136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924360" y="4221000"/>
            <a:ext cx="142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306864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5076720" y="3789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788-A086-468B-901A-CD55A1EBD40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ype verbal mark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79640" y="1979280"/>
            <a:ext cx="7602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iphrast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72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ynthet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72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7ECA-1A36-43D3-A31A-FDE09ACAE90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 marking by are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70160" y="1890720"/>
          <a:ext cx="7313400" cy="39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1890720"/>
                    <a:ext cx="731340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41E4-0C39-4EC1-9CDE-CDBDFC85497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at counts as a distinct passiv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1370160" y="1827360"/>
            <a:ext cx="7313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A construction-based approac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Any systematic difference in form, semantics or use – too wi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Arial Unicode MS"/>
              </a:rPr>
              <a:t>Agentive vs. agentl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Arial Unicode MS"/>
              </a:rPr>
              <a:t>Different forms of agent mark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Arial Unicode MS"/>
              </a:rPr>
              <a:t>Presence vs. absence of thematic su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Arial Unicode MS"/>
              </a:rPr>
              <a:t>Different thematic role of su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his paper: distinctive verbal morpholog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Different auxiliary or light ver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Different affixation; not evident allomorph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Different form of lexical verb in periphrast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F4F0-A119-470E-8DAE-40A64D873B6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 marking and type of dif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principle choices between passives motivated by any of the factors considered should involve any type of passive: synthetic, periphrastic or bot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5A2-0B33-418E-AF9E-5B5FF0053587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 marking &amp; semantic dif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370160" y="1890720"/>
          <a:ext cx="7313400" cy="39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1890720"/>
                    <a:ext cx="731340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EA3-16B1-4F79-B61E-6C9D8BC8F32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 marking &amp; semantic dif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370160" y="1890720"/>
          <a:ext cx="7313400" cy="39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1890720"/>
                    <a:ext cx="731340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2700360" y="270828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2700360" y="436572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924360" y="249228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2556000" y="4149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6012000" y="2421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F171-A827-4E95-AB3F-F406B29AA59A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major asymmetr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versative differences favour distinctions between periphrastic passiv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M differences disfavour distinctions between periphrast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erb distinctions favour synthet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gent differences disfavour distinctions between periphrast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148-7635-422E-B0B9-AF83AFC56647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dversative semantic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20720" y="1825560"/>
            <a:ext cx="77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Lgs with more than one passiv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SEA&amp;Oc = periph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Eurasia = perip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frica: Coptic= perip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NAmerica: Central Yupik = synth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dverse in a general sense (inanimate subjec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?passive  or resultative) -cir vs. -m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Lgs with one passiv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Japanese, Tungusic (Evenki, Even), Manchu = synt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9DEC-28CC-48E5-92E4-CF2637E9A1C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A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ynthetic vs. Synthet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NAmerica: MesoAmer: Mayan, Uto-Aztec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Periphrastic vs. Synthet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Eurasia: Europ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5F82-D41D-4973-8204-613B91C7241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Periph vs. synth  in Europ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riphrasti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ec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cific ev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ject not restric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t ag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gher regi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yntheti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erfec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eric ev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animate sub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ag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wer register or neutr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A111-7FA2-4ED7-9030-ED5F74336F1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Periph &amp; synth outside Europ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Only 6 in the samp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AM: not involv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Event: not involv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Subject: necessarily inanimate in the more periphrastic in Cube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Agent: no agent in the periphrastic in Coptic, Cubeo, Bur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urepcha has calqued a periphrastic passive on Spanish and introduced an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BA2A-C34C-4052-A7BD-752ED2BDDD2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AM and periphrasti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No lgs where synthetic passive is perfective and periphrastic imperfecti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Modal distinctions involving capability, necessity and possibility favour periphrast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23A6-FB7A-4FB2-B02A-4A9D983E1F2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rson and syntheti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Restrictions involving person relating to either the subject or the agent favour synthetic passiv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Subject: Interior Salish, Quileute, Moseten, Ostya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Agent: Mayan, Bantu, Uto-Aztec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D07D-C16C-440C-A52E-0234B47A0966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nglish be vs. get passiv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e form of lexical verb different aux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e </a:t>
            </a:r>
            <a:r>
              <a:rPr b="0" lang="en-US" sz="2500" spc="-1" strike="noStrike">
                <a:solidFill>
                  <a:srgbClr val="ff0000"/>
                </a:solidFill>
                <a:latin typeface="Verdana"/>
              </a:rPr>
              <a:t>go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fired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by her bos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e 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wa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fired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by her bos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7BE-8A73-41E5-B3B6-F0DAFAABF292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774072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Contrary to what was stated in the abstract, only about 1/3 of the languages with passives have more than 1 (in terms of the measure adopted her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Lgs with more than one passive are mainly in Eurasia, NAmerica (Meso); SEA&amp;O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Lgs with periphrastic passives appear to be more likely to have more than one passive than languages with synthetic passiv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0094-3FCF-474D-B01C-635AD502D39B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he type of language-internal differences displayed by passives are areally skew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here are also asymmetries relating to type of verb-marking of the passiv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dversative differences favour distinctions between periphrastic passiv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AM differences disfavour distinctions between periphrasti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Person differences favour distinctions between syntheti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52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DAD4-7A10-45C4-97F9-73C7130892F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wider contex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 some languages favour multiple passives, while others do not, and yet others have no passives at all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72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2237-B327-4BF7-A0CE-AF905FD527AD}" type="slidenum">
              <a:t>62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m 3pl to pass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CE3A2A-01DA-41A7-B8D9-F8BF52B36A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Kachiquel: suffixal &amp; prefixal pass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800360"/>
            <a:ext cx="8280360" cy="42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52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. Xta Maria x-tz’ub’</a:t>
            </a: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-äx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r-oma’   a  Ju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52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  Maria COM-kiss-</a:t>
            </a:r>
            <a:r>
              <a:rPr b="0" lang="en-US" sz="2500" spc="-1" strike="noStrike">
                <a:solidFill>
                  <a:srgbClr val="ff0000"/>
                </a:solidFill>
                <a:latin typeface="Verdana"/>
              </a:rPr>
              <a:t>PAS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3-by      CL Juan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52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52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. Xta Maria  x-    </a:t>
            </a:r>
            <a:r>
              <a:rPr b="1" lang="en-US" sz="2500" spc="-1" strike="noStrike">
                <a:solidFill>
                  <a:srgbClr val="0000ff"/>
                </a:solidFill>
                <a:latin typeface="Verdana"/>
              </a:rPr>
              <a:t>ki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z’ub’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j    r-oma’   a Ju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52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  Maria COM-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PAS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kiss-TR 3-by     CL Jua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52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52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ria was kissed by Juan.’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52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BCF-FCFF-4AB9-B40C-51BA28A5456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Ukrainian ne/te vs. no/to passi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0360" y="1800000"/>
            <a:ext cx="79628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ame aux different form lexical ver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72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movlja bulo 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znajden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pl-PL" sz="2400" spc="-1" strike="noStrike">
                <a:solidFill>
                  <a:srgbClr val="0000ff"/>
                </a:solidFill>
                <a:latin typeface="Verdana"/>
              </a:rPr>
              <a:t>znajden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u košyk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aby       AUX  found:N:SG/found:N:SG  in bas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`A baby was found in a basket.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564-8516-41CA-AAB3-2C61C52DD5A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Russian periph. vs. synthetic pass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a. 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Takie stat’i 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ne 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900" spc="-1" strike="noStrike">
                <a:solidFill>
                  <a:srgbClr val="ff0000"/>
                </a:solidFill>
                <a:latin typeface="Verdana"/>
              </a:rPr>
              <a:t>byli </a:t>
            </a:r>
            <a:r>
              <a:rPr b="0" lang="pl-PL" sz="19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lang="pl-PL" sz="1900" spc="-1" strike="noStrike">
                <a:solidFill>
                  <a:srgbClr val="ff0000"/>
                </a:solidFill>
                <a:latin typeface="Verdana"/>
              </a:rPr>
              <a:t>opublikovan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such articles:NOM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NEG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Verdana"/>
              </a:rPr>
              <a:t>were:PL  published:PL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za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    granice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beyond bord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`Such articles were not published abroad.’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b.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V Rossii  prodolzalo  ne proizvodit’=</a:t>
            </a:r>
            <a:r>
              <a:rPr b="0" lang="en-GB" sz="1900" spc="-1" strike="noStrike">
                <a:solidFill>
                  <a:srgbClr val="0000ff"/>
                </a:solidFill>
                <a:latin typeface="Verdana"/>
              </a:rPr>
              <a:t>sja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n Russia continued  NEG produce=</a:t>
            </a:r>
            <a:r>
              <a:rPr b="0" lang="en-GB" sz="1900" spc="-1" strike="noStrike">
                <a:solidFill>
                  <a:srgbClr val="0000ff"/>
                </a:solidFill>
                <a:latin typeface="Verdana"/>
              </a:rPr>
              <a:t>PA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takix napitkov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such drinks:GE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`There continued not to be any such  drinks produced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n Russia.’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ple Passiv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5286-A5D8-4CE5-A816-1B39EF03D60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Anna Siewierska</cp:lastModifiedBy>
  <dcterms:modified xsi:type="dcterms:W3CDTF">2009-09-04T22:05:31Z</dcterms:modified>
  <cp:revision>395</cp:revision>
  <dc:subject/>
  <dc:title>PowerPoint Presentation</dc:title>
</cp:coreProperties>
</file>