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Mean Borrowed</c:v>
                </c:pt>
              </c:strCache>
            </c:strRef>
          </c:tx>
          <c:spPr>
            <a:solidFill>
              <a:srgbClr val="ff000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Prc03</c:v>
                </c:pt>
                <c:pt idx="1">
                  <c:v>Prc04</c:v>
                </c:pt>
                <c:pt idx="2">
                  <c:v>Prc05</c:v>
                </c:pt>
                <c:pt idx="3">
                  <c:v>Prc06</c:v>
                </c:pt>
                <c:pt idx="4">
                  <c:v>Prc07</c:v>
                </c:pt>
                <c:pt idx="5">
                  <c:v>Prc08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55</c:v>
                </c:pt>
                <c:pt idx="1">
                  <c:v>0.56</c:v>
                </c:pt>
                <c:pt idx="2">
                  <c:v>0.5</c:v>
                </c:pt>
                <c:pt idx="3">
                  <c:v>0.51</c:v>
                </c:pt>
                <c:pt idx="4">
                  <c:v>0.5</c:v>
                </c:pt>
                <c:pt idx="5">
                  <c:v>0.65</c:v>
                </c:pt>
              </c:numCache>
            </c:numRef>
          </c:val>
        </c:ser>
        <c:gapWidth val="100"/>
        <c:overlap val="100"/>
        <c:axId val="30217845"/>
        <c:axId val="86263784"/>
      </c:barChart>
      <c:catAx>
        <c:axId val="3021784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63784"/>
        <c:crosses val="autoZero"/>
        <c:auto val="1"/>
        <c:lblAlgn val="ctr"/>
        <c:lblOffset val="100"/>
        <c:noMultiLvlLbl val="0"/>
      </c:catAx>
      <c:valAx>
        <c:axId val="86263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17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8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03320" y="695160"/>
            <a:ext cx="4811760" cy="33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004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0" y="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3881520" y="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3881160" y="8686440"/>
            <a:ext cx="29401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BF46C-AF4E-4A64-97A4-5AFA96FBD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835B9-3732-4F63-895B-D9CF82452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09965-8E07-4C09-9B00-9DD8A039E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EEFFA-19B5-4EAE-B057-2E53E5062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EF8DB-44A1-46CE-9DB9-92151FAEF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89E42-D61D-4BE9-B2AE-8F651936C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AB7EA-524B-4E26-BD88-0692F65B8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652D8-CE68-41C0-979B-636FF0B17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38326-A368-441E-9BE8-44FF39E42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AB45C-E73A-42C6-9DC1-9E5B5628F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BD6F0-1622-4A9A-AB97-9AC26B9F0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580E9-3936-4CE5-97F4-0F2288B1C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AC46B-B36D-4A59-A9BC-AE4CE3016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55D24-24E0-47AE-AC1D-91FAFC344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ADFE7-A302-4CCC-A5FC-22F81AAAF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20F52-42ED-4425-B78B-03A2E70AC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73AF1-CE39-43F3-94EB-3D12202B7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438ED-3BB3-4096-8930-F99F5BD4A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3CA80-E045-45A6-9FCF-AE6A2E302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AF8DE-69C5-45F1-ABFC-8B14A5F71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528F4-2052-4384-8434-C94F520C7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768C7-A78B-4D19-AA51-ADEFA5CC6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8CF73-C7F4-4F61-BC26-1046DC15C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90353-DB89-413D-8DC3-1ED996308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33242-A892-4504-8DE7-97F167752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84CCF-8369-4336-B7C3-9EB48FEE6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1D69D-02AB-46A5-AD5F-B32F399A1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16961-8D7B-4CEA-9EEB-602845042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04D2C-7A33-44E9-A459-200AB0DA7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FD932-8DC2-468B-A9C2-ACEA705E1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0040" cy="34131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2EFA7-FAF5-4E00-816C-FA72FBA7D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DCE8A-65D8-449D-A075-6ACCCAF18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0040" cy="34131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0D186-8B0D-423F-B425-41DEF3E60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A5E11-D811-4FEC-9A54-4F0A11495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003320" y="695160"/>
            <a:ext cx="484488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343C6-2D0D-432B-9209-2DBE7EF50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C4ADB-8C88-4914-B75B-D8A104C16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F77D7-EBD5-4A47-A54B-DFEFC8297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F2DC0-40E2-4BDA-971E-DF3F54E6B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1E933-3E08-480D-8887-8A5BA7EA3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D7D07-3815-4FF9-B56C-E9FDA7051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9C83F-70D4-4C1A-BEC6-CEDB54DC7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4BA20-90B0-427D-872A-773878B7D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Text Box 2"/>
          <p:cNvSpPr/>
          <p:nvPr/>
        </p:nvSpPr>
        <p:spPr>
          <a:xfrm>
            <a:off x="1003320" y="695160"/>
            <a:ext cx="484488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28C38-569A-4F2E-A205-17BFD84D5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DDBE6-C8F9-4581-B8A6-65C0E9852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Text Box 2"/>
          <p:cNvSpPr/>
          <p:nvPr/>
        </p:nvSpPr>
        <p:spPr>
          <a:xfrm>
            <a:off x="1003320" y="695160"/>
            <a:ext cx="484488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21681-2DF9-4B0F-8B2A-CAFE55766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6D722-6321-4871-9932-F828254DA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2"/>
          <p:cNvSpPr/>
          <p:nvPr/>
        </p:nvSpPr>
        <p:spPr>
          <a:xfrm>
            <a:off x="1003320" y="695160"/>
            <a:ext cx="484488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DC93C-8E53-4A2F-951F-91B54FC19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CA62B-F200-409C-8AB5-13344EB6A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D1375-B248-47EC-9C2D-67D79E0BF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86D8E-3343-4D5E-8DEA-300540F8B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C9AA9-6FC3-498F-9687-9A66A5BD6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54360" cy="34149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7A12E-389C-47B6-A5E1-8D5F5975A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F5B32-B87D-4498-8A31-E5A4107E7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54360" cy="34149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67975-4909-4F7E-9D74-87AAF53BF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F0042-1E70-4D7E-B607-455E83D88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54360" cy="34149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C1BF6-6823-4B0F-ABA9-4580B7A73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AE173-56D6-4A88-9147-163A83113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96911-29D2-4A19-BCA2-5F6540093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3634D-D184-41C8-9FB5-A1558DB4E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0C873-9114-4809-841A-D507A1594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003320" y="695160"/>
            <a:ext cx="484488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C7CAC-915A-4368-9D5D-0243DF1E9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E722E-5729-4BA7-BB8F-00E65AE74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05747-DCDE-472C-8D4D-DD7967C6D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5B948-3A50-4EB8-B0C8-C5D1BC178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19C65-D0BF-4E1C-B272-6B7DD9162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0C595-29E1-4A5B-BBE1-4181E32FB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643A1-3DC6-4A33-B7C4-0EBDEC9FD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1906B-C9A5-407E-B7F0-E31F91260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695E5-616C-47B6-AB0C-40F397AEA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EC07F-DA9D-4383-91D8-B822E2A84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B7189-EDA7-4AD0-9E6A-82F83D41A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B500F-D409-4799-9C91-C973A714A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D6153-354C-4CC6-AF13-7429A5AC5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FF6F3-517F-4E93-A828-9D17BC836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86FB7-04C5-4AC9-AA97-12E60AAF8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4D7C3-86CD-488A-AFB6-B305192FA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56A37-C5D3-45ED-A2CA-E0A1BE97B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54360" cy="34149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173AA-2B7E-4416-9487-2C2BDCF5C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6941D-E716-4A06-B57B-82371CEA1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54360" cy="34149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739B7-117C-44D8-B9F0-AB31E71DC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7369F-8144-4DBD-8529-4AD25C232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D919C-3B28-4840-9C93-3A82F1B4A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8C8B6-2D1E-470C-BC38-7B02BC7FF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39B33-AEF6-4C25-9DA6-A20D3CF82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9AEB2-C9AC-456E-A96E-239F6C846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F92CC-13A0-4E97-9E09-EE02196D8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9F1FB-7D69-45DC-BBDE-93A97CFAF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F6567-E226-4DE8-8E56-DAEABCA4B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640C0-6428-48EC-8462-6F0015D25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2F6DA-13AA-47A6-AE55-6082226FA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1003320" y="695160"/>
            <a:ext cx="484488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66584-15D8-45CD-BECD-D0F2AA59E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70971-FFE9-4B4E-817E-A751995D1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B45C2-F659-4DF7-9DCF-B62C473DD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C829D-7B19-44DE-AE84-A961A1354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8F8DE-BF0B-4A5B-80FB-E1E487000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5B5A2-3696-47F5-8C77-E63B0ECE6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151DD-04BD-4EA1-AF0D-B68DF6AF1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D7755-2D1F-45CA-8E15-825FE747F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FD9FE-6090-4E31-96FC-B769D8FCC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CFE1C-EA9D-46A4-ACA5-646CAAC65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81229-78DE-4A1E-B6A5-804E00379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DDE55-19DD-4A0A-B819-79BF00657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3DCCB-D399-4F25-BA06-18B5E1925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9DEA6-9C49-4AE2-8C07-6704CC634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54360" cy="34149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E7641-F1AE-45CC-96F7-384540541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E2FC3-E8AC-4B45-AD93-D5150BDDD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DC0C4-A729-4CCA-88C7-AD3121699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44322-F0DA-4A28-884C-9F604A01A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DACDC-6465-4A77-AC5B-B41FD0BDC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DBC43-8225-4560-9A2D-760B21B45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9091C-06D5-47B6-9919-F32D44311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DB93D-9EDE-4DDC-A374-2C78AC974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8F24C-9370-416A-94DA-345C3EC2C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28A32-5DD4-42D2-AC51-6332A40C6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3907D-E8C4-4BB6-BFB6-14D2D353A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503D5-7D25-4F26-8D8A-06AED3745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1F9CC-4EF1-42A9-B16E-81C5DB26C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A1C04-37E8-4C5F-A4BF-7C1A24E69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DE531-76D6-4E12-85B6-D1BD7CE8A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94E9B-109E-4A65-9304-8DDE1BE92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240F1-3906-47EF-82FA-43DDACC6B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ABD94-E4AD-4757-86DE-E98935EC6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E8F2B-F3BF-4244-B56B-4381C12DC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40FD6-2F52-4964-8F7A-AAAEFE5D3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3FEBC-27C0-4188-BBC5-95A5E9911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01C72-E5E0-4623-BA5B-A16274E29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BFB89-DB1D-45A6-90D0-901268CE1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D896F-1F63-4143-90B9-94EB7EB53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928D4-C757-4CD8-9C28-A60CC713C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3DBF4-FA7D-47BA-9EA5-F987907D2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Text Box 2"/>
          <p:cNvSpPr/>
          <p:nvPr/>
        </p:nvSpPr>
        <p:spPr>
          <a:xfrm>
            <a:off x="1003320" y="695160"/>
            <a:ext cx="484488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52156-CBDB-49AA-84BD-98B142024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A26CF-C92F-4D0B-8C94-3BBDC6C8B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Text Box 2"/>
          <p:cNvSpPr/>
          <p:nvPr/>
        </p:nvSpPr>
        <p:spPr>
          <a:xfrm>
            <a:off x="1003320" y="695160"/>
            <a:ext cx="484488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85512-63B0-4BB4-825B-A11B518CB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B9B2D-0736-4F0A-8799-BDFD197F1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Text Box 2"/>
          <p:cNvSpPr/>
          <p:nvPr/>
        </p:nvSpPr>
        <p:spPr>
          <a:xfrm>
            <a:off x="1003320" y="695160"/>
            <a:ext cx="484488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7FC92-711E-4DF0-BF4D-82B8E49ED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68900-483B-46F4-8B65-D4372A2D6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772AB-B2C0-48E3-8FB1-A91B842AF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BEB81-59D2-4C8C-9F5D-77F6611D5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14B95-7C7B-4DA8-9CA2-B544FC6D4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2DCF9-EA9F-4BC1-AC68-8D374844E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8367B-5EF3-4492-85C9-4600BAF43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931D1-07AD-418A-AD8D-98139A83E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02E5B-679B-454F-8BB7-53AD9F49B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8"/>
          <p:cNvSpPr/>
          <p:nvPr/>
        </p:nvSpPr>
        <p:spPr>
          <a:xfrm>
            <a:off x="3881520" y="8686800"/>
            <a:ext cx="2940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9DB1A-2025-407F-984B-482B35024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Text Box 1"/>
          <p:cNvSpPr/>
          <p:nvPr/>
        </p:nvSpPr>
        <p:spPr>
          <a:xfrm>
            <a:off x="3881520" y="868680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07546-6606-4A78-88F4-D0B41E297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86D25-7697-4E47-AACC-A11023BC9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1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BC68-41D6-4B7C-A47D-9886AF7C5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8676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88800"/>
            <a:ext cx="818676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88F0-DD00-4408-881F-6E15F7BDD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8880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920" y="398880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1A925-268D-402D-ACAC-102CF0A44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880" y="198108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2920" y="198108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8880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880" y="398880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2920" y="398880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1E232-20F1-477F-B372-74CFCA8CA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95FA4-F997-4ABA-9822-A2E48AA72D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186760" cy="38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8851E-530D-40BA-A1B7-E03C61926E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8676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B74BB-F793-42F1-BED9-8E2A2C03C6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492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99492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063C4-E296-405B-9B6E-35D242F59F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5B612-E598-4A4D-B04C-574A636E86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8186760" cy="61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FA006-F742-45A6-BEE5-136952E5B4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99492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8880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FC4F2-9FC4-4E62-9A62-3995789594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186760" cy="38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EE22-B841-40AD-A54F-63CC15825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492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920" y="398880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EE9E3-7323-43F7-8F80-FD25AF93C9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88800"/>
            <a:ext cx="818676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92D4A-72B8-431C-89D2-69F45B6C65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8676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988800"/>
            <a:ext cx="818676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0CD32-D820-48E3-B3D3-2C77AF2BF4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98880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920" y="398880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9AD97-438B-4B4C-9CD8-5813F30D0E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24880" y="198108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92920" y="198108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98880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24880" y="398880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92920" y="398880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E45C4-F353-43D6-A8B5-5FD65FB10B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ABA4-551F-47B5-B152-174506A6CC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186760" cy="38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8016-3CD1-4D69-8CAB-349B374DCB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8676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3C46-5246-4A22-82DB-D9BA7A6B26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492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99492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56D6-44CB-4098-879C-F88D390CA3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09AE-86CC-4A51-A070-9635C48FF2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8676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0894B-E63A-499C-A351-719338D888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8186760" cy="61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8E7E-BC26-4AED-83EF-510EC3632D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99492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6840" y="398880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2062-456B-435C-8028-887B077133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492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51920" y="398880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506A-5217-436A-BF02-D496D59DC7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3988800"/>
            <a:ext cx="818676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4E5A-EDD4-4504-BBFB-CE41CD4F96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8676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6840" y="3988800"/>
            <a:ext cx="818676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2E07-3492-4F3F-AA44-B8463E9A5C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398880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51920" y="398880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8E5B-0CBD-4541-AC0E-CA337E196D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24880" y="198108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92920" y="198108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6840" y="398880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24880" y="398880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92920" y="398880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F6D1-85A9-4D98-B4D3-E8881B95ED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7E25C-F9B6-45F6-A9EA-C6A7C55CA5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186760" cy="38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0F67C-70C7-43BD-B4A0-EB78BDFC406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8676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38433-AE40-4C6A-B0AF-730F53BBD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492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99492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85E6A-AA8B-4DBF-BDAE-15040D832C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492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99492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201D4-C288-4065-BC86-A4AFC69723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753C0-FAF8-4AEC-8A97-14C2D0AAFC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8186760" cy="61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AFE8A-DA19-4922-AD99-D67021D91D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99492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398880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39C35-9DA9-493F-BDA0-2E70572530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492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51920" y="398880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70ECB-9119-4910-AA9B-8475D19DC2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6840" y="3988800"/>
            <a:ext cx="818676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086C8-443E-4B1B-BCAB-F3C3B1A36D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8676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6840" y="3988800"/>
            <a:ext cx="818676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0B07F-2DD0-4388-8937-EF2EC41CEE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398880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51920" y="398880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416DA-9B47-4228-990E-801A5D5551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24880" y="198108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992920" y="198108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6840" y="398880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24880" y="398880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992920" y="3988800"/>
            <a:ext cx="2635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9E105-3D0A-4D93-AF2D-C280D9A1E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D0F4F-142F-42FC-9837-4CC5BAF01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8186760" cy="61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665E2-4F10-471D-8543-D9F0FAB02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99492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8880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3A6A9-A569-4AD4-888A-925F16830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492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920" y="398880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47D2E-EBDF-4FE9-BD17-D29743374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99492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88800"/>
            <a:ext cx="8186760" cy="18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198DF-04F0-4A11-8D8D-AA35942FF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155080" cy="10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15508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6720"/>
            <a:ext cx="208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6960" y="6246360"/>
            <a:ext cx="282420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use Combining in Ot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5960" y="6246720"/>
            <a:ext cx="20559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D19257-644A-43CC-AA2B-88EF214356BE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3123720" y="6248160"/>
            <a:ext cx="28530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3080" y="6248160"/>
            <a:ext cx="20908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0A967B-48B3-4D71-8E60-F2A7FBD116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0" y="0"/>
            <a:ext cx="9138960" cy="541080"/>
            <a:chOff x="0" y="0"/>
            <a:chExt cx="9138960" cy="541080"/>
          </a:xfrm>
        </p:grpSpPr>
        <p:sp>
          <p:nvSpPr>
            <p:cNvPr id="44" name="Rectangle 4"/>
            <p:cNvSpPr/>
            <p:nvPr/>
          </p:nvSpPr>
          <p:spPr>
            <a:xfrm>
              <a:off x="0" y="0"/>
              <a:ext cx="285480" cy="52884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>
              <a:off x="412560" y="134640"/>
              <a:ext cx="8726400" cy="27072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Rectangle 6"/>
            <p:cNvSpPr/>
            <p:nvPr/>
          </p:nvSpPr>
          <p:spPr>
            <a:xfrm>
              <a:off x="409320" y="134640"/>
              <a:ext cx="137520" cy="138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47200" y="134640"/>
              <a:ext cx="139320" cy="138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274320" y="27072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>
              <a:off x="131400" y="134640"/>
              <a:ext cx="140760" cy="137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>
              <a:off x="409320" y="269280"/>
              <a:ext cx="137520" cy="137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>
              <a:off x="274320" y="405360"/>
              <a:ext cx="136080" cy="1357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86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6840" y="1981080"/>
            <a:ext cx="818676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1"/>
          <p:cNvGrpSpPr/>
          <p:nvPr/>
        </p:nvGrpSpPr>
        <p:grpSpPr>
          <a:xfrm>
            <a:off x="0" y="0"/>
            <a:ext cx="9138960" cy="6853320"/>
            <a:chOff x="0" y="0"/>
            <a:chExt cx="9138960" cy="6853320"/>
          </a:xfrm>
        </p:grpSpPr>
        <p:sp>
          <p:nvSpPr>
            <p:cNvPr id="93" name="Rectangle 2"/>
            <p:cNvSpPr/>
            <p:nvPr/>
          </p:nvSpPr>
          <p:spPr>
            <a:xfrm>
              <a:off x="0" y="0"/>
              <a:ext cx="3504600" cy="68533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Rectangle 3"/>
            <p:cNvSpPr/>
            <p:nvPr/>
          </p:nvSpPr>
          <p:spPr>
            <a:xfrm>
              <a:off x="1715760" y="1688760"/>
              <a:ext cx="742320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0" y="1066320"/>
              <a:ext cx="2861280" cy="3148560"/>
              <a:chOff x="0" y="1066320"/>
              <a:chExt cx="2861280" cy="314856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572400" y="3575880"/>
                <a:ext cx="575640" cy="6390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6"/>
              <p:cNvSpPr/>
              <p:nvPr/>
            </p:nvSpPr>
            <p:spPr>
              <a:xfrm>
                <a:off x="1711440" y="1686600"/>
                <a:ext cx="570960" cy="6418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7"/>
              <p:cNvSpPr/>
              <p:nvPr/>
            </p:nvSpPr>
            <p:spPr>
              <a:xfrm>
                <a:off x="227628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1137240" y="3575880"/>
                <a:ext cx="581760" cy="6390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9"/>
              <p:cNvSpPr/>
              <p:nvPr/>
            </p:nvSpPr>
            <p:spPr>
              <a:xfrm>
                <a:off x="2276280" y="1686600"/>
                <a:ext cx="585000" cy="6418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"/>
              <p:cNvSpPr/>
              <p:nvPr/>
            </p:nvSpPr>
            <p:spPr>
              <a:xfrm>
                <a:off x="1137240" y="2319480"/>
                <a:ext cx="581760" cy="6310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0" y="2319480"/>
                <a:ext cx="580320" cy="63108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2"/>
              <p:cNvSpPr/>
              <p:nvPr/>
            </p:nvSpPr>
            <p:spPr>
              <a:xfrm>
                <a:off x="1711440" y="2319480"/>
                <a:ext cx="570960" cy="6310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3"/>
              <p:cNvSpPr/>
              <p:nvPr/>
            </p:nvSpPr>
            <p:spPr>
              <a:xfrm>
                <a:off x="572400" y="2942640"/>
                <a:ext cx="5756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4"/>
              <p:cNvSpPr/>
              <p:nvPr/>
            </p:nvSpPr>
            <p:spPr>
              <a:xfrm>
                <a:off x="1137240" y="2942640"/>
                <a:ext cx="58176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Text Box 15"/>
          <p:cNvSpPr/>
          <p:nvPr/>
        </p:nvSpPr>
        <p:spPr>
          <a:xfrm>
            <a:off x="457200" y="6235560"/>
            <a:ext cx="21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530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0908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36E696-9B06-465B-A9C2-7062D538EA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2971440" y="1828440"/>
            <a:ext cx="5977080" cy="21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15760" y="483840"/>
            <a:ext cx="74739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15760" y="-3427560"/>
            <a:ext cx="747396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5720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7"/>
          </p:nvPr>
        </p:nvSpPr>
        <p:spPr>
          <a:xfrm>
            <a:off x="3126960" y="6246360"/>
            <a:ext cx="28623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use Combining in Oto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6555960" y="6246360"/>
            <a:ext cx="20941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5AAE17-0EB7-4241-9624-100D6C62B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720720" y="1603440"/>
            <a:ext cx="7772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u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mbining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omi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fore and after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ntact wi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ni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1619280" y="4508640"/>
            <a:ext cx="6048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00ff"/>
                </a:solidFill>
                <a:latin typeface="Arial"/>
              </a:rPr>
              <a:t>Dik Bakker – Lanc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00ff"/>
                </a:solidFill>
                <a:latin typeface="Arial"/>
              </a:rPr>
              <a:t>Ewald Hekking – Que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é</a:t>
            </a:r>
            <a:r>
              <a:rPr b="1" lang="nl-NL" sz="2400" spc="-1" strike="noStrike">
                <a:solidFill>
                  <a:srgbClr val="0000ff"/>
                </a:solidFill>
                <a:latin typeface="Arial"/>
              </a:rPr>
              <a:t>ta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655632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900A5-8329-4672-81C7-2675FD005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12732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use Combining in Otom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36255-7C30-4175-98F7-25D49AE5A7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om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33520" y="2633760"/>
            <a:ext cx="8286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Ar Pedro p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ts'i 'nar ngu nu Maxei, </a:t>
            </a:r>
            <a:r>
              <a:rPr b="1" i="1" lang="es-ES" sz="2000" spc="-1" strike="noStrike">
                <a:solidFill>
                  <a:srgbClr val="ff0000"/>
                </a:solidFill>
                <a:latin typeface="Tahoma"/>
              </a:rPr>
              <a:t>'nehe</a:t>
            </a:r>
            <a:r>
              <a:rPr b="0" i="1" lang="es-E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ts'i 'nar ngú nu M'on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edro has a house in Quertaro, </a:t>
            </a: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and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also on in Mexico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UNMARKED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Ya zá wa ya b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o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já, </a:t>
            </a:r>
            <a:r>
              <a:rPr b="1" i="1" lang="es-ES" sz="20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tx'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tho ya 'nandi p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ts'i ya nhñ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he doors are made of would or metal (and) often contain glas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F01A1-DE9D-413D-8F60-955C85B97A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om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8200" y="1905120"/>
            <a:ext cx="85708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ordination: markers for Conjunction, Disjunctio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nsecutive, Conclusive,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non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for Adversa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ften UNMARK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Subordinatio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: some markers for Causation, Conditio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odal, Temporal, </a:t>
            </a:r>
            <a:r>
              <a:rPr b="1" i="1" lang="fr-FR" sz="2400" spc="-1" strike="noStrike">
                <a:solidFill>
                  <a:srgbClr val="ff0000"/>
                </a:solidFill>
                <a:latin typeface="Tahoma"/>
              </a:rPr>
              <a:t>non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for Final and Conc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ften 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UNMARKED (</a:t>
            </a:r>
            <a:r>
              <a:rPr b="1" i="1" lang="fr-FR" sz="2400" spc="-1" strike="noStrike">
                <a:solidFill>
                  <a:srgbClr val="000000"/>
                </a:solidFill>
                <a:latin typeface="Tahoma"/>
              </a:rPr>
              <a:t>est. 85%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1E191-9778-4451-8957-0C256A3E80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om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33520" y="2133720"/>
            <a:ext cx="808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CAUSATIV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Ar bätsi bi nzoni, </a:t>
            </a:r>
            <a:r>
              <a:rPr b="1" i="1" lang="es-ES" sz="2000" spc="-1" strike="noStrike">
                <a:solidFill>
                  <a:srgbClr val="ff0000"/>
                </a:solidFill>
                <a:latin typeface="Tahoma"/>
              </a:rPr>
              <a:t>ngetho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pos bi zät'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he child cries, </a:t>
            </a: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because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it burned itself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4)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UNMARKED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Ar bätsi bi nzoni </a:t>
            </a:r>
            <a:r>
              <a:rPr b="1" i="1" lang="es-ES" sz="20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bi ntsät'i nts'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dith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he child cries (because) it burned itself heavily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21A35-DA7F-497C-803D-B699EEE25D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om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533520" y="1928880"/>
            <a:ext cx="8083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TEMPOR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5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Tahoma"/>
              </a:rPr>
              <a:t>Nu'b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Tahoma"/>
              </a:rPr>
              <a:t>u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ar Xuwa mi 'yo Maxei, bi nth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wi ár 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When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Juan strolled around Queretaro, he met h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other-in-law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6)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ONLY TENSE (verbal proclitic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Xta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mengi mi pengi mi tsits’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When) they returned, they took it with them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7)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UNMARKED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Ya bädi mp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fi xi hño </a:t>
            </a:r>
            <a:r>
              <a:rPr b="1" i="1" lang="es-ES" sz="20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nuya 'ñete katya jä'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dicine men do good work (while) witches deceive the people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79672-98C3-4B03-BA53-ED780A0BEF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om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533520" y="2133720"/>
            <a:ext cx="8083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CONDITION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8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Tahoma"/>
              </a:rPr>
              <a:t>Nu’b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Tahoma"/>
              </a:rPr>
              <a:t>u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gi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   ‘ra-k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-he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n’a-xt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ar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    sei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when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s2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ive-Obj1-Excl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defSG-bit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fSG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ul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ga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    uti-’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i-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gi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ñä-h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ar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hñämf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o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ut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each-Obj2-Incl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ut2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peak-Incl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fSG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panis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  ‘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If) you give us some pulque, we will teach you Spanish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.B. </a:t>
            </a: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‘nu’bu’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s also the marker for </a:t>
            </a: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Temporal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(‘when’). There is 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pecialized ‘IF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F39FD-18CB-4AB4-A17B-67AE3AEAC1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om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33520" y="1928880"/>
            <a:ext cx="808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FIN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9)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r    pa   zäntho mi     p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o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ngar Xuwa   da         g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ya        zu'we.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l     day  always Pres3 go_out Juan    Pres3    hunt-Det anim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Juan goes out every day (in order) to catch animal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10)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FUTURE TENS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Ng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thor pa  p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o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ngar  Xuwa </a:t>
            </a:r>
            <a:r>
              <a:rPr b="1" i="1" lang="es-ES" sz="2000" spc="-1" strike="noStrike">
                <a:solidFill>
                  <a:srgbClr val="ff0000"/>
                </a:solidFill>
                <a:latin typeface="Tahoma"/>
              </a:rPr>
              <a:t>ma</a:t>
            </a:r>
            <a:r>
              <a:rPr b="0" i="1" lang="es-E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      bi        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x-ya        jwä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very    day go_out  Juan  go.Fut3  Pres3   catch-Det  fis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Juan goes out every day (in order) to catch fis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F61E6-C688-4245-8CFD-F25D7DEC9D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om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1905120"/>
            <a:ext cx="783612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ifference main &lt;–&gt; subordinate clau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. Presence of subordinator (first position; op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. Presence (optional) of verbal proclitics that mar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NTEMP (</a:t>
            </a:r>
            <a:r>
              <a:rPr b="0" i="1" lang="fr-FR" sz="2400" spc="-1" strike="noStrike">
                <a:solidFill>
                  <a:srgbClr val="0000ff"/>
                </a:solidFill>
                <a:latin typeface="Tahoma"/>
              </a:rPr>
              <a:t>xta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’while’) or ANTERIOR (</a:t>
            </a:r>
            <a:r>
              <a:rPr b="0" i="1" lang="fr-FR" sz="2400" spc="-1" strike="noStrike">
                <a:solidFill>
                  <a:srgbClr val="0000ff"/>
                </a:solidFill>
                <a:latin typeface="Tahoma"/>
              </a:rPr>
              <a:t>nda, nga, mb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’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fter’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When a. &amp; b. 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absent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then 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no synt/morph/ph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difference in clause type main &lt;-&gt; subordin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DBCA0-B666-46F9-B728-AE00DC5978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panis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609480" y="1905120"/>
            <a:ext cx="83822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ordination: markers for Conjunction, Disjunctio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nsecutive, Conclusive, Adversative, and Neg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ften MARKED, especially in written varie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Subordinatio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fr-FR" sz="2400" spc="-1" strike="noStrike">
                <a:solidFill>
                  <a:srgbClr val="ff0000"/>
                </a:solidFill>
                <a:latin typeface="Tahoma"/>
              </a:rPr>
              <a:t>many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markers for Causatio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ncession, Condition, Final, Modal, and Tempo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lmost always 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MARKED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in all varie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Coordin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900000" y="1584360"/>
          <a:ext cx="7380360" cy="4678200"/>
        </p:xfrm>
        <a:graphic>
          <a:graphicData uri="http://schemas.openxmlformats.org/drawingml/2006/table">
            <a:tbl>
              <a:tblPr/>
              <a:tblGrid>
                <a:gridCol w="2459160"/>
                <a:gridCol w="2460600"/>
                <a:gridCol w="246060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OMI (n=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 (n &gt; 1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685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681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J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685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S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o, 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681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685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CU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m'b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mbi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681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eso, por lo ta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Subordin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900000" y="1584360"/>
          <a:ext cx="7742520" cy="4678200"/>
        </p:xfrm>
        <a:graphic>
          <a:graphicData uri="http://schemas.openxmlformats.org/drawingml/2006/table">
            <a:tbl>
              <a:tblPr/>
              <a:tblGrid>
                <a:gridCol w="2579760"/>
                <a:gridCol w="2581200"/>
                <a:gridCol w="258156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OMI (n = 1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 (n &gt; 4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685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e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que, co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681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nque, mas 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685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681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que, a fin 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685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681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'betho, (nu)'b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s de que, cuando, desde que, 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Arial"/>
              </a:rPr>
              <a:t>Preliminary assumptions 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23D34-AFF0-47DD-912D-352EF9F8DB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457200" y="2057400"/>
            <a:ext cx="2277900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1. In face to face discourse, many relations betwe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rases and clauses can &amp; will very often rem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expres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2. In written varieties, they are typically made explicit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Adpositions, Coordinators, Subordinator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3. In languages with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ong-standing written tra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a majority of literate speakers,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poken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et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modell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basis of the written varie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is p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687240" y="898560"/>
            <a:ext cx="7772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280099"/>
                </a:solidFill>
                <a:latin typeface="Arial"/>
              </a:rPr>
              <a:t>3. The Da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9D859-CEEB-4976-98C8-A32C7CF3C9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A307E-ECCF-4488-8FD6-D00C1363C6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Data record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777960" y="2471760"/>
            <a:ext cx="418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ff0000"/>
                </a:solidFill>
                <a:uFillTx/>
                <a:latin typeface="Tahoma"/>
              </a:rPr>
              <a:t>Otomí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sponden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alec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ken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11,79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830592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D0AC9-FEBF-4F70-9FDA-01282B346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igitalized data stru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2209680"/>
            <a:ext cx="78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Ne nör 'yo mi hong</a:t>
            </a:r>
            <a:r>
              <a:rPr b="1" lang="nl-NL" sz="2000" spc="-1" strike="noStrike" u="sng">
                <a:solidFill>
                  <a:srgbClr val="0000ff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ja ya ... ja /kolmenäN-HR/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Bí kaku jar ... jar ñö /kong-PR/ar ... /kong-PR/ar 'y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yo mi ... mi hong</a:t>
            </a:r>
            <a:r>
              <a:rPr b="1" lang="nl-NL" sz="2000" spc="-1" strike="noStrike" u="sng">
                <a:solidFill>
                  <a:srgbClr val="0000ff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nl-NL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jar /frasko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N-HR</a:t>
            </a:r>
            <a:r>
              <a:rPr b="1" lang="nl-NL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/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830592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632C5-80DF-4DBE-8062-62654A555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igitalized data stru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838080" y="2209680"/>
            <a:ext cx="78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Ne nör 'yo mi hong</a:t>
            </a:r>
            <a:r>
              <a:rPr b="1" lang="nl-NL" sz="2000" spc="-1" strike="noStrike" u="sng">
                <a:solidFill>
                  <a:srgbClr val="0000ff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ja ya ... ja 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lmenäN-HR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/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Bí kaku jar ... jar ñö 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-PR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/ar ... 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-PR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/ar 'y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yo mi ... mi hong</a:t>
            </a:r>
            <a:r>
              <a:rPr b="1" lang="nl-NL" sz="2000" spc="-1" strike="noStrike" u="sng">
                <a:solidFill>
                  <a:srgbClr val="0000ff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nl-NL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jar /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asko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N-HR</a:t>
            </a:r>
            <a:r>
              <a:rPr b="1" lang="nl-NL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/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Oval 5"/>
          <p:cNvSpPr/>
          <p:nvPr/>
        </p:nvSpPr>
        <p:spPr>
          <a:xfrm>
            <a:off x="7699320" y="2590920"/>
            <a:ext cx="304920" cy="30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Oval 6"/>
          <p:cNvSpPr/>
          <p:nvPr/>
        </p:nvSpPr>
        <p:spPr>
          <a:xfrm>
            <a:off x="5862600" y="2590920"/>
            <a:ext cx="304920" cy="30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830592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24E64-0806-4DE3-8D67-577BBF670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igitalized data stru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838080" y="2209680"/>
            <a:ext cx="78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Ne nör 'yo mi hong</a:t>
            </a:r>
            <a:r>
              <a:rPr b="1" lang="nl-NL" sz="2000" spc="-1" strike="noStrike" u="sng">
                <a:solidFill>
                  <a:srgbClr val="0000ff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ja ya ... ja 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lmenäN-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HR/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Bí kaku jar ... jar ñö /kong-PR/ar ... /kong-PR/ar 'y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yo mi ... mi hong</a:t>
            </a:r>
            <a:r>
              <a:rPr b="1" lang="nl-NL" sz="2000" spc="-1" strike="noStrike" u="sng">
                <a:solidFill>
                  <a:srgbClr val="0000ff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nl-NL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jar /frasko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N-HR</a:t>
            </a:r>
            <a:r>
              <a:rPr b="1" lang="nl-NL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/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Oval 5"/>
          <p:cNvSpPr/>
          <p:nvPr/>
        </p:nvSpPr>
        <p:spPr>
          <a:xfrm>
            <a:off x="7086600" y="2590920"/>
            <a:ext cx="304920" cy="30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477080" y="533412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Part of Speech Source lg (S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5081400" y="571500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Function Target lg (O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7467480" y="2590920"/>
            <a:ext cx="381240" cy="30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Line 9"/>
          <p:cNvSpPr/>
          <p:nvPr/>
        </p:nvSpPr>
        <p:spPr>
          <a:xfrm flipH="1">
            <a:off x="3389040" y="2879640"/>
            <a:ext cx="384012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Line 10"/>
          <p:cNvSpPr/>
          <p:nvPr/>
        </p:nvSpPr>
        <p:spPr>
          <a:xfrm flipH="1">
            <a:off x="6630480" y="2879640"/>
            <a:ext cx="1140120" cy="28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533520" y="2208240"/>
            <a:ext cx="80769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280099"/>
                </a:solidFill>
                <a:latin typeface="Arial"/>
              </a:rPr>
              <a:t>4. Borrowing from Spanish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B1902-6B8C-4487-872C-74E69609F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1150920" y="-14616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Borrowing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rom Spanis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971640" y="1368360"/>
          <a:ext cx="6480000" cy="5037120"/>
        </p:xfrm>
        <a:graphic>
          <a:graphicData uri="http://schemas.openxmlformats.org/drawingml/2006/table">
            <a:tbl>
              <a:tblPr/>
              <a:tblGrid>
                <a:gridCol w="3238560"/>
                <a:gridCol w="3241440"/>
              </a:tblGrid>
              <a:tr h="719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O T A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118 (14.4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7189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NOU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61 (40.1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19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PREPOS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51 (21.4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1928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 SUBORDINAT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,199 (7.5%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189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 COORDINAT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38 (5.2%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19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VER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4 (4.7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221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ADVER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 (2.8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19" name="AutoShape 54"/>
          <p:cNvSpPr/>
          <p:nvPr/>
        </p:nvSpPr>
        <p:spPr>
          <a:xfrm>
            <a:off x="7524720" y="3635280"/>
            <a:ext cx="179280" cy="1260720"/>
          </a:xfrm>
          <a:custGeom>
            <a:avLst/>
            <a:gdLst>
              <a:gd name="textAreaLeft" fmla="*/ 0 w 179280"/>
              <a:gd name="textAreaRight" fmla="*/ 64800 w 179280"/>
              <a:gd name="textAreaTop" fmla="*/ 32760 h 1260720"/>
              <a:gd name="textAreaBottom" fmla="*/ 1227960 h 12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55"/>
          <p:cNvSpPr/>
          <p:nvPr/>
        </p:nvSpPr>
        <p:spPr>
          <a:xfrm>
            <a:off x="7667640" y="3986280"/>
            <a:ext cx="13111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ahoma"/>
              </a:rPr>
              <a:t>12.7%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1150920" y="-14616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Borrowing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rom Spanis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539640" y="1836720"/>
          <a:ext cx="8245440" cy="4105440"/>
        </p:xfrm>
        <a:graphic>
          <a:graphicData uri="http://schemas.openxmlformats.org/drawingml/2006/table">
            <a:tbl>
              <a:tblPr/>
              <a:tblGrid>
                <a:gridCol w="2059200"/>
                <a:gridCol w="2058840"/>
                <a:gridCol w="2060640"/>
                <a:gridCol w="2066760"/>
              </a:tblGrid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NOMI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1025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025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ORDINA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288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OS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8.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.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sp>
        <p:nvSpPr>
          <p:cNvPr id="323" name="AutoShape 59"/>
          <p:cNvSpPr/>
          <p:nvPr/>
        </p:nvSpPr>
        <p:spPr>
          <a:xfrm>
            <a:off x="5873760" y="4863960"/>
            <a:ext cx="533520" cy="457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60"/>
          <p:cNvSpPr/>
          <p:nvPr/>
        </p:nvSpPr>
        <p:spPr>
          <a:xfrm>
            <a:off x="1117080" y="6203880"/>
            <a:ext cx="66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por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que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, para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que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, desd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que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, antes d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que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, sin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que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1150920" y="-14616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Borrowing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rom Spanis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971640" y="1368360"/>
          <a:ext cx="6480000" cy="5037120"/>
        </p:xfrm>
        <a:graphic>
          <a:graphicData uri="http://schemas.openxmlformats.org/drawingml/2006/table">
            <a:tbl>
              <a:tblPr/>
              <a:tblGrid>
                <a:gridCol w="3238560"/>
                <a:gridCol w="3241440"/>
              </a:tblGrid>
              <a:tr h="719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O T A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118 (14.4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7189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NOU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61 (40.1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19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PREPOS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51 (21.4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19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OORDINA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189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UBORDINA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19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VER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4 (4.7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221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ADVER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 (2.8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27" name="AutoShape 54"/>
          <p:cNvSpPr/>
          <p:nvPr/>
        </p:nvSpPr>
        <p:spPr>
          <a:xfrm>
            <a:off x="7524720" y="3635280"/>
            <a:ext cx="179280" cy="1260720"/>
          </a:xfrm>
          <a:custGeom>
            <a:avLst/>
            <a:gdLst>
              <a:gd name="textAreaLeft" fmla="*/ 0 w 179280"/>
              <a:gd name="textAreaRight" fmla="*/ 64800 w 179280"/>
              <a:gd name="textAreaTop" fmla="*/ 32760 h 1260720"/>
              <a:gd name="textAreaBottom" fmla="*/ 1227960 h 12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Text Box 55"/>
          <p:cNvSpPr/>
          <p:nvPr/>
        </p:nvSpPr>
        <p:spPr>
          <a:xfrm>
            <a:off x="7667640" y="3986280"/>
            <a:ext cx="13111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ahoma"/>
              </a:rPr>
              <a:t>16.5%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E2F1D-956A-4D5E-B21E-1BAA65ACA4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orrowing Coordin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09480" y="2286000"/>
            <a:ext cx="8083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11)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Ya ts'ints'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xi na nz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tho </a:t>
            </a:r>
            <a:r>
              <a:rPr b="1" i="1" lang="es-MX" sz="20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i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hinto 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ni.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irds are very beautiful </a:t>
            </a: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and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they are harmles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12)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Bí m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yá baga </a:t>
            </a:r>
            <a:r>
              <a:rPr b="1" i="1" lang="es-MX" sz="20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bí g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ki ar loteriy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Has he sold his cows </a:t>
            </a:r>
            <a:r>
              <a:rPr b="0" lang="es-MX" sz="2000" spc="-1" strike="noStrike">
                <a:solidFill>
                  <a:srgbClr val="ff0000"/>
                </a:solidFill>
                <a:latin typeface="Tahoma"/>
              </a:rPr>
              <a:t>or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has he won the lotter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(13)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Ndar pot'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je rpala, </a:t>
            </a:r>
            <a:r>
              <a:rPr b="1" i="1" lang="es-ES" sz="2000" spc="-1" strike="noStrike">
                <a:solidFill>
                  <a:srgbClr val="ff0000"/>
                </a:solidFill>
                <a:latin typeface="Tahoma"/>
              </a:rPr>
              <a:t>pe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nu'bya ya hi'nä'by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used to sow with a stick,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bu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today no long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Arial"/>
              </a:rPr>
              <a:t>Preliminary assumptions 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CE74B-DE1E-4D2C-8474-202E8465D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457200" y="1752480"/>
            <a:ext cx="2277900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. Languages with only/mainly a spoken trad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ntensive contac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dominant languages tha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a strong written tradi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will often borrow relational markers from the lat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will use these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markers more frequent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the native 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B7568-B017-4BEF-98A4-90A57C2487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ordination (use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609480" y="2286000"/>
            <a:ext cx="8083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NATI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BORROW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TOKEN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206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1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TYPE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 TOKENS/SPK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35.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0.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73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99A2F-7090-478B-9400-8957C8FE72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orrowing Subordin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33520" y="2160720"/>
            <a:ext cx="808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 u="sng">
                <a:solidFill>
                  <a:srgbClr val="0000ff"/>
                </a:solidFill>
                <a:uFillTx/>
                <a:latin typeface="Tahoma"/>
              </a:rPr>
              <a:t>CAUSATIV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14) </a:t>
            </a:r>
            <a:r>
              <a:rPr b="1" i="1" lang="es-ES" sz="2000" spc="-1" strike="noStrike">
                <a:solidFill>
                  <a:srgbClr val="ff0000"/>
                </a:solidFill>
                <a:latin typeface="Tahoma"/>
              </a:rPr>
              <a:t>Komo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mi ’yo ’ram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tx’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bí b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o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ni ’nar zänä ’m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t’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Since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he walked very slowly, he left a month earlier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15)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Nug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MX" sz="2000" spc="-1" strike="noStrike">
                <a:solidFill>
                  <a:srgbClr val="ff0000"/>
                </a:solidFill>
                <a:latin typeface="Tahoma"/>
              </a:rPr>
              <a:t>syempre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di ñung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a ras jar h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i, </a:t>
            </a:r>
            <a:r>
              <a:rPr b="1" i="1" lang="es-MX" sz="2000" spc="-1" strike="noStrike">
                <a:solidFill>
                  <a:srgbClr val="ff0000"/>
                </a:solidFill>
                <a:latin typeface="Tahoma"/>
              </a:rPr>
              <a:t>porke</a:t>
            </a:r>
            <a:r>
              <a:rPr b="0" i="1" lang="es-MX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bí t'ut'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bí nja'b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‘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e, always on the floor, </a:t>
            </a:r>
            <a:r>
              <a:rPr b="0" lang="es-MX" sz="2000" spc="-1" strike="noStrike">
                <a:solidFill>
                  <a:srgbClr val="ff0000"/>
                </a:solidFill>
                <a:latin typeface="Tahoma"/>
              </a:rPr>
              <a:t>because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 was taught so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A5F34-E58A-4702-91E1-582CE566C9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orrowing Subordin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33520" y="2233440"/>
            <a:ext cx="808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 u="sng">
                <a:solidFill>
                  <a:srgbClr val="0000ff"/>
                </a:solidFill>
                <a:uFillTx/>
                <a:latin typeface="Tahoma"/>
              </a:rPr>
              <a:t>TEMPOR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16)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Bí sigi i bí sigi bí ntuhni kontra ya ñämf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o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s-MX" sz="2000" spc="-1" strike="noStrike">
                <a:solidFill>
                  <a:srgbClr val="ff0000"/>
                </a:solidFill>
                <a:latin typeface="Tahoma"/>
              </a:rPr>
              <a:t>asta ke</a:t>
            </a:r>
            <a:r>
              <a:rPr b="0" i="1" lang="es-MX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bí ntä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hey kept on fighting against the Spanish, </a:t>
            </a:r>
            <a:r>
              <a:rPr b="0" lang="es-MX" sz="2000" spc="-1" strike="noStrike">
                <a:solidFill>
                  <a:srgbClr val="ff0000"/>
                </a:solidFill>
                <a:latin typeface="Tahoma"/>
              </a:rPr>
              <a:t>until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they h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beaten them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iguieron y siguieron luchando en contra de los españoles, hasta que los vencieron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B870B-E5BA-4DC7-BD9C-D62BBA7104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orrowing Subordin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33520" y="2160720"/>
            <a:ext cx="808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 u="sng">
                <a:solidFill>
                  <a:srgbClr val="0000ff"/>
                </a:solidFill>
                <a:uFillTx/>
                <a:latin typeface="Tahoma"/>
              </a:rPr>
              <a:t>FIN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17)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Nug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s-MX" sz="2000" spc="-1" strike="noStrike">
                <a:solidFill>
                  <a:srgbClr val="ff0000"/>
                </a:solidFill>
                <a:latin typeface="Tahoma"/>
              </a:rPr>
              <a:t>ora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ndi p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s'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goho ya j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ya, nu ma mengug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b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hñuxk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jar skwela, </a:t>
            </a:r>
            <a:r>
              <a:rPr b="1" lang="es-MX" sz="2000" spc="-1" strike="noStrike">
                <a:solidFill>
                  <a:srgbClr val="ff0000"/>
                </a:solidFill>
                <a:latin typeface="Tahoma"/>
              </a:rPr>
              <a:t>pake</a:t>
            </a:r>
            <a:r>
              <a:rPr b="0" lang="es-MX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nu'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b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u nga päk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ma 'nar hñä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"ar hñämf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e, </a:t>
            </a:r>
            <a:r>
              <a:rPr b="0" lang="es-MX" sz="2000" spc="-1" strike="noStrike">
                <a:solidFill>
                  <a:srgbClr val="ff0000"/>
                </a:solidFill>
                <a:latin typeface="Tahoma"/>
              </a:rPr>
              <a:t>when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I was four, my parents sent me to school, </a:t>
            </a:r>
            <a:r>
              <a:rPr b="0" lang="es-MX" sz="20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uld learn another language: Spanish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DDA81-E205-4A21-8A1D-FF45F49D5B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bordination (use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609480" y="2286000"/>
            <a:ext cx="8083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NATI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BORROW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TOKEN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120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92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TYPE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 TOKENS/SPK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20.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32.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720720" y="1260360"/>
          <a:ext cx="7923240" cy="5043600"/>
        </p:xfrm>
        <a:graphic>
          <a:graphicData uri="http://schemas.openxmlformats.org/drawingml/2006/table">
            <a:tbl>
              <a:tblPr/>
              <a:tblGrid>
                <a:gridCol w="1319040"/>
                <a:gridCol w="1319400"/>
                <a:gridCol w="1319040"/>
                <a:gridCol w="1320840"/>
                <a:gridCol w="1319400"/>
                <a:gridCol w="1325520"/>
              </a:tblGrid>
              <a:tr h="63036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R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OM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63036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3000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3036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3036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3000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3036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s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3180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sp>
        <p:nvSpPr>
          <p:cNvPr id="354" name="Text Box 50"/>
          <p:cNvSpPr/>
          <p:nvPr/>
        </p:nvSpPr>
        <p:spPr>
          <a:xfrm>
            <a:off x="1629360" y="530280"/>
            <a:ext cx="60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Davies, Mark. (2002-) Corpus del Españ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Section: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poken Spanish 2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century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5,113,24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1084320" y="533520"/>
            <a:ext cx="59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9973"/>
                </a:solidFill>
                <a:latin typeface="Tahoma"/>
              </a:rPr>
              <a:t>Subordinators in corpora n/1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20720" y="1260360"/>
          <a:ext cx="7923240" cy="5043600"/>
        </p:xfrm>
        <a:graphic>
          <a:graphicData uri="http://schemas.openxmlformats.org/drawingml/2006/table">
            <a:tbl>
              <a:tblPr/>
              <a:tblGrid>
                <a:gridCol w="1319040"/>
                <a:gridCol w="1319400"/>
                <a:gridCol w="1319040"/>
                <a:gridCol w="1320840"/>
                <a:gridCol w="1319400"/>
                <a:gridCol w="1325520"/>
              </a:tblGrid>
              <a:tr h="63036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R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OM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63036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n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.7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3000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3036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.0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3036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3000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n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3036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3180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sp>
        <p:nvSpPr>
          <p:cNvPr id="357" name="Text Box 51"/>
          <p:cNvSpPr/>
          <p:nvPr/>
        </p:nvSpPr>
        <p:spPr>
          <a:xfrm>
            <a:off x="3527280" y="6372360"/>
            <a:ext cx="4789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* discourse type      **many more 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B0735-B927-43DF-8C52-430B9F39C0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046160" y="2211480"/>
            <a:ext cx="72914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. Otomi vs. Spanish: Spanish many more Co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nd Sub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. Otomi vs. Spanish: both Coor &amp; Subor l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in spoken discour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3. Otomi borrows lot of markers from Spanish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both for existing and 'new' fun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3C797-8F50-4377-A9B3-30F9CA6418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de doubl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533520" y="1752480"/>
            <a:ext cx="822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 hñäñho ko[P]=r hñämfo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[C]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e nu'i gi xiki ko[P]= (JDJ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a ha:i pa[P] di 'bot'i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[C]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e pa[P] di nsongi. (TD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 &gt; n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 = 28 (of 220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ndi pähe xuger syertoa[?]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[C]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a hi'nä. (REG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 ya kostumbre[N] ar hnini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[C]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a xkagentho. (JDJ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 &gt; w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 = 5 (of 156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kwando[S]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nu'bu: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nti jar 'be:fi (TD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dezu:[P] ya mna häm'bu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kwando[S]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nu'bu: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i thokar ar nura (MFC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kwando &gt; nu’bu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 = </a:t>
            </a: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(of 87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0F1BC-2789-44AF-ACEB-CB74310B6D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de doubl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533520" y="17524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403200" y="2057400"/>
            <a:ext cx="823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r dehe mbo jar ots'i,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komo[S]=ngu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'nar hñe 'na da (MRM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wä ar txi hmu hmets'i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komo[S]=ngu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a 'raku:m nzaki komo[S]= (FDJ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r ots'i bí ñuxar dehe,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komo[S]=ngu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í nthe:wi 'nar däthe. (JEM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r ots'i bí ñuxar dehe,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komo[S]=ngu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í nthe:wi 'nar däthe. (MFX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63520">
              <a:lnSpc>
                <a:spcPct val="100000"/>
              </a:lnSpc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komo=ngu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n = </a:t>
            </a:r>
            <a:r>
              <a:rPr b="1" lang="en-GB" sz="1800" spc="-1" strike="noStrike">
                <a:solidFill>
                  <a:srgbClr val="0000ff"/>
                </a:solidFill>
                <a:latin typeface="Tahoma"/>
                <a:ea typeface="Arial Unicode MS"/>
              </a:rPr>
              <a:t>28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 (of 198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All instances : </a:t>
            </a:r>
            <a:r>
              <a:rPr b="1" i="1" lang="en-GB" sz="1800" spc="-1" strike="noStrike">
                <a:solidFill>
                  <a:srgbClr val="ff0000"/>
                </a:solidFill>
                <a:latin typeface="Tahoma"/>
              </a:rPr>
              <a:t>Spanish marker &gt; Otomi mark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8956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53560"/>
                <a:tab algn="l" pos="9402840"/>
                <a:tab algn="l" pos="985212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755A3-3E83-43F8-BF5E-8D3DA0DFAA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457200" y="2293920"/>
            <a:ext cx="2277900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1. The Languages: Otomi &amp; Span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2. The Grammars on coordination &amp; subord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3. The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4. Borrowing coordinators &amp; subordin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5. Conclu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1E6C9-4F88-4131-9C2C-237954DB06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7621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de dropping: Coordin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136520" y="2286000"/>
            <a:ext cx="8083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11)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Ya ts'ints'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xi na nz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tho </a:t>
            </a:r>
            <a:r>
              <a:rPr b="1" i="1" lang="es-MX" sz="20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i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hinto 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ni.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irds are very beautiful </a:t>
            </a: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and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they are harmles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12)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Bí m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yá baga </a:t>
            </a:r>
            <a:r>
              <a:rPr b="1" i="1" lang="es-MX" sz="20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bí g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ki ar loteriy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Has he sold his cows </a:t>
            </a:r>
            <a:r>
              <a:rPr b="0" lang="es-MX" sz="2000" spc="-1" strike="noStrike">
                <a:solidFill>
                  <a:srgbClr val="ff0000"/>
                </a:solidFill>
                <a:latin typeface="Tahoma"/>
              </a:rPr>
              <a:t>or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has he won the lotter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(13)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Ndar pot'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je rpala </a:t>
            </a:r>
            <a:r>
              <a:rPr b="1" i="1" lang="es-ES" sz="2000" spc="-1" strike="noStrike">
                <a:solidFill>
                  <a:srgbClr val="ff0000"/>
                </a:solidFill>
                <a:latin typeface="Tahoma"/>
              </a:rPr>
              <a:t>pe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nu'bya ya hi'nä'by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used to sow with a stick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bu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today no long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A49CF-94DB-4468-8414-1A23A63FDD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7621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de dropping: Coordin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136520" y="2286000"/>
            <a:ext cx="8083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11)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Ya ts'ints'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xi na nz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tho </a:t>
            </a:r>
            <a:r>
              <a:rPr b="1" i="1" lang="es-MX" sz="20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hinto 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ni.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irds are very beautiful       they are harmles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12)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Bí m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yá baga </a:t>
            </a:r>
            <a:r>
              <a:rPr b="1" i="1" lang="es-MX" sz="20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bí g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ki ar loteriy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Has he sold his cows     has he won the lotter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(13)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Ndar pot'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je rpala </a:t>
            </a:r>
            <a:r>
              <a:rPr b="1" i="1" lang="es-ES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nu'bya ya hi'nä'by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used to sow with a stick      today no long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D7FC3-06E0-4E87-BCA2-8E577FBBE1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7621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de dropping: Subordin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533520" y="2160720"/>
            <a:ext cx="8083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14) </a:t>
            </a:r>
            <a:r>
              <a:rPr b="1" i="1" lang="es-ES" sz="2000" spc="-1" strike="noStrike">
                <a:solidFill>
                  <a:srgbClr val="ff0000"/>
                </a:solidFill>
                <a:latin typeface="Tahoma"/>
              </a:rPr>
              <a:t>Komo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mi ’yo ’ram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tx’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bí b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o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ni ’nar zänä ’m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t’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Since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he walked very slowly, he left a month earlier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15)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Nug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syempre di ñung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a ras jar h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i, </a:t>
            </a:r>
            <a:r>
              <a:rPr b="1" i="1" lang="es-MX" sz="2000" spc="-1" strike="noStrike">
                <a:solidFill>
                  <a:srgbClr val="ff0000"/>
                </a:solidFill>
                <a:latin typeface="Tahoma"/>
              </a:rPr>
              <a:t>porke</a:t>
            </a:r>
            <a:r>
              <a:rPr b="0" i="1" lang="es-MX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bí t'ut'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bí nja'b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‘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e, always on the floor, </a:t>
            </a:r>
            <a:r>
              <a:rPr b="0" lang="es-MX" sz="2000" spc="-1" strike="noStrike">
                <a:solidFill>
                  <a:srgbClr val="ff0000"/>
                </a:solidFill>
                <a:latin typeface="Tahoma"/>
              </a:rPr>
              <a:t>because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 was taught so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16)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Bí sigi i bí sigi bí ntuhni kontra ya ñämf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o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s-MX" sz="2000" spc="-1" strike="noStrike">
                <a:solidFill>
                  <a:srgbClr val="ff0000"/>
                </a:solidFill>
                <a:latin typeface="Tahoma"/>
              </a:rPr>
              <a:t>asta ke</a:t>
            </a:r>
            <a:r>
              <a:rPr b="0" i="1" lang="es-MX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bí ntä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hey kept on fighting against the Spanish, </a:t>
            </a:r>
            <a:r>
              <a:rPr b="0" lang="es-MX" sz="2000" spc="-1" strike="noStrike">
                <a:solidFill>
                  <a:srgbClr val="ff0000"/>
                </a:solidFill>
                <a:latin typeface="Tahoma"/>
              </a:rPr>
              <a:t>until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they h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beaten them.’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(17) Nug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s-MX" sz="2000" spc="-1" strike="noStrike">
                <a:solidFill>
                  <a:srgbClr val="ff0000"/>
                </a:solidFill>
                <a:latin typeface="Tahoma"/>
              </a:rPr>
              <a:t>ora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ndi p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s'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goho ya j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ya, nu ma mengug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b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hñuxk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jar skwela, </a:t>
            </a:r>
            <a:r>
              <a:rPr b="1" lang="es-MX" sz="2000" spc="-1" strike="noStrike">
                <a:solidFill>
                  <a:srgbClr val="ff0000"/>
                </a:solidFill>
                <a:latin typeface="Tahoma"/>
              </a:rPr>
              <a:t>pake</a:t>
            </a:r>
            <a:r>
              <a:rPr b="0" lang="es-MX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nu'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b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u nga päk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ma 'nar hñä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"ar hñämf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e, </a:t>
            </a:r>
            <a:r>
              <a:rPr b="0" lang="es-MX" sz="2000" spc="-1" strike="noStrike">
                <a:solidFill>
                  <a:srgbClr val="ff0000"/>
                </a:solidFill>
                <a:latin typeface="Tahoma"/>
              </a:rPr>
              <a:t>when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I was four, my parents sent me to school, </a:t>
            </a:r>
            <a:r>
              <a:rPr b="0" lang="es-MX" sz="20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uld learn another language: Spanish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9A2AF-E1FA-4F55-95DA-80A0538AE3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7621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de dropping: Subordin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533520" y="2160720"/>
            <a:ext cx="8083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14) </a:t>
            </a:r>
            <a:r>
              <a:rPr b="1" i="1" lang="es-ES" sz="20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mi ’yo ’ram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tx’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bí b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o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ni ’nar zänä ’m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t’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e walked very slowly, he left a month earlier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15)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Nug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syempre di ñung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a ras jar h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i,       bí t'ut'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bí nja'b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e, always on the floor, </a:t>
            </a:r>
            <a:r>
              <a:rPr b="0" lang="es-MX" sz="20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 was taught so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16)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Bí sigi i bí sigi bí ntuhni kontra ya ñämf</a:t>
            </a:r>
            <a:r>
              <a:rPr b="0" i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o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s-MX" sz="20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bí ntä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hey kept on fighting against the Spanish, </a:t>
            </a:r>
            <a:r>
              <a:rPr b="0" lang="es-MX" sz="20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they h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beaten them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(17) Nug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s-MX" sz="20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ndi p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s'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goho ya j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ya, nu ma mengug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b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hñuxk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jar skwela, </a:t>
            </a:r>
            <a:r>
              <a:rPr b="1" lang="es-MX" sz="20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s-MX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nu'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b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u nga päk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ma 'nar hñä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"ar hñämf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e, </a:t>
            </a:r>
            <a:r>
              <a:rPr b="0" lang="es-MX" sz="20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I was four, my parents sent me to school,   </a:t>
            </a:r>
            <a:r>
              <a:rPr b="0" lang="es-MX" sz="20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uld learn another language: Spanish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691560" y="533520"/>
            <a:ext cx="617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Insertion or Substitution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973080" y="1368360"/>
          <a:ext cx="6480360" cy="5037120"/>
        </p:xfrm>
        <a:graphic>
          <a:graphicData uri="http://schemas.openxmlformats.org/drawingml/2006/table">
            <a:tbl>
              <a:tblPr/>
              <a:tblGrid>
                <a:gridCol w="3238560"/>
                <a:gridCol w="3241800"/>
              </a:tblGrid>
              <a:tr h="719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O T A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118 (14.4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7189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NOU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61 (40.1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19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PREPOS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51 (21.4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1928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 SUBORDINAT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,199 (7.5%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189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 COORDINAT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38 (5.2%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19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VER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4 (4.7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221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ADVER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 (2.8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5DD58-3BD2-4EE6-A418-3508E2D27B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bstitutio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954360" y="1828800"/>
            <a:ext cx="270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Argumen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1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de doub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29026-407D-4CB8-8B54-91549481E1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sertio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563400" y="1828800"/>
            <a:ext cx="837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Argumen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1. No alternative (NEG,ADV,EXPL; FINAL,NEUT,CON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2. More nuance (e.g. TEMP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: nu’bu ’when’, ‘if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: cuando, si, mientras, desde, hasta, antes, apenas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3. Code dropp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orrowed &gt;&gt; Native element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(DISJ; CAUSE: 14 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4169A-AD29-4566-88CC-28C8BC4E9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1260360" y="1260360"/>
            <a:ext cx="6659640" cy="1079640"/>
          </a:xfrm>
          <a:prstGeom prst="rtTriangle">
            <a:avLst/>
          </a:prstGeom>
          <a:solidFill>
            <a:srgbClr val="2323d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AutoShape 4"/>
          <p:cNvSpPr/>
          <p:nvPr/>
        </p:nvSpPr>
        <p:spPr>
          <a:xfrm flipH="1" flipV="1">
            <a:off x="1239120" y="1265400"/>
            <a:ext cx="6659640" cy="1079280"/>
          </a:xfrm>
          <a:prstGeom prst="rtTriangle">
            <a:avLst/>
          </a:prstGeom>
          <a:solidFill>
            <a:srgbClr val="ff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1584360" y="1560600"/>
            <a:ext cx="8254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6300720" y="1308240"/>
            <a:ext cx="1073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p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1044720" y="2771640"/>
            <a:ext cx="23097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Substit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1044720" y="5761080"/>
            <a:ext cx="17794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Inser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AutoShape 9"/>
          <p:cNvSpPr/>
          <p:nvPr/>
        </p:nvSpPr>
        <p:spPr>
          <a:xfrm>
            <a:off x="1260360" y="4967280"/>
            <a:ext cx="6659640" cy="539640"/>
          </a:xfrm>
          <a:prstGeom prst="roundRect">
            <a:avLst>
              <a:gd name="adj" fmla="val 292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1584360" y="4908600"/>
            <a:ext cx="8254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1260360" y="2411280"/>
            <a:ext cx="12351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1.2.3.4.5. ..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1260360" y="5508720"/>
            <a:ext cx="12351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1.2.3.4.5. ..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AutoShape 13"/>
          <p:cNvSpPr/>
          <p:nvPr/>
        </p:nvSpPr>
        <p:spPr>
          <a:xfrm flipH="1">
            <a:off x="1258200" y="3708360"/>
            <a:ext cx="6659640" cy="126036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6300720" y="4116240"/>
            <a:ext cx="1073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p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DE655-0C53-4DAF-B801-D5A35479F6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bstitution or Inserti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829440" y="1979640"/>
            <a:ext cx="714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atabase: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table pattern: 50% – 55% borrow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15" name="Object 5"/>
          <p:cNvGraphicFramePr/>
          <p:nvPr/>
        </p:nvGraphicFramePr>
        <p:xfrm>
          <a:off x="1557360" y="2698920"/>
          <a:ext cx="6541920" cy="36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16" name="Text Box 6"/>
          <p:cNvSpPr/>
          <p:nvPr/>
        </p:nvSpPr>
        <p:spPr>
          <a:xfrm>
            <a:off x="179280" y="2664000"/>
            <a:ext cx="20527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Mean 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Borrow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1116000" y="6191280"/>
            <a:ext cx="1655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C+S / 1000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58FF7-75CD-46D1-A581-D90723B791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bstitution or Inserti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Freeform 4"/>
          <p:cNvSpPr/>
          <p:nvPr/>
        </p:nvSpPr>
        <p:spPr>
          <a:xfrm>
            <a:off x="1116000" y="3959280"/>
            <a:ext cx="6840720" cy="21603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Freeform 5"/>
          <p:cNvSpPr/>
          <p:nvPr/>
        </p:nvSpPr>
        <p:spPr>
          <a:xfrm>
            <a:off x="1116000" y="1800360"/>
            <a:ext cx="6840720" cy="3421080"/>
          </a:xfrm>
          <a:prstGeom prst="pie">
            <a:avLst/>
          </a:prstGeom>
          <a:solidFill>
            <a:srgbClr val="ff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4429080" y="3432240"/>
            <a:ext cx="8254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p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4429080" y="5018040"/>
            <a:ext cx="8254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11"/>
          <p:cNvSpPr/>
          <p:nvPr/>
        </p:nvSpPr>
        <p:spPr>
          <a:xfrm>
            <a:off x="1116000" y="6221520"/>
            <a:ext cx="12351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1.2.3.4.5. ..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687240" y="898560"/>
            <a:ext cx="7772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280099"/>
                </a:solidFill>
                <a:latin typeface="Arial"/>
              </a:rPr>
              <a:t>1. The Languag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319E7-EF96-4A77-A2F9-CA9192E8C2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E8415-A5FE-4A28-ADDB-2B3DA7F265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bstitution and Insertio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65560" y="1936800"/>
            <a:ext cx="789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ALL SPEAKER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- highly frequent COOR: borrowed rather long 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- both substitution (CNJ/DIS) and insertion (AD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PART OF SPEAKER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- also lower frequent SUBOR: borrowed more recent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- mainly inser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533520" y="2208240"/>
            <a:ext cx="80769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280099"/>
                </a:solidFill>
                <a:latin typeface="Arial"/>
              </a:rPr>
              <a:t>5. Conclusion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416F3-158D-42A3-824B-7BDE3A19A4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Arial"/>
              </a:rPr>
              <a:t>Preliminary assumptions 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E8394-311A-4A3A-9435-A070C4701B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457200" y="2057400"/>
            <a:ext cx="2277900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1. In face to face discourse, many relations betwe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rases and clauses can &amp; will very often rem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expressed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2. In written varieties, they are typically made explicit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Adpos, Coord, Subord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Y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3. In languages with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ong-standing written tra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a majority of literate speakers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poke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et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modell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the basis of the written varie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is 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YES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Arial"/>
              </a:rPr>
              <a:t>Preliminary assumptions 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79FC6-B07F-495E-945E-756D041078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457200" y="1752480"/>
            <a:ext cx="2277900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. Languages with only/mainly a spoken trad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ensive contac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dominant languages tha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a strong written tradi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will often borrow relational markers from the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will use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ative markers more frequent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y i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bin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borrowed 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Arial"/>
              </a:rPr>
              <a:t>AND ??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E1F38-6574-42B0-9AB4-B44C3A7686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360360" y="2519280"/>
            <a:ext cx="8570880" cy="2505240"/>
          </a:xfrm>
          <a:prstGeom prst="rect">
            <a:avLst/>
          </a:prstGeom>
          <a:noFill/>
          <a:ln w="180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0" rIns="180000" tIns="135000" bIns="1350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ore distinction between clause ty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amp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stablishment clear dichotomy main vs subordin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E92BF-98EF-45D0-9515-090C4B4EB8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om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295280" y="1828800"/>
            <a:ext cx="69850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o-Mangue (Querétaro, Mexic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9 dialec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50.000 spea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ainly spoken trad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3753D-D1B0-4747-9F1E-A38F75E1DE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panis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295280" y="1576440"/>
            <a:ext cx="647244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o-European (Spain, Americ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rica, Asi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any dialec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8 million speakers (Spai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300 million (rest of the worl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60 million L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ong written trad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687240" y="898560"/>
            <a:ext cx="7772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280099"/>
                </a:solidFill>
                <a:latin typeface="Arial"/>
              </a:rPr>
              <a:t>2. The Gramma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D0D30-CCD7-418B-813D-A3C2D37F1E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7B894-18FB-4D59-B0B0-0F8F2C1E8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om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609480" y="1905120"/>
            <a:ext cx="822960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Coordinatio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: markers for Conjunction, Disjunctio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nsecutive, Conclusive; </a:t>
            </a:r>
            <a:r>
              <a:rPr b="1" i="1" lang="fr-FR" sz="2400" spc="-1" strike="noStrike">
                <a:solidFill>
                  <a:srgbClr val="ff0000"/>
                </a:solidFill>
                <a:latin typeface="Tahoma"/>
              </a:rPr>
              <a:t>none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for Advers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ften 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UNMARK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2:03:57Z</dcterms:created>
  <dc:creator>Dik Bakker</dc:creator>
  <dc:description/>
  <dc:language>en-US</dc:language>
  <cp:lastModifiedBy>Dik Bakker</cp:lastModifiedBy>
  <dcterms:modified xsi:type="dcterms:W3CDTF">2010-09-16T09:29:53Z</dcterms:modified>
  <cp:revision>562</cp:revision>
  <dc:subject/>
  <dc:title>Slide 1</dc:title>
</cp:coreProperties>
</file>