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2000" cy="34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0" y="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881520" y="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9"/>
          </p:nvPr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6548B-457C-4FA5-9E96-22A350F57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E1DA-71BA-415B-A24A-88CEB598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FF47-5528-496C-A8D7-6877E19D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F7D9B-B1BB-4C6C-9573-E9D96A666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88AD-F54C-4F32-87B9-51570F6D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6A1C0-33B4-45A2-BB89-B014CFDEE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58F70-506B-4AC1-9B37-0E367496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70E3-E04B-478D-8C9E-8459F41B4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0EE3E-25D3-4573-BA53-E34A79A65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BA084-F2CA-43FB-9E47-55FBEC718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0EA4-A9B6-481B-9D49-B9AFE0AB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30495-CCD0-467F-94E9-88ABAB113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A41BE-42F8-47E1-8F8A-C7321197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2E23-5720-409D-A507-58B8A4156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F599-314C-466B-A088-2B8412A9A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C06E-EF28-4DEB-8A28-ABA0D2F37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3BA7D-2865-429B-BD9A-F2B7DB22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70EE1-84A3-4C23-A3AA-08F28E0B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D3BBD-808F-435D-8800-A8A7185C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82223-C900-492E-86DC-847A66F18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8B4A5-0F1A-4B46-988C-0696331F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A5AA4-45F2-4ADF-AF96-6A075D7E5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480D-107D-4902-8686-59A67A5F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F87F2-5B97-49C4-9B76-A6B7396A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F7AF0-B3A8-4828-AD63-65BE3158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8FC8-D975-4FB2-BBB6-954E3F2D1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AEBF-548E-4821-8D17-EB7CE0F3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B9AE4-8A62-48DB-A10A-2BC83193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1E9CE-7F2A-40F1-97BC-6B2ACEB3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10BB-7866-4666-B564-82B1E5EB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A1E7-79E9-44E0-8116-074B3405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DCF3-45EC-4E28-8D7F-A447CB06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1D8D-65B4-4B30-95B4-84E40D44A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E0C96-D8BA-44B6-95A8-604C4015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8A227-457C-4272-9357-ED1D3FF0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643EF-6FC4-4898-8FE9-6F5638C2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5BEF3-8690-45E8-BBDD-3FFCC2270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A8440-3ED4-47A3-8B93-621492BF8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7E2C5-14C9-429F-8C9F-A8EA28585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DAB63-655A-496D-AA57-4C8FB624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9C26B-20A9-40C5-9AD9-648C2D43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C5F8C-ADE7-489F-8215-8B2DCFF1C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A8042-6B0D-4626-9BEA-A06A2817B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9FD3B-4E37-4127-BFD5-79AED4976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4FD2-2D0E-4124-A501-9DE2BDE37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77B5F-2151-42CC-800C-DB9E4B30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C435E-AE0F-44D8-AD32-E7F64B36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2252-4897-4B5E-B4A7-89269881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C7DBF-6EDD-401E-85D8-EEC6CDBAC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03501-9BB7-4C77-9C44-60BB7E4E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9BFC-4346-4613-A707-650C834B7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B5EDC-61C7-4364-AE59-F4575A8A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4B4A-E864-4109-8674-D35913B2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C954-044E-4EEE-8CD1-A0305B1FB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E9F78-C24C-44A8-8B5A-E4B62C23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A47B6-7DBA-4CA4-ABE3-30717063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A0B8A-F721-4AD0-BA42-240964FB9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DD456-09BF-45B8-8CD0-973F2F24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AF282-39AA-41AA-9060-F7F12A10D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92BD8-78E6-4041-9830-760A6C642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B1AD6-E8D0-44C7-A1F8-BCEFC962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D60D-20FE-481D-9414-FCE83849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4397-E1AD-40C2-B52E-6FE8ED819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7464-8321-4136-A3D5-15BC25582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D49D-717A-4BA4-9278-7FBA751C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EFB73-563C-4EAB-8AEE-45E0EFEE9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ACB08-8712-42FF-BAC5-A74945A26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81CA8-2A09-4D75-BA22-A1926D5CE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D6088-DC28-411B-8DEC-DDB49530F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DA9C2-B9B0-477A-9A2A-0EA0D6268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D9AE4-0B29-495D-A57D-4B1FE207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A5EA-36D4-44FC-A0C6-15B4DB3E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31EC-D244-436B-B0F4-AB7CC442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CAE03-0517-4410-9784-098A2445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C3247-BC01-4BC1-BFF3-3E6D126B3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5BE90-C02B-4618-97F2-0A1FFB63D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E2C4-570E-4987-8521-1DF43786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76FF-97E6-4D81-89A6-E3C8B9D3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A9C36-487E-4CEA-B14A-EEE9BEA7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D9DA3-B10B-4298-B8B2-DCA117C98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A6A17-AA06-4E18-9E8A-0D64ACC9E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D4BD6-3A7F-4894-BD94-4E51D12F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203FF-4E75-4B5E-ACA9-443D0061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F5E70-BEB8-4B42-9855-72E5FFE3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A1EB-7B0B-4FF9-8DD5-80838D72E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274F-E1DD-4F7D-90AB-11B27D18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B1FD-B963-4292-8C63-5DDC0AEF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66989-F482-42F0-BCAD-9970C9E9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F485-A011-4B21-9687-917F11D7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4A0DC-F397-4C7C-8B57-423064DC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8CC7D-699A-43F7-8605-F4D09EB51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9C659-0E9E-4E77-A874-B674142CF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41935-E57D-4266-83B7-6F290715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5184-E250-4620-B1A6-D1400D09D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A144F-2F2C-42D5-813C-B6E41C4F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AF53F-6DDC-40BB-A1A9-809242FB7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F7AD-DA8A-4B92-9DB2-F3932670C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6757-9FE6-4454-B334-DF1C58BE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ED42-34D4-4D80-93BA-96AB3F73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CBE35-A29E-4AB5-99F7-950D6C245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F3FDF-4EA5-416E-BE0D-92B7C95F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20248-9DCA-4B04-80F8-A0FA522F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904A0-7295-4ADA-9D40-7FE985EB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2BB3-7C40-43B3-8450-30484B0F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81281-2D6A-4F0A-8D45-CC84F230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0D9DB-91EE-49DD-892E-BEE17DFB2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3D46B-B088-455B-86A0-A8577B2FB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77588-94B4-44F9-893D-4EDEB478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607B2-92DA-4D9E-91C9-662A48A3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2CFB-0233-4DA6-BF74-E3F6855B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C311E-DFCF-48AD-AA7F-6F16CA6B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78F1-C9F4-44FE-BD18-A49D485C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300E-61AD-4AAC-B59E-B5E2635C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CA6B-87C6-4DB7-B4EC-49205CA40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55035-22B5-434A-B4A4-13807248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A7F48-45CB-4150-AA79-B7CC24C6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21477-CF87-492F-ADA6-CD9800AF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59E9-B61B-439B-99AE-BF7F78EE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E245C-9BDB-40D7-AD5A-D6B05EEB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BADDC-D8EC-44BC-AEC1-18DFC7F27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BC4F5-2C89-493E-8F0C-5418EBB3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F6479-0FD8-48EC-BB53-7CAE3C0B7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8DB1-6E39-4F7E-80B3-B5BD8A34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5A4C-5814-47B0-BA56-BAA6C2B4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5BAF7-9735-4A7C-99FE-4642B46E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EF76-5CFE-4659-B30A-C195969D5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17A72-A836-4FB0-A344-EB398512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6996-ED63-433E-A540-7CC7D5537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10EE2-4FA0-48C4-A2B9-40C4A24C7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0586F-C369-43D4-B100-FE6A955D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B1C3-C5BC-46BD-BD65-3201B308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3383D-7CCC-4B2F-A8DE-A6F4F5A4F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1962A-5274-4633-90BA-928EB38C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B0B3-FE30-4F13-8841-697936C5F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F3767-B3F0-4614-B716-B1C2E50B5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46CE1-9D59-4C96-BB39-DE43D5C5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4D172-D834-4B8B-B0BF-F2398C5B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DA24D-B0BF-48E3-BF85-840C54EA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A5CB-C5A8-4CF6-9962-A33C1B602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D64B-CA75-435D-9FDE-3588A05C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1A72A-164D-43E2-A790-701FF056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5EA37-7181-4A0D-B2BE-25BC2C29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A2D90-808F-477B-8B50-B7DC89F7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DD381-95D4-4193-905D-D1E6ECDFC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C0F6-502D-4943-8E9B-9CC81D8B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92469-D0C8-49AC-9DA8-CA839315C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DBB4C-E18D-468E-8928-C0F5F2D1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294C2-D477-4B9E-ACB5-0562B8D84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E140C-8867-4C49-B456-A7CEE576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0B10-55B3-4ECD-B039-685D174D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4856-304B-449C-AD25-1B3461B2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4AED-2FA3-4886-A306-93FFE9EF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AC2E1-CEEC-43B2-B7AF-F683FCD1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08A05-E958-47CC-9F83-E55DD2A8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8BB9F-7AAE-4ECD-836F-B607A1ABF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94F4E-0D47-402D-A629-A84D376ED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DDB84-6FDC-4D99-A5D5-FF7A4E88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D0F88-7B47-460E-9249-678EE09E5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3A0D-48D2-4D01-BF1E-367058541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02B24-E876-4295-A9A5-D58D823A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A6F24-38E8-495E-A579-E0BBD01F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25BD-8C64-4A87-86C8-06A67647B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6B753-58A4-4B1E-8225-8E4FE727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3FC2C-09AC-4FA1-A046-3ED72E44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2B20-37F0-4CC2-BEB3-08018A99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EC97C-1DED-4DDA-A995-1E6041E9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C7AD5-5CB1-44D4-8BD8-857F2029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CAE60-108E-4E65-A880-F6CE80AE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1F9A6-5D78-4D13-874C-99F8977D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7DEF3-AD60-453F-90F8-1A5FBA96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F460-4D5B-4515-AFFA-05B58E2F5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EC0B-3578-483E-B889-61542D4F5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C6A5-C931-4CF0-9EF8-F0FEA020D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129FF-4AC2-4347-BCB8-278ACC3CD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86661-93BD-4BEB-8550-DC4C5666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61A40-9D36-4D05-AEA0-B3CF9BF0D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CDD46-B1CB-43BC-820A-9B1A46C6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D8771-0EBE-40E1-ABEF-A626C94AE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FEAA-002C-4E16-8612-18BE86FE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CD454-39D6-4C6E-A686-1EA7495DE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E62C-9DD1-4607-9DF0-73F384F1D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9D3F-4BB3-4B3C-88F0-D1BD9F89C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291B0-D6D2-49C3-8CD7-A4A37D2D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0E143-69D3-4291-8668-61B9AFDD5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E325C-7145-473A-91F8-239923709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04B7-9D50-4B3B-B261-DF05319A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E9DF-4B6E-4E81-B21A-8B3E0FEB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5A17D-163C-4AD7-8067-07D66FF2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8F2A-1811-4909-BCDF-284FBFD86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18AB9-25DF-43EF-8CAB-94C747BA2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85175-1613-4722-B606-70D7094E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6C6C5-2CD7-4C2F-8D3C-A6F1DFE1F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87D2-407B-437B-8055-F19D0973C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F7A17-E891-431F-828F-637F9612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14711-0FEC-4453-9BB8-4007FDFC6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37E12-4729-41D3-96A9-1F22E8C4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8880-88B2-4272-A977-21389FF0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FAC8B-140A-4BAC-916C-A8D053655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0EA9-4556-45BF-8280-FD29A4F7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8712-CC23-4A06-B355-3485288C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5ACD6-9327-441B-B1DE-D518C333E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C0FBE-4AB9-44B7-A81E-1A67FAD4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0F393-CA85-44EA-93F1-C9311BA7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6D65-9923-4F95-8BE9-5052B2862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4213F-50A3-4150-BB59-26914083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622B-7D5C-4C85-8FDF-B3EB8D2E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ACB4-105B-496F-BDBB-8706EC57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82DE-1A26-45FD-85C6-C11DF3B6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CDCC-0D62-4503-86B4-7996441D2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63E3-9E41-4E91-8718-41CAD0CA0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61A8-CC00-49D7-AA37-1551D4004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3155-F529-4A8B-A193-008B9315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029F9-43ED-47F1-98FB-69A7F6E1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627F4-D4E5-493F-A482-C41010B3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DEB9-AF2E-45E0-AA6F-CFB63583A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26B64-01D3-4F31-882D-3EEE43C3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F41EA-B5DA-4CD5-9ED5-A90894B08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26CA-38B0-4708-9443-C58F1624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F19D-53FB-4F50-BE4D-6429CEB0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6DAA-0FEC-4BBE-A703-1269CC55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C470-3968-4DB8-AA16-A471A841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0233-CE02-44D0-BFFD-AF8B092D9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658F4-BF50-4EDA-986D-BAF65779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2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5AC23-0B7D-42AD-B710-A11FB7416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FACF3-253B-4750-AFCC-1323AD00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A34D-4E72-4C63-960E-0614B1BB0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46C0-88FF-44E5-9650-4880DC13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41D64-550A-46C1-B23E-250CEC6C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9"/>
          <p:cNvSpPr/>
          <p:nvPr/>
        </p:nvSpPr>
        <p:spPr>
          <a:xfrm>
            <a:off x="3881520" y="8686800"/>
            <a:ext cx="297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07516-5DD5-440A-A753-E4147558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4" name="Text Box 1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0378A-1487-4248-9340-50552BB19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41B2-8B3E-4A60-9C47-62C3A93D3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4C8A-93EF-4145-81C5-2AFD432CD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45C9-9301-455E-A2A2-B56073101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40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03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40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03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9751-A05D-4861-A38C-FDC7D9D6B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6082-C519-4933-A212-383841B2B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1C8A7-0AC7-4BCB-A2E8-017011C2F4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5846-9DA8-491D-BB86-BD0EA22C03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93EF8-C84E-4F03-A43B-51EE3103F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0D633-606F-41F5-A081-77C33C3E03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16120" y="514080"/>
            <a:ext cx="75038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016E-BC89-479C-AB04-F42261C97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86826-7C69-4458-9690-F93A00E24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F48D-36A6-4144-9914-50AFD3106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2F44E-6055-4601-8110-8B8C1D327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C01C7-1689-46D4-A1FF-B29AC49DD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9196-B9B3-4D54-9FD3-08D266BC0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3223E-FA29-4417-AB05-869B5FFA8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5340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903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161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5340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903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39C2-EAC6-4DF7-8A5B-F6DAF7DFA8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C8D-C6D8-4256-830B-373F6BAD16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5F64-AFED-431F-BE31-9C16D2C0FC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E5EE-07F4-4E85-A118-887D092A12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6E53-79A0-4448-8E59-EACDEFE6E9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E2CB-B5CB-4841-8A3B-80B3F3DF2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7EB2-B074-43BC-BF2C-F7F1720F78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16120" y="514080"/>
            <a:ext cx="75038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20C-73D6-4937-B496-E184B123A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891A-1C3F-4599-87CB-CA851EA04D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3768-5DF3-4317-831E-0C5E856ED0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8557-750C-4281-96AB-DB2D6CA2DF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81C4-5C05-4249-A2B6-24A06D97F8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A08-BD50-42C9-ABBD-CAD215EDFC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5340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903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161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5340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903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49B-16EF-4F03-BEDB-17BE1197D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DF7CB-10CC-417E-A621-B38E244779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DDD0E-4D7F-4200-8330-83B730C2A3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89169-1E98-42B8-8799-8B0829218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EC54-499E-4599-BD7A-A83B893913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F54EE-A7D4-466B-B88C-12DDF0B976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9D513-AA61-46BB-962A-F410C37E2E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816120" y="514080"/>
            <a:ext cx="75038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0ADAC-5FC2-4E52-B2F3-751F5A0924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20B71-1426-4E57-9C03-4BDB0CE24E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25667-1F29-46C7-9F0E-4845AD16CC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F2815-1463-4B4D-85C1-16A7EB42FA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E2949-DA0E-477F-985E-E38E2DB1D0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455F7-2CF2-4CBB-A010-5FAD9B2083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5340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90320" y="-342756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161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5340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90320" y="-1298880"/>
            <a:ext cx="24159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918B-275B-46F7-BF77-F305FFBC7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441A-4764-4D60-9A28-898D2195C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6120" y="514080"/>
            <a:ext cx="75038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5AAA-388F-41B5-A0C6-7E567A0E2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D742-A8A7-4A8A-884A-9E0C0F47E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-129888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7287-7AF5-438E-ACDD-23890197B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-3427560"/>
            <a:ext cx="366156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-1298880"/>
            <a:ext cx="75038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E101-9615-4693-9802-9591CF36D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53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853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6720"/>
            <a:ext cx="2089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6960" y="6246360"/>
            <a:ext cx="28544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rrowing Morpholog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5960" y="6246720"/>
            <a:ext cx="2086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59B4F-C984-418D-B827-BB3AA09075C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27A898-FF02-4C0D-A2AF-CC9AE9339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0"/>
            <a:ext cx="9140400" cy="542520"/>
            <a:chOff x="0" y="0"/>
            <a:chExt cx="9140400" cy="542520"/>
          </a:xfrm>
        </p:grpSpPr>
        <p:sp>
          <p:nvSpPr>
            <p:cNvPr id="44" name="Rectangle 4"/>
            <p:cNvSpPr/>
            <p:nvPr/>
          </p:nvSpPr>
          <p:spPr>
            <a:xfrm>
              <a:off x="0" y="0"/>
              <a:ext cx="285480" cy="52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412560" y="134280"/>
              <a:ext cx="8727840" cy="27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09320" y="134280"/>
              <a:ext cx="137520" cy="138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47200" y="134280"/>
              <a:ext cx="139320" cy="138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274320" y="2718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131400" y="13572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409320" y="27036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274320" y="40644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"/>
          <p:cNvGrpSpPr/>
          <p:nvPr/>
        </p:nvGrpSpPr>
        <p:grpSpPr>
          <a:xfrm>
            <a:off x="0" y="0"/>
            <a:ext cx="9140400" cy="6854760"/>
            <a:chOff x="0" y="0"/>
            <a:chExt cx="9140400" cy="6854760"/>
          </a:xfrm>
        </p:grpSpPr>
        <p:sp>
          <p:nvSpPr>
            <p:cNvPr id="93" name="Rectangle 2"/>
            <p:cNvSpPr/>
            <p:nvPr/>
          </p:nvSpPr>
          <p:spPr>
            <a:xfrm>
              <a:off x="0" y="0"/>
              <a:ext cx="350460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3"/>
            <p:cNvSpPr/>
            <p:nvPr/>
          </p:nvSpPr>
          <p:spPr>
            <a:xfrm>
              <a:off x="1715760" y="1689840"/>
              <a:ext cx="74246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0" y="1066320"/>
              <a:ext cx="2862720" cy="3151440"/>
              <a:chOff x="0" y="1066320"/>
              <a:chExt cx="2862720" cy="315144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572400" y="3578760"/>
                <a:ext cx="575640" cy="639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1712880" y="1688040"/>
                <a:ext cx="5720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2277360" y="1066320"/>
                <a:ext cx="58536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1138680" y="3578760"/>
                <a:ext cx="582120" cy="639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2277360" y="1688040"/>
                <a:ext cx="58536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"/>
              <p:cNvSpPr/>
              <p:nvPr/>
            </p:nvSpPr>
            <p:spPr>
              <a:xfrm>
                <a:off x="1138680" y="2320920"/>
                <a:ext cx="582120" cy="6310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0" y="2320920"/>
                <a:ext cx="580320" cy="6310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2"/>
              <p:cNvSpPr/>
              <p:nvPr/>
            </p:nvSpPr>
            <p:spPr>
              <a:xfrm>
                <a:off x="1712880" y="2320920"/>
                <a:ext cx="572040" cy="6310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3"/>
              <p:cNvSpPr/>
              <p:nvPr/>
            </p:nvSpPr>
            <p:spPr>
              <a:xfrm>
                <a:off x="572400" y="2944080"/>
                <a:ext cx="5756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4"/>
              <p:cNvSpPr/>
              <p:nvPr/>
            </p:nvSpPr>
            <p:spPr>
              <a:xfrm>
                <a:off x="1138680" y="2944080"/>
                <a:ext cx="58212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Text Box 15"/>
          <p:cNvSpPr/>
          <p:nvPr/>
        </p:nvSpPr>
        <p:spPr>
          <a:xfrm>
            <a:off x="457200" y="6248520"/>
            <a:ext cx="2124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7E050C-EA0B-45B6-8AE9-CE1B923F7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0696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16120" y="514080"/>
            <a:ext cx="7503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16120" y="-3427560"/>
            <a:ext cx="75038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5800" indent="-325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ing Morpholog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8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926E87-DF35-490D-84DA-B897EEC7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720720" y="160344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nstraints o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phologica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rowing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idence from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t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619280" y="450864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280099"/>
                </a:solidFill>
                <a:latin typeface="Arial"/>
              </a:rPr>
              <a:t>Ewald Hekking – Quer</a:t>
            </a:r>
            <a:r>
              <a:rPr b="1" lang="en-US" sz="2800" spc="-1" strike="noStrike">
                <a:solidFill>
                  <a:srgbClr val="280099"/>
                </a:solidFill>
                <a:latin typeface="Arial"/>
                <a:ea typeface="Arial"/>
              </a:rPr>
              <a:t>é</a:t>
            </a:r>
            <a:r>
              <a:rPr b="1" lang="nl-NL" sz="2800" spc="-1" strike="noStrike">
                <a:solidFill>
                  <a:srgbClr val="280099"/>
                </a:solidFill>
                <a:latin typeface="Arial"/>
              </a:rPr>
              <a:t>ta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280099"/>
                </a:solidFill>
                <a:latin typeface="Arial"/>
              </a:rPr>
              <a:t>Dik Bakker – Lanc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55632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E6D39-F000-4632-A2F8-FEB16D194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ing Morphology I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4919-39AE-4A00-AA25-BD0F12C49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57200" y="1828800"/>
            <a:ext cx="22779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Borrowing from Spanish: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4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5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With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6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CB56C-2B6C-45E3-A70B-95641E2EE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4199040" y="39877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"/>
          <p:cNvSpPr/>
          <p:nvPr/>
        </p:nvSpPr>
        <p:spPr>
          <a:xfrm>
            <a:off x="3190680" y="34844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6"/>
          <p:cNvSpPr/>
          <p:nvPr/>
        </p:nvSpPr>
        <p:spPr>
          <a:xfrm>
            <a:off x="592200" y="1989000"/>
            <a:ext cx="733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 No use of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mpersonal constructio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which ar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amp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Otomi, and marked b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‘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on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look for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a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sell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need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jut’i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pay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jut’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AC3C-DCF0-44C4-8665-970C10BAC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4199040" y="39877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Text Box 5"/>
          <p:cNvSpPr/>
          <p:nvPr/>
        </p:nvSpPr>
        <p:spPr>
          <a:xfrm>
            <a:off x="3190680" y="34844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592200" y="1989000"/>
            <a:ext cx="748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 No use of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mpersonal constructio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which ar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amp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Otomi, and marked b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‘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on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look for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a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sell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need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jut’i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‘pay’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jut’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 example: ‘h-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ä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da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AutoShape 7"/>
          <p:cNvSpPr/>
          <p:nvPr/>
        </p:nvSpPr>
        <p:spPr>
          <a:xfrm>
            <a:off x="595440" y="5181480"/>
            <a:ext cx="1079280" cy="64800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7. Conclu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35CB1-8B5E-422A-BB47-D97256F88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6A308-21F4-42EA-ADAB-4E27D6F79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native ste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Text Box 6"/>
          <p:cNvSpPr/>
          <p:nvPr/>
        </p:nvSpPr>
        <p:spPr>
          <a:xfrm>
            <a:off x="375840" y="2433600"/>
            <a:ext cx="79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There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 evidenc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for any Spanish morpholog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mploye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roductively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n native stems in Quechu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uarani or Otomi &lt;</a:t>
            </a:r>
            <a:r>
              <a:rPr b="1" i="1" lang="en-GB" sz="2400" spc="-1" strike="noStrike">
                <a:solidFill>
                  <a:srgbClr val="00cc00"/>
                </a:solidFill>
                <a:latin typeface="Tahoma"/>
              </a:rPr>
              <a:t>in our sampl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&gt;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73FCC-346A-4725-945C-25199E497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No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Text Box 6"/>
          <p:cNvSpPr/>
          <p:nvPr/>
        </p:nvSpPr>
        <p:spPr>
          <a:xfrm>
            <a:off x="432360" y="2433600"/>
            <a:ext cx="743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Spanish nouns may be borrowed wit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nflec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lural /-s/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In Quechua, this seems to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eplace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ative plural /–kuna/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those constru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Guarani and Otomi it seems to b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xic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2DA80-2F78-4DCF-BB01-B7F8BCDCA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No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Text Box 6"/>
          <p:cNvSpPr/>
          <p:nvPr/>
        </p:nvSpPr>
        <p:spPr>
          <a:xfrm>
            <a:off x="399240" y="24336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Spanish nouns may be borrowed wit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nflec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lural /-s/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In Quechua, this seems to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eplace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ative plural /–kuna/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those constru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Guarani and Otomi it seems to b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xica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u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may be borrowed wit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riv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uffix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+Ag, +Dim), mainly in Quechua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ess so Guarani, but these are arguabl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xi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FBB37-0C57-48DB-BB39-F14AADEDB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Ver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439920" y="2433600"/>
            <a:ext cx="75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All three languages borrow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erb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phologically relevan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tem vowe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-a/-e/-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0A582-0C54-48FD-92B2-C9178F599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Ver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Text Box 6"/>
          <p:cNvSpPr/>
          <p:nvPr/>
        </p:nvSpPr>
        <p:spPr>
          <a:xfrm>
            <a:off x="439920" y="2433600"/>
            <a:ext cx="75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All three languages borrow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erb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phologically relevan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tem vowe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-a/-e/-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This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nsistently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o for Quechua and Guaran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u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s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o for Otomi (diphtong / e-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8C3C-488C-4F1B-9BCA-3B6406948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Ver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414000" y="2433600"/>
            <a:ext cx="75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All three languages borrow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erb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with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orphologically relevan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tem vowel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-a/-e/-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This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nsistently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o for Quechua and Guaran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u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s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so for Otomi (diphto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verbal morphology seems to be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ansf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1956A-C29C-437B-8471-2904318D2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Ad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Text Box 6"/>
          <p:cNvSpPr/>
          <p:nvPr/>
        </p:nvSpPr>
        <p:spPr>
          <a:xfrm>
            <a:off x="370800" y="2433600"/>
            <a:ext cx="79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djectives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gularly have th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emin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uffix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-a/ in Quechua and Guarani. Some 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minalizatio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more often they modify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panish [+F] 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or a native noun represent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emale referent.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ay b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roductiv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Quechua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uar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ED07-3F5C-4F66-938E-90E183B4C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57200" y="1828800"/>
            <a:ext cx="22779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Borrowing from Spanish: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4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5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With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6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7. Conclu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826D-25A5-4554-B36F-B261235C1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nish morphology on loans: Ad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Text Box 6"/>
          <p:cNvSpPr/>
          <p:nvPr/>
        </p:nvSpPr>
        <p:spPr>
          <a:xfrm>
            <a:off x="511200" y="2433600"/>
            <a:ext cx="79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djectives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gularly have th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emin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uffix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-a/ in Quechua and Guarani. Some 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minalizatio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more often they modify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panish [+F] noun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or a native noun represent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emale referent.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ay b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productiv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 Quechua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uar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Adverb derivation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with –mente is rather regular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Quechua, and to some extent also in Guaran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31AC-A40A-4292-8EE6-BDB6C8BD0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ative morphology on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Text Box 6"/>
          <p:cNvSpPr/>
          <p:nvPr/>
        </p:nvSpPr>
        <p:spPr>
          <a:xfrm>
            <a:off x="449280" y="2433600"/>
            <a:ext cx="76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borrowed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, V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are ful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rphologically integrated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they get all relev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uffixes in the contex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4144B-7B89-457A-A61D-4604B3A17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ative morphology on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Text Box 6"/>
          <p:cNvSpPr/>
          <p:nvPr/>
        </p:nvSpPr>
        <p:spPr>
          <a:xfrm>
            <a:off x="429120" y="2433600"/>
            <a:ext cx="822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borrowed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, V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are ful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rphologically integrated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they get all relev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uffixes in the contex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borrowe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, V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ge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ll native prefix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nd suffix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For V they ar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used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for N and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ss so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454A3-BBA3-485D-BDD9-FE75F3755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ative morphology on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Text Box 6"/>
          <p:cNvSpPr/>
          <p:nvPr/>
        </p:nvSpPr>
        <p:spPr>
          <a:xfrm>
            <a:off x="342000" y="2433600"/>
            <a:ext cx="835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borrowed Spanish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, V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are ful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rphologically integrated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they get all relev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uffixes in the contex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borrowe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, V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ge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ll native prefix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nd suffix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For V they ar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used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for N and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ss so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- In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Otomi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there are several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rphophonologic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n the full integration of borrowed lexe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775DE-8814-4D28-8452-7B600C8EB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Text Box 3"/>
          <p:cNvSpPr/>
          <p:nvPr/>
        </p:nvSpPr>
        <p:spPr>
          <a:xfrm>
            <a:off x="179280" y="971640"/>
            <a:ext cx="873612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STR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A9C30-7F91-41E5-B175-82A67012E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Text Box 3"/>
          <p:cNvSpPr/>
          <p:nvPr/>
        </p:nvSpPr>
        <p:spPr>
          <a:xfrm>
            <a:off x="179280" y="971640"/>
            <a:ext cx="873612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STR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BAB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9AEC5-D4AE-42AF-87FD-D83318AA9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Text Box 3"/>
          <p:cNvSpPr/>
          <p:nvPr/>
        </p:nvSpPr>
        <p:spPr>
          <a:xfrm>
            <a:off x="179280" y="971640"/>
            <a:ext cx="8736120" cy="314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STR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BAB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. Is nominal morphology more copiable than verbal morphology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327D6-5608-4D7A-8542-76D85F007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Text Box 3"/>
          <p:cNvSpPr/>
          <p:nvPr/>
        </p:nvSpPr>
        <p:spPr>
          <a:xfrm>
            <a:off x="179280" y="971640"/>
            <a:ext cx="8736120" cy="436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STR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BAB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. Is nominal morphology more copiable than verbal morphology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6. Is there an inequality for different parts of speech when it com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o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S: N, A &gt; 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A90D-0026-4353-84C9-BC535D169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Text Box 3"/>
          <p:cNvSpPr/>
          <p:nvPr/>
        </p:nvSpPr>
        <p:spPr>
          <a:xfrm>
            <a:off x="179280" y="971640"/>
            <a:ext cx="8736120" cy="527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STR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BAB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. Is nominal morphology more copiable than verbal morphology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6. Is there an inequality for different parts of speech when it com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o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S: N, A &gt; 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7. Is there an inequality for different verbal categories when it comes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BABLY: DERIVATIONAL &gt; INFLECTIONAL (-D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Text Box 1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ing Morphology I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Text Box 2"/>
          <p:cNvSpPr/>
          <p:nvPr/>
        </p:nvSpPr>
        <p:spPr>
          <a:xfrm>
            <a:off x="655632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986F2-A1C5-46BA-98FD-FC5A86CA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Text Box 3"/>
          <p:cNvSpPr/>
          <p:nvPr/>
        </p:nvSpPr>
        <p:spPr>
          <a:xfrm>
            <a:off x="3886560" y="27036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1. The Languag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12ED-3AF3-4096-A3DD-0C8CCDF2A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1C5C-8CB7-45A6-BC73-1ACA92F7D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160720" y="160200"/>
            <a:ext cx="5425920" cy="61390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4"/>
          <p:cNvSpPr/>
          <p:nvPr/>
        </p:nvSpPr>
        <p:spPr>
          <a:xfrm>
            <a:off x="2160720" y="144360"/>
            <a:ext cx="1260360" cy="17964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3240000" y="1332000"/>
            <a:ext cx="17964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573440" y="2695680"/>
            <a:ext cx="1084320" cy="152064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1520640"/>
              <a:gd name="textAreaBottom" fmla="*/ 1521000 h 1520640"/>
            </a:gdLst>
            <a:ahLst/>
            <a:rect l="textAreaLeft" t="textAreaTop" r="textAreaRight" b="textAreaBottom"/>
            <a:pathLst>
              <a:path w="3014" h="4225">
                <a:moveTo>
                  <a:pt x="31" y="0"/>
                </a:moveTo>
                <a:cubicBezTo>
                  <a:pt x="380" y="128"/>
                  <a:pt x="746" y="253"/>
                  <a:pt x="1025" y="497"/>
                </a:cubicBezTo>
                <a:cubicBezTo>
                  <a:pt x="1321" y="756"/>
                  <a:pt x="1007" y="1103"/>
                  <a:pt x="1087" y="1490"/>
                </a:cubicBezTo>
                <a:cubicBezTo>
                  <a:pt x="1173" y="1905"/>
                  <a:pt x="1563" y="2000"/>
                  <a:pt x="1801" y="2236"/>
                </a:cubicBezTo>
                <a:cubicBezTo>
                  <a:pt x="2118" y="2551"/>
                  <a:pt x="2543" y="2574"/>
                  <a:pt x="2795" y="2888"/>
                </a:cubicBezTo>
                <a:cubicBezTo>
                  <a:pt x="3013" y="3159"/>
                  <a:pt x="2851" y="3597"/>
                  <a:pt x="2640" y="3851"/>
                </a:cubicBezTo>
                <a:cubicBezTo>
                  <a:pt x="2419" y="4117"/>
                  <a:pt x="1888" y="4224"/>
                  <a:pt x="1677" y="3913"/>
                </a:cubicBezTo>
                <a:cubicBezTo>
                  <a:pt x="1455" y="3586"/>
                  <a:pt x="2265" y="3216"/>
                  <a:pt x="1522" y="3012"/>
                </a:cubicBezTo>
                <a:cubicBezTo>
                  <a:pt x="1102" y="2897"/>
                  <a:pt x="975" y="2434"/>
                  <a:pt x="776" y="2081"/>
                </a:cubicBezTo>
                <a:cubicBezTo>
                  <a:pt x="598" y="1766"/>
                  <a:pt x="375" y="1495"/>
                  <a:pt x="373" y="1118"/>
                </a:cubicBezTo>
                <a:lnTo>
                  <a:pt x="217" y="807"/>
                </a:lnTo>
                <a:lnTo>
                  <a:pt x="0" y="652"/>
                </a:lnTo>
                <a:lnTo>
                  <a:pt x="31" y="0"/>
                </a:lnTo>
              </a:path>
            </a:pathLst>
          </a:custGeom>
          <a:solidFill>
            <a:srgbClr val="0047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551560" y="3946680"/>
            <a:ext cx="536400" cy="496800"/>
          </a:xfrm>
          <a:custGeom>
            <a:avLst/>
            <a:gdLst>
              <a:gd name="textAreaLeft" fmla="*/ 0 w 536400"/>
              <a:gd name="textAreaRight" fmla="*/ 536760 w 5364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1489" h="1382">
                <a:moveTo>
                  <a:pt x="634" y="0"/>
                </a:moveTo>
                <a:cubicBezTo>
                  <a:pt x="851" y="338"/>
                  <a:pt x="1403" y="384"/>
                  <a:pt x="1442" y="839"/>
                </a:cubicBezTo>
                <a:cubicBezTo>
                  <a:pt x="1488" y="1381"/>
                  <a:pt x="916" y="1118"/>
                  <a:pt x="603" y="901"/>
                </a:cubicBezTo>
                <a:cubicBezTo>
                  <a:pt x="267" y="668"/>
                  <a:pt x="0" y="121"/>
                  <a:pt x="541" y="124"/>
                </a:cubicBezTo>
                <a:lnTo>
                  <a:pt x="603" y="93"/>
                </a:lnTo>
                <a:lnTo>
                  <a:pt x="634" y="0"/>
                </a:lnTo>
              </a:path>
            </a:pathLst>
          </a:cu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95280" y="2303640"/>
            <a:ext cx="84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to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31640" y="3564000"/>
            <a:ext cx="10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Times New Roman"/>
              </a:rPr>
              <a:t>Quich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96720" y="4932360"/>
            <a:ext cx="10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deb3d"/>
                </a:solidFill>
                <a:latin typeface="Times New Roman"/>
              </a:rPr>
              <a:t>Guar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7740720" y="2124000"/>
            <a:ext cx="1079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2"/>
          <p:cNvSpPr/>
          <p:nvPr/>
        </p:nvSpPr>
        <p:spPr>
          <a:xfrm flipH="1" flipV="1">
            <a:off x="3412800" y="1432080"/>
            <a:ext cx="4335480" cy="915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5032080" y="2340000"/>
            <a:ext cx="2716200" cy="10796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5932080" y="2340000"/>
            <a:ext cx="1816200" cy="180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1612800" y="3419640"/>
            <a:ext cx="32529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1254240" y="1440000"/>
            <a:ext cx="19922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1612800" y="4319640"/>
            <a:ext cx="415296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44BD-6F9F-4185-9A07-DD4E072FC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28440" y="2060640"/>
            <a:ext cx="80794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Quech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; Per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glutin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rtually no prefixes (SOV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ry many suffixes (Person, TAM, Ca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42AA-3DD9-4FC9-A9D3-44C5CDAE6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930240" y="2133720"/>
            <a:ext cx="743616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Guar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ry many prefixes (Pers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y suffixes (TAM, Case/Postp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E50EC-B98E-4FBC-9346-A20741BDF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105200" y="2133720"/>
            <a:ext cx="6931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Otom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50.000 spe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fixes on V and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y suffixes on V and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ry few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2. The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4CCAC-7616-40F1-99F0-1DFF49D54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07A4C-61FD-489F-8DFC-1202C3ECD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 (spoken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55640" y="247176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59E6-68CA-4393-83A1-20EFEFFBC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0040" y="2471760"/>
            <a:ext cx="513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2462-8ED8-4EB9-BDF1-00910F919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28600" y="457200"/>
            <a:ext cx="8686800" cy="7412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Is it possible to copy processes of grammaticalization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3. Is agglutinative morphology more copiable than fus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. Is nominal morphology more copiable than verbal morphology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6. Is there an inequality for different parts of speech when it com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o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7. Is there an inequality for different verbal categories when it comes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8. Are there universal tendencies that allow predictions about the stabi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f structural features in morpho-syntax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9. Is shared paradigmatic morphology a </a:t>
            </a:r>
            <a:r>
              <a:rPr b="0" i="1" lang="en-US" sz="2000" spc="-1" strike="noStrike">
                <a:solidFill>
                  <a:srgbClr val="0000ff"/>
                </a:solidFill>
                <a:latin typeface="Tahoma"/>
              </a:rPr>
              <a:t>conditio-sine-qua-non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f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genealogical relationship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0. Is it possible to establish linguistic relationship on the basis of shar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orphology alone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1. Should phonological comparison always precede morphologic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vidence in matters of genealogical relationship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2. Is it possible to find tendencies or to set up criteria to distinguis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between cognates and copies in bound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66CC2-E1C0-47CB-9B7F-BB2DA7071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77280" y="2471760"/>
            <a:ext cx="68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A676B-286B-4163-BFC9-EAE7B9808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19120" y="2471760"/>
            <a:ext cx="839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r>
              <a:rPr b="0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5A003-24D0-44F0-9004-C89005CC3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Data recor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19120" y="2471760"/>
            <a:ext cx="839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r>
              <a:rPr b="0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132000" y="3924360"/>
            <a:ext cx="4859640" cy="539640"/>
          </a:xfrm>
          <a:prstGeom prst="roundRect">
            <a:avLst>
              <a:gd name="adj" fmla="val 292"/>
            </a:avLst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3. Borrowing from Span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08C4-672A-4F70-AAC3-B4EE0B02C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5C8C2-B04C-4F1E-A2F3-65BD67191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746280" y="2274840"/>
            <a:ext cx="7170480" cy="3665520"/>
            <a:chOff x="746280" y="2274840"/>
            <a:chExt cx="7170480" cy="3665520"/>
          </a:xfrm>
        </p:grpSpPr>
        <p:grpSp>
          <p:nvGrpSpPr>
            <p:cNvPr id="306" name="Group 10"/>
            <p:cNvGrpSpPr/>
            <p:nvPr/>
          </p:nvGrpSpPr>
          <p:grpSpPr>
            <a:xfrm>
              <a:off x="752040" y="2279160"/>
              <a:ext cx="7154280" cy="3652560"/>
              <a:chOff x="752040" y="2279160"/>
              <a:chExt cx="7154280" cy="3652560"/>
            </a:xfrm>
          </p:grpSpPr>
          <p:grpSp>
            <p:nvGrpSpPr>
              <p:cNvPr id="307" name="Group 11"/>
              <p:cNvGrpSpPr/>
              <p:nvPr/>
            </p:nvGrpSpPr>
            <p:grpSpPr>
              <a:xfrm>
                <a:off x="752040" y="2279160"/>
                <a:ext cx="2045520" cy="728280"/>
                <a:chOff x="752040" y="2279160"/>
                <a:chExt cx="2045520" cy="728280"/>
              </a:xfrm>
            </p:grpSpPr>
            <p:sp>
              <p:nvSpPr>
                <p:cNvPr id="308" name="Rectangle 12"/>
                <p:cNvSpPr/>
                <p:nvPr/>
              </p:nvSpPr>
              <p:spPr>
                <a:xfrm>
                  <a:off x="807480" y="227916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9" name="Rectangle 13"/>
                <p:cNvSpPr/>
                <p:nvPr/>
              </p:nvSpPr>
              <p:spPr>
                <a:xfrm>
                  <a:off x="752040" y="2279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0" name="Group 14"/>
              <p:cNvGrpSpPr/>
              <p:nvPr/>
            </p:nvGrpSpPr>
            <p:grpSpPr>
              <a:xfrm>
                <a:off x="2797560" y="2279160"/>
                <a:ext cx="1742400" cy="728280"/>
                <a:chOff x="2797560" y="2279160"/>
                <a:chExt cx="1742400" cy="728280"/>
              </a:xfrm>
            </p:grpSpPr>
            <p:sp>
              <p:nvSpPr>
                <p:cNvPr id="311" name="Rectangle 15"/>
                <p:cNvSpPr/>
                <p:nvPr/>
              </p:nvSpPr>
              <p:spPr>
                <a:xfrm>
                  <a:off x="285300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(n=38)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" name="Rectangle 16"/>
                <p:cNvSpPr/>
                <p:nvPr/>
              </p:nvSpPr>
              <p:spPr>
                <a:xfrm>
                  <a:off x="279756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3" name="Group 17"/>
              <p:cNvGrpSpPr/>
              <p:nvPr/>
            </p:nvGrpSpPr>
            <p:grpSpPr>
              <a:xfrm>
                <a:off x="4545000" y="2279160"/>
                <a:ext cx="1615680" cy="728280"/>
                <a:chOff x="4545000" y="2279160"/>
                <a:chExt cx="1615680" cy="728280"/>
              </a:xfrm>
            </p:grpSpPr>
            <p:sp>
              <p:nvSpPr>
                <p:cNvPr id="314" name="Rectangle 18"/>
                <p:cNvSpPr/>
                <p:nvPr/>
              </p:nvSpPr>
              <p:spPr>
                <a:xfrm>
                  <a:off x="4600440" y="2279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(n=38)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5" name="Rectangle 19"/>
                <p:cNvSpPr/>
                <p:nvPr/>
              </p:nvSpPr>
              <p:spPr>
                <a:xfrm>
                  <a:off x="4545000" y="2279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6" name="Group 20"/>
              <p:cNvGrpSpPr/>
              <p:nvPr/>
            </p:nvGrpSpPr>
            <p:grpSpPr>
              <a:xfrm>
                <a:off x="6163920" y="2279160"/>
                <a:ext cx="1742400" cy="728280"/>
                <a:chOff x="6163920" y="2279160"/>
                <a:chExt cx="1742400" cy="728280"/>
              </a:xfrm>
            </p:grpSpPr>
            <p:sp>
              <p:nvSpPr>
                <p:cNvPr id="317" name="Rectangle 21"/>
                <p:cNvSpPr/>
                <p:nvPr/>
              </p:nvSpPr>
              <p:spPr>
                <a:xfrm>
                  <a:off x="621936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(n=59)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Rectangle 22"/>
                <p:cNvSpPr/>
                <p:nvPr/>
              </p:nvSpPr>
              <p:spPr>
                <a:xfrm>
                  <a:off x="616392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9" name="Group 23"/>
              <p:cNvGrpSpPr/>
              <p:nvPr/>
            </p:nvGrpSpPr>
            <p:grpSpPr>
              <a:xfrm>
                <a:off x="752040" y="3009240"/>
                <a:ext cx="2045520" cy="728280"/>
                <a:chOff x="752040" y="3009240"/>
                <a:chExt cx="2045520" cy="728280"/>
              </a:xfrm>
            </p:grpSpPr>
            <p:sp>
              <p:nvSpPr>
                <p:cNvPr id="320" name="Rectangle 24"/>
                <p:cNvSpPr/>
                <p:nvPr/>
              </p:nvSpPr>
              <p:spPr>
                <a:xfrm>
                  <a:off x="807480" y="300924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1" name="Rectangle 25"/>
                <p:cNvSpPr/>
                <p:nvPr/>
              </p:nvSpPr>
              <p:spPr>
                <a:xfrm>
                  <a:off x="752040" y="300924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2" name="Group 26"/>
              <p:cNvGrpSpPr/>
              <p:nvPr/>
            </p:nvGrpSpPr>
            <p:grpSpPr>
              <a:xfrm>
                <a:off x="2797560" y="3009240"/>
                <a:ext cx="1742400" cy="728280"/>
                <a:chOff x="2797560" y="3009240"/>
                <a:chExt cx="1742400" cy="728280"/>
              </a:xfrm>
            </p:grpSpPr>
            <p:sp>
              <p:nvSpPr>
                <p:cNvPr id="323" name="Rectangle 27"/>
                <p:cNvSpPr/>
                <p:nvPr/>
              </p:nvSpPr>
              <p:spPr>
                <a:xfrm>
                  <a:off x="285300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4" name="Rectangle 28"/>
                <p:cNvSpPr/>
                <p:nvPr/>
              </p:nvSpPr>
              <p:spPr>
                <a:xfrm>
                  <a:off x="279756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5" name="Group 29"/>
              <p:cNvGrpSpPr/>
              <p:nvPr/>
            </p:nvGrpSpPr>
            <p:grpSpPr>
              <a:xfrm>
                <a:off x="4545000" y="3009240"/>
                <a:ext cx="1615680" cy="728280"/>
                <a:chOff x="4545000" y="3009240"/>
                <a:chExt cx="1615680" cy="728280"/>
              </a:xfrm>
            </p:grpSpPr>
            <p:sp>
              <p:nvSpPr>
                <p:cNvPr id="326" name="Rectangle 30"/>
                <p:cNvSpPr/>
                <p:nvPr/>
              </p:nvSpPr>
              <p:spPr>
                <a:xfrm>
                  <a:off x="4600440" y="300924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7" name="Rectangle 31"/>
                <p:cNvSpPr/>
                <p:nvPr/>
              </p:nvSpPr>
              <p:spPr>
                <a:xfrm>
                  <a:off x="4545000" y="300924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8" name="Group 32"/>
              <p:cNvGrpSpPr/>
              <p:nvPr/>
            </p:nvGrpSpPr>
            <p:grpSpPr>
              <a:xfrm>
                <a:off x="6163920" y="3009240"/>
                <a:ext cx="1742400" cy="728280"/>
                <a:chOff x="6163920" y="3009240"/>
                <a:chExt cx="1742400" cy="728280"/>
              </a:xfrm>
            </p:grpSpPr>
            <p:sp>
              <p:nvSpPr>
                <p:cNvPr id="329" name="Rectangle 33"/>
                <p:cNvSpPr/>
                <p:nvPr/>
              </p:nvSpPr>
              <p:spPr>
                <a:xfrm>
                  <a:off x="621936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0" name="Rectangle 34"/>
                <p:cNvSpPr/>
                <p:nvPr/>
              </p:nvSpPr>
              <p:spPr>
                <a:xfrm>
                  <a:off x="616392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1" name="Group 35"/>
              <p:cNvGrpSpPr/>
              <p:nvPr/>
            </p:nvGrpSpPr>
            <p:grpSpPr>
              <a:xfrm>
                <a:off x="752040" y="3740400"/>
                <a:ext cx="2045520" cy="728280"/>
                <a:chOff x="752040" y="3740400"/>
                <a:chExt cx="2045520" cy="728280"/>
              </a:xfrm>
            </p:grpSpPr>
            <p:sp>
              <p:nvSpPr>
                <p:cNvPr id="332" name="Rectangle 36"/>
                <p:cNvSpPr/>
                <p:nvPr/>
              </p:nvSpPr>
              <p:spPr>
                <a:xfrm>
                  <a:off x="807480" y="374040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3" name="Rectangle 37"/>
                <p:cNvSpPr/>
                <p:nvPr/>
              </p:nvSpPr>
              <p:spPr>
                <a:xfrm>
                  <a:off x="752040" y="37404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4" name="Group 38"/>
              <p:cNvGrpSpPr/>
              <p:nvPr/>
            </p:nvGrpSpPr>
            <p:grpSpPr>
              <a:xfrm>
                <a:off x="2797560" y="3740400"/>
                <a:ext cx="1742400" cy="728280"/>
                <a:chOff x="2797560" y="3740400"/>
                <a:chExt cx="1742400" cy="728280"/>
              </a:xfrm>
            </p:grpSpPr>
            <p:sp>
              <p:nvSpPr>
                <p:cNvPr id="335" name="Rectangle 39"/>
                <p:cNvSpPr/>
                <p:nvPr/>
              </p:nvSpPr>
              <p:spPr>
                <a:xfrm>
                  <a:off x="285300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6" name="Rectangle 40"/>
                <p:cNvSpPr/>
                <p:nvPr/>
              </p:nvSpPr>
              <p:spPr>
                <a:xfrm>
                  <a:off x="279756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7" name="Group 41"/>
              <p:cNvGrpSpPr/>
              <p:nvPr/>
            </p:nvGrpSpPr>
            <p:grpSpPr>
              <a:xfrm>
                <a:off x="4545000" y="3740400"/>
                <a:ext cx="1615680" cy="728280"/>
                <a:chOff x="4545000" y="3740400"/>
                <a:chExt cx="1615680" cy="728280"/>
              </a:xfrm>
            </p:grpSpPr>
            <p:sp>
              <p:nvSpPr>
                <p:cNvPr id="338" name="Rectangle 42"/>
                <p:cNvSpPr/>
                <p:nvPr/>
              </p:nvSpPr>
              <p:spPr>
                <a:xfrm>
                  <a:off x="4600440" y="37404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9" name="Rectangle 43"/>
                <p:cNvSpPr/>
                <p:nvPr/>
              </p:nvSpPr>
              <p:spPr>
                <a:xfrm>
                  <a:off x="4545000" y="37404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0" name="Group 44"/>
              <p:cNvGrpSpPr/>
              <p:nvPr/>
            </p:nvGrpSpPr>
            <p:grpSpPr>
              <a:xfrm>
                <a:off x="6163920" y="3740400"/>
                <a:ext cx="1742400" cy="728280"/>
                <a:chOff x="6163920" y="3740400"/>
                <a:chExt cx="1742400" cy="728280"/>
              </a:xfrm>
            </p:grpSpPr>
            <p:sp>
              <p:nvSpPr>
                <p:cNvPr id="341" name="Rectangle 45"/>
                <p:cNvSpPr/>
                <p:nvPr/>
              </p:nvSpPr>
              <p:spPr>
                <a:xfrm>
                  <a:off x="621936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2" name="Rectangle 46"/>
                <p:cNvSpPr/>
                <p:nvPr/>
              </p:nvSpPr>
              <p:spPr>
                <a:xfrm>
                  <a:off x="616392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3" name="Group 47"/>
              <p:cNvGrpSpPr/>
              <p:nvPr/>
            </p:nvGrpSpPr>
            <p:grpSpPr>
              <a:xfrm>
                <a:off x="752040" y="4471920"/>
                <a:ext cx="2045520" cy="728280"/>
                <a:chOff x="752040" y="4471920"/>
                <a:chExt cx="2045520" cy="728280"/>
              </a:xfrm>
            </p:grpSpPr>
            <p:sp>
              <p:nvSpPr>
                <p:cNvPr id="344" name="Rectangle 48"/>
                <p:cNvSpPr/>
                <p:nvPr/>
              </p:nvSpPr>
              <p:spPr>
                <a:xfrm>
                  <a:off x="807480" y="447192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5" name="Rectangle 49"/>
                <p:cNvSpPr/>
                <p:nvPr/>
              </p:nvSpPr>
              <p:spPr>
                <a:xfrm>
                  <a:off x="752040" y="447192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6" name="Group 50"/>
              <p:cNvGrpSpPr/>
              <p:nvPr/>
            </p:nvGrpSpPr>
            <p:grpSpPr>
              <a:xfrm>
                <a:off x="2797560" y="4471920"/>
                <a:ext cx="1742400" cy="728280"/>
                <a:chOff x="2797560" y="4471920"/>
                <a:chExt cx="1742400" cy="728280"/>
              </a:xfrm>
            </p:grpSpPr>
            <p:sp>
              <p:nvSpPr>
                <p:cNvPr id="347" name="Rectangle 51"/>
                <p:cNvSpPr/>
                <p:nvPr/>
              </p:nvSpPr>
              <p:spPr>
                <a:xfrm>
                  <a:off x="285300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8" name="Rectangle 52"/>
                <p:cNvSpPr/>
                <p:nvPr/>
              </p:nvSpPr>
              <p:spPr>
                <a:xfrm>
                  <a:off x="279756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9" name="Group 53"/>
              <p:cNvGrpSpPr/>
              <p:nvPr/>
            </p:nvGrpSpPr>
            <p:grpSpPr>
              <a:xfrm>
                <a:off x="4545000" y="4471920"/>
                <a:ext cx="1615680" cy="728280"/>
                <a:chOff x="4545000" y="4471920"/>
                <a:chExt cx="1615680" cy="728280"/>
              </a:xfrm>
            </p:grpSpPr>
            <p:sp>
              <p:nvSpPr>
                <p:cNvPr id="350" name="Rectangle 54"/>
                <p:cNvSpPr/>
                <p:nvPr/>
              </p:nvSpPr>
              <p:spPr>
                <a:xfrm>
                  <a:off x="4600440" y="447192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1" name="Rectangle 55"/>
                <p:cNvSpPr/>
                <p:nvPr/>
              </p:nvSpPr>
              <p:spPr>
                <a:xfrm>
                  <a:off x="4545000" y="447192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2" name="Group 56"/>
              <p:cNvGrpSpPr/>
              <p:nvPr/>
            </p:nvGrpSpPr>
            <p:grpSpPr>
              <a:xfrm>
                <a:off x="6163920" y="4471920"/>
                <a:ext cx="1742400" cy="728280"/>
                <a:chOff x="6163920" y="4471920"/>
                <a:chExt cx="1742400" cy="728280"/>
              </a:xfrm>
            </p:grpSpPr>
            <p:sp>
              <p:nvSpPr>
                <p:cNvPr id="353" name="Rectangle 57"/>
                <p:cNvSpPr/>
                <p:nvPr/>
              </p:nvSpPr>
              <p:spPr>
                <a:xfrm>
                  <a:off x="621936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4" name="Rectangle 58"/>
                <p:cNvSpPr/>
                <p:nvPr/>
              </p:nvSpPr>
              <p:spPr>
                <a:xfrm>
                  <a:off x="616392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5" name="Group 59"/>
              <p:cNvGrpSpPr/>
              <p:nvPr/>
            </p:nvGrpSpPr>
            <p:grpSpPr>
              <a:xfrm>
                <a:off x="752040" y="5203080"/>
                <a:ext cx="2045520" cy="728640"/>
                <a:chOff x="752040" y="5203080"/>
                <a:chExt cx="2045520" cy="728640"/>
              </a:xfrm>
            </p:grpSpPr>
            <p:sp>
              <p:nvSpPr>
                <p:cNvPr id="356" name="Rectangle 60"/>
                <p:cNvSpPr/>
                <p:nvPr/>
              </p:nvSpPr>
              <p:spPr>
                <a:xfrm>
                  <a:off x="807480" y="5203080"/>
                  <a:ext cx="193392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7" name="Rectangle 61"/>
                <p:cNvSpPr/>
                <p:nvPr/>
              </p:nvSpPr>
              <p:spPr>
                <a:xfrm>
                  <a:off x="752040" y="5203080"/>
                  <a:ext cx="204552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8" name="Group 62"/>
              <p:cNvGrpSpPr/>
              <p:nvPr/>
            </p:nvGrpSpPr>
            <p:grpSpPr>
              <a:xfrm>
                <a:off x="2797560" y="5203080"/>
                <a:ext cx="1742400" cy="728640"/>
                <a:chOff x="2797560" y="5203080"/>
                <a:chExt cx="1742400" cy="728640"/>
              </a:xfrm>
            </p:grpSpPr>
            <p:sp>
              <p:nvSpPr>
                <p:cNvPr id="359" name="Rectangle 63"/>
                <p:cNvSpPr/>
                <p:nvPr/>
              </p:nvSpPr>
              <p:spPr>
                <a:xfrm>
                  <a:off x="285300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0" name="Rectangle 64"/>
                <p:cNvSpPr/>
                <p:nvPr/>
              </p:nvSpPr>
              <p:spPr>
                <a:xfrm>
                  <a:off x="279756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1" name="Group 65"/>
              <p:cNvGrpSpPr/>
              <p:nvPr/>
            </p:nvGrpSpPr>
            <p:grpSpPr>
              <a:xfrm>
                <a:off x="4545000" y="5203080"/>
                <a:ext cx="1615680" cy="728640"/>
                <a:chOff x="4545000" y="5203080"/>
                <a:chExt cx="1615680" cy="728640"/>
              </a:xfrm>
            </p:grpSpPr>
            <p:sp>
              <p:nvSpPr>
                <p:cNvPr id="362" name="Rectangle 66"/>
                <p:cNvSpPr/>
                <p:nvPr/>
              </p:nvSpPr>
              <p:spPr>
                <a:xfrm>
                  <a:off x="4600440" y="5203080"/>
                  <a:ext cx="150444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3" name="Rectangle 67"/>
                <p:cNvSpPr/>
                <p:nvPr/>
              </p:nvSpPr>
              <p:spPr>
                <a:xfrm>
                  <a:off x="4545000" y="5203080"/>
                  <a:ext cx="161568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4" name="Group 68"/>
              <p:cNvGrpSpPr/>
              <p:nvPr/>
            </p:nvGrpSpPr>
            <p:grpSpPr>
              <a:xfrm>
                <a:off x="6163920" y="5203080"/>
                <a:ext cx="1742400" cy="728640"/>
                <a:chOff x="6163920" y="5203080"/>
                <a:chExt cx="1742400" cy="728640"/>
              </a:xfrm>
            </p:grpSpPr>
            <p:sp>
              <p:nvSpPr>
                <p:cNvPr id="365" name="Rectangle 69"/>
                <p:cNvSpPr/>
                <p:nvPr/>
              </p:nvSpPr>
              <p:spPr>
                <a:xfrm>
                  <a:off x="621936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6" name="Rectangle 70"/>
                <p:cNvSpPr/>
                <p:nvPr/>
              </p:nvSpPr>
              <p:spPr>
                <a:xfrm>
                  <a:off x="616392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7" name="Rectangle 71"/>
            <p:cNvSpPr/>
            <p:nvPr/>
          </p:nvSpPr>
          <p:spPr>
            <a:xfrm>
              <a:off x="746280" y="227484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8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0F82A-85BB-4F9E-AD52-5F66189EC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7" name="Group 9"/>
          <p:cNvGrpSpPr/>
          <p:nvPr/>
        </p:nvGrpSpPr>
        <p:grpSpPr>
          <a:xfrm>
            <a:off x="746280" y="2274840"/>
            <a:ext cx="7170480" cy="3665520"/>
            <a:chOff x="746280" y="2274840"/>
            <a:chExt cx="7170480" cy="3665520"/>
          </a:xfrm>
        </p:grpSpPr>
        <p:grpSp>
          <p:nvGrpSpPr>
            <p:cNvPr id="378" name="Group 10"/>
            <p:cNvGrpSpPr/>
            <p:nvPr/>
          </p:nvGrpSpPr>
          <p:grpSpPr>
            <a:xfrm>
              <a:off x="752040" y="2279160"/>
              <a:ext cx="7156080" cy="3652560"/>
              <a:chOff x="752040" y="2279160"/>
              <a:chExt cx="7156080" cy="3652560"/>
            </a:xfrm>
          </p:grpSpPr>
          <p:grpSp>
            <p:nvGrpSpPr>
              <p:cNvPr id="379" name="Group 11"/>
              <p:cNvGrpSpPr/>
              <p:nvPr/>
            </p:nvGrpSpPr>
            <p:grpSpPr>
              <a:xfrm>
                <a:off x="752040" y="2279160"/>
                <a:ext cx="2045520" cy="728280"/>
                <a:chOff x="752040" y="2279160"/>
                <a:chExt cx="2045520" cy="728280"/>
              </a:xfrm>
            </p:grpSpPr>
            <p:sp>
              <p:nvSpPr>
                <p:cNvPr id="380" name="Rectangle 12"/>
                <p:cNvSpPr/>
                <p:nvPr/>
              </p:nvSpPr>
              <p:spPr>
                <a:xfrm>
                  <a:off x="807480" y="227916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1" name="Rectangle 13"/>
                <p:cNvSpPr/>
                <p:nvPr/>
              </p:nvSpPr>
              <p:spPr>
                <a:xfrm>
                  <a:off x="752040" y="2279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2" name="Group 14"/>
              <p:cNvGrpSpPr/>
              <p:nvPr/>
            </p:nvGrpSpPr>
            <p:grpSpPr>
              <a:xfrm>
                <a:off x="2797560" y="2279160"/>
                <a:ext cx="1742400" cy="728280"/>
                <a:chOff x="2797560" y="2279160"/>
                <a:chExt cx="1742400" cy="728280"/>
              </a:xfrm>
            </p:grpSpPr>
            <p:sp>
              <p:nvSpPr>
                <p:cNvPr id="383" name="Rectangle 15"/>
                <p:cNvSpPr/>
                <p:nvPr/>
              </p:nvSpPr>
              <p:spPr>
                <a:xfrm>
                  <a:off x="285300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6"/>
                <p:cNvSpPr/>
                <p:nvPr/>
              </p:nvSpPr>
              <p:spPr>
                <a:xfrm>
                  <a:off x="279756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17"/>
              <p:cNvGrpSpPr/>
              <p:nvPr/>
            </p:nvGrpSpPr>
            <p:grpSpPr>
              <a:xfrm>
                <a:off x="4545000" y="2279160"/>
                <a:ext cx="1615680" cy="728280"/>
                <a:chOff x="4545000" y="2279160"/>
                <a:chExt cx="1615680" cy="728280"/>
              </a:xfrm>
            </p:grpSpPr>
            <p:sp>
              <p:nvSpPr>
                <p:cNvPr id="386" name="Rectangle 18"/>
                <p:cNvSpPr/>
                <p:nvPr/>
              </p:nvSpPr>
              <p:spPr>
                <a:xfrm>
                  <a:off x="4600440" y="2279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9"/>
                <p:cNvSpPr/>
                <p:nvPr/>
              </p:nvSpPr>
              <p:spPr>
                <a:xfrm>
                  <a:off x="4545000" y="2279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8" name="Group 20"/>
              <p:cNvGrpSpPr/>
              <p:nvPr/>
            </p:nvGrpSpPr>
            <p:grpSpPr>
              <a:xfrm>
                <a:off x="6163920" y="2279160"/>
                <a:ext cx="1744200" cy="728280"/>
                <a:chOff x="6163920" y="2279160"/>
                <a:chExt cx="1744200" cy="728280"/>
              </a:xfrm>
            </p:grpSpPr>
            <p:sp>
              <p:nvSpPr>
                <p:cNvPr id="389" name="Rectangle 21"/>
                <p:cNvSpPr/>
                <p:nvPr/>
              </p:nvSpPr>
              <p:spPr>
                <a:xfrm>
                  <a:off x="6219360" y="227916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0" name="Rectangle 22"/>
                <p:cNvSpPr/>
                <p:nvPr/>
              </p:nvSpPr>
              <p:spPr>
                <a:xfrm>
                  <a:off x="6163920" y="2279160"/>
                  <a:ext cx="17442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1" name="Group 23"/>
              <p:cNvGrpSpPr/>
              <p:nvPr/>
            </p:nvGrpSpPr>
            <p:grpSpPr>
              <a:xfrm>
                <a:off x="752040" y="3009240"/>
                <a:ext cx="2045520" cy="728280"/>
                <a:chOff x="752040" y="3009240"/>
                <a:chExt cx="2045520" cy="728280"/>
              </a:xfrm>
            </p:grpSpPr>
            <p:sp>
              <p:nvSpPr>
                <p:cNvPr id="392" name="Rectangle 24"/>
                <p:cNvSpPr/>
                <p:nvPr/>
              </p:nvSpPr>
              <p:spPr>
                <a:xfrm>
                  <a:off x="807480" y="300924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3" name="Rectangle 25"/>
                <p:cNvSpPr/>
                <p:nvPr/>
              </p:nvSpPr>
              <p:spPr>
                <a:xfrm>
                  <a:off x="752040" y="300924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4" name="Group 26"/>
              <p:cNvGrpSpPr/>
              <p:nvPr/>
            </p:nvGrpSpPr>
            <p:grpSpPr>
              <a:xfrm>
                <a:off x="2797560" y="3009240"/>
                <a:ext cx="1742400" cy="728280"/>
                <a:chOff x="2797560" y="3009240"/>
                <a:chExt cx="1742400" cy="728280"/>
              </a:xfrm>
            </p:grpSpPr>
            <p:sp>
              <p:nvSpPr>
                <p:cNvPr id="395" name="Rectangle 27"/>
                <p:cNvSpPr/>
                <p:nvPr/>
              </p:nvSpPr>
              <p:spPr>
                <a:xfrm>
                  <a:off x="285300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6" name="Rectangle 28"/>
                <p:cNvSpPr/>
                <p:nvPr/>
              </p:nvSpPr>
              <p:spPr>
                <a:xfrm>
                  <a:off x="279756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7" name="Group 29"/>
              <p:cNvGrpSpPr/>
              <p:nvPr/>
            </p:nvGrpSpPr>
            <p:grpSpPr>
              <a:xfrm>
                <a:off x="4545000" y="3009240"/>
                <a:ext cx="1615680" cy="728280"/>
                <a:chOff x="4545000" y="3009240"/>
                <a:chExt cx="1615680" cy="728280"/>
              </a:xfrm>
            </p:grpSpPr>
            <p:sp>
              <p:nvSpPr>
                <p:cNvPr id="398" name="Rectangle 30"/>
                <p:cNvSpPr/>
                <p:nvPr/>
              </p:nvSpPr>
              <p:spPr>
                <a:xfrm>
                  <a:off x="4600440" y="300924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9" name="Rectangle 31"/>
                <p:cNvSpPr/>
                <p:nvPr/>
              </p:nvSpPr>
              <p:spPr>
                <a:xfrm>
                  <a:off x="4545000" y="300924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0" name="Group 32"/>
              <p:cNvGrpSpPr/>
              <p:nvPr/>
            </p:nvGrpSpPr>
            <p:grpSpPr>
              <a:xfrm>
                <a:off x="6163920" y="3009240"/>
                <a:ext cx="1744200" cy="728280"/>
                <a:chOff x="6163920" y="3009240"/>
                <a:chExt cx="1744200" cy="728280"/>
              </a:xfrm>
            </p:grpSpPr>
            <p:sp>
              <p:nvSpPr>
                <p:cNvPr id="401" name="Rectangle 33"/>
                <p:cNvSpPr/>
                <p:nvPr/>
              </p:nvSpPr>
              <p:spPr>
                <a:xfrm>
                  <a:off x="6219360" y="300924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34"/>
                <p:cNvSpPr/>
                <p:nvPr/>
              </p:nvSpPr>
              <p:spPr>
                <a:xfrm>
                  <a:off x="6163920" y="3009240"/>
                  <a:ext cx="17442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35"/>
              <p:cNvGrpSpPr/>
              <p:nvPr/>
            </p:nvGrpSpPr>
            <p:grpSpPr>
              <a:xfrm>
                <a:off x="752040" y="3740400"/>
                <a:ext cx="2045520" cy="728280"/>
                <a:chOff x="752040" y="3740400"/>
                <a:chExt cx="2045520" cy="728280"/>
              </a:xfrm>
            </p:grpSpPr>
            <p:sp>
              <p:nvSpPr>
                <p:cNvPr id="404" name="Rectangle 36"/>
                <p:cNvSpPr/>
                <p:nvPr/>
              </p:nvSpPr>
              <p:spPr>
                <a:xfrm>
                  <a:off x="807480" y="374040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Rectangle 37"/>
                <p:cNvSpPr/>
                <p:nvPr/>
              </p:nvSpPr>
              <p:spPr>
                <a:xfrm>
                  <a:off x="752040" y="37404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6" name="Group 38"/>
              <p:cNvGrpSpPr/>
              <p:nvPr/>
            </p:nvGrpSpPr>
            <p:grpSpPr>
              <a:xfrm>
                <a:off x="2797560" y="3740400"/>
                <a:ext cx="1742400" cy="728280"/>
                <a:chOff x="2797560" y="3740400"/>
                <a:chExt cx="1742400" cy="728280"/>
              </a:xfrm>
            </p:grpSpPr>
            <p:sp>
              <p:nvSpPr>
                <p:cNvPr id="407" name="Rectangle 39"/>
                <p:cNvSpPr/>
                <p:nvPr/>
              </p:nvSpPr>
              <p:spPr>
                <a:xfrm>
                  <a:off x="285300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8" name="Rectangle 40"/>
                <p:cNvSpPr/>
                <p:nvPr/>
              </p:nvSpPr>
              <p:spPr>
                <a:xfrm>
                  <a:off x="279756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9" name="Group 41"/>
              <p:cNvGrpSpPr/>
              <p:nvPr/>
            </p:nvGrpSpPr>
            <p:grpSpPr>
              <a:xfrm>
                <a:off x="4545000" y="3740400"/>
                <a:ext cx="1615680" cy="728280"/>
                <a:chOff x="4545000" y="3740400"/>
                <a:chExt cx="1615680" cy="728280"/>
              </a:xfrm>
            </p:grpSpPr>
            <p:sp>
              <p:nvSpPr>
                <p:cNvPr id="410" name="Rectangle 42"/>
                <p:cNvSpPr/>
                <p:nvPr/>
              </p:nvSpPr>
              <p:spPr>
                <a:xfrm>
                  <a:off x="4600440" y="37404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Rectangle 43"/>
                <p:cNvSpPr/>
                <p:nvPr/>
              </p:nvSpPr>
              <p:spPr>
                <a:xfrm>
                  <a:off x="4545000" y="37404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2" name="Group 44"/>
              <p:cNvGrpSpPr/>
              <p:nvPr/>
            </p:nvGrpSpPr>
            <p:grpSpPr>
              <a:xfrm>
                <a:off x="6163920" y="3740400"/>
                <a:ext cx="1744200" cy="728280"/>
                <a:chOff x="6163920" y="3740400"/>
                <a:chExt cx="1744200" cy="728280"/>
              </a:xfrm>
            </p:grpSpPr>
            <p:sp>
              <p:nvSpPr>
                <p:cNvPr id="413" name="Rectangle 45"/>
                <p:cNvSpPr/>
                <p:nvPr/>
              </p:nvSpPr>
              <p:spPr>
                <a:xfrm>
                  <a:off x="6219360" y="374040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4" name="Rectangle 46"/>
                <p:cNvSpPr/>
                <p:nvPr/>
              </p:nvSpPr>
              <p:spPr>
                <a:xfrm>
                  <a:off x="6163920" y="3740400"/>
                  <a:ext cx="17442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5" name="Group 47"/>
              <p:cNvGrpSpPr/>
              <p:nvPr/>
            </p:nvGrpSpPr>
            <p:grpSpPr>
              <a:xfrm>
                <a:off x="752040" y="4471920"/>
                <a:ext cx="2045520" cy="728280"/>
                <a:chOff x="752040" y="4471920"/>
                <a:chExt cx="2045520" cy="728280"/>
              </a:xfrm>
            </p:grpSpPr>
            <p:sp>
              <p:nvSpPr>
                <p:cNvPr id="416" name="Rectangle 48"/>
                <p:cNvSpPr/>
                <p:nvPr/>
              </p:nvSpPr>
              <p:spPr>
                <a:xfrm>
                  <a:off x="807480" y="447192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7" name="Rectangle 49"/>
                <p:cNvSpPr/>
                <p:nvPr/>
              </p:nvSpPr>
              <p:spPr>
                <a:xfrm>
                  <a:off x="752040" y="447192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8" name="Group 50"/>
              <p:cNvGrpSpPr/>
              <p:nvPr/>
            </p:nvGrpSpPr>
            <p:grpSpPr>
              <a:xfrm>
                <a:off x="2797560" y="4471920"/>
                <a:ext cx="1742400" cy="728280"/>
                <a:chOff x="2797560" y="4471920"/>
                <a:chExt cx="1742400" cy="728280"/>
              </a:xfrm>
            </p:grpSpPr>
            <p:sp>
              <p:nvSpPr>
                <p:cNvPr id="419" name="Rectangle 51"/>
                <p:cNvSpPr/>
                <p:nvPr/>
              </p:nvSpPr>
              <p:spPr>
                <a:xfrm>
                  <a:off x="285300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Rectangle 52"/>
                <p:cNvSpPr/>
                <p:nvPr/>
              </p:nvSpPr>
              <p:spPr>
                <a:xfrm>
                  <a:off x="279756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1" name="Group 53"/>
              <p:cNvGrpSpPr/>
              <p:nvPr/>
            </p:nvGrpSpPr>
            <p:grpSpPr>
              <a:xfrm>
                <a:off x="4545000" y="4471920"/>
                <a:ext cx="1615680" cy="728280"/>
                <a:chOff x="4545000" y="4471920"/>
                <a:chExt cx="1615680" cy="728280"/>
              </a:xfrm>
            </p:grpSpPr>
            <p:sp>
              <p:nvSpPr>
                <p:cNvPr id="422" name="Rectangle 54"/>
                <p:cNvSpPr/>
                <p:nvPr/>
              </p:nvSpPr>
              <p:spPr>
                <a:xfrm>
                  <a:off x="4600440" y="447192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3" name="Rectangle 55"/>
                <p:cNvSpPr/>
                <p:nvPr/>
              </p:nvSpPr>
              <p:spPr>
                <a:xfrm>
                  <a:off x="4545000" y="447192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4" name="Group 56"/>
              <p:cNvGrpSpPr/>
              <p:nvPr/>
            </p:nvGrpSpPr>
            <p:grpSpPr>
              <a:xfrm>
                <a:off x="6163920" y="4471920"/>
                <a:ext cx="1744200" cy="728280"/>
                <a:chOff x="6163920" y="4471920"/>
                <a:chExt cx="1744200" cy="728280"/>
              </a:xfrm>
            </p:grpSpPr>
            <p:sp>
              <p:nvSpPr>
                <p:cNvPr id="425" name="Rectangle 57"/>
                <p:cNvSpPr/>
                <p:nvPr/>
              </p:nvSpPr>
              <p:spPr>
                <a:xfrm>
                  <a:off x="6219360" y="447192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58"/>
                <p:cNvSpPr/>
                <p:nvPr/>
              </p:nvSpPr>
              <p:spPr>
                <a:xfrm>
                  <a:off x="6163920" y="4471920"/>
                  <a:ext cx="17442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7" name="Group 59"/>
              <p:cNvGrpSpPr/>
              <p:nvPr/>
            </p:nvGrpSpPr>
            <p:grpSpPr>
              <a:xfrm>
                <a:off x="752040" y="5203080"/>
                <a:ext cx="2045520" cy="728640"/>
                <a:chOff x="752040" y="5203080"/>
                <a:chExt cx="2045520" cy="728640"/>
              </a:xfrm>
            </p:grpSpPr>
            <p:sp>
              <p:nvSpPr>
                <p:cNvPr id="428" name="Rectangle 60"/>
                <p:cNvSpPr/>
                <p:nvPr/>
              </p:nvSpPr>
              <p:spPr>
                <a:xfrm>
                  <a:off x="807480" y="5203080"/>
                  <a:ext cx="193392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Rectangle 61"/>
                <p:cNvSpPr/>
                <p:nvPr/>
              </p:nvSpPr>
              <p:spPr>
                <a:xfrm>
                  <a:off x="752040" y="5203080"/>
                  <a:ext cx="204552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0" name="Group 62"/>
              <p:cNvGrpSpPr/>
              <p:nvPr/>
            </p:nvGrpSpPr>
            <p:grpSpPr>
              <a:xfrm>
                <a:off x="2797560" y="5203080"/>
                <a:ext cx="1742400" cy="728640"/>
                <a:chOff x="2797560" y="5203080"/>
                <a:chExt cx="1742400" cy="728640"/>
              </a:xfrm>
            </p:grpSpPr>
            <p:sp>
              <p:nvSpPr>
                <p:cNvPr id="431" name="Rectangle 63"/>
                <p:cNvSpPr/>
                <p:nvPr/>
              </p:nvSpPr>
              <p:spPr>
                <a:xfrm>
                  <a:off x="285300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Rectangle 64"/>
                <p:cNvSpPr/>
                <p:nvPr/>
              </p:nvSpPr>
              <p:spPr>
                <a:xfrm>
                  <a:off x="279756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3" name="Group 65"/>
              <p:cNvGrpSpPr/>
              <p:nvPr/>
            </p:nvGrpSpPr>
            <p:grpSpPr>
              <a:xfrm>
                <a:off x="4545000" y="5203080"/>
                <a:ext cx="1615680" cy="728640"/>
                <a:chOff x="4545000" y="5203080"/>
                <a:chExt cx="1615680" cy="728640"/>
              </a:xfrm>
            </p:grpSpPr>
            <p:sp>
              <p:nvSpPr>
                <p:cNvPr id="434" name="Rectangle 66"/>
                <p:cNvSpPr/>
                <p:nvPr/>
              </p:nvSpPr>
              <p:spPr>
                <a:xfrm>
                  <a:off x="4600440" y="5203080"/>
                  <a:ext cx="150444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67"/>
                <p:cNvSpPr/>
                <p:nvPr/>
              </p:nvSpPr>
              <p:spPr>
                <a:xfrm>
                  <a:off x="4545000" y="5203080"/>
                  <a:ext cx="161568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68"/>
              <p:cNvGrpSpPr/>
              <p:nvPr/>
            </p:nvGrpSpPr>
            <p:grpSpPr>
              <a:xfrm>
                <a:off x="6163920" y="5203080"/>
                <a:ext cx="1744200" cy="728640"/>
                <a:chOff x="6163920" y="5203080"/>
                <a:chExt cx="1744200" cy="728640"/>
              </a:xfrm>
            </p:grpSpPr>
            <p:sp>
              <p:nvSpPr>
                <p:cNvPr id="437" name="Rectangle 69"/>
                <p:cNvSpPr/>
                <p:nvPr/>
              </p:nvSpPr>
              <p:spPr>
                <a:xfrm>
                  <a:off x="6219360" y="5203080"/>
                  <a:ext cx="163116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8" name="Rectangle 70"/>
                <p:cNvSpPr/>
                <p:nvPr/>
              </p:nvSpPr>
              <p:spPr>
                <a:xfrm>
                  <a:off x="6163920" y="5203080"/>
                  <a:ext cx="17442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39" name="Rectangle 71"/>
            <p:cNvSpPr/>
            <p:nvPr/>
          </p:nvSpPr>
          <p:spPr>
            <a:xfrm>
              <a:off x="746280" y="227484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0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Oval 73"/>
          <p:cNvSpPr/>
          <p:nvPr/>
        </p:nvSpPr>
        <p:spPr>
          <a:xfrm>
            <a:off x="2664000" y="4427640"/>
            <a:ext cx="1447560" cy="5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CDE1C-AE49-4F71-9CD5-CAA0C4DD6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0" name="Group 9"/>
          <p:cNvGrpSpPr/>
          <p:nvPr/>
        </p:nvGrpSpPr>
        <p:grpSpPr>
          <a:xfrm>
            <a:off x="746280" y="2274840"/>
            <a:ext cx="7170480" cy="3665520"/>
            <a:chOff x="746280" y="2274840"/>
            <a:chExt cx="7170480" cy="3665520"/>
          </a:xfrm>
        </p:grpSpPr>
        <p:grpSp>
          <p:nvGrpSpPr>
            <p:cNvPr id="451" name="Group 10"/>
            <p:cNvGrpSpPr/>
            <p:nvPr/>
          </p:nvGrpSpPr>
          <p:grpSpPr>
            <a:xfrm>
              <a:off x="752040" y="2279160"/>
              <a:ext cx="7154280" cy="3652560"/>
              <a:chOff x="752040" y="2279160"/>
              <a:chExt cx="7154280" cy="3652560"/>
            </a:xfrm>
          </p:grpSpPr>
          <p:grpSp>
            <p:nvGrpSpPr>
              <p:cNvPr id="452" name="Group 11"/>
              <p:cNvGrpSpPr/>
              <p:nvPr/>
            </p:nvGrpSpPr>
            <p:grpSpPr>
              <a:xfrm>
                <a:off x="752040" y="2279160"/>
                <a:ext cx="2045520" cy="728280"/>
                <a:chOff x="752040" y="2279160"/>
                <a:chExt cx="2045520" cy="728280"/>
              </a:xfrm>
            </p:grpSpPr>
            <p:sp>
              <p:nvSpPr>
                <p:cNvPr id="453" name="Rectangle 12"/>
                <p:cNvSpPr/>
                <p:nvPr/>
              </p:nvSpPr>
              <p:spPr>
                <a:xfrm>
                  <a:off x="807480" y="227916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4" name="Rectangle 13"/>
                <p:cNvSpPr/>
                <p:nvPr/>
              </p:nvSpPr>
              <p:spPr>
                <a:xfrm>
                  <a:off x="752040" y="2279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5" name="Group 14"/>
              <p:cNvGrpSpPr/>
              <p:nvPr/>
            </p:nvGrpSpPr>
            <p:grpSpPr>
              <a:xfrm>
                <a:off x="2797560" y="2279160"/>
                <a:ext cx="1742400" cy="728280"/>
                <a:chOff x="2797560" y="2279160"/>
                <a:chExt cx="1742400" cy="728280"/>
              </a:xfrm>
            </p:grpSpPr>
            <p:sp>
              <p:nvSpPr>
                <p:cNvPr id="456" name="Rectangle 15"/>
                <p:cNvSpPr/>
                <p:nvPr/>
              </p:nvSpPr>
              <p:spPr>
                <a:xfrm>
                  <a:off x="285300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7" name="Rectangle 16"/>
                <p:cNvSpPr/>
                <p:nvPr/>
              </p:nvSpPr>
              <p:spPr>
                <a:xfrm>
                  <a:off x="279756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8" name="Group 17"/>
              <p:cNvGrpSpPr/>
              <p:nvPr/>
            </p:nvGrpSpPr>
            <p:grpSpPr>
              <a:xfrm>
                <a:off x="4545000" y="2279160"/>
                <a:ext cx="1615680" cy="728280"/>
                <a:chOff x="4545000" y="2279160"/>
                <a:chExt cx="1615680" cy="728280"/>
              </a:xfrm>
            </p:grpSpPr>
            <p:sp>
              <p:nvSpPr>
                <p:cNvPr id="459" name="Rectangle 18"/>
                <p:cNvSpPr/>
                <p:nvPr/>
              </p:nvSpPr>
              <p:spPr>
                <a:xfrm>
                  <a:off x="4600440" y="2279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0" name="Rectangle 19"/>
                <p:cNvSpPr/>
                <p:nvPr/>
              </p:nvSpPr>
              <p:spPr>
                <a:xfrm>
                  <a:off x="4545000" y="2279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1" name="Group 20"/>
              <p:cNvGrpSpPr/>
              <p:nvPr/>
            </p:nvGrpSpPr>
            <p:grpSpPr>
              <a:xfrm>
                <a:off x="6163920" y="2279160"/>
                <a:ext cx="1742400" cy="728280"/>
                <a:chOff x="6163920" y="2279160"/>
                <a:chExt cx="1742400" cy="728280"/>
              </a:xfrm>
            </p:grpSpPr>
            <p:sp>
              <p:nvSpPr>
                <p:cNvPr id="462" name="Rectangle 21"/>
                <p:cNvSpPr/>
                <p:nvPr/>
              </p:nvSpPr>
              <p:spPr>
                <a:xfrm>
                  <a:off x="621936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3" name="Rectangle 22"/>
                <p:cNvSpPr/>
                <p:nvPr/>
              </p:nvSpPr>
              <p:spPr>
                <a:xfrm>
                  <a:off x="616392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4" name="Group 23"/>
              <p:cNvGrpSpPr/>
              <p:nvPr/>
            </p:nvGrpSpPr>
            <p:grpSpPr>
              <a:xfrm>
                <a:off x="752040" y="3009240"/>
                <a:ext cx="2045520" cy="728280"/>
                <a:chOff x="752040" y="3009240"/>
                <a:chExt cx="2045520" cy="728280"/>
              </a:xfrm>
            </p:grpSpPr>
            <p:sp>
              <p:nvSpPr>
                <p:cNvPr id="465" name="Rectangle 24"/>
                <p:cNvSpPr/>
                <p:nvPr/>
              </p:nvSpPr>
              <p:spPr>
                <a:xfrm>
                  <a:off x="807480" y="300924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6" name="Rectangle 25"/>
                <p:cNvSpPr/>
                <p:nvPr/>
              </p:nvSpPr>
              <p:spPr>
                <a:xfrm>
                  <a:off x="752040" y="300924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7" name="Group 26"/>
              <p:cNvGrpSpPr/>
              <p:nvPr/>
            </p:nvGrpSpPr>
            <p:grpSpPr>
              <a:xfrm>
                <a:off x="2797560" y="3009240"/>
                <a:ext cx="1742400" cy="728280"/>
                <a:chOff x="2797560" y="3009240"/>
                <a:chExt cx="1742400" cy="728280"/>
              </a:xfrm>
            </p:grpSpPr>
            <p:sp>
              <p:nvSpPr>
                <p:cNvPr id="468" name="Rectangle 27"/>
                <p:cNvSpPr/>
                <p:nvPr/>
              </p:nvSpPr>
              <p:spPr>
                <a:xfrm>
                  <a:off x="285300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9" name="Rectangle 28"/>
                <p:cNvSpPr/>
                <p:nvPr/>
              </p:nvSpPr>
              <p:spPr>
                <a:xfrm>
                  <a:off x="279756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0" name="Group 29"/>
              <p:cNvGrpSpPr/>
              <p:nvPr/>
            </p:nvGrpSpPr>
            <p:grpSpPr>
              <a:xfrm>
                <a:off x="4545000" y="3009240"/>
                <a:ext cx="1615680" cy="728280"/>
                <a:chOff x="4545000" y="3009240"/>
                <a:chExt cx="1615680" cy="728280"/>
              </a:xfrm>
            </p:grpSpPr>
            <p:sp>
              <p:nvSpPr>
                <p:cNvPr id="471" name="Rectangle 30"/>
                <p:cNvSpPr/>
                <p:nvPr/>
              </p:nvSpPr>
              <p:spPr>
                <a:xfrm>
                  <a:off x="4600440" y="300924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2" name="Rectangle 31"/>
                <p:cNvSpPr/>
                <p:nvPr/>
              </p:nvSpPr>
              <p:spPr>
                <a:xfrm>
                  <a:off x="4545000" y="300924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3" name="Group 32"/>
              <p:cNvGrpSpPr/>
              <p:nvPr/>
            </p:nvGrpSpPr>
            <p:grpSpPr>
              <a:xfrm>
                <a:off x="6163920" y="3009240"/>
                <a:ext cx="1742400" cy="728280"/>
                <a:chOff x="6163920" y="3009240"/>
                <a:chExt cx="1742400" cy="728280"/>
              </a:xfrm>
            </p:grpSpPr>
            <p:sp>
              <p:nvSpPr>
                <p:cNvPr id="474" name="Rectangle 33"/>
                <p:cNvSpPr/>
                <p:nvPr/>
              </p:nvSpPr>
              <p:spPr>
                <a:xfrm>
                  <a:off x="621936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5" name="Rectangle 34"/>
                <p:cNvSpPr/>
                <p:nvPr/>
              </p:nvSpPr>
              <p:spPr>
                <a:xfrm>
                  <a:off x="616392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6" name="Group 35"/>
              <p:cNvGrpSpPr/>
              <p:nvPr/>
            </p:nvGrpSpPr>
            <p:grpSpPr>
              <a:xfrm>
                <a:off x="752040" y="3740400"/>
                <a:ext cx="2045520" cy="728280"/>
                <a:chOff x="752040" y="3740400"/>
                <a:chExt cx="2045520" cy="728280"/>
              </a:xfrm>
            </p:grpSpPr>
            <p:sp>
              <p:nvSpPr>
                <p:cNvPr id="477" name="Rectangle 36"/>
                <p:cNvSpPr/>
                <p:nvPr/>
              </p:nvSpPr>
              <p:spPr>
                <a:xfrm>
                  <a:off x="807480" y="374040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8" name="Rectangle 37"/>
                <p:cNvSpPr/>
                <p:nvPr/>
              </p:nvSpPr>
              <p:spPr>
                <a:xfrm>
                  <a:off x="752040" y="37404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9" name="Group 38"/>
              <p:cNvGrpSpPr/>
              <p:nvPr/>
            </p:nvGrpSpPr>
            <p:grpSpPr>
              <a:xfrm>
                <a:off x="2797560" y="3740400"/>
                <a:ext cx="1742400" cy="728280"/>
                <a:chOff x="2797560" y="3740400"/>
                <a:chExt cx="1742400" cy="728280"/>
              </a:xfrm>
            </p:grpSpPr>
            <p:sp>
              <p:nvSpPr>
                <p:cNvPr id="480" name="Rectangle 39"/>
                <p:cNvSpPr/>
                <p:nvPr/>
              </p:nvSpPr>
              <p:spPr>
                <a:xfrm>
                  <a:off x="285300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1" name="Rectangle 40"/>
                <p:cNvSpPr/>
                <p:nvPr/>
              </p:nvSpPr>
              <p:spPr>
                <a:xfrm>
                  <a:off x="279756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2" name="Group 41"/>
              <p:cNvGrpSpPr/>
              <p:nvPr/>
            </p:nvGrpSpPr>
            <p:grpSpPr>
              <a:xfrm>
                <a:off x="4545000" y="3740400"/>
                <a:ext cx="1615680" cy="728280"/>
                <a:chOff x="4545000" y="3740400"/>
                <a:chExt cx="1615680" cy="728280"/>
              </a:xfrm>
            </p:grpSpPr>
            <p:sp>
              <p:nvSpPr>
                <p:cNvPr id="483" name="Rectangle 42"/>
                <p:cNvSpPr/>
                <p:nvPr/>
              </p:nvSpPr>
              <p:spPr>
                <a:xfrm>
                  <a:off x="4600440" y="37404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4" name="Rectangle 43"/>
                <p:cNvSpPr/>
                <p:nvPr/>
              </p:nvSpPr>
              <p:spPr>
                <a:xfrm>
                  <a:off x="4545000" y="37404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5" name="Group 44"/>
              <p:cNvGrpSpPr/>
              <p:nvPr/>
            </p:nvGrpSpPr>
            <p:grpSpPr>
              <a:xfrm>
                <a:off x="6163920" y="3740400"/>
                <a:ext cx="1742400" cy="728280"/>
                <a:chOff x="6163920" y="3740400"/>
                <a:chExt cx="1742400" cy="728280"/>
              </a:xfrm>
            </p:grpSpPr>
            <p:sp>
              <p:nvSpPr>
                <p:cNvPr id="486" name="Rectangle 45"/>
                <p:cNvSpPr/>
                <p:nvPr/>
              </p:nvSpPr>
              <p:spPr>
                <a:xfrm>
                  <a:off x="621936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7" name="Rectangle 46"/>
                <p:cNvSpPr/>
                <p:nvPr/>
              </p:nvSpPr>
              <p:spPr>
                <a:xfrm>
                  <a:off x="616392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8" name="Group 47"/>
              <p:cNvGrpSpPr/>
              <p:nvPr/>
            </p:nvGrpSpPr>
            <p:grpSpPr>
              <a:xfrm>
                <a:off x="752040" y="4471920"/>
                <a:ext cx="2045520" cy="728280"/>
                <a:chOff x="752040" y="4471920"/>
                <a:chExt cx="2045520" cy="728280"/>
              </a:xfrm>
            </p:grpSpPr>
            <p:sp>
              <p:nvSpPr>
                <p:cNvPr id="489" name="Rectangle 48"/>
                <p:cNvSpPr/>
                <p:nvPr/>
              </p:nvSpPr>
              <p:spPr>
                <a:xfrm>
                  <a:off x="807480" y="447192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0" name="Rectangle 49"/>
                <p:cNvSpPr/>
                <p:nvPr/>
              </p:nvSpPr>
              <p:spPr>
                <a:xfrm>
                  <a:off x="752040" y="447192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1" name="Group 50"/>
              <p:cNvGrpSpPr/>
              <p:nvPr/>
            </p:nvGrpSpPr>
            <p:grpSpPr>
              <a:xfrm>
                <a:off x="2797560" y="4471920"/>
                <a:ext cx="1742400" cy="728280"/>
                <a:chOff x="2797560" y="4471920"/>
                <a:chExt cx="1742400" cy="728280"/>
              </a:xfrm>
            </p:grpSpPr>
            <p:sp>
              <p:nvSpPr>
                <p:cNvPr id="492" name="Rectangle 51"/>
                <p:cNvSpPr/>
                <p:nvPr/>
              </p:nvSpPr>
              <p:spPr>
                <a:xfrm>
                  <a:off x="285300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3" name="Rectangle 52"/>
                <p:cNvSpPr/>
                <p:nvPr/>
              </p:nvSpPr>
              <p:spPr>
                <a:xfrm>
                  <a:off x="279756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4" name="Group 53"/>
              <p:cNvGrpSpPr/>
              <p:nvPr/>
            </p:nvGrpSpPr>
            <p:grpSpPr>
              <a:xfrm>
                <a:off x="4545000" y="4471920"/>
                <a:ext cx="1615680" cy="728280"/>
                <a:chOff x="4545000" y="4471920"/>
                <a:chExt cx="1615680" cy="728280"/>
              </a:xfrm>
            </p:grpSpPr>
            <p:sp>
              <p:nvSpPr>
                <p:cNvPr id="495" name="Rectangle 54"/>
                <p:cNvSpPr/>
                <p:nvPr/>
              </p:nvSpPr>
              <p:spPr>
                <a:xfrm>
                  <a:off x="4600440" y="447192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6" name="Rectangle 55"/>
                <p:cNvSpPr/>
                <p:nvPr/>
              </p:nvSpPr>
              <p:spPr>
                <a:xfrm>
                  <a:off x="4545000" y="447192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7" name="Group 56"/>
              <p:cNvGrpSpPr/>
              <p:nvPr/>
            </p:nvGrpSpPr>
            <p:grpSpPr>
              <a:xfrm>
                <a:off x="6163920" y="4471920"/>
                <a:ext cx="1742400" cy="728280"/>
                <a:chOff x="6163920" y="4471920"/>
                <a:chExt cx="1742400" cy="728280"/>
              </a:xfrm>
            </p:grpSpPr>
            <p:sp>
              <p:nvSpPr>
                <p:cNvPr id="498" name="Rectangle 57"/>
                <p:cNvSpPr/>
                <p:nvPr/>
              </p:nvSpPr>
              <p:spPr>
                <a:xfrm>
                  <a:off x="621936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9" name="Rectangle 58"/>
                <p:cNvSpPr/>
                <p:nvPr/>
              </p:nvSpPr>
              <p:spPr>
                <a:xfrm>
                  <a:off x="616392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0" name="Group 59"/>
              <p:cNvGrpSpPr/>
              <p:nvPr/>
            </p:nvGrpSpPr>
            <p:grpSpPr>
              <a:xfrm>
                <a:off x="752040" y="5203080"/>
                <a:ext cx="2045520" cy="728640"/>
                <a:chOff x="752040" y="5203080"/>
                <a:chExt cx="2045520" cy="728640"/>
              </a:xfrm>
            </p:grpSpPr>
            <p:sp>
              <p:nvSpPr>
                <p:cNvPr id="501" name="Rectangle 60"/>
                <p:cNvSpPr/>
                <p:nvPr/>
              </p:nvSpPr>
              <p:spPr>
                <a:xfrm>
                  <a:off x="807480" y="5203080"/>
                  <a:ext cx="193392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2" name="Rectangle 61"/>
                <p:cNvSpPr/>
                <p:nvPr/>
              </p:nvSpPr>
              <p:spPr>
                <a:xfrm>
                  <a:off x="752040" y="5203080"/>
                  <a:ext cx="204552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3" name="Group 62"/>
              <p:cNvGrpSpPr/>
              <p:nvPr/>
            </p:nvGrpSpPr>
            <p:grpSpPr>
              <a:xfrm>
                <a:off x="2797560" y="5203080"/>
                <a:ext cx="1742400" cy="728640"/>
                <a:chOff x="2797560" y="5203080"/>
                <a:chExt cx="1742400" cy="728640"/>
              </a:xfrm>
            </p:grpSpPr>
            <p:sp>
              <p:nvSpPr>
                <p:cNvPr id="504" name="Rectangle 63"/>
                <p:cNvSpPr/>
                <p:nvPr/>
              </p:nvSpPr>
              <p:spPr>
                <a:xfrm>
                  <a:off x="285300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5" name="Rectangle 64"/>
                <p:cNvSpPr/>
                <p:nvPr/>
              </p:nvSpPr>
              <p:spPr>
                <a:xfrm>
                  <a:off x="279756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6" name="Group 65"/>
              <p:cNvGrpSpPr/>
              <p:nvPr/>
            </p:nvGrpSpPr>
            <p:grpSpPr>
              <a:xfrm>
                <a:off x="4545000" y="5203080"/>
                <a:ext cx="1615680" cy="728640"/>
                <a:chOff x="4545000" y="5203080"/>
                <a:chExt cx="1615680" cy="728640"/>
              </a:xfrm>
            </p:grpSpPr>
            <p:sp>
              <p:nvSpPr>
                <p:cNvPr id="507" name="Rectangle 66"/>
                <p:cNvSpPr/>
                <p:nvPr/>
              </p:nvSpPr>
              <p:spPr>
                <a:xfrm>
                  <a:off x="4600440" y="5203080"/>
                  <a:ext cx="150444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8" name="Rectangle 67"/>
                <p:cNvSpPr/>
                <p:nvPr/>
              </p:nvSpPr>
              <p:spPr>
                <a:xfrm>
                  <a:off x="4545000" y="5203080"/>
                  <a:ext cx="161568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9" name="Group 68"/>
              <p:cNvGrpSpPr/>
              <p:nvPr/>
            </p:nvGrpSpPr>
            <p:grpSpPr>
              <a:xfrm>
                <a:off x="6163920" y="5203080"/>
                <a:ext cx="1742400" cy="728640"/>
                <a:chOff x="6163920" y="5203080"/>
                <a:chExt cx="1742400" cy="728640"/>
              </a:xfrm>
            </p:grpSpPr>
            <p:sp>
              <p:nvSpPr>
                <p:cNvPr id="510" name="Rectangle 69"/>
                <p:cNvSpPr/>
                <p:nvPr/>
              </p:nvSpPr>
              <p:spPr>
                <a:xfrm>
                  <a:off x="621936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1" name="Rectangle 70"/>
                <p:cNvSpPr/>
                <p:nvPr/>
              </p:nvSpPr>
              <p:spPr>
                <a:xfrm>
                  <a:off x="616392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12" name="Rectangle 71"/>
            <p:cNvSpPr/>
            <p:nvPr/>
          </p:nvSpPr>
          <p:spPr>
            <a:xfrm>
              <a:off x="746280" y="227484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3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Oval 73"/>
          <p:cNvSpPr/>
          <p:nvPr/>
        </p:nvSpPr>
        <p:spPr>
          <a:xfrm>
            <a:off x="437832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Oval 74"/>
          <p:cNvSpPr/>
          <p:nvPr/>
        </p:nvSpPr>
        <p:spPr>
          <a:xfrm>
            <a:off x="278604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543F-AF10-4940-B9FB-31B72335F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4" name="Group 9"/>
          <p:cNvGrpSpPr/>
          <p:nvPr/>
        </p:nvGrpSpPr>
        <p:grpSpPr>
          <a:xfrm>
            <a:off x="746280" y="2274840"/>
            <a:ext cx="7170480" cy="3665520"/>
            <a:chOff x="746280" y="2274840"/>
            <a:chExt cx="7170480" cy="3665520"/>
          </a:xfrm>
        </p:grpSpPr>
        <p:grpSp>
          <p:nvGrpSpPr>
            <p:cNvPr id="525" name="Group 10"/>
            <p:cNvGrpSpPr/>
            <p:nvPr/>
          </p:nvGrpSpPr>
          <p:grpSpPr>
            <a:xfrm>
              <a:off x="752040" y="2279160"/>
              <a:ext cx="7154280" cy="3652560"/>
              <a:chOff x="752040" y="2279160"/>
              <a:chExt cx="7154280" cy="3652560"/>
            </a:xfrm>
          </p:grpSpPr>
          <p:grpSp>
            <p:nvGrpSpPr>
              <p:cNvPr id="526" name="Group 11"/>
              <p:cNvGrpSpPr/>
              <p:nvPr/>
            </p:nvGrpSpPr>
            <p:grpSpPr>
              <a:xfrm>
                <a:off x="752040" y="2279160"/>
                <a:ext cx="2045520" cy="728280"/>
                <a:chOff x="752040" y="2279160"/>
                <a:chExt cx="2045520" cy="728280"/>
              </a:xfrm>
            </p:grpSpPr>
            <p:sp>
              <p:nvSpPr>
                <p:cNvPr id="527" name="Rectangle 12"/>
                <p:cNvSpPr/>
                <p:nvPr/>
              </p:nvSpPr>
              <p:spPr>
                <a:xfrm>
                  <a:off x="807480" y="227916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Rectangle 13"/>
                <p:cNvSpPr/>
                <p:nvPr/>
              </p:nvSpPr>
              <p:spPr>
                <a:xfrm>
                  <a:off x="752040" y="2279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9" name="Group 14"/>
              <p:cNvGrpSpPr/>
              <p:nvPr/>
            </p:nvGrpSpPr>
            <p:grpSpPr>
              <a:xfrm>
                <a:off x="2797560" y="2279160"/>
                <a:ext cx="1742400" cy="728280"/>
                <a:chOff x="2797560" y="2279160"/>
                <a:chExt cx="1742400" cy="728280"/>
              </a:xfrm>
            </p:grpSpPr>
            <p:sp>
              <p:nvSpPr>
                <p:cNvPr id="530" name="Rectangle 15"/>
                <p:cNvSpPr/>
                <p:nvPr/>
              </p:nvSpPr>
              <p:spPr>
                <a:xfrm>
                  <a:off x="285300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Rectangle 16"/>
                <p:cNvSpPr/>
                <p:nvPr/>
              </p:nvSpPr>
              <p:spPr>
                <a:xfrm>
                  <a:off x="279756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17"/>
              <p:cNvGrpSpPr/>
              <p:nvPr/>
            </p:nvGrpSpPr>
            <p:grpSpPr>
              <a:xfrm>
                <a:off x="4545000" y="2279160"/>
                <a:ext cx="1615680" cy="728280"/>
                <a:chOff x="4545000" y="2279160"/>
                <a:chExt cx="1615680" cy="728280"/>
              </a:xfrm>
            </p:grpSpPr>
            <p:sp>
              <p:nvSpPr>
                <p:cNvPr id="533" name="Rectangle 18"/>
                <p:cNvSpPr/>
                <p:nvPr/>
              </p:nvSpPr>
              <p:spPr>
                <a:xfrm>
                  <a:off x="4600440" y="2279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Rectangle 19"/>
                <p:cNvSpPr/>
                <p:nvPr/>
              </p:nvSpPr>
              <p:spPr>
                <a:xfrm>
                  <a:off x="4545000" y="2279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5" name="Group 20"/>
              <p:cNvGrpSpPr/>
              <p:nvPr/>
            </p:nvGrpSpPr>
            <p:grpSpPr>
              <a:xfrm>
                <a:off x="6163920" y="2279160"/>
                <a:ext cx="1742400" cy="728280"/>
                <a:chOff x="6163920" y="2279160"/>
                <a:chExt cx="1742400" cy="728280"/>
              </a:xfrm>
            </p:grpSpPr>
            <p:sp>
              <p:nvSpPr>
                <p:cNvPr id="536" name="Rectangle 21"/>
                <p:cNvSpPr/>
                <p:nvPr/>
              </p:nvSpPr>
              <p:spPr>
                <a:xfrm>
                  <a:off x="621936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7" name="Rectangle 22"/>
                <p:cNvSpPr/>
                <p:nvPr/>
              </p:nvSpPr>
              <p:spPr>
                <a:xfrm>
                  <a:off x="616392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8" name="Group 23"/>
              <p:cNvGrpSpPr/>
              <p:nvPr/>
            </p:nvGrpSpPr>
            <p:grpSpPr>
              <a:xfrm>
                <a:off x="752040" y="3009240"/>
                <a:ext cx="2045520" cy="728280"/>
                <a:chOff x="752040" y="3009240"/>
                <a:chExt cx="2045520" cy="728280"/>
              </a:xfrm>
            </p:grpSpPr>
            <p:sp>
              <p:nvSpPr>
                <p:cNvPr id="539" name="Rectangle 24"/>
                <p:cNvSpPr/>
                <p:nvPr/>
              </p:nvSpPr>
              <p:spPr>
                <a:xfrm>
                  <a:off x="807480" y="300924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0" name="Rectangle 25"/>
                <p:cNvSpPr/>
                <p:nvPr/>
              </p:nvSpPr>
              <p:spPr>
                <a:xfrm>
                  <a:off x="752040" y="300924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1" name="Group 26"/>
              <p:cNvGrpSpPr/>
              <p:nvPr/>
            </p:nvGrpSpPr>
            <p:grpSpPr>
              <a:xfrm>
                <a:off x="2797560" y="3009240"/>
                <a:ext cx="1742400" cy="728280"/>
                <a:chOff x="2797560" y="3009240"/>
                <a:chExt cx="1742400" cy="728280"/>
              </a:xfrm>
            </p:grpSpPr>
            <p:sp>
              <p:nvSpPr>
                <p:cNvPr id="542" name="Rectangle 27"/>
                <p:cNvSpPr/>
                <p:nvPr/>
              </p:nvSpPr>
              <p:spPr>
                <a:xfrm>
                  <a:off x="285300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3" name="Rectangle 28"/>
                <p:cNvSpPr/>
                <p:nvPr/>
              </p:nvSpPr>
              <p:spPr>
                <a:xfrm>
                  <a:off x="279756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4" name="Group 29"/>
              <p:cNvGrpSpPr/>
              <p:nvPr/>
            </p:nvGrpSpPr>
            <p:grpSpPr>
              <a:xfrm>
                <a:off x="4545000" y="3009240"/>
                <a:ext cx="1615680" cy="728280"/>
                <a:chOff x="4545000" y="3009240"/>
                <a:chExt cx="1615680" cy="728280"/>
              </a:xfrm>
            </p:grpSpPr>
            <p:sp>
              <p:nvSpPr>
                <p:cNvPr id="545" name="Rectangle 30"/>
                <p:cNvSpPr/>
                <p:nvPr/>
              </p:nvSpPr>
              <p:spPr>
                <a:xfrm>
                  <a:off x="4600440" y="300924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6" name="Rectangle 31"/>
                <p:cNvSpPr/>
                <p:nvPr/>
              </p:nvSpPr>
              <p:spPr>
                <a:xfrm>
                  <a:off x="4545000" y="300924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7" name="Group 32"/>
              <p:cNvGrpSpPr/>
              <p:nvPr/>
            </p:nvGrpSpPr>
            <p:grpSpPr>
              <a:xfrm>
                <a:off x="6163920" y="3009240"/>
                <a:ext cx="1742400" cy="728280"/>
                <a:chOff x="6163920" y="3009240"/>
                <a:chExt cx="1742400" cy="728280"/>
              </a:xfrm>
            </p:grpSpPr>
            <p:sp>
              <p:nvSpPr>
                <p:cNvPr id="548" name="Rectangle 33"/>
                <p:cNvSpPr/>
                <p:nvPr/>
              </p:nvSpPr>
              <p:spPr>
                <a:xfrm>
                  <a:off x="621936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9" name="Rectangle 34"/>
                <p:cNvSpPr/>
                <p:nvPr/>
              </p:nvSpPr>
              <p:spPr>
                <a:xfrm>
                  <a:off x="616392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0" name="Group 35"/>
              <p:cNvGrpSpPr/>
              <p:nvPr/>
            </p:nvGrpSpPr>
            <p:grpSpPr>
              <a:xfrm>
                <a:off x="752040" y="3740400"/>
                <a:ext cx="2045520" cy="728280"/>
                <a:chOff x="752040" y="3740400"/>
                <a:chExt cx="2045520" cy="728280"/>
              </a:xfrm>
            </p:grpSpPr>
            <p:sp>
              <p:nvSpPr>
                <p:cNvPr id="551" name="Rectangle 36"/>
                <p:cNvSpPr/>
                <p:nvPr/>
              </p:nvSpPr>
              <p:spPr>
                <a:xfrm>
                  <a:off x="807480" y="374040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2" name="Rectangle 37"/>
                <p:cNvSpPr/>
                <p:nvPr/>
              </p:nvSpPr>
              <p:spPr>
                <a:xfrm>
                  <a:off x="752040" y="37404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3" name="Group 38"/>
              <p:cNvGrpSpPr/>
              <p:nvPr/>
            </p:nvGrpSpPr>
            <p:grpSpPr>
              <a:xfrm>
                <a:off x="2797560" y="3740400"/>
                <a:ext cx="1742400" cy="728280"/>
                <a:chOff x="2797560" y="3740400"/>
                <a:chExt cx="1742400" cy="728280"/>
              </a:xfrm>
            </p:grpSpPr>
            <p:sp>
              <p:nvSpPr>
                <p:cNvPr id="554" name="Rectangle 39"/>
                <p:cNvSpPr/>
                <p:nvPr/>
              </p:nvSpPr>
              <p:spPr>
                <a:xfrm>
                  <a:off x="285300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Rectangle 40"/>
                <p:cNvSpPr/>
                <p:nvPr/>
              </p:nvSpPr>
              <p:spPr>
                <a:xfrm>
                  <a:off x="279756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6" name="Group 41"/>
              <p:cNvGrpSpPr/>
              <p:nvPr/>
            </p:nvGrpSpPr>
            <p:grpSpPr>
              <a:xfrm>
                <a:off x="4545000" y="3740400"/>
                <a:ext cx="1615680" cy="728280"/>
                <a:chOff x="4545000" y="3740400"/>
                <a:chExt cx="1615680" cy="728280"/>
              </a:xfrm>
            </p:grpSpPr>
            <p:sp>
              <p:nvSpPr>
                <p:cNvPr id="557" name="Rectangle 42"/>
                <p:cNvSpPr/>
                <p:nvPr/>
              </p:nvSpPr>
              <p:spPr>
                <a:xfrm>
                  <a:off x="4600440" y="37404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8" name="Rectangle 43"/>
                <p:cNvSpPr/>
                <p:nvPr/>
              </p:nvSpPr>
              <p:spPr>
                <a:xfrm>
                  <a:off x="4545000" y="37404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9" name="Group 44"/>
              <p:cNvGrpSpPr/>
              <p:nvPr/>
            </p:nvGrpSpPr>
            <p:grpSpPr>
              <a:xfrm>
                <a:off x="6163920" y="3740400"/>
                <a:ext cx="1742400" cy="728280"/>
                <a:chOff x="6163920" y="3740400"/>
                <a:chExt cx="1742400" cy="728280"/>
              </a:xfrm>
            </p:grpSpPr>
            <p:sp>
              <p:nvSpPr>
                <p:cNvPr id="560" name="Rectangle 45"/>
                <p:cNvSpPr/>
                <p:nvPr/>
              </p:nvSpPr>
              <p:spPr>
                <a:xfrm>
                  <a:off x="621936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1" name="Rectangle 46"/>
                <p:cNvSpPr/>
                <p:nvPr/>
              </p:nvSpPr>
              <p:spPr>
                <a:xfrm>
                  <a:off x="616392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2" name="Group 47"/>
              <p:cNvGrpSpPr/>
              <p:nvPr/>
            </p:nvGrpSpPr>
            <p:grpSpPr>
              <a:xfrm>
                <a:off x="752040" y="4471920"/>
                <a:ext cx="2045520" cy="728280"/>
                <a:chOff x="752040" y="4471920"/>
                <a:chExt cx="2045520" cy="728280"/>
              </a:xfrm>
            </p:grpSpPr>
            <p:sp>
              <p:nvSpPr>
                <p:cNvPr id="563" name="Rectangle 48"/>
                <p:cNvSpPr/>
                <p:nvPr/>
              </p:nvSpPr>
              <p:spPr>
                <a:xfrm>
                  <a:off x="807480" y="447192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Rectangle 49"/>
                <p:cNvSpPr/>
                <p:nvPr/>
              </p:nvSpPr>
              <p:spPr>
                <a:xfrm>
                  <a:off x="752040" y="447192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5" name="Group 50"/>
              <p:cNvGrpSpPr/>
              <p:nvPr/>
            </p:nvGrpSpPr>
            <p:grpSpPr>
              <a:xfrm>
                <a:off x="2797560" y="4471920"/>
                <a:ext cx="1742400" cy="728280"/>
                <a:chOff x="2797560" y="4471920"/>
                <a:chExt cx="1742400" cy="728280"/>
              </a:xfrm>
            </p:grpSpPr>
            <p:sp>
              <p:nvSpPr>
                <p:cNvPr id="566" name="Rectangle 51"/>
                <p:cNvSpPr/>
                <p:nvPr/>
              </p:nvSpPr>
              <p:spPr>
                <a:xfrm>
                  <a:off x="285300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7" name="Rectangle 52"/>
                <p:cNvSpPr/>
                <p:nvPr/>
              </p:nvSpPr>
              <p:spPr>
                <a:xfrm>
                  <a:off x="279756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8" name="Group 53"/>
              <p:cNvGrpSpPr/>
              <p:nvPr/>
            </p:nvGrpSpPr>
            <p:grpSpPr>
              <a:xfrm>
                <a:off x="4545000" y="4471920"/>
                <a:ext cx="1615680" cy="728280"/>
                <a:chOff x="4545000" y="4471920"/>
                <a:chExt cx="1615680" cy="728280"/>
              </a:xfrm>
            </p:grpSpPr>
            <p:sp>
              <p:nvSpPr>
                <p:cNvPr id="569" name="Rectangle 54"/>
                <p:cNvSpPr/>
                <p:nvPr/>
              </p:nvSpPr>
              <p:spPr>
                <a:xfrm>
                  <a:off x="4600440" y="447192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0" name="Rectangle 55"/>
                <p:cNvSpPr/>
                <p:nvPr/>
              </p:nvSpPr>
              <p:spPr>
                <a:xfrm>
                  <a:off x="4545000" y="447192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1" name="Group 56"/>
              <p:cNvGrpSpPr/>
              <p:nvPr/>
            </p:nvGrpSpPr>
            <p:grpSpPr>
              <a:xfrm>
                <a:off x="6163920" y="4471920"/>
                <a:ext cx="1742400" cy="728280"/>
                <a:chOff x="6163920" y="4471920"/>
                <a:chExt cx="1742400" cy="728280"/>
              </a:xfrm>
            </p:grpSpPr>
            <p:sp>
              <p:nvSpPr>
                <p:cNvPr id="572" name="Rectangle 57"/>
                <p:cNvSpPr/>
                <p:nvPr/>
              </p:nvSpPr>
              <p:spPr>
                <a:xfrm>
                  <a:off x="621936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3" name="Rectangle 58"/>
                <p:cNvSpPr/>
                <p:nvPr/>
              </p:nvSpPr>
              <p:spPr>
                <a:xfrm>
                  <a:off x="616392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4" name="Group 59"/>
              <p:cNvGrpSpPr/>
              <p:nvPr/>
            </p:nvGrpSpPr>
            <p:grpSpPr>
              <a:xfrm>
                <a:off x="752040" y="5203080"/>
                <a:ext cx="2045520" cy="728640"/>
                <a:chOff x="752040" y="5203080"/>
                <a:chExt cx="2045520" cy="728640"/>
              </a:xfrm>
            </p:grpSpPr>
            <p:sp>
              <p:nvSpPr>
                <p:cNvPr id="575" name="Rectangle 60"/>
                <p:cNvSpPr/>
                <p:nvPr/>
              </p:nvSpPr>
              <p:spPr>
                <a:xfrm>
                  <a:off x="807480" y="5203080"/>
                  <a:ext cx="193392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6" name="Rectangle 61"/>
                <p:cNvSpPr/>
                <p:nvPr/>
              </p:nvSpPr>
              <p:spPr>
                <a:xfrm>
                  <a:off x="752040" y="5203080"/>
                  <a:ext cx="204552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7" name="Group 62"/>
              <p:cNvGrpSpPr/>
              <p:nvPr/>
            </p:nvGrpSpPr>
            <p:grpSpPr>
              <a:xfrm>
                <a:off x="2797560" y="5203080"/>
                <a:ext cx="1742400" cy="728640"/>
                <a:chOff x="2797560" y="5203080"/>
                <a:chExt cx="1742400" cy="728640"/>
              </a:xfrm>
            </p:grpSpPr>
            <p:sp>
              <p:nvSpPr>
                <p:cNvPr id="578" name="Rectangle 63"/>
                <p:cNvSpPr/>
                <p:nvPr/>
              </p:nvSpPr>
              <p:spPr>
                <a:xfrm>
                  <a:off x="285300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64"/>
                <p:cNvSpPr/>
                <p:nvPr/>
              </p:nvSpPr>
              <p:spPr>
                <a:xfrm>
                  <a:off x="279756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65"/>
              <p:cNvGrpSpPr/>
              <p:nvPr/>
            </p:nvGrpSpPr>
            <p:grpSpPr>
              <a:xfrm>
                <a:off x="4545000" y="5203080"/>
                <a:ext cx="1615680" cy="728640"/>
                <a:chOff x="4545000" y="5203080"/>
                <a:chExt cx="1615680" cy="728640"/>
              </a:xfrm>
            </p:grpSpPr>
            <p:sp>
              <p:nvSpPr>
                <p:cNvPr id="581" name="Rectangle 66"/>
                <p:cNvSpPr/>
                <p:nvPr/>
              </p:nvSpPr>
              <p:spPr>
                <a:xfrm>
                  <a:off x="4600440" y="5203080"/>
                  <a:ext cx="150444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2" name="Rectangle 67"/>
                <p:cNvSpPr/>
                <p:nvPr/>
              </p:nvSpPr>
              <p:spPr>
                <a:xfrm>
                  <a:off x="4545000" y="5203080"/>
                  <a:ext cx="161568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3" name="Group 68"/>
              <p:cNvGrpSpPr/>
              <p:nvPr/>
            </p:nvGrpSpPr>
            <p:grpSpPr>
              <a:xfrm>
                <a:off x="6163920" y="5203080"/>
                <a:ext cx="1742400" cy="728640"/>
                <a:chOff x="6163920" y="5203080"/>
                <a:chExt cx="1742400" cy="728640"/>
              </a:xfrm>
            </p:grpSpPr>
            <p:sp>
              <p:nvSpPr>
                <p:cNvPr id="584" name="Rectangle 69"/>
                <p:cNvSpPr/>
                <p:nvPr/>
              </p:nvSpPr>
              <p:spPr>
                <a:xfrm>
                  <a:off x="621936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70"/>
                <p:cNvSpPr/>
                <p:nvPr/>
              </p:nvSpPr>
              <p:spPr>
                <a:xfrm>
                  <a:off x="616392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86" name="Rectangle 71"/>
            <p:cNvSpPr/>
            <p:nvPr/>
          </p:nvSpPr>
          <p:spPr>
            <a:xfrm>
              <a:off x="746280" y="227484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7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Oval 73"/>
          <p:cNvSpPr/>
          <p:nvPr/>
        </p:nvSpPr>
        <p:spPr>
          <a:xfrm>
            <a:off x="444960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Oval 74"/>
          <p:cNvSpPr/>
          <p:nvPr/>
        </p:nvSpPr>
        <p:spPr>
          <a:xfrm>
            <a:off x="600552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Oval 75"/>
          <p:cNvSpPr/>
          <p:nvPr/>
        </p:nvSpPr>
        <p:spPr>
          <a:xfrm>
            <a:off x="282096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471E-B0F2-407A-85AC-40BFED77E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9" name="Group 9"/>
          <p:cNvGrpSpPr/>
          <p:nvPr/>
        </p:nvGrpSpPr>
        <p:grpSpPr>
          <a:xfrm>
            <a:off x="746280" y="2274840"/>
            <a:ext cx="7170480" cy="3665520"/>
            <a:chOff x="746280" y="2274840"/>
            <a:chExt cx="7170480" cy="3665520"/>
          </a:xfrm>
        </p:grpSpPr>
        <p:grpSp>
          <p:nvGrpSpPr>
            <p:cNvPr id="600" name="Group 10"/>
            <p:cNvGrpSpPr/>
            <p:nvPr/>
          </p:nvGrpSpPr>
          <p:grpSpPr>
            <a:xfrm>
              <a:off x="752040" y="2279160"/>
              <a:ext cx="7154280" cy="3652560"/>
              <a:chOff x="752040" y="2279160"/>
              <a:chExt cx="7154280" cy="3652560"/>
            </a:xfrm>
          </p:grpSpPr>
          <p:grpSp>
            <p:nvGrpSpPr>
              <p:cNvPr id="601" name="Group 11"/>
              <p:cNvGrpSpPr/>
              <p:nvPr/>
            </p:nvGrpSpPr>
            <p:grpSpPr>
              <a:xfrm>
                <a:off x="752040" y="2279160"/>
                <a:ext cx="2045520" cy="728280"/>
                <a:chOff x="752040" y="2279160"/>
                <a:chExt cx="2045520" cy="728280"/>
              </a:xfrm>
            </p:grpSpPr>
            <p:sp>
              <p:nvSpPr>
                <p:cNvPr id="602" name="Rectangle 12"/>
                <p:cNvSpPr/>
                <p:nvPr/>
              </p:nvSpPr>
              <p:spPr>
                <a:xfrm>
                  <a:off x="807480" y="227916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13"/>
                <p:cNvSpPr/>
                <p:nvPr/>
              </p:nvSpPr>
              <p:spPr>
                <a:xfrm>
                  <a:off x="752040" y="2279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14"/>
              <p:cNvGrpSpPr/>
              <p:nvPr/>
            </p:nvGrpSpPr>
            <p:grpSpPr>
              <a:xfrm>
                <a:off x="2797560" y="2279160"/>
                <a:ext cx="1742400" cy="728280"/>
                <a:chOff x="2797560" y="2279160"/>
                <a:chExt cx="1742400" cy="728280"/>
              </a:xfrm>
            </p:grpSpPr>
            <p:sp>
              <p:nvSpPr>
                <p:cNvPr id="605" name="Rectangle 15"/>
                <p:cNvSpPr/>
                <p:nvPr/>
              </p:nvSpPr>
              <p:spPr>
                <a:xfrm>
                  <a:off x="285300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Rectangle 16"/>
                <p:cNvSpPr/>
                <p:nvPr/>
              </p:nvSpPr>
              <p:spPr>
                <a:xfrm>
                  <a:off x="279756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7" name="Group 17"/>
              <p:cNvGrpSpPr/>
              <p:nvPr/>
            </p:nvGrpSpPr>
            <p:grpSpPr>
              <a:xfrm>
                <a:off x="4545000" y="2279160"/>
                <a:ext cx="1615680" cy="728280"/>
                <a:chOff x="4545000" y="2279160"/>
                <a:chExt cx="1615680" cy="728280"/>
              </a:xfrm>
            </p:grpSpPr>
            <p:sp>
              <p:nvSpPr>
                <p:cNvPr id="608" name="Rectangle 18"/>
                <p:cNvSpPr/>
                <p:nvPr/>
              </p:nvSpPr>
              <p:spPr>
                <a:xfrm>
                  <a:off x="4600440" y="2279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Rectangle 19"/>
                <p:cNvSpPr/>
                <p:nvPr/>
              </p:nvSpPr>
              <p:spPr>
                <a:xfrm>
                  <a:off x="4545000" y="2279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0" name="Group 20"/>
              <p:cNvGrpSpPr/>
              <p:nvPr/>
            </p:nvGrpSpPr>
            <p:grpSpPr>
              <a:xfrm>
                <a:off x="6163920" y="2279160"/>
                <a:ext cx="1742400" cy="728280"/>
                <a:chOff x="6163920" y="2279160"/>
                <a:chExt cx="1742400" cy="728280"/>
              </a:xfrm>
            </p:grpSpPr>
            <p:sp>
              <p:nvSpPr>
                <p:cNvPr id="611" name="Rectangle 21"/>
                <p:cNvSpPr/>
                <p:nvPr/>
              </p:nvSpPr>
              <p:spPr>
                <a:xfrm>
                  <a:off x="6219360" y="2279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Rectangle 22"/>
                <p:cNvSpPr/>
                <p:nvPr/>
              </p:nvSpPr>
              <p:spPr>
                <a:xfrm>
                  <a:off x="6163920" y="2279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3" name="Group 23"/>
              <p:cNvGrpSpPr/>
              <p:nvPr/>
            </p:nvGrpSpPr>
            <p:grpSpPr>
              <a:xfrm>
                <a:off x="752040" y="3009240"/>
                <a:ext cx="2045520" cy="728280"/>
                <a:chOff x="752040" y="3009240"/>
                <a:chExt cx="2045520" cy="728280"/>
              </a:xfrm>
            </p:grpSpPr>
            <p:sp>
              <p:nvSpPr>
                <p:cNvPr id="614" name="Rectangle 24"/>
                <p:cNvSpPr/>
                <p:nvPr/>
              </p:nvSpPr>
              <p:spPr>
                <a:xfrm>
                  <a:off x="807480" y="300924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Rectangle 25"/>
                <p:cNvSpPr/>
                <p:nvPr/>
              </p:nvSpPr>
              <p:spPr>
                <a:xfrm>
                  <a:off x="752040" y="300924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6" name="Group 26"/>
              <p:cNvGrpSpPr/>
              <p:nvPr/>
            </p:nvGrpSpPr>
            <p:grpSpPr>
              <a:xfrm>
                <a:off x="2797560" y="3009240"/>
                <a:ext cx="1742400" cy="728280"/>
                <a:chOff x="2797560" y="3009240"/>
                <a:chExt cx="1742400" cy="728280"/>
              </a:xfrm>
            </p:grpSpPr>
            <p:sp>
              <p:nvSpPr>
                <p:cNvPr id="617" name="Rectangle 27"/>
                <p:cNvSpPr/>
                <p:nvPr/>
              </p:nvSpPr>
              <p:spPr>
                <a:xfrm>
                  <a:off x="285300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Rectangle 28"/>
                <p:cNvSpPr/>
                <p:nvPr/>
              </p:nvSpPr>
              <p:spPr>
                <a:xfrm>
                  <a:off x="279756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9" name="Group 29"/>
              <p:cNvGrpSpPr/>
              <p:nvPr/>
            </p:nvGrpSpPr>
            <p:grpSpPr>
              <a:xfrm>
                <a:off x="4545000" y="3009240"/>
                <a:ext cx="1615680" cy="728280"/>
                <a:chOff x="4545000" y="3009240"/>
                <a:chExt cx="1615680" cy="728280"/>
              </a:xfrm>
            </p:grpSpPr>
            <p:sp>
              <p:nvSpPr>
                <p:cNvPr id="620" name="Rectangle 30"/>
                <p:cNvSpPr/>
                <p:nvPr/>
              </p:nvSpPr>
              <p:spPr>
                <a:xfrm>
                  <a:off x="4600440" y="300924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Rectangle 31"/>
                <p:cNvSpPr/>
                <p:nvPr/>
              </p:nvSpPr>
              <p:spPr>
                <a:xfrm>
                  <a:off x="4545000" y="300924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2" name="Group 32"/>
              <p:cNvGrpSpPr/>
              <p:nvPr/>
            </p:nvGrpSpPr>
            <p:grpSpPr>
              <a:xfrm>
                <a:off x="6163920" y="3009240"/>
                <a:ext cx="1742400" cy="728280"/>
                <a:chOff x="6163920" y="3009240"/>
                <a:chExt cx="1742400" cy="728280"/>
              </a:xfrm>
            </p:grpSpPr>
            <p:sp>
              <p:nvSpPr>
                <p:cNvPr id="623" name="Rectangle 33"/>
                <p:cNvSpPr/>
                <p:nvPr/>
              </p:nvSpPr>
              <p:spPr>
                <a:xfrm>
                  <a:off x="6219360" y="300924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Rectangle 34"/>
                <p:cNvSpPr/>
                <p:nvPr/>
              </p:nvSpPr>
              <p:spPr>
                <a:xfrm>
                  <a:off x="6163920" y="300924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5" name="Group 35"/>
              <p:cNvGrpSpPr/>
              <p:nvPr/>
            </p:nvGrpSpPr>
            <p:grpSpPr>
              <a:xfrm>
                <a:off x="752040" y="3740400"/>
                <a:ext cx="2045520" cy="728280"/>
                <a:chOff x="752040" y="3740400"/>
                <a:chExt cx="2045520" cy="728280"/>
              </a:xfrm>
            </p:grpSpPr>
            <p:sp>
              <p:nvSpPr>
                <p:cNvPr id="626" name="Rectangle 36"/>
                <p:cNvSpPr/>
                <p:nvPr/>
              </p:nvSpPr>
              <p:spPr>
                <a:xfrm>
                  <a:off x="807480" y="374040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Rectangle 37"/>
                <p:cNvSpPr/>
                <p:nvPr/>
              </p:nvSpPr>
              <p:spPr>
                <a:xfrm>
                  <a:off x="752040" y="37404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8" name="Group 38"/>
              <p:cNvGrpSpPr/>
              <p:nvPr/>
            </p:nvGrpSpPr>
            <p:grpSpPr>
              <a:xfrm>
                <a:off x="2797560" y="3740400"/>
                <a:ext cx="1742400" cy="728280"/>
                <a:chOff x="2797560" y="3740400"/>
                <a:chExt cx="1742400" cy="728280"/>
              </a:xfrm>
            </p:grpSpPr>
            <p:sp>
              <p:nvSpPr>
                <p:cNvPr id="629" name="Rectangle 39"/>
                <p:cNvSpPr/>
                <p:nvPr/>
              </p:nvSpPr>
              <p:spPr>
                <a:xfrm>
                  <a:off x="285300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Rectangle 40"/>
                <p:cNvSpPr/>
                <p:nvPr/>
              </p:nvSpPr>
              <p:spPr>
                <a:xfrm>
                  <a:off x="279756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1" name="Group 41"/>
              <p:cNvGrpSpPr/>
              <p:nvPr/>
            </p:nvGrpSpPr>
            <p:grpSpPr>
              <a:xfrm>
                <a:off x="4545000" y="3740400"/>
                <a:ext cx="1615680" cy="728280"/>
                <a:chOff x="4545000" y="3740400"/>
                <a:chExt cx="1615680" cy="728280"/>
              </a:xfrm>
            </p:grpSpPr>
            <p:sp>
              <p:nvSpPr>
                <p:cNvPr id="632" name="Rectangle 42"/>
                <p:cNvSpPr/>
                <p:nvPr/>
              </p:nvSpPr>
              <p:spPr>
                <a:xfrm>
                  <a:off x="4600440" y="37404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Rectangle 43"/>
                <p:cNvSpPr/>
                <p:nvPr/>
              </p:nvSpPr>
              <p:spPr>
                <a:xfrm>
                  <a:off x="4545000" y="37404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4" name="Group 44"/>
              <p:cNvGrpSpPr/>
              <p:nvPr/>
            </p:nvGrpSpPr>
            <p:grpSpPr>
              <a:xfrm>
                <a:off x="6163920" y="3740400"/>
                <a:ext cx="1742400" cy="728280"/>
                <a:chOff x="6163920" y="3740400"/>
                <a:chExt cx="1742400" cy="728280"/>
              </a:xfrm>
            </p:grpSpPr>
            <p:sp>
              <p:nvSpPr>
                <p:cNvPr id="635" name="Rectangle 45"/>
                <p:cNvSpPr/>
                <p:nvPr/>
              </p:nvSpPr>
              <p:spPr>
                <a:xfrm>
                  <a:off x="6219360" y="37404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Rectangle 46"/>
                <p:cNvSpPr/>
                <p:nvPr/>
              </p:nvSpPr>
              <p:spPr>
                <a:xfrm>
                  <a:off x="6163920" y="37404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47"/>
              <p:cNvGrpSpPr/>
              <p:nvPr/>
            </p:nvGrpSpPr>
            <p:grpSpPr>
              <a:xfrm>
                <a:off x="752040" y="4471920"/>
                <a:ext cx="2045520" cy="728280"/>
                <a:chOff x="752040" y="4471920"/>
                <a:chExt cx="2045520" cy="728280"/>
              </a:xfrm>
            </p:grpSpPr>
            <p:sp>
              <p:nvSpPr>
                <p:cNvPr id="638" name="Rectangle 48"/>
                <p:cNvSpPr/>
                <p:nvPr/>
              </p:nvSpPr>
              <p:spPr>
                <a:xfrm>
                  <a:off x="807480" y="4471920"/>
                  <a:ext cx="193392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Rectangle 49"/>
                <p:cNvSpPr/>
                <p:nvPr/>
              </p:nvSpPr>
              <p:spPr>
                <a:xfrm>
                  <a:off x="752040" y="447192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0" name="Group 50"/>
              <p:cNvGrpSpPr/>
              <p:nvPr/>
            </p:nvGrpSpPr>
            <p:grpSpPr>
              <a:xfrm>
                <a:off x="2797560" y="4471920"/>
                <a:ext cx="1742400" cy="728280"/>
                <a:chOff x="2797560" y="4471920"/>
                <a:chExt cx="1742400" cy="728280"/>
              </a:xfrm>
            </p:grpSpPr>
            <p:sp>
              <p:nvSpPr>
                <p:cNvPr id="641" name="Rectangle 51"/>
                <p:cNvSpPr/>
                <p:nvPr/>
              </p:nvSpPr>
              <p:spPr>
                <a:xfrm>
                  <a:off x="285300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Rectangle 52"/>
                <p:cNvSpPr/>
                <p:nvPr/>
              </p:nvSpPr>
              <p:spPr>
                <a:xfrm>
                  <a:off x="279756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3" name="Group 53"/>
              <p:cNvGrpSpPr/>
              <p:nvPr/>
            </p:nvGrpSpPr>
            <p:grpSpPr>
              <a:xfrm>
                <a:off x="4545000" y="4471920"/>
                <a:ext cx="1615680" cy="728280"/>
                <a:chOff x="4545000" y="4471920"/>
                <a:chExt cx="1615680" cy="728280"/>
              </a:xfrm>
            </p:grpSpPr>
            <p:sp>
              <p:nvSpPr>
                <p:cNvPr id="644" name="Rectangle 54"/>
                <p:cNvSpPr/>
                <p:nvPr/>
              </p:nvSpPr>
              <p:spPr>
                <a:xfrm>
                  <a:off x="4600440" y="447192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Rectangle 55"/>
                <p:cNvSpPr/>
                <p:nvPr/>
              </p:nvSpPr>
              <p:spPr>
                <a:xfrm>
                  <a:off x="4545000" y="447192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6" name="Group 56"/>
              <p:cNvGrpSpPr/>
              <p:nvPr/>
            </p:nvGrpSpPr>
            <p:grpSpPr>
              <a:xfrm>
                <a:off x="6163920" y="4471920"/>
                <a:ext cx="1742400" cy="728280"/>
                <a:chOff x="6163920" y="4471920"/>
                <a:chExt cx="1742400" cy="728280"/>
              </a:xfrm>
            </p:grpSpPr>
            <p:sp>
              <p:nvSpPr>
                <p:cNvPr id="647" name="Rectangle 57"/>
                <p:cNvSpPr/>
                <p:nvPr/>
              </p:nvSpPr>
              <p:spPr>
                <a:xfrm>
                  <a:off x="6219360" y="447192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Rectangle 58"/>
                <p:cNvSpPr/>
                <p:nvPr/>
              </p:nvSpPr>
              <p:spPr>
                <a:xfrm>
                  <a:off x="6163920" y="447192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9" name="Group 59"/>
              <p:cNvGrpSpPr/>
              <p:nvPr/>
            </p:nvGrpSpPr>
            <p:grpSpPr>
              <a:xfrm>
                <a:off x="752040" y="5203080"/>
                <a:ext cx="2045520" cy="728640"/>
                <a:chOff x="752040" y="5203080"/>
                <a:chExt cx="2045520" cy="728640"/>
              </a:xfrm>
            </p:grpSpPr>
            <p:sp>
              <p:nvSpPr>
                <p:cNvPr id="650" name="Rectangle 60"/>
                <p:cNvSpPr/>
                <p:nvPr/>
              </p:nvSpPr>
              <p:spPr>
                <a:xfrm>
                  <a:off x="807480" y="5203080"/>
                  <a:ext cx="193392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1" name="Rectangle 61"/>
                <p:cNvSpPr/>
                <p:nvPr/>
              </p:nvSpPr>
              <p:spPr>
                <a:xfrm>
                  <a:off x="752040" y="5203080"/>
                  <a:ext cx="204552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2" name="Group 62"/>
              <p:cNvGrpSpPr/>
              <p:nvPr/>
            </p:nvGrpSpPr>
            <p:grpSpPr>
              <a:xfrm>
                <a:off x="2797560" y="5203080"/>
                <a:ext cx="1742400" cy="728640"/>
                <a:chOff x="2797560" y="5203080"/>
                <a:chExt cx="1742400" cy="728640"/>
              </a:xfrm>
            </p:grpSpPr>
            <p:sp>
              <p:nvSpPr>
                <p:cNvPr id="653" name="Rectangle 63"/>
                <p:cNvSpPr/>
                <p:nvPr/>
              </p:nvSpPr>
              <p:spPr>
                <a:xfrm>
                  <a:off x="285300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4" name="Rectangle 64"/>
                <p:cNvSpPr/>
                <p:nvPr/>
              </p:nvSpPr>
              <p:spPr>
                <a:xfrm>
                  <a:off x="279756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5" name="Group 65"/>
              <p:cNvGrpSpPr/>
              <p:nvPr/>
            </p:nvGrpSpPr>
            <p:grpSpPr>
              <a:xfrm>
                <a:off x="4545000" y="5203080"/>
                <a:ext cx="1615680" cy="728640"/>
                <a:chOff x="4545000" y="5203080"/>
                <a:chExt cx="1615680" cy="728640"/>
              </a:xfrm>
            </p:grpSpPr>
            <p:sp>
              <p:nvSpPr>
                <p:cNvPr id="656" name="Rectangle 66"/>
                <p:cNvSpPr/>
                <p:nvPr/>
              </p:nvSpPr>
              <p:spPr>
                <a:xfrm>
                  <a:off x="4600440" y="5203080"/>
                  <a:ext cx="150444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Rectangle 67"/>
                <p:cNvSpPr/>
                <p:nvPr/>
              </p:nvSpPr>
              <p:spPr>
                <a:xfrm>
                  <a:off x="4545000" y="5203080"/>
                  <a:ext cx="161568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8" name="Group 68"/>
              <p:cNvGrpSpPr/>
              <p:nvPr/>
            </p:nvGrpSpPr>
            <p:grpSpPr>
              <a:xfrm>
                <a:off x="6163920" y="5203080"/>
                <a:ext cx="1742400" cy="728640"/>
                <a:chOff x="6163920" y="5203080"/>
                <a:chExt cx="1742400" cy="728640"/>
              </a:xfrm>
            </p:grpSpPr>
            <p:sp>
              <p:nvSpPr>
                <p:cNvPr id="659" name="Rectangle 69"/>
                <p:cNvSpPr/>
                <p:nvPr/>
              </p:nvSpPr>
              <p:spPr>
                <a:xfrm>
                  <a:off x="6219360" y="5203080"/>
                  <a:ext cx="1630800" cy="7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0" name="Rectangle 70"/>
                <p:cNvSpPr/>
                <p:nvPr/>
              </p:nvSpPr>
              <p:spPr>
                <a:xfrm>
                  <a:off x="6163920" y="5203080"/>
                  <a:ext cx="1742400" cy="7286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61" name="Rectangle 71"/>
            <p:cNvSpPr/>
            <p:nvPr/>
          </p:nvSpPr>
          <p:spPr>
            <a:xfrm>
              <a:off x="746280" y="227484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2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444960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Oval 74"/>
          <p:cNvSpPr/>
          <p:nvPr/>
        </p:nvSpPr>
        <p:spPr>
          <a:xfrm>
            <a:off x="600552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282096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4257000" y="2235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77"/>
          <p:cNvSpPr/>
          <p:nvPr/>
        </p:nvSpPr>
        <p:spPr>
          <a:xfrm>
            <a:off x="5920560" y="2235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0A62-A14E-4C92-98F2-7812F3017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150920" y="2286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overall (token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76" name="Group 9"/>
          <p:cNvGrpSpPr/>
          <p:nvPr/>
        </p:nvGrpSpPr>
        <p:grpSpPr>
          <a:xfrm>
            <a:off x="746280" y="2271600"/>
            <a:ext cx="7170480" cy="3665520"/>
            <a:chOff x="746280" y="2271600"/>
            <a:chExt cx="7170480" cy="3665520"/>
          </a:xfrm>
        </p:grpSpPr>
        <p:grpSp>
          <p:nvGrpSpPr>
            <p:cNvPr id="677" name="Group 10"/>
            <p:cNvGrpSpPr/>
            <p:nvPr/>
          </p:nvGrpSpPr>
          <p:grpSpPr>
            <a:xfrm>
              <a:off x="752040" y="2276280"/>
              <a:ext cx="7154280" cy="3652200"/>
              <a:chOff x="752040" y="2276280"/>
              <a:chExt cx="7154280" cy="3652200"/>
            </a:xfrm>
          </p:grpSpPr>
          <p:grpSp>
            <p:nvGrpSpPr>
              <p:cNvPr id="678" name="Group 11"/>
              <p:cNvGrpSpPr/>
              <p:nvPr/>
            </p:nvGrpSpPr>
            <p:grpSpPr>
              <a:xfrm>
                <a:off x="752040" y="2276280"/>
                <a:ext cx="2045520" cy="728280"/>
                <a:chOff x="752040" y="2276280"/>
                <a:chExt cx="2045520" cy="728280"/>
              </a:xfrm>
            </p:grpSpPr>
            <p:sp>
              <p:nvSpPr>
                <p:cNvPr id="679" name="Rectangle 12"/>
                <p:cNvSpPr/>
                <p:nvPr/>
              </p:nvSpPr>
              <p:spPr>
                <a:xfrm>
                  <a:off x="807480" y="2276280"/>
                  <a:ext cx="19310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0" name="Rectangle 13"/>
                <p:cNvSpPr/>
                <p:nvPr/>
              </p:nvSpPr>
              <p:spPr>
                <a:xfrm>
                  <a:off x="752040" y="227628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1" name="Group 14"/>
              <p:cNvGrpSpPr/>
              <p:nvPr/>
            </p:nvGrpSpPr>
            <p:grpSpPr>
              <a:xfrm>
                <a:off x="2797560" y="2276280"/>
                <a:ext cx="1742400" cy="728280"/>
                <a:chOff x="2797560" y="2276280"/>
                <a:chExt cx="1742400" cy="728280"/>
              </a:xfrm>
            </p:grpSpPr>
            <p:sp>
              <p:nvSpPr>
                <p:cNvPr id="682" name="Rectangle 15"/>
                <p:cNvSpPr/>
                <p:nvPr/>
              </p:nvSpPr>
              <p:spPr>
                <a:xfrm>
                  <a:off x="2854440" y="227628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3" name="Rectangle 16"/>
                <p:cNvSpPr/>
                <p:nvPr/>
              </p:nvSpPr>
              <p:spPr>
                <a:xfrm>
                  <a:off x="2797560" y="227628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4" name="Group 17"/>
              <p:cNvGrpSpPr/>
              <p:nvPr/>
            </p:nvGrpSpPr>
            <p:grpSpPr>
              <a:xfrm>
                <a:off x="4545000" y="2276280"/>
                <a:ext cx="1615680" cy="728280"/>
                <a:chOff x="4545000" y="2276280"/>
                <a:chExt cx="1615680" cy="728280"/>
              </a:xfrm>
            </p:grpSpPr>
            <p:sp>
              <p:nvSpPr>
                <p:cNvPr id="685" name="Rectangle 18"/>
                <p:cNvSpPr/>
                <p:nvPr/>
              </p:nvSpPr>
              <p:spPr>
                <a:xfrm>
                  <a:off x="4600440" y="227628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6" name="Rectangle 19"/>
                <p:cNvSpPr/>
                <p:nvPr/>
              </p:nvSpPr>
              <p:spPr>
                <a:xfrm>
                  <a:off x="4545000" y="227628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7" name="Group 20"/>
              <p:cNvGrpSpPr/>
              <p:nvPr/>
            </p:nvGrpSpPr>
            <p:grpSpPr>
              <a:xfrm>
                <a:off x="6163920" y="2276280"/>
                <a:ext cx="1742400" cy="728280"/>
                <a:chOff x="6163920" y="2276280"/>
                <a:chExt cx="1742400" cy="728280"/>
              </a:xfrm>
            </p:grpSpPr>
            <p:sp>
              <p:nvSpPr>
                <p:cNvPr id="688" name="Rectangle 21"/>
                <p:cNvSpPr/>
                <p:nvPr/>
              </p:nvSpPr>
              <p:spPr>
                <a:xfrm>
                  <a:off x="6219360" y="227628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9" name="Rectangle 22"/>
                <p:cNvSpPr/>
                <p:nvPr/>
              </p:nvSpPr>
              <p:spPr>
                <a:xfrm>
                  <a:off x="6163920" y="227628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0" name="Group 23"/>
              <p:cNvGrpSpPr/>
              <p:nvPr/>
            </p:nvGrpSpPr>
            <p:grpSpPr>
              <a:xfrm>
                <a:off x="752040" y="3006000"/>
                <a:ext cx="2045520" cy="728280"/>
                <a:chOff x="752040" y="3006000"/>
                <a:chExt cx="2045520" cy="728280"/>
              </a:xfrm>
            </p:grpSpPr>
            <p:sp>
              <p:nvSpPr>
                <p:cNvPr id="691" name="Rectangle 24"/>
                <p:cNvSpPr/>
                <p:nvPr/>
              </p:nvSpPr>
              <p:spPr>
                <a:xfrm>
                  <a:off x="807480" y="3006000"/>
                  <a:ext cx="19310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2" name="Rectangle 25"/>
                <p:cNvSpPr/>
                <p:nvPr/>
              </p:nvSpPr>
              <p:spPr>
                <a:xfrm>
                  <a:off x="752040" y="30060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3" name="Group 26"/>
              <p:cNvGrpSpPr/>
              <p:nvPr/>
            </p:nvGrpSpPr>
            <p:grpSpPr>
              <a:xfrm>
                <a:off x="2797560" y="3006000"/>
                <a:ext cx="1742400" cy="728280"/>
                <a:chOff x="2797560" y="3006000"/>
                <a:chExt cx="1742400" cy="728280"/>
              </a:xfrm>
            </p:grpSpPr>
            <p:sp>
              <p:nvSpPr>
                <p:cNvPr id="694" name="Rectangle 27"/>
                <p:cNvSpPr/>
                <p:nvPr/>
              </p:nvSpPr>
              <p:spPr>
                <a:xfrm>
                  <a:off x="2854440" y="300600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Rectangle 28"/>
                <p:cNvSpPr/>
                <p:nvPr/>
              </p:nvSpPr>
              <p:spPr>
                <a:xfrm>
                  <a:off x="2797560" y="30060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6" name="Group 29"/>
              <p:cNvGrpSpPr/>
              <p:nvPr/>
            </p:nvGrpSpPr>
            <p:grpSpPr>
              <a:xfrm>
                <a:off x="4545000" y="3006000"/>
                <a:ext cx="1615680" cy="728280"/>
                <a:chOff x="4545000" y="3006000"/>
                <a:chExt cx="1615680" cy="728280"/>
              </a:xfrm>
            </p:grpSpPr>
            <p:sp>
              <p:nvSpPr>
                <p:cNvPr id="697" name="Rectangle 30"/>
                <p:cNvSpPr/>
                <p:nvPr/>
              </p:nvSpPr>
              <p:spPr>
                <a:xfrm>
                  <a:off x="4600440" y="30060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8" name="Rectangle 31"/>
                <p:cNvSpPr/>
                <p:nvPr/>
              </p:nvSpPr>
              <p:spPr>
                <a:xfrm>
                  <a:off x="4545000" y="30060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9" name="Group 32"/>
              <p:cNvGrpSpPr/>
              <p:nvPr/>
            </p:nvGrpSpPr>
            <p:grpSpPr>
              <a:xfrm>
                <a:off x="6163920" y="3006000"/>
                <a:ext cx="1742400" cy="728280"/>
                <a:chOff x="6163920" y="3006000"/>
                <a:chExt cx="1742400" cy="728280"/>
              </a:xfrm>
            </p:grpSpPr>
            <p:sp>
              <p:nvSpPr>
                <p:cNvPr id="700" name="Rectangle 33"/>
                <p:cNvSpPr/>
                <p:nvPr/>
              </p:nvSpPr>
              <p:spPr>
                <a:xfrm>
                  <a:off x="6219360" y="30060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1" name="Rectangle 34"/>
                <p:cNvSpPr/>
                <p:nvPr/>
              </p:nvSpPr>
              <p:spPr>
                <a:xfrm>
                  <a:off x="6163920" y="30060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2" name="Group 35"/>
              <p:cNvGrpSpPr/>
              <p:nvPr/>
            </p:nvGrpSpPr>
            <p:grpSpPr>
              <a:xfrm>
                <a:off x="752040" y="3737160"/>
                <a:ext cx="2045520" cy="728280"/>
                <a:chOff x="752040" y="3737160"/>
                <a:chExt cx="2045520" cy="728280"/>
              </a:xfrm>
            </p:grpSpPr>
            <p:sp>
              <p:nvSpPr>
                <p:cNvPr id="703" name="Rectangle 36"/>
                <p:cNvSpPr/>
                <p:nvPr/>
              </p:nvSpPr>
              <p:spPr>
                <a:xfrm>
                  <a:off x="807480" y="3737160"/>
                  <a:ext cx="19310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4" name="Rectangle 37"/>
                <p:cNvSpPr/>
                <p:nvPr/>
              </p:nvSpPr>
              <p:spPr>
                <a:xfrm>
                  <a:off x="752040" y="373716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5" name="Group 38"/>
              <p:cNvGrpSpPr/>
              <p:nvPr/>
            </p:nvGrpSpPr>
            <p:grpSpPr>
              <a:xfrm>
                <a:off x="2797560" y="3737160"/>
                <a:ext cx="1742400" cy="728280"/>
                <a:chOff x="2797560" y="3737160"/>
                <a:chExt cx="1742400" cy="728280"/>
              </a:xfrm>
            </p:grpSpPr>
            <p:sp>
              <p:nvSpPr>
                <p:cNvPr id="706" name="Rectangle 39"/>
                <p:cNvSpPr/>
                <p:nvPr/>
              </p:nvSpPr>
              <p:spPr>
                <a:xfrm>
                  <a:off x="2854440" y="373716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7" name="Rectangle 40"/>
                <p:cNvSpPr/>
                <p:nvPr/>
              </p:nvSpPr>
              <p:spPr>
                <a:xfrm>
                  <a:off x="2797560" y="3737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8" name="Group 41"/>
              <p:cNvGrpSpPr/>
              <p:nvPr/>
            </p:nvGrpSpPr>
            <p:grpSpPr>
              <a:xfrm>
                <a:off x="4545000" y="3737160"/>
                <a:ext cx="1615680" cy="728280"/>
                <a:chOff x="4545000" y="3737160"/>
                <a:chExt cx="1615680" cy="728280"/>
              </a:xfrm>
            </p:grpSpPr>
            <p:sp>
              <p:nvSpPr>
                <p:cNvPr id="709" name="Rectangle 42"/>
                <p:cNvSpPr/>
                <p:nvPr/>
              </p:nvSpPr>
              <p:spPr>
                <a:xfrm>
                  <a:off x="4600440" y="373716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0" name="Rectangle 43"/>
                <p:cNvSpPr/>
                <p:nvPr/>
              </p:nvSpPr>
              <p:spPr>
                <a:xfrm>
                  <a:off x="4545000" y="373716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1" name="Group 44"/>
              <p:cNvGrpSpPr/>
              <p:nvPr/>
            </p:nvGrpSpPr>
            <p:grpSpPr>
              <a:xfrm>
                <a:off x="6163920" y="3737160"/>
                <a:ext cx="1742400" cy="728280"/>
                <a:chOff x="6163920" y="3737160"/>
                <a:chExt cx="1742400" cy="728280"/>
              </a:xfrm>
            </p:grpSpPr>
            <p:sp>
              <p:nvSpPr>
                <p:cNvPr id="712" name="Rectangle 45"/>
                <p:cNvSpPr/>
                <p:nvPr/>
              </p:nvSpPr>
              <p:spPr>
                <a:xfrm>
                  <a:off x="6219360" y="373716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3" name="Rectangle 46"/>
                <p:cNvSpPr/>
                <p:nvPr/>
              </p:nvSpPr>
              <p:spPr>
                <a:xfrm>
                  <a:off x="6163920" y="373716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4" name="Group 47"/>
              <p:cNvGrpSpPr/>
              <p:nvPr/>
            </p:nvGrpSpPr>
            <p:grpSpPr>
              <a:xfrm>
                <a:off x="752040" y="4468680"/>
                <a:ext cx="2045520" cy="728280"/>
                <a:chOff x="752040" y="4468680"/>
                <a:chExt cx="2045520" cy="728280"/>
              </a:xfrm>
            </p:grpSpPr>
            <p:sp>
              <p:nvSpPr>
                <p:cNvPr id="715" name="Rectangle 48"/>
                <p:cNvSpPr/>
                <p:nvPr/>
              </p:nvSpPr>
              <p:spPr>
                <a:xfrm>
                  <a:off x="807480" y="4468680"/>
                  <a:ext cx="19310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6" name="Rectangle 49"/>
                <p:cNvSpPr/>
                <p:nvPr/>
              </p:nvSpPr>
              <p:spPr>
                <a:xfrm>
                  <a:off x="752040" y="446868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7" name="Group 50"/>
              <p:cNvGrpSpPr/>
              <p:nvPr/>
            </p:nvGrpSpPr>
            <p:grpSpPr>
              <a:xfrm>
                <a:off x="2797560" y="4468680"/>
                <a:ext cx="1742400" cy="728280"/>
                <a:chOff x="2797560" y="4468680"/>
                <a:chExt cx="1742400" cy="728280"/>
              </a:xfrm>
            </p:grpSpPr>
            <p:sp>
              <p:nvSpPr>
                <p:cNvPr id="718" name="Rectangle 51"/>
                <p:cNvSpPr/>
                <p:nvPr/>
              </p:nvSpPr>
              <p:spPr>
                <a:xfrm>
                  <a:off x="2854440" y="446868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9" name="Rectangle 52"/>
                <p:cNvSpPr/>
                <p:nvPr/>
              </p:nvSpPr>
              <p:spPr>
                <a:xfrm>
                  <a:off x="2797560" y="446868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0" name="Group 53"/>
              <p:cNvGrpSpPr/>
              <p:nvPr/>
            </p:nvGrpSpPr>
            <p:grpSpPr>
              <a:xfrm>
                <a:off x="4545000" y="4468680"/>
                <a:ext cx="1615680" cy="728280"/>
                <a:chOff x="4545000" y="4468680"/>
                <a:chExt cx="1615680" cy="728280"/>
              </a:xfrm>
            </p:grpSpPr>
            <p:sp>
              <p:nvSpPr>
                <p:cNvPr id="721" name="Rectangle 54"/>
                <p:cNvSpPr/>
                <p:nvPr/>
              </p:nvSpPr>
              <p:spPr>
                <a:xfrm>
                  <a:off x="4600440" y="446868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2" name="Rectangle 55"/>
                <p:cNvSpPr/>
                <p:nvPr/>
              </p:nvSpPr>
              <p:spPr>
                <a:xfrm>
                  <a:off x="4545000" y="446868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3" name="Group 56"/>
              <p:cNvGrpSpPr/>
              <p:nvPr/>
            </p:nvGrpSpPr>
            <p:grpSpPr>
              <a:xfrm>
                <a:off x="6163920" y="4468680"/>
                <a:ext cx="1742400" cy="728280"/>
                <a:chOff x="6163920" y="4468680"/>
                <a:chExt cx="1742400" cy="728280"/>
              </a:xfrm>
            </p:grpSpPr>
            <p:sp>
              <p:nvSpPr>
                <p:cNvPr id="724" name="Rectangle 57"/>
                <p:cNvSpPr/>
                <p:nvPr/>
              </p:nvSpPr>
              <p:spPr>
                <a:xfrm>
                  <a:off x="6219360" y="446868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5" name="Rectangle 58"/>
                <p:cNvSpPr/>
                <p:nvPr/>
              </p:nvSpPr>
              <p:spPr>
                <a:xfrm>
                  <a:off x="6163920" y="446868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6" name="Group 59"/>
              <p:cNvGrpSpPr/>
              <p:nvPr/>
            </p:nvGrpSpPr>
            <p:grpSpPr>
              <a:xfrm>
                <a:off x="752040" y="5200200"/>
                <a:ext cx="2045520" cy="728280"/>
                <a:chOff x="752040" y="5200200"/>
                <a:chExt cx="2045520" cy="728280"/>
              </a:xfrm>
            </p:grpSpPr>
            <p:sp>
              <p:nvSpPr>
                <p:cNvPr id="727" name="Rectangle 60"/>
                <p:cNvSpPr/>
                <p:nvPr/>
              </p:nvSpPr>
              <p:spPr>
                <a:xfrm>
                  <a:off x="807480" y="5200200"/>
                  <a:ext cx="19310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8" name="Rectangle 61"/>
                <p:cNvSpPr/>
                <p:nvPr/>
              </p:nvSpPr>
              <p:spPr>
                <a:xfrm>
                  <a:off x="752040" y="5200200"/>
                  <a:ext cx="204552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9" name="Group 62"/>
              <p:cNvGrpSpPr/>
              <p:nvPr/>
            </p:nvGrpSpPr>
            <p:grpSpPr>
              <a:xfrm>
                <a:off x="2797560" y="5200200"/>
                <a:ext cx="1742400" cy="728280"/>
                <a:chOff x="2797560" y="5200200"/>
                <a:chExt cx="1742400" cy="728280"/>
              </a:xfrm>
            </p:grpSpPr>
            <p:sp>
              <p:nvSpPr>
                <p:cNvPr id="730" name="Rectangle 63"/>
                <p:cNvSpPr/>
                <p:nvPr/>
              </p:nvSpPr>
              <p:spPr>
                <a:xfrm>
                  <a:off x="2854440" y="5200200"/>
                  <a:ext cx="163116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1" name="Rectangle 64"/>
                <p:cNvSpPr/>
                <p:nvPr/>
              </p:nvSpPr>
              <p:spPr>
                <a:xfrm>
                  <a:off x="2797560" y="52002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32" name="Group 65"/>
              <p:cNvGrpSpPr/>
              <p:nvPr/>
            </p:nvGrpSpPr>
            <p:grpSpPr>
              <a:xfrm>
                <a:off x="4545000" y="5200200"/>
                <a:ext cx="1615680" cy="728280"/>
                <a:chOff x="4545000" y="5200200"/>
                <a:chExt cx="1615680" cy="728280"/>
              </a:xfrm>
            </p:grpSpPr>
            <p:sp>
              <p:nvSpPr>
                <p:cNvPr id="733" name="Rectangle 66"/>
                <p:cNvSpPr/>
                <p:nvPr/>
              </p:nvSpPr>
              <p:spPr>
                <a:xfrm>
                  <a:off x="4600440" y="5200200"/>
                  <a:ext cx="150444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4" name="Rectangle 67"/>
                <p:cNvSpPr/>
                <p:nvPr/>
              </p:nvSpPr>
              <p:spPr>
                <a:xfrm>
                  <a:off x="4545000" y="5200200"/>
                  <a:ext cx="161568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35" name="Group 68"/>
              <p:cNvGrpSpPr/>
              <p:nvPr/>
            </p:nvGrpSpPr>
            <p:grpSpPr>
              <a:xfrm>
                <a:off x="6163920" y="5200200"/>
                <a:ext cx="1742400" cy="728280"/>
                <a:chOff x="6163920" y="5200200"/>
                <a:chExt cx="1742400" cy="728280"/>
              </a:xfrm>
            </p:grpSpPr>
            <p:sp>
              <p:nvSpPr>
                <p:cNvPr id="736" name="Rectangle 69"/>
                <p:cNvSpPr/>
                <p:nvPr/>
              </p:nvSpPr>
              <p:spPr>
                <a:xfrm>
                  <a:off x="6219360" y="5200200"/>
                  <a:ext cx="1630800" cy="7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nl-NL" sz="2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7" name="Rectangle 70"/>
                <p:cNvSpPr/>
                <p:nvPr/>
              </p:nvSpPr>
              <p:spPr>
                <a:xfrm>
                  <a:off x="6163920" y="5200200"/>
                  <a:ext cx="1742400" cy="728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38" name="Rectangle 71"/>
            <p:cNvSpPr/>
            <p:nvPr/>
          </p:nvSpPr>
          <p:spPr>
            <a:xfrm>
              <a:off x="746280" y="2271600"/>
              <a:ext cx="7170480" cy="366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9" name="Rectangle 72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Text Box 73"/>
          <p:cNvSpPr/>
          <p:nvPr/>
        </p:nvSpPr>
        <p:spPr>
          <a:xfrm>
            <a:off x="2987640" y="5483160"/>
            <a:ext cx="42670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gnificant at 0.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me for 2 dial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Oval 74"/>
          <p:cNvSpPr/>
          <p:nvPr/>
        </p:nvSpPr>
        <p:spPr>
          <a:xfrm>
            <a:off x="444960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Oval 75"/>
          <p:cNvSpPr/>
          <p:nvPr/>
        </p:nvSpPr>
        <p:spPr>
          <a:xfrm>
            <a:off x="600552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Oval 76"/>
          <p:cNvSpPr/>
          <p:nvPr/>
        </p:nvSpPr>
        <p:spPr>
          <a:xfrm>
            <a:off x="2820960" y="44560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Text Box 77"/>
          <p:cNvSpPr/>
          <p:nvPr/>
        </p:nvSpPr>
        <p:spPr>
          <a:xfrm>
            <a:off x="4257000" y="2235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Text Box 78"/>
          <p:cNvSpPr/>
          <p:nvPr/>
        </p:nvSpPr>
        <p:spPr>
          <a:xfrm>
            <a:off x="5933160" y="2235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196A-07E0-4DCB-A9D1-5AEFC3B5C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457200"/>
            <a:ext cx="8686800" cy="7412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Are there any constraints on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2. Is it possible to copy processes of grammaticalization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3. Is agglutinative morphology more copiable than fusional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. Is derivational morphology more copiable than inflectional morphology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. Is nominal morphology more copiable than verbal morphology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6. Is there an inequality for different parts of speech when it com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o 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7. Is there an inequality for different verbal categories when it comes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orphological borrow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8. Are there universal tendencies that allow predictions about the stabi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of structural features in morpho-syntax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9. Is shared paradigmatic morphology a </a:t>
            </a:r>
            <a:r>
              <a:rPr b="0" i="1" lang="en-US" sz="2000" spc="-1" strike="noStrike">
                <a:solidFill>
                  <a:srgbClr val="d2d2f4"/>
                </a:solidFill>
                <a:latin typeface="Tahoma"/>
              </a:rPr>
              <a:t>conditio-sine-qua-non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f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genealogical relationship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10. Is it possible to establish linguistic relationship on the basis of shar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morphology alone?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11. Should phonological comparison always precede morphologic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evidence in matters of genealogical relationship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12. Is it possible to find tendencies or to set up criteria to distinguis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d2d2f4"/>
                </a:solidFill>
                <a:latin typeface="Tahoma"/>
              </a:rPr>
              <a:t>between cognates and copies in bound morpholog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ooter Placeholder 2"/>
          <p:cNvSpPr/>
          <p:nvPr/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F180E7-D9DC-4F7B-8085-9D3F037B8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Gramma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Rectangle 70"/>
          <p:cNvSpPr/>
          <p:nvPr/>
        </p:nvSpPr>
        <p:spPr>
          <a:xfrm>
            <a:off x="3240" y="52149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5" name="Group 4"/>
          <p:cNvGrpSpPr/>
          <p:nvPr/>
        </p:nvGrpSpPr>
        <p:grpSpPr>
          <a:xfrm>
            <a:off x="762120" y="1905120"/>
            <a:ext cx="7772040" cy="4400280"/>
            <a:chOff x="762120" y="1905120"/>
            <a:chExt cx="7772040" cy="4400280"/>
          </a:xfrm>
        </p:grpSpPr>
        <p:grpSp>
          <p:nvGrpSpPr>
            <p:cNvPr id="756" name="Group 5"/>
            <p:cNvGrpSpPr/>
            <p:nvPr/>
          </p:nvGrpSpPr>
          <p:grpSpPr>
            <a:xfrm>
              <a:off x="768240" y="1909800"/>
              <a:ext cx="7758360" cy="4390200"/>
              <a:chOff x="768240" y="1909800"/>
              <a:chExt cx="7758360" cy="4390200"/>
            </a:xfrm>
          </p:grpSpPr>
          <p:grpSp>
            <p:nvGrpSpPr>
              <p:cNvPr id="757" name="Group 6"/>
              <p:cNvGrpSpPr/>
              <p:nvPr/>
            </p:nvGrpSpPr>
            <p:grpSpPr>
              <a:xfrm>
                <a:off x="768240" y="1909800"/>
                <a:ext cx="2219040" cy="731520"/>
                <a:chOff x="768240" y="1909800"/>
                <a:chExt cx="2219040" cy="731520"/>
              </a:xfrm>
            </p:grpSpPr>
            <p:sp>
              <p:nvSpPr>
                <p:cNvPr id="758" name="Rectangle 7"/>
                <p:cNvSpPr/>
                <p:nvPr/>
              </p:nvSpPr>
              <p:spPr>
                <a:xfrm>
                  <a:off x="828000" y="1909800"/>
                  <a:ext cx="2099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9" name="Rectangle 8"/>
                <p:cNvSpPr/>
                <p:nvPr/>
              </p:nvSpPr>
              <p:spPr>
                <a:xfrm>
                  <a:off x="768240" y="1909800"/>
                  <a:ext cx="22190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0" name="Group 9"/>
              <p:cNvGrpSpPr/>
              <p:nvPr/>
            </p:nvGrpSpPr>
            <p:grpSpPr>
              <a:xfrm>
                <a:off x="2987640" y="1909800"/>
                <a:ext cx="1892160" cy="731520"/>
                <a:chOff x="2987640" y="1909800"/>
                <a:chExt cx="1892160" cy="731520"/>
              </a:xfrm>
            </p:grpSpPr>
            <p:sp>
              <p:nvSpPr>
                <p:cNvPr id="761" name="Rectangle 10"/>
                <p:cNvSpPr/>
                <p:nvPr/>
              </p:nvSpPr>
              <p:spPr>
                <a:xfrm>
                  <a:off x="3048120" y="190980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2" name="Rectangle 11"/>
                <p:cNvSpPr/>
                <p:nvPr/>
              </p:nvSpPr>
              <p:spPr>
                <a:xfrm>
                  <a:off x="2987640" y="190980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3" name="Group 12"/>
              <p:cNvGrpSpPr/>
              <p:nvPr/>
            </p:nvGrpSpPr>
            <p:grpSpPr>
              <a:xfrm>
                <a:off x="4880520" y="1909800"/>
                <a:ext cx="1753560" cy="731520"/>
                <a:chOff x="4880520" y="1909800"/>
                <a:chExt cx="1753560" cy="731520"/>
              </a:xfrm>
            </p:grpSpPr>
            <p:sp>
              <p:nvSpPr>
                <p:cNvPr id="764" name="Rectangle 13"/>
                <p:cNvSpPr/>
                <p:nvPr/>
              </p:nvSpPr>
              <p:spPr>
                <a:xfrm>
                  <a:off x="4940280" y="1909800"/>
                  <a:ext cx="16336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Rectangle 14"/>
                <p:cNvSpPr/>
                <p:nvPr/>
              </p:nvSpPr>
              <p:spPr>
                <a:xfrm>
                  <a:off x="4880520" y="1909800"/>
                  <a:ext cx="1753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6" name="Group 15"/>
              <p:cNvGrpSpPr/>
              <p:nvPr/>
            </p:nvGrpSpPr>
            <p:grpSpPr>
              <a:xfrm>
                <a:off x="6634440" y="1909800"/>
                <a:ext cx="1892160" cy="731520"/>
                <a:chOff x="6634440" y="1909800"/>
                <a:chExt cx="1892160" cy="731520"/>
              </a:xfrm>
            </p:grpSpPr>
            <p:sp>
              <p:nvSpPr>
                <p:cNvPr id="767" name="Rectangle 16"/>
                <p:cNvSpPr/>
                <p:nvPr/>
              </p:nvSpPr>
              <p:spPr>
                <a:xfrm>
                  <a:off x="6694920" y="190980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8" name="Rectangle 17"/>
                <p:cNvSpPr/>
                <p:nvPr/>
              </p:nvSpPr>
              <p:spPr>
                <a:xfrm>
                  <a:off x="6634440" y="190980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9" name="Group 18"/>
              <p:cNvGrpSpPr/>
              <p:nvPr/>
            </p:nvGrpSpPr>
            <p:grpSpPr>
              <a:xfrm>
                <a:off x="768240" y="2641320"/>
                <a:ext cx="2219040" cy="731160"/>
                <a:chOff x="768240" y="2641320"/>
                <a:chExt cx="2219040" cy="731160"/>
              </a:xfrm>
            </p:grpSpPr>
            <p:sp>
              <p:nvSpPr>
                <p:cNvPr id="770" name="Rectangle 19"/>
                <p:cNvSpPr/>
                <p:nvPr/>
              </p:nvSpPr>
              <p:spPr>
                <a:xfrm>
                  <a:off x="828000" y="2641320"/>
                  <a:ext cx="209916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Preposition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1" name="Rectangle 20"/>
                <p:cNvSpPr/>
                <p:nvPr/>
              </p:nvSpPr>
              <p:spPr>
                <a:xfrm>
                  <a:off x="768240" y="2641320"/>
                  <a:ext cx="221904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2" name="Group 21"/>
              <p:cNvGrpSpPr/>
              <p:nvPr/>
            </p:nvGrpSpPr>
            <p:grpSpPr>
              <a:xfrm>
                <a:off x="2987640" y="2641320"/>
                <a:ext cx="1892160" cy="731160"/>
                <a:chOff x="2987640" y="2641320"/>
                <a:chExt cx="1892160" cy="731160"/>
              </a:xfrm>
            </p:grpSpPr>
            <p:sp>
              <p:nvSpPr>
                <p:cNvPr id="773" name="Rectangle 22"/>
                <p:cNvSpPr/>
                <p:nvPr/>
              </p:nvSpPr>
              <p:spPr>
                <a:xfrm>
                  <a:off x="3048120" y="2641320"/>
                  <a:ext cx="177120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4" name="Rectangle 23"/>
                <p:cNvSpPr/>
                <p:nvPr/>
              </p:nvSpPr>
              <p:spPr>
                <a:xfrm>
                  <a:off x="2987640" y="2641320"/>
                  <a:ext cx="189216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5" name="Group 24"/>
              <p:cNvGrpSpPr/>
              <p:nvPr/>
            </p:nvGrpSpPr>
            <p:grpSpPr>
              <a:xfrm>
                <a:off x="4880520" y="2641320"/>
                <a:ext cx="1753560" cy="731160"/>
                <a:chOff x="4880520" y="2641320"/>
                <a:chExt cx="1753560" cy="731160"/>
              </a:xfrm>
            </p:grpSpPr>
            <p:sp>
              <p:nvSpPr>
                <p:cNvPr id="776" name="Rectangle 25"/>
                <p:cNvSpPr/>
                <p:nvPr/>
              </p:nvSpPr>
              <p:spPr>
                <a:xfrm>
                  <a:off x="4940280" y="2641320"/>
                  <a:ext cx="163368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7" name="Rectangle 26"/>
                <p:cNvSpPr/>
                <p:nvPr/>
              </p:nvSpPr>
              <p:spPr>
                <a:xfrm>
                  <a:off x="4880520" y="2641320"/>
                  <a:ext cx="175356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8" name="Group 27"/>
              <p:cNvGrpSpPr/>
              <p:nvPr/>
            </p:nvGrpSpPr>
            <p:grpSpPr>
              <a:xfrm>
                <a:off x="6634440" y="2641320"/>
                <a:ext cx="1892160" cy="731160"/>
                <a:chOff x="6634440" y="2641320"/>
                <a:chExt cx="1892160" cy="731160"/>
              </a:xfrm>
            </p:grpSpPr>
            <p:sp>
              <p:nvSpPr>
                <p:cNvPr id="779" name="Rectangle 28"/>
                <p:cNvSpPr/>
                <p:nvPr/>
              </p:nvSpPr>
              <p:spPr>
                <a:xfrm>
                  <a:off x="6694920" y="2641320"/>
                  <a:ext cx="177120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Rectangle 29"/>
                <p:cNvSpPr/>
                <p:nvPr/>
              </p:nvSpPr>
              <p:spPr>
                <a:xfrm>
                  <a:off x="6634440" y="2641320"/>
                  <a:ext cx="189216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1" name="Group 30"/>
              <p:cNvGrpSpPr/>
              <p:nvPr/>
            </p:nvGrpSpPr>
            <p:grpSpPr>
              <a:xfrm>
                <a:off x="768240" y="3372840"/>
                <a:ext cx="2219040" cy="731520"/>
                <a:chOff x="768240" y="3372840"/>
                <a:chExt cx="2219040" cy="731520"/>
              </a:xfrm>
            </p:grpSpPr>
            <p:sp>
              <p:nvSpPr>
                <p:cNvPr id="782" name="Rectangle 31"/>
                <p:cNvSpPr/>
                <p:nvPr/>
              </p:nvSpPr>
              <p:spPr>
                <a:xfrm>
                  <a:off x="828000" y="3372840"/>
                  <a:ext cx="2099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icle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Rectangle 32"/>
                <p:cNvSpPr/>
                <p:nvPr/>
              </p:nvSpPr>
              <p:spPr>
                <a:xfrm>
                  <a:off x="768240" y="3372840"/>
                  <a:ext cx="22190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4" name="Group 33"/>
              <p:cNvGrpSpPr/>
              <p:nvPr/>
            </p:nvGrpSpPr>
            <p:grpSpPr>
              <a:xfrm>
                <a:off x="2987640" y="3372840"/>
                <a:ext cx="1892160" cy="731520"/>
                <a:chOff x="2987640" y="3372840"/>
                <a:chExt cx="1892160" cy="731520"/>
              </a:xfrm>
            </p:grpSpPr>
            <p:sp>
              <p:nvSpPr>
                <p:cNvPr id="785" name="Rectangle 34"/>
                <p:cNvSpPr/>
                <p:nvPr/>
              </p:nvSpPr>
              <p:spPr>
                <a:xfrm>
                  <a:off x="3048120" y="337284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6" name="Rectangle 35"/>
                <p:cNvSpPr/>
                <p:nvPr/>
              </p:nvSpPr>
              <p:spPr>
                <a:xfrm>
                  <a:off x="2987640" y="337284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7" name="Group 36"/>
              <p:cNvGrpSpPr/>
              <p:nvPr/>
            </p:nvGrpSpPr>
            <p:grpSpPr>
              <a:xfrm>
                <a:off x="4880520" y="3372840"/>
                <a:ext cx="1753560" cy="731520"/>
                <a:chOff x="4880520" y="3372840"/>
                <a:chExt cx="1753560" cy="731520"/>
              </a:xfrm>
            </p:grpSpPr>
            <p:sp>
              <p:nvSpPr>
                <p:cNvPr id="788" name="Rectangle 37"/>
                <p:cNvSpPr/>
                <p:nvPr/>
              </p:nvSpPr>
              <p:spPr>
                <a:xfrm>
                  <a:off x="4940280" y="3372840"/>
                  <a:ext cx="16336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9" name="Rectangle 38"/>
                <p:cNvSpPr/>
                <p:nvPr/>
              </p:nvSpPr>
              <p:spPr>
                <a:xfrm>
                  <a:off x="4880520" y="3372840"/>
                  <a:ext cx="1753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0" name="Group 39"/>
              <p:cNvGrpSpPr/>
              <p:nvPr/>
            </p:nvGrpSpPr>
            <p:grpSpPr>
              <a:xfrm>
                <a:off x="6634440" y="3372840"/>
                <a:ext cx="1892160" cy="731520"/>
                <a:chOff x="6634440" y="3372840"/>
                <a:chExt cx="1892160" cy="731520"/>
              </a:xfrm>
            </p:grpSpPr>
            <p:sp>
              <p:nvSpPr>
                <p:cNvPr id="791" name="Rectangle 40"/>
                <p:cNvSpPr/>
                <p:nvPr/>
              </p:nvSpPr>
              <p:spPr>
                <a:xfrm>
                  <a:off x="6694920" y="337284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Rectangle 41"/>
                <p:cNvSpPr/>
                <p:nvPr/>
              </p:nvSpPr>
              <p:spPr>
                <a:xfrm>
                  <a:off x="6634440" y="337284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3" name="Group 42"/>
              <p:cNvGrpSpPr/>
              <p:nvPr/>
            </p:nvGrpSpPr>
            <p:grpSpPr>
              <a:xfrm>
                <a:off x="768240" y="4104720"/>
                <a:ext cx="2219040" cy="731520"/>
                <a:chOff x="768240" y="4104720"/>
                <a:chExt cx="2219040" cy="731520"/>
              </a:xfrm>
            </p:grpSpPr>
            <p:sp>
              <p:nvSpPr>
                <p:cNvPr id="794" name="Rectangle 43"/>
                <p:cNvSpPr/>
                <p:nvPr/>
              </p:nvSpPr>
              <p:spPr>
                <a:xfrm>
                  <a:off x="828000" y="4104720"/>
                  <a:ext cx="2099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course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 </a:t>
                  </a: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Mark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5" name="Rectangle 44"/>
                <p:cNvSpPr/>
                <p:nvPr/>
              </p:nvSpPr>
              <p:spPr>
                <a:xfrm>
                  <a:off x="768240" y="4104720"/>
                  <a:ext cx="22190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6" name="Group 45"/>
              <p:cNvGrpSpPr/>
              <p:nvPr/>
            </p:nvGrpSpPr>
            <p:grpSpPr>
              <a:xfrm>
                <a:off x="2987640" y="4104720"/>
                <a:ext cx="1892160" cy="731520"/>
                <a:chOff x="2987640" y="4104720"/>
                <a:chExt cx="1892160" cy="731520"/>
              </a:xfrm>
            </p:grpSpPr>
            <p:sp>
              <p:nvSpPr>
                <p:cNvPr id="797" name="Rectangle 46"/>
                <p:cNvSpPr/>
                <p:nvPr/>
              </p:nvSpPr>
              <p:spPr>
                <a:xfrm>
                  <a:off x="3048120" y="410472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8" name="Rectangle 47"/>
                <p:cNvSpPr/>
                <p:nvPr/>
              </p:nvSpPr>
              <p:spPr>
                <a:xfrm>
                  <a:off x="2987640" y="410472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9" name="Group 48"/>
              <p:cNvGrpSpPr/>
              <p:nvPr/>
            </p:nvGrpSpPr>
            <p:grpSpPr>
              <a:xfrm>
                <a:off x="4880520" y="4104720"/>
                <a:ext cx="1753560" cy="731520"/>
                <a:chOff x="4880520" y="4104720"/>
                <a:chExt cx="1753560" cy="731520"/>
              </a:xfrm>
            </p:grpSpPr>
            <p:sp>
              <p:nvSpPr>
                <p:cNvPr id="800" name="Rectangle 49"/>
                <p:cNvSpPr/>
                <p:nvPr/>
              </p:nvSpPr>
              <p:spPr>
                <a:xfrm>
                  <a:off x="4940280" y="4104720"/>
                  <a:ext cx="16336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1" name="Rectangle 50"/>
                <p:cNvSpPr/>
                <p:nvPr/>
              </p:nvSpPr>
              <p:spPr>
                <a:xfrm>
                  <a:off x="4880520" y="4104720"/>
                  <a:ext cx="1753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2" name="Group 51"/>
              <p:cNvGrpSpPr/>
              <p:nvPr/>
            </p:nvGrpSpPr>
            <p:grpSpPr>
              <a:xfrm>
                <a:off x="6634440" y="4104720"/>
                <a:ext cx="1892160" cy="731520"/>
                <a:chOff x="6634440" y="4104720"/>
                <a:chExt cx="1892160" cy="731520"/>
              </a:xfrm>
            </p:grpSpPr>
            <p:sp>
              <p:nvSpPr>
                <p:cNvPr id="803" name="Rectangle 52"/>
                <p:cNvSpPr/>
                <p:nvPr/>
              </p:nvSpPr>
              <p:spPr>
                <a:xfrm>
                  <a:off x="6694920" y="410472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4" name="Rectangle 53"/>
                <p:cNvSpPr/>
                <p:nvPr/>
              </p:nvSpPr>
              <p:spPr>
                <a:xfrm>
                  <a:off x="6634440" y="410472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5" name="Group 54"/>
              <p:cNvGrpSpPr/>
              <p:nvPr/>
            </p:nvGrpSpPr>
            <p:grpSpPr>
              <a:xfrm>
                <a:off x="768240" y="4836600"/>
                <a:ext cx="2219040" cy="731520"/>
                <a:chOff x="768240" y="4836600"/>
                <a:chExt cx="2219040" cy="731520"/>
              </a:xfrm>
            </p:grpSpPr>
            <p:sp>
              <p:nvSpPr>
                <p:cNvPr id="806" name="Rectangle 55"/>
                <p:cNvSpPr/>
                <p:nvPr/>
              </p:nvSpPr>
              <p:spPr>
                <a:xfrm>
                  <a:off x="828000" y="4836600"/>
                  <a:ext cx="2099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inator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7" name="Rectangle 56"/>
                <p:cNvSpPr/>
                <p:nvPr/>
              </p:nvSpPr>
              <p:spPr>
                <a:xfrm>
                  <a:off x="768240" y="4836600"/>
                  <a:ext cx="22190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8" name="Group 57"/>
              <p:cNvGrpSpPr/>
              <p:nvPr/>
            </p:nvGrpSpPr>
            <p:grpSpPr>
              <a:xfrm>
                <a:off x="2987640" y="4836600"/>
                <a:ext cx="1892160" cy="731520"/>
                <a:chOff x="2987640" y="4836600"/>
                <a:chExt cx="1892160" cy="731520"/>
              </a:xfrm>
            </p:grpSpPr>
            <p:sp>
              <p:nvSpPr>
                <p:cNvPr id="809" name="Rectangle 58"/>
                <p:cNvSpPr/>
                <p:nvPr/>
              </p:nvSpPr>
              <p:spPr>
                <a:xfrm>
                  <a:off x="3048120" y="483660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0" name="Rectangle 59"/>
                <p:cNvSpPr/>
                <p:nvPr/>
              </p:nvSpPr>
              <p:spPr>
                <a:xfrm>
                  <a:off x="2987640" y="483660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1" name="Group 60"/>
              <p:cNvGrpSpPr/>
              <p:nvPr/>
            </p:nvGrpSpPr>
            <p:grpSpPr>
              <a:xfrm>
                <a:off x="4880520" y="4836600"/>
                <a:ext cx="1753560" cy="731520"/>
                <a:chOff x="4880520" y="4836600"/>
                <a:chExt cx="1753560" cy="731520"/>
              </a:xfrm>
            </p:grpSpPr>
            <p:sp>
              <p:nvSpPr>
                <p:cNvPr id="812" name="Rectangle 61"/>
                <p:cNvSpPr/>
                <p:nvPr/>
              </p:nvSpPr>
              <p:spPr>
                <a:xfrm>
                  <a:off x="4940280" y="4836600"/>
                  <a:ext cx="16336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Rectangle 62"/>
                <p:cNvSpPr/>
                <p:nvPr/>
              </p:nvSpPr>
              <p:spPr>
                <a:xfrm>
                  <a:off x="4880520" y="4836600"/>
                  <a:ext cx="1753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4" name="Group 63"/>
              <p:cNvGrpSpPr/>
              <p:nvPr/>
            </p:nvGrpSpPr>
            <p:grpSpPr>
              <a:xfrm>
                <a:off x="6634440" y="4836600"/>
                <a:ext cx="1892160" cy="731520"/>
                <a:chOff x="6634440" y="4836600"/>
                <a:chExt cx="1892160" cy="731520"/>
              </a:xfrm>
            </p:grpSpPr>
            <p:sp>
              <p:nvSpPr>
                <p:cNvPr id="815" name="Rectangle 64"/>
                <p:cNvSpPr/>
                <p:nvPr/>
              </p:nvSpPr>
              <p:spPr>
                <a:xfrm>
                  <a:off x="6694920" y="483660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6" name="Rectangle 65"/>
                <p:cNvSpPr/>
                <p:nvPr/>
              </p:nvSpPr>
              <p:spPr>
                <a:xfrm>
                  <a:off x="6634440" y="483660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7" name="Group 66"/>
              <p:cNvGrpSpPr/>
              <p:nvPr/>
            </p:nvGrpSpPr>
            <p:grpSpPr>
              <a:xfrm>
                <a:off x="768240" y="5568480"/>
                <a:ext cx="2219040" cy="731520"/>
                <a:chOff x="768240" y="5568480"/>
                <a:chExt cx="2219040" cy="731520"/>
              </a:xfrm>
            </p:grpSpPr>
            <p:sp>
              <p:nvSpPr>
                <p:cNvPr id="818" name="Rectangle 67"/>
                <p:cNvSpPr/>
                <p:nvPr/>
              </p:nvSpPr>
              <p:spPr>
                <a:xfrm>
                  <a:off x="828000" y="5568480"/>
                  <a:ext cx="20991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9" name="Rectangle 68"/>
                <p:cNvSpPr/>
                <p:nvPr/>
              </p:nvSpPr>
              <p:spPr>
                <a:xfrm>
                  <a:off x="768240" y="5568480"/>
                  <a:ext cx="22190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0" name="Group 69"/>
              <p:cNvGrpSpPr/>
              <p:nvPr/>
            </p:nvGrpSpPr>
            <p:grpSpPr>
              <a:xfrm>
                <a:off x="2987640" y="5568480"/>
                <a:ext cx="1892160" cy="731520"/>
                <a:chOff x="2987640" y="5568480"/>
                <a:chExt cx="1892160" cy="731520"/>
              </a:xfrm>
            </p:grpSpPr>
            <p:sp>
              <p:nvSpPr>
                <p:cNvPr id="821" name="Rectangle 70"/>
                <p:cNvSpPr/>
                <p:nvPr/>
              </p:nvSpPr>
              <p:spPr>
                <a:xfrm>
                  <a:off x="3048120" y="556848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Rectangle 71"/>
                <p:cNvSpPr/>
                <p:nvPr/>
              </p:nvSpPr>
              <p:spPr>
                <a:xfrm>
                  <a:off x="2987640" y="556848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3" name="Group 72"/>
              <p:cNvGrpSpPr/>
              <p:nvPr/>
            </p:nvGrpSpPr>
            <p:grpSpPr>
              <a:xfrm>
                <a:off x="4880520" y="5568480"/>
                <a:ext cx="1753560" cy="731520"/>
                <a:chOff x="4880520" y="5568480"/>
                <a:chExt cx="1753560" cy="731520"/>
              </a:xfrm>
            </p:grpSpPr>
            <p:sp>
              <p:nvSpPr>
                <p:cNvPr id="824" name="Rectangle 73"/>
                <p:cNvSpPr/>
                <p:nvPr/>
              </p:nvSpPr>
              <p:spPr>
                <a:xfrm>
                  <a:off x="4940280" y="5568480"/>
                  <a:ext cx="16336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5" name="Rectangle 74"/>
                <p:cNvSpPr/>
                <p:nvPr/>
              </p:nvSpPr>
              <p:spPr>
                <a:xfrm>
                  <a:off x="4880520" y="5568480"/>
                  <a:ext cx="1753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6" name="Group 75"/>
              <p:cNvGrpSpPr/>
              <p:nvPr/>
            </p:nvGrpSpPr>
            <p:grpSpPr>
              <a:xfrm>
                <a:off x="6634440" y="5568480"/>
                <a:ext cx="1892160" cy="731520"/>
                <a:chOff x="6634440" y="5568480"/>
                <a:chExt cx="1892160" cy="731520"/>
              </a:xfrm>
            </p:grpSpPr>
            <p:sp>
              <p:nvSpPr>
                <p:cNvPr id="827" name="Rectangle 76"/>
                <p:cNvSpPr/>
                <p:nvPr/>
              </p:nvSpPr>
              <p:spPr>
                <a:xfrm>
                  <a:off x="6694920" y="5568480"/>
                  <a:ext cx="177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8" name="Rectangle 77"/>
                <p:cNvSpPr/>
                <p:nvPr/>
              </p:nvSpPr>
              <p:spPr>
                <a:xfrm>
                  <a:off x="6634440" y="5568480"/>
                  <a:ext cx="18921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29" name="Rectangle 78"/>
            <p:cNvSpPr/>
            <p:nvPr/>
          </p:nvSpPr>
          <p:spPr>
            <a:xfrm>
              <a:off x="762120" y="1905120"/>
              <a:ext cx="7772040" cy="4400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4. Borrowing </a:t>
            </a: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1013F-E615-4F3C-AE33-6CD92A6A9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4FA8-D3AC-4BFD-8ED1-20CBC2F0E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anish affixes on native lexe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457200" y="1981080"/>
          <a:ext cx="8221680" cy="38768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9ACB-5780-475F-A1EE-9229DB2F5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anish affixes on native lexe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57200" y="1981080"/>
          <a:ext cx="8221680" cy="38768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EED1-8341-4F98-A5C6-6BB996C29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anish affixes on native lexe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457200" y="1981080"/>
          <a:ext cx="8221680" cy="38768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76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90E02-0EF5-4903-8739-392B672FD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anish affixes on native lexe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57200" y="1981080"/>
          <a:ext cx="8221680" cy="38768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D91AB-D11E-4B12-AE02-DAB4D65CD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panish affixes on native lexe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457200" y="1981080"/>
          <a:ext cx="8148600" cy="2527560"/>
        </p:xfrm>
        <a:graphic>
          <a:graphicData uri="http://schemas.openxmlformats.org/drawingml/2006/table">
            <a:tbl>
              <a:tblPr/>
              <a:tblGrid>
                <a:gridCol w="2038320"/>
                <a:gridCol w="2036880"/>
                <a:gridCol w="2036520"/>
                <a:gridCol w="2036880"/>
              </a:tblGrid>
              <a:tr h="7542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3" name="Text Box 50"/>
          <p:cNvSpPr/>
          <p:nvPr/>
        </p:nvSpPr>
        <p:spPr>
          <a:xfrm>
            <a:off x="1933200" y="5029200"/>
            <a:ext cx="57585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 systematic borrowing of Spanis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rphology on native elements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AutoShape 51"/>
          <p:cNvSpPr/>
          <p:nvPr/>
        </p:nvSpPr>
        <p:spPr>
          <a:xfrm>
            <a:off x="108000" y="5157720"/>
            <a:ext cx="1079280" cy="64764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666EA-66B6-47BD-B65B-B12D1C047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Exceptions confirm the rule 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476640" y="2523960"/>
            <a:ext cx="652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Otom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and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anddaughter (Sp.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–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[+F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7F127-EB32-4B4C-B0AB-626EDE3F4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Exceptions confirm the rule 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406440" y="2523960"/>
            <a:ext cx="8631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Otom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and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anddaughter (Sp.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–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[+F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(but often 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gender mistakes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en speaking Spani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4. Borrowing </a:t>
            </a: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BDAF2-A532-4C69-B625-7B18E8E14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4A04-CE1A-4393-9CA5-7B7175A3D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E5E56-B4C6-4B41-B632-617315114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CF5E7-BBC6-451D-BCE2-86B647299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6935760"/>
                <a:gridCol w="457200"/>
                <a:gridCol w="380880"/>
                <a:gridCol w="44784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(e)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469C-320C-4493-8580-AA10F8038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457200" y="1981080"/>
          <a:ext cx="8248680" cy="4184640"/>
        </p:xfrm>
        <a:graphic>
          <a:graphicData uri="http://schemas.openxmlformats.org/drawingml/2006/table">
            <a:tbl>
              <a:tblPr/>
              <a:tblGrid>
                <a:gridCol w="2054160"/>
                <a:gridCol w="5654880"/>
                <a:gridCol w="323640"/>
                <a:gridCol w="2160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0 (2.5% of borrowed nouns)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 also +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ku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65BA-C283-4702-B171-D75071ED0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57200" y="1981080"/>
          <a:ext cx="8248680" cy="4184640"/>
        </p:xfrm>
        <a:graphic>
          <a:graphicData uri="http://schemas.openxmlformats.org/drawingml/2006/table">
            <a:tbl>
              <a:tblPr/>
              <a:tblGrid>
                <a:gridCol w="2054160"/>
                <a:gridCol w="5654880"/>
                <a:gridCol w="323640"/>
                <a:gridCol w="2160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0 (2.5%)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 +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ku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 almost all occur also without –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‘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mpadre(s)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‘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mpañera(s)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..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D3C1-ABE8-49A5-B75D-B01BA79E3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(2.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C6D8E-585D-4BBE-987C-014B80C68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  <a:gridCol w="205416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(2.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f. ‘habas’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7"/>
          <p:cNvSpPr/>
          <p:nvPr/>
        </p:nvSpPr>
        <p:spPr>
          <a:xfrm>
            <a:off x="4572000" y="2819520"/>
            <a:ext cx="2438280" cy="4572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AutoShape 38"/>
          <p:cNvSpPr/>
          <p:nvPr/>
        </p:nvSpPr>
        <p:spPr>
          <a:xfrm>
            <a:off x="5562720" y="335268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1F1AA-7307-45B3-8B89-5E464CB08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457200" y="1981080"/>
          <a:ext cx="8248680" cy="4184640"/>
        </p:xfrm>
        <a:graphic>
          <a:graphicData uri="http://schemas.openxmlformats.org/drawingml/2006/table">
            <a:tbl>
              <a:tblPr/>
              <a:tblGrid>
                <a:gridCol w="7385040"/>
                <a:gridCol w="324000"/>
                <a:gridCol w="323640"/>
                <a:gridCol w="2160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dor (AG)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ito/-illo (DIM)+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AECAD-82AD-434A-8842-BD3D57ECD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1909800"/>
                <a:gridCol w="220032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r (A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to/-illo (DI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0D1CD-8F70-431F-9A98-B0C532E43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457200" y="1981080"/>
          <a:ext cx="8221680" cy="421164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1909800"/>
                <a:gridCol w="220032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1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 (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r (A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to/-illo (DI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(typ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5" name="Rectangle 37"/>
          <p:cNvSpPr/>
          <p:nvPr/>
        </p:nvSpPr>
        <p:spPr>
          <a:xfrm>
            <a:off x="2514600" y="3581280"/>
            <a:ext cx="5715000" cy="175284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AutoShape 38"/>
          <p:cNvSpPr/>
          <p:nvPr/>
        </p:nvSpPr>
        <p:spPr>
          <a:xfrm>
            <a:off x="5181480" y="5334120"/>
            <a:ext cx="38124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9C467-A9DB-4024-A303-5C11C788C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6348240"/>
                <a:gridCol w="720720"/>
                <a:gridCol w="648000"/>
                <a:gridCol w="50472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0FAE7-850F-4C00-988B-07FCA8AB1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57200" y="1828800"/>
            <a:ext cx="227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41BD0-5BCE-4172-B586-E66A92B50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6421320"/>
                <a:gridCol w="647640"/>
                <a:gridCol w="648000"/>
                <a:gridCol w="50472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NER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initive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              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9" name="AutoShape 37"/>
          <p:cNvSpPr/>
          <p:nvPr/>
        </p:nvSpPr>
        <p:spPr>
          <a:xfrm>
            <a:off x="1042920" y="2852640"/>
            <a:ext cx="360360" cy="223200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7C9B7-3C15-4226-AC69-684E2FC46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1306440"/>
                <a:gridCol w="1008000"/>
                <a:gridCol w="1079640"/>
                <a:gridCol w="48276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/ -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/ -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/ -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st majority (&gt; 80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6" name="AutoShape 37"/>
          <p:cNvSpPr/>
          <p:nvPr/>
        </p:nvSpPr>
        <p:spPr>
          <a:xfrm>
            <a:off x="4500720" y="2781360"/>
            <a:ext cx="457200" cy="22096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209680"/>
              <a:gd name="textAreaBottom" fmla="*/ 21978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16200" y="10800"/>
                  <a:pt x="21600" y="10800"/>
                </a:cubicBezTo>
                <a:cubicBezTo>
                  <a:pt x="162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BAAF5-13B5-476B-A519-35F67AD87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1306440"/>
                <a:gridCol w="1008000"/>
                <a:gridCol w="1079640"/>
                <a:gridCol w="48276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/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/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/ -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/ -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/ -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Que only /i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Oval 37"/>
          <p:cNvSpPr/>
          <p:nvPr/>
        </p:nvSpPr>
        <p:spPr>
          <a:xfrm>
            <a:off x="2209680" y="3581280"/>
            <a:ext cx="762120" cy="1676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4" name="AutoShape 38"/>
          <p:cNvCxnSpPr>
            <a:stCxn id="963" idx="6"/>
          </p:cNvCxnSpPr>
          <p:nvPr/>
        </p:nvCxnSpPr>
        <p:spPr>
          <a:xfrm>
            <a:off x="2971440" y="4419720"/>
            <a:ext cx="16786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8FAC-94EA-4C32-97E8-F7334A10E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1306440"/>
                <a:gridCol w="1008000"/>
                <a:gridCol w="1079640"/>
                <a:gridCol w="482760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/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/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/ -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/ -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/ -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ly freq V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e      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m of 3</a:t>
                      </a:r>
                      <a:r>
                        <a:rPr b="1" lang="en-GB" sz="2400" spc="-1" strike="noStrike" baseline="33000">
                          <a:solidFill>
                            <a:srgbClr val="ff0000"/>
                          </a:solidFill>
                          <a:latin typeface="Arial"/>
                        </a:rPr>
                        <a:t>rd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S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iphtong / e-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i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Oval 37"/>
          <p:cNvSpPr/>
          <p:nvPr/>
        </p:nvSpPr>
        <p:spPr>
          <a:xfrm>
            <a:off x="3757680" y="2681280"/>
            <a:ext cx="761760" cy="1676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72" name="AutoShape 38"/>
          <p:cNvCxnSpPr/>
          <p:nvPr/>
        </p:nvCxnSpPr>
        <p:spPr>
          <a:xfrm>
            <a:off x="4519440" y="3519000"/>
            <a:ext cx="1679040" cy="25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66E8B-4B34-494B-9A03-E0CA020F1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6708600"/>
                <a:gridCol w="576360"/>
                <a:gridCol w="576360"/>
                <a:gridCol w="36036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D09B-D175-4326-B51D-BB312FB32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57200" y="1981080"/>
          <a:ext cx="8221680" cy="4308480"/>
        </p:xfrm>
        <a:graphic>
          <a:graphicData uri="http://schemas.openxmlformats.org/drawingml/2006/table">
            <a:tbl>
              <a:tblPr/>
              <a:tblGrid>
                <a:gridCol w="1738440"/>
                <a:gridCol w="5546520"/>
                <a:gridCol w="432000"/>
                <a:gridCol w="50472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60 (260 ty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5 (60 ty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 (4 ty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658D6-176D-4AE1-A896-238850513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457200" y="1981080"/>
          <a:ext cx="8275680" cy="4308480"/>
        </p:xfrm>
        <a:graphic>
          <a:graphicData uri="http://schemas.openxmlformats.org/drawingml/2006/table">
            <a:tbl>
              <a:tblPr/>
              <a:tblGrid>
                <a:gridCol w="1735200"/>
                <a:gridCol w="6108480"/>
                <a:gridCol w="216000"/>
                <a:gridCol w="2160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Ge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60 (260 ty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5 (60 typ)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% Attributive, rest 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r SP [+F], QUE [+FEMALE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 (4 typ)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BCCA-E9E7-4649-AA1E-C57D95456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981080"/>
          <a:ext cx="8248680" cy="4308480"/>
        </p:xfrm>
        <a:graphic>
          <a:graphicData uri="http://schemas.openxmlformats.org/drawingml/2006/table">
            <a:tbl>
              <a:tblPr/>
              <a:tblGrid>
                <a:gridCol w="1736640"/>
                <a:gridCol w="1582920"/>
                <a:gridCol w="4713120"/>
                <a:gridCol w="2160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(2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(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0 (220 typ)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0 (45 typ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85A4A-0B50-489A-849A-E43EDACF4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457200" y="1981080"/>
          <a:ext cx="8221680" cy="4653000"/>
        </p:xfrm>
        <a:graphic>
          <a:graphicData uri="http://schemas.openxmlformats.org/drawingml/2006/table">
            <a:tbl>
              <a:tblPr/>
              <a:tblGrid>
                <a:gridCol w="1738440"/>
                <a:gridCol w="1584360"/>
                <a:gridCol w="4681440"/>
                <a:gridCol w="217440"/>
              </a:tblGrid>
              <a:tr h="9255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Ge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744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(2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(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0 (220 typ)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0 (45 typ)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5% Attrib, rest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r SP [+F], GUA [+FEMALE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51255-34DB-4097-9B08-922F9C861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457200" y="1981080"/>
          <a:ext cx="8221680" cy="4308480"/>
        </p:xfrm>
        <a:graphic>
          <a:graphicData uri="http://schemas.openxmlformats.org/drawingml/2006/table">
            <a:tbl>
              <a:tblPr/>
              <a:tblGrid>
                <a:gridCol w="1738440"/>
                <a:gridCol w="1584360"/>
                <a:gridCol w="1514160"/>
                <a:gridCol w="338472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A, NO Ge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 (M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 (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s (M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s (F.P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(2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(6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(22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(4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 (2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 (3) = Nou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3A61F-A92A-46CE-BE87-42558C137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57200" y="1828800"/>
            <a:ext cx="227790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609AB-B91F-4FA0-B487-B5789B8D6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457200" y="1981080"/>
          <a:ext cx="8221680" cy="4184640"/>
        </p:xfrm>
        <a:graphic>
          <a:graphicData uri="http://schemas.openxmlformats.org/drawingml/2006/table">
            <a:tbl>
              <a:tblPr/>
              <a:tblGrid>
                <a:gridCol w="6708600"/>
                <a:gridCol w="576360"/>
                <a:gridCol w="576360"/>
                <a:gridCol w="360360"/>
              </a:tblGrid>
              <a:tr h="800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tem + -a + -mente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ADV (mode)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‘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conomico’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‘economic-a-mente’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DAAB2-57F7-4190-9E46-E0AD98336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457200" y="1981080"/>
          <a:ext cx="8275680" cy="4308480"/>
        </p:xfrm>
        <a:graphic>
          <a:graphicData uri="http://schemas.openxmlformats.org/drawingml/2006/table">
            <a:tbl>
              <a:tblPr/>
              <a:tblGrid>
                <a:gridCol w="1735200"/>
                <a:gridCol w="6108480"/>
                <a:gridCol w="216000"/>
                <a:gridCol w="2160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≈ Ad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en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1 (29 typ: 16 also used as bare 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ED74A-DA1D-456B-88C4-EFCB1763E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457200" y="1981080"/>
          <a:ext cx="8248680" cy="4308480"/>
        </p:xfrm>
        <a:graphic>
          <a:graphicData uri="http://schemas.openxmlformats.org/drawingml/2006/table">
            <a:tbl>
              <a:tblPr/>
              <a:tblGrid>
                <a:gridCol w="1736640"/>
                <a:gridCol w="1582920"/>
                <a:gridCol w="4713120"/>
                <a:gridCol w="2160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≈ Ad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(29: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2 (46 typ: 18 bare 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1BE7-3179-48DD-9F1D-37026DF58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57200" y="1981080"/>
          <a:ext cx="8248680" cy="4308480"/>
        </p:xfrm>
        <a:graphic>
          <a:graphicData uri="http://schemas.openxmlformats.org/drawingml/2006/table">
            <a:tbl>
              <a:tblPr/>
              <a:tblGrid>
                <a:gridCol w="1736640"/>
                <a:gridCol w="1582920"/>
                <a:gridCol w="4713120"/>
                <a:gridCol w="2160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≈ Ad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(29: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2 (46 typ: 18 bare 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rule: A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fx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d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801D8-9D9E-417C-A0CF-602906A03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457200" y="1981080"/>
          <a:ext cx="8248680" cy="4308480"/>
        </p:xfrm>
        <a:graphic>
          <a:graphicData uri="http://schemas.openxmlformats.org/drawingml/2006/table">
            <a:tbl>
              <a:tblPr/>
              <a:tblGrid>
                <a:gridCol w="1738440"/>
                <a:gridCol w="1584360"/>
                <a:gridCol w="2089080"/>
                <a:gridCol w="2836800"/>
              </a:tblGrid>
              <a:tr h="92736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m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(29: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 (46: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 (6:0) &gt; L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FA87D-0397-4AE8-9C4E-AC9869A46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"/>
              </a:rPr>
              <a:t>Spanish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762840" y="2205000"/>
            <a:ext cx="46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Potential ‘Trojan Horses’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B0D9F-2C64-44F3-BF1B-8189096BE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"/>
              </a:rPr>
              <a:t>Spanish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Text Box 6"/>
          <p:cNvSpPr/>
          <p:nvPr/>
        </p:nvSpPr>
        <p:spPr>
          <a:xfrm>
            <a:off x="762840" y="2205000"/>
            <a:ext cx="460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Potential ‘Trojan Horses’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N: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‘-s’ [PL] (Q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C6D7F-1348-4FE2-B991-29C499A75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"/>
              </a:rPr>
              <a:t>Spanish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1086120" y="2205000"/>
            <a:ext cx="606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Potential ‘Trojan Horses’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N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s’ [PL] (Q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: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‘-mente’ [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DV] (Que, Gua)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4581C-DF68-416B-A6BA-1A550729A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"/>
              </a:rPr>
              <a:t>Spanish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1208520" y="2205000"/>
            <a:ext cx="67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Potential ‘Trojan Horses’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N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s’ [PL] (Q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A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mente’ [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ADV] (Que, Gua)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: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‘-a’ [F] (Que, Gua): only [FEMAL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6584C-CAB7-4F7E-97E0-5840DD6B4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"/>
              </a:rPr>
              <a:t>Spanish borrowed with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1015920" y="2205000"/>
            <a:ext cx="643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Potential ‘Trojan Horses’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N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s’ [PL] (Q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A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mente’ [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ADV] (Que, Gua)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A: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‘-a’ [F] (Que, Gua): only [FEMAL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S THAT ALL THERE IS?!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AutoShape 7"/>
          <p:cNvSpPr/>
          <p:nvPr/>
        </p:nvSpPr>
        <p:spPr>
          <a:xfrm>
            <a:off x="457200" y="5518080"/>
            <a:ext cx="1008000" cy="71928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5E8EB-7C44-46A1-8A75-BDB05E5B6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1828800"/>
            <a:ext cx="22779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Borrowing from Spanish: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1"/>
          <p:cNvSpPr/>
          <p:nvPr/>
        </p:nvSpPr>
        <p:spPr>
          <a:xfrm>
            <a:off x="687240" y="89856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6. Borrowing </a:t>
            </a: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i="1" lang="en-GB" sz="4000" spc="-1" strike="noStrike">
                <a:solidFill>
                  <a:srgbClr val="280099"/>
                </a:solidFill>
                <a:latin typeface="Arial"/>
              </a:rPr>
              <a:t>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74F95-0B4C-4C9B-A249-C48496312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EBAC5-124E-4C84-8E71-1B498CF33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Borrowing and Morp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3190680" y="3732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705600" y="3081240"/>
            <a:ext cx="71420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 what extent do borrowed lexeme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te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ative morph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33B99-DC36-4C58-81DA-B1B1AAD28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Text Box 3"/>
          <p:cNvSpPr/>
          <p:nvPr/>
        </p:nvSpPr>
        <p:spPr>
          <a:xfrm>
            <a:off x="457200" y="457200"/>
            <a:ext cx="84358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008B-F1A3-4D8F-A915-2EEFEBB0D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457200" y="457200"/>
            <a:ext cx="84358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4"/>
          <p:cNvSpPr/>
          <p:nvPr/>
        </p:nvSpPr>
        <p:spPr>
          <a:xfrm>
            <a:off x="4199040" y="40086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68360" y="1989000"/>
          <a:ext cx="3960720" cy="3876840"/>
        </p:xfrm>
        <a:graphic>
          <a:graphicData uri="http://schemas.openxmlformats.org/drawingml/2006/table">
            <a:tbl>
              <a:tblPr/>
              <a:tblGrid>
                <a:gridCol w="1942920"/>
                <a:gridCol w="201780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381DD-A704-4AED-B6F7-0181F1D15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Text Box 3"/>
          <p:cNvSpPr/>
          <p:nvPr/>
        </p:nvSpPr>
        <p:spPr>
          <a:xfrm>
            <a:off x="457200" y="457200"/>
            <a:ext cx="8507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457200" y="1981080"/>
          <a:ext cx="5845320" cy="3876840"/>
        </p:xfrm>
        <a:graphic>
          <a:graphicData uri="http://schemas.openxmlformats.org/drawingml/2006/table">
            <a:tbl>
              <a:tblPr/>
              <a:tblGrid>
                <a:gridCol w="1940040"/>
                <a:gridCol w="1944720"/>
                <a:gridCol w="19605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5E61-3DDD-450D-A921-60B6BEBEE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Text Box 3"/>
          <p:cNvSpPr/>
          <p:nvPr/>
        </p:nvSpPr>
        <p:spPr>
          <a:xfrm>
            <a:off x="457200" y="457200"/>
            <a:ext cx="8507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250920" y="1989000"/>
          <a:ext cx="8004240" cy="3876840"/>
        </p:xfrm>
        <a:graphic>
          <a:graphicData uri="http://schemas.openxmlformats.org/drawingml/2006/table">
            <a:tbl>
              <a:tblPr/>
              <a:tblGrid>
                <a:gridCol w="2000160"/>
                <a:gridCol w="2003400"/>
                <a:gridCol w="2000160"/>
                <a:gridCol w="200052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7.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75CE5-FF23-4BFC-8877-54BA16D90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Text Box 3"/>
          <p:cNvSpPr/>
          <p:nvPr/>
        </p:nvSpPr>
        <p:spPr>
          <a:xfrm>
            <a:off x="457200" y="457200"/>
            <a:ext cx="8507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250920" y="1989000"/>
          <a:ext cx="4035240" cy="3888000"/>
        </p:xfrm>
        <a:graphic>
          <a:graphicData uri="http://schemas.openxmlformats.org/drawingml/2006/table">
            <a:tbl>
              <a:tblPr/>
              <a:tblGrid>
                <a:gridCol w="1008000"/>
                <a:gridCol w="1011240"/>
                <a:gridCol w="1008000"/>
                <a:gridCol w="100800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9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7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Text Box 49"/>
          <p:cNvSpPr/>
          <p:nvPr/>
        </p:nvSpPr>
        <p:spPr>
          <a:xfrm>
            <a:off x="4987080" y="3173400"/>
            <a:ext cx="3084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lmost exclusive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suffix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Oval 50"/>
          <p:cNvSpPr/>
          <p:nvPr/>
        </p:nvSpPr>
        <p:spPr>
          <a:xfrm>
            <a:off x="1116000" y="2743200"/>
            <a:ext cx="3024360" cy="1584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FFED-C1E0-4C26-AF63-05CB81F60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3"/>
          <p:cNvSpPr/>
          <p:nvPr/>
        </p:nvSpPr>
        <p:spPr>
          <a:xfrm>
            <a:off x="457200" y="457200"/>
            <a:ext cx="84358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Quechu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250920" y="1989000"/>
          <a:ext cx="4035240" cy="3888000"/>
        </p:xfrm>
        <a:graphic>
          <a:graphicData uri="http://schemas.openxmlformats.org/drawingml/2006/table">
            <a:tbl>
              <a:tblPr/>
              <a:tblGrid>
                <a:gridCol w="1008000"/>
                <a:gridCol w="1011240"/>
                <a:gridCol w="1008000"/>
                <a:gridCol w="100800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9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7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0" name="Text Box 49"/>
          <p:cNvSpPr/>
          <p:nvPr/>
        </p:nvSpPr>
        <p:spPr>
          <a:xfrm>
            <a:off x="4879080" y="3076560"/>
            <a:ext cx="33019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lmost exclusive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uffi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 appar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rpholog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ts 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 V, N and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Oval 50"/>
          <p:cNvSpPr/>
          <p:nvPr/>
        </p:nvSpPr>
        <p:spPr>
          <a:xfrm>
            <a:off x="1187280" y="4038480"/>
            <a:ext cx="3024360" cy="1584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1AA2B-6751-4B45-8C5B-1F3EF1D5C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13D88-2754-4452-9161-D1F118C86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4199040" y="3948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468360" y="1928880"/>
          <a:ext cx="3960720" cy="3876480"/>
        </p:xfrm>
        <a:graphic>
          <a:graphicData uri="http://schemas.openxmlformats.org/drawingml/2006/table">
            <a:tbl>
              <a:tblPr/>
              <a:tblGrid>
                <a:gridCol w="1942920"/>
                <a:gridCol w="2017800"/>
              </a:tblGrid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A11A-6D23-48B5-8D09-ED566496C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1828800"/>
            <a:ext cx="2277900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Borrowing from Spanish: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4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60B87-CCDF-47CF-9C2F-3D0666AF8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457200" y="1981080"/>
          <a:ext cx="5845320" cy="3876840"/>
        </p:xfrm>
        <a:graphic>
          <a:graphicData uri="http://schemas.openxmlformats.org/drawingml/2006/table">
            <a:tbl>
              <a:tblPr/>
              <a:tblGrid>
                <a:gridCol w="1940040"/>
                <a:gridCol w="1944720"/>
                <a:gridCol w="19605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40CC-EF8A-4B39-B1EE-08EA23C35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250920" y="1989000"/>
          <a:ext cx="8004240" cy="3876840"/>
        </p:xfrm>
        <a:graphic>
          <a:graphicData uri="http://schemas.openxmlformats.org/drawingml/2006/table">
            <a:tbl>
              <a:tblPr/>
              <a:tblGrid>
                <a:gridCol w="2000160"/>
                <a:gridCol w="2003400"/>
                <a:gridCol w="2000160"/>
                <a:gridCol w="200052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34D89-B765-442D-829E-89A398FAC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250920" y="1989000"/>
          <a:ext cx="3962160" cy="3961080"/>
        </p:xfrm>
        <a:graphic>
          <a:graphicData uri="http://schemas.openxmlformats.org/drawingml/2006/table">
            <a:tbl>
              <a:tblPr/>
              <a:tblGrid>
                <a:gridCol w="990360"/>
                <a:gridCol w="992160"/>
                <a:gridCol w="989280"/>
                <a:gridCol w="990360"/>
              </a:tblGrid>
              <a:tr h="131940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6" name="Oval 49"/>
          <p:cNvSpPr/>
          <p:nvPr/>
        </p:nvSpPr>
        <p:spPr>
          <a:xfrm>
            <a:off x="2057400" y="2971800"/>
            <a:ext cx="115236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 Box 50"/>
          <p:cNvSpPr/>
          <p:nvPr/>
        </p:nvSpPr>
        <p:spPr>
          <a:xfrm>
            <a:off x="4874760" y="2421000"/>
            <a:ext cx="3429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Person ma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Line 51"/>
          <p:cNvSpPr/>
          <p:nvPr/>
        </p:nvSpPr>
        <p:spPr>
          <a:xfrm flipV="1">
            <a:off x="2987640" y="2489040"/>
            <a:ext cx="18716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A4EA0-9540-426F-AAF3-5A9FCF6D5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250920" y="1989000"/>
          <a:ext cx="3962160" cy="3961080"/>
        </p:xfrm>
        <a:graphic>
          <a:graphicData uri="http://schemas.openxmlformats.org/drawingml/2006/table">
            <a:tbl>
              <a:tblPr/>
              <a:tblGrid>
                <a:gridCol w="990360"/>
                <a:gridCol w="992160"/>
                <a:gridCol w="989280"/>
                <a:gridCol w="990360"/>
              </a:tblGrid>
              <a:tr h="131940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4" name="Text Box 49"/>
          <p:cNvSpPr/>
          <p:nvPr/>
        </p:nvSpPr>
        <p:spPr>
          <a:xfrm>
            <a:off x="5359680" y="3716280"/>
            <a:ext cx="22154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opic/Fo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AM ma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ma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Oval 50"/>
          <p:cNvSpPr/>
          <p:nvPr/>
        </p:nvSpPr>
        <p:spPr>
          <a:xfrm>
            <a:off x="2124000" y="4267080"/>
            <a:ext cx="115272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Line 51"/>
          <p:cNvSpPr/>
          <p:nvPr/>
        </p:nvSpPr>
        <p:spPr>
          <a:xfrm flipV="1">
            <a:off x="3276720" y="3712680"/>
            <a:ext cx="2089080" cy="11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CD95C-65C9-4C7B-9D89-6A3CBB281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250920" y="1989000"/>
          <a:ext cx="3962160" cy="3936960"/>
        </p:xfrm>
        <a:graphic>
          <a:graphicData uri="http://schemas.openxmlformats.org/drawingml/2006/table">
            <a:tbl>
              <a:tblPr/>
              <a:tblGrid>
                <a:gridCol w="990360"/>
                <a:gridCol w="992160"/>
                <a:gridCol w="989280"/>
                <a:gridCol w="99036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Text Box 49"/>
          <p:cNvSpPr/>
          <p:nvPr/>
        </p:nvSpPr>
        <p:spPr>
          <a:xfrm>
            <a:off x="4781520" y="2457360"/>
            <a:ext cx="3516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any person ma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 N ~ A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Oval 50"/>
          <p:cNvSpPr/>
          <p:nvPr/>
        </p:nvSpPr>
        <p:spPr>
          <a:xfrm>
            <a:off x="1042920" y="3141720"/>
            <a:ext cx="115272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Oval 51"/>
          <p:cNvSpPr/>
          <p:nvPr/>
        </p:nvSpPr>
        <p:spPr>
          <a:xfrm>
            <a:off x="3059280" y="3141720"/>
            <a:ext cx="115236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Line 52"/>
          <p:cNvSpPr/>
          <p:nvPr/>
        </p:nvSpPr>
        <p:spPr>
          <a:xfrm flipV="1">
            <a:off x="1835280" y="2633760"/>
            <a:ext cx="2952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Line 53"/>
          <p:cNvSpPr/>
          <p:nvPr/>
        </p:nvSpPr>
        <p:spPr>
          <a:xfrm flipV="1">
            <a:off x="4211640" y="3065040"/>
            <a:ext cx="57636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874C-1877-4DE5-8923-8D4B14065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250920" y="1989000"/>
          <a:ext cx="3962160" cy="3936960"/>
        </p:xfrm>
        <a:graphic>
          <a:graphicData uri="http://schemas.openxmlformats.org/drawingml/2006/table">
            <a:tbl>
              <a:tblPr/>
              <a:tblGrid>
                <a:gridCol w="990360"/>
                <a:gridCol w="992160"/>
                <a:gridCol w="989280"/>
                <a:gridCol w="99036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1" name="Text Box 48"/>
          <p:cNvSpPr/>
          <p:nvPr/>
        </p:nvSpPr>
        <p:spPr>
          <a:xfrm>
            <a:off x="4648680" y="3244680"/>
            <a:ext cx="3163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any postpos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L mar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 N ~ A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Oval 49"/>
          <p:cNvSpPr/>
          <p:nvPr/>
        </p:nvSpPr>
        <p:spPr>
          <a:xfrm>
            <a:off x="1042920" y="4437000"/>
            <a:ext cx="115272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Oval 50"/>
          <p:cNvSpPr/>
          <p:nvPr/>
        </p:nvSpPr>
        <p:spPr>
          <a:xfrm>
            <a:off x="3059280" y="4437000"/>
            <a:ext cx="115236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51"/>
          <p:cNvSpPr/>
          <p:nvPr/>
        </p:nvSpPr>
        <p:spPr>
          <a:xfrm flipV="1">
            <a:off x="4140360" y="4073400"/>
            <a:ext cx="50292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Line 52"/>
          <p:cNvSpPr/>
          <p:nvPr/>
        </p:nvSpPr>
        <p:spPr>
          <a:xfrm flipV="1">
            <a:off x="2122560" y="3354120"/>
            <a:ext cx="2520720" cy="12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D305-DF98-4781-A9D4-479F8C6F0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Guaran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250920" y="1989000"/>
          <a:ext cx="3962160" cy="3936960"/>
        </p:xfrm>
        <a:graphic>
          <a:graphicData uri="http://schemas.openxmlformats.org/drawingml/2006/table">
            <a:tbl>
              <a:tblPr/>
              <a:tblGrid>
                <a:gridCol w="990360"/>
                <a:gridCol w="992160"/>
                <a:gridCol w="989280"/>
                <a:gridCol w="99036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0" name="Oval 48"/>
          <p:cNvSpPr/>
          <p:nvPr/>
        </p:nvSpPr>
        <p:spPr>
          <a:xfrm>
            <a:off x="1042920" y="4437000"/>
            <a:ext cx="115272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Oval 49"/>
          <p:cNvSpPr/>
          <p:nvPr/>
        </p:nvSpPr>
        <p:spPr>
          <a:xfrm>
            <a:off x="3059280" y="4437000"/>
            <a:ext cx="115236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AutoShape 50"/>
          <p:cNvSpPr/>
          <p:nvPr/>
        </p:nvSpPr>
        <p:spPr>
          <a:xfrm>
            <a:off x="4572000" y="4437000"/>
            <a:ext cx="1079640" cy="647640"/>
          </a:xfrm>
          <a:prstGeom prst="rightArrow">
            <a:avLst>
              <a:gd name="adj1" fmla="val 50000"/>
              <a:gd name="adj2" fmla="val 416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Text Box 51"/>
          <p:cNvSpPr/>
          <p:nvPr/>
        </p:nvSpPr>
        <p:spPr>
          <a:xfrm>
            <a:off x="5940360" y="2205000"/>
            <a:ext cx="2436840" cy="3993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constraints detected b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less f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han 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native N/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5D62B-4511-4AF8-8DAF-C92C99A65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tom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52C76-97E0-4618-9E2B-FE269DE7D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tom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4199040" y="40086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468360" y="1989000"/>
          <a:ext cx="3960720" cy="3876840"/>
        </p:xfrm>
        <a:graphic>
          <a:graphicData uri="http://schemas.openxmlformats.org/drawingml/2006/table">
            <a:tbl>
              <a:tblPr/>
              <a:tblGrid>
                <a:gridCol w="1942920"/>
                <a:gridCol w="201780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BC471-532D-4268-9E24-95DE4239C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tom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457200" y="1981080"/>
          <a:ext cx="5845320" cy="3876840"/>
        </p:xfrm>
        <a:graphic>
          <a:graphicData uri="http://schemas.openxmlformats.org/drawingml/2006/table">
            <a:tbl>
              <a:tblPr/>
              <a:tblGrid>
                <a:gridCol w="1940040"/>
                <a:gridCol w="1944720"/>
                <a:gridCol w="1960560"/>
              </a:tblGrid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5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use Combining in Otom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FE33-F4AE-4FC4-9FC4-A7BCD0011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57200" y="1828800"/>
            <a:ext cx="2277900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1. The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2.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3. Borrowing from Spanish: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4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5. Borrowing </a:t>
            </a:r>
            <a:r>
              <a:rPr b="1" lang="en-US" sz="2800" spc="-1" strike="noStrike">
                <a:solidFill>
                  <a:srgbClr val="000090"/>
                </a:solidFill>
                <a:latin typeface="Tahoma"/>
              </a:rPr>
              <a:t>With</a:t>
            </a:r>
            <a:r>
              <a:rPr b="0" lang="en-US" sz="2800" spc="-1" strike="noStrike">
                <a:solidFill>
                  <a:srgbClr val="000090"/>
                </a:solidFill>
                <a:latin typeface="Tahoma"/>
              </a:rPr>
              <a:t> morp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396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3DCD-BC4D-4347-BE21-70994211A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tomi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Affixes on Spanish Loa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4199040" y="4235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250920" y="1989000"/>
          <a:ext cx="2863800" cy="3888000"/>
        </p:xfrm>
        <a:graphic>
          <a:graphicData uri="http://schemas.openxmlformats.org/drawingml/2006/table">
            <a:tbl>
              <a:tblPr/>
              <a:tblGrid>
                <a:gridCol w="954000"/>
                <a:gridCol w="955800"/>
                <a:gridCol w="954000"/>
              </a:tblGrid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4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3" name="AutoShape 49"/>
          <p:cNvSpPr/>
          <p:nvPr/>
        </p:nvSpPr>
        <p:spPr>
          <a:xfrm>
            <a:off x="3851280" y="3716280"/>
            <a:ext cx="1079640" cy="647640"/>
          </a:xfrm>
          <a:prstGeom prst="rightArrow">
            <a:avLst>
              <a:gd name="adj1" fmla="val 50000"/>
              <a:gd name="adj2" fmla="val 416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50"/>
          <p:cNvSpPr/>
          <p:nvPr/>
        </p:nvSpPr>
        <p:spPr>
          <a:xfrm>
            <a:off x="5364000" y="2313000"/>
            <a:ext cx="3457800" cy="3506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affi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f n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 &amp; 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everal constraints on loan ver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66B38-5427-4417-A9F8-68A5C0534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592200" y="1989000"/>
            <a:ext cx="81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Markers on verb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220BC-F422-495E-A1E8-E4D94824D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592200" y="1989000"/>
            <a:ext cx="81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Markers on verb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. Proclitic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ense, P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DD1E-8933-42BA-85A4-CBBF76262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6"/>
          <p:cNvSpPr/>
          <p:nvPr/>
        </p:nvSpPr>
        <p:spPr>
          <a:xfrm>
            <a:off x="592200" y="1989000"/>
            <a:ext cx="817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Markers on verb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. Proclitic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ense, P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n Otomi verbs: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24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 </a:t>
            </a: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&gt; 90%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f the ver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n loan verbs: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4%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f the ver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446F0-FEB3-4C14-A9B5-45DCC75D6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 Box 6"/>
          <p:cNvSpPr/>
          <p:nvPr/>
        </p:nvSpPr>
        <p:spPr>
          <a:xfrm>
            <a:off x="592200" y="1989000"/>
            <a:ext cx="81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Markers on verb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. Suffix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BJ, IOBJ, DEIXIS, EMPH,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ADF66-EAEA-459B-A56A-41A59A225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6"/>
          <p:cNvSpPr/>
          <p:nvPr/>
        </p:nvSpPr>
        <p:spPr>
          <a:xfrm>
            <a:off x="592200" y="1989000"/>
            <a:ext cx="817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Markers on verb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. Suffix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BJ, IOBJ, DEIXIS, EMPH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n Otomi verbs: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27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( &gt; </a:t>
            </a: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80%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ver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1200"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n loan verbs: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20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4%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f ver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D6F30-0947-4E6E-807B-86E48C905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Text Box 6"/>
          <p:cNvSpPr/>
          <p:nvPr/>
        </p:nvSpPr>
        <p:spPr>
          <a:xfrm>
            <a:off x="592200" y="1989000"/>
            <a:ext cx="82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oicing of initial conson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n verbs in Past.3S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4236F-7DC3-493F-AB33-E2B75F990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592200" y="1989000"/>
            <a:ext cx="77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oicing of initial conson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n verbs in Past.3S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  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sell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buy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leave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sleep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ñ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8B0D-3378-4F61-A633-F4F74A3A6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4199040" y="40910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3190680" y="3587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92200" y="1989000"/>
            <a:ext cx="794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oicing of initial conson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on verbs in Past.3S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  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sell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buy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i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leave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‘sleep’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ñä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ever on Spanish loan 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AutoShape 7"/>
          <p:cNvSpPr/>
          <p:nvPr/>
        </p:nvSpPr>
        <p:spPr>
          <a:xfrm>
            <a:off x="749160" y="5181480"/>
            <a:ext cx="1079640" cy="648000"/>
          </a:xfrm>
          <a:prstGeom prst="rightArrow">
            <a:avLst>
              <a:gd name="adj1" fmla="val 50000"/>
              <a:gd name="adj2" fmla="val 4165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1"/>
          <p:cNvSpPr/>
          <p:nvPr/>
        </p:nvSpPr>
        <p:spPr>
          <a:xfrm>
            <a:off x="3124080" y="6248520"/>
            <a:ext cx="2886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ing Morphology I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Text Box 2"/>
          <p:cNvSpPr/>
          <p:nvPr/>
        </p:nvSpPr>
        <p:spPr>
          <a:xfrm>
            <a:off x="6553080" y="6248520"/>
            <a:ext cx="2124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C6E38-707A-4768-A253-CAD03F8A1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Text Box 3"/>
          <p:cNvSpPr/>
          <p:nvPr/>
        </p:nvSpPr>
        <p:spPr>
          <a:xfrm>
            <a:off x="457200" y="457200"/>
            <a:ext cx="8220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omi morphology and Spanish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ext Box 4"/>
          <p:cNvSpPr/>
          <p:nvPr/>
        </p:nvSpPr>
        <p:spPr>
          <a:xfrm>
            <a:off x="4199040" y="39877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190680" y="34844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592200" y="1989000"/>
            <a:ext cx="77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. No use of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mpersonal constructio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, which ar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amp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in Otomi, and marked b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‘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-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9:32:21Z</dcterms:created>
  <dc:creator>Dik Bakker</dc:creator>
  <dc:description/>
  <dc:language>en-US</dc:language>
  <cp:lastModifiedBy>Anna</cp:lastModifiedBy>
  <dcterms:modified xsi:type="dcterms:W3CDTF">2010-09-04T11:12:44Z</dcterms:modified>
  <cp:revision>471</cp:revision>
  <dc:subject/>
  <dc:title>Slide 1</dc:title>
</cp:coreProperties>
</file>