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D8E-95FF-460E-8965-F7AC8551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468-296B-4D82-BBB9-A254E997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54F-E8D5-40F1-8C6D-276EEB0B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734-7F5E-40C0-8D8E-D8A607EB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ADA0-3864-4135-A843-3C1AB4D9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48A-C8C3-4603-BD37-002319BB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E755-2E88-41F9-B5A9-A59F746D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9BE-E008-449D-A167-E16E975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25D6-07B8-4B9B-988B-C82A48AC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A154-C776-4D41-AED3-6D803D6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D013-1BDE-445E-B881-6E0D009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8D8-6740-4A7F-BC79-868DA45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F2B4-4E64-4629-AA4F-1E3E2E4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8AC-2F42-4DBC-ABEC-C687A8C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9C39-D306-4ACD-B469-11C2AA4C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4273-A367-48A2-B168-02D3F160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CECC-C744-4B79-85EF-D14F9A1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60E-4A86-4234-B307-33D7327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56E-0A6E-4E1E-AAEB-AC49943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64C-A6D4-4A22-B39A-DB9F53DD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AF7-1D72-4A9E-BEAE-50DF06A7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A29-B888-47D5-AC0D-96C4E0A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6FA-73E6-42AC-973C-C0D0A34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D56-58E7-435B-8900-C295CB5E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E3C3-F0A0-4EA1-9362-D71DF65E0A69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C68D-5AE0-4A9B-8809-5BF42455F838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  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Word Order in English and Spanish 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from a Typological Perspectiv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Anna Siewierska &amp; Dik Bakk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3333cc"/>
                </a:solidFill>
                <a:latin typeface="Tahoma"/>
              </a:rPr>
              <a:t>(Lancaster University)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8587-140A-46F4-846F-D85D901C2A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tatistical data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lements (2006:119)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SVO  90-95% in narrativ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arc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í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-Miguel (1995) two NP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VO 97% ,  SV 78%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ilva-Corva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án (1983) &amp; Ocampo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1995:428) Rioplatenese Spanish conversa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O with lexical O  93% of transitive clau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inedo (1997) contemporary written Madrid Spanis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V with lexical O 17% of transitive VS clau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VOS (21%) and VSO (47%) are more common than OV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5F7-59CB-4464-BFAF-5D417ED315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nglish invers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ype of preposed comple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strictions on u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5EE-3708-4BEC-AF7F-BE81B19C06B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ype of preposed complem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orge can you do me a favour.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p in my room, on the nightstand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is a pinkish reddish envelope that has to go out immediately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dj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mediately recognisabl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here is the basic, profoundly false tenet of Movie Philosophy 10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3BC-5C07-405F-A7BB-2694A47001C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ype of preposed comple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he’s a nice woman, isn’t  she. Also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 nice woma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is our next gues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ubjectless non-finite clau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rrested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were Nathan Johnson, 23 of New York and his brother, Victor Johnson, 32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AC8-0EEB-4264-974C-A2995087A4C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dition 1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preposed phrase must not represent information that has a lower level of activation in the discourse that that represented by the postposed NP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*They have a whole bunch of pots in the kitchen, and in a great big tank are sitting all of the po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y have a whole bunch of pots in the kitchen, and in the tank are sitting all of the pot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9CA-6824-47AC-92BF-1A5D506CD07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dition 2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Unless the preposed dependent is semantically locative, the inversion requires an appropriate open proposition that is discourse old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*The Air &amp; Water show did not go as planned yesterday. Wounded were Paul Randolph and Steve Seymou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young men were hurt yesterday during a bungled convenience store robbery., according to police. Two suspects were arrested at the scene and are now in custody. Wounded were Paul Randolph and Steve Seymou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D57-2B32-4FD9-9960-A3D4F79D517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dition 3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verb must not represent information that is new to the discours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he vast majority of inversion have ascriptive “be”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ther verb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 opened the door and took a folded canvas bucket from behind the seat. Coiled on the floor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la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fifty-foot length of braided nyl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eneath the chin lap of the helmet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sproute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lack whisker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 the manager’s desk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s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 large manila envelop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334-AC80-4E64-BD34-A87ABB79E27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xistenti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nglish: there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: haber &amp; esta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6B6-0F17-49BE-9097-0452F7F5A95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Haber &amp; esta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Haber: indefinite 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ay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caballo en el jardi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There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rse in the garden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star: definite 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 el jardin esta 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e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caballo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 the garden   is      the horse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The horse is in the garden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E13-0653-4D4C-AB4A-391224C30CD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xistenti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are existential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was a power failur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are many splendid thing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xtended existential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’s a man knocking at the doo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’s plenty of room on the top shelf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are existentials do not and extended ones may have non-there counterpart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#A power failure wa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man was knocking at the do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FEB-FD44-462E-8142-689E37AE4AD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xercise: existenti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t all extended existentials have a non-there counterpart. Determine which do and which do no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952-7FC7-40C5-A027-E3CB46F3B8C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ome comparative data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O in Transitive with 2 NPS      All Clau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ussia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0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zec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3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ungarian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71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8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olis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73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20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innis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78%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 6%     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ee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81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nis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85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nglis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99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CA5-372B-46A0-A44E-54920411B7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rocessing Ea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Early Immediate Constituent (EIC) recognition principle (Hawkins 1994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 preference for linearization patterns which allow the quickest recognition of immediate constituents of syntactic group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EIC predicts that information about immediate constituency should be placed in the earlier rather than the latter part of a str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02B-0D60-44E7-8C44-A6F85A955B0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IC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vp [introduced np [some friends that John brought to the party] pp[to Mary]]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vp[introduced pp[to Mary] np[some friends that John brought to the party]]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P = V NP PP  vs. V PP N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9AE-AD12-4781-9985-DB7EABB7D05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 preference for b) over a)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 (a) since the NP is heavy the distance separating the first IC, the V from the word that constructs the last IC, the PP (the preposition “to”) is very lo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 (1b) the distance between V and the word constructing the last IC of the VP, the NP (the word “some”) is much short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us all the ICs of the VP are more rapidly recognized in (b) than in (a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sequently there should be a preference for (b) over (a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849-09E1-4FA6-8A39-3D747FE348A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rd order &amp; length &amp; complexit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hort &gt; lo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ess complex &gt; more comple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POC (Dik 1978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ther things being equal, constituents prefer to be placed in an order of increasing complexity, where the complexity of constituents is defined as follow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i) clitic &lt; pronoun &lt; noun phrase &lt; adpositional phrase &lt; subordinate clause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ii) for any category X: X &lt; X co X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iii) for any categories X and Y:X &lt; X [sub Y]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043-9430-45FB-AC92-FE09F8D29FA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ackernagel’s Law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tendency for clitics to occur in second position in the utterance,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lovene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javil  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je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merged  refl  be:prs:3sg     probl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`There emerged a problem.'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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  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u      jo       j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dal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ther  he:dat  it:acc  be:prs:3sg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ive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`Father gave/ has given it to him.'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861-31B0-48E4-A817-EDA0217F373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arlier placement of pronominal objec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: clitic objec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 Jua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w:1sg acc Jua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I saw Juan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L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vi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FB2-64CE-4278-8AF0-EAA9CB5D7B8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Uzbeck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n un-ga  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nlma-ni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berman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      him-dat  apple-acc  give:fu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I'll give him the apple.'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n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-  ni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sen-ga raman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      it-acc  you-dat send:fu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I'll send it to you.'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3B0-F218-4878-A744-29D9ABDE38F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Heavy NP-shif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P PP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P N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girl wor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on her shoulder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wo large white wings decorated with almond shaped figure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ile explained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o u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e various symbol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e revealed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o hi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e true measurements of the temple of Solomon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drew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on the parque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e circle of defe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5AC-8204-41AC-B0CA-93789D5C5A0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Final placement of sentential NP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at he is jealous is obvious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is obvious that he is jealous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E3E-80D0-4BB9-A96C-E5C8A066FBF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xtraposition from N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 met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 ma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last night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who reminded me of you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nother book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has just appeared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bout word order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1AB-4C5E-468B-BBF1-C40C59AB915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transitive ord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 </a:t>
            </a:r>
            <a:r>
              <a:rPr b="0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SV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nglish complies with some exception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 does not comply full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 vs. V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astilian conyemporary 47% vs. 54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ervantese 47% vs. 53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ioplatanese Spanish 38% vs. 62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7A9-94B5-4D39-ABDE-3F7DD30FCA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djectives with PP/S complem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aper yellow with ag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man interested in music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people so independent that they reject hel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504-0B35-4500-9BCA-F2F627A87112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th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N vs. NG in Eng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N vs. NA in 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Binominal expression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m and proper; bag and baggage; death and destruc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t and parcel; out and abo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691-E503-4FD1-B645-5FA5A581E70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ack to the EIC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redictions regarding length and complexity are sensitive to the basic word order of a language, whether it is basically OV or V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or relatively heavy categories such as sentential and NP complements the EIC predict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hort &gt; long in VO languages but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ong &gt; short in OV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or single word categories short &gt; long in all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3EA-7847-43F4-B263-5503B89FE4C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ong &gt; shor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apane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s1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NP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ary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a]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V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inoo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hn ga kekkonsi-ta]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y              yesterda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hn      marri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]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t-t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]]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t  sai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`Mary said that John got married yesterday’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Tahoma"/>
              </a:rPr>
              <a:t>.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 s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S1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inoo John ga kekkonsi-ta]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N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Mary ga]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V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t-t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]]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AD7-A7A1-4D84-880A-873F5DF505B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ong &gt; shor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Ha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[Mary Inuvik wheda] John yodihsh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y    Inuvik      be:in        John   know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John knows that Mary is in Inuvik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104-D6EA-4A15-8B4A-EE9CDE05395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IC algorithm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cessing ease is determined by counting the number of words required to recognize each immediate constituent, expressing this in the form of an IC-to-word ratio, converting this ratio to a percentage and finally averaging out all the percentages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 soon as all the ICs are encountered, the word count stops irrespective of how many words the last IC actually has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higher the EIC-ratio, the easier the given word order pattern is assumed to be for process­ing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EIC ratios depend on length (measured in number of words) and number of constituents within a particular constituent recognition domai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86E-2BF7-4DCB-B8B7-0FBF6221E54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IC word order predic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ross-linguistic preferences: which word order patterns are preferred by grammars; which are the most frequent basic word order patterns (grammaticalization)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reference for SOV vs. OSV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reference for SVO vs. OV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nguage internal: which word order patterns are most frequent in texts and preferred by speakers in psycholinguistic experimentation (performanc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0FB-FE40-4F76-89CC-5169832EA11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ross-linguistic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 vs. VO &amp; adposition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 languages tend to have preposi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 languages tend to have postposition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ever there are VO languages with postposition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d also much more rarely OV languages with preposi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33B-0584-4153-84C9-AB85E9B0AF54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 &amp; pos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rawak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 fary-fa aba kabadar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e kill-fut     one jagu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He killed a jaguar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-dyka no 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hyala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diak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sg-se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it    bench 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I saw it on a bench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F68-BF5A-4C04-849A-87E9DC7BC735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V &amp; Pre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ig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?e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ləha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may ?ət-ta  mahaze gal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sg     in   that    water     in-the   river     someth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?ərə? halle-k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e       be-1s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I see something in the water in the river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1A0-99CA-4C20-8463-63F67FE3B8FB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Transitive &amp; intransitive order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ransitiv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transit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ung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= 96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 = 89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=   3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=  11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olis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= 76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=  68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        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= 24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=  32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ee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= 83%      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 = 50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= 17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 = 50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nish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= 78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 = 47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= 22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S = 53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ED1-BF48-417B-96EF-B75B470A34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008-666D-4A34-A84B-B0A3879F5E41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IC rati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t to that fil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IC ratio 77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t that film to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IC ratio 23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film to wen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IC ratio 93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at film wen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IC ratio 7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BE4-BDF6-4047-912B-DA05971844E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anguage interna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article movement in Eng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 NP particle = bas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.V particle NP = transform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P=1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e looked Mary u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  Basic = 51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e looked up Mar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  Transformed = 3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atio of transformed 6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DE9-0CFD-4259-A7B3-349EF4045F9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article move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=2 word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the number up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Basic = 21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up the numb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formed = 45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tio of transformed 68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=3 word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the fax number up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Basic = 3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up the fax numb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formed = 13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tio of transformed 81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E15-3DD3-40C1-8A43-CB8566131398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article move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=4 word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the new fax number up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Basic = 1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up the new fax numb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formed = 13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tio of transformed 93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=5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his sister’s new fax number up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ic = 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looked up his sister’s new fax numb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 Transformed= 29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tio of transformed = 100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4E0-FA20-4D3E-AD1E-0213F5516E9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ack to transitive ord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ransitive order &amp; EIC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ata for Polish transitive ord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ll six permutations of S, O, V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 data for Spanish transitive ord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O, VSO, VOS &amp; OV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 what extent are the two languages similar?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D09-7DC6-4478-A910-9C6819AED8F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Frequency of Tr orders in Polish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 =760 Expository prose &amp; fic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52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6.8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VO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331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43.5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72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9.4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09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4.3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58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0.7%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S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38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5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AA7-B62B-4CDE-9FDF-0F3E12785FB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olish vs.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lish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  52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 331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  72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47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 109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 158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17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SV  38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625-DFF1-4389-9F3A-93812DAE2B6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Length characteristics: nr of word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titi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edi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in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8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1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6.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3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5.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0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7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S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3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015-FF15-4F94-90A9-F1BDAFA6C89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Length characteristics: nr of word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titi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edi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in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2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8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1.1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6.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1.3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5.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0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3.7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3.3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C1F-601B-44E2-A4AA-A3629B1EE02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 vs. OV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ng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O vs. OV; 99% vs. 1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O vs. OV 93%-97%  vs. 7%-3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lish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O vs. OV 82% vs. 18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686-950C-45C9-915B-E1A91F01F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olish &amp;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 &amp; VOS: similar to Po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: not clea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: a range of pragmatic uses: simila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E9B-AF25-4E4E-9A71-46C5F53874AC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verage EIC ra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 – 90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 – 81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 – 86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 – 84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 – 76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SV -  69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879-EDA0-4BDD-817A-47BFAB9D781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terpret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rocessing underlies the preference for SVO order in Polish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he lower average EIC scores for the other transitive patterns suggest that it is not processing ease that motivates the choice of a non-SVO pattern over an SVO on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OV, VSO and OSV always have lower EIC ratios than the corresponding SVO order would have had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VS and VOS may score higher than SVO, but only when the subject is longer than the object and the object consists of a single wor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BE8-AC2E-4587-831C-FD2FB4AAEE0A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IC predicitions &amp; Polish data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O order as the basic (grammaticalized) order should be overall most preferred in terms of processing ease -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orrec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non-SVO orders should be resorted to only when the use of SVO order is not optimal for processing - 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incorrec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iven the weight characteristics of the subject and object, the non-SVO order chosen should be easier to process than the SVO alternative would be – 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incorrect In 79% of the cases),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b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1A7-4A9A-41C5-AC57-C549E67940D7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IC predic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each of the transitive patterns tends to be favoured under weight conditions which allow the given pattern to achieve higher rather than lower EIC rati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in all: </a:t>
            </a: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it is not only the EIC</a:t>
            </a: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 that provides the motivation for word order variation in Polish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9D2-B6D1-44F7-B256-8D8487AA471E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Polish data &amp; pragmatic principl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re predictable &gt; less predictabl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redictability: referential distance measured in terms of distance between current mention of referent and previous mention in terms of number of clauses (a bit simplistic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re important &gt; less importa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mportance: topic persistence; measured in terms of number of successive clauses following current clause featuring the referent (a bit simplistic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869-A943-4EA8-9948-C0C8F70F8F04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verage Referential distance: nr clau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titi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edi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in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4.6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5.3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7.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3.3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3.3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6.8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3.4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6.7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7.0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4.5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S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7.0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6.3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17C-CE44-4397-9DD7-37CE1522982A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verage Topic persistence: in nr clau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titial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edial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Fin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O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69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65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1.02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68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56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1.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50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94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49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88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S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37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0.92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988-9121-4E49-9AE7-571CCB5AE153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More &gt; less predictabl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925640" y="1981080"/>
          <a:ext cx="54435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981080"/>
                    <a:ext cx="5443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D90-2FFE-4309-A435-E5C2F7A295DA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hort&gt; lo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925640" y="1981080"/>
          <a:ext cx="54435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981080"/>
                    <a:ext cx="5443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381-7862-451F-9085-E7E5F8C1D452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 vs. OV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ussia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ritte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V = 70%  vs. VS 30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V =10%   vs. VO 90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oke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V = 90%  vs. VS 10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V =50%   vs. VO 50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D8C-92AA-48C1-9009-9D5B0EDF9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ength vs pragmatic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hort/given &gt; long/new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hort &gt; long = 52%;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re predicable &gt; less predictable 62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iggest differences: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VS 49% contravene short &gt; long; 10% contravene more predictable &gt; less predictable;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SV 84% contravene short &gt; long; 34% contravene more predictable &gt; less predictabl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iverging predictions of short &gt; long and more predictable &gt; less predictable for 49% (372 clauses) of the cases in the corpus: pragmatic principle is correct in 48% (180/372), length in 28% (103/372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288-E5F0-48E3-B77A-DCEA98668497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Processing Ease vs. Pragmatic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Both clearly releva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hich wins out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ext typ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vestigations of Polish word order on written texts (expository and fict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rocessing ease most evident in on line processing: spoken langua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AAA-8481-4166-999E-30FA854FA662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ack to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nish wo is less flexible than Po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same principles seem to appl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nditions of use of VSO, VO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IC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ajor difference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tensive case marking in Po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 clitic doubling in Po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AF9-3262-4B5C-99FF-BE6010D06B5F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nish and English are SVO l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glish: SV &amp; V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panish: SV/VS &amp; V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ifferences in wo flexibility is attributable to agre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t the phrase level less differenc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panish is slightly more HM than Englis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th lgs. reflect the TU and E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ich is stronger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97D-2958-4F76-BC77-A37D369D368D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lements, J.C. (2006). Primary and Secondary object marking in Spanish. In , 115 -133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ryer, M. 1991. "The Greenbergian word order correlations". </a:t>
            </a:r>
            <a:r>
              <a:rPr b="0" i="1" lang="en-GB" sz="2000" spc="-1" strike="noStrike">
                <a:solidFill>
                  <a:srgbClr val="3333cc"/>
                </a:solidFill>
                <a:latin typeface="Tahoma"/>
              </a:rPr>
              <a:t>Language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68, 81-138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File-Muriel, R.J. (2006). Spanish adjective position: differences between written and spoken discourse, 203-218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arcia-Miguel J.M. (1995). Transitividad y complementacion preposicional en espa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ñol. Universudad de Santiago de Compostela (verba, anexo 40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ivón, Talmy (ed.), (1983). </a:t>
            </a:r>
            <a:r>
              <a:rPr b="0" i="1" lang="en-GB" sz="2000" spc="-1" strike="noStrike">
                <a:solidFill>
                  <a:srgbClr val="3333cc"/>
                </a:solidFill>
                <a:latin typeface="Tahoma"/>
              </a:rPr>
              <a:t>Topic continuity in discourse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. Amsterdam: John Benjamin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reenberg, Joseph. (1963): Some universals of grammar with particular reference to the order of meanigful elements. in: Greenberg, Joseph (ed.), </a:t>
            </a:r>
            <a:r>
              <a:rPr b="0" i="1" lang="en-GB" sz="2000" spc="-1" strike="noStrike">
                <a:solidFill>
                  <a:srgbClr val="3333cc"/>
                </a:solidFill>
                <a:latin typeface="Tahoma"/>
              </a:rPr>
              <a:t>Universals of Human Language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, 73-113, Cambridge: MIT Pres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698-39C1-4D16-98D0-363FEBB6A626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reenberg, Joseph. (1963): Some universals of grammar with particular reference to the order of meanigful elements. in: Greenberg, Joseph (ed.), </a:t>
            </a:r>
            <a:r>
              <a:rPr b="0" i="1" lang="en-GB" sz="2000" spc="-1" strike="noStrike">
                <a:solidFill>
                  <a:srgbClr val="3333cc"/>
                </a:solidFill>
                <a:latin typeface="Tahoma"/>
              </a:rPr>
              <a:t>Universals of Human Language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, 73-113, Cambridge: MIT Pres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Hawkins, J.A. (1994). </a:t>
            </a:r>
            <a:r>
              <a:rPr b="0" i="1" lang="en-GB" sz="2000" spc="-1" strike="noStrike">
                <a:solidFill>
                  <a:srgbClr val="3333cc"/>
                </a:solidFill>
                <a:latin typeface="Tahoma"/>
              </a:rPr>
              <a:t>A performance theory of order and constiuency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. Cambridge: Cambridge University Pres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Myhill, J. (1992). Typological Disocurse Analysis. Oxford: Blackwel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campo, F. 1995. The word order of two constituent constructions in spoken Spanish. In:  P. Downing &amp; M. Noonan (eds.), Word Order in Discourse. Amsterdam : John Benjamins, 425-448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5BE-F053-4EDF-A0D2-6416E1CA774D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ewierska, A. (1988).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Word Order Rule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. London: Croom Helm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ewierska, A. (1993). Syntactic weight vs pragmatic factors and word order variation in Polish.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Journal of Linguistic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ewierska, Anna (ed.), (1997).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onstituent Order in the Languages of Europ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. Berlin: Mouton de Gruyte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AD7-2785-4858-9F20-62B54BA0805B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n alternative classific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nglish: Strongly SV &amp; V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: Strongly VO (be it less strongly than English) but  SV/V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lish flexible SV &amp; V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ussian SV &amp; VO/OV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167-0BB6-4263-B4EF-736B29DED2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hat are the differences in word order variation due to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etween Spanish and Eng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 SVO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 languages in gener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6F7-A4BF-4709-83E1-2E1EC04214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 variation &amp; morphological mark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rd order variation in transitive clau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rphological mar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ase mar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greement mar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5CC-5B15-4536-ADC8-65B3BF82B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variation &amp; ca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ase marking allows the subject and object to be distinguished from each other without relying on word order to do s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igid word order of English is typically attributed to the disappearance of ca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ld English had case marking and exhibited greater word order flexibility: SVO,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OV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OSV,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OVS, VSO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(rar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4AD-0C72-4956-977D-092539E20B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rd Order &amp; Typolog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ord order lies at the heart of typological investig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reenberg (1963) “Some universals of grammar with particular reference to the order of meaningful elements”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he first universals related to basic word order of the subject, object and verb in declarative clauses an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the existence of correlating word order patterns at the phras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the existence of correlating patterns in non-declarativ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the presence of inflectional categori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23F-F7CE-4BFD-81FC-8A0C31230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ld English: SOV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cc00"/>
                </a:solidFill>
                <a:latin typeface="Tahoma"/>
              </a:rPr>
              <a:t>Þæ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æfre n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sceamig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:nom      this:gen never not shame:1s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I am never ashamed of that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1F4-27A5-4635-BEE4-42E3941610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ld English: OV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Tahoma"/>
              </a:rPr>
              <a:t>Tyn beboda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awrat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se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 ælmihtig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n commandments wote   the almight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  đæm twam tabelu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 the    two   table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The almighty wrote ten commandments on the two tablets.’ (p. 42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9EE-E43C-4B13-B757-A6AEE680BD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ld English: VS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ecgađ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eac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ure be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cc00"/>
                </a:solidFill>
                <a:latin typeface="Tahoma"/>
              </a:rPr>
              <a:t>Þæt we sceolo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-pl   also our books that we shal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Tahoma"/>
              </a:rPr>
              <a:t>đas   feowertyne niht mid     micel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se fourteen    nights with gre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Tahoma"/>
              </a:rPr>
              <a:t>geornfulnysse heald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rnestness    hold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`Our books also say that we should hold these fourteen days with great earnestness.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9D0-119B-4BF1-BF4C-0BD011DA27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urrent English &amp;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iffer with regard to ca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nglish: no case marking with non-pronominal NP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nish: has case marking with non-pronominal definite, animate objects by means of “a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38F-4510-474E-8076-D302D2C675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rd order variation: Siewierska (1997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easuring w/o variation: number of permutations of S,O &amp; 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igid - no variants          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estricted - one variant     Eng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 - two variants      Iceland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lexible - three variants     Span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ighly flexible - four +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Pol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BF1-A45C-4285-BAA4-5632408A0A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&amp; ca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Languages which lack case marking favour rigid (36%) and restricted order (33%) = 69%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E0E-C929-42E8-A505-F29EA628D6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ase relative to wo vari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90680" y="1981080"/>
          <a:ext cx="65134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981080"/>
                    <a:ext cx="6513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F5F-0FC1-4AEC-A630-18D233952A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&amp; ca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level of case marking increases from 24% in rigid languages to 79% in highly flexible on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DF9-D60F-4E32-92C2-EC4658B960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variation relative to ca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73120" y="1981080"/>
          <a:ext cx="6348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981080"/>
                    <a:ext cx="634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489-0A40-4BDD-876B-4270C99F1B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lexibility, marking &amp; wo typ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rd order variation is more sensitive to case marking in SVO than in SOV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7% of the rigid SOV,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88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of rigid SVO &amp; 100% of rigid VSO/VOS lack case mar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% of the highly flexible SOV,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28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of the SVO &amp; 8% of the VSO/VOS have case mar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O languages without case tend not to have SOV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6D6-13A6-4DAE-B4D8-57B253AF5D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Word order &amp; Spanish &amp; English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Both are SVO languag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teresting differences under closer inspec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requency of SVO ord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requency of SV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Use of alternative ord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462-A709-4166-AEAA-CD20FC262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variation &amp; agree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greement marking helps to distinguish the subject from the object if the two differ in person, number or gende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f a language has subject agreement only, whichever NP displays agreement is the subjec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aw-3sg the children  Mar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aw-3sg  Mary 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he children saw-3sg Mar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6C0-A3F5-4FE8-9136-C0A7BA7080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variation &amp; agree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greement is cross-linguistically much more common than case mark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75 - 80% of languages have agre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5- 50% of languages have case mar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 &amp; English differ in regard to agreement; Spanish has agreement, English only vestig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BE0-64A0-4E1A-80D2-2987FFE4EB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variation &amp; agree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73120" y="1981080"/>
          <a:ext cx="6348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981080"/>
                    <a:ext cx="634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B86-6CEC-4585-8265-9AA0AE54BE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greement vs. wo vari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73120" y="1981080"/>
          <a:ext cx="6348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981080"/>
                    <a:ext cx="634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D3A-2212-47E5-B63F-BDEAC43A0B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WO variation &amp; agreement mark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bsence of agreement is a good predictor of lack of word order variation, but presence of agreement is not a good predictor of flexible order (Siewierska 1997:.507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greatest sensitivity to the presence of agreement marking is exhibited by SVO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igid SVO are much less likely to have agreement than rigid SOV or V1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lexible SVO are more likely to have agreement than flexible SOV or V1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EA3-C135-48BF-A976-063E14E316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VO, Agr &amp; vari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 SVO language in the sample without agreement has either OVS or VO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nly two of the SVO without agreement have VSO, Gude and Coptic, Gude (aspect), Coptic a descendent of VS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most likely variant in SVO without agreement is OSV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ostverbal placement of  transitive S in SVO seems to depend on agre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6CD-D4D7-46AC-9C59-8A1E740244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panish &amp; Engl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bsence of word order variants other than OSV in English, no case marking or agreement mark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resence of OVS, VOS &amp; VSO: associated with agreement mar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bsence of SOV: restricted case mar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?no OSV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5EB-D812-4B39-BCB5-B7DC718EA8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SV in Engl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hat are the semantic characteristics of the subject and object, definiteness, animacy, person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C4E-CCBF-428D-B22C-76C4B12C6B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ack to basic ord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orrelations between the basic order in the clause and the phra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clause: VO vs. OV 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phrase: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ype of adposi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placement of the inflected auxiliary relative to the verb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rder within the N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825-E817-464B-8A73-D716D38CD8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sistent order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 Consistent language is one in which all head modifier pairs comply with either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head &gt; modifie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modifier &gt; hea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English &amp; Spanish SVO -&gt; VO &gt; H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Expec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Head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99b62"/>
                </a:solidFill>
                <a:latin typeface="Tahoma"/>
              </a:rPr>
              <a:t>Modifi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verb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PPs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dposition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VC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uxiliary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verb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onfirm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603-8A90-4864-90E3-4B0845E2FC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VO order in Engl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t necessarily the most frequent ord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transitive clauses may be more frequent than transit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most frequent order in transitive clau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SV the only alternat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requency of OSV 1%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VO 99% of transitive clau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226-DFCB-4101-9246-FC1906F46A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 the N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itial expectation also HM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ead 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99b62"/>
                </a:solidFill>
                <a:latin typeface="Tahoma"/>
              </a:rPr>
              <a:t>Modifi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rtic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monstra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djec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umer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quantifi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ronominal possessor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eni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lative clau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048-ED65-4F3F-89B5-41655D9DA9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vising the expecta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ryer (1992); contrary to what Greenberg suggested not all head/modifier pairs correlate with VO vs. OV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nly those do where H is a non-phrasal (lexical category) and M is a phrasal category (branching category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ranching categories: V &amp; NP, V &amp; PP, P &amp; NP; N &amp; Gen; N &amp; AdjP; N &amp; Rel C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n-branching: N &amp; Art, N &amp; Dem, Noun &amp; Num, N &amp; Q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203-5960-4748-8B35-DB92DBC840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The Branching Direction Theory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Languages tend to be either right-branching (VO) in which phrasal categories follow non-phrasal categories or left-branching (OV) in which phrasal categories precede non-phrasal categori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293-7713-4F9A-864A-C988A3498A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head &amp; modifier in the N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Tahoma"/>
              </a:rPr>
              <a:t>Modifier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ead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rticl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monstr  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/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djectiv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M/H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umer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/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quantifier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/M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enitive Pro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H/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enitive NP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M/HM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H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l claus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HM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33cc"/>
                </a:solidFill>
                <a:latin typeface="Tahoma"/>
              </a:rPr>
              <a:t>H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A2C-9B1C-40CA-BEA0-145919D1C8C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Consistency within the N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nglish at the NP level is predominantly MH not H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 is more H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5D1-2D71-492F-A3ED-9111AAD43F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 the European contex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Distribution of languages in Europe in terms of consistent HM vs. M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P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Head &gt; Modifier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                                     Celtic &lt; Albanian, </a:t>
            </a:r>
            <a:r>
              <a:rPr b="0" lang="en-GB" sz="3200" spc="-1" strike="noStrike">
                <a:solidFill>
                  <a:srgbClr val="499b62"/>
                </a:solidFill>
                <a:latin typeface="Tahoma"/>
              </a:rPr>
              <a:t>Romanc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&lt; Greek, Slavic &lt; </a:t>
            </a:r>
            <a:r>
              <a:rPr b="0" lang="en-GB" sz="3200" spc="-1" strike="noStrike">
                <a:solidFill>
                  <a:srgbClr val="ff33cc"/>
                </a:solidFill>
                <a:latin typeface="Tahoma"/>
              </a:rPr>
              <a:t>Germanic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&lt; Baltic, Finnic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odifier &gt; Hea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FE5-4B41-4797-8B2F-E320539778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way from Eurasian OV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Celtic are VSO and the Finnic have fairly recently undergone a change from SOV to SVO order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CA6-9940-4994-8029-613D92036E1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SO, SVO &amp; SOV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080" y="1916280"/>
            <a:ext cx="9036000" cy="4512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762520" y="5191200"/>
            <a:ext cx="1257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FB8-AFAF-4FFE-8106-03C7F247E1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way from Eurasian OV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increase in HM order as we proceed from east to west may be attributed to the geographical and chronological distance from the MH type predominant in Eurasi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262-4FDE-427F-BAF0-E432F77C49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he VO lgs. of Europ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crease in HM features from east to west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um &lt; Dem&lt; Adj &lt; Gen &lt; R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umN = all VO lgs (not ye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Dem = Celt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Adj = Celtic, Albanian, Romance (and also Maltese and Assyria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G   = Celtic, Romance, Albanian, Maltese, Assyrian, Greek, Germanic and Slav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Rel = all VO lg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B5C-FFD0-4A54-BCB2-21175AEC3AC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VO order in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t necessarily the most frequent order in transitive clau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bjects need not be overt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bjects if pronominal are typically clitics, proclitics or enclitic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ree alternatives to SV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VS, VOS, VS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8D3-B347-4B1A-9712-FEB81AD903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ariation within the N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hich modifiers exhibit alternative placement possibilities relative to the hea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 the languages of Europe (Bakker &amp; Siewierska 1997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B63-66BD-4644-8A70-58C2217810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Decreasing likelihood of vari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 hierarchy of decreasing likelihood of exhibiting an alternative order to that of the basic ord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djective &gt; genitive &gt; relative clause &gt; numeral &gt; demonstrat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djN/NAdj = in just over half of the lgs. of Europ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N/NG = in a little over a thir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lN/NRel = in a little over a quart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umN/NNUm = in about a fift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mN/NDem = in only 13%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EF6-D5DE-4FAA-8A15-B921A417FF5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way from Eurasian OV: Adj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he further removed a language is from this Eurasian OV type the less relics of this type and more deviation in the direction of VO order it should display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eltic = strongly NAdj (AdjN only with semi-compound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ermanic, Baltic and Finnic = strongly Adj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middle = more readily  NAdj --&gt; AdjN (Albanian, Maltese, Romance) or AdjN --&gt; NAdj (Greek and Slavic) order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he possibilities of the use of AdjN order decrease with the distance from the Eurasian OV typ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F6F-ED0A-4719-B5BE-650803F3BD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way from Eurasian OV: Ge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alternative orders of the genitive pattern in a similar way.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eltic, Albanian and Romance = only 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eek and Slavic allow GN under various circumstanc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ermanic and Baltic GN languages have NG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innic = the majority strictly GN.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9E7-A6E4-4943-A855-777085984C3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Away from Eurasian OV: Re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nly the Finnic languages have a regular RelN alternative to the basic NRel, a clear relic of their relatively recent OV pas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18D-475E-44A0-913D-DA019DCDD5D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ariation in English &amp; Spanish NP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nglish: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N vs. 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panish: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Adj vs. AdjN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D53-C5DF-41AE-A6BA-24BF052FD4B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N vs. NG in Engl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ld English GN (s-genitive) with rare instances of NG (of-phras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By Middle English NG (of phrase) well establish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cently a resurgence of GN (s-genitiv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D3-30B4-4852-B483-B2521BF5BF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N vs. 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choice between the s-genitive and the of-phrase has been seen to be determined by factors such a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nimacy of possessor, thematic status, information status, final sibilant on the possessor, end weight, persistence (i.e. repetition) and the ‘nouniness’ of the text/passa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egist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41E-377D-4BF6-8B89-2B14CB6CD5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gis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G is more common than GN in all registe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ews has by far the highest frequency of G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cademic prose has by far the highest frequency of 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F0C-8A16-493C-B65C-DF875644BF6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N vs. 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nimacy of possess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ohn’s le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eg of the chai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?the chair’s le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finiteness of possess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book of John’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*the book of John’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ength of possess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trustee’s appointmen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cent appointment of a part-time woman and two me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A4F-138A-4F94-BA83-D09E1E4809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V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      V      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uen descanso g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ó    su pobre marid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rest       earned her poor husban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336-F932-4261-9BF3-74E451935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Increase of GN with inanimate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esperse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굴림"/>
              </a:rPr>
              <a:t>(1909-49: VII, 327f.)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sea’s rage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굴림"/>
              </a:rPr>
              <a:t>the rapidity of the heart’s action, or the room’s atmosphere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굴림"/>
              </a:rPr>
              <a:t>Greater increase in American (41%) than in British English (25%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굴림"/>
              </a:rPr>
              <a:t>British English: LOB vs. F-LOB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굴림"/>
              </a:rPr>
              <a:t>American English: Brown vs. Frow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굴림"/>
              </a:rPr>
              <a:t>Greatest increases in Press and Learned subcorpora, showing remarkable rises of 57% and 88% in AmE and 35% and 34% in BrE respectively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E9E-3E0E-4344-9F71-4E1176B9C4D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</a:rPr>
              <a:t>S-genitive vs. of-genitive &amp; length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lecturer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'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a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lecturer who stammer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'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a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name of the lecturer who stamm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iber et al (1999); proportional use of s-gentive and of-phrase of different lengths, for selected head noun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ointment, arrival, muder, resignation, withdraw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39D-4890-4048-A939-1526D163CA6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iber et al. (1999:304)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73120" y="1981080"/>
          <a:ext cx="6348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981080"/>
                    <a:ext cx="634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C1D-02AE-4E53-83B8-D33E98627C3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A vs. AN in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wo types of adjectives: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relational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(geographic entity, ethnic group, professional or scientific discipline, symbolic or philosophical movement) vs.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qualifying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(shape, space physical property)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vas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ón americana, estractura molecul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ndes edificios, ciertas fórmula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elational confined to N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ualifying more flexibility: NA &amp; 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13D-9323-4B94-8A71-9975EAF9F8D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A vs. A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N order is much more common in written discourse (24%) than in spoken (5%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N order has become less common over ti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ile- Muriel (2006); fic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1648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62.9% 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A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1876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58%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A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1886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55%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A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1974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27%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A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1981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24%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A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1999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24%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A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56B-CD94-4221-8649-57614EC64D5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A vs. A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ariation in placemen in ord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ntrast, emphasi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vos color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ores vivo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hange in mean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antiguo presidente vs. el president antigu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form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very ol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eavin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E8F-FFDB-46C7-A75C-628E3DE12CE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Heavines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yllabic heaviness; if the adjective has fewer syllables than the noun, the adjective is preposed, if more, it is postpos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ile- Muriel (2006:211); preposed adjectives tend to be equal or lighter than the N 83.8% overall and in written discourse and 100% in spoken discour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elational adjectives tend to be heavier (in terms of number of syllables) than other types of adjectiv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A10-9E84-4555-93FD-BEF7FC84314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Relative heavines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an nr syllables  % prepos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lation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93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 0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valuatio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55                 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46.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ersonality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5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18.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dality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25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0.6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empor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11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5.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hysic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.8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40.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hape &amp; spac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.56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44.2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* for evaluational 3.18 for preposed, 3.88 for postpos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FCB-AD41-49AF-9F22-B3C9F56BD88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equences of adjectiv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ostpos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 relational &gt; qualify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a comedia musical americana diverti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    comedy musical American   am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an amusing American musical comedy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reposed qualifying + Postpos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a divertida  comedia musical america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    amusing  comedy  musical American 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an amusing American musical comedy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392-DDC0-48DD-AE5D-4DCB7BD53C4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equences of modifier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mple NP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monstrative, Numeral, Adjective &amp; Nou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st common in Europe and the worl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m Num A N (English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xclusive to Europe as a basic ord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m Num N A (Spanish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plex NP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m Num A N Gen/Rel         Englis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m Num N A Gen/ Re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Spanis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821-18BB-469E-92F0-2D43EF05416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 O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  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lena los vasos   Don Latin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lls      the glasses      Don Latin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065-1ED2-4FC9-91E4-06E3AB824A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Factors underlying word ord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formation structu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earizing constituents in a way which is most likely for the hearer to understand the communicative intention of the spea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rocessing ea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earizing constituents in a way which will enable the hearer to process the utterance in the shortest possible ti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646-7EA8-4F86-9141-BA2FE5224D9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formation Structur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opic vs.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 binary approach: topic: what the utterance is primarily about vs. comment: what is said about the topic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painted this picture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9b62"/>
                </a:solidFill>
                <a:latin typeface="Tahoma"/>
              </a:rPr>
              <a:t>It was painted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by Jasper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n-binary: what the utterance is primarily about (topic a relation between a discourse entity and a predication) vs. focus: the most important or salient piece of information in the utterance as assessed by the speaker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EFB-3E0A-4AB5-8E07-585DC9C758F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99b62"/>
                </a:solidFill>
                <a:latin typeface="Tahoma"/>
              </a:rPr>
              <a:t>Topic</a:t>
            </a: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 vs. </a:t>
            </a:r>
            <a:r>
              <a:rPr b="0" lang="en-GB" sz="4400" spc="-1" strike="noStrike">
                <a:solidFill>
                  <a:srgbClr val="499b62"/>
                </a:solidFill>
                <a:latin typeface="Tahoma"/>
              </a:rPr>
              <a:t>Focu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painted this on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It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s painted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by Jasp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Jasp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ainted 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was J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sper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painted 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i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re are </a:t>
            </a:r>
            <a:r>
              <a:rPr b="0" lang="en-GB" sz="2800" spc="-1" strike="noStrike">
                <a:solidFill>
                  <a:srgbClr val="499b62"/>
                </a:solidFill>
                <a:latin typeface="Tahoma"/>
              </a:rPr>
              <a:t>the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from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Franc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was it lik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Dreadful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E8D-12B0-4173-A3FF-5CC0C598B8E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Given vs. new inform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iven: assumed to be identifiable by the hear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ew: assumed not to be identifiable by the hear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painted this on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Jasp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ainted it. 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was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Jasp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ho painted i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2B5-BBBF-41F3-9F07-76EB5402B3F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evels of activ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ctive: currently in centre of consciousness: just mentioned, well establish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Okay, there's a farmer. 2.</a:t>
            </a: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oks like a Chicano American. 3.</a:t>
            </a: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 picking pears. (...) 4. A little boy comes by o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i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bicycle. 5.</a:t>
            </a: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es that there are baskets of pears there. 6.Meanwhile, there are three little boys, up on the road a little bit, 7.and </a:t>
            </a: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they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e this little accident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i-active: in a person's peripheral consciousnes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.And then he (i.e. the boy on the bicycle) goes off, 9. and that's the end of that story. 10.But then it goes back to </a:t>
            </a: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the farm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11.Finally he comes down from his tree. 12.He looks at </a:t>
            </a: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the baske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834-5492-4E2E-A939-19A6D9DD8D0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Levels of activi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ferrable: referents inferentially related to some evoked entity, or in a salient set relation to such an entity.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's a nice house, but the kitchen is too small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team played quite well I suppose, but one or two of them are still a bit unfi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active: currently in a person's long term memor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692-506B-400F-8D75-A9010494D7B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Word Order &amp; Information Structu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pic &gt; comment unmark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 &gt; Topic mark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pic &gt; Focus unmark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ocus &gt; Topic mark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Given &gt; New unmarke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w &gt; Given mark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390-8175-4D86-8FEB-D45E5916161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Task Urgency: Givon (1988)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Attend first to the most urgent tas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where  a communicative task is identified as more urgent if the information to be communicated is either less predictable or more important.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ess predictable &gt; more predictable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re important &gt; less importa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;  comment &gt; topic;  topic &gt; comment; top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D9E-B1EA-4C9D-8E71-C8901928AF1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ho painted the picture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Jasper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Jasper painted i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t was painted by Jasper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picture, Jasper painted i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A7E-0C4E-4320-92E6-F88AA5C0295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type &amp; I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ask Urgency is intended to hold for all languages subject to grammatical facto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ignificantly it is intended to hold for bot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bject before object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bject before subject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re important before less importa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AAB-A9E0-474D-BE71-46D4D36690D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S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S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stí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la   novia un traje blanco,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 wearing the brid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a   suit       whit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do, por …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b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E9B-5549-4047-9C6C-189A9A9BC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 &amp; IS in English &amp;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WO more grammaticalized in English than in Spanis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o what extent does wo reflect TU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reposing of topical given inform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stposing of new/focal inform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29F-0131-4741-9873-2B5E5E24BF2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panish main clause ord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V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O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VS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V vs. V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A6C-AA5F-419B-9D9E-1007596D2E9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VS without clitic doubl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V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uen descans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anó su pobre marido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      rest         earned    her poor husban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V-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lhaja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no teng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ewels      not have:1s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Jewellery I don’t have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5FF-DB67-4474-9A49-55C8BC40F4D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VS with clitic doubl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 cl V 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l diner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 puso Arturo, naturalmen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 money   i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pu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Arturo        of cour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`The money, Arturo put it in , of cours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 cl V-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  Jua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 he      visto en el  supermercad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j Juan  him have:1sg seen    in   the  supermarke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`Juan I saw in the supermarket.’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DD5-065C-46B8-A28E-7A98750BA63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V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ithout clitic doubl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Restricted to non-specif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Typically bare plural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ontrary to expectation; O new; initial peak pitch and an accent with a steep fal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Focus- fronting; O is new; the distance between highest and lowest pitch is smaller than in contrary to expec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Contrastiv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ith clitic doubl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Defini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ld information, topic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8E5-9C03-4B8E-8B19-C5A6E8DF64B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an  recorrido el camino desd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ve   travelled    the road        from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reyes a mendigos, desde santos a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ings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ggars         from      saints  t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er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rmal peopl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6DE-CEF9-4612-B1B1-383B4A55300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Conduce   la discusi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        Don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ducts      the discussion             don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auro Rovirosa, que tiene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       R                 who has…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5D9-A749-4ECB-AEC6-748E66C9CEE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formation structu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 typically give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 focal, new, often lo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30A-CCD3-4805-9493-B84803A298B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S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nflicting claim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hitley (1986): S preferably indefinit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 ha comido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un ni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ñ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 manza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 ha comido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l ni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ñ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 manza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inedo (1997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Short subject, human, animate, second argument clausal object or NP not amenable to passivization, e.g. second argument of verb “have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Frequent in indirect reported speec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A28-5A3F-4BB4-AF82-B734335FE17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S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: frequently main protagonist of a particular stretch of discourse, often of a whole tex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udo recordar la cantante su primera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uld  remember  the singer        her  firs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od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dd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54C-2777-43D8-9823-221583E3DE2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asic nature of SV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The most frequent order in transitive clauses in which the subject and object are overt and lexic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ctual frequency of SV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ext typ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ety of Spanis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AF6-8801-41FC-9C05-810EBE180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S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í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el racimo cinco grandes uva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d      the  bunch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ve   big        grap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`The bunch had five big grapes.’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Qu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nd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l hombre desplazarse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nted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the    man            tra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aso    para observar, al menos en u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hap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    observ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ncipio, de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ónde venia el viento y d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ónde  la lluvia…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027-AE01-4714-8F36-6151D731D9B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SO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formation structu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: given, activated, topic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: new, foc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: maybe new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BDC-EE20-448D-8949-681C0C9B21C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OSV in Engl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imilar to Spanish OVS without clitic doubl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: Contrasit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: Foc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: given information, de-accent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: typically a personal pronou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258-9700-4DD9-B550-1EE9B73E374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SV vs. VS in Spanish &amp; Engl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ostposing of new 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Bare – no preverbal materi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Inversion – with preverbal materi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xistenti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D76-17AD-424D-B8CD-1144FC75343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Bare SV vs. V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panish both SV &amp; V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s 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s sonrier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The children smiled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ta mi pad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My father sings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glish SV only (apart from stage presentation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woman ente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ters an old woma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F6A-B5AC-40A9-AF43-24F306E6C4C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Preverbal S in Spanish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No bare plural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legaron mue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rived   furnitur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The furniture arrived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*Muebles llegar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581-1E11-4980-B3A2-4B8758C99E6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version XV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efiniten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VS in English are indefinit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panish allows both definite &amp; indefinit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ature of verb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VS in English: low content, unaccuative verb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panish allows inversion with all sorts of verb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formation structu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VS typically is presenta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A69-051A-457B-8504-FD87D96CBF4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Indefinite 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 el va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í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 indoloro patino de pronto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 the void  painless   slid       suddenl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na voz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gangosa, jadean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  voic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wanging, paint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Into the painless void suddenly slid a panting, twanging voic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CC8-3317-42B3-901B-B69A146ABD9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No definiteness constrai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XVS def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las cuatro viene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la funerari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  four           comes  the  underta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The undertaker is due at four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 el patio ladra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el perr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 the yard     barks   the do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`The dog is barking in the yard.’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C9A-A570-46C5-9E4C-58E152608FD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verb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taba un pajaro en el solitario corr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nging      a   bird          in the deserted   threshol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A bird was singing in the deserted threshold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*In the deserted threshold was a bird singing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`In the deserted threshold there was a bird singing.’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d Order &amp; Information Struc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79E-2EC8-458E-989A-962A60D44A1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9:08:52Z</dcterms:created>
  <dc:creator>Compaq</dc:creator>
  <dc:description/>
  <dc:language>en-US</dc:language>
  <cp:lastModifiedBy>Dik Bakker</cp:lastModifiedBy>
  <dcterms:modified xsi:type="dcterms:W3CDTF">2007-10-24T22:31:15Z</dcterms:modified>
  <cp:revision>747</cp:revision>
  <dc:subject/>
  <dc:title>PowerPoint Presentation</dc:title>
</cp:coreProperties>
</file>