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FD3-24C5-4991-8AA9-5AF9DADF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148-D4B0-4424-A52F-648D44D9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731-7FD6-4A54-8ACF-748846C8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F94-1803-4133-BED6-7DE78C75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8CF7-92C8-4917-9D28-40B38BB7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EDB7-B26B-4FB8-B419-8CB182B9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86D7-6955-4935-906D-46172D3B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2AF0-E0AA-43F0-B3A0-28D838F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6B31-FDD6-4244-A576-1F54F8DC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7572-B623-494F-AEFA-846810E1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AB04-CAFF-484D-9697-4E84ADAD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FD3-0800-429B-BFED-F73D6B89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D71E-53A5-4741-A4B9-117068D3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EB06-139A-4AC9-B9C4-E364AD28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525D-F8DF-4B3F-BC1C-FFFB5A95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98B5-E590-469A-97DE-79FA0789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C554-94D5-4189-85EC-5E16B1D5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D70-4C89-40B3-8ABD-221F40A4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114-D97B-4ABC-9E0A-EFB2C66A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D70-4DEA-4D94-8A3C-752AE021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9E6-8AD0-4105-82DF-01EE79CB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CD0-6535-46F4-BAB5-8746679C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DEB-D3A1-4434-A1B3-ACE2452F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8C7-CB44-4380-88B1-F4631E0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3311-8B04-466E-8059-A9B9AE6F3185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4F1A-D48C-4224-82DB-69E66E6E9D9B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lotschool.nl/Research/ltrc/" TargetMode="External"/><Relationship Id="rId2" Type="http://schemas.openxmlformats.org/officeDocument/2006/relationships/hyperlink" Target="http://www.ethnologue.com/" TargetMode="External"/><Relationship Id="rId3" Type="http://schemas.openxmlformats.org/officeDocument/2006/relationships/hyperlink" Target="http://www.ethnologue.com/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file:///../../../../Research/Projects/LWT%20EXPERIMENT/LWT.EXE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5028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: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ta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&amp;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ools </a:t>
            </a:r>
            <a:br>
              <a:rPr sz="4400"/>
            </a:b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nna Siewierska &amp; Dik Bakk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95280" y="4508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035-4430-47D6-B344-83FC85E703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701-2763-496F-8BD5-7A6982A377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66160" y="54864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24400" y="5029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F11-D57C-42AD-A1B2-8CCCBF6381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666160" y="54864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0120" y="3809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3505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5943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4495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18288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5410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276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5562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24400" y="5029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BF5-9CD5-441C-B2A6-94684EF24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674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666160" y="54864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0120" y="3809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3505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5943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4495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3800" y="18288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5410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3276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5880" y="5562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24400" y="5029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22B-542F-4BA1-8684-CB90A72398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666160" y="54864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0120" y="3809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95680" y="3505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5943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62720" y="4495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18288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19720" y="5410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3276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562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24400" y="5029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7400" y="22431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DE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C83-E5A0-4BE8-871F-C5C7BD29F5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3860640" y="2370240"/>
            <a:ext cx="1930680" cy="3262320"/>
          </a:xfrm>
          <a:custGeom>
            <a:avLst/>
            <a:gdLst/>
            <a:ahLst/>
            <a:rect l="l" t="t" r="r" b="b"/>
            <a:pathLst>
              <a:path w="1216" h="2055">
                <a:moveTo>
                  <a:pt x="306" y="211"/>
                </a:moveTo>
                <a:cubicBezTo>
                  <a:pt x="294" y="352"/>
                  <a:pt x="269" y="481"/>
                  <a:pt x="188" y="599"/>
                </a:cubicBezTo>
                <a:cubicBezTo>
                  <a:pt x="171" y="656"/>
                  <a:pt x="141" y="698"/>
                  <a:pt x="118" y="752"/>
                </a:cubicBezTo>
                <a:cubicBezTo>
                  <a:pt x="101" y="792"/>
                  <a:pt x="80" y="873"/>
                  <a:pt x="59" y="905"/>
                </a:cubicBezTo>
                <a:cubicBezTo>
                  <a:pt x="22" y="961"/>
                  <a:pt x="41" y="926"/>
                  <a:pt x="12" y="1011"/>
                </a:cubicBezTo>
                <a:cubicBezTo>
                  <a:pt x="8" y="1023"/>
                  <a:pt x="0" y="1046"/>
                  <a:pt x="0" y="1046"/>
                </a:cubicBezTo>
                <a:cubicBezTo>
                  <a:pt x="8" y="1070"/>
                  <a:pt x="9" y="1097"/>
                  <a:pt x="24" y="1117"/>
                </a:cubicBezTo>
                <a:cubicBezTo>
                  <a:pt x="31" y="1127"/>
                  <a:pt x="48" y="1123"/>
                  <a:pt x="59" y="1128"/>
                </a:cubicBezTo>
                <a:cubicBezTo>
                  <a:pt x="151" y="1174"/>
                  <a:pt x="239" y="1213"/>
                  <a:pt x="341" y="1234"/>
                </a:cubicBezTo>
                <a:cubicBezTo>
                  <a:pt x="355" y="1275"/>
                  <a:pt x="334" y="1332"/>
                  <a:pt x="365" y="1363"/>
                </a:cubicBezTo>
                <a:cubicBezTo>
                  <a:pt x="387" y="1385"/>
                  <a:pt x="428" y="1371"/>
                  <a:pt x="459" y="1375"/>
                </a:cubicBezTo>
                <a:cubicBezTo>
                  <a:pt x="479" y="1383"/>
                  <a:pt x="497" y="1394"/>
                  <a:pt x="518" y="1399"/>
                </a:cubicBezTo>
                <a:cubicBezTo>
                  <a:pt x="545" y="1406"/>
                  <a:pt x="574" y="1403"/>
                  <a:pt x="600" y="1411"/>
                </a:cubicBezTo>
                <a:cubicBezTo>
                  <a:pt x="613" y="1415"/>
                  <a:pt x="622" y="1428"/>
                  <a:pt x="635" y="1434"/>
                </a:cubicBezTo>
                <a:cubicBezTo>
                  <a:pt x="658" y="1444"/>
                  <a:pt x="682" y="1450"/>
                  <a:pt x="706" y="1458"/>
                </a:cubicBezTo>
                <a:cubicBezTo>
                  <a:pt x="733" y="1467"/>
                  <a:pt x="776" y="1505"/>
                  <a:pt x="776" y="1505"/>
                </a:cubicBezTo>
                <a:cubicBezTo>
                  <a:pt x="817" y="1624"/>
                  <a:pt x="795" y="1752"/>
                  <a:pt x="835" y="1869"/>
                </a:cubicBezTo>
                <a:cubicBezTo>
                  <a:pt x="856" y="2055"/>
                  <a:pt x="824" y="2012"/>
                  <a:pt x="1058" y="1998"/>
                </a:cubicBezTo>
                <a:cubicBezTo>
                  <a:pt x="1127" y="1902"/>
                  <a:pt x="1102" y="1946"/>
                  <a:pt x="1141" y="1869"/>
                </a:cubicBezTo>
                <a:cubicBezTo>
                  <a:pt x="1161" y="1782"/>
                  <a:pt x="1128" y="1726"/>
                  <a:pt x="1105" y="1646"/>
                </a:cubicBezTo>
                <a:cubicBezTo>
                  <a:pt x="1077" y="1547"/>
                  <a:pt x="1051" y="1454"/>
                  <a:pt x="1035" y="1352"/>
                </a:cubicBezTo>
                <a:cubicBezTo>
                  <a:pt x="1040" y="1198"/>
                  <a:pt x="1017" y="986"/>
                  <a:pt x="1094" y="835"/>
                </a:cubicBezTo>
                <a:cubicBezTo>
                  <a:pt x="1107" y="780"/>
                  <a:pt x="1131" y="734"/>
                  <a:pt x="1152" y="682"/>
                </a:cubicBezTo>
                <a:cubicBezTo>
                  <a:pt x="1162" y="593"/>
                  <a:pt x="1160" y="496"/>
                  <a:pt x="1188" y="411"/>
                </a:cubicBezTo>
                <a:cubicBezTo>
                  <a:pt x="1201" y="313"/>
                  <a:pt x="1216" y="248"/>
                  <a:pt x="1152" y="164"/>
                </a:cubicBezTo>
                <a:cubicBezTo>
                  <a:pt x="1148" y="152"/>
                  <a:pt x="1146" y="140"/>
                  <a:pt x="1141" y="129"/>
                </a:cubicBezTo>
                <a:cubicBezTo>
                  <a:pt x="1134" y="113"/>
                  <a:pt x="1123" y="98"/>
                  <a:pt x="1117" y="82"/>
                </a:cubicBezTo>
                <a:cubicBezTo>
                  <a:pt x="1111" y="67"/>
                  <a:pt x="1115" y="48"/>
                  <a:pt x="1105" y="35"/>
                </a:cubicBezTo>
                <a:cubicBezTo>
                  <a:pt x="1097" y="25"/>
                  <a:pt x="1082" y="26"/>
                  <a:pt x="1070" y="23"/>
                </a:cubicBezTo>
                <a:cubicBezTo>
                  <a:pt x="1039" y="15"/>
                  <a:pt x="976" y="0"/>
                  <a:pt x="976" y="0"/>
                </a:cubicBezTo>
                <a:cubicBezTo>
                  <a:pt x="975" y="0"/>
                  <a:pt x="864" y="6"/>
                  <a:pt x="835" y="23"/>
                </a:cubicBezTo>
                <a:cubicBezTo>
                  <a:pt x="806" y="40"/>
                  <a:pt x="753" y="82"/>
                  <a:pt x="753" y="82"/>
                </a:cubicBezTo>
                <a:cubicBezTo>
                  <a:pt x="749" y="91"/>
                  <a:pt x="717" y="147"/>
                  <a:pt x="717" y="164"/>
                </a:cubicBezTo>
                <a:cubicBezTo>
                  <a:pt x="717" y="191"/>
                  <a:pt x="743" y="254"/>
                  <a:pt x="753" y="282"/>
                </a:cubicBezTo>
                <a:cubicBezTo>
                  <a:pt x="698" y="286"/>
                  <a:pt x="639" y="274"/>
                  <a:pt x="588" y="294"/>
                </a:cubicBezTo>
                <a:cubicBezTo>
                  <a:pt x="573" y="300"/>
                  <a:pt x="594" y="326"/>
                  <a:pt x="600" y="341"/>
                </a:cubicBezTo>
                <a:cubicBezTo>
                  <a:pt x="616" y="378"/>
                  <a:pt x="659" y="395"/>
                  <a:pt x="694" y="411"/>
                </a:cubicBezTo>
                <a:cubicBezTo>
                  <a:pt x="717" y="421"/>
                  <a:pt x="764" y="435"/>
                  <a:pt x="764" y="435"/>
                </a:cubicBezTo>
                <a:cubicBezTo>
                  <a:pt x="807" y="498"/>
                  <a:pt x="815" y="580"/>
                  <a:pt x="741" y="635"/>
                </a:cubicBezTo>
                <a:cubicBezTo>
                  <a:pt x="734" y="640"/>
                  <a:pt x="674" y="686"/>
                  <a:pt x="659" y="693"/>
                </a:cubicBezTo>
                <a:cubicBezTo>
                  <a:pt x="636" y="703"/>
                  <a:pt x="588" y="717"/>
                  <a:pt x="588" y="717"/>
                </a:cubicBezTo>
                <a:cubicBezTo>
                  <a:pt x="523" y="673"/>
                  <a:pt x="515" y="612"/>
                  <a:pt x="494" y="541"/>
                </a:cubicBezTo>
                <a:cubicBezTo>
                  <a:pt x="483" y="502"/>
                  <a:pt x="435" y="435"/>
                  <a:pt x="435" y="435"/>
                </a:cubicBezTo>
                <a:cubicBezTo>
                  <a:pt x="452" y="386"/>
                  <a:pt x="477" y="384"/>
                  <a:pt x="506" y="341"/>
                </a:cubicBezTo>
                <a:cubicBezTo>
                  <a:pt x="478" y="337"/>
                  <a:pt x="437" y="353"/>
                  <a:pt x="423" y="329"/>
                </a:cubicBezTo>
                <a:cubicBezTo>
                  <a:pt x="402" y="294"/>
                  <a:pt x="455" y="166"/>
                  <a:pt x="470" y="117"/>
                </a:cubicBezTo>
                <a:cubicBezTo>
                  <a:pt x="430" y="56"/>
                  <a:pt x="400" y="54"/>
                  <a:pt x="341" y="94"/>
                </a:cubicBezTo>
                <a:cubicBezTo>
                  <a:pt x="320" y="156"/>
                  <a:pt x="338" y="370"/>
                  <a:pt x="306" y="21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68600" y="4410000"/>
            <a:ext cx="451080" cy="333360"/>
          </a:xfrm>
          <a:custGeom>
            <a:avLst/>
            <a:gdLst/>
            <a:ahLst/>
            <a:rect l="l" t="t" r="r" b="b"/>
            <a:pathLst>
              <a:path w="284" h="210">
                <a:moveTo>
                  <a:pt x="236" y="8"/>
                </a:moveTo>
                <a:cubicBezTo>
                  <a:pt x="125" y="17"/>
                  <a:pt x="62" y="0"/>
                  <a:pt x="0" y="90"/>
                </a:cubicBezTo>
                <a:cubicBezTo>
                  <a:pt x="45" y="201"/>
                  <a:pt x="27" y="210"/>
                  <a:pt x="247" y="137"/>
                </a:cubicBezTo>
                <a:cubicBezTo>
                  <a:pt x="270" y="129"/>
                  <a:pt x="284" y="88"/>
                  <a:pt x="271" y="67"/>
                </a:cubicBezTo>
                <a:cubicBezTo>
                  <a:pt x="259" y="47"/>
                  <a:pt x="248" y="28"/>
                  <a:pt x="236" y="8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7720" y="4572000"/>
            <a:ext cx="1062000" cy="635040"/>
          </a:xfrm>
          <a:custGeom>
            <a:avLst/>
            <a:gdLst/>
            <a:ahLst/>
            <a:rect l="l" t="t" r="r" b="b"/>
            <a:pathLst>
              <a:path w="669" h="400">
                <a:moveTo>
                  <a:pt x="541" y="0"/>
                </a:moveTo>
                <a:cubicBezTo>
                  <a:pt x="529" y="16"/>
                  <a:pt x="516" y="31"/>
                  <a:pt x="505" y="47"/>
                </a:cubicBezTo>
                <a:cubicBezTo>
                  <a:pt x="489" y="70"/>
                  <a:pt x="486" y="112"/>
                  <a:pt x="458" y="118"/>
                </a:cubicBezTo>
                <a:cubicBezTo>
                  <a:pt x="403" y="131"/>
                  <a:pt x="358" y="157"/>
                  <a:pt x="306" y="176"/>
                </a:cubicBezTo>
                <a:cubicBezTo>
                  <a:pt x="276" y="187"/>
                  <a:pt x="215" y="195"/>
                  <a:pt x="188" y="200"/>
                </a:cubicBezTo>
                <a:cubicBezTo>
                  <a:pt x="105" y="191"/>
                  <a:pt x="49" y="161"/>
                  <a:pt x="0" y="235"/>
                </a:cubicBezTo>
                <a:cubicBezTo>
                  <a:pt x="8" y="274"/>
                  <a:pt x="8" y="316"/>
                  <a:pt x="23" y="353"/>
                </a:cubicBezTo>
                <a:cubicBezTo>
                  <a:pt x="38" y="389"/>
                  <a:pt x="129" y="400"/>
                  <a:pt x="129" y="400"/>
                </a:cubicBezTo>
                <a:cubicBezTo>
                  <a:pt x="181" y="373"/>
                  <a:pt x="214" y="368"/>
                  <a:pt x="270" y="353"/>
                </a:cubicBezTo>
                <a:cubicBezTo>
                  <a:pt x="354" y="330"/>
                  <a:pt x="435" y="298"/>
                  <a:pt x="517" y="270"/>
                </a:cubicBezTo>
                <a:cubicBezTo>
                  <a:pt x="531" y="242"/>
                  <a:pt x="551" y="217"/>
                  <a:pt x="564" y="188"/>
                </a:cubicBezTo>
                <a:cubicBezTo>
                  <a:pt x="574" y="165"/>
                  <a:pt x="573" y="138"/>
                  <a:pt x="588" y="118"/>
                </a:cubicBezTo>
                <a:cubicBezTo>
                  <a:pt x="600" y="102"/>
                  <a:pt x="609" y="85"/>
                  <a:pt x="623" y="71"/>
                </a:cubicBezTo>
                <a:cubicBezTo>
                  <a:pt x="633" y="61"/>
                  <a:pt x="669" y="56"/>
                  <a:pt x="658" y="47"/>
                </a:cubicBezTo>
                <a:cubicBezTo>
                  <a:pt x="626" y="19"/>
                  <a:pt x="580" y="16"/>
                  <a:pt x="541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51480" y="2174760"/>
            <a:ext cx="382320" cy="176400"/>
          </a:xfrm>
          <a:custGeom>
            <a:avLst/>
            <a:gdLst/>
            <a:ahLst/>
            <a:rect l="l" t="t" r="r" b="b"/>
            <a:pathLst>
              <a:path w="241" h="111">
                <a:moveTo>
                  <a:pt x="83" y="29"/>
                </a:moveTo>
                <a:cubicBezTo>
                  <a:pt x="67" y="37"/>
                  <a:pt x="50" y="43"/>
                  <a:pt x="35" y="52"/>
                </a:cubicBezTo>
                <a:cubicBezTo>
                  <a:pt x="23" y="59"/>
                  <a:pt x="0" y="62"/>
                  <a:pt x="0" y="76"/>
                </a:cubicBezTo>
                <a:cubicBezTo>
                  <a:pt x="0" y="91"/>
                  <a:pt x="63" y="108"/>
                  <a:pt x="71" y="111"/>
                </a:cubicBezTo>
                <a:cubicBezTo>
                  <a:pt x="154" y="90"/>
                  <a:pt x="153" y="88"/>
                  <a:pt x="224" y="17"/>
                </a:cubicBezTo>
                <a:cubicBezTo>
                  <a:pt x="241" y="0"/>
                  <a:pt x="177" y="25"/>
                  <a:pt x="153" y="29"/>
                </a:cubicBezTo>
                <a:cubicBezTo>
                  <a:pt x="106" y="45"/>
                  <a:pt x="130" y="45"/>
                  <a:pt x="83" y="29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59440" y="2209680"/>
            <a:ext cx="458640" cy="141480"/>
          </a:xfrm>
          <a:custGeom>
            <a:avLst/>
            <a:gdLst/>
            <a:ahLst/>
            <a:rect l="l" t="t" r="r" b="b"/>
            <a:pathLst>
              <a:path w="289" h="89">
                <a:moveTo>
                  <a:pt x="92" y="30"/>
                </a:moveTo>
                <a:cubicBezTo>
                  <a:pt x="205" y="2"/>
                  <a:pt x="154" y="0"/>
                  <a:pt x="244" y="19"/>
                </a:cubicBezTo>
                <a:cubicBezTo>
                  <a:pt x="256" y="27"/>
                  <a:pt x="289" y="31"/>
                  <a:pt x="280" y="42"/>
                </a:cubicBezTo>
                <a:cubicBezTo>
                  <a:pt x="265" y="62"/>
                  <a:pt x="234" y="62"/>
                  <a:pt x="209" y="66"/>
                </a:cubicBezTo>
                <a:cubicBezTo>
                  <a:pt x="166" y="74"/>
                  <a:pt x="80" y="89"/>
                  <a:pt x="80" y="89"/>
                </a:cubicBezTo>
                <a:cubicBezTo>
                  <a:pt x="53" y="80"/>
                  <a:pt x="0" y="75"/>
                  <a:pt x="56" y="19"/>
                </a:cubicBezTo>
                <a:cubicBezTo>
                  <a:pt x="65" y="10"/>
                  <a:pt x="80" y="26"/>
                  <a:pt x="92" y="3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4160" y="36910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006-1934-4B0C-AB3E-76E22CFFA6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352680" y="2743200"/>
            <a:ext cx="266724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129-3119-4543-9B5F-4067AEF420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iric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2667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NGU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438280"/>
            <a:ext cx="533520" cy="2819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20680" y="247032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4267080"/>
            <a:ext cx="1600200" cy="15242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 A 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6765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5029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095880" y="2666880"/>
            <a:ext cx="1219320" cy="24386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26600 h 2438640"/>
              <a:gd name="textAreaBottom" fmla="*/ 176796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20A-AF79-4D0B-B9EF-A5FCB8FD56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iric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3352680" y="2438280"/>
            <a:ext cx="2667240" cy="1143000"/>
          </a:xfrm>
          <a:prstGeom prst="rect">
            <a:avLst/>
          </a:prstGeom>
          <a:solidFill>
            <a:srgbClr val="cbe3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NGU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2438280"/>
            <a:ext cx="533520" cy="2819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20680" y="247032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1120" y="4267080"/>
            <a:ext cx="1600200" cy="15242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 A 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6765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5029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095880" y="2666880"/>
            <a:ext cx="1219320" cy="24386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26600 h 2438640"/>
              <a:gd name="textAreaBottom" fmla="*/ 176796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1E3-F28F-401F-8B70-8B1E5AA37B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Cour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5200" y="2266920"/>
            <a:ext cx="736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Y 1: Data &amp; Tools - Our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Y 2: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Y 3: Exercise - 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Y 4: Corpora and ty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AY 5: Exercise - Othe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DB3-3AC0-410E-AF81-DB9A78F0D1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iric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2438280"/>
            <a:ext cx="2667240" cy="1143000"/>
          </a:xfrm>
          <a:prstGeom prst="rect">
            <a:avLst/>
          </a:prstGeom>
          <a:solidFill>
            <a:srgbClr val="cbe3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NGU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438280"/>
            <a:ext cx="533520" cy="2819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20680" y="247032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91120" y="4267080"/>
            <a:ext cx="1600200" cy="15242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 A 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6765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029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095880" y="2666880"/>
            <a:ext cx="1219320" cy="24386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26600 h 2438640"/>
              <a:gd name="textAreaBottom" fmla="*/ 176796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3809880"/>
            <a:ext cx="4343400" cy="2590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66320" y="3809880"/>
            <a:ext cx="2960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y (narr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FAA-CA55-47B0-903A-E5D2D10CD2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iric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3352680" y="2666880"/>
            <a:ext cx="2667240" cy="1143000"/>
          </a:xfrm>
          <a:prstGeom prst="rect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2666880"/>
            <a:ext cx="533520" cy="2819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20680" y="269892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4495680"/>
            <a:ext cx="1600200" cy="15242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 A 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676520" y="32004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553080" y="3124080"/>
            <a:ext cx="1219320" cy="24386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26600 h 2438640"/>
              <a:gd name="textAreaBottom" fmla="*/ 176796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2057400"/>
            <a:ext cx="7162560" cy="411480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840" y="2057400"/>
            <a:ext cx="2748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y (br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2819520"/>
            <a:ext cx="2666880" cy="1143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2971800"/>
            <a:ext cx="2666880" cy="1143000"/>
          </a:xfrm>
          <a:prstGeom prst="rect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9880" y="3124080"/>
            <a:ext cx="2667240" cy="1143000"/>
          </a:xfrm>
          <a:prstGeom prst="rect">
            <a:avLst/>
          </a:prstGeom>
          <a:solidFill>
            <a:srgbClr val="cbe3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A17-F150-4753-A04A-424B99774D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entr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2286000"/>
            <a:ext cx="2667240" cy="114300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66680" y="2286000"/>
            <a:ext cx="533520" cy="281952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20680" y="2343240"/>
            <a:ext cx="358920" cy="2837160"/>
          </a:xfrm>
          <a:prstGeom prst="rect">
            <a:avLst/>
          </a:prstGeom>
          <a:solidFill>
            <a:srgbClr val="ddf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4114800"/>
            <a:ext cx="1600200" cy="1523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 A 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76520" y="28195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553080" y="2742480"/>
            <a:ext cx="1219320" cy="24382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26240 h 2438280"/>
              <a:gd name="textAreaBottom" fmla="*/ 176760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05320" y="2438280"/>
            <a:ext cx="2666880" cy="114300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57600" y="2590920"/>
            <a:ext cx="2666880" cy="114300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09880" y="2743200"/>
            <a:ext cx="2667240" cy="114300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4876920"/>
            <a:ext cx="2362320" cy="228600"/>
          </a:xfrm>
          <a:prstGeom prst="rightArrow">
            <a:avLst>
              <a:gd name="adj1" fmla="val 50000"/>
              <a:gd name="adj2" fmla="val 25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B8D-7235-49B0-8A52-B34C96345D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entr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2286000"/>
            <a:ext cx="2667240" cy="114300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2286000"/>
            <a:ext cx="533520" cy="281952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20680" y="2343240"/>
            <a:ext cx="358920" cy="2837160"/>
          </a:xfrm>
          <a:prstGeom prst="rect">
            <a:avLst/>
          </a:prstGeom>
          <a:solidFill>
            <a:srgbClr val="ddf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1120" y="4114800"/>
            <a:ext cx="1600200" cy="1523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 A 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676520" y="28195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553080" y="2742480"/>
            <a:ext cx="1219320" cy="24382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26240 h 2438280"/>
              <a:gd name="textAreaBottom" fmla="*/ 176760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05320" y="2438280"/>
            <a:ext cx="2666880" cy="114300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57600" y="2590920"/>
            <a:ext cx="2666880" cy="114300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9880" y="2743200"/>
            <a:ext cx="2667240" cy="1143000"/>
          </a:xfrm>
          <a:prstGeom prst="rect">
            <a:avLst/>
          </a:prstGeom>
          <a:solidFill>
            <a:srgbClr val="ddff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52480" y="4876920"/>
            <a:ext cx="2362320" cy="228600"/>
          </a:xfrm>
          <a:prstGeom prst="rightArrow">
            <a:avLst>
              <a:gd name="adj1" fmla="val 50000"/>
              <a:gd name="adj2" fmla="val 25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5715000"/>
            <a:ext cx="20574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38280" y="5715000"/>
            <a:ext cx="20574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5715000"/>
            <a:ext cx="20574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0" y="5715000"/>
            <a:ext cx="20574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2BD-2C9D-425F-B913-7AC20A116A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+ Computational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4114800"/>
            <a:ext cx="1600200" cy="1523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 A 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553080" y="2742480"/>
            <a:ext cx="1219320" cy="24382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26240 h 2438280"/>
              <a:gd name="textAreaBottom" fmla="*/ 176760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4876920"/>
            <a:ext cx="2362320" cy="228600"/>
          </a:xfrm>
          <a:prstGeom prst="rightArrow">
            <a:avLst>
              <a:gd name="adj1" fmla="val 50000"/>
              <a:gd name="adj2" fmla="val 25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5715000"/>
            <a:ext cx="20574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38280" y="5715000"/>
            <a:ext cx="20574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5715000"/>
            <a:ext cx="20574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0" y="5715000"/>
            <a:ext cx="20574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371600" y="1865160"/>
            <a:ext cx="3124080" cy="263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313-9532-4FBB-8E35-73EC79C4DC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52280" y="4083120"/>
            <a:ext cx="213372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752480" y="1752480"/>
            <a:ext cx="350532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5200" y="2131920"/>
            <a:ext cx="280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’s not forget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nguage is the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 people produ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en chatting to e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ther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7DF-E8B6-481D-AB12-18C7CD47F0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52280" y="4083120"/>
            <a:ext cx="2133720" cy="17082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819520" y="2971800"/>
            <a:ext cx="175248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295280" y="3276360"/>
            <a:ext cx="1371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86400" y="1905120"/>
            <a:ext cx="1219320" cy="10666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86400" y="3429000"/>
            <a:ext cx="1219320" cy="10666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648320" y="2590920"/>
            <a:ext cx="7617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373392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537-BC81-4364-99E8-28662ABB7A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52280" y="4083120"/>
            <a:ext cx="2133720" cy="17082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819520" y="2971800"/>
            <a:ext cx="175248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295280" y="3276360"/>
            <a:ext cx="1371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86400" y="1905120"/>
            <a:ext cx="1219320" cy="10666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86400" y="3429000"/>
            <a:ext cx="1219320" cy="10666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648320" y="2590920"/>
            <a:ext cx="7617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81480" y="5334120"/>
            <a:ext cx="17528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aly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013200" y="4419720"/>
            <a:ext cx="1101600" cy="12063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65760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5410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373392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B78-7A06-4E2F-A1FB-3BE415110C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 +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2666880"/>
            <a:ext cx="175248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00400" y="2133720"/>
            <a:ext cx="1752480" cy="175248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19920" y="2057400"/>
            <a:ext cx="167616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scan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n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xpl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2819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ACB-E6E9-4958-A109-33CB75CD50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 +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2666880"/>
            <a:ext cx="175248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502920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aly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00400" y="2133720"/>
            <a:ext cx="1752480" cy="175248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52680" y="4343400"/>
            <a:ext cx="1676520" cy="1981080"/>
          </a:xfrm>
          <a:prstGeom prst="flowChartMagneticDrum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5181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2819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96320" y="4834080"/>
            <a:ext cx="10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343400"/>
            <a:ext cx="167616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51814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19920" y="2057400"/>
            <a:ext cx="167616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scan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n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xpl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6A1-D5B4-4964-9D7B-A69117948B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y: dom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798720" y="2243160"/>
            <a:ext cx="465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FINITENE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spel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rb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P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ewier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S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ys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ERSON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 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r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438280"/>
            <a:ext cx="3505320" cy="3505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9000" y="262404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INGU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886200"/>
            <a:ext cx="121932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88B-61E9-45D8-A9FE-AF84F16286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 +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2666880"/>
            <a:ext cx="175248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502920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aly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19520" y="2133720"/>
            <a:ext cx="1752840" cy="175248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4343400"/>
            <a:ext cx="1676520" cy="1981080"/>
          </a:xfrm>
          <a:prstGeom prst="flowChartMagneticDrum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1460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5181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10160" y="2819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21760" y="4834080"/>
            <a:ext cx="10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67600" y="4343400"/>
            <a:ext cx="167652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10160" y="51814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" y="3886200"/>
            <a:ext cx="1752480" cy="6858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627280" y="3645000"/>
            <a:ext cx="1366920" cy="1225440"/>
          </a:xfrm>
          <a:prstGeom prst="flowChartDocument">
            <a:avLst/>
          </a:prstGeom>
          <a:gradFill rotWithShape="0">
            <a:gsLst>
              <a:gs pos="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98120" y="383364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ahoma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ahoma"/>
              </a:rPr>
              <a:t>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68360" y="3860640"/>
            <a:ext cx="21600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40360" y="3355920"/>
            <a:ext cx="215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40360" y="4292640"/>
            <a:ext cx="215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64360" y="1989000"/>
            <a:ext cx="167652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scan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n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xpl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5F8-4000-4049-8021-5848B22C0B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 +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373392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aly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81280" y="3048120"/>
            <a:ext cx="1676520" cy="1981080"/>
          </a:xfrm>
          <a:prstGeom prst="flowChartMagneticDrum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38862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24920" y="3538440"/>
            <a:ext cx="10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3048120"/>
            <a:ext cx="1676160" cy="190476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38862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BB0-2BF1-4402-980E-A99224BE69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2666880"/>
            <a:ext cx="6400800" cy="327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N A L Y T I C A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 A 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27960" y="2971800"/>
            <a:ext cx="1006560" cy="155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DD6-007B-4C82-8EF3-6B90C429FF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858960" y="2463840"/>
            <a:ext cx="3838320" cy="33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PE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S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CLUS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ERS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86C-0D37-442C-A443-96B8C3D650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975240" y="2463840"/>
            <a:ext cx="3400920" cy="362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PE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S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INCLUS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ERS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7C8-7FFC-4B21-A3CD-CBF256496C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548280" y="2463840"/>
            <a:ext cx="739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distinction in the pronominal paradig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etween a first person plural form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cludes the hearer and a form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cludes the hea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4EF-333B-4FCC-9997-48797B47EC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709920" y="2209680"/>
            <a:ext cx="431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IMARY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nglish (Indo-Europ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S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SG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S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/she/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1PL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PL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PL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1B9-7F22-4C9C-BA77-BFABACDFCD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719280" y="2209680"/>
            <a:ext cx="5988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IMARY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nglish (Indo-Europ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ill surely meet again,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ra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ill surely meet again,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yo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DB2-DB6D-4865-9D1F-DD623BB5E9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1143000" y="2209680"/>
            <a:ext cx="3800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IMARY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Gapapaiwa (Oce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S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SG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S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1INCL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1EXCL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o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PL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PL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A82-43BB-4CE5-BA66-3E2808DB7B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220968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TEGORY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glis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 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papaiw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310-17ED-4E4B-9DB9-3AC72F7782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743200"/>
            <a:ext cx="266724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3581280" cy="3429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 N O W L E D G 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809880"/>
            <a:ext cx="1295280" cy="381240"/>
          </a:xfrm>
          <a:prstGeom prst="leftArrow">
            <a:avLst>
              <a:gd name="adj1" fmla="val 50000"/>
              <a:gd name="adj2" fmla="val 8493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838-B49F-4918-A84A-CAE11B59B4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1143000" y="220968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TEGORY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glis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papaiw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131-40E6-4E91-9DC3-2CC94FAEFA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1143000" y="2209680"/>
            <a:ext cx="7162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TEGORY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papaiw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42ad37"/>
                </a:solidFill>
                <a:latin typeface="Tahoma"/>
              </a:rPr>
              <a:t>YES</a:t>
            </a:r>
            <a:r>
              <a:rPr b="1" lang="en-US" sz="3200" spc="-1" strike="noStrike">
                <a:solidFill>
                  <a:srgbClr val="42ad37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42ad37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41148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5410080" y="4429080"/>
            <a:ext cx="2133720" cy="21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C32-7E3F-4646-9E42-B7A9A4A5AB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lus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762120" y="198108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O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+2=1+2+3=1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nly inclusive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+2=1+2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inimal inclusive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+2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+2+3=1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ugmented inclusive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+2+3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+2=1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nclusive/exclusive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+2=1+2+3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inimal augmented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+2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+2+3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020-EABC-4C8B-97B1-BADE77A6A4C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220968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TEGORY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glis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papaiw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03C-BFF1-4AFB-BC56-ACBF0324BEF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1143000" y="220968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TEGORY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glis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papaiw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2209680"/>
            <a:ext cx="518184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914040" y="1981080"/>
            <a:ext cx="525780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6BB-0D22-456E-9C3B-C713A2CD5B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t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1143000" y="2209680"/>
            <a:ext cx="510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ot 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nly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ugmented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nclusive/ex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aug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239-277C-4F7B-813E-AC693069868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90720" y="2209680"/>
          <a:ext cx="7086600" cy="38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08660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897-DB5B-4772-B78E-6C7147C1FAA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114800" y="3505320"/>
          <a:ext cx="1828800" cy="99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505320"/>
                    <a:ext cx="18288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685800" y="1981080"/>
            <a:ext cx="7848720" cy="4267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505320" y="2209680"/>
          <a:ext cx="1828800" cy="99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209680"/>
                    <a:ext cx="18288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1371600" y="3048120"/>
          <a:ext cx="1828800" cy="996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048120"/>
                    <a:ext cx="18288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1600200" y="4343400"/>
          <a:ext cx="1828800" cy="9968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343400"/>
                    <a:ext cx="18288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3886200" y="4876920"/>
          <a:ext cx="1828800" cy="9968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876920"/>
                    <a:ext cx="18288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6400800" y="3733920"/>
          <a:ext cx="1828800" cy="996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3733920"/>
                    <a:ext cx="18288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177480" y="5797440"/>
            <a:ext cx="416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e.g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nominal mark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25720" y="23194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06640" y="2971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409720" y="2666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10280" y="3352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10640" y="49528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791320" y="5334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118240" y="2362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093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4F9-C74D-40BC-8585-CF13059716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220968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rphological_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r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ierarc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ipartit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F0B-DAAA-4CCC-B58C-6A3BF49CFAD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1143000" y="220968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rphological_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r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ierarc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ipartit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191120" y="3171960"/>
          <a:ext cx="3962160" cy="21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171960"/>
                    <a:ext cx="396216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313-3723-470E-B91F-E9790964BEE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743200"/>
            <a:ext cx="266724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2286000"/>
            <a:ext cx="3581280" cy="3429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809880"/>
            <a:ext cx="1295280" cy="381240"/>
          </a:xfrm>
          <a:prstGeom prst="leftArrow">
            <a:avLst>
              <a:gd name="adj1" fmla="val 50000"/>
              <a:gd name="adj2" fmla="val 8493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3440" y="2895480"/>
            <a:ext cx="23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957-B218-4C76-BAF0-9B6AC6442B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143000" y="220968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rphological_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r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ierarc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ipartit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9880" y="3429000"/>
            <a:ext cx="1143000" cy="2057400"/>
          </a:xfrm>
          <a:custGeom>
            <a:avLst/>
            <a:gdLst>
              <a:gd name="textAreaLeft" fmla="*/ 0 w 1143000"/>
              <a:gd name="textAreaRight" fmla="*/ 412560 w 11430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32600" y="419112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EB6-9C1B-4758-9AEA-FBC1FC9AC6E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220968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rphological_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r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ierarc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ipartit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09880" y="3429000"/>
            <a:ext cx="1143000" cy="2057400"/>
          </a:xfrm>
          <a:custGeom>
            <a:avLst/>
            <a:gdLst>
              <a:gd name="textAreaLeft" fmla="*/ 0 w 1143000"/>
              <a:gd name="textAreaRight" fmla="*/ 412560 w 11430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232600" y="419112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5880" y="4724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67280" y="5715000"/>
            <a:ext cx="2895840" cy="7621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4A4-ABEA-49BD-B355-40C8A75E01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762120" y="2209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cale of variable typ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F0D-CDA6-4EAA-BF91-7741495302F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2096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cale of variable typ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174-2712-469E-8FE5-45F8BB6940E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22096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cale of variable typ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E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Alignment; Gender; Person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899-F688-4D49-ACBA-E23E2A0B335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762120" y="22096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cale of variable typ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RD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&lt; Val_2 &lt; Val_3 &lt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382-E941-4E32-AABD-6343391303E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762120" y="2209680"/>
            <a:ext cx="678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cale of variable typ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RD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&lt; Val_2 &lt; Val_3 &lt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E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Number (SG &lt; DU &lt; TRI &lt; 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A81-F8DC-4293-AB5D-4097004D06E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2209680"/>
            <a:ext cx="678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cale of variable typ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RD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&lt; Val_2 &lt; Val_3 &lt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TERV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&lt; Val_2 &lt; Val_3 &lt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EBE-7EDB-4C1F-9B9B-E0ABF7F23E2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762120" y="22096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cale of variable typ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Val_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RD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&lt; Val_2 &lt; Val_3 &lt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TERV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al_1 &lt; Val_2 &lt; Val_3 &lt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E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Case_distinctions (1 &lt; 2 &lt; 3 &lt; 4 &lt; … &lt; 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3D4-76D8-46D9-B66B-C0F3A1647B4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&amp;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762120" y="220968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cale of variable typ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ALITAT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– DIRECTLY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RD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ANTITAT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 DE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TERV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3809880"/>
            <a:ext cx="381240" cy="99072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7FA-39F1-477A-B37A-AE1FD748DCB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727280" y="2370240"/>
            <a:ext cx="1930320" cy="3262320"/>
          </a:xfrm>
          <a:custGeom>
            <a:avLst/>
            <a:gdLst/>
            <a:ahLst/>
            <a:rect l="l" t="t" r="r" b="b"/>
            <a:pathLst>
              <a:path w="1216" h="2055">
                <a:moveTo>
                  <a:pt x="306" y="211"/>
                </a:moveTo>
                <a:cubicBezTo>
                  <a:pt x="294" y="352"/>
                  <a:pt x="269" y="481"/>
                  <a:pt x="188" y="599"/>
                </a:cubicBezTo>
                <a:cubicBezTo>
                  <a:pt x="171" y="656"/>
                  <a:pt x="141" y="698"/>
                  <a:pt x="118" y="752"/>
                </a:cubicBezTo>
                <a:cubicBezTo>
                  <a:pt x="101" y="792"/>
                  <a:pt x="80" y="873"/>
                  <a:pt x="59" y="905"/>
                </a:cubicBezTo>
                <a:cubicBezTo>
                  <a:pt x="22" y="961"/>
                  <a:pt x="41" y="926"/>
                  <a:pt x="12" y="1011"/>
                </a:cubicBezTo>
                <a:cubicBezTo>
                  <a:pt x="8" y="1023"/>
                  <a:pt x="0" y="1046"/>
                  <a:pt x="0" y="1046"/>
                </a:cubicBezTo>
                <a:cubicBezTo>
                  <a:pt x="8" y="1070"/>
                  <a:pt x="9" y="1097"/>
                  <a:pt x="24" y="1117"/>
                </a:cubicBezTo>
                <a:cubicBezTo>
                  <a:pt x="31" y="1127"/>
                  <a:pt x="48" y="1123"/>
                  <a:pt x="59" y="1128"/>
                </a:cubicBezTo>
                <a:cubicBezTo>
                  <a:pt x="151" y="1174"/>
                  <a:pt x="239" y="1213"/>
                  <a:pt x="341" y="1234"/>
                </a:cubicBezTo>
                <a:cubicBezTo>
                  <a:pt x="355" y="1275"/>
                  <a:pt x="334" y="1332"/>
                  <a:pt x="365" y="1363"/>
                </a:cubicBezTo>
                <a:cubicBezTo>
                  <a:pt x="387" y="1385"/>
                  <a:pt x="428" y="1371"/>
                  <a:pt x="459" y="1375"/>
                </a:cubicBezTo>
                <a:cubicBezTo>
                  <a:pt x="479" y="1383"/>
                  <a:pt x="497" y="1394"/>
                  <a:pt x="518" y="1399"/>
                </a:cubicBezTo>
                <a:cubicBezTo>
                  <a:pt x="545" y="1406"/>
                  <a:pt x="574" y="1403"/>
                  <a:pt x="600" y="1411"/>
                </a:cubicBezTo>
                <a:cubicBezTo>
                  <a:pt x="613" y="1415"/>
                  <a:pt x="622" y="1428"/>
                  <a:pt x="635" y="1434"/>
                </a:cubicBezTo>
                <a:cubicBezTo>
                  <a:pt x="658" y="1444"/>
                  <a:pt x="682" y="1450"/>
                  <a:pt x="706" y="1458"/>
                </a:cubicBezTo>
                <a:cubicBezTo>
                  <a:pt x="733" y="1467"/>
                  <a:pt x="776" y="1505"/>
                  <a:pt x="776" y="1505"/>
                </a:cubicBezTo>
                <a:cubicBezTo>
                  <a:pt x="817" y="1624"/>
                  <a:pt x="795" y="1752"/>
                  <a:pt x="835" y="1869"/>
                </a:cubicBezTo>
                <a:cubicBezTo>
                  <a:pt x="856" y="2055"/>
                  <a:pt x="824" y="2012"/>
                  <a:pt x="1058" y="1998"/>
                </a:cubicBezTo>
                <a:cubicBezTo>
                  <a:pt x="1127" y="1902"/>
                  <a:pt x="1102" y="1946"/>
                  <a:pt x="1141" y="1869"/>
                </a:cubicBezTo>
                <a:cubicBezTo>
                  <a:pt x="1161" y="1782"/>
                  <a:pt x="1128" y="1726"/>
                  <a:pt x="1105" y="1646"/>
                </a:cubicBezTo>
                <a:cubicBezTo>
                  <a:pt x="1077" y="1547"/>
                  <a:pt x="1051" y="1454"/>
                  <a:pt x="1035" y="1352"/>
                </a:cubicBezTo>
                <a:cubicBezTo>
                  <a:pt x="1040" y="1198"/>
                  <a:pt x="1017" y="986"/>
                  <a:pt x="1094" y="835"/>
                </a:cubicBezTo>
                <a:cubicBezTo>
                  <a:pt x="1107" y="780"/>
                  <a:pt x="1131" y="734"/>
                  <a:pt x="1152" y="682"/>
                </a:cubicBezTo>
                <a:cubicBezTo>
                  <a:pt x="1162" y="593"/>
                  <a:pt x="1160" y="496"/>
                  <a:pt x="1188" y="411"/>
                </a:cubicBezTo>
                <a:cubicBezTo>
                  <a:pt x="1201" y="313"/>
                  <a:pt x="1216" y="248"/>
                  <a:pt x="1152" y="164"/>
                </a:cubicBezTo>
                <a:cubicBezTo>
                  <a:pt x="1148" y="152"/>
                  <a:pt x="1146" y="140"/>
                  <a:pt x="1141" y="129"/>
                </a:cubicBezTo>
                <a:cubicBezTo>
                  <a:pt x="1134" y="113"/>
                  <a:pt x="1123" y="98"/>
                  <a:pt x="1117" y="82"/>
                </a:cubicBezTo>
                <a:cubicBezTo>
                  <a:pt x="1111" y="67"/>
                  <a:pt x="1115" y="48"/>
                  <a:pt x="1105" y="35"/>
                </a:cubicBezTo>
                <a:cubicBezTo>
                  <a:pt x="1097" y="25"/>
                  <a:pt x="1082" y="26"/>
                  <a:pt x="1070" y="23"/>
                </a:cubicBezTo>
                <a:cubicBezTo>
                  <a:pt x="1039" y="15"/>
                  <a:pt x="976" y="0"/>
                  <a:pt x="976" y="0"/>
                </a:cubicBezTo>
                <a:cubicBezTo>
                  <a:pt x="975" y="0"/>
                  <a:pt x="864" y="6"/>
                  <a:pt x="835" y="23"/>
                </a:cubicBezTo>
                <a:cubicBezTo>
                  <a:pt x="806" y="40"/>
                  <a:pt x="753" y="82"/>
                  <a:pt x="753" y="82"/>
                </a:cubicBezTo>
                <a:cubicBezTo>
                  <a:pt x="749" y="91"/>
                  <a:pt x="717" y="147"/>
                  <a:pt x="717" y="164"/>
                </a:cubicBezTo>
                <a:cubicBezTo>
                  <a:pt x="717" y="191"/>
                  <a:pt x="743" y="254"/>
                  <a:pt x="753" y="282"/>
                </a:cubicBezTo>
                <a:cubicBezTo>
                  <a:pt x="698" y="286"/>
                  <a:pt x="639" y="274"/>
                  <a:pt x="588" y="294"/>
                </a:cubicBezTo>
                <a:cubicBezTo>
                  <a:pt x="573" y="300"/>
                  <a:pt x="594" y="326"/>
                  <a:pt x="600" y="341"/>
                </a:cubicBezTo>
                <a:cubicBezTo>
                  <a:pt x="616" y="378"/>
                  <a:pt x="659" y="395"/>
                  <a:pt x="694" y="411"/>
                </a:cubicBezTo>
                <a:cubicBezTo>
                  <a:pt x="717" y="421"/>
                  <a:pt x="764" y="435"/>
                  <a:pt x="764" y="435"/>
                </a:cubicBezTo>
                <a:cubicBezTo>
                  <a:pt x="807" y="498"/>
                  <a:pt x="815" y="580"/>
                  <a:pt x="741" y="635"/>
                </a:cubicBezTo>
                <a:cubicBezTo>
                  <a:pt x="734" y="640"/>
                  <a:pt x="674" y="686"/>
                  <a:pt x="659" y="693"/>
                </a:cubicBezTo>
                <a:cubicBezTo>
                  <a:pt x="636" y="703"/>
                  <a:pt x="588" y="717"/>
                  <a:pt x="588" y="717"/>
                </a:cubicBezTo>
                <a:cubicBezTo>
                  <a:pt x="523" y="673"/>
                  <a:pt x="515" y="612"/>
                  <a:pt x="494" y="541"/>
                </a:cubicBezTo>
                <a:cubicBezTo>
                  <a:pt x="483" y="502"/>
                  <a:pt x="435" y="435"/>
                  <a:pt x="435" y="435"/>
                </a:cubicBezTo>
                <a:cubicBezTo>
                  <a:pt x="452" y="386"/>
                  <a:pt x="477" y="384"/>
                  <a:pt x="506" y="341"/>
                </a:cubicBezTo>
                <a:cubicBezTo>
                  <a:pt x="478" y="337"/>
                  <a:pt x="437" y="353"/>
                  <a:pt x="423" y="329"/>
                </a:cubicBezTo>
                <a:cubicBezTo>
                  <a:pt x="402" y="294"/>
                  <a:pt x="455" y="166"/>
                  <a:pt x="470" y="117"/>
                </a:cubicBezTo>
                <a:cubicBezTo>
                  <a:pt x="430" y="56"/>
                  <a:pt x="400" y="54"/>
                  <a:pt x="341" y="94"/>
                </a:cubicBezTo>
                <a:cubicBezTo>
                  <a:pt x="320" y="156"/>
                  <a:pt x="338" y="370"/>
                  <a:pt x="306" y="21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5240" y="4410000"/>
            <a:ext cx="450720" cy="333360"/>
          </a:xfrm>
          <a:custGeom>
            <a:avLst/>
            <a:gdLst/>
            <a:ahLst/>
            <a:rect l="l" t="t" r="r" b="b"/>
            <a:pathLst>
              <a:path w="284" h="210">
                <a:moveTo>
                  <a:pt x="236" y="8"/>
                </a:moveTo>
                <a:cubicBezTo>
                  <a:pt x="125" y="17"/>
                  <a:pt x="62" y="0"/>
                  <a:pt x="0" y="90"/>
                </a:cubicBezTo>
                <a:cubicBezTo>
                  <a:pt x="45" y="201"/>
                  <a:pt x="27" y="210"/>
                  <a:pt x="247" y="137"/>
                </a:cubicBezTo>
                <a:cubicBezTo>
                  <a:pt x="270" y="129"/>
                  <a:pt x="284" y="88"/>
                  <a:pt x="271" y="67"/>
                </a:cubicBezTo>
                <a:cubicBezTo>
                  <a:pt x="259" y="47"/>
                  <a:pt x="248" y="28"/>
                  <a:pt x="236" y="8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4572000"/>
            <a:ext cx="1062000" cy="635040"/>
          </a:xfrm>
          <a:custGeom>
            <a:avLst/>
            <a:gdLst/>
            <a:ahLst/>
            <a:rect l="l" t="t" r="r" b="b"/>
            <a:pathLst>
              <a:path w="669" h="400">
                <a:moveTo>
                  <a:pt x="541" y="0"/>
                </a:moveTo>
                <a:cubicBezTo>
                  <a:pt x="529" y="16"/>
                  <a:pt x="516" y="31"/>
                  <a:pt x="505" y="47"/>
                </a:cubicBezTo>
                <a:cubicBezTo>
                  <a:pt x="489" y="70"/>
                  <a:pt x="486" y="112"/>
                  <a:pt x="458" y="118"/>
                </a:cubicBezTo>
                <a:cubicBezTo>
                  <a:pt x="403" y="131"/>
                  <a:pt x="358" y="157"/>
                  <a:pt x="306" y="176"/>
                </a:cubicBezTo>
                <a:cubicBezTo>
                  <a:pt x="276" y="187"/>
                  <a:pt x="215" y="195"/>
                  <a:pt x="188" y="200"/>
                </a:cubicBezTo>
                <a:cubicBezTo>
                  <a:pt x="105" y="191"/>
                  <a:pt x="49" y="161"/>
                  <a:pt x="0" y="235"/>
                </a:cubicBezTo>
                <a:cubicBezTo>
                  <a:pt x="8" y="274"/>
                  <a:pt x="8" y="316"/>
                  <a:pt x="23" y="353"/>
                </a:cubicBezTo>
                <a:cubicBezTo>
                  <a:pt x="38" y="389"/>
                  <a:pt x="129" y="400"/>
                  <a:pt x="129" y="400"/>
                </a:cubicBezTo>
                <a:cubicBezTo>
                  <a:pt x="181" y="373"/>
                  <a:pt x="214" y="368"/>
                  <a:pt x="270" y="353"/>
                </a:cubicBezTo>
                <a:cubicBezTo>
                  <a:pt x="354" y="330"/>
                  <a:pt x="435" y="298"/>
                  <a:pt x="517" y="270"/>
                </a:cubicBezTo>
                <a:cubicBezTo>
                  <a:pt x="531" y="242"/>
                  <a:pt x="551" y="217"/>
                  <a:pt x="564" y="188"/>
                </a:cubicBezTo>
                <a:cubicBezTo>
                  <a:pt x="574" y="165"/>
                  <a:pt x="573" y="138"/>
                  <a:pt x="588" y="118"/>
                </a:cubicBezTo>
                <a:cubicBezTo>
                  <a:pt x="600" y="102"/>
                  <a:pt x="609" y="85"/>
                  <a:pt x="623" y="71"/>
                </a:cubicBezTo>
                <a:cubicBezTo>
                  <a:pt x="633" y="61"/>
                  <a:pt x="669" y="56"/>
                  <a:pt x="658" y="47"/>
                </a:cubicBezTo>
                <a:cubicBezTo>
                  <a:pt x="626" y="19"/>
                  <a:pt x="580" y="16"/>
                  <a:pt x="541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7760" y="2174760"/>
            <a:ext cx="382680" cy="176400"/>
          </a:xfrm>
          <a:custGeom>
            <a:avLst/>
            <a:gdLst/>
            <a:ahLst/>
            <a:rect l="l" t="t" r="r" b="b"/>
            <a:pathLst>
              <a:path w="241" h="111">
                <a:moveTo>
                  <a:pt x="83" y="29"/>
                </a:moveTo>
                <a:cubicBezTo>
                  <a:pt x="67" y="37"/>
                  <a:pt x="50" y="43"/>
                  <a:pt x="35" y="52"/>
                </a:cubicBezTo>
                <a:cubicBezTo>
                  <a:pt x="23" y="59"/>
                  <a:pt x="0" y="62"/>
                  <a:pt x="0" y="76"/>
                </a:cubicBezTo>
                <a:cubicBezTo>
                  <a:pt x="0" y="91"/>
                  <a:pt x="63" y="108"/>
                  <a:pt x="71" y="111"/>
                </a:cubicBezTo>
                <a:cubicBezTo>
                  <a:pt x="154" y="90"/>
                  <a:pt x="153" y="88"/>
                  <a:pt x="224" y="17"/>
                </a:cubicBezTo>
                <a:cubicBezTo>
                  <a:pt x="241" y="0"/>
                  <a:pt x="177" y="25"/>
                  <a:pt x="153" y="29"/>
                </a:cubicBezTo>
                <a:cubicBezTo>
                  <a:pt x="106" y="45"/>
                  <a:pt x="130" y="45"/>
                  <a:pt x="83" y="29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2209680"/>
            <a:ext cx="459000" cy="141480"/>
          </a:xfrm>
          <a:custGeom>
            <a:avLst/>
            <a:gdLst/>
            <a:ahLst/>
            <a:rect l="l" t="t" r="r" b="b"/>
            <a:pathLst>
              <a:path w="289" h="89">
                <a:moveTo>
                  <a:pt x="92" y="30"/>
                </a:moveTo>
                <a:cubicBezTo>
                  <a:pt x="205" y="2"/>
                  <a:pt x="154" y="0"/>
                  <a:pt x="244" y="19"/>
                </a:cubicBezTo>
                <a:cubicBezTo>
                  <a:pt x="256" y="27"/>
                  <a:pt x="289" y="31"/>
                  <a:pt x="280" y="42"/>
                </a:cubicBezTo>
                <a:cubicBezTo>
                  <a:pt x="265" y="62"/>
                  <a:pt x="234" y="62"/>
                  <a:pt x="209" y="66"/>
                </a:cubicBezTo>
                <a:cubicBezTo>
                  <a:pt x="166" y="74"/>
                  <a:pt x="80" y="89"/>
                  <a:pt x="80" y="89"/>
                </a:cubicBezTo>
                <a:cubicBezTo>
                  <a:pt x="53" y="80"/>
                  <a:pt x="0" y="75"/>
                  <a:pt x="56" y="19"/>
                </a:cubicBezTo>
                <a:cubicBezTo>
                  <a:pt x="65" y="10"/>
                  <a:pt x="80" y="26"/>
                  <a:pt x="92" y="3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0440" y="3691080"/>
            <a:ext cx="151416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286000"/>
            <a:ext cx="3581280" cy="3429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809880"/>
            <a:ext cx="1295280" cy="381240"/>
          </a:xfrm>
          <a:prstGeom prst="leftArrow">
            <a:avLst>
              <a:gd name="adj1" fmla="val 50000"/>
              <a:gd name="adj2" fmla="val 8493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3440" y="2895480"/>
            <a:ext cx="23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9F2-BABA-4BB6-9AAA-4955BE04BA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bo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20968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ist of variables plus values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eliminar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ar_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l_1, Val_2, … , Val_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ar_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l_1, Val_2, … , Val_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ar_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l_1, Val_2, … , Val_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ar_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al_1, Val_2, … , Val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9F9-71E5-4D04-A25D-0275FD1263B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685800" y="2252520"/>
            <a:ext cx="4343400" cy="38433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5126400" y="2014560"/>
            <a:ext cx="38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anguages of the wor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408-9AAC-45DD-9C91-BBB6C39F7A3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2252520"/>
            <a:ext cx="4343400" cy="384336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2895480" y="3429000"/>
            <a:ext cx="3733920" cy="457200"/>
          </a:xfrm>
          <a:prstGeom prst="rightArrow">
            <a:avLst>
              <a:gd name="adj1" fmla="val 50000"/>
              <a:gd name="adj2" fmla="val 204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21720" y="2438280"/>
            <a:ext cx="1799280" cy="3506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50 – 5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3BA-F012-4602-AD1A-71016222180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966240" y="2832120"/>
            <a:ext cx="2012400" cy="33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E2F-1799-49B9-8407-B1658E91E84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966240" y="2832120"/>
            <a:ext cx="2012400" cy="33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84920" y="2324160"/>
            <a:ext cx="4202640" cy="459720"/>
          </a:xfrm>
          <a:prstGeom prst="rect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_1  Var_2  Var_3  …  Var_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205740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79C-969A-4FD0-B668-7063405F09B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collec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966240" y="2832120"/>
            <a:ext cx="2012400" cy="33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9520" y="2324160"/>
            <a:ext cx="4126320" cy="459720"/>
          </a:xfrm>
          <a:prstGeom prst="rect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_1  Var_2  Var_3   .. Var_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05740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3276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91520" y="2819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" y="62485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14400" y="3657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40384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4419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4800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14400" y="51055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4864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1992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E0A-89E0-4CA5-964F-4981A63C3A6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966240" y="2832120"/>
            <a:ext cx="2012400" cy="33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79520" y="2324160"/>
            <a:ext cx="4126320" cy="459720"/>
          </a:xfrm>
          <a:prstGeom prst="rect">
            <a:avLst/>
          </a:prstGeom>
          <a:noFill/>
          <a:ln w="38160">
            <a:solidFill>
              <a:srgbClr val="42a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_1  Var_2  Var_3   .. Var_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05740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14400" y="3276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391520" y="2819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14400" y="62485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14400" y="3657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40384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4419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400" y="4800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14400" y="51055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14400" y="54864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3848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02920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19920" y="2286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8068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_3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54000">
            <a:off x="3352680" y="365760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28954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F69-2F0C-4010-BEA1-4A8286D3A48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es to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762120" y="22096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‘N A M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B94-3D99-4B69-A8BB-BA870588418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es to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22096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FE7-B777-4BD5-95BE-0644DACA69F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es to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762120" y="22096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62320" y="1981080"/>
            <a:ext cx="24382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91120" y="2819520"/>
            <a:ext cx="16002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23200" y="4572000"/>
            <a:ext cx="197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NEM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E01-811A-4C0D-9E53-D32F9BE55C0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286000"/>
            <a:ext cx="3581280" cy="3429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809880"/>
            <a:ext cx="1295280" cy="381240"/>
          </a:xfrm>
          <a:prstGeom prst="leftArrow">
            <a:avLst>
              <a:gd name="adj1" fmla="val 50000"/>
              <a:gd name="adj2" fmla="val 8493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3440" y="2895480"/>
            <a:ext cx="23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9608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B62-6D67-4488-915A-40157420E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es to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762120" y="220968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ot expressed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nly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ugmented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nclusive/ex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aug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124-5B74-4149-A79A-E1948293690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es to Value Lab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762120" y="220968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 l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ot expressed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nly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ugmented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nclusive/ex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aug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814-AB03-4194-A658-BFD367DA63C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es to Value Lab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762120" y="220968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 l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ot expressed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nly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ugmented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nclusive/ex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aug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48320" y="3505320"/>
            <a:ext cx="2057400" cy="205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4572000" y="3657600"/>
            <a:ext cx="17524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E92-5C44-43C0-9078-4FB5922451A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es to Value Lab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762120" y="2209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ab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clu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lue labels (mnemoni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Not expressed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NO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nly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OnlyIn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MinIn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ugmented in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AugIn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nclusive/exclus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42ad37"/>
                </a:solidFill>
                <a:latin typeface="Tahoma"/>
                <a:ea typeface="Times New Roman"/>
              </a:rPr>
              <a:t>InEx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nimal augment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2ad37"/>
                </a:solidFill>
                <a:latin typeface="Tahoma"/>
              </a:rPr>
              <a:t>Min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2DF-09B6-4F59-8673-A3592854031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914400" y="2286000"/>
            <a:ext cx="7467120" cy="4038120"/>
            <a:chOff x="914400" y="2286000"/>
            <a:chExt cx="7467120" cy="4038120"/>
          </a:xfrm>
        </p:grpSpPr>
        <p:grpSp>
          <p:nvGrpSpPr>
            <p:cNvPr id="670" name=""/>
            <p:cNvGrpSpPr/>
            <p:nvPr/>
          </p:nvGrpSpPr>
          <p:grpSpPr>
            <a:xfrm>
              <a:off x="920520" y="2291040"/>
              <a:ext cx="7453080" cy="4026960"/>
              <a:chOff x="920520" y="2291040"/>
              <a:chExt cx="7453080" cy="402696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920520" y="2291040"/>
                <a:ext cx="1387800" cy="928800"/>
                <a:chOff x="920520" y="2291040"/>
                <a:chExt cx="1387800" cy="92880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980280" y="2291040"/>
                  <a:ext cx="12675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LA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920520" y="2291040"/>
                  <a:ext cx="13878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2308680" y="2291040"/>
                <a:ext cx="1295280" cy="928800"/>
                <a:chOff x="2308680" y="2291040"/>
                <a:chExt cx="1295280" cy="92880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2368440" y="2291040"/>
                  <a:ext cx="117504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FAMIL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308680" y="2291040"/>
                  <a:ext cx="129528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604320" y="2291040"/>
                <a:ext cx="1589400" cy="928800"/>
                <a:chOff x="3604320" y="2291040"/>
                <a:chExt cx="1589400" cy="92880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3664080" y="2291040"/>
                  <a:ext cx="14691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BW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60432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5194440" y="2291040"/>
                <a:ext cx="1589400" cy="928800"/>
                <a:chOff x="5194440" y="2291040"/>
                <a:chExt cx="1589400" cy="92880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5254200" y="2291040"/>
                  <a:ext cx="146952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LIG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9444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6784200" y="2291040"/>
                <a:ext cx="1589400" cy="928800"/>
                <a:chOff x="6784200" y="2291040"/>
                <a:chExt cx="1589400" cy="9288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6844320" y="2291040"/>
                  <a:ext cx="14691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INCL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78420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920520" y="3220200"/>
                <a:ext cx="1387800" cy="722520"/>
                <a:chOff x="920520" y="3220200"/>
                <a:chExt cx="1387800" cy="7225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980280" y="322020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ip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920520" y="322020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2308680" y="3220200"/>
                <a:ext cx="1295280" cy="722520"/>
                <a:chOff x="2308680" y="3220200"/>
                <a:chExt cx="1295280" cy="7225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2368440" y="322020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308680" y="322020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3604320" y="3220200"/>
                <a:ext cx="1589400" cy="722520"/>
                <a:chOff x="3604320" y="3220200"/>
                <a:chExt cx="1589400" cy="72252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3664080" y="32202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60432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5194440" y="3220200"/>
                <a:ext cx="1589400" cy="722520"/>
                <a:chOff x="5194440" y="3220200"/>
                <a:chExt cx="1589400" cy="72252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5254200" y="322020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19444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6784200" y="3220200"/>
                <a:ext cx="1589400" cy="722520"/>
                <a:chOff x="6784200" y="3220200"/>
                <a:chExt cx="1589400" cy="72252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6844320" y="32202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78420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920520" y="3943080"/>
                <a:ext cx="1387800" cy="929160"/>
                <a:chOff x="920520" y="3943080"/>
                <a:chExt cx="1387800" cy="9291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980280" y="3943080"/>
                  <a:ext cx="12675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kha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920520" y="3943080"/>
                  <a:ext cx="13878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2308680" y="3943080"/>
                <a:ext cx="1295280" cy="929160"/>
                <a:chOff x="2308680" y="3943080"/>
                <a:chExt cx="1295280" cy="9291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2368440" y="3943080"/>
                  <a:ext cx="11750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o_Pa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308680" y="3943080"/>
                  <a:ext cx="129528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3604320" y="3943080"/>
                <a:ext cx="1589400" cy="929160"/>
                <a:chOff x="3604320" y="3943080"/>
                <a:chExt cx="1589400" cy="9291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664080" y="3943080"/>
                  <a:ext cx="14691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60432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194440" y="3943080"/>
                <a:ext cx="1589400" cy="929160"/>
                <a:chOff x="5194440" y="3943080"/>
                <a:chExt cx="1589400" cy="9291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254200" y="3943080"/>
                  <a:ext cx="146952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19444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6784200" y="3943080"/>
                <a:ext cx="1589400" cy="929160"/>
                <a:chOff x="6784200" y="3943080"/>
                <a:chExt cx="1589400" cy="9291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6844320" y="3943080"/>
                  <a:ext cx="14691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78420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920520" y="4872600"/>
                <a:ext cx="1387800" cy="722520"/>
                <a:chOff x="920520" y="4872600"/>
                <a:chExt cx="1387800" cy="7225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980280" y="487260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u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920520" y="487260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308680" y="4872600"/>
                <a:ext cx="1295280" cy="722520"/>
                <a:chOff x="2308680" y="4872600"/>
                <a:chExt cx="1295280" cy="7225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368440" y="487260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tri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308680" y="487260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3604320" y="4872600"/>
                <a:ext cx="1589400" cy="722520"/>
                <a:chOff x="3604320" y="4872600"/>
                <a:chExt cx="1589400" cy="72252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3664080" y="48726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60432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5194440" y="4872600"/>
                <a:ext cx="1589400" cy="722520"/>
                <a:chOff x="5194440" y="4872600"/>
                <a:chExt cx="1589400" cy="7225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5254200" y="487260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U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19444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6784200" y="4872600"/>
                <a:ext cx="1589400" cy="722520"/>
                <a:chOff x="6784200" y="4872600"/>
                <a:chExt cx="1589400" cy="72252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6844320" y="48726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78420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920520" y="5595480"/>
                <a:ext cx="1387800" cy="722520"/>
                <a:chOff x="920520" y="5595480"/>
                <a:chExt cx="1387800" cy="72252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980280" y="559548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cehne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920520" y="559548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2308680" y="5595480"/>
                <a:ext cx="1295280" cy="722520"/>
                <a:chOff x="2308680" y="5595480"/>
                <a:chExt cx="1295280" cy="72252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2368440" y="559548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2308680" y="559548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3604320" y="5595480"/>
                <a:ext cx="1589400" cy="722520"/>
                <a:chOff x="3604320" y="5595480"/>
                <a:chExt cx="1589400" cy="7225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3664080" y="559548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RE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60432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5194440" y="5595480"/>
                <a:ext cx="1589400" cy="722520"/>
                <a:chOff x="5194440" y="5595480"/>
                <a:chExt cx="1589400" cy="72252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5254200" y="559548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19444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6784200" y="5595480"/>
                <a:ext cx="1589400" cy="722520"/>
                <a:chOff x="6784200" y="5595480"/>
                <a:chExt cx="1589400" cy="7225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6844320" y="559548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78420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6" name=""/>
            <p:cNvSpPr/>
            <p:nvPr/>
          </p:nvSpPr>
          <p:spPr>
            <a:xfrm>
              <a:off x="914400" y="2286000"/>
              <a:ext cx="746712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0880" y="3124080"/>
            <a:ext cx="0" cy="3353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2057400"/>
            <a:ext cx="6476760" cy="0"/>
          </a:xfrm>
          <a:prstGeom prst="line">
            <a:avLst/>
          </a:prstGeom>
          <a:ln w="38160">
            <a:solidFill>
              <a:srgbClr val="42ad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4E1-D91F-43F3-A29E-DED2DA1C9EA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200400" y="3200400"/>
            <a:ext cx="2362320" cy="1523880"/>
            <a:chOff x="3200400" y="3200400"/>
            <a:chExt cx="2362320" cy="1523880"/>
          </a:xfrm>
        </p:grpSpPr>
        <p:grpSp>
          <p:nvGrpSpPr>
            <p:cNvPr id="753" name=""/>
            <p:cNvGrpSpPr/>
            <p:nvPr/>
          </p:nvGrpSpPr>
          <p:grpSpPr>
            <a:xfrm>
              <a:off x="3202200" y="3202200"/>
              <a:ext cx="2358360" cy="1519560"/>
              <a:chOff x="3202200" y="3202200"/>
              <a:chExt cx="2358360" cy="151956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3202200" y="3202200"/>
                <a:ext cx="439200" cy="350640"/>
                <a:chOff x="3202200" y="3202200"/>
                <a:chExt cx="439200" cy="35064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220920" y="320220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202200" y="320220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3641400" y="3202200"/>
                <a:ext cx="409680" cy="350640"/>
                <a:chOff x="3641400" y="3202200"/>
                <a:chExt cx="409680" cy="35064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660120" y="320220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FAMIL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641400" y="320220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051440" y="3202200"/>
                <a:ext cx="502920" cy="350640"/>
                <a:chOff x="4051440" y="3202200"/>
                <a:chExt cx="502920" cy="35064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07016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BW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0514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554360" y="3202200"/>
                <a:ext cx="502920" cy="350640"/>
                <a:chOff x="4554360" y="3202200"/>
                <a:chExt cx="502920" cy="3506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4573080" y="320220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LIG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5436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057640" y="3202200"/>
                <a:ext cx="502920" cy="350640"/>
                <a:chOff x="5057640" y="3202200"/>
                <a:chExt cx="502920" cy="35064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07672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INCLU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0576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3202200" y="3552840"/>
                <a:ext cx="439200" cy="272520"/>
                <a:chOff x="3202200" y="3552840"/>
                <a:chExt cx="439200" cy="2725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220920" y="35528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ip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202200" y="35528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3641400" y="3552840"/>
                <a:ext cx="409680" cy="272520"/>
                <a:chOff x="3641400" y="3552840"/>
                <a:chExt cx="409680" cy="2725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3660120" y="35528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c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641400" y="35528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4051440" y="3552840"/>
                <a:ext cx="502920" cy="272520"/>
                <a:chOff x="4051440" y="3552840"/>
                <a:chExt cx="502920" cy="2725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407016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0514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554360" y="3552840"/>
                <a:ext cx="502920" cy="272520"/>
                <a:chOff x="4554360" y="3552840"/>
                <a:chExt cx="502920" cy="2725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573080" y="35528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55436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057640" y="3552840"/>
                <a:ext cx="502920" cy="272520"/>
                <a:chOff x="5057640" y="3552840"/>
                <a:chExt cx="502920" cy="2725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7672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0576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3202200" y="3825720"/>
                <a:ext cx="439200" cy="350640"/>
                <a:chOff x="3202200" y="3825720"/>
                <a:chExt cx="439200" cy="3506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220920" y="382572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khaz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202200" y="382572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3641400" y="3825720"/>
                <a:ext cx="409680" cy="350640"/>
                <a:chOff x="3641400" y="3825720"/>
                <a:chExt cx="409680" cy="3506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3660120" y="382572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o_Pa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641400" y="382572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051440" y="3825720"/>
                <a:ext cx="502920" cy="350640"/>
                <a:chOff x="4051440" y="3825720"/>
                <a:chExt cx="502920" cy="3506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07016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0514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4554360" y="3825720"/>
                <a:ext cx="502920" cy="350640"/>
                <a:chOff x="4554360" y="3825720"/>
                <a:chExt cx="502920" cy="35064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4573080" y="382572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55436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5057640" y="3825720"/>
                <a:ext cx="502920" cy="350640"/>
                <a:chOff x="5057640" y="3825720"/>
                <a:chExt cx="502920" cy="3506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07672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0576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3202200" y="4176360"/>
                <a:ext cx="439200" cy="272520"/>
                <a:chOff x="3202200" y="4176360"/>
                <a:chExt cx="439200" cy="2725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3220920" y="417636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u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202200" y="417636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3641400" y="4176360"/>
                <a:ext cx="409680" cy="272520"/>
                <a:chOff x="3641400" y="4176360"/>
                <a:chExt cx="409680" cy="2725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3660120" y="417636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tri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641400" y="417636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4051440" y="4176360"/>
                <a:ext cx="502920" cy="272520"/>
                <a:chOff x="4051440" y="4176360"/>
                <a:chExt cx="502920" cy="2725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407016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0514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4554360" y="4176360"/>
                <a:ext cx="502920" cy="272520"/>
                <a:chOff x="4554360" y="4176360"/>
                <a:chExt cx="502920" cy="2725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573080" y="417636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U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55436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5057640" y="4176360"/>
                <a:ext cx="502920" cy="272520"/>
                <a:chOff x="5057640" y="4176360"/>
                <a:chExt cx="502920" cy="2725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507672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0576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3202200" y="4449240"/>
                <a:ext cx="439200" cy="272520"/>
                <a:chOff x="3202200" y="4449240"/>
                <a:chExt cx="439200" cy="2725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3220920" y="44492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cehne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202200" y="44492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3641400" y="4449240"/>
                <a:ext cx="409680" cy="272520"/>
                <a:chOff x="3641400" y="4449240"/>
                <a:chExt cx="409680" cy="2725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3660120" y="44492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641400" y="44492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4051440" y="4449240"/>
                <a:ext cx="502920" cy="272520"/>
                <a:chOff x="4051440" y="4449240"/>
                <a:chExt cx="502920" cy="2725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407016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RE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0514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4554360" y="4449240"/>
                <a:ext cx="502920" cy="272520"/>
                <a:chOff x="4554360" y="4449240"/>
                <a:chExt cx="502920" cy="2725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4573080" y="44492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55436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5057640" y="4449240"/>
                <a:ext cx="502920" cy="272520"/>
                <a:chOff x="5057640" y="4449240"/>
                <a:chExt cx="502920" cy="2725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507672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0576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9" name=""/>
            <p:cNvSpPr/>
            <p:nvPr/>
          </p:nvSpPr>
          <p:spPr>
            <a:xfrm>
              <a:off x="3200400" y="3200400"/>
              <a:ext cx="2362320" cy="1523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F52-857E-4BDE-BC04-6D75D0B7954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ex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200400" y="3200400"/>
            <a:ext cx="2362320" cy="1523880"/>
            <a:chOff x="3200400" y="3200400"/>
            <a:chExt cx="2362320" cy="1523880"/>
          </a:xfrm>
        </p:grpSpPr>
        <p:grpSp>
          <p:nvGrpSpPr>
            <p:cNvPr id="834" name=""/>
            <p:cNvGrpSpPr/>
            <p:nvPr/>
          </p:nvGrpSpPr>
          <p:grpSpPr>
            <a:xfrm>
              <a:off x="3202200" y="3202200"/>
              <a:ext cx="2358360" cy="1519560"/>
              <a:chOff x="3202200" y="3202200"/>
              <a:chExt cx="2358360" cy="1519560"/>
            </a:xfrm>
          </p:grpSpPr>
          <p:grpSp>
            <p:nvGrpSpPr>
              <p:cNvPr id="835" name=""/>
              <p:cNvGrpSpPr/>
              <p:nvPr/>
            </p:nvGrpSpPr>
            <p:grpSpPr>
              <a:xfrm>
                <a:off x="3202200" y="3202200"/>
                <a:ext cx="439200" cy="350640"/>
                <a:chOff x="3202200" y="3202200"/>
                <a:chExt cx="439200" cy="35064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220920" y="320220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202200" y="320220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3641400" y="3202200"/>
                <a:ext cx="409680" cy="350640"/>
                <a:chOff x="3641400" y="3202200"/>
                <a:chExt cx="409680" cy="35064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3660120" y="320220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FAMIL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641400" y="320220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4051440" y="3202200"/>
                <a:ext cx="502920" cy="350640"/>
                <a:chOff x="4051440" y="3202200"/>
                <a:chExt cx="502920" cy="35064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407016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BW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0514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4554360" y="3202200"/>
                <a:ext cx="502920" cy="350640"/>
                <a:chOff x="4554360" y="3202200"/>
                <a:chExt cx="502920" cy="35064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4573080" y="320220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LIG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55436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5057640" y="3202200"/>
                <a:ext cx="502920" cy="350640"/>
                <a:chOff x="5057640" y="3202200"/>
                <a:chExt cx="502920" cy="35064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507672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INCLU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0576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3202200" y="3552840"/>
                <a:ext cx="439200" cy="272520"/>
                <a:chOff x="3202200" y="3552840"/>
                <a:chExt cx="439200" cy="2725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3220920" y="35528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ip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202200" y="35528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3641400" y="3552840"/>
                <a:ext cx="409680" cy="272520"/>
                <a:chOff x="3641400" y="3552840"/>
                <a:chExt cx="409680" cy="2725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3660120" y="35528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c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641400" y="35528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4051440" y="3552840"/>
                <a:ext cx="502920" cy="272520"/>
                <a:chOff x="4051440" y="3552840"/>
                <a:chExt cx="502920" cy="2725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407016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0514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4554360" y="3552840"/>
                <a:ext cx="502920" cy="272520"/>
                <a:chOff x="4554360" y="3552840"/>
                <a:chExt cx="502920" cy="2725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4573080" y="35528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55436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5057640" y="3552840"/>
                <a:ext cx="502920" cy="272520"/>
                <a:chOff x="5057640" y="3552840"/>
                <a:chExt cx="502920" cy="2725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507672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0576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3202200" y="3825720"/>
                <a:ext cx="439200" cy="350640"/>
                <a:chOff x="3202200" y="3825720"/>
                <a:chExt cx="439200" cy="35064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220920" y="382572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khaz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202200" y="382572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641400" y="3825720"/>
                <a:ext cx="409680" cy="350640"/>
                <a:chOff x="3641400" y="3825720"/>
                <a:chExt cx="409680" cy="35064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3660120" y="382572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o_Pa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641400" y="382572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051440" y="3825720"/>
                <a:ext cx="502920" cy="350640"/>
                <a:chOff x="4051440" y="3825720"/>
                <a:chExt cx="502920" cy="35064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407016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0514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4554360" y="3825720"/>
                <a:ext cx="502920" cy="350640"/>
                <a:chOff x="4554360" y="3825720"/>
                <a:chExt cx="502920" cy="35064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4573080" y="382572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55436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5057640" y="3825720"/>
                <a:ext cx="502920" cy="350640"/>
                <a:chOff x="5057640" y="3825720"/>
                <a:chExt cx="502920" cy="35064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507672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0576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3202200" y="4176360"/>
                <a:ext cx="439200" cy="272520"/>
                <a:chOff x="3202200" y="4176360"/>
                <a:chExt cx="439200" cy="2725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3220920" y="417636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u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202200" y="417636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3641400" y="4176360"/>
                <a:ext cx="409680" cy="272520"/>
                <a:chOff x="3641400" y="4176360"/>
                <a:chExt cx="409680" cy="2725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660120" y="417636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tri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641400" y="417636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051440" y="4176360"/>
                <a:ext cx="502920" cy="272520"/>
                <a:chOff x="4051440" y="4176360"/>
                <a:chExt cx="502920" cy="2725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407016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0514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554360" y="4176360"/>
                <a:ext cx="502920" cy="272520"/>
                <a:chOff x="4554360" y="4176360"/>
                <a:chExt cx="502920" cy="2725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4573080" y="417636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U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55436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057640" y="4176360"/>
                <a:ext cx="502920" cy="272520"/>
                <a:chOff x="5057640" y="4176360"/>
                <a:chExt cx="502920" cy="2725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07672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0576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3202200" y="4449240"/>
                <a:ext cx="439200" cy="272520"/>
                <a:chOff x="3202200" y="4449240"/>
                <a:chExt cx="439200" cy="2725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3220920" y="44492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cehne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02200" y="44492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3641400" y="4449240"/>
                <a:ext cx="409680" cy="272520"/>
                <a:chOff x="3641400" y="4449240"/>
                <a:chExt cx="409680" cy="2725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3660120" y="44492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641400" y="44492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4051440" y="4449240"/>
                <a:ext cx="502920" cy="272520"/>
                <a:chOff x="4051440" y="4449240"/>
                <a:chExt cx="502920" cy="2725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407016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RE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0514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4554360" y="4449240"/>
                <a:ext cx="502920" cy="272520"/>
                <a:chOff x="4554360" y="4449240"/>
                <a:chExt cx="502920" cy="2725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4573080" y="44492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55436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5057640" y="4449240"/>
                <a:ext cx="502920" cy="272520"/>
                <a:chOff x="5057640" y="4449240"/>
                <a:chExt cx="502920" cy="2725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7672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0576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0" name=""/>
            <p:cNvSpPr/>
            <p:nvPr/>
          </p:nvSpPr>
          <p:spPr>
            <a:xfrm>
              <a:off x="3200400" y="3200400"/>
              <a:ext cx="2362320" cy="1523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20574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xcel; FileMa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267080" y="2743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435-1BE6-4251-B179-73B9BE9E43E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im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200400" y="3200400"/>
            <a:ext cx="2362320" cy="1523880"/>
            <a:chOff x="3200400" y="3200400"/>
            <a:chExt cx="2362320" cy="1523880"/>
          </a:xfrm>
        </p:grpSpPr>
        <p:grpSp>
          <p:nvGrpSpPr>
            <p:cNvPr id="917" name=""/>
            <p:cNvGrpSpPr/>
            <p:nvPr/>
          </p:nvGrpSpPr>
          <p:grpSpPr>
            <a:xfrm>
              <a:off x="3202200" y="3202200"/>
              <a:ext cx="2358360" cy="1519560"/>
              <a:chOff x="3202200" y="3202200"/>
              <a:chExt cx="2358360" cy="151956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3202200" y="3202200"/>
                <a:ext cx="439200" cy="350640"/>
                <a:chOff x="3202200" y="3202200"/>
                <a:chExt cx="439200" cy="3506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3220920" y="320220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202200" y="320220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3641400" y="3202200"/>
                <a:ext cx="409680" cy="350640"/>
                <a:chOff x="3641400" y="3202200"/>
                <a:chExt cx="409680" cy="350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3660120" y="320220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FAMIL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641400" y="320220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4051440" y="3202200"/>
                <a:ext cx="502920" cy="350640"/>
                <a:chOff x="4051440" y="3202200"/>
                <a:chExt cx="502920" cy="3506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407016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BW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0514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4554360" y="3202200"/>
                <a:ext cx="502920" cy="350640"/>
                <a:chOff x="4554360" y="3202200"/>
                <a:chExt cx="502920" cy="3506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4573080" y="320220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LIG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55436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5057640" y="3202200"/>
                <a:ext cx="502920" cy="350640"/>
                <a:chOff x="5057640" y="3202200"/>
                <a:chExt cx="502920" cy="3506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07672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INCLU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0576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3202200" y="3552840"/>
                <a:ext cx="439200" cy="272520"/>
                <a:chOff x="3202200" y="3552840"/>
                <a:chExt cx="439200" cy="27252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3220920" y="35528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ip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202200" y="35528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3641400" y="3552840"/>
                <a:ext cx="409680" cy="272520"/>
                <a:chOff x="3641400" y="3552840"/>
                <a:chExt cx="409680" cy="27252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3660120" y="35528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c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641400" y="35528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051440" y="3552840"/>
                <a:ext cx="502920" cy="272520"/>
                <a:chOff x="4051440" y="3552840"/>
                <a:chExt cx="502920" cy="27252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407016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0514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4554360" y="3552840"/>
                <a:ext cx="502920" cy="272520"/>
                <a:chOff x="4554360" y="3552840"/>
                <a:chExt cx="502920" cy="2725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4573080" y="35528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55436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057640" y="3552840"/>
                <a:ext cx="502920" cy="272520"/>
                <a:chOff x="5057640" y="3552840"/>
                <a:chExt cx="502920" cy="272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07672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0576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3202200" y="3825720"/>
                <a:ext cx="439200" cy="350640"/>
                <a:chOff x="3202200" y="3825720"/>
                <a:chExt cx="439200" cy="3506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220920" y="382572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khaz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202200" y="382572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3641400" y="3825720"/>
                <a:ext cx="409680" cy="350640"/>
                <a:chOff x="3641400" y="3825720"/>
                <a:chExt cx="409680" cy="35064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660120" y="382572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o_Pa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641400" y="382572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4051440" y="3825720"/>
                <a:ext cx="502920" cy="350640"/>
                <a:chOff x="4051440" y="3825720"/>
                <a:chExt cx="502920" cy="35064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407016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0514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554360" y="3825720"/>
                <a:ext cx="502920" cy="350640"/>
                <a:chOff x="4554360" y="3825720"/>
                <a:chExt cx="502920" cy="3506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573080" y="382572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55436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057640" y="3825720"/>
                <a:ext cx="502920" cy="350640"/>
                <a:chOff x="5057640" y="3825720"/>
                <a:chExt cx="502920" cy="3506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07672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576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3202200" y="4176360"/>
                <a:ext cx="439200" cy="272520"/>
                <a:chOff x="3202200" y="4176360"/>
                <a:chExt cx="439200" cy="2725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3220920" y="417636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u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202200" y="417636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641400" y="4176360"/>
                <a:ext cx="409680" cy="272520"/>
                <a:chOff x="3641400" y="4176360"/>
                <a:chExt cx="409680" cy="2725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3660120" y="417636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tri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641400" y="417636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051440" y="4176360"/>
                <a:ext cx="502920" cy="272520"/>
                <a:chOff x="4051440" y="4176360"/>
                <a:chExt cx="502920" cy="2725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07016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0514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554360" y="4176360"/>
                <a:ext cx="502920" cy="272520"/>
                <a:chOff x="4554360" y="4176360"/>
                <a:chExt cx="502920" cy="2725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4573080" y="417636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U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55436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057640" y="4176360"/>
                <a:ext cx="502920" cy="272520"/>
                <a:chOff x="5057640" y="4176360"/>
                <a:chExt cx="502920" cy="2725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07672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0576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3202200" y="4449240"/>
                <a:ext cx="439200" cy="272520"/>
                <a:chOff x="3202200" y="4449240"/>
                <a:chExt cx="439200" cy="27252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3220920" y="44492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cehne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202200" y="44492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3641400" y="4449240"/>
                <a:ext cx="409680" cy="272520"/>
                <a:chOff x="3641400" y="4449240"/>
                <a:chExt cx="409680" cy="27252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3660120" y="44492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641400" y="44492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4051440" y="4449240"/>
                <a:ext cx="502920" cy="272520"/>
                <a:chOff x="4051440" y="4449240"/>
                <a:chExt cx="502920" cy="27252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07016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RE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0514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4554360" y="4449240"/>
                <a:ext cx="502920" cy="272520"/>
                <a:chOff x="4554360" y="4449240"/>
                <a:chExt cx="502920" cy="272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4573080" y="44492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55436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5057640" y="4449240"/>
                <a:ext cx="502920" cy="272520"/>
                <a:chOff x="5057640" y="4449240"/>
                <a:chExt cx="502920" cy="27252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7672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0576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3" name=""/>
            <p:cNvSpPr/>
            <p:nvPr/>
          </p:nvSpPr>
          <p:spPr>
            <a:xfrm>
              <a:off x="3200400" y="3200400"/>
              <a:ext cx="2362320" cy="1523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00400" y="20574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xcel; FileMa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267080" y="2743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095880" y="36576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rot="16200000">
            <a:off x="5676840" y="36194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9E2-20BA-415F-BFF2-FFFDACD8A3B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im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0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3200400" y="3200400"/>
            <a:ext cx="2362320" cy="1523880"/>
            <a:chOff x="3200400" y="3200400"/>
            <a:chExt cx="2362320" cy="1523880"/>
          </a:xfrm>
        </p:grpSpPr>
        <p:grpSp>
          <p:nvGrpSpPr>
            <p:cNvPr id="1002" name=""/>
            <p:cNvGrpSpPr/>
            <p:nvPr/>
          </p:nvGrpSpPr>
          <p:grpSpPr>
            <a:xfrm>
              <a:off x="3202200" y="3202200"/>
              <a:ext cx="2358360" cy="1519560"/>
              <a:chOff x="3202200" y="3202200"/>
              <a:chExt cx="2358360" cy="1519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3202200" y="3202200"/>
                <a:ext cx="439200" cy="350640"/>
                <a:chOff x="3202200" y="3202200"/>
                <a:chExt cx="439200" cy="35064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3220920" y="320220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202200" y="320220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3641400" y="3202200"/>
                <a:ext cx="409680" cy="350640"/>
                <a:chOff x="3641400" y="3202200"/>
                <a:chExt cx="409680" cy="35064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660120" y="320220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FAMIL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641400" y="320220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4051440" y="3202200"/>
                <a:ext cx="502920" cy="350640"/>
                <a:chOff x="4051440" y="3202200"/>
                <a:chExt cx="502920" cy="35064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407016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BW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514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4554360" y="3202200"/>
                <a:ext cx="502920" cy="350640"/>
                <a:chOff x="4554360" y="3202200"/>
                <a:chExt cx="502920" cy="3506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4573080" y="320220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LIG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55436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5057640" y="3202200"/>
                <a:ext cx="502920" cy="350640"/>
                <a:chOff x="5057640" y="3202200"/>
                <a:chExt cx="502920" cy="35064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507672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INCLU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0576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3202200" y="3552840"/>
                <a:ext cx="439200" cy="272520"/>
                <a:chOff x="3202200" y="3552840"/>
                <a:chExt cx="439200" cy="27252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3220920" y="35528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ip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202200" y="35528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3641400" y="3552840"/>
                <a:ext cx="409680" cy="272520"/>
                <a:chOff x="3641400" y="3552840"/>
                <a:chExt cx="409680" cy="27252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3660120" y="35528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c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641400" y="35528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4051440" y="3552840"/>
                <a:ext cx="502920" cy="272520"/>
                <a:chOff x="4051440" y="3552840"/>
                <a:chExt cx="502920" cy="2725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407016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0514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4554360" y="3552840"/>
                <a:ext cx="502920" cy="272520"/>
                <a:chOff x="4554360" y="3552840"/>
                <a:chExt cx="502920" cy="272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4573080" y="35528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55436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5057640" y="3552840"/>
                <a:ext cx="502920" cy="272520"/>
                <a:chOff x="5057640" y="3552840"/>
                <a:chExt cx="502920" cy="27252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507672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0576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3202200" y="3825720"/>
                <a:ext cx="439200" cy="350640"/>
                <a:chOff x="3202200" y="3825720"/>
                <a:chExt cx="439200" cy="35064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3220920" y="382572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khaz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202200" y="382572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3641400" y="3825720"/>
                <a:ext cx="409680" cy="350640"/>
                <a:chOff x="3641400" y="3825720"/>
                <a:chExt cx="409680" cy="3506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660120" y="382572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o_Pa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641400" y="382572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4051440" y="3825720"/>
                <a:ext cx="502920" cy="350640"/>
                <a:chOff x="4051440" y="3825720"/>
                <a:chExt cx="502920" cy="35064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407016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0514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4554360" y="3825720"/>
                <a:ext cx="502920" cy="350640"/>
                <a:chOff x="4554360" y="3825720"/>
                <a:chExt cx="502920" cy="35064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4573080" y="382572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55436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5057640" y="3825720"/>
                <a:ext cx="502920" cy="350640"/>
                <a:chOff x="5057640" y="3825720"/>
                <a:chExt cx="502920" cy="35064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507672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0576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3202200" y="4176360"/>
                <a:ext cx="439200" cy="272520"/>
                <a:chOff x="3202200" y="4176360"/>
                <a:chExt cx="439200" cy="27252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3220920" y="417636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u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202200" y="417636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3641400" y="4176360"/>
                <a:ext cx="409680" cy="272520"/>
                <a:chOff x="3641400" y="4176360"/>
                <a:chExt cx="409680" cy="27252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660120" y="417636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tri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3641400" y="417636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4051440" y="4176360"/>
                <a:ext cx="502920" cy="272520"/>
                <a:chOff x="4051440" y="4176360"/>
                <a:chExt cx="502920" cy="27252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407016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0514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4554360" y="4176360"/>
                <a:ext cx="502920" cy="272520"/>
                <a:chOff x="4554360" y="4176360"/>
                <a:chExt cx="502920" cy="27252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4573080" y="417636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U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55436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5057640" y="4176360"/>
                <a:ext cx="502920" cy="272520"/>
                <a:chOff x="5057640" y="4176360"/>
                <a:chExt cx="502920" cy="27252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507672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0576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3202200" y="4449240"/>
                <a:ext cx="439200" cy="272520"/>
                <a:chOff x="3202200" y="4449240"/>
                <a:chExt cx="439200" cy="27252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3220920" y="44492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cehne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202200" y="44492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3641400" y="4449240"/>
                <a:ext cx="409680" cy="272520"/>
                <a:chOff x="3641400" y="4449240"/>
                <a:chExt cx="409680" cy="27252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3660120" y="44492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641400" y="44492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4051440" y="4449240"/>
                <a:ext cx="502920" cy="272520"/>
                <a:chOff x="4051440" y="4449240"/>
                <a:chExt cx="502920" cy="27252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07016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RE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0514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4554360" y="4449240"/>
                <a:ext cx="502920" cy="272520"/>
                <a:chOff x="4554360" y="4449240"/>
                <a:chExt cx="502920" cy="27252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4573080" y="44492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55436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5057640" y="4449240"/>
                <a:ext cx="502920" cy="272520"/>
                <a:chOff x="5057640" y="4449240"/>
                <a:chExt cx="502920" cy="27252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507672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576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8" name=""/>
            <p:cNvSpPr/>
            <p:nvPr/>
          </p:nvSpPr>
          <p:spPr>
            <a:xfrm>
              <a:off x="3200400" y="3200400"/>
              <a:ext cx="2362320" cy="1523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200400" y="20574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xcel; FileMa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7080" y="2743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95880" y="36576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81480" y="518148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rot="16200000">
            <a:off x="5676840" y="36194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57800" y="47242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251-0E9D-4A56-BDD5-61F6F3B466D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im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7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200400" y="3200400"/>
            <a:ext cx="2362320" cy="1523880"/>
            <a:chOff x="3200400" y="3200400"/>
            <a:chExt cx="2362320" cy="1523880"/>
          </a:xfrm>
        </p:grpSpPr>
        <p:grpSp>
          <p:nvGrpSpPr>
            <p:cNvPr id="1089" name=""/>
            <p:cNvGrpSpPr/>
            <p:nvPr/>
          </p:nvGrpSpPr>
          <p:grpSpPr>
            <a:xfrm>
              <a:off x="3202200" y="3202200"/>
              <a:ext cx="2358360" cy="1519560"/>
              <a:chOff x="3202200" y="3202200"/>
              <a:chExt cx="2358360" cy="151956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3202200" y="3202200"/>
                <a:ext cx="439200" cy="350640"/>
                <a:chOff x="3202200" y="3202200"/>
                <a:chExt cx="439200" cy="35064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3220920" y="320220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3202200" y="320220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3641400" y="3202200"/>
                <a:ext cx="409680" cy="350640"/>
                <a:chOff x="3641400" y="3202200"/>
                <a:chExt cx="409680" cy="35064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3660120" y="320220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FAMIL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641400" y="320220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4051440" y="3202200"/>
                <a:ext cx="502920" cy="350640"/>
                <a:chOff x="4051440" y="3202200"/>
                <a:chExt cx="502920" cy="35064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407016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BW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0514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4554360" y="3202200"/>
                <a:ext cx="502920" cy="350640"/>
                <a:chOff x="4554360" y="3202200"/>
                <a:chExt cx="502920" cy="35064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4573080" y="320220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LIG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55436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5057640" y="3202200"/>
                <a:ext cx="502920" cy="350640"/>
                <a:chOff x="5057640" y="3202200"/>
                <a:chExt cx="502920" cy="35064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507672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INCLU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0576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3202200" y="3552840"/>
                <a:ext cx="439200" cy="272520"/>
                <a:chOff x="3202200" y="3552840"/>
                <a:chExt cx="439200" cy="27252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3220920" y="35528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ip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202200" y="35528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3641400" y="3552840"/>
                <a:ext cx="409680" cy="272520"/>
                <a:chOff x="3641400" y="3552840"/>
                <a:chExt cx="409680" cy="2725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3660120" y="35528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c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641400" y="35528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4051440" y="3552840"/>
                <a:ext cx="502920" cy="272520"/>
                <a:chOff x="4051440" y="3552840"/>
                <a:chExt cx="502920" cy="27252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407016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0514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4554360" y="3552840"/>
                <a:ext cx="502920" cy="272520"/>
                <a:chOff x="4554360" y="3552840"/>
                <a:chExt cx="502920" cy="27252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4573080" y="35528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55436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5057640" y="3552840"/>
                <a:ext cx="502920" cy="272520"/>
                <a:chOff x="5057640" y="3552840"/>
                <a:chExt cx="502920" cy="27252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507672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0576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3202200" y="3825720"/>
                <a:ext cx="439200" cy="350640"/>
                <a:chOff x="3202200" y="3825720"/>
                <a:chExt cx="439200" cy="3506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3220920" y="382572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khaz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202200" y="382572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3641400" y="3825720"/>
                <a:ext cx="409680" cy="350640"/>
                <a:chOff x="3641400" y="3825720"/>
                <a:chExt cx="409680" cy="35064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3660120" y="382572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o_Pa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641400" y="382572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4051440" y="3825720"/>
                <a:ext cx="502920" cy="350640"/>
                <a:chOff x="4051440" y="3825720"/>
                <a:chExt cx="502920" cy="35064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407016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0514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4554360" y="3825720"/>
                <a:ext cx="502920" cy="350640"/>
                <a:chOff x="4554360" y="3825720"/>
                <a:chExt cx="502920" cy="35064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4573080" y="382572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55436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5057640" y="3825720"/>
                <a:ext cx="502920" cy="350640"/>
                <a:chOff x="5057640" y="3825720"/>
                <a:chExt cx="502920" cy="35064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507672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0576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3202200" y="4176360"/>
                <a:ext cx="439200" cy="272520"/>
                <a:chOff x="3202200" y="4176360"/>
                <a:chExt cx="439200" cy="27252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3220920" y="417636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u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202200" y="417636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3641400" y="4176360"/>
                <a:ext cx="409680" cy="272520"/>
                <a:chOff x="3641400" y="4176360"/>
                <a:chExt cx="409680" cy="27252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3660120" y="417636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tri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641400" y="417636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4051440" y="4176360"/>
                <a:ext cx="502920" cy="272520"/>
                <a:chOff x="4051440" y="4176360"/>
                <a:chExt cx="502920" cy="27252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07016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0514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4554360" y="4176360"/>
                <a:ext cx="502920" cy="272520"/>
                <a:chOff x="4554360" y="4176360"/>
                <a:chExt cx="502920" cy="27252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4573080" y="417636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U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55436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5057640" y="4176360"/>
                <a:ext cx="502920" cy="272520"/>
                <a:chOff x="5057640" y="4176360"/>
                <a:chExt cx="502920" cy="27252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507672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0576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0" name=""/>
              <p:cNvGrpSpPr/>
              <p:nvPr/>
            </p:nvGrpSpPr>
            <p:grpSpPr>
              <a:xfrm>
                <a:off x="3202200" y="4449240"/>
                <a:ext cx="439200" cy="272520"/>
                <a:chOff x="3202200" y="4449240"/>
                <a:chExt cx="439200" cy="27252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3220920" y="44492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cehne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202200" y="44492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3641400" y="4449240"/>
                <a:ext cx="409680" cy="272520"/>
                <a:chOff x="3641400" y="4449240"/>
                <a:chExt cx="409680" cy="27252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660120" y="44492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641400" y="44492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"/>
              <p:cNvGrpSpPr/>
              <p:nvPr/>
            </p:nvGrpSpPr>
            <p:grpSpPr>
              <a:xfrm>
                <a:off x="4051440" y="4449240"/>
                <a:ext cx="502920" cy="272520"/>
                <a:chOff x="4051440" y="4449240"/>
                <a:chExt cx="502920" cy="27252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407016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RE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0514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4554360" y="4449240"/>
                <a:ext cx="502920" cy="272520"/>
                <a:chOff x="4554360" y="4449240"/>
                <a:chExt cx="502920" cy="27252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4573080" y="44492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55436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5057640" y="4449240"/>
                <a:ext cx="502920" cy="272520"/>
                <a:chOff x="5057640" y="4449240"/>
                <a:chExt cx="502920" cy="2725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507672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0576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5" name=""/>
            <p:cNvSpPr/>
            <p:nvPr/>
          </p:nvSpPr>
          <p:spPr>
            <a:xfrm>
              <a:off x="3200400" y="3200400"/>
              <a:ext cx="2362320" cy="1523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200400" y="20574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xcel; FileMa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267080" y="2743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095880" y="36576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219320" y="5181480"/>
            <a:ext cx="2361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SS; MatLa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181480" y="518148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rot="16200000">
            <a:off x="5676840" y="36194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276720" y="47242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257800" y="47242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7B1-8C71-4DA5-897D-930978998BE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67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9608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846-175A-4794-8300-24D222B1B8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im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6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3200400" y="3200400"/>
            <a:ext cx="2362320" cy="1523880"/>
            <a:chOff x="3200400" y="3200400"/>
            <a:chExt cx="2362320" cy="1523880"/>
          </a:xfrm>
        </p:grpSpPr>
        <p:grpSp>
          <p:nvGrpSpPr>
            <p:cNvPr id="1178" name=""/>
            <p:cNvGrpSpPr/>
            <p:nvPr/>
          </p:nvGrpSpPr>
          <p:grpSpPr>
            <a:xfrm>
              <a:off x="3202200" y="3202200"/>
              <a:ext cx="2358360" cy="1519560"/>
              <a:chOff x="3202200" y="3202200"/>
              <a:chExt cx="2358360" cy="151956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3202200" y="3202200"/>
                <a:ext cx="439200" cy="350640"/>
                <a:chOff x="3202200" y="3202200"/>
                <a:chExt cx="439200" cy="35064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3220920" y="320220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202200" y="320220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3641400" y="3202200"/>
                <a:ext cx="409680" cy="350640"/>
                <a:chOff x="3641400" y="3202200"/>
                <a:chExt cx="409680" cy="35064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3660120" y="320220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FAMIL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641400" y="320220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4051440" y="3202200"/>
                <a:ext cx="502920" cy="350640"/>
                <a:chOff x="4051440" y="3202200"/>
                <a:chExt cx="502920" cy="35064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407016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BW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0514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4554360" y="3202200"/>
                <a:ext cx="502920" cy="350640"/>
                <a:chOff x="4554360" y="3202200"/>
                <a:chExt cx="502920" cy="35064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4573080" y="320220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LIG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55436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5057640" y="3202200"/>
                <a:ext cx="502920" cy="350640"/>
                <a:chOff x="5057640" y="3202200"/>
                <a:chExt cx="502920" cy="35064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5076720" y="320220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INCLU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057640" y="320220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3202200" y="3552840"/>
                <a:ext cx="439200" cy="272520"/>
                <a:chOff x="3202200" y="3552840"/>
                <a:chExt cx="439200" cy="27252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3220920" y="35528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ip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202200" y="35528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3641400" y="3552840"/>
                <a:ext cx="409680" cy="272520"/>
                <a:chOff x="3641400" y="3552840"/>
                <a:chExt cx="409680" cy="27252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3660120" y="35528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c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641400" y="35528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4051440" y="3552840"/>
                <a:ext cx="502920" cy="272520"/>
                <a:chOff x="4051440" y="3552840"/>
                <a:chExt cx="502920" cy="27252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407016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0514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4554360" y="3552840"/>
                <a:ext cx="502920" cy="272520"/>
                <a:chOff x="4554360" y="3552840"/>
                <a:chExt cx="502920" cy="27252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4573080" y="35528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55436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5057640" y="3552840"/>
                <a:ext cx="502920" cy="272520"/>
                <a:chOff x="5057640" y="3552840"/>
                <a:chExt cx="502920" cy="27252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5076720" y="35528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057640" y="35528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3202200" y="3825720"/>
                <a:ext cx="439200" cy="350640"/>
                <a:chOff x="3202200" y="3825720"/>
                <a:chExt cx="439200" cy="35064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3220920" y="3825720"/>
                  <a:ext cx="401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khaz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202200" y="3825720"/>
                  <a:ext cx="43920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3641400" y="3825720"/>
                <a:ext cx="409680" cy="350640"/>
                <a:chOff x="3641400" y="3825720"/>
                <a:chExt cx="409680" cy="35064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3660120" y="3825720"/>
                  <a:ext cx="371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o_Pa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641400" y="3825720"/>
                  <a:ext cx="40968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4051440" y="3825720"/>
                <a:ext cx="502920" cy="350640"/>
                <a:chOff x="4051440" y="3825720"/>
                <a:chExt cx="502920" cy="35064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407016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0514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4554360" y="3825720"/>
                <a:ext cx="502920" cy="350640"/>
                <a:chOff x="4554360" y="3825720"/>
                <a:chExt cx="502920" cy="35064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4573080" y="3825720"/>
                  <a:ext cx="46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55436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057640" y="3825720"/>
                <a:ext cx="502920" cy="350640"/>
                <a:chOff x="5057640" y="3825720"/>
                <a:chExt cx="502920" cy="35064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076720" y="3825720"/>
                  <a:ext cx="4647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057640" y="3825720"/>
                  <a:ext cx="502920" cy="35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3202200" y="4176360"/>
                <a:ext cx="439200" cy="272520"/>
                <a:chOff x="3202200" y="4176360"/>
                <a:chExt cx="439200" cy="27252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3220920" y="417636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u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202200" y="417636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3641400" y="4176360"/>
                <a:ext cx="409680" cy="272520"/>
                <a:chOff x="3641400" y="4176360"/>
                <a:chExt cx="409680" cy="27252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3660120" y="417636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stri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641400" y="417636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4051440" y="4176360"/>
                <a:ext cx="502920" cy="272520"/>
                <a:chOff x="4051440" y="4176360"/>
                <a:chExt cx="502920" cy="27252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407016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V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0514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4554360" y="4176360"/>
                <a:ext cx="502920" cy="272520"/>
                <a:chOff x="4554360" y="4176360"/>
                <a:chExt cx="502920" cy="27252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4573080" y="417636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U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55436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5057640" y="4176360"/>
                <a:ext cx="502920" cy="272520"/>
                <a:chOff x="5057640" y="4176360"/>
                <a:chExt cx="502920" cy="27252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5076720" y="417636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fW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057640" y="417636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3202200" y="4449240"/>
                <a:ext cx="439200" cy="272520"/>
                <a:chOff x="3202200" y="4449240"/>
                <a:chExt cx="439200" cy="27252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3220920" y="4449240"/>
                  <a:ext cx="40104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cehne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3202200" y="4449240"/>
                  <a:ext cx="43920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3641400" y="4449240"/>
                <a:ext cx="409680" cy="272520"/>
                <a:chOff x="3641400" y="4449240"/>
                <a:chExt cx="409680" cy="27252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3660120" y="4449240"/>
                  <a:ext cx="3715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eri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3641400" y="4449240"/>
                  <a:ext cx="40968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4051440" y="4449240"/>
                <a:ext cx="502920" cy="272520"/>
                <a:chOff x="4051440" y="4449240"/>
                <a:chExt cx="502920" cy="27252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407016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RE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0514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4554360" y="4449240"/>
                <a:ext cx="502920" cy="272520"/>
                <a:chOff x="4554360" y="4449240"/>
                <a:chExt cx="502920" cy="27252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4573080" y="4449240"/>
                  <a:ext cx="46512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55436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5057640" y="4449240"/>
                <a:ext cx="502920" cy="272520"/>
                <a:chOff x="5057640" y="4449240"/>
                <a:chExt cx="502920" cy="27252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5076720" y="4449240"/>
                  <a:ext cx="464760" cy="2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Exc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057640" y="4449240"/>
                  <a:ext cx="502920" cy="2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4" name=""/>
            <p:cNvSpPr/>
            <p:nvPr/>
          </p:nvSpPr>
          <p:spPr>
            <a:xfrm>
              <a:off x="3200400" y="3200400"/>
              <a:ext cx="2362320" cy="1523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200400" y="20574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xcel; FileMa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67080" y="2743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95880" y="36576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219320" y="5181480"/>
            <a:ext cx="2361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PSS; MatLa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181480" y="518148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0880" y="3657600"/>
            <a:ext cx="236232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5400000">
            <a:off x="2857320" y="3657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rot="16200000">
            <a:off x="5676840" y="36194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276720" y="47242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257800" y="47242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39D-EF2B-40B5-9BE0-026E5C7DA6C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co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7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04440" y="2319480"/>
            <a:ext cx="609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1 languag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1 valu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Adjective – Nou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mall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*A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tribu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N_Order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E94-99A3-4172-A841-0E8048FB93D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co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1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64160" y="2319480"/>
            <a:ext cx="5499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1 languag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1 valu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Adjective – Nou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Una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tribu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que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Un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queñ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N_Order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+NA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A48-2C42-44AE-941B-9C33CEAC659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co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5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366920" y="2319480"/>
            <a:ext cx="697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1 languag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1 valu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Main Claus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inClOrder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V+SVO+VSO+VOS+OVS+O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liferation of values: unanaly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E29-83F4-42BD-85B9-E4E19A0A57E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sc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9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914400" y="2286000"/>
            <a:ext cx="7467120" cy="4038120"/>
            <a:chOff x="914400" y="2286000"/>
            <a:chExt cx="7467120" cy="4038120"/>
          </a:xfrm>
        </p:grpSpPr>
        <p:grpSp>
          <p:nvGrpSpPr>
            <p:cNvPr id="1281" name=""/>
            <p:cNvGrpSpPr/>
            <p:nvPr/>
          </p:nvGrpSpPr>
          <p:grpSpPr>
            <a:xfrm>
              <a:off x="920520" y="2291040"/>
              <a:ext cx="7453080" cy="4026960"/>
              <a:chOff x="920520" y="2291040"/>
              <a:chExt cx="7453080" cy="40269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920520" y="2291040"/>
                <a:ext cx="1387800" cy="928800"/>
                <a:chOff x="920520" y="2291040"/>
                <a:chExt cx="1387800" cy="92880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980280" y="2291040"/>
                  <a:ext cx="12675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920520" y="2291040"/>
                  <a:ext cx="13878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5" name=""/>
              <p:cNvGrpSpPr/>
              <p:nvPr/>
            </p:nvGrpSpPr>
            <p:grpSpPr>
              <a:xfrm>
                <a:off x="2308680" y="2291040"/>
                <a:ext cx="1295280" cy="928800"/>
                <a:chOff x="2308680" y="2291040"/>
                <a:chExt cx="1295280" cy="92880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2368440" y="2291040"/>
                  <a:ext cx="117504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N_basi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308680" y="2291040"/>
                  <a:ext cx="129528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3604320" y="2291040"/>
                <a:ext cx="1589400" cy="928800"/>
                <a:chOff x="3604320" y="2291040"/>
                <a:chExt cx="1589400" cy="92880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3664080" y="2291040"/>
                  <a:ext cx="14691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N_al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60432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"/>
              <p:cNvGrpSpPr/>
              <p:nvPr/>
            </p:nvGrpSpPr>
            <p:grpSpPr>
              <a:xfrm>
                <a:off x="5194440" y="2291040"/>
                <a:ext cx="1589400" cy="928800"/>
                <a:chOff x="5194440" y="2291040"/>
                <a:chExt cx="1589400" cy="92880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5254200" y="2291040"/>
                  <a:ext cx="146952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19444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6784200" y="2291040"/>
                <a:ext cx="1589400" cy="928800"/>
                <a:chOff x="6784200" y="2291040"/>
                <a:chExt cx="1589400" cy="92880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6844320" y="2291040"/>
                  <a:ext cx="14691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78420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920520" y="3220200"/>
                <a:ext cx="1387800" cy="722520"/>
                <a:chOff x="920520" y="3220200"/>
                <a:chExt cx="1387800" cy="72252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980280" y="322020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920520" y="322020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2308680" y="3220200"/>
                <a:ext cx="1295280" cy="722520"/>
                <a:chOff x="2308680" y="3220200"/>
                <a:chExt cx="1295280" cy="72252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2368440" y="322020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308680" y="322020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3604320" y="3220200"/>
                <a:ext cx="1589400" cy="722520"/>
                <a:chOff x="3604320" y="3220200"/>
                <a:chExt cx="1589400" cy="72252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3664080" y="32202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360432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5194440" y="3220200"/>
                <a:ext cx="1589400" cy="722520"/>
                <a:chOff x="5194440" y="3220200"/>
                <a:chExt cx="1589400" cy="72252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5254200" y="322020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519444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6784200" y="3220200"/>
                <a:ext cx="1589400" cy="722520"/>
                <a:chOff x="6784200" y="3220200"/>
                <a:chExt cx="1589400" cy="72252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6844320" y="32202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78420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920520" y="3943080"/>
                <a:ext cx="1387800" cy="929160"/>
                <a:chOff x="920520" y="3943080"/>
                <a:chExt cx="1387800" cy="9291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980280" y="3943080"/>
                  <a:ext cx="12675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920520" y="3943080"/>
                  <a:ext cx="13878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2308680" y="3943080"/>
                <a:ext cx="1295280" cy="929160"/>
                <a:chOff x="2308680" y="3943080"/>
                <a:chExt cx="1295280" cy="92916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2368440" y="3943080"/>
                  <a:ext cx="11750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308680" y="3943080"/>
                  <a:ext cx="129528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3604320" y="3943080"/>
                <a:ext cx="1589400" cy="929160"/>
                <a:chOff x="3604320" y="3943080"/>
                <a:chExt cx="1589400" cy="9291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3664080" y="3943080"/>
                  <a:ext cx="14691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RR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360432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5194440" y="3943080"/>
                <a:ext cx="1589400" cy="929160"/>
                <a:chOff x="5194440" y="3943080"/>
                <a:chExt cx="1589400" cy="92916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5254200" y="3943080"/>
                  <a:ext cx="146952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19444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6784200" y="3943080"/>
                <a:ext cx="1589400" cy="929160"/>
                <a:chOff x="6784200" y="3943080"/>
                <a:chExt cx="1589400" cy="92916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6844320" y="3943080"/>
                  <a:ext cx="14691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78420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920520" y="4872600"/>
                <a:ext cx="1387800" cy="722520"/>
                <a:chOff x="920520" y="4872600"/>
                <a:chExt cx="1387800" cy="72252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980280" y="487260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920520" y="487260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2308680" y="4872600"/>
                <a:ext cx="1295280" cy="722520"/>
                <a:chOff x="2308680" y="4872600"/>
                <a:chExt cx="1295280" cy="72252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2368440" y="487260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308680" y="487260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3604320" y="4872600"/>
                <a:ext cx="1589400" cy="722520"/>
                <a:chOff x="3604320" y="4872600"/>
                <a:chExt cx="1589400" cy="72252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3664080" y="48726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360432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5194440" y="4872600"/>
                <a:ext cx="1589400" cy="722520"/>
                <a:chOff x="5194440" y="4872600"/>
                <a:chExt cx="1589400" cy="72252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5254200" y="487260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519444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6784200" y="4872600"/>
                <a:ext cx="1589400" cy="722520"/>
                <a:chOff x="6784200" y="4872600"/>
                <a:chExt cx="1589400" cy="72252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844320" y="48726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78420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920520" y="5595480"/>
                <a:ext cx="1387800" cy="722520"/>
                <a:chOff x="920520" y="5595480"/>
                <a:chExt cx="1387800" cy="72252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980280" y="559548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920520" y="559548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308680" y="5595480"/>
                <a:ext cx="1295280" cy="722520"/>
                <a:chOff x="2308680" y="5595480"/>
                <a:chExt cx="1295280" cy="7225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2368440" y="559548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308680" y="559548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3604320" y="5595480"/>
                <a:ext cx="1589400" cy="722520"/>
                <a:chOff x="3604320" y="5595480"/>
                <a:chExt cx="1589400" cy="72252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3664080" y="559548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RR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60432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5194440" y="5595480"/>
                <a:ext cx="1589400" cy="722520"/>
                <a:chOff x="5194440" y="5595480"/>
                <a:chExt cx="1589400" cy="722520"/>
              </a:xfrm>
            </p:grpSpPr>
            <p:sp>
              <p:nvSpPr>
                <p:cNvPr id="1352" name=""/>
                <p:cNvSpPr/>
                <p:nvPr/>
              </p:nvSpPr>
              <p:spPr>
                <a:xfrm>
                  <a:off x="5254200" y="559548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519444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6784200" y="5595480"/>
                <a:ext cx="1589400" cy="722520"/>
                <a:chOff x="6784200" y="5595480"/>
                <a:chExt cx="1589400" cy="72252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6844320" y="559548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78420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7" name=""/>
            <p:cNvSpPr/>
            <p:nvPr/>
          </p:nvSpPr>
          <p:spPr>
            <a:xfrm>
              <a:off x="914400" y="2286000"/>
              <a:ext cx="746712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6D6-57E9-4193-95D9-9847C458F65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cond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0" name=""/>
          <p:cNvSpPr/>
          <p:nvPr/>
        </p:nvSpPr>
        <p:spPr>
          <a:xfrm>
            <a:off x="3240" y="1004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914400" y="2286000"/>
            <a:ext cx="7467120" cy="4038120"/>
            <a:chOff x="914400" y="2286000"/>
            <a:chExt cx="7467120" cy="4038120"/>
          </a:xfrm>
        </p:grpSpPr>
        <p:grpSp>
          <p:nvGrpSpPr>
            <p:cNvPr id="1362" name=""/>
            <p:cNvGrpSpPr/>
            <p:nvPr/>
          </p:nvGrpSpPr>
          <p:grpSpPr>
            <a:xfrm>
              <a:off x="920520" y="2291040"/>
              <a:ext cx="7453080" cy="4026960"/>
              <a:chOff x="920520" y="2291040"/>
              <a:chExt cx="7453080" cy="4026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920520" y="2291040"/>
                <a:ext cx="1387800" cy="928800"/>
                <a:chOff x="920520" y="2291040"/>
                <a:chExt cx="1387800" cy="92880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980280" y="2291040"/>
                  <a:ext cx="12675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920520" y="2291040"/>
                  <a:ext cx="13878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2308680" y="2291040"/>
                <a:ext cx="1295280" cy="928800"/>
                <a:chOff x="2308680" y="2291040"/>
                <a:chExt cx="1295280" cy="92880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2368440" y="2291040"/>
                  <a:ext cx="117504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N_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308680" y="2291040"/>
                  <a:ext cx="129528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3604320" y="2291040"/>
                <a:ext cx="1589400" cy="928800"/>
                <a:chOff x="3604320" y="2291040"/>
                <a:chExt cx="1589400" cy="92880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664080" y="2291040"/>
                  <a:ext cx="14691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N_cond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60432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5194440" y="2291040"/>
                <a:ext cx="1589400" cy="928800"/>
                <a:chOff x="5194440" y="2291040"/>
                <a:chExt cx="1589400" cy="92880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5254200" y="2291040"/>
                  <a:ext cx="146952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N_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19444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6784200" y="2291040"/>
                <a:ext cx="1589400" cy="928800"/>
                <a:chOff x="6784200" y="2291040"/>
                <a:chExt cx="1589400" cy="92880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6844320" y="2291040"/>
                  <a:ext cx="14691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78420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920520" y="3220200"/>
                <a:ext cx="1387800" cy="722520"/>
                <a:chOff x="920520" y="3220200"/>
                <a:chExt cx="1387800" cy="7225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980280" y="322020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920520" y="322020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2308680" y="3220200"/>
                <a:ext cx="1295280" cy="722520"/>
                <a:chOff x="2308680" y="3220200"/>
                <a:chExt cx="1295280" cy="72252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2368440" y="322020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308680" y="322020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604320" y="3220200"/>
                <a:ext cx="1589400" cy="722520"/>
                <a:chOff x="3604320" y="3220200"/>
                <a:chExt cx="1589400" cy="7225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3664080" y="32202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bstrac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360432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5194440" y="3220200"/>
                <a:ext cx="1589400" cy="722520"/>
                <a:chOff x="5194440" y="3220200"/>
                <a:chExt cx="1589400" cy="72252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5254200" y="322020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19444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6784200" y="3220200"/>
                <a:ext cx="1589400" cy="722520"/>
                <a:chOff x="6784200" y="3220200"/>
                <a:chExt cx="1589400" cy="72252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6844320" y="32202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678420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920520" y="3943080"/>
                <a:ext cx="1387800" cy="929160"/>
                <a:chOff x="920520" y="3943080"/>
                <a:chExt cx="1387800" cy="92916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980280" y="3943080"/>
                  <a:ext cx="12675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920520" y="3943080"/>
                  <a:ext cx="13878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2308680" y="3943080"/>
                <a:ext cx="1295280" cy="929160"/>
                <a:chOff x="2308680" y="3943080"/>
                <a:chExt cx="1295280" cy="92916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2368440" y="3943080"/>
                  <a:ext cx="11750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308680" y="3943080"/>
                  <a:ext cx="129528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3604320" y="3943080"/>
                <a:ext cx="1589400" cy="929160"/>
                <a:chOff x="3604320" y="3943080"/>
                <a:chExt cx="1589400" cy="92916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3664080" y="3943080"/>
                  <a:ext cx="14691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RR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60432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5194440" y="3943080"/>
                <a:ext cx="1589400" cy="929160"/>
                <a:chOff x="5194440" y="3943080"/>
                <a:chExt cx="1589400" cy="92916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5254200" y="3943080"/>
                  <a:ext cx="146952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19444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6784200" y="3943080"/>
                <a:ext cx="1589400" cy="929160"/>
                <a:chOff x="6784200" y="3943080"/>
                <a:chExt cx="1589400" cy="92916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6844320" y="3943080"/>
                  <a:ext cx="14691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78420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920520" y="4872600"/>
                <a:ext cx="1387800" cy="722520"/>
                <a:chOff x="920520" y="4872600"/>
                <a:chExt cx="1387800" cy="7225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980280" y="487260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920520" y="487260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2308680" y="4872600"/>
                <a:ext cx="1295280" cy="722520"/>
                <a:chOff x="2308680" y="4872600"/>
                <a:chExt cx="1295280" cy="72252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2368440" y="487260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2308680" y="487260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3604320" y="4872600"/>
                <a:ext cx="1589400" cy="722520"/>
                <a:chOff x="3604320" y="4872600"/>
                <a:chExt cx="1589400" cy="72252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3664080" y="48726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60432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5194440" y="4872600"/>
                <a:ext cx="1589400" cy="722520"/>
                <a:chOff x="5194440" y="4872600"/>
                <a:chExt cx="1589400" cy="7225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5254200" y="487260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19444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6784200" y="4872600"/>
                <a:ext cx="1589400" cy="722520"/>
                <a:chOff x="6784200" y="4872600"/>
                <a:chExt cx="1589400" cy="7225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6844320" y="48726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678420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920520" y="5595480"/>
                <a:ext cx="1387800" cy="722520"/>
                <a:chOff x="920520" y="5595480"/>
                <a:chExt cx="1387800" cy="7225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980280" y="559548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920520" y="559548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2308680" y="5595480"/>
                <a:ext cx="1295280" cy="722520"/>
                <a:chOff x="2308680" y="5595480"/>
                <a:chExt cx="1295280" cy="7225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2368440" y="559548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308680" y="559548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3604320" y="5595480"/>
                <a:ext cx="1589400" cy="722520"/>
                <a:chOff x="3604320" y="5595480"/>
                <a:chExt cx="1589400" cy="72252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3664080" y="559548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RR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60432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194440" y="5595480"/>
                <a:ext cx="1589400" cy="722520"/>
                <a:chOff x="5194440" y="5595480"/>
                <a:chExt cx="1589400" cy="7225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5254200" y="559548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19444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6784200" y="5595480"/>
                <a:ext cx="1589400" cy="722520"/>
                <a:chOff x="6784200" y="5595480"/>
                <a:chExt cx="1589400" cy="72252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6844320" y="559548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678420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8" name=""/>
            <p:cNvSpPr/>
            <p:nvPr/>
          </p:nvSpPr>
          <p:spPr>
            <a:xfrm>
              <a:off x="914400" y="2286000"/>
              <a:ext cx="746712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3240" y="5213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914400" y="2286000"/>
            <a:ext cx="7467120" cy="4038120"/>
            <a:chOff x="914400" y="2286000"/>
            <a:chExt cx="7467120" cy="4038120"/>
          </a:xfrm>
        </p:grpSpPr>
        <p:grpSp>
          <p:nvGrpSpPr>
            <p:cNvPr id="1441" name=""/>
            <p:cNvGrpSpPr/>
            <p:nvPr/>
          </p:nvGrpSpPr>
          <p:grpSpPr>
            <a:xfrm>
              <a:off x="920520" y="2291040"/>
              <a:ext cx="7453080" cy="4026960"/>
              <a:chOff x="920520" y="2291040"/>
              <a:chExt cx="7453080" cy="4026960"/>
            </a:xfrm>
          </p:grpSpPr>
          <p:grpSp>
            <p:nvGrpSpPr>
              <p:cNvPr id="1442" name=""/>
              <p:cNvGrpSpPr/>
              <p:nvPr/>
            </p:nvGrpSpPr>
            <p:grpSpPr>
              <a:xfrm>
                <a:off x="920520" y="2291040"/>
                <a:ext cx="1387800" cy="928800"/>
                <a:chOff x="920520" y="2291040"/>
                <a:chExt cx="1387800" cy="92880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980280" y="2291040"/>
                  <a:ext cx="12675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920520" y="2291040"/>
                  <a:ext cx="13878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2308680" y="2291040"/>
                <a:ext cx="1295280" cy="928800"/>
                <a:chOff x="2308680" y="2291040"/>
                <a:chExt cx="1295280" cy="92880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2368440" y="2291040"/>
                  <a:ext cx="117504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N_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308680" y="2291040"/>
                  <a:ext cx="129528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3604320" y="2291040"/>
                <a:ext cx="1589400" cy="928800"/>
                <a:chOff x="3604320" y="2291040"/>
                <a:chExt cx="1589400" cy="92880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3664080" y="2291040"/>
                  <a:ext cx="14691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360432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5194440" y="2291040"/>
                <a:ext cx="1589400" cy="928800"/>
                <a:chOff x="5194440" y="2291040"/>
                <a:chExt cx="1589400" cy="9288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5254200" y="2291040"/>
                  <a:ext cx="146952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N_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19444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6784200" y="2291040"/>
                <a:ext cx="1589400" cy="928800"/>
                <a:chOff x="6784200" y="2291040"/>
                <a:chExt cx="1589400" cy="92880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6844320" y="2291040"/>
                  <a:ext cx="1469160" cy="9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2ad37"/>
                      </a:solidFill>
                      <a:latin typeface="Times New Roman"/>
                      <a:ea typeface="Times New Roman"/>
                    </a:rPr>
                    <a:t>AN_cond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784200" y="2291040"/>
                  <a:ext cx="1589400" cy="92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920520" y="3220200"/>
                <a:ext cx="1387800" cy="722520"/>
                <a:chOff x="920520" y="3220200"/>
                <a:chExt cx="1387800" cy="7225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980280" y="322020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920520" y="322020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0" name=""/>
              <p:cNvGrpSpPr/>
              <p:nvPr/>
            </p:nvGrpSpPr>
            <p:grpSpPr>
              <a:xfrm>
                <a:off x="2308680" y="3220200"/>
                <a:ext cx="1295280" cy="722520"/>
                <a:chOff x="2308680" y="3220200"/>
                <a:chExt cx="1295280" cy="72252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2368440" y="322020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2308680" y="322020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3" name=""/>
              <p:cNvGrpSpPr/>
              <p:nvPr/>
            </p:nvGrpSpPr>
            <p:grpSpPr>
              <a:xfrm>
                <a:off x="3604320" y="3220200"/>
                <a:ext cx="1589400" cy="722520"/>
                <a:chOff x="3604320" y="3220200"/>
                <a:chExt cx="1589400" cy="7225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3664080" y="32202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360432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5194440" y="3220200"/>
                <a:ext cx="1589400" cy="722520"/>
                <a:chOff x="5194440" y="3220200"/>
                <a:chExt cx="1589400" cy="7225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5254200" y="322020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19444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6784200" y="3220200"/>
                <a:ext cx="1589400" cy="722520"/>
                <a:chOff x="6784200" y="3220200"/>
                <a:chExt cx="1589400" cy="72252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844320" y="32202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concre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784200" y="32202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920520" y="3943080"/>
                <a:ext cx="1387800" cy="929160"/>
                <a:chOff x="920520" y="3943080"/>
                <a:chExt cx="1387800" cy="92916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980280" y="3943080"/>
                  <a:ext cx="12675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920520" y="3943080"/>
                  <a:ext cx="13878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2308680" y="3943080"/>
                <a:ext cx="1295280" cy="929160"/>
                <a:chOff x="2308680" y="3943080"/>
                <a:chExt cx="1295280" cy="92916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2368440" y="3943080"/>
                  <a:ext cx="11750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2308680" y="3943080"/>
                  <a:ext cx="129528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3604320" y="3943080"/>
                <a:ext cx="1589400" cy="929160"/>
                <a:chOff x="3604320" y="3943080"/>
                <a:chExt cx="1589400" cy="92916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3664080" y="3943080"/>
                  <a:ext cx="14691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60432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5194440" y="3943080"/>
                <a:ext cx="1589400" cy="929160"/>
                <a:chOff x="5194440" y="3943080"/>
                <a:chExt cx="1589400" cy="9291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5254200" y="3943080"/>
                  <a:ext cx="146952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RR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519444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6784200" y="3943080"/>
                <a:ext cx="1589400" cy="929160"/>
                <a:chOff x="6784200" y="3943080"/>
                <a:chExt cx="1589400" cy="92916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6844320" y="3943080"/>
                  <a:ext cx="14691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784200" y="3943080"/>
                  <a:ext cx="158940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920520" y="4872600"/>
                <a:ext cx="1387800" cy="722520"/>
                <a:chOff x="920520" y="4872600"/>
                <a:chExt cx="1387800" cy="7225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980280" y="487260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920520" y="487260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2308680" y="4872600"/>
                <a:ext cx="1295280" cy="722520"/>
                <a:chOff x="2308680" y="4872600"/>
                <a:chExt cx="1295280" cy="7225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2368440" y="487260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2308680" y="487260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3604320" y="4872600"/>
                <a:ext cx="1589400" cy="722520"/>
                <a:chOff x="3604320" y="4872600"/>
                <a:chExt cx="1589400" cy="72252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3664080" y="48726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hum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360432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5194440" y="4872600"/>
                <a:ext cx="1589400" cy="722520"/>
                <a:chOff x="5194440" y="4872600"/>
                <a:chExt cx="1589400" cy="7225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5254200" y="487260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519444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6784200" y="4872600"/>
                <a:ext cx="1589400" cy="722520"/>
                <a:chOff x="6784200" y="4872600"/>
                <a:chExt cx="1589400" cy="7225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6844320" y="487260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nonhum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784200" y="487260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920520" y="5595480"/>
                <a:ext cx="1387800" cy="722520"/>
                <a:chOff x="920520" y="5595480"/>
                <a:chExt cx="1387800" cy="7225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980280" y="5595480"/>
                  <a:ext cx="12675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920520" y="5595480"/>
                  <a:ext cx="13878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2308680" y="5595480"/>
                <a:ext cx="1295280" cy="722520"/>
                <a:chOff x="2308680" y="5595480"/>
                <a:chExt cx="1295280" cy="72252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2368440" y="5595480"/>
                  <a:ext cx="117504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2308680" y="5595480"/>
                  <a:ext cx="129528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3604320" y="5595480"/>
                <a:ext cx="1589400" cy="722520"/>
                <a:chOff x="3604320" y="5595480"/>
                <a:chExt cx="1589400" cy="7225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3664080" y="559548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RR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360432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5194440" y="5595480"/>
                <a:ext cx="1589400" cy="722520"/>
                <a:chOff x="5194440" y="5595480"/>
                <a:chExt cx="1589400" cy="7225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5254200" y="5595480"/>
                  <a:ext cx="146952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RR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519444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6784200" y="5595480"/>
                <a:ext cx="1589400" cy="722520"/>
                <a:chOff x="6784200" y="5595480"/>
                <a:chExt cx="1589400" cy="7225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6844320" y="5595480"/>
                  <a:ext cx="14691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6784200" y="5595480"/>
                  <a:ext cx="1589400" cy="72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7" name=""/>
            <p:cNvSpPr/>
            <p:nvPr/>
          </p:nvSpPr>
          <p:spPr>
            <a:xfrm>
              <a:off x="914400" y="2286000"/>
              <a:ext cx="746712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6930000" y="393372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R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950880" y="559584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R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40360" y="1844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308720" y="1844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7AC-1CBD-4507-B434-3F68C602434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trix: missing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3" name=""/>
          <p:cNvSpPr/>
          <p:nvPr/>
        </p:nvSpPr>
        <p:spPr>
          <a:xfrm>
            <a:off x="3240" y="1004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40" y="521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240" y="118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762120" y="2438280"/>
            <a:ext cx="7467120" cy="3200400"/>
            <a:chOff x="762120" y="2438280"/>
            <a:chExt cx="7467120" cy="3200400"/>
          </a:xfrm>
        </p:grpSpPr>
        <p:grpSp>
          <p:nvGrpSpPr>
            <p:cNvPr id="1527" name=""/>
            <p:cNvGrpSpPr/>
            <p:nvPr/>
          </p:nvGrpSpPr>
          <p:grpSpPr>
            <a:xfrm>
              <a:off x="769320" y="2442600"/>
              <a:ext cx="7451280" cy="3190680"/>
              <a:chOff x="769320" y="2442600"/>
              <a:chExt cx="7451280" cy="319068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769320" y="2442600"/>
                <a:ext cx="1862280" cy="637920"/>
                <a:chOff x="769320" y="2442600"/>
                <a:chExt cx="1862280" cy="63792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839520" y="2442600"/>
                  <a:ext cx="172188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L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769320" y="244260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1" name=""/>
              <p:cNvGrpSpPr/>
              <p:nvPr/>
            </p:nvGrpSpPr>
            <p:grpSpPr>
              <a:xfrm>
                <a:off x="2631960" y="2442600"/>
                <a:ext cx="1862280" cy="637920"/>
                <a:chOff x="2631960" y="2442600"/>
                <a:chExt cx="1862280" cy="63792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2702520" y="2442600"/>
                  <a:ext cx="172116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Subj_Ag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2631960" y="244260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4494960" y="2442600"/>
                <a:ext cx="1863000" cy="637920"/>
                <a:chOff x="4494960" y="2442600"/>
                <a:chExt cx="1863000" cy="63792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4565520" y="2442600"/>
                  <a:ext cx="172152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Numb_Ag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494960" y="2442600"/>
                  <a:ext cx="186300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6358320" y="2442600"/>
                <a:ext cx="1862280" cy="637920"/>
                <a:chOff x="6358320" y="2442600"/>
                <a:chExt cx="1862280" cy="637920"/>
              </a:xfrm>
            </p:grpSpPr>
            <p:sp>
              <p:nvSpPr>
                <p:cNvPr id="1538" name=""/>
                <p:cNvSpPr/>
                <p:nvPr/>
              </p:nvSpPr>
              <p:spPr>
                <a:xfrm>
                  <a:off x="6428520" y="2442600"/>
                  <a:ext cx="172116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Gender_Ag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358320" y="244260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0" name=""/>
              <p:cNvGrpSpPr/>
              <p:nvPr/>
            </p:nvGrpSpPr>
            <p:grpSpPr>
              <a:xfrm>
                <a:off x="769320" y="3080520"/>
                <a:ext cx="1862280" cy="637920"/>
                <a:chOff x="769320" y="3080520"/>
                <a:chExt cx="1862280" cy="637920"/>
              </a:xfrm>
            </p:grpSpPr>
            <p:sp>
              <p:nvSpPr>
                <p:cNvPr id="1541" name=""/>
                <p:cNvSpPr/>
                <p:nvPr/>
              </p:nvSpPr>
              <p:spPr>
                <a:xfrm>
                  <a:off x="839520" y="3080520"/>
                  <a:ext cx="172188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Abip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769320" y="308052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3" name=""/>
              <p:cNvGrpSpPr/>
              <p:nvPr/>
            </p:nvGrpSpPr>
            <p:grpSpPr>
              <a:xfrm>
                <a:off x="2631960" y="3080520"/>
                <a:ext cx="1862280" cy="637920"/>
                <a:chOff x="2631960" y="3080520"/>
                <a:chExt cx="1862280" cy="63792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2702520" y="3080520"/>
                  <a:ext cx="172116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Y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2631960" y="308052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6" name=""/>
              <p:cNvGrpSpPr/>
              <p:nvPr/>
            </p:nvGrpSpPr>
            <p:grpSpPr>
              <a:xfrm>
                <a:off x="4494960" y="3080520"/>
                <a:ext cx="1863000" cy="637920"/>
                <a:chOff x="4494960" y="3080520"/>
                <a:chExt cx="1863000" cy="637920"/>
              </a:xfrm>
            </p:grpSpPr>
            <p:sp>
              <p:nvSpPr>
                <p:cNvPr id="1547" name=""/>
                <p:cNvSpPr/>
                <p:nvPr/>
              </p:nvSpPr>
              <p:spPr>
                <a:xfrm>
                  <a:off x="4565520" y="3080520"/>
                  <a:ext cx="172152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P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494960" y="3080520"/>
                  <a:ext cx="186300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6358320" y="3080520"/>
                <a:ext cx="1862280" cy="637920"/>
                <a:chOff x="6358320" y="3080520"/>
                <a:chExt cx="1862280" cy="63792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6428520" y="3080520"/>
                  <a:ext cx="172116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358320" y="308052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769320" y="3718800"/>
                <a:ext cx="1862280" cy="637920"/>
                <a:chOff x="769320" y="3718800"/>
                <a:chExt cx="1862280" cy="63792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839520" y="3718800"/>
                  <a:ext cx="172188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Adzer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769320" y="371880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2631960" y="3718800"/>
                <a:ext cx="1862280" cy="637920"/>
                <a:chOff x="2631960" y="3718800"/>
                <a:chExt cx="1862280" cy="63792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2702520" y="3718800"/>
                  <a:ext cx="172116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2631960" y="371880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4494960" y="3718800"/>
                <a:ext cx="1863000" cy="637920"/>
                <a:chOff x="4494960" y="3718800"/>
                <a:chExt cx="1863000" cy="63792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4565520" y="3718800"/>
                  <a:ext cx="172152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2ad37"/>
                      </a:solidFill>
                      <a:latin typeface="Tahoma"/>
                      <a:ea typeface="Times New Roman"/>
                    </a:rPr>
                    <a:t>IR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4494960" y="3718800"/>
                  <a:ext cx="186300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6358320" y="3718800"/>
                <a:ext cx="1862280" cy="637920"/>
                <a:chOff x="6358320" y="3718800"/>
                <a:chExt cx="1862280" cy="63792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6428520" y="3718800"/>
                  <a:ext cx="172116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2ad37"/>
                      </a:solidFill>
                      <a:latin typeface="Tahoma"/>
                      <a:ea typeface="Times New Roman"/>
                    </a:rPr>
                    <a:t>IR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358320" y="371880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769320" y="4356720"/>
                <a:ext cx="1862280" cy="638280"/>
                <a:chOff x="769320" y="4356720"/>
                <a:chExt cx="1862280" cy="63828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839520" y="4356720"/>
                  <a:ext cx="172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Aghe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69320" y="4356720"/>
                  <a:ext cx="186228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7" name=""/>
              <p:cNvGrpSpPr/>
              <p:nvPr/>
            </p:nvGrpSpPr>
            <p:grpSpPr>
              <a:xfrm>
                <a:off x="2631960" y="4356720"/>
                <a:ext cx="1862280" cy="638280"/>
                <a:chOff x="2631960" y="4356720"/>
                <a:chExt cx="1862280" cy="638280"/>
              </a:xfrm>
            </p:grpSpPr>
            <p:sp>
              <p:nvSpPr>
                <p:cNvPr id="1568" name=""/>
                <p:cNvSpPr/>
                <p:nvPr/>
              </p:nvSpPr>
              <p:spPr>
                <a:xfrm>
                  <a:off x="2702520" y="4356720"/>
                  <a:ext cx="172116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Y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2631960" y="4356720"/>
                  <a:ext cx="186228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4494960" y="4356720"/>
                <a:ext cx="1863000" cy="638280"/>
                <a:chOff x="4494960" y="4356720"/>
                <a:chExt cx="1863000" cy="638280"/>
              </a:xfrm>
            </p:grpSpPr>
            <p:sp>
              <p:nvSpPr>
                <p:cNvPr id="1571" name=""/>
                <p:cNvSpPr/>
                <p:nvPr/>
              </p:nvSpPr>
              <p:spPr>
                <a:xfrm>
                  <a:off x="4565520" y="4356720"/>
                  <a:ext cx="172152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DUP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494960" y="4356720"/>
                  <a:ext cx="186300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3" name=""/>
              <p:cNvGrpSpPr/>
              <p:nvPr/>
            </p:nvGrpSpPr>
            <p:grpSpPr>
              <a:xfrm>
                <a:off x="6358320" y="4356720"/>
                <a:ext cx="1862280" cy="638280"/>
                <a:chOff x="6358320" y="4356720"/>
                <a:chExt cx="1862280" cy="63828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6428520" y="4356720"/>
                  <a:ext cx="172116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ahoma"/>
                      <a:ea typeface="Times New Roman"/>
                    </a:rPr>
                    <a:t>UNK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358320" y="4356720"/>
                  <a:ext cx="186228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769320" y="4995360"/>
                <a:ext cx="1862280" cy="637920"/>
                <a:chOff x="769320" y="4995360"/>
                <a:chExt cx="1862280" cy="63792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839520" y="4995360"/>
                  <a:ext cx="172188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69320" y="499536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2631960" y="4995360"/>
                <a:ext cx="1862280" cy="637920"/>
                <a:chOff x="2631960" y="4995360"/>
                <a:chExt cx="1862280" cy="63792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2702520" y="4995360"/>
                  <a:ext cx="172116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2631960" y="499536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2" name=""/>
              <p:cNvGrpSpPr/>
              <p:nvPr/>
            </p:nvGrpSpPr>
            <p:grpSpPr>
              <a:xfrm>
                <a:off x="4494960" y="4995360"/>
                <a:ext cx="1863000" cy="637920"/>
                <a:chOff x="4494960" y="4995360"/>
                <a:chExt cx="1863000" cy="637920"/>
              </a:xfrm>
            </p:grpSpPr>
            <p:sp>
              <p:nvSpPr>
                <p:cNvPr id="1583" name=""/>
                <p:cNvSpPr/>
                <p:nvPr/>
              </p:nvSpPr>
              <p:spPr>
                <a:xfrm>
                  <a:off x="4565520" y="4995360"/>
                  <a:ext cx="172152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4494960" y="4995360"/>
                  <a:ext cx="186300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6358320" y="4995360"/>
                <a:ext cx="1862280" cy="637920"/>
                <a:chOff x="6358320" y="4995360"/>
                <a:chExt cx="1862280" cy="63792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6428520" y="4995360"/>
                  <a:ext cx="172116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6358320" y="4995360"/>
                  <a:ext cx="186228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8" name=""/>
            <p:cNvSpPr/>
            <p:nvPr/>
          </p:nvSpPr>
          <p:spPr>
            <a:xfrm>
              <a:off x="762120" y="2438280"/>
              <a:ext cx="7467120" cy="3200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>
            <a:off x="3240" y="503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E33-3DEB-40E4-A967-51730EC769D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data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1" name=""/>
          <p:cNvSpPr/>
          <p:nvPr/>
        </p:nvSpPr>
        <p:spPr>
          <a:xfrm>
            <a:off x="3240" y="1004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240" y="521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240" y="118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240" y="503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63000" y="2319480"/>
            <a:ext cx="71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appendices of books / 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eenberg 1963; Hawkins 1985; Nichols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5C3-9750-4611-B45D-95CEEEA5728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data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7" name=""/>
          <p:cNvSpPr/>
          <p:nvPr/>
        </p:nvSpPr>
        <p:spPr>
          <a:xfrm>
            <a:off x="3240" y="1004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240" y="521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240" y="118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240" y="503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963000" y="2319480"/>
            <a:ext cx="71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appendices of books / 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Greenberg 1963; Hawkins 1985; Nichols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jects (EuroTyp; W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572000" y="388620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05920" y="4986360"/>
            <a:ext cx="335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nderlying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781-30A9-4EAA-B84F-37B6277E8CD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ing data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5" name=""/>
          <p:cNvSpPr/>
          <p:nvPr/>
        </p:nvSpPr>
        <p:spPr>
          <a:xfrm>
            <a:off x="3240" y="1004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240" y="521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240" y="118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240" y="503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017360" y="2319480"/>
            <a:ext cx="7317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appendices of books / 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Greenberg 1963; Hawkins 1985; Nichols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s (EuroTyp; W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 line data resources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TRC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thnologue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 (SIL)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23A-08F8-403D-86F5-74CA691D7D0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: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2819520"/>
            <a:ext cx="380880" cy="3808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886200"/>
            <a:ext cx="381240" cy="38088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1523880"/>
            <a:ext cx="381240" cy="381240"/>
          </a:xfrm>
          <a:prstGeom prst="ellipse">
            <a:avLst/>
          </a:prstGeom>
          <a:solidFill>
            <a:srgbClr val="403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2743200"/>
            <a:ext cx="38124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48769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59436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1880" y="4267080"/>
            <a:ext cx="38124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743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562720"/>
            <a:ext cx="380880" cy="380880"/>
          </a:xfrm>
          <a:prstGeom prst="ellipse">
            <a:avLst/>
          </a:prstGeom>
          <a:solidFill>
            <a:srgbClr val="1ec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2895480"/>
            <a:ext cx="380880" cy="381240"/>
          </a:xfrm>
          <a:prstGeom prst="ellipse">
            <a:avLst/>
          </a:prstGeom>
          <a:solidFill>
            <a:srgbClr val="beac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5486400"/>
            <a:ext cx="380880" cy="380880"/>
          </a:xfrm>
          <a:prstGeom prst="ellipse">
            <a:avLst/>
          </a:prstGeom>
          <a:solidFill>
            <a:srgbClr val="2c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4440" y="2666880"/>
            <a:ext cx="2133720" cy="3429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560" y="2852640"/>
            <a:ext cx="196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Tahoma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5240" y="2243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1828800"/>
            <a:ext cx="762120" cy="45720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70760" y="3429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97C-939A-4370-9D6D-7984044203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managemen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1" name=""/>
          <p:cNvSpPr/>
          <p:nvPr/>
        </p:nvSpPr>
        <p:spPr>
          <a:xfrm>
            <a:off x="3240" y="1004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40" y="521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240" y="118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240" y="503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849600" y="2319480"/>
            <a:ext cx="39477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s: Excel;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L: Shoebox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FileMaker 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47C-4AEA-4331-80BC-DE299B619BF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4:32:28Z</dcterms:created>
  <dc:creator>bakker</dc:creator>
  <dc:description/>
  <dc:language>en-US</dc:language>
  <cp:lastModifiedBy>Dik Bakker</cp:lastModifiedBy>
  <dcterms:modified xsi:type="dcterms:W3CDTF">2007-07-23T15:38:53Z</dcterms:modified>
  <cp:revision>786</cp:revision>
  <dc:subject/>
  <dc:title>Semantic Parameters of the Grammaticalization of Agreement</dc:title>
</cp:coreProperties>
</file>