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1FB-09E7-4AF9-8A41-C896B69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D96-6CB2-4955-BF26-ED22FD9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1CB-F071-412C-A749-D2B17CAE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872-B6D5-4A93-87C2-57E7CF91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89B3-8865-4B88-9C23-84571CE5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D746-C8F6-47BE-9E95-55CABE2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802-3A4F-4FB8-9C25-A175CFAD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25C-028C-4064-B1D9-BD953A6F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12C8-7CA8-4EA7-BF85-9D695C0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84C7-68ED-45F1-AF56-3CD08FC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00FA-F31B-4436-A818-4214A33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005-25EB-47CB-9BED-36F1389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0F8-4CE2-49F5-BE2F-A66A00B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F503-728D-4DF0-8DDD-A0F5E27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344-84F7-4849-A8D1-DEC1385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28A-80CC-4D98-971A-3978DCEB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18E3-93F7-408C-BD3A-2C8A2881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801-CC21-4F30-87DC-55AFEBE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C75-40BA-4BDD-9A2C-62B4EBC7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8FA-E850-4BC6-8E75-B6A95B20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BAE-6D19-40D7-9AF2-7DD8FC2B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455-D71A-49FC-9D51-124317D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833-53D5-4AD5-8EA5-CC89E84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5FF-00AA-4097-8291-82325768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161B-9B24-4548-BE8C-E8CC8E0B8277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B730-514B-40B2-9D66-C497A6FA1707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028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: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nguage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ampling </a:t>
            </a:r>
            <a:br>
              <a:rPr sz="44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2120" y="248112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89280" y="1830240"/>
            <a:ext cx="56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 of the world:     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505320"/>
            <a:ext cx="3733920" cy="457200"/>
          </a:xfrm>
          <a:prstGeom prst="rightArrow">
            <a:avLst>
              <a:gd name="adj1" fmla="val 50000"/>
              <a:gd name="adj2" fmla="val 20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9920" y="2666880"/>
            <a:ext cx="1799280" cy="3506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50 – 5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8A5-DCC3-46F7-84B3-9B5481F71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8520" y="4834080"/>
            <a:ext cx="71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uter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gs per fami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give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685-E22F-435A-B7F9-977A8C4A7B4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6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838080" y="2286000"/>
            <a:ext cx="7543440" cy="4114800"/>
            <a:chOff x="838080" y="2286000"/>
            <a:chExt cx="7543440" cy="4114800"/>
          </a:xfrm>
        </p:grpSpPr>
        <p:grpSp>
          <p:nvGrpSpPr>
            <p:cNvPr id="1144" name=""/>
            <p:cNvGrpSpPr/>
            <p:nvPr/>
          </p:nvGrpSpPr>
          <p:grpSpPr>
            <a:xfrm>
              <a:off x="844200" y="2289240"/>
              <a:ext cx="7530480" cy="4107240"/>
              <a:chOff x="844200" y="2289240"/>
              <a:chExt cx="7530480" cy="410724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844200" y="2289240"/>
                <a:ext cx="2720880" cy="719280"/>
                <a:chOff x="844200" y="2289240"/>
                <a:chExt cx="2720880" cy="7192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902160" y="2289240"/>
                  <a:ext cx="2604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mpleSiz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mily (n=527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44200" y="2289240"/>
                  <a:ext cx="272088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565440" y="2289240"/>
                <a:ext cx="1164240" cy="719280"/>
                <a:chOff x="3565440" y="2289240"/>
                <a:chExt cx="1164240" cy="7192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623400" y="228924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565440" y="228924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730040" y="2289240"/>
                <a:ext cx="1164600" cy="719280"/>
                <a:chOff x="4730040" y="2289240"/>
                <a:chExt cx="1164600" cy="7192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788360" y="2289240"/>
                  <a:ext cx="1047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730040" y="2289240"/>
                  <a:ext cx="116460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5895360" y="2289240"/>
                <a:ext cx="1164240" cy="719280"/>
                <a:chOff x="5895360" y="2289240"/>
                <a:chExt cx="1164240" cy="7192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5953320" y="228924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895360" y="228924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7060320" y="2289240"/>
                <a:ext cx="1314360" cy="719280"/>
                <a:chOff x="7060320" y="2289240"/>
                <a:chExt cx="1314360" cy="7192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7118640" y="2289240"/>
                  <a:ext cx="119808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060320" y="2289240"/>
                  <a:ext cx="13143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44200" y="3008520"/>
                <a:ext cx="2720880" cy="533520"/>
                <a:chOff x="844200" y="3008520"/>
                <a:chExt cx="2720880" cy="53352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902160" y="300852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fro-Asiatic (258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44200" y="300852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3565440" y="3008520"/>
                <a:ext cx="1164240" cy="533520"/>
                <a:chOff x="3565440" y="3008520"/>
                <a:chExt cx="1164240" cy="53352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3623400" y="30085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565440" y="30085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4730040" y="3008520"/>
                <a:ext cx="1164600" cy="533520"/>
                <a:chOff x="4730040" y="3008520"/>
                <a:chExt cx="1164600" cy="5335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4788360" y="300852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730040" y="300852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95360" y="3008520"/>
                <a:ext cx="1164240" cy="533520"/>
                <a:chOff x="5895360" y="3008520"/>
                <a:chExt cx="1164240" cy="5335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953320" y="30085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95360" y="30085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7060320" y="3008520"/>
                <a:ext cx="1314360" cy="533520"/>
                <a:chOff x="7060320" y="3008520"/>
                <a:chExt cx="1314360" cy="5335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118640" y="300852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060320" y="300852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844200" y="3542400"/>
                <a:ext cx="2720880" cy="533520"/>
                <a:chOff x="844200" y="3542400"/>
                <a:chExt cx="2720880" cy="5335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902160" y="354240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(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44200" y="354240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565440" y="3542400"/>
                <a:ext cx="1164240" cy="533520"/>
                <a:chOff x="3565440" y="3542400"/>
                <a:chExt cx="1164240" cy="5335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623400" y="354240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565440" y="354240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4730040" y="3542400"/>
                <a:ext cx="1164600" cy="533520"/>
                <a:chOff x="4730040" y="3542400"/>
                <a:chExt cx="1164600" cy="5335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4788360" y="354240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730040" y="354240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895360" y="3542400"/>
                <a:ext cx="1164240" cy="533520"/>
                <a:chOff x="5895360" y="3542400"/>
                <a:chExt cx="1164240" cy="5335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5953320" y="354240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895360" y="354240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7060320" y="3542400"/>
                <a:ext cx="1314360" cy="533520"/>
                <a:chOff x="7060320" y="3542400"/>
                <a:chExt cx="1314360" cy="5335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118640" y="354240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060320" y="354240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844200" y="4075920"/>
                <a:ext cx="2720880" cy="533520"/>
                <a:chOff x="844200" y="4075920"/>
                <a:chExt cx="2720880" cy="53352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902160" y="407592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 (1186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44200" y="407592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565440" y="4075920"/>
                <a:ext cx="1164240" cy="533520"/>
                <a:chOff x="3565440" y="4075920"/>
                <a:chExt cx="1164240" cy="5335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623400" y="40759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565440" y="40759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4730040" y="4075920"/>
                <a:ext cx="1164600" cy="533520"/>
                <a:chOff x="4730040" y="4075920"/>
                <a:chExt cx="1164600" cy="5335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4788360" y="407592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730040" y="407592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5895360" y="4075920"/>
                <a:ext cx="1164240" cy="533520"/>
                <a:chOff x="5895360" y="4075920"/>
                <a:chExt cx="1164240" cy="5335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5953320" y="40759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895360" y="40759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7060320" y="4075920"/>
                <a:ext cx="1314360" cy="533520"/>
                <a:chOff x="7060320" y="4075920"/>
                <a:chExt cx="1314360" cy="53352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7118640" y="407592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7060320" y="407592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844200" y="4609440"/>
                <a:ext cx="2720880" cy="533520"/>
                <a:chOff x="844200" y="4609440"/>
                <a:chExt cx="2720880" cy="5335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902160" y="460944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ian (38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44200" y="460944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3565440" y="4609440"/>
                <a:ext cx="1164240" cy="533520"/>
                <a:chOff x="3565440" y="4609440"/>
                <a:chExt cx="1164240" cy="5335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623400" y="460944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565440" y="460944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4730040" y="4609440"/>
                <a:ext cx="1164600" cy="533520"/>
                <a:chOff x="4730040" y="4609440"/>
                <a:chExt cx="1164600" cy="5335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4788360" y="460944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730040" y="460944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5895360" y="4609440"/>
                <a:ext cx="1164240" cy="533520"/>
                <a:chOff x="5895360" y="4609440"/>
                <a:chExt cx="1164240" cy="5335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5953320" y="460944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5895360" y="460944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7060320" y="4609440"/>
                <a:ext cx="1314360" cy="533520"/>
                <a:chOff x="7060320" y="4609440"/>
                <a:chExt cx="1314360" cy="5335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7118640" y="460944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7060320" y="460944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844200" y="5143320"/>
                <a:ext cx="2720880" cy="533880"/>
                <a:chOff x="844200" y="5143320"/>
                <a:chExt cx="2720880" cy="5338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902160" y="5143320"/>
                  <a:ext cx="260460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ukchi (5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44200" y="5143320"/>
                  <a:ext cx="272088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3565440" y="5143320"/>
                <a:ext cx="1164240" cy="533880"/>
                <a:chOff x="3565440" y="5143320"/>
                <a:chExt cx="1164240" cy="5338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3623400" y="5143320"/>
                  <a:ext cx="10483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65440" y="5143320"/>
                  <a:ext cx="116424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4730040" y="5143320"/>
                <a:ext cx="1164600" cy="533880"/>
                <a:chOff x="4730040" y="5143320"/>
                <a:chExt cx="1164600" cy="5338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4788360" y="5143320"/>
                  <a:ext cx="104760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30040" y="5143320"/>
                  <a:ext cx="116460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5895360" y="5143320"/>
                <a:ext cx="1164240" cy="533880"/>
                <a:chOff x="5895360" y="5143320"/>
                <a:chExt cx="1164240" cy="5338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5953320" y="5143320"/>
                  <a:ext cx="10483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895360" y="5143320"/>
                  <a:ext cx="116424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7060320" y="5143320"/>
                <a:ext cx="1314360" cy="533880"/>
                <a:chOff x="7060320" y="5143320"/>
                <a:chExt cx="1314360" cy="5338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7118640" y="5143320"/>
                  <a:ext cx="119808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060320" y="5143320"/>
                  <a:ext cx="131436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844200" y="5677200"/>
                <a:ext cx="2720880" cy="719280"/>
                <a:chOff x="844200" y="5677200"/>
                <a:chExt cx="2720880" cy="7192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902160" y="5677200"/>
                  <a:ext cx="2604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-European (18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44200" y="5677200"/>
                  <a:ext cx="272088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3565440" y="5677200"/>
                <a:ext cx="1164240" cy="719280"/>
                <a:chOff x="3565440" y="5677200"/>
                <a:chExt cx="1164240" cy="7192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3623400" y="567720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565440" y="567720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4730040" y="5677200"/>
                <a:ext cx="1164600" cy="719280"/>
                <a:chOff x="4730040" y="5677200"/>
                <a:chExt cx="1164600" cy="7192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4788360" y="5677200"/>
                  <a:ext cx="1047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30040" y="5677200"/>
                  <a:ext cx="116460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5895360" y="5677200"/>
                <a:ext cx="1164240" cy="719280"/>
                <a:chOff x="5895360" y="5677200"/>
                <a:chExt cx="1164240" cy="71928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5953320" y="567720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895360" y="567720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7060320" y="5677200"/>
                <a:ext cx="1314360" cy="719280"/>
                <a:chOff x="7060320" y="5677200"/>
                <a:chExt cx="1314360" cy="7192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7118640" y="5677200"/>
                  <a:ext cx="119808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060320" y="5677200"/>
                  <a:ext cx="13143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0" name=""/>
            <p:cNvSpPr/>
            <p:nvPr/>
          </p:nvSpPr>
          <p:spPr>
            <a:xfrm>
              <a:off x="838080" y="2286000"/>
              <a:ext cx="75434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83720" y="3941640"/>
            <a:ext cx="2418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UHLEN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922-4D97-43B3-8381-099B5A6420F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838080" y="2286000"/>
            <a:ext cx="7543440" cy="4114800"/>
            <a:chOff x="838080" y="2286000"/>
            <a:chExt cx="7543440" cy="4114800"/>
          </a:xfrm>
        </p:grpSpPr>
        <p:grpSp>
          <p:nvGrpSpPr>
            <p:cNvPr id="1262" name=""/>
            <p:cNvGrpSpPr/>
            <p:nvPr/>
          </p:nvGrpSpPr>
          <p:grpSpPr>
            <a:xfrm>
              <a:off x="844200" y="2289240"/>
              <a:ext cx="7530480" cy="4107240"/>
              <a:chOff x="844200" y="2289240"/>
              <a:chExt cx="7530480" cy="410724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844200" y="2289240"/>
                <a:ext cx="2720880" cy="719280"/>
                <a:chOff x="844200" y="2289240"/>
                <a:chExt cx="2720880" cy="7192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902160" y="2289240"/>
                  <a:ext cx="2604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mpleSiz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mily (n=527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44200" y="2289240"/>
                  <a:ext cx="272088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3565440" y="2289240"/>
                <a:ext cx="1164240" cy="719280"/>
                <a:chOff x="3565440" y="2289240"/>
                <a:chExt cx="1164240" cy="7192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623400" y="228924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565440" y="228924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730040" y="2289240"/>
                <a:ext cx="1164600" cy="719280"/>
                <a:chOff x="4730040" y="2289240"/>
                <a:chExt cx="1164600" cy="7192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788360" y="2289240"/>
                  <a:ext cx="1047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730040" y="2289240"/>
                  <a:ext cx="116460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5895360" y="2289240"/>
                <a:ext cx="1164240" cy="719280"/>
                <a:chOff x="5895360" y="2289240"/>
                <a:chExt cx="1164240" cy="7192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953320" y="228924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895360" y="228924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7060320" y="2289240"/>
                <a:ext cx="1314360" cy="719280"/>
                <a:chOff x="7060320" y="2289240"/>
                <a:chExt cx="1314360" cy="7192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7118640" y="2289240"/>
                  <a:ext cx="119808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060320" y="2289240"/>
                  <a:ext cx="13143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844200" y="3008520"/>
                <a:ext cx="2720880" cy="533520"/>
                <a:chOff x="844200" y="3008520"/>
                <a:chExt cx="2720880" cy="53352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902160" y="300852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fro-Asiatic (258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44200" y="300852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3565440" y="3008520"/>
                <a:ext cx="1164240" cy="533520"/>
                <a:chOff x="3565440" y="3008520"/>
                <a:chExt cx="1164240" cy="5335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623400" y="30085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565440" y="30085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730040" y="3008520"/>
                <a:ext cx="1164600" cy="533520"/>
                <a:chOff x="4730040" y="3008520"/>
                <a:chExt cx="1164600" cy="533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788360" y="300852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730040" y="300852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5895360" y="3008520"/>
                <a:ext cx="1164240" cy="533520"/>
                <a:chOff x="5895360" y="3008520"/>
                <a:chExt cx="1164240" cy="53352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5953320" y="30085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895360" y="30085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7060320" y="3008520"/>
                <a:ext cx="1314360" cy="533520"/>
                <a:chOff x="7060320" y="3008520"/>
                <a:chExt cx="1314360" cy="53352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7118640" y="300852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060320" y="300852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844200" y="3542400"/>
                <a:ext cx="2720880" cy="533520"/>
                <a:chOff x="844200" y="3542400"/>
                <a:chExt cx="2720880" cy="53352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902160" y="354240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merind (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44200" y="354240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3565440" y="3542400"/>
                <a:ext cx="1164240" cy="533520"/>
                <a:chOff x="3565440" y="3542400"/>
                <a:chExt cx="1164240" cy="5335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3623400" y="354240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3565440" y="354240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730040" y="3542400"/>
                <a:ext cx="1164600" cy="533520"/>
                <a:chOff x="4730040" y="3542400"/>
                <a:chExt cx="1164600" cy="5335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788360" y="354240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730040" y="354240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5895360" y="3542400"/>
                <a:ext cx="1164240" cy="533520"/>
                <a:chOff x="5895360" y="3542400"/>
                <a:chExt cx="1164240" cy="5335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5953320" y="354240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895360" y="354240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7060320" y="3542400"/>
                <a:ext cx="1314360" cy="533520"/>
                <a:chOff x="7060320" y="3542400"/>
                <a:chExt cx="1314360" cy="53352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7118640" y="354240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060320" y="354240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844200" y="4075920"/>
                <a:ext cx="2720880" cy="533520"/>
                <a:chOff x="844200" y="4075920"/>
                <a:chExt cx="2720880" cy="5335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902160" y="407592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ustric (1186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44200" y="407592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3565440" y="4075920"/>
                <a:ext cx="1164240" cy="533520"/>
                <a:chOff x="3565440" y="4075920"/>
                <a:chExt cx="1164240" cy="5335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3623400" y="40759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565440" y="40759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4730040" y="4075920"/>
                <a:ext cx="1164600" cy="533520"/>
                <a:chOff x="4730040" y="4075920"/>
                <a:chExt cx="1164600" cy="53352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788360" y="407592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730040" y="407592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895360" y="4075920"/>
                <a:ext cx="1164240" cy="533520"/>
                <a:chOff x="5895360" y="4075920"/>
                <a:chExt cx="1164240" cy="5335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953320" y="407592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895360" y="407592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7060320" y="4075920"/>
                <a:ext cx="1314360" cy="533520"/>
                <a:chOff x="7060320" y="4075920"/>
                <a:chExt cx="1314360" cy="53352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7118640" y="407592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060320" y="407592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844200" y="4609440"/>
                <a:ext cx="2720880" cy="533520"/>
                <a:chOff x="844200" y="4609440"/>
                <a:chExt cx="2720880" cy="53352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902160" y="4609440"/>
                  <a:ext cx="2604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ian (38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44200" y="4609440"/>
                  <a:ext cx="272088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3565440" y="4609440"/>
                <a:ext cx="1164240" cy="533520"/>
                <a:chOff x="3565440" y="4609440"/>
                <a:chExt cx="1164240" cy="53352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3623400" y="460944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3565440" y="460944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4730040" y="4609440"/>
                <a:ext cx="1164600" cy="533520"/>
                <a:chOff x="4730040" y="4609440"/>
                <a:chExt cx="1164600" cy="53352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788360" y="4609440"/>
                  <a:ext cx="10476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30040" y="4609440"/>
                  <a:ext cx="116460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895360" y="4609440"/>
                <a:ext cx="1164240" cy="533520"/>
                <a:chOff x="5895360" y="4609440"/>
                <a:chExt cx="1164240" cy="53352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953320" y="4609440"/>
                  <a:ext cx="104832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895360" y="4609440"/>
                  <a:ext cx="116424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7060320" y="4609440"/>
                <a:ext cx="1314360" cy="533520"/>
                <a:chOff x="7060320" y="4609440"/>
                <a:chExt cx="1314360" cy="53352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7118640" y="4609440"/>
                  <a:ext cx="11980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7060320" y="4609440"/>
                  <a:ext cx="1314360" cy="5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844200" y="5143320"/>
                <a:ext cx="2720880" cy="533880"/>
                <a:chOff x="844200" y="5143320"/>
                <a:chExt cx="2720880" cy="53388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902160" y="5143320"/>
                  <a:ext cx="260460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ukchi (5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44200" y="5143320"/>
                  <a:ext cx="272088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565440" y="5143320"/>
                <a:ext cx="1164240" cy="533880"/>
                <a:chOff x="3565440" y="5143320"/>
                <a:chExt cx="1164240" cy="5338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623400" y="5143320"/>
                  <a:ext cx="10483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565440" y="5143320"/>
                  <a:ext cx="116424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4730040" y="5143320"/>
                <a:ext cx="1164600" cy="533880"/>
                <a:chOff x="4730040" y="5143320"/>
                <a:chExt cx="1164600" cy="53388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4788360" y="5143320"/>
                  <a:ext cx="104760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730040" y="5143320"/>
                  <a:ext cx="116460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5895360" y="5143320"/>
                <a:ext cx="1164240" cy="533880"/>
                <a:chOff x="5895360" y="5143320"/>
                <a:chExt cx="1164240" cy="5338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953320" y="5143320"/>
                  <a:ext cx="104832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895360" y="5143320"/>
                  <a:ext cx="116424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7060320" y="5143320"/>
                <a:ext cx="1314360" cy="533880"/>
                <a:chOff x="7060320" y="5143320"/>
                <a:chExt cx="1314360" cy="53388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7118640" y="5143320"/>
                  <a:ext cx="119808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060320" y="5143320"/>
                  <a:ext cx="1314360" cy="5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844200" y="5677200"/>
                <a:ext cx="2720880" cy="719280"/>
                <a:chOff x="844200" y="5677200"/>
                <a:chExt cx="2720880" cy="71928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902160" y="5677200"/>
                  <a:ext cx="2604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do-European (18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44200" y="5677200"/>
                  <a:ext cx="272088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3565440" y="5677200"/>
                <a:ext cx="1164240" cy="719280"/>
                <a:chOff x="3565440" y="5677200"/>
                <a:chExt cx="1164240" cy="71928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3623400" y="567720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565440" y="567720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4730040" y="5677200"/>
                <a:ext cx="1164600" cy="719280"/>
                <a:chOff x="4730040" y="5677200"/>
                <a:chExt cx="1164600" cy="7192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4788360" y="5677200"/>
                  <a:ext cx="104760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730040" y="5677200"/>
                  <a:ext cx="116460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5895360" y="5677200"/>
                <a:ext cx="1164240" cy="719280"/>
                <a:chOff x="5895360" y="5677200"/>
                <a:chExt cx="1164240" cy="719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5953320" y="5677200"/>
                  <a:ext cx="104832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895360" y="5677200"/>
                  <a:ext cx="116424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7060320" y="5677200"/>
                <a:ext cx="1314360" cy="719280"/>
                <a:chOff x="7060320" y="5677200"/>
                <a:chExt cx="1314360" cy="7192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7118640" y="5677200"/>
                  <a:ext cx="1198080" cy="7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060320" y="5677200"/>
                  <a:ext cx="1314360" cy="71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8" name=""/>
            <p:cNvSpPr/>
            <p:nvPr/>
          </p:nvSpPr>
          <p:spPr>
            <a:xfrm>
              <a:off x="838080" y="2286000"/>
              <a:ext cx="75434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569000" y="35384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5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51720" y="411480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551720" y="569916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10F-7A8C-49B1-8F91-F72E6A8847E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8520" y="4834080"/>
            <a:ext cx="71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uter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lgs per family given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742-EAE2-47F9-939D-9071FB261B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8520" y="4834080"/>
            <a:ext cx="710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uter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lgs per family given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ptimal distribution over subbra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maximum distance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maximum varie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C86-64A3-4BCE-9C86-AE94DFD4959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451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452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(n = 5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6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1E9-881C-41CE-8EB8-BEF9158EE58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548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n =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3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804000" y="2637000"/>
            <a:ext cx="504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724000" y="2997360"/>
            <a:ext cx="1079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5795640" y="3068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5866920" y="314172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5795640" y="3068640"/>
            <a:ext cx="1297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5724360" y="3068640"/>
            <a:ext cx="1440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5724000" y="2924280"/>
            <a:ext cx="158436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3C5-0BDD-4689-880F-1862B4DBCDC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652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653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n = 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51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7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736-37A8-4BEA-B5D6-D5D8036837D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749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750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n = 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51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9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979-642E-43A4-B7B6-20620988B5D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7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846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847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3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n = 5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1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330-816F-4154-8734-B66AB163FCB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998640" y="2259000"/>
            <a:ext cx="6200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not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ll languag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in our database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mpossible even i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49E-1BDB-4713-8EA8-B960A29B1D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40" y="626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685800" y="2368440"/>
            <a:ext cx="7621200" cy="3422880"/>
            <a:chOff x="685800" y="2368440"/>
            <a:chExt cx="7621200" cy="3422880"/>
          </a:xfrm>
        </p:grpSpPr>
        <p:grpSp>
          <p:nvGrpSpPr>
            <p:cNvPr id="1943" name=""/>
            <p:cNvGrpSpPr/>
            <p:nvPr/>
          </p:nvGrpSpPr>
          <p:grpSpPr>
            <a:xfrm>
              <a:off x="691920" y="2371320"/>
              <a:ext cx="7607880" cy="3416400"/>
              <a:chOff x="691920" y="2371320"/>
              <a:chExt cx="7607880" cy="34164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691920" y="2371320"/>
                <a:ext cx="3188520" cy="626760"/>
                <a:chOff x="691920" y="2371320"/>
                <a:chExt cx="3188520" cy="6267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750240" y="2371320"/>
                  <a:ext cx="30718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in Branch (n=85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91920" y="2371320"/>
                  <a:ext cx="31885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3880800" y="2371320"/>
                <a:ext cx="1321920" cy="626760"/>
                <a:chOff x="3880800" y="2371320"/>
                <a:chExt cx="1321920" cy="6267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3939480" y="2371320"/>
                  <a:ext cx="12049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880800" y="2371320"/>
                  <a:ext cx="13219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5203080" y="2371320"/>
                <a:ext cx="1171440" cy="626760"/>
                <a:chOff x="5203080" y="2371320"/>
                <a:chExt cx="1171440" cy="6267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5261760" y="2371320"/>
                  <a:ext cx="1053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5203080" y="2371320"/>
                  <a:ext cx="117144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6375240" y="2371320"/>
                <a:ext cx="1924560" cy="626760"/>
                <a:chOff x="6375240" y="2371320"/>
                <a:chExt cx="1924560" cy="626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6433560" y="2371320"/>
                  <a:ext cx="18075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 250 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n = 5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375240" y="2371320"/>
                  <a:ext cx="19245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691920" y="2998080"/>
                <a:ext cx="3188520" cy="464760"/>
                <a:chOff x="691920" y="2998080"/>
                <a:chExt cx="3188520" cy="4647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50240" y="2998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entr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91920" y="2998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3880800" y="2998080"/>
                <a:ext cx="1321920" cy="464760"/>
                <a:chOff x="3880800" y="2998080"/>
                <a:chExt cx="1321920" cy="464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939480" y="2998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880800" y="2998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5203080" y="2998080"/>
                <a:ext cx="1171440" cy="464760"/>
                <a:chOff x="5203080" y="2998080"/>
                <a:chExt cx="1171440" cy="4647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5261760" y="2998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203080" y="2998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6375240" y="2998080"/>
                <a:ext cx="1924560" cy="464760"/>
                <a:chOff x="6375240" y="2998080"/>
                <a:chExt cx="1924560" cy="464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6433560" y="2998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6 = 1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375240" y="2998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8" name=""/>
              <p:cNvGrpSpPr/>
              <p:nvPr/>
            </p:nvGrpSpPr>
            <p:grpSpPr>
              <a:xfrm>
                <a:off x="691920" y="3463200"/>
                <a:ext cx="3188520" cy="464760"/>
                <a:chOff x="691920" y="3463200"/>
                <a:chExt cx="3188520" cy="464760"/>
              </a:xfrm>
            </p:grpSpPr>
            <p:sp>
              <p:nvSpPr>
                <p:cNvPr id="1969" name=""/>
                <p:cNvSpPr/>
                <p:nvPr/>
              </p:nvSpPr>
              <p:spPr>
                <a:xfrm>
                  <a:off x="750240" y="346320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Ge-Pano Car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91920" y="346320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3880800" y="3463200"/>
                <a:ext cx="1321920" cy="464760"/>
                <a:chOff x="3880800" y="3463200"/>
                <a:chExt cx="1321920" cy="464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939480" y="346320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880800" y="346320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5203080" y="3463200"/>
                <a:ext cx="1171440" cy="464760"/>
                <a:chOff x="5203080" y="3463200"/>
                <a:chExt cx="1171440" cy="46476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5261760" y="346320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5203080" y="346320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6375240" y="3463200"/>
                <a:ext cx="1924560" cy="464760"/>
                <a:chOff x="6375240" y="3463200"/>
                <a:chExt cx="1924560" cy="46476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6433560" y="346320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375240" y="346320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691920" y="3927960"/>
                <a:ext cx="3188520" cy="464760"/>
                <a:chOff x="691920" y="3927960"/>
                <a:chExt cx="3188520" cy="464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750240" y="3927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the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91920" y="3927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3880800" y="3927960"/>
                <a:ext cx="1321920" cy="464760"/>
                <a:chOff x="3880800" y="3927960"/>
                <a:chExt cx="1321920" cy="46476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3939480" y="3927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880800" y="3927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6" name=""/>
              <p:cNvGrpSpPr/>
              <p:nvPr/>
            </p:nvGrpSpPr>
            <p:grpSpPr>
              <a:xfrm>
                <a:off x="5203080" y="3927960"/>
                <a:ext cx="1171440" cy="464760"/>
                <a:chOff x="5203080" y="3927960"/>
                <a:chExt cx="1171440" cy="464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5261760" y="3927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203080" y="3927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6375240" y="3927960"/>
                <a:ext cx="1924560" cy="464760"/>
                <a:chOff x="6375240" y="3927960"/>
                <a:chExt cx="1924560" cy="46476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6433560" y="3927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6375240" y="3927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2" name=""/>
              <p:cNvGrpSpPr/>
              <p:nvPr/>
            </p:nvGrpSpPr>
            <p:grpSpPr>
              <a:xfrm>
                <a:off x="691920" y="4393080"/>
                <a:ext cx="3188520" cy="464760"/>
                <a:chOff x="691920" y="4393080"/>
                <a:chExt cx="3188520" cy="464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750240" y="439308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q-Tucano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91920" y="439308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3880800" y="4393080"/>
                <a:ext cx="1321920" cy="464760"/>
                <a:chOff x="3880800" y="4393080"/>
                <a:chExt cx="1321920" cy="46476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3939480" y="439308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880800" y="439308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5203080" y="4393080"/>
                <a:ext cx="1171440" cy="464760"/>
                <a:chOff x="5203080" y="4393080"/>
                <a:chExt cx="1171440" cy="464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5261760" y="439308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203080" y="439308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6375240" y="4393080"/>
                <a:ext cx="1924560" cy="464760"/>
                <a:chOff x="6375240" y="4393080"/>
                <a:chExt cx="1924560" cy="46476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6433560" y="439308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375240" y="439308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691920" y="4857840"/>
                <a:ext cx="3188520" cy="465120"/>
                <a:chOff x="691920" y="4857840"/>
                <a:chExt cx="3188520" cy="46512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750240" y="4857840"/>
                  <a:ext cx="3071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Chibchan-Paez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91920" y="4857840"/>
                  <a:ext cx="31885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3880800" y="4857840"/>
                <a:ext cx="1321920" cy="465120"/>
                <a:chOff x="3880800" y="4857840"/>
                <a:chExt cx="1321920" cy="465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3939480" y="4857840"/>
                  <a:ext cx="12049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880800" y="4857840"/>
                  <a:ext cx="1321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5203080" y="4857840"/>
                <a:ext cx="1171440" cy="465120"/>
                <a:chOff x="5203080" y="4857840"/>
                <a:chExt cx="1171440" cy="46512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5261760" y="4857840"/>
                  <a:ext cx="1053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203080" y="4857840"/>
                  <a:ext cx="1171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6375240" y="4857840"/>
                <a:ext cx="1924560" cy="465120"/>
                <a:chOff x="6375240" y="4857840"/>
                <a:chExt cx="1924560" cy="46512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6433560" y="4857840"/>
                  <a:ext cx="180756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75240" y="4857840"/>
                  <a:ext cx="19245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691920" y="5322960"/>
                <a:ext cx="3188520" cy="464760"/>
                <a:chOff x="691920" y="5322960"/>
                <a:chExt cx="3188520" cy="46476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750240" y="5322960"/>
                  <a:ext cx="30718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d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91920" y="5322960"/>
                  <a:ext cx="31885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9" name=""/>
              <p:cNvGrpSpPr/>
              <p:nvPr/>
            </p:nvGrpSpPr>
            <p:grpSpPr>
              <a:xfrm>
                <a:off x="3880800" y="5322960"/>
                <a:ext cx="1321920" cy="464760"/>
                <a:chOff x="3880800" y="5322960"/>
                <a:chExt cx="1321920" cy="46476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3939480" y="5322960"/>
                  <a:ext cx="12049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880800" y="5322960"/>
                  <a:ext cx="132192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5203080" y="5322960"/>
                <a:ext cx="1171440" cy="464760"/>
                <a:chOff x="5203080" y="5322960"/>
                <a:chExt cx="1171440" cy="46476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5261760" y="5322960"/>
                  <a:ext cx="10537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203080" y="5322960"/>
                  <a:ext cx="1171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375240" y="5322960"/>
                <a:ext cx="1924560" cy="464760"/>
                <a:chOff x="6375240" y="5322960"/>
                <a:chExt cx="1924560" cy="46476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6433560" y="5322960"/>
                  <a:ext cx="18075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375240" y="5322960"/>
                  <a:ext cx="192456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8" name=""/>
            <p:cNvSpPr/>
            <p:nvPr/>
          </p:nvSpPr>
          <p:spPr>
            <a:xfrm>
              <a:off x="685800" y="2368440"/>
              <a:ext cx="7621200" cy="342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2FF-AD53-4AEC-872D-BF3D8DCC4E6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24080" y="335268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ean (3 / 3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24280" y="205740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erind (51 / 854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4647960" y="2590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095880" y="2590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31B-2D26-4C32-9D04-96A4C32C925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24080" y="335268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ean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/ 3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04920" y="4419720"/>
            <a:ext cx="9903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620120" y="4419720"/>
            <a:ext cx="9903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7220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Y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72428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20040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H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914400" y="3886200"/>
            <a:ext cx="3581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2362320" y="38862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37339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4197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19720" y="3886200"/>
            <a:ext cx="2209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419720" y="3886200"/>
            <a:ext cx="3504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724280" y="205740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erind (51 / 854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4647960" y="2590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95880" y="2590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097-8B09-45B0-8CD7-DA13665C721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04920" y="4419720"/>
            <a:ext cx="9903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620120" y="4419720"/>
            <a:ext cx="9903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17220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Y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724280" y="4419720"/>
            <a:ext cx="990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00400" y="4419720"/>
            <a:ext cx="990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H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75248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914400" y="3886200"/>
            <a:ext cx="3581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2362320" y="38862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37339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4197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419720" y="3886200"/>
            <a:ext cx="2209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419720" y="3886200"/>
            <a:ext cx="3504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124080" y="335268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ean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/ 3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724280" y="205740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erind (51 / 854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647960" y="2590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5880" y="2590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06E-D1EC-4997-9633-5870583E5C3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4920" y="4419720"/>
            <a:ext cx="9903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620120" y="4419720"/>
            <a:ext cx="9903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172200" y="4419720"/>
            <a:ext cx="990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Y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72428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200400" y="4419720"/>
            <a:ext cx="9907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H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752480" y="4419720"/>
            <a:ext cx="990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914400" y="3886200"/>
            <a:ext cx="3581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2362320" y="38862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37339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419720" y="3886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419720" y="3886200"/>
            <a:ext cx="3504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124080" y="335268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ean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/ 3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2057400"/>
            <a:ext cx="27432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erind (51 / 854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4647960" y="2590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095880" y="2590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19720" y="3886200"/>
            <a:ext cx="2209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E63-521E-46CF-A32D-FCFFC9B5B00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216800" y="20908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ical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302-4E28-4B66-8BD7-7FCA2DB3042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40880" y="2363760"/>
            <a:ext cx="61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100 ( 1.90 % of 52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84B-B12A-4FA7-A2B7-90F3A7639E9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0880" y="2363760"/>
            <a:ext cx="616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.9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% of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5273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E18-3158-4BBD-BC7C-66609E50D0F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40880" y="2060640"/>
            <a:ext cx="6168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ro-Asiatic (55.53/6/258)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taic (15.07/2/62)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erind (178.44/6/854)          1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stralian (67.58/30/262)    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A83-626A-4866-84C4-2417953843F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40880" y="2060640"/>
            <a:ext cx="616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ro-Asiatic (55.53/6/258)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taic (15.07/2/62)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erind (178.44/6/854)          1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stralian (67.58/30/262)    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a-Dene (9.44/2/41)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90.38/2/1068) 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B23-10EE-4E55-B0C1-A5C33DEA1E90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565640" y="23194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968-17F7-4426-A532-953E012F2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740880" y="2060640"/>
            <a:ext cx="6168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ro-Asiatic (55.53/6/258)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taic (15.07/2/62)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erind (178.44/6/854)          1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stralian (67.58/30/262)    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a-Dene (9.44/2/41)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90.38/2/1068) 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Basque (1.00/0/0)                1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Etruscan (1.00/0/0)              1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Gilyak (1.00/0/0)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44D-B708-49A8-8B0E-9CD6DA108D9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40880" y="2060640"/>
            <a:ext cx="61686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ro-Asiatic (55.53/6/258)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taic (15.07/2/62)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meri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178.44/6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85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8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stralian (67.58/30/262)    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a-Dene (9.44/2/41)              1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iger-Kordofania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90.38/2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06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9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Basque (1.00/0/0)                1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Etruscan (1.00/0/0)              1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Gilyak (1.00/0/0)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H="1">
            <a:off x="5651280" y="3860640"/>
            <a:ext cx="1152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5651280" y="5013360"/>
            <a:ext cx="1152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61A-3986-4761-A073-67333BD31A4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40880" y="2060640"/>
            <a:ext cx="616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90.38/2/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06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1CE-8B87-40D0-8A7C-D470ED6B1E3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69240" y="2060640"/>
            <a:ext cx="7450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iger-Congo (2/1036)         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Niger-Congo Proper (2/1007)   7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North Central Niger-Congo (4/206)   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83E-B80C-4136-AA93-4EC3499ABDB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Niger-Congo (2/1036)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iger-Congo Proper (2/1007)   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North Central Niger-Congo (4/206)   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75C-A926-4688-91FA-72D2F69DA27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Congo (2/1036)         8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Niger-Congo Proper (2/1007)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North Central Niger-Congo (4/206)   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B7-B55F-461B-97BC-F8B1C68C00D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Congo (2/1036)         8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Niger-Congo Proper (2/1007)   7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entral Niger-Congo (2/961)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</a:rPr>
              <a:t>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orth Central Niger-Congo (4/206)   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5A-A005-4622-B620-0229631B3A3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Congo (2/1036)         8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Niger-Congo Proper (2/1007)   7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North Central Niger-Congo (4/206)   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293-C888-4B84-B235-77F136BB7B6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Congo (2/1036)         8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Niger-Congo Proper (2/1007)   7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orth Central Niger-Congo (4/206)  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FCC-1919-4C4E-9FC1-4B5A2D13471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: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69240" y="2060640"/>
            <a:ext cx="745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ication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uhlen9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terion 1: Diversity Value: dynamic/global/a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 1.90 % of 527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Kordofanian (2/1068)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iger-Congo (2/1036)         8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Niger-Congo Proper (2/1007)   7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Central Niger-Congo (2/961)    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outh Central Niger-Congo (3/755)  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Eastern (9/703)                    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Western (2/47)  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Ijo-Defaka (2/5)  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orth Central Niger-Congo (4/206)  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West Atlantic (3/46)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ande (3/29)                 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Kordofanian (2/32)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0360" y="5300640"/>
            <a:ext cx="43200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164360" y="5300640"/>
            <a:ext cx="43200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84720" y="4797360"/>
            <a:ext cx="1224000" cy="503280"/>
          </a:xfrm>
          <a:custGeom>
            <a:avLst/>
            <a:gdLst/>
            <a:ahLst/>
            <a:rect l="l" t="t" r="r" b="b"/>
            <a:pathLst>
              <a:path w="771" h="317">
                <a:moveTo>
                  <a:pt x="0" y="317"/>
                </a:moveTo>
                <a:cubicBezTo>
                  <a:pt x="26" y="158"/>
                  <a:pt x="53" y="0"/>
                  <a:pt x="181" y="0"/>
                </a:cubicBezTo>
                <a:cubicBezTo>
                  <a:pt x="309" y="0"/>
                  <a:pt x="673" y="264"/>
                  <a:pt x="771" y="31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9A7-5BEC-49F2-92C6-CD6B8774E73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195200" y="2319480"/>
            <a:ext cx="665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5E1-1159-4CFA-A410-6773F0A0F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521720" y="2319480"/>
            <a:ext cx="56228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ide effect of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larg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variety) s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ahoma"/>
              </a:rPr>
              <a:t>Hidden</a:t>
            </a: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  diachr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616-923A-4266-B5C1-849A59D06AB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478520" y="2319480"/>
            <a:ext cx="66222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ks only on tree-shaped 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depth in genetic trees: 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good for 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eoles? Extinct langu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EFC-3DB7-48E9-B07C-66CA6075B92F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1EA-4A4E-445E-9910-A14BF0D70EF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479600" y="231948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wo Sampl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A89-3E11-406E-B88E-90363E4AC7C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536120" y="2319480"/>
            <a:ext cx="490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wo Sampl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obabili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relativel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control for Gen/Ar/Typ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5CF-9C9F-489C-931E-19B0D3104EC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1476000" y="2319480"/>
            <a:ext cx="644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wo Sampl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obabili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relativel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control for Gen/Ar/Typ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Varie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relatively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may be stratified for bia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may have diachronic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A37-9154-4364-B3FF-57D3426E422C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471680" y="2319480"/>
            <a:ext cx="703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mple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obabili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Varie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Random sample: when bias is un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9B8-0410-49F2-B86E-B2FC692F1A7C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nd 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3" name=""/>
          <p:cNvSpPr/>
          <p:nvPr/>
        </p:nvSpPr>
        <p:spPr>
          <a:xfrm>
            <a:off x="3240" y="-23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240" y="63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240" y="101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240" y="602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240" y="-142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240" y="-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24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240" y="601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1471680" y="2319480"/>
            <a:ext cx="703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mple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obabili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Varie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Random sample: when bias is un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Convenience sample: when bibliograp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onstraints kick i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F43-CB68-4E79-8FB2-D1E34E25E696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/>
          <p:nvPr/>
        </p:nvSpPr>
        <p:spPr>
          <a:xfrm>
            <a:off x="3886200" y="2971800"/>
            <a:ext cx="10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EB6-8D24-4A48-B2D4-322C2D73EC8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146960" y="2319480"/>
            <a:ext cx="676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BEB-2E43-4105-A744-201F1D7B69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146960" y="2319480"/>
            <a:ext cx="676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A7B-DCE8-4DF3-8E07-C2BD6B9A2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146960" y="2319480"/>
            <a:ext cx="676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Manx, Cornis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067-E11C-477A-9E49-2CDDE19911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146960" y="2319480"/>
            <a:ext cx="676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x, Cornis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748-4B7B-4C52-A9B8-75E8EBA3D9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146960" y="2319480"/>
            <a:ext cx="676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x, Cornis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native speaker intui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FD2-F80E-4859-BA61-E3D9E85856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127520" y="2319480"/>
            <a:ext cx="70095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x, Cornis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inois, Mohican, Massachusett, Carolina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D3F-DA92-4EA8-93E7-6891FB407C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2ED-B3E1-47A9-8A83-E5AFD6164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27520" y="2319480"/>
            <a:ext cx="70095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, Cl. Greek, Gothic, Hebrew, Hittit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. Turkic, Cl.Tibetan, Archaic Chine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x, Cornis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inois, Mohican, Massachusett, Carolina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B99-1C8F-4959-9313-A28A7BB44B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195200" y="2319480"/>
            <a:ext cx="665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Ruhl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406-B9BF-41FC-BD5F-4C8D900B5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437120" y="2319480"/>
            <a:ext cx="57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omo Sapie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,000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at Leap Forwar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0,000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verage n of lg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achronic chang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000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X lgs: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40,000 / 1000) * 6000 =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A7A-D8CD-4F01-86B1-BC2E2478A0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649-F949-4B55-98FF-BAD3623E6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3.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2590920"/>
            <a:ext cx="914400" cy="2743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120-3208-48F1-981F-6E7250287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590920"/>
            <a:ext cx="914400" cy="2743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7F9-E079-4940-9832-3452C21178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2590920"/>
            <a:ext cx="914400" cy="2743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195-ED6D-4CEB-81F9-5B8492118A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inct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2590920"/>
            <a:ext cx="914400" cy="2743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B08-5BA0-45FC-B475-EAFA87043A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inct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590920"/>
            <a:ext cx="914400" cy="2743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4520" y="5781600"/>
            <a:ext cx="649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y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Universal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Huma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5334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0B5-484E-4D61-98EC-D868B0EB44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inct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90640" y="5614920"/>
            <a:ext cx="3647880" cy="52056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uma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400000">
            <a:off x="1523520" y="5181480"/>
            <a:ext cx="914400" cy="1066680"/>
          </a:xfrm>
          <a:custGeom>
            <a:avLst/>
            <a:gdLst>
              <a:gd name="textAreaLeft" fmla="*/ 304920 w 914400"/>
              <a:gd name="textAreaRight" fmla="*/ 783360 w 9144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2CA-08B8-4E83-9E2C-8E9746D9AF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386-CF0D-41AE-B2D6-B4BD9DE9E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141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&l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1523520" y="5181480"/>
            <a:ext cx="914400" cy="1066680"/>
          </a:xfrm>
          <a:custGeom>
            <a:avLst/>
            <a:gdLst>
              <a:gd name="textAreaLeft" fmla="*/ 304920 w 914400"/>
              <a:gd name="textAreaRight" fmla="*/ 783360 w 9144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90640" y="5614920"/>
            <a:ext cx="3647880" cy="52056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uma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22096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97180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2286000"/>
            <a:ext cx="304560" cy="1219320"/>
          </a:xfrm>
          <a:custGeom>
            <a:avLst/>
            <a:gdLst>
              <a:gd name="textAreaLeft" fmla="*/ 0 w 304560"/>
              <a:gd name="textAreaRight" fmla="*/ 10980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146-38DF-4EA2-B821-712675C8CD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141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&l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1523520" y="5181480"/>
            <a:ext cx="914400" cy="1066680"/>
          </a:xfrm>
          <a:custGeom>
            <a:avLst/>
            <a:gdLst>
              <a:gd name="textAreaLeft" fmla="*/ 304920 w 914400"/>
              <a:gd name="textAreaRight" fmla="*/ 783360 w 9144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90640" y="5614920"/>
            <a:ext cx="3647880" cy="52056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uma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22096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97180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286000"/>
            <a:ext cx="304560" cy="1219320"/>
          </a:xfrm>
          <a:custGeom>
            <a:avLst/>
            <a:gdLst>
              <a:gd name="textAreaLeft" fmla="*/ 0 w 304560"/>
              <a:gd name="textAreaRight" fmla="*/ 10980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48640" y="2286000"/>
            <a:ext cx="1899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Uniform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ari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Lass 1997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DDB-76D7-4D69-80D0-E416F81F8B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141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&l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1523520" y="5181480"/>
            <a:ext cx="914400" cy="1066680"/>
          </a:xfrm>
          <a:custGeom>
            <a:avLst/>
            <a:gdLst>
              <a:gd name="textAreaLeft" fmla="*/ 304920 w 914400"/>
              <a:gd name="textAreaRight" fmla="*/ 783360 w 9144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90640" y="5614920"/>
            <a:ext cx="3647880" cy="52056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uma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5520" y="22096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297180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2286000"/>
            <a:ext cx="304560" cy="1219320"/>
          </a:xfrm>
          <a:custGeom>
            <a:avLst/>
            <a:gdLst>
              <a:gd name="textAreaLeft" fmla="*/ 0 w 304560"/>
              <a:gd name="textAreaRight" fmla="*/ 10980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48640" y="2286000"/>
            <a:ext cx="1899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Uniform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ari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Lass 1997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24680" y="35812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588-3632-4663-94F3-89D2584B74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141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inc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&l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1523520" y="5181480"/>
            <a:ext cx="914400" cy="1066680"/>
          </a:xfrm>
          <a:custGeom>
            <a:avLst/>
            <a:gdLst>
              <a:gd name="textAreaLeft" fmla="*/ 304920 w 914400"/>
              <a:gd name="textAreaRight" fmla="*/ 783360 w 9144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90640" y="5614920"/>
            <a:ext cx="3647880" cy="52056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uma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2096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297180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2286000"/>
            <a:ext cx="304560" cy="1219320"/>
          </a:xfrm>
          <a:custGeom>
            <a:avLst/>
            <a:gdLst>
              <a:gd name="textAreaLeft" fmla="*/ 0 w 304560"/>
              <a:gd name="textAreaRight" fmla="*/ 10980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8640" y="2286000"/>
            <a:ext cx="1899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Uniform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ari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Lass 1997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476760" y="5943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24680" y="35812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BF5-6084-4007-A3FA-E63FE4C845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inct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600" y="5781600"/>
            <a:ext cx="679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y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Varie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o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huma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5334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361-8D8D-4D2F-92EE-518525DA1C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Languages: impo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132200" y="2319480"/>
            <a:ext cx="49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cu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inct languag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1, X2, X3, …, X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uman languag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4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12760" y="3373560"/>
            <a:ext cx="113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0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4343400"/>
            <a:ext cx="3429000" cy="990720"/>
          </a:xfrm>
          <a:prstGeom prst="ellipse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3440" y="5781600"/>
            <a:ext cx="5245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rie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o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huma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5334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4038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23120" y="4986360"/>
            <a:ext cx="128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8685800">
            <a:off x="5105160" y="4648320"/>
            <a:ext cx="2438640" cy="304920"/>
          </a:xfrm>
          <a:prstGeom prst="leftRightArrow">
            <a:avLst>
              <a:gd name="adj1" fmla="val 50000"/>
              <a:gd name="adj2" fmla="val 1592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90C-08A2-4300-A726-C8A50D5C6C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: rar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926280" y="23605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Varie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3CD-B10A-4C10-8C72-20F5CE305A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: rar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991440" y="2360520"/>
            <a:ext cx="784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e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s (only in one family – Khoisan: 30 l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nominal marking (Pomo, La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posite person hierarchy Acc-Erg (Tib.Bur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partite agreement on ditran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ntactic ergativity (Aus, May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erbial agreement with focal (Aus, Ca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SV main clause order (S.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.B. combination of (rare) features (cf. Greenbe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AA2-7BAB-49E8-8E70-1B44F7DC44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: rar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982080" y="2360520"/>
            <a:ext cx="7198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e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s (only in one family – Khoisan: 30 l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nominal marking (Pomo, La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posite person hierarchy Acc-Erg (Tib.Bur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partite agreement on ditran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ntactic ergativity (Aus, May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erbial agreement with focal (Aus, Ca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SV main clause order (S.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“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ra et Rariss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F13-84B2-45AD-A41E-1AD8CBC3B5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998640" y="2259000"/>
            <a:ext cx="6200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mpossible even i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roblematic for var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ossibly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for univer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C11-864F-4621-9A51-52E11C3570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AA0-58F7-413D-97A3-DDAD8A0D48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998640" y="2259000"/>
            <a:ext cx="62006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D2F-9365-40AB-96A3-7D52FF562EC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998640" y="2259000"/>
            <a:ext cx="6200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o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C01-48B3-4A3F-9B38-5393657A81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 many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611640" y="2360520"/>
            <a:ext cx="770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mples in the typological literatu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eenberg (1963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wkins (1983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mlin (1986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chols (1992) – Head/Dep mark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bee (1994) – Tense/Aspect/Moo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ewierska &amp; Bakker (1990-) – Pers.Agr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yer (1985-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ical PhD project (1 person, 3 years)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0 -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0C7-BD29-488D-A53C-253D80D260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998640" y="2259000"/>
            <a:ext cx="6200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o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567-896B-44D0-9152-25A7DDC305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998640" y="2259000"/>
            <a:ext cx="6200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o many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sample inev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807-4D02-4E81-A9AF-92C50483D5E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998640" y="2259000"/>
            <a:ext cx="620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&lt;1000 well described (gram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2000 partial 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A56-3349-482C-9982-73380A3F38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070280" y="2259000"/>
            <a:ext cx="696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ly &lt;1000 well described (gramm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2000 partial sk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DE8-20B0-497C-9068-8447E1ACD6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748440" y="2243160"/>
            <a:ext cx="7748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ibliographic b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(very)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y specific (Tagmemics; 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tricted to phonology and 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iased selection of the world’s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71-1355-4165-902F-6CBDF0E7A56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072440" y="224316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8AD-DC2C-4A1D-B0AD-E85314C0A0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72440" y="2243160"/>
            <a:ext cx="342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Gen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D68-AC18-45D3-B884-1825B8385D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48006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38098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505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59436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8288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3276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5627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1AB-C28C-4452-81E1-B71275BA0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157040" y="2243160"/>
            <a:ext cx="5919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Indo-European, Ugric, Bantu        </a:t>
            </a:r>
            <a:r>
              <a:rPr b="1" lang="en-US" sz="2800" spc="-1" strike="noStrike">
                <a:solidFill>
                  <a:srgbClr val="42ad37"/>
                </a:solidFill>
                <a:latin typeface="Tahoma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ustralian, Amerindian, Papuan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28A-AB7A-4DB6-8ABE-284F5F67EB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072440" y="2243160"/>
            <a:ext cx="342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00A-B40E-45B3-AC07-13820A3090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065600" y="2243160"/>
            <a:ext cx="49662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prachbund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al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ircum-Bal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.E.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B31-E5DA-4D7F-8F2A-E5E87C54DD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1072440" y="2243160"/>
            <a:ext cx="3420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E5F-D517-4110-912B-F6814CAB1C7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1159200" y="2243160"/>
            <a:ext cx="604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51A-196B-4681-A0B8-F0185FAAF2F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159200" y="2243160"/>
            <a:ext cx="604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d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999-C4E5-4687-87FB-44631A5D34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1159200" y="2243160"/>
            <a:ext cx="604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C73-BD92-4FDB-996A-E61D4A0FCA2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1171440" y="2243160"/>
            <a:ext cx="607824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rep </a:t>
            </a:r>
            <a:r>
              <a:rPr b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Dem Num Adj Gen Rel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N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]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BD7-8E6B-4CDA-8B95-7D8EF88C650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1159200" y="2243160"/>
            <a:ext cx="604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PR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ep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N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oun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M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od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H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ierarc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4D0-CC95-4B0B-BD51-E7F971B25D9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226880" y="2243160"/>
            <a:ext cx="6773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rametric variabl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Hawkins 1983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PRepNounModHierarc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rep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(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Dem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OR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Num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A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           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A 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Ge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) AND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Ge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Rel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146-5CD6-4F19-9736-8C107911C8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48006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8098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505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9436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8288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3276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55627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5DE-5210-4E55-9CB0-77DFAC202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072440" y="2243160"/>
            <a:ext cx="3420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B1C-2CFD-467E-AA17-53835D47852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1127160" y="2243160"/>
            <a:ext cx="55450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Linguistic relativity (Sapir; Who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11F-DD8C-4710-B616-09718329C79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180440" y="2243160"/>
            <a:ext cx="6156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Linguistic relativity (Sapir; Who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Lucy (1992):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unt noun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v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                  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~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unt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9B1-2E20-4CF8-B091-18E2816BA9A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1072440" y="2243160"/>
            <a:ext cx="3420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mmunit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993-C2BF-410D-AB93-281FE7D638E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1151280" y="2243160"/>
            <a:ext cx="655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mall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high genetic drift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imura 1983)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207-D553-44FB-BB8F-65E47C35322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129680" y="2243160"/>
            <a:ext cx="704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mall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high genetic drift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imura 1983)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so linguistic drift? (Dahl: hunter/gathe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F79-8C50-4F17-A410-8EDFBFA803B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129680" y="2243160"/>
            <a:ext cx="704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mall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high genetic drift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imura 1983)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so linguistic drift? (Dahl: hunter/gathe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.B. OSV/OVS only in &lt; 3000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399-B074-48C7-A5F7-41150527229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1056960" y="2243160"/>
            <a:ext cx="3546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anguag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FA0-1D36-4E73-95B2-4734F114A04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1062360" y="2243160"/>
            <a:ext cx="6447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orrowed phenomenon measured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A02-36E2-449D-B8B7-DB9372005FC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1102320" y="2243160"/>
            <a:ext cx="63817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UT: contact may also create new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1D3-EF70-485D-8C12-CA1621D71D4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F58-8E0E-4D46-A9FB-93B59D54D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ck of mate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102320" y="2243160"/>
            <a:ext cx="6381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rther typ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i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t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UT: contact may also create new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35812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286000" y="35812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256-50D7-469D-823E-0C9044D036F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1070280" y="2259000"/>
            <a:ext cx="696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ly &lt;1000 well described (gramm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2000 partial sk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= bibliographical bi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418-5DCF-49A1-BDF8-499625B5DBB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954720" y="2259000"/>
            <a:ext cx="719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ly &lt;1000 well described (gramm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 2000 partial sk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ter for biases by stratifying fo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levant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(always) necessa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ometimes even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47A-9A58-4F0C-BA63-31BB66C965F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98640" y="2259000"/>
            <a:ext cx="6200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y not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ll languag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in our databas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t (always) necessary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Sometimes even w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54E-F0CD-4F2F-A150-E0E467CA05B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is beautifu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703800" y="2243160"/>
            <a:ext cx="7939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go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sample may be better than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larg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s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ple type and size depends on goal of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stablish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ability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of a languag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e.g. prepositional vs postpos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robability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lore the existing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riety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on a certain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e.g. case systems; combination of order patter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ariety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7B2-A59C-4DDA-B8DD-1FA581E556C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is beautifu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850680" y="2243160"/>
            <a:ext cx="6718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1. Probabili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tro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enet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languag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relativ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releva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eflexive passive (Romance vs Slav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14D-7DF5-478D-B2DE-6C936D06900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is beautifu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534960" y="236052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mples in the typological literatu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eenberg (1963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wkins (1983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mlin (1986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ichols (1992) – Head/Dep marki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ybee (1994) – Tense/Aspect/Moo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ewierska &amp; Bakker (1990-) – Pers.Agr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yer (1985-) – Word ord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0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61680" y="4005360"/>
            <a:ext cx="1224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b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67640" y="393372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712-0DBD-4202-B37A-DD94EB274F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 may be bet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58880" y="2243160"/>
            <a:ext cx="638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2. Variet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imum (all?)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t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variation in genetic/are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typically cycl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top when no new cases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earch parameters typically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nknow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52B-4784-4649-BA82-C56EFF1109D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vs Varie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420200" y="2319480"/>
            <a:ext cx="616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abili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vely small (30 – 1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y be too large (double c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rie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vely large (&gt;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not be too large (just superflu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848-DC15-4943-8AA2-C4509AD4344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ing in the litera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346040" y="2166840"/>
            <a:ext cx="69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troductions to 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rie (1981)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9-1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oft (1990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8-26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ley (1997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36-43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ng (2001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7-3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2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E4D-1DE2-4D1B-8875-502730DCD33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288800" y="2693880"/>
            <a:ext cx="6418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ecting languag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a sam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biases in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s in typological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DV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156-5192-4C32-9FE6-2FB6C11E1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242360" y="2166840"/>
            <a:ext cx="7400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Bell (1978)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genetic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rea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ological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78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etic group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&gt; 3000 year dep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per family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 of lg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oportional 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ple &lt; 478: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mall families ‘disappea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6EB-6E0B-48D3-A054-6E427158346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38040" y="2166840"/>
            <a:ext cx="66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erkins (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ll stratified for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ultu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Murdock 196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50 languag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optimal genetic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ood fo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a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too small fo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r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ADA-4E20-49A1-BFA1-F361E4CF8CF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809640" y="2166840"/>
            <a:ext cx="834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ryer (1989)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~ Bell,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22 established gener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3500 – 4000 years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stablish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 g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mainly stable, else the most frequ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 macro-area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counting genera per ar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556-5EAD-4746-93D2-2C987159ADD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85800" y="2133720"/>
            <a:ext cx="7695720" cy="1828800"/>
            <a:chOff x="685800" y="2133720"/>
            <a:chExt cx="7695720" cy="1828800"/>
          </a:xfrm>
        </p:grpSpPr>
        <p:grpSp>
          <p:nvGrpSpPr>
            <p:cNvPr id="477" name=""/>
            <p:cNvGrpSpPr/>
            <p:nvPr/>
          </p:nvGrpSpPr>
          <p:grpSpPr>
            <a:xfrm>
              <a:off x="690840" y="2138040"/>
              <a:ext cx="7684560" cy="1819080"/>
              <a:chOff x="690840" y="2138040"/>
              <a:chExt cx="7684560" cy="18190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690840" y="2138040"/>
                <a:ext cx="1280160" cy="606240"/>
                <a:chOff x="690840" y="2138040"/>
                <a:chExt cx="1280160" cy="6062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3908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908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1971360" y="2138040"/>
                <a:ext cx="1280160" cy="606240"/>
                <a:chOff x="1971360" y="2138040"/>
                <a:chExt cx="1280160" cy="6062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019960" y="213804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fr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97136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252240" y="2138040"/>
                <a:ext cx="1280880" cy="606240"/>
                <a:chOff x="3252240" y="2138040"/>
                <a:chExt cx="1280880" cy="60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30084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ras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252240" y="213804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533840" y="2138040"/>
                <a:ext cx="1280160" cy="606240"/>
                <a:chOff x="4533840" y="2138040"/>
                <a:chExt cx="1280160" cy="6062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82080" y="213804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-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338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5814360" y="2138040"/>
                <a:ext cx="1280160" cy="606240"/>
                <a:chOff x="5814360" y="2138040"/>
                <a:chExt cx="1280160" cy="6062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86260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.Am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81436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7095240" y="2138040"/>
                <a:ext cx="1280160" cy="606240"/>
                <a:chOff x="7095240" y="2138040"/>
                <a:chExt cx="1280160" cy="6062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714348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.Am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0952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90840" y="2744280"/>
                <a:ext cx="1280160" cy="606240"/>
                <a:chOff x="690840" y="2744280"/>
                <a:chExt cx="1280160" cy="60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3908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08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971360" y="2744280"/>
                <a:ext cx="1280160" cy="606240"/>
                <a:chOff x="1971360" y="2744280"/>
                <a:chExt cx="1280160" cy="6062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019960" y="27442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97136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3252240" y="2744280"/>
                <a:ext cx="1280880" cy="606240"/>
                <a:chOff x="3252240" y="2744280"/>
                <a:chExt cx="1280880" cy="6062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30084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52240" y="274428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533840" y="2744280"/>
                <a:ext cx="1280160" cy="606240"/>
                <a:chOff x="4533840" y="2744280"/>
                <a:chExt cx="1280160" cy="6062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582080" y="27442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5338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814360" y="2744280"/>
                <a:ext cx="1280160" cy="606240"/>
                <a:chOff x="5814360" y="2744280"/>
                <a:chExt cx="1280160" cy="60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86260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81436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095240" y="2744280"/>
                <a:ext cx="1280160" cy="606240"/>
                <a:chOff x="7095240" y="2744280"/>
                <a:chExt cx="1280160" cy="6062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14348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0952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90840" y="3350880"/>
                <a:ext cx="1280160" cy="606240"/>
                <a:chOff x="690840" y="3350880"/>
                <a:chExt cx="1280160" cy="606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73908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908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1971360" y="3350880"/>
                <a:ext cx="1280160" cy="606240"/>
                <a:chOff x="1971360" y="3350880"/>
                <a:chExt cx="1280160" cy="60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019960" y="33508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97136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52240" y="3350880"/>
                <a:ext cx="1280880" cy="606240"/>
                <a:chOff x="3252240" y="3350880"/>
                <a:chExt cx="1280880" cy="60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084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52240" y="335088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4533840" y="3350880"/>
                <a:ext cx="1280160" cy="606240"/>
                <a:chOff x="4533840" y="3350880"/>
                <a:chExt cx="1280160" cy="6062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582080" y="33508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338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5814360" y="3350880"/>
                <a:ext cx="1280160" cy="606240"/>
                <a:chOff x="5814360" y="3350880"/>
                <a:chExt cx="1280160" cy="6062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586260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81436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7095240" y="3350880"/>
                <a:ext cx="1280160" cy="606240"/>
                <a:chOff x="7095240" y="3350880"/>
                <a:chExt cx="1280160" cy="6062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4348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0952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" name=""/>
            <p:cNvSpPr/>
            <p:nvPr/>
          </p:nvSpPr>
          <p:spPr>
            <a:xfrm>
              <a:off x="685800" y="2133720"/>
              <a:ext cx="7695720" cy="1828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7240" y="411480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V &gt; 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548-EC6C-427A-A768-0BCD8C1D4D0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85800" y="2133720"/>
            <a:ext cx="7695720" cy="1828800"/>
            <a:chOff x="685800" y="2133720"/>
            <a:chExt cx="7695720" cy="1828800"/>
          </a:xfrm>
        </p:grpSpPr>
        <p:grpSp>
          <p:nvGrpSpPr>
            <p:cNvPr id="538" name=""/>
            <p:cNvGrpSpPr/>
            <p:nvPr/>
          </p:nvGrpSpPr>
          <p:grpSpPr>
            <a:xfrm>
              <a:off x="690840" y="2138040"/>
              <a:ext cx="7684560" cy="1819080"/>
              <a:chOff x="690840" y="2138040"/>
              <a:chExt cx="7684560" cy="181908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690840" y="2138040"/>
                <a:ext cx="1280160" cy="606240"/>
                <a:chOff x="690840" y="2138040"/>
                <a:chExt cx="1280160" cy="6062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908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908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1971360" y="2138040"/>
                <a:ext cx="1280160" cy="606240"/>
                <a:chOff x="1971360" y="2138040"/>
                <a:chExt cx="1280160" cy="606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019960" y="213804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fr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97136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252240" y="2138040"/>
                <a:ext cx="1280880" cy="606240"/>
                <a:chOff x="3252240" y="2138040"/>
                <a:chExt cx="1280880" cy="606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30084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ras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52240" y="213804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533840" y="2138040"/>
                <a:ext cx="1280160" cy="606240"/>
                <a:chOff x="4533840" y="2138040"/>
                <a:chExt cx="1280160" cy="6062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582080" y="213804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-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5338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5814360" y="2138040"/>
                <a:ext cx="1280160" cy="606240"/>
                <a:chOff x="5814360" y="2138040"/>
                <a:chExt cx="1280160" cy="6062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586260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.Am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81436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095240" y="2138040"/>
                <a:ext cx="1280160" cy="606240"/>
                <a:chOff x="7095240" y="2138040"/>
                <a:chExt cx="1280160" cy="606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143480" y="213804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.Am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95240" y="213804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90840" y="2744280"/>
                <a:ext cx="1280160" cy="606240"/>
                <a:chOff x="690840" y="2744280"/>
                <a:chExt cx="1280160" cy="6062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3908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908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971360" y="2744280"/>
                <a:ext cx="1280160" cy="606240"/>
                <a:chOff x="1971360" y="2744280"/>
                <a:chExt cx="1280160" cy="6062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2019960" y="27442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7136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3252240" y="2744280"/>
                <a:ext cx="1280880" cy="606240"/>
                <a:chOff x="3252240" y="2744280"/>
                <a:chExt cx="1280880" cy="6062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330084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52240" y="274428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533840" y="2744280"/>
                <a:ext cx="1280160" cy="606240"/>
                <a:chOff x="4533840" y="2744280"/>
                <a:chExt cx="1280160" cy="6062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582080" y="27442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5338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814360" y="2744280"/>
                <a:ext cx="1280160" cy="606240"/>
                <a:chOff x="5814360" y="2744280"/>
                <a:chExt cx="1280160" cy="6062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86260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81436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095240" y="2744280"/>
                <a:ext cx="1280160" cy="606240"/>
                <a:chOff x="7095240" y="2744280"/>
                <a:chExt cx="1280160" cy="60624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143480" y="27442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095240" y="27442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90840" y="3350880"/>
                <a:ext cx="1280160" cy="606240"/>
                <a:chOff x="690840" y="3350880"/>
                <a:chExt cx="1280160" cy="6062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3908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908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971360" y="3350880"/>
                <a:ext cx="1280160" cy="606240"/>
                <a:chOff x="1971360" y="3350880"/>
                <a:chExt cx="1280160" cy="6062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019960" y="33508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97136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252240" y="3350880"/>
                <a:ext cx="1280880" cy="606240"/>
                <a:chOff x="3252240" y="3350880"/>
                <a:chExt cx="1280880" cy="6062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30084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52240" y="3350880"/>
                  <a:ext cx="128088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533840" y="3350880"/>
                <a:ext cx="1280160" cy="606240"/>
                <a:chOff x="4533840" y="3350880"/>
                <a:chExt cx="1280160" cy="6062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582080" y="3350880"/>
                  <a:ext cx="118332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5338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5814360" y="3350880"/>
                <a:ext cx="1280160" cy="606240"/>
                <a:chOff x="5814360" y="3350880"/>
                <a:chExt cx="1280160" cy="6062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86260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81436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7095240" y="3350880"/>
                <a:ext cx="1280160" cy="606240"/>
                <a:chOff x="7095240" y="3350880"/>
                <a:chExt cx="1280160" cy="606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7143480" y="3350880"/>
                  <a:ext cx="1183680" cy="60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95240" y="3350880"/>
                  <a:ext cx="1280160" cy="60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>
              <a:off x="685800" y="2133720"/>
              <a:ext cx="7695720" cy="1828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29640" y="4390920"/>
            <a:ext cx="83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od for universal preferences on stab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ncle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ow 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eraliz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 other types of samp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FD8-63D4-4F79-AEB1-D236ACD95F1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02880" y="2057400"/>
            <a:ext cx="793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variety samples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assifi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(Gen/Ar/Ty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atifi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n other parameter (Gen: Ar/Ty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era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ew samples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valua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xisting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orm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compute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361-B711-4CF6-9253-9E457AEEB99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52120" y="2057400"/>
            <a:ext cx="7663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entral 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ifications expres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ngu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dis)similariti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etwee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ished on the basis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per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ject to cyclic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rov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 starting point fo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plorativ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riat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o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C08-7D3C-4634-9F2C-19542F20E7A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70800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45A-EEDB-4698-A2E1-E72AC8F3A9F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698640" y="40561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440" y="579132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mimum sampl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language per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5DF-41CF-4AB7-A29D-B998D2E6777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1560" y="5186520"/>
            <a:ext cx="640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0720" y="5186520"/>
            <a:ext cx="61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57160" y="5186520"/>
            <a:ext cx="65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92520" y="518652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75640" y="518148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69960" y="5181480"/>
            <a:ext cx="621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74000" y="5181480"/>
            <a:ext cx="64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04960" y="518148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38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100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00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915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13A-6693-43E5-B839-E79673535B8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248112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889280" y="1830240"/>
            <a:ext cx="56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s of the world:     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D75-96C2-4E55-A26A-5A567BCA9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5320" y="518652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720" y="5186520"/>
            <a:ext cx="61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57160" y="5186520"/>
            <a:ext cx="65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12680" y="518652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75640" y="518148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89400" y="5181480"/>
            <a:ext cx="63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90560" y="518148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004960" y="518148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47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038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100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00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15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0EF-872E-47B1-9189-F470E15A07A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1480" y="5918040"/>
            <a:ext cx="766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elect language with the best description (for the purp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5320" y="518652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70720" y="5186520"/>
            <a:ext cx="61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657160" y="5186520"/>
            <a:ext cx="65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12680" y="518652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75640" y="518148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89400" y="5181480"/>
            <a:ext cx="63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90560" y="518148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004960" y="518148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38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100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00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915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294-F614-4257-9F0A-487847F5B2F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034280" y="5867280"/>
            <a:ext cx="7437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cludes all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SOLAT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que, Burushaski, Ket, Nahali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55320" y="518652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70720" y="5186520"/>
            <a:ext cx="61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57160" y="5186520"/>
            <a:ext cx="65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712680" y="518652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5640" y="518148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89400" y="5181480"/>
            <a:ext cx="63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90560" y="5181480"/>
            <a:ext cx="67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004960" y="5181480"/>
            <a:ext cx="66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47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038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100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00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594-7069-4534-94B0-4EE037E69E1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3040" y="472428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mimum sampl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language per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uhlen (1991)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thnologue (200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20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Basic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urdock (1967)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5181480"/>
            <a:ext cx="381240" cy="99072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A38-673F-4E0A-A0EA-367CEDAD45B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71240" y="4572000"/>
            <a:ext cx="72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tending the Basic Sample to preferred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g. extend Ruhlen-based sample from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7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E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relative complexity of famil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1132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1320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46920" y="198108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347-2F94-47E7-82B9-2077A29C773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2920" y="4572000"/>
            <a:ext cx="68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djusting DV values to full tre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cursively dow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wer leve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tribute relative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es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 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11132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01320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46920" y="198108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6BD-E182-4A49-A857-E4BD0E23E30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6720" y="4572000"/>
            <a:ext cx="6847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ormula for weight per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+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*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) /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1132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13200" y="19652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46920" y="198108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85080" y="5715000"/>
            <a:ext cx="762120" cy="762120"/>
          </a:xfrm>
          <a:custGeom>
            <a:avLst/>
            <a:gdLst>
              <a:gd name="textAreaLeft" fmla="*/ 218520 w 762120"/>
              <a:gd name="textAreaRight" fmla="*/ 653040 w 76212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85240" y="5977080"/>
            <a:ext cx="444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e Rijkhoff &amp; Bakker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C98-7FA3-4367-83CB-640786DBF35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46720" y="4572000"/>
            <a:ext cx="6847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ormula for weight per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+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*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) /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780000" y="2276640"/>
            <a:ext cx="1728720" cy="29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1908000" y="2349360"/>
            <a:ext cx="1872000" cy="288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3708000" y="2276640"/>
            <a:ext cx="71640" cy="29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A63-084E-4F29-AA83-EF4A321800B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46720" y="4572000"/>
            <a:ext cx="6847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ormula for weight per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C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+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 N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Tahoma"/>
                <a:ea typeface="Times New Roman"/>
              </a:rPr>
              <a:t>k-1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*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) /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MAX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780000" y="2276640"/>
            <a:ext cx="1728720" cy="29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1908000" y="2349360"/>
            <a:ext cx="1872000" cy="288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3708000" y="2276640"/>
            <a:ext cx="71640" cy="29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04336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052720" y="17352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1536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924360" y="17352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870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796000" y="17352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0CA-0792-4876-81FA-EB61689C405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y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8" name=""/>
          <p:cNvSpPr/>
          <p:nvPr/>
        </p:nvSpPr>
        <p:spPr>
          <a:xfrm>
            <a:off x="837720" y="2290680"/>
            <a:ext cx="140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ro-Asi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15400" y="2286000"/>
            <a:ext cx="143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ri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843440" y="2290680"/>
            <a:ext cx="127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c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972840" y="2286000"/>
            <a:ext cx="1215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v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96680" y="2666880"/>
            <a:ext cx="685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82840" y="266688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97040" y="3429000"/>
            <a:ext cx="609480" cy="53352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15440" y="34290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514600" y="266688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52680" y="26668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029200" y="26668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266688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409720" y="3200400"/>
            <a:ext cx="68580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5880" y="3200400"/>
            <a:ext cx="38124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971800" y="3429000"/>
            <a:ext cx="38088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52680" y="3429000"/>
            <a:ext cx="533520" cy="60948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715968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93200" y="2666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5909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9718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698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47920" y="2666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52680" y="266688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2361960" y="26668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352680" y="266688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4266720" y="3200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01440" y="196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661840" y="19652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7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56040" y="19810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DV=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95880" y="3200400"/>
            <a:ext cx="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95880" y="3200400"/>
            <a:ext cx="838440" cy="685800"/>
          </a:xfrm>
          <a:prstGeom prst="line">
            <a:avLst/>
          </a:prstGeom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78360" y="4834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uter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Language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B7D-448A-4217-9300-7672DC61A58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Dik Bakker</cp:lastModifiedBy>
  <dcterms:modified xsi:type="dcterms:W3CDTF">2007-07-24T10:44:08Z</dcterms:modified>
  <cp:revision>910</cp:revision>
  <dc:subject/>
  <dc:title>Semantic Parameters of the Grammaticalization of Agreement</dc:title>
</cp:coreProperties>
</file>