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541-4CA2-4478-A3DB-5ECFA89E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875-067B-443B-B5C3-07ED8FE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01B-D40E-4E1C-ABBF-7EEFBF35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846-EC0D-4FCB-B422-4137B1AA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4007-0C6D-4201-881E-8047DAB7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044-FCCD-4847-8ACA-DE790CB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4CE6-C713-4982-9E93-CBB00A29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41F-9D1F-4D1B-A877-8307A4F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D6A1-0EF4-4A9E-9634-DF6D663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03DF-C6C5-4484-8F3F-837D6048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CD75-5B2D-4BE6-9B1B-C3FF032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E39-D011-48D7-A261-133F0036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0EBC-1D4A-4F4B-A3BA-F31ACA8E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738D-42E8-4527-AA5F-E8BE5B6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EF21-B58B-42A4-BB67-809400B4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164B-B1DA-4B90-B46F-B6374399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6894-AC4A-4094-806F-836F3A12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F77-D973-491F-B2B1-48B1DC0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2EC-8A70-42B9-9C81-2920BE42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B4B-8216-440C-8336-B5579E36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C54-4324-446B-9012-21234FA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695-8C1B-4361-B58C-ECEE7F97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331-FDBF-42BD-B54F-7ED3DD4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708-7215-4082-9169-9C712809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BE20-5A54-4F60-A19F-806F18C3A075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B8DB-405C-42D6-8555-72F56D3BE245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028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Questionnaires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ypology</a:t>
            </a:r>
            <a:br>
              <a:rPr sz="4400"/>
            </a:br>
            <a:br>
              <a:rPr sz="44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Anna Siewierska &amp; Dik Bakk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95600" y="2276640"/>
            <a:ext cx="6973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6B8-4921-4CB7-A6A6-7F1B18CF9B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33960" y="2289240"/>
            <a:ext cx="739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riation in 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stions short and not double-barr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ive examples if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3D7-1E75-406E-9699-250C3F49E35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73920" y="2289240"/>
            <a:ext cx="820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14. Does conjunction reduction occur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oordinated sentences, as in example (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where the use of the pronoun in the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ntence is op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(3)  The man payed and (he)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389-D229-4944-94F9-62589B03A83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633960" y="2289240"/>
            <a:ext cx="739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riation in 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stions short and not double-barr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examples if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ayout: fo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3F8-374A-4572-B1CA-D75AB7AEBAD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-1140480" y="2487600"/>
            <a:ext cx="11691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8.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Monotype Corsiva"/>
              </a:rPr>
              <a:t>basic order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, does the subject occur before or after the predic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9. In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assivizatio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, are there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ith respect to the semantic function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rguments that may be promoted to subjec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Medium"/>
              </a:rPr>
              <a:t>10. Does       </a:t>
            </a:r>
            <a:r>
              <a:rPr b="1" i="1" lang="en-GB" sz="2400" spc="-1" strike="noStrike">
                <a:solidFill>
                  <a:srgbClr val="000000"/>
                </a:solidFill>
                <a:latin typeface="Franklin Gothic Medium"/>
              </a:rPr>
              <a:t>E Q U I N P D E L E T I O N</a:t>
            </a:r>
            <a:r>
              <a:rPr b="1" lang="en-GB" sz="2400" spc="-1" strike="noStrike">
                <a:solidFill>
                  <a:srgbClr val="000000"/>
                </a:solidFill>
                <a:latin typeface="Franklin Gothic Medium"/>
              </a:rPr>
              <a:t> apply between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Medium"/>
              </a:rPr>
              <a:t>and subordinate cl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CE0-4DF3-4738-A925-A97B7CDE749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633960" y="2289240"/>
            <a:ext cx="739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riation in 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stions short and not double-barr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examples if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ayout: fonts /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E05-81EF-4BBD-8233-812F0253823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700920" y="2289240"/>
            <a:ext cx="832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 Does the language have relative cl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If yes, give a glossed example of all occur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s, both finite and infin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What is the place of the ad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fore N / after N /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5EC-4376-4C44-A690-A92A0B446CE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700920" y="2289240"/>
            <a:ext cx="832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Does the language have relative cl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. If yes, give a glossed example of all occur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es, both finite and infin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What is the place of the ad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fore N / after N /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19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EB1-9397-41E7-AFC1-7E4175E1E14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699120" y="2289240"/>
            <a:ext cx="739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riation in 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stions short and not double-barr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examples if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ayout: fonts /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ogical order of (sub)topics (im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D4C-EC05-4C41-8A47-523F47F9F67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633960" y="2289240"/>
            <a:ext cx="739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riation in 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uestions short and not double-barr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examples if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ayout: fonts /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gical ord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lear structure (rout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D09-D996-41D4-A9A7-3374FA08498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2698920" y="1989000"/>
            <a:ext cx="352872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95160" y="2127240"/>
            <a:ext cx="32882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2. What is the x of 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If x=a then goto 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3. Where is the z of 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If in v then goto 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4. Choo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a.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.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c.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if else then goto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5. What is the 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Skip 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6. Why not?  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17. Are You Still There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23280" y="2492280"/>
            <a:ext cx="647640" cy="1368360"/>
          </a:xfrm>
          <a:custGeom>
            <a:avLst/>
            <a:gdLst>
              <a:gd name="textAreaLeft" fmla="*/ 86760 w 647640"/>
              <a:gd name="textAreaRight" fmla="*/ 560880 w 6476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076720" y="2996640"/>
            <a:ext cx="647640" cy="1368360"/>
          </a:xfrm>
          <a:custGeom>
            <a:avLst/>
            <a:gdLst>
              <a:gd name="textAreaLeft" fmla="*/ 86760 w 647640"/>
              <a:gd name="textAreaRight" fmla="*/ 560880 w 6476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06920" y="2637000"/>
            <a:ext cx="2089440" cy="2592360"/>
          </a:xfrm>
          <a:custGeom>
            <a:avLst/>
            <a:gdLst>
              <a:gd name="textAreaLeft" fmla="*/ 279720 w 2089440"/>
              <a:gd name="textAreaRight" fmla="*/ 1809720 w 2089440"/>
              <a:gd name="textAreaTop" fmla="*/ 453600 h 2592360"/>
              <a:gd name="textAreaBottom" fmla="*/ 18795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23280" y="4797360"/>
            <a:ext cx="647640" cy="1368360"/>
          </a:xfrm>
          <a:custGeom>
            <a:avLst/>
            <a:gdLst>
              <a:gd name="textAreaLeft" fmla="*/ 86760 w 647640"/>
              <a:gd name="textAreaRight" fmla="*/ 560880 w 6476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4FC-51DA-4BB1-BDC2-B08F6415F1A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848160" y="2276640"/>
            <a:ext cx="81223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lec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verything (??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EEF-8CFE-4369-9911-CF355CC48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78F-F2A1-4FB1-B423-90DE129A97E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674640" y="23605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A5C-5F0D-4F12-8DBE-36D4EFAA638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674640" y="2360520"/>
            <a:ext cx="63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always too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C79-1554-4F4D-876B-296A3BFCD7F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653040" y="2360520"/>
            <a:ext cx="66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always too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always unclear for rest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AAA-A764-4471-8FB6-A423FC1B5FA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53040" y="2360520"/>
            <a:ext cx="668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always too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always unclear for rest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ask for their 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2BD-2CE0-4017-B2B5-CA8B9F59CFD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74640" y="2360520"/>
            <a:ext cx="63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9F4-90A2-46D9-ADE5-1A49B30E364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61680" y="2360520"/>
            <a:ext cx="805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ke a sample of respondents (random – stratif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146-954B-49EF-84C9-0084FCEB592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661680" y="2360520"/>
            <a:ext cx="805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ke a sample of respondents (random – stratif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47640" y="3645000"/>
            <a:ext cx="158436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8880" y="4160880"/>
            <a:ext cx="43185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sts of experts (ALT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guist/Func/…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EFE-0D91-47BF-963E-E534DAC4422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674640" y="2360520"/>
            <a:ext cx="63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 sample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tivate exten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E5A-5CC2-4CB8-A22C-5B724917411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74640" y="2360520"/>
            <a:ext cx="638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 sample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e exten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n well (holida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65D-9EAD-4352-B1BE-4B5B5220F0C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848160" y="2276640"/>
            <a:ext cx="81223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lec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verything (??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laus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C90-3DA1-450D-97EE-259989E271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674640" y="2360520"/>
            <a:ext cx="638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 sample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e exten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rson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D5F-6827-416A-A244-1981EFB269A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658800" y="2360520"/>
            <a:ext cx="703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 sample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e exten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son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ive a reasonable deadline (but not too 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897-D946-49A7-B1A0-CE294FD26C8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718200" y="2360520"/>
            <a:ext cx="784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e a sample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e exten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son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 a reasonable dea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gitalized?? (FileMaker etc)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Routing /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DEB-D0BF-4258-A93A-229250DA317A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762840" y="2360520"/>
            <a:ext cx="638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ke a sample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tivate exten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lan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erson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a reasonable dea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gitalized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minder after 2 – 3 weeks (+ 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(~ 50% of expected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BE4-977B-4F4D-AE01-97D83D42E16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674640" y="2360520"/>
            <a:ext cx="638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 a pilot with colleagues / non-lingu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ke an improved version 2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ke a sample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tivate exten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lan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erson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ve a reasonable dea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gitalized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minder after 2 – 3 wee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other after 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9E9-9C42-41DD-9694-503C05F5730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928-6265-4DE5-B09E-C9F76247FEFE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793080" y="20509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nk respondents (and repor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86E-A87E-473B-9FE9-C84371B061A1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748800" y="2050920"/>
            <a:ext cx="31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E7B-9F6A-4F3C-BE1B-C52EFB6DF133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757080" y="2050920"/>
            <a:ext cx="52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838-3EBD-4725-9DC2-ABD6BF23C99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757080" y="2050920"/>
            <a:ext cx="524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d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42C-87E8-4AF9-BB17-ECA59C3667F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848160" y="2276640"/>
            <a:ext cx="81223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lec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verything (??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laus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ompetence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865-31DF-452E-A5FC-9F9A5B491D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822240" y="2050920"/>
            <a:ext cx="727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question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1 or more variables /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C3F-5052-49D5-B83E-4F054776112D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822240" y="2050920"/>
            <a:ext cx="72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ques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1 or more variables /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don’t be too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311-6827-4998-8907-35FBE71F390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822240" y="2050920"/>
            <a:ext cx="727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ques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1 or more variables /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don’t be too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interpretation: useful for analy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A22-2533-4A93-BFB1-4194B3E7BEEA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822240" y="2050920"/>
            <a:ext cx="727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ques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1 or more variables /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don’t be too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interpretation: useful for analy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open ques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25E-74C0-461B-95C2-762D3C635025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822240" y="2050920"/>
            <a:ext cx="727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ques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1 or more variables /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don’t be too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interpretation: useful for analy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open ques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examples + transl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30A-814E-470C-B016-7BCE7AAD42A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Logistics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822240" y="2050920"/>
            <a:ext cx="727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nk respond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e and systematiz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ques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1 or more variables /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don’t be too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interpretation: useful for analy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open ques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examples + transl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ata en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CB9-BDDD-479B-957A-23BA855385C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Questionnai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992880" y="246708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now for som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414-A699-49FA-857A-37BB8E010E14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2971800"/>
            <a:ext cx="100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2D9-F969-47C0-AF4B-4FE36B70FA2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848160" y="2276640"/>
            <a:ext cx="81223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lec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verything (??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laus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ompetence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69160" y="2606760"/>
            <a:ext cx="4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cc33"/>
                </a:solidFill>
                <a:latin typeface="Tahoma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cc33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E64-48B7-4D63-B784-94A789CE6A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848160" y="2276640"/>
            <a:ext cx="81223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lec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The R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verything (??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laus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ompetence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3141720"/>
            <a:ext cx="576360" cy="1727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99640" y="3141720"/>
            <a:ext cx="576360" cy="1727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BE8-0F3B-4875-89E1-CDFFD2D5D0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819720" y="2276640"/>
            <a:ext cx="7832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lec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The R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verything (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laus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ompetence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Intuit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35640" y="3141720"/>
            <a:ext cx="576360" cy="1727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699640" y="3141720"/>
            <a:ext cx="576360" cy="1727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AC5-E529-485D-A62F-13F6AF30E8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19720" y="2276640"/>
            <a:ext cx="7832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33cc33"/>
                </a:solidFill>
                <a:uFillTx/>
                <a:latin typeface="Tahoma"/>
              </a:rPr>
              <a:t>QUEST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eneral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elec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The R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verything (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laus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ompetence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Intuit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3141720"/>
            <a:ext cx="576360" cy="1727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699640" y="3141720"/>
            <a:ext cx="576360" cy="1727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395-F7CA-4575-92AD-BEF12FB860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BAD-493A-4E9C-AEAA-3DF998FAFC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804960" y="206064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with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699-29A9-458F-A79E-520DE85174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82D-0EE9-4B6F-B268-8601428074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6360" y="2060640"/>
            <a:ext cx="58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with ques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with question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2E3-3439-45D0-AC0C-BD810EC83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669240" y="2060640"/>
            <a:ext cx="73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with ques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ructu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085-545C-4675-9A9B-8FF292E190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14520" y="2060640"/>
            <a:ext cx="7259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list with ques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ent out to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55D-5F91-4E12-87E0-D119272667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740520" y="2060640"/>
            <a:ext cx="725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list with ques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nt out to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nt out to experts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E5E-FC1F-4F0B-A930-260C203B35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659160" y="2133720"/>
            <a:ext cx="7771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E8E-0C75-49E3-8B18-DC6A30F9CB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59160" y="2133720"/>
            <a:ext cx="7771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20D-EB19-40FF-B23E-850C4F1D16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659160" y="2133720"/>
            <a:ext cx="7771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39B-FEF8-499B-8B12-58C9D9ACC0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59160" y="2133720"/>
            <a:ext cx="77716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2FA-FF29-454F-8B58-61709D8560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59160" y="2133720"/>
            <a:ext cx="77716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 (Q &amp; A)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AF4-9353-4263-BE95-D9BAFEE604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59160" y="2133720"/>
            <a:ext cx="77716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EBB-D252-4AAD-A734-698BD6AD66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02840" y="2266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a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A69-6139-4AEC-A520-9B26E69029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659160" y="2133720"/>
            <a:ext cx="77716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56E-CEDA-47E8-9991-24F2408FE8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EBF-ABE4-46FE-ABD0-EA395C5540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808-AD6A-49FB-8B79-5F8FEDEE25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270-BD73-4DFF-9216-31EEA936AD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71F-BC1A-4AD4-AE79-63B02C7E70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re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15A-A2F5-4126-80B3-161452E492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re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C30-AC49-4D62-B8F4-C996D29263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re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E96-3B0D-4B25-B0D6-E00403AC04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 and 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59160" y="2133720"/>
            <a:ext cx="77716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structured list with questions on a specific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nt out to experts to complement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Cheap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any informant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wn tim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Standardization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re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Easy analysi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Hypothesis testing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Anonymou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Literacy/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E9A-71CC-4641-A1BA-FACB103C39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187280" y="2421000"/>
            <a:ext cx="273528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6200" y="2610000"/>
            <a:ext cx="268920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Tahoma"/>
              </a:rPr>
              <a:t>Questionnaire 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xxxxxxxxxxxxx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1. What is the x of y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2. Where is the z of 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3. Choos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a.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b.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c. 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else go to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4. Who is 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5. Why no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789-E5A1-421D-BA4F-EFF3A20EDE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02840" y="2266920"/>
            <a:ext cx="43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y a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ahoma"/>
              </a:rPr>
              <a:t>What and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3F9-C4E3-46FF-B520-00C008DBD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2421000"/>
            <a:ext cx="273528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6200" y="2610000"/>
            <a:ext cx="268920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Tahoma"/>
              </a:rPr>
              <a:t>Questionnaire 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xxxxxxxxxxxxx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1. What is the x of y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2. Where is the z of 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3. Choos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a.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b.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c. 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else go to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4. Who is 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5. Why no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3573360"/>
            <a:ext cx="2233800" cy="4320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44960" y="24336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19640" y="2708280"/>
            <a:ext cx="151272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1C6-D74B-470B-AACB-F0F16171956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2421000"/>
            <a:ext cx="273528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6200" y="2610000"/>
            <a:ext cx="268920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ff0000"/>
                </a:solidFill>
                <a:uFillTx/>
                <a:latin typeface="Tahoma"/>
              </a:rPr>
              <a:t>Questionnaire 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xxxxxxxxxxxxx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1. What is the x of y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2. Where is the z of 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3. Choos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a.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b.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c. 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else go to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4. Who is 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5. Why no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44960" y="2433600"/>
            <a:ext cx="29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634920" y="3429000"/>
            <a:ext cx="1368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2349360"/>
            <a:ext cx="2664000" cy="38163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316-8597-4DEA-81ED-2CC61989B1A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187280" y="2421000"/>
            <a:ext cx="2735280" cy="345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240" y="2610000"/>
            <a:ext cx="2689200" cy="315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ff0000"/>
                </a:solidFill>
                <a:uFillTx/>
                <a:latin typeface="Tahoma"/>
              </a:rPr>
              <a:t>Questionnaire 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xxxxxxxxxxxxx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1. What is the x of y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2. Where is the z of 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3. Choos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a.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b.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c. 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else go to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4. Who is 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Tahoma"/>
              </a:rPr>
              <a:t>5. Why no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44960" y="2433600"/>
            <a:ext cx="291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og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2360" y="1700280"/>
            <a:ext cx="4535640" cy="50133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60720" y="41497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A41-8057-4F5A-8FB9-F0364CC89F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F9C-7FC2-48FB-ADAA-805512C413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001880" y="242100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B95-50AA-4D48-A564-DF73BB4719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001880" y="242100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E87-E628-4EDD-98E8-CF636EF83A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001880" y="2421000"/>
            <a:ext cx="55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9E0-1A35-4779-A57D-CA3F425E258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001880" y="2421000"/>
            <a:ext cx="551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o are the respon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DA1-7D4B-41F7-8B5D-D594F4BC6EC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001880" y="2421000"/>
            <a:ext cx="551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o are the respon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general typ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230-AA5A-4FB6-9CA7-5474DD14967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001880" y="2421000"/>
            <a:ext cx="55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o are the respon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general typ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experts on th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7DC-3914-408D-AB80-A861B7B266F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3557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62120" y="2133720"/>
            <a:ext cx="6379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2840" y="2266920"/>
            <a:ext cx="430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y a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ahoma"/>
              </a:rPr>
              <a:t>What and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ahoma"/>
              </a:rPr>
              <a:t>A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8FE-842D-4B7A-B9DD-419BAB596A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001880" y="2421000"/>
            <a:ext cx="551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o are the respon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general typ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experts on th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native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0E7-4D63-4DC8-AB4C-AB97C1B433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001880" y="2421000"/>
            <a:ext cx="551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o are the respon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general typ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experts on th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native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expert + native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C36-FA66-42EE-A0C6-353421AEBF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001880" y="2421000"/>
            <a:ext cx="551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o are the respon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general typ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experts on th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native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expert + </a:t>
            </a: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native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44240" y="4508640"/>
            <a:ext cx="2119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ahoma"/>
              </a:rPr>
              <a:t>Obligatio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0360" y="458136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414-2147-464D-BBCA-ECAEB7BBC99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ut First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001880" y="2421000"/>
            <a:ext cx="73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 is the precise top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(tentative)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ot too wide and ambi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o are the respon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general typ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experts on th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native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expert + native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ersonal data on respondents (Privacy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011-CE81-446B-915D-B0954CAC5A6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ECA-7E97-4203-98F9-CB008E4A037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12840" y="228924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. Questions abo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793-8DE0-49BD-919A-4C369BDCA15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03840" y="2289240"/>
            <a:ext cx="5421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. Questions about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. Questions abo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793-9E71-4EC5-8FD7-0DB5520EA76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07800" y="2289240"/>
            <a:ext cx="56120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. Questions about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. Questions about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. Questions abo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E6D-FF73-461D-A8CB-460AA07EB5A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07800" y="2289240"/>
            <a:ext cx="56120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Questions abou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Questions abou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Questions abou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l relevant for lingu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269-D98A-42E0-AED4-0A18C79C69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686520" y="2289240"/>
            <a:ext cx="56120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. Questions abo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. Questions abo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. Questions about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ll relevant for lingu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Not always clear what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82F-EBA0-495A-BADC-A9C5DB10776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02920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aly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43400"/>
            <a:ext cx="1676520" cy="198108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181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1760" y="4834080"/>
            <a:ext cx="10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7600" y="4343400"/>
            <a:ext cx="167652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10160" y="51814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F44-3D33-43FB-92EF-D0599A76C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8720" y="22892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.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80F-6488-4FA3-AF51-8B9431B396E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16080" y="2289240"/>
            <a:ext cx="69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.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Does your language have a pass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59B-559A-4371-ACD6-1FE9EE99A44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316080" y="2289240"/>
            <a:ext cx="69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.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Does your language have a pass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Which are the indefinite pronou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02C-9F57-43EF-B7C2-E6432E67999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7440" y="2289240"/>
            <a:ext cx="85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A.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Does your language have a pass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Which are the indefinite pronou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How would you translate the following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ence into your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D5D-F130-47F4-AF13-D68117331FC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79720" y="228924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.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CDC-8212-4BA5-B760-CC5204432E0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340200" y="2289240"/>
            <a:ext cx="73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.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Is the following sentence well-form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B42-22F7-4914-9DA3-2700E150D91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297360" y="2289240"/>
            <a:ext cx="841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.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Is the following sentence well-form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Please rate the following examples ac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frequenc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7D6-3802-46D9-83B3-C82671A5F01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97360" y="2289240"/>
            <a:ext cx="841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.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Is the following sentence well-form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Please rate the following examples ac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frequenc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Rate on a scale of 1-5 the acceptabi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llowing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869-CA36-4E7C-87D0-2DEDD728FA0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84040" y="228924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.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1A4-257D-4035-8D6A-BCCDB38CE88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331560" y="2289240"/>
            <a:ext cx="68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.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. In what situation would you use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331-5877-4DB7-8E85-0FC743BCE1C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02920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aly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343400"/>
            <a:ext cx="1676520" cy="198108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181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1760" y="4834080"/>
            <a:ext cx="10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7600" y="4343400"/>
            <a:ext cx="167652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10160" y="51814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666880"/>
            <a:ext cx="17524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19520" y="2133720"/>
            <a:ext cx="1752840" cy="175248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1016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16920" y="2057400"/>
            <a:ext cx="167616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scan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F6B-7635-49B0-82DF-7CCC00242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328680" y="2289240"/>
            <a:ext cx="688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C.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. In what situation would you use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. Would you say Y in the company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sister (y/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father (y/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friend (y/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mother in law (y/n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94C-72E3-4FEA-8B24-2C3C31B55E5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79680" y="228924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024-8CE6-4EA3-960D-5FCF814FC1B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62760" y="228924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Q. Does the language have ten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0ED-5B1A-4306-B796-0D787964BC2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677520" y="2289240"/>
            <a:ext cx="48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ow for</a:t>
            </a:r>
            <a:r>
              <a:rPr b="1" lang="en-US" sz="2400" spc="-1" strike="noStrike">
                <a:solidFill>
                  <a:srgbClr val="d60093"/>
                </a:solidFill>
                <a:latin typeface="Tahoma"/>
              </a:rPr>
              <a:t> ‘Don’t Kn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23F-B9CE-4D7E-BC51-3A54CA7A5E2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721440" y="2289240"/>
            <a:ext cx="450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A66-7892-4A9C-8CCC-5BF742B8ED3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641520" y="228924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Q. The following relativizati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are used in the langu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a. G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b. Pronoun re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c. Relative 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d. Non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E11-99E7-445D-A494-A4A2548C429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21440" y="2289240"/>
            <a:ext cx="45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38D-7B07-4BDE-85EF-CC72840846F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954720" y="2289240"/>
            <a:ext cx="815580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Yes/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Q. On a scale of 5, the following sentenc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Fully acceptable  –  5. Completely un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Xx xxxx xxxx.                   1 – 2 – 3 – 4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Yyy y yyy yy yy.                1 – 2 – 3 – 4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974-A1A5-4309-A707-95B408E86A0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721440" y="2289240"/>
            <a:ext cx="450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2BC-3937-4728-9B7F-C6C7DE5D487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675720" y="2289240"/>
            <a:ext cx="559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Q. Order in preference of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y bike has been st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hey’ve stolen my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omeone stole my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405-682E-4E7A-8A05-307090C2BE0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666880"/>
            <a:ext cx="175248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02920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aly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9520" y="2133720"/>
            <a:ext cx="1752840" cy="175248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343400"/>
            <a:ext cx="1676520" cy="198108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181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016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1760" y="4834080"/>
            <a:ext cx="10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7600" y="4343400"/>
            <a:ext cx="167652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10160" y="51814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886200"/>
            <a:ext cx="1752480" cy="6858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3645000"/>
            <a:ext cx="1366920" cy="1225440"/>
          </a:xfrm>
          <a:prstGeom prst="flowChartDocument">
            <a:avLst/>
          </a:prstGeom>
          <a:gradFill rotWithShape="0">
            <a:gsLst>
              <a:gs pos="0">
                <a:srgbClr val="00e4a8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8120" y="383364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ahoma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ahoma"/>
              </a:rPr>
              <a:t>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3860640"/>
            <a:ext cx="21600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355920"/>
            <a:ext cx="215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4292640"/>
            <a:ext cx="215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16920" y="2057400"/>
            <a:ext cx="1676160" cy="1905120"/>
          </a:xfrm>
          <a:prstGeom prst="flowChartDisplay">
            <a:avLst/>
          </a:prstGeom>
          <a:solidFill>
            <a:srgbClr val="2986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scan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4A9-C85F-4995-8A2F-AD32CABEBD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1440" y="2289240"/>
            <a:ext cx="450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Semi-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98A-44AC-4BE0-AB2D-B282B228E33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675000" y="2289240"/>
            <a:ext cx="7064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Semi-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Q. ‘I am going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o quickly open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the doo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 would use such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plit infinitives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Only in spoke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Only in writte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Otherwise, viz.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751-7921-4C74-A459-DD555347AF6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650520" y="2289240"/>
            <a:ext cx="880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Semi-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pecial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Q. ‘Father saw mother and smil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oes the language have conjunction redu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lease provide a glossed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C68-3026-4C69-B133-27D7465E3F8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721440" y="228924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mi-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AC4-7814-4663-86DD-58C5CF90F7C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661320" y="2289240"/>
            <a:ext cx="817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mi-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Q. Which strategies would you use if the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s unknown or not fully spec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C49-0B72-4A4A-8358-804D0C7AC15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707040" y="2289240"/>
            <a:ext cx="629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mi-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pecial type: translation ques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ypically from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D4D-972E-4BCC-86E0-0160113B637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 Types of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707040" y="2289240"/>
            <a:ext cx="629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lection (1;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mi-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pecial type: translation ques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ypically from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They have stolen my bike’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0B3-5F3D-4712-873F-938EC361FA4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1FD-F17F-4F08-A430-0349702A76D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723960" y="228924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43E-F919-429A-9B1A-15CA65B3837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712440" y="2289240"/>
            <a:ext cx="67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6BA-B128-4489-99E0-0607C7E680F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97400" y="2276640"/>
            <a:ext cx="7052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GRAMMA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RPU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FEE-2BD5-4C51-AB8F-FEFB1A223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712440" y="2289240"/>
            <a:ext cx="67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547-0BCE-497A-B510-088E9A4B5AE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678240" y="228924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 Does the language have relative cl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405-842E-4D7E-8C8B-D3EF7D3D2AC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712440" y="2289240"/>
            <a:ext cx="675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void jargon/theory depend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ative speakers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6C9-C2B6-462F-934D-3FF0909D20A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694800" y="2289240"/>
            <a:ext cx="81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8. In basic order, does the subject occu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r after the predic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379-A928-45D8-9DCC-E533070EAE2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622800" y="2289240"/>
            <a:ext cx="87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8. In basic order, does the subject occu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r after the predic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2. In passivization, are there constrain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pect to the semantic function of th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hat may be promoted to sub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9C8-F355-4F07-A2DA-2DB8758811B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622800" y="2289240"/>
            <a:ext cx="87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8. In basic order, does the subject occu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r after the predic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2. In passivization, are there constrain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pect to the semantic function of th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at may be promoted to sub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7. Does equi NP deletion apply between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d subordinate cl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F9D-47F3-46AD-A5AF-2ADDEE9698F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712440" y="2289240"/>
            <a:ext cx="675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DAD-EAFB-465F-BFEF-BB12CB82001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12440" y="2289240"/>
            <a:ext cx="675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Variation in 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A78-05AF-427B-B030-F912AF626F2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33960" y="2289240"/>
            <a:ext cx="739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long! (4 - 6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too many questions (4 to 6/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f-explan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void jargon/theory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stricted number of (sub)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riation in type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Questions short and not double-barr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4A9-1AD9-42F5-9831-A1FA90B20AE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 Structure Questionn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1600" y="2585880"/>
            <a:ext cx="919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3.7.3  If the language have a passive, then give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example of each of the strategies that exis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d in each of the cases the set of constra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n the semantic functions of the arg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nvolved; if not, what strategies are used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se of an unknown agent. Does animacy play a ro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ology: Data &amp;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129-ECEF-49F9-BB31-AB554A4CB2F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4:32:28Z</dcterms:created>
  <dc:creator>bakker</dc:creator>
  <dc:description/>
  <dc:language>en-US</dc:language>
  <cp:lastModifiedBy>Dik Bakker</cp:lastModifiedBy>
  <dcterms:modified xsi:type="dcterms:W3CDTF">2007-07-24T12:07:31Z</dcterms:modified>
  <cp:revision>866</cp:revision>
  <dc:subject/>
  <dc:title>Semantic Parameters of the Grammaticalization of Agreement</dc:title>
</cp:coreProperties>
</file>