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98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89.xml.rels" ContentType="application/vnd.openxmlformats-package.relationships+xml"/>
  <Override PartName="/ppt/slides/_rels/slide17.xml.rels" ContentType="application/vnd.openxmlformats-package.relationships+xml"/>
  <Override PartName="/ppt/slides/_rels/slide21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7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1.xml.rels" ContentType="application/vnd.openxmlformats-package.relationships+xml"/>
  <Override PartName="/ppt/slides/_rels/slide17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2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49.xml.rels" ContentType="application/vnd.openxmlformats-package.relationships+xml"/>
  <Override PartName="/ppt/slides/_rels/slide54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67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193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55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37.xml" ContentType="application/vnd.openxmlformats-officedocument.presentationml.slide+xml"/>
  <Override PartName="/ppt/slides/slide231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232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9.xml" ContentType="application/vnd.openxmlformats-officedocument.presentationml.slide+xml"/>
  <Override PartName="/ppt/slides/slide233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8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148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319-FC92-4CCF-A361-BF6723C0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8AA-BE96-432F-AABE-432C1C11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1AC-2864-44C5-8C38-4FA870C7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8C8-0023-4F9A-A416-7F0636EC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CDF0-B1F9-4D33-B1D5-131CE476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809A-9542-4C36-98BC-6CB144C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EFE7-C59B-49F8-B91C-2E020FD2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1610-847C-4048-9EE2-ACB69ADB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1D56-2A55-4948-BC0B-0A3F8777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B06F-CFE5-4688-9119-CADEEB40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15D5-F50B-4630-97E5-DB6110DC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6F1-8746-4F86-BC67-25C3EE83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899B-902F-4999-B063-CDCC9ED0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0426-1215-4EF1-AEDA-9E83D26E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1E2E-EF88-4C74-8375-24ACFBF0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B976-D531-41CE-A484-092D1AF5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E5B5-E562-4666-9CFE-DD5416DE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841-7204-4AE5-BDDA-53166BEF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837-0858-4E6B-8C8B-412270A0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DE4-4979-47A7-9E96-69025D61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224-1C1F-4DEC-9331-43097BBB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A4B-4B2A-4E59-B888-374D1E88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EB1-1A94-409B-AACD-F4F2C82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19E-447E-40AA-A0CA-71C3CE3D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4D0F-8E62-42A6-930B-478ADC50EFC1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549F-BD68-4228-B159-6188BF774CD5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lands.let.kun.nl/cgn/" TargetMode="External"/><Relationship Id="rId2" Type="http://schemas.openxmlformats.org/officeDocument/2006/relationships/hyperlink" Target="http://lands.let.kun.nl/cgn/" TargetMode="External"/><Relationship Id="rId3" Type="http://schemas.openxmlformats.org/officeDocument/2006/relationships/hyperlink" Target="http://lands.let.kun.nl/cgn/" TargetMode="Externa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lands.let.kun.nl/cgn/" TargetMode="External"/><Relationship Id="rId2" Type="http://schemas.openxmlformats.org/officeDocument/2006/relationships/hyperlink" Target="http://lands.let.kun.nl/cgn/" TargetMode="External"/><Relationship Id="rId3" Type="http://schemas.openxmlformats.org/officeDocument/2006/relationships/hyperlink" Target="http://lands.let.kun.nl/cgn/" TargetMode="External"/><Relationship Id="rId4" Type="http://schemas.openxmlformats.org/officeDocument/2006/relationships/hyperlink" Target="http://www.natcorp.ox.ac.uk/" TargetMode="External"/><Relationship Id="rId5" Type="http://schemas.openxmlformats.org/officeDocument/2006/relationships/hyperlink" Target="http://www.natcorp.ox.ac.uk/" TargetMode="External"/><Relationship Id="rId6" Type="http://schemas.openxmlformats.org/officeDocument/2006/relationships/hyperlink" Target="http://www.natcorp.ox.ac.uk/" TargetMode="External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corpusdelespanol.org/" TargetMode="External"/><Relationship Id="rId2" Type="http://schemas.openxmlformats.org/officeDocument/2006/relationships/hyperlink" Target="http://www.corpusdelespanol.org/" TargetMode="External"/><Relationship Id="rId3" Type="http://schemas.openxmlformats.org/officeDocument/2006/relationships/hyperlink" Target="http://www.corpusdelespanol.org/" TargetMode="External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corpusdelespanol.org/" TargetMode="External"/><Relationship Id="rId2" Type="http://schemas.openxmlformats.org/officeDocument/2006/relationships/hyperlink" Target="http://www.corpusdelespanol.org/" TargetMode="External"/><Relationship Id="rId3" Type="http://schemas.openxmlformats.org/officeDocument/2006/relationships/hyperlink" Target="http://www.corpusdelespanol.org/" TargetMode="External"/><Relationship Id="rId4" Type="http://schemas.openxmlformats.org/officeDocument/2006/relationships/hyperlink" Target="http://korpus.pl/" TargetMode="External"/><Relationship Id="rId5" Type="http://schemas.openxmlformats.org/officeDocument/2006/relationships/hyperlink" Target="http://korpus.pl/" TargetMode="External"/><Relationship Id="rId6" Type="http://schemas.openxmlformats.org/officeDocument/2006/relationships/hyperlink" Target="http://korpus.pl/" TargetMode="External"/><Relationship Id="rId7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alphalinguistica.sns.it/CoLFIS/CoLFIS_Presentation.htm" TargetMode="External"/><Relationship Id="rId2" Type="http://schemas.openxmlformats.org/officeDocument/2006/relationships/hyperlink" Target="http://alphalinguistica.sns.it/CoLFIS/CoLFIS_Presentation.htm" TargetMode="Externa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alphalinguistica.sns.it/CoLFIS/CoLFIS_Presentation.htm" TargetMode="External"/><Relationship Id="rId2" Type="http://schemas.openxmlformats.org/officeDocument/2006/relationships/hyperlink" Target="http://alphalinguistica.sns.it/CoLFIS/CoLFIS_Presentation.htm" TargetMode="Externa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5028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: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Use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f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ora </a:t>
            </a:r>
            <a:br>
              <a:rPr sz="4400"/>
            </a:b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nna Siewierska &amp; Dik Bakk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514600"/>
            <a:ext cx="70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llection of pieces of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 ar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elec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rde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icit linguistic criteria in order to be used as a sample of the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70C-FE09-4B22-A5F7-26F410B3BB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58280" y="2517840"/>
            <a:ext cx="834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. Complete corpus vs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andom stretches vs complete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portional (e.g. spoken vs writ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4F1-1E88-4380-963E-98A5D55429A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58280" y="251784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Complete corpus vs S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ED3-5815-47B6-900E-F34F67B1028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458280" y="2517840"/>
            <a:ext cx="834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Complete corpus vs S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notation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agged; parsed; glossed; transcription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E98-9144-4764-93F5-7ED9473E0CC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1261080" y="213372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Plain tex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The nurse hates s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7C3-500A-4D6B-9ACB-AC616251CCE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1317240" y="2133720"/>
            <a:ext cx="686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lain text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 nurse hates s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Po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The_ART nurse_N hates_V scars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2C2-CF5B-4579-928D-F206BD600E7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1317240" y="2133720"/>
            <a:ext cx="686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lain text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 nurse hates s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o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_ART nurse_N hates_V scars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Pars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 [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The_</a:t>
            </a:r>
            <a:r>
              <a:rPr b="0" lang="en-US" sz="2400" spc="-1" strike="noStrike">
                <a:solidFill>
                  <a:srgbClr val="42ad37"/>
                </a:solidFill>
                <a:latin typeface="Lucida Sans Unicode"/>
                <a:ea typeface="Lucida Sans Unicode"/>
              </a:rPr>
              <a:t>ART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 nurse_</a:t>
            </a:r>
            <a:r>
              <a:rPr b="0" lang="en-US" sz="2400" spc="-1" strike="noStrike">
                <a:solidFill>
                  <a:srgbClr val="42ad37"/>
                </a:solidFill>
                <a:latin typeface="Lucida Sans Unicode"/>
                <a:ea typeface="Lucida Sans Unicode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]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_</a:t>
            </a:r>
            <a:r>
              <a:rPr b="0" lang="en-US" sz="2400" spc="-1" strike="noStrike">
                <a:solidFill>
                  <a:srgbClr val="42ad37"/>
                </a:solidFill>
                <a:latin typeface="Lucida Sans Unicode"/>
                <a:ea typeface="Lucida Sans Unicode"/>
              </a:rPr>
              <a:t>NP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hates_</a:t>
            </a:r>
            <a:r>
              <a:rPr b="0" lang="en-US" sz="2400" spc="-1" strike="noStrike">
                <a:solidFill>
                  <a:srgbClr val="42ad37"/>
                </a:solidFill>
                <a:latin typeface="Lucida Sans Unicode"/>
                <a:ea typeface="Lucida Sans Unicode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scars_</a:t>
            </a:r>
            <a:r>
              <a:rPr b="0" lang="en-US" sz="2400" spc="-1" strike="noStrike">
                <a:solidFill>
                  <a:srgbClr val="42ad37"/>
                </a:solidFill>
                <a:latin typeface="Lucida Sans Unicode"/>
                <a:ea typeface="Lucida Sans Unicode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]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_</a:t>
            </a:r>
            <a:r>
              <a:rPr b="0" lang="en-US" sz="2400" spc="-1" strike="noStrike">
                <a:solidFill>
                  <a:srgbClr val="42ad37"/>
                </a:solidFill>
                <a:latin typeface="Lucida Sans Unicode"/>
                <a:ea typeface="Lucida Sans Unicode"/>
              </a:rPr>
              <a:t>NP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]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_</a:t>
            </a:r>
            <a:r>
              <a:rPr b="0" lang="en-US" sz="2400" spc="-1" strike="noStrike">
                <a:solidFill>
                  <a:srgbClr val="42ad37"/>
                </a:solidFill>
                <a:latin typeface="Lucida Sans Unicode"/>
                <a:ea typeface="Lucida Sans Unicode"/>
              </a:rPr>
              <a:t>VP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]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_</a:t>
            </a:r>
            <a:r>
              <a:rPr b="0" lang="en-US" sz="2400" spc="-1" strike="noStrike">
                <a:solidFill>
                  <a:srgbClr val="42ad37"/>
                </a:solidFill>
                <a:latin typeface="Lucida Sans Unicode"/>
                <a:ea typeface="Lucida Sans Unicod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74D-EA39-44AB-8855-73E07DF8DB2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1317240" y="2133720"/>
            <a:ext cx="686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lain text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 nurse hates s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o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_ART nurse_N hates_V scars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rsed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 [The_ART nurse_N ]_N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 hates_V [ scars_N ]_NP ]_VP ]_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Gloss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The  nurse-Ø   hate-s     scar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42ad37"/>
                </a:solidFill>
                <a:latin typeface="Lucida Sans Unicode"/>
                <a:ea typeface="Lucida Sans Unicode"/>
              </a:rPr>
              <a:t>ART  nurse-SG hate-3SG scar-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181-70BA-4C23-82BE-650DA76F930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1317240" y="2133720"/>
            <a:ext cx="6866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lain text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 nurse hates s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o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_ART nurse_N hates_V scars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rsed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 [The_ART nurse_N ]_N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 hates_V [ scars_N ]_NP ]_VP ]_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lossed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  nurse-Ø   hate-s     scar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RT  nurse-SG hate-3SG scar-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Phono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θə nɜz heits skɑ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579-C6BE-4F97-9F04-9AF0C4A7D7E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1317240" y="2133720"/>
            <a:ext cx="6866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lain text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 nurse hates s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o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_ART nurse_N hates_V scars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rsed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 [The_ART nurse_N ]_N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 hates_V [ scars_N ]_NP ]_VP ]_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lossed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  nurse-Ø   hate-s     scar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RT  nurse-SG hate-3SG scar-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hon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θə nɜz heits skɑ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ho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θənɜzeitskɑ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B9B-F0B2-4963-837C-792C036F710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458280" y="2517840"/>
            <a:ext cx="834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Complete corpus vs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Annotation (tagged; parsed; glossed;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ery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language: formal language to 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BCB-693D-491B-8F7C-32201EC163A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514600"/>
            <a:ext cx="70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llection of pieces of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 ar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elec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rde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plicit linguistic criteri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 order to be used as a sample of the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54F-A042-4F34-A8AD-4807F19C37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624240" y="2243160"/>
            <a:ext cx="62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932-E58D-4945-AFB0-C297EBEFE02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24240" y="2243160"/>
            <a:ext cx="622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Word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604-35EC-4E8B-B2E6-A4CF1A7EB02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624240" y="2243160"/>
            <a:ext cx="622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ord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word for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E66-A668-4C41-8FBA-A29DD9D63A4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672840" y="2243160"/>
            <a:ext cx="763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ord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 form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on’t ca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at*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cat, cats, cattle, cate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27B-856B-413B-81CD-19DB7A5A526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750960" y="2243160"/>
            <a:ext cx="804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ord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 form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on’t ca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*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at, cats, cattle, cater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a+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cab, cad, cag, can, …, ca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B47-3AA2-4300-9050-B83C89FD3EC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676800" y="2243160"/>
            <a:ext cx="772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ord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 form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n’t care: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*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at, cats, cattle, cater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+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ab, cad, can, …, ca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R li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{b[aeiou]t}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bat, bet, bit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97C-2978-484F-915F-698342FE942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224316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ord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 form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n’t care: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*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at, cats, cattle, cater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+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ab, cad, can, …, ca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list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{b[aeiou]t}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bat, bet, bit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o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ut=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A6F-5B31-4D1E-AFD2-13AFD9B4892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676800" y="2243160"/>
            <a:ext cx="772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ord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 form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n’t care: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*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at, cats, cattle, cater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+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ab, cad, can, …, ca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list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{b[aeiou]t}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bat, bet, bit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t=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ast search at word leve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CD2-40EF-4A22-AF01-F0067889489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624240" y="2243160"/>
            <a:ext cx="622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entence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712-DF80-4B0E-82E6-D5A42CA44E2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624240" y="2243160"/>
            <a:ext cx="622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ntence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equence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o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C10-A563-4917-8BD0-8CE2CB64F5BF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2514600"/>
            <a:ext cx="70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llection of pieces of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 ar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elec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rde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plicit linguistic criteri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 order to be used as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ample of the langua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587-78DF-4E02-A37E-950724D474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24240" y="2243160"/>
            <a:ext cx="622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ntence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c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on’t care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og _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53A-9150-4919-B921-3004C782ED6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624240" y="2243160"/>
            <a:ext cx="622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ntence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c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n’t car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_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njunction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dog &amp;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156-90CF-4208-9D01-3301AAEEC9C6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>
            <a:off x="624240" y="2243160"/>
            <a:ext cx="622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ntence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c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n’t car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_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junction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og &amp;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isjunction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og v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E9D-39A5-4970-9DEE-40F0A17C82F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624240" y="2243160"/>
            <a:ext cx="622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ntence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c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n’t car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_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junction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og &amp;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junction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v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egation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og &amp; ¬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094-AA32-4755-A939-125399D0ECF0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624240" y="2243160"/>
            <a:ext cx="622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ntence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c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n’t car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_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junction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og &amp;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junction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v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on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&amp; ¬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text size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og &amp; food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8DD-AEAD-47DE-AE30-C49DAB23CA08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839880" y="2243160"/>
            <a:ext cx="791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ly related to corpus an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ntence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c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n’t car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_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junction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og &amp;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junction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v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on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&amp; ¬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ext siz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g &amp; food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Boolean expr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((dog* v cat*) &amp; (food) &amp; (¬drink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2B2-204F-4CD9-9F1C-CCD80AE7E50D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58280" y="2517840"/>
            <a:ext cx="834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Complete corpus vs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Annotation (tagged; parsed; glossed;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. 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por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D37-7F13-4E10-9089-E19DEF27A398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458280" y="2517840"/>
            <a:ext cx="834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Complete corpus vs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Annotation (tagged; parsed; glossed;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. 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por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facilities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Query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48D-1056-4F7C-B40B-B19E7466E5AB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58280" y="2517840"/>
            <a:ext cx="834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Complete corpus vs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Annotation (tagged; parsed; glossed;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. 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por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facilities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Query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E9F-2084-4886-B9AB-2DAD51D6172F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458280" y="2517840"/>
            <a:ext cx="834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Complete corpus vs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Annotation (tagged; parsed; glossed;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. 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por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facilities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Query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ata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314-9D9B-4BF6-B579-77ADF81B00AE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76360" y="1917720"/>
            <a:ext cx="6120000" cy="424800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‘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Language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057-E772-4DEF-BED4-6F947E7A74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>
            <a:off x="458280" y="2517840"/>
            <a:ext cx="834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Complete corpus vs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Annotation (tagged; parsed; glossed;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. 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por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facilities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Query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ata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ncor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BFF-24A4-463F-B4D6-AA0F1C457166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458280" y="2517840"/>
            <a:ext cx="8344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Complete corpus vs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Annotation (tagged; parsed; glossed;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. 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por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facilities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Query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ata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ncor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l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2FD-9055-47F3-93D1-D53526E9470B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1241280" y="3159000"/>
            <a:ext cx="63849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What’s in a corpus for a typolog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A2A-D2BF-4729-A744-AC80B1175956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730800" y="2286000"/>
            <a:ext cx="55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’s in a corpus for a typolog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5F6-7C26-4AC5-87A1-C83649DC8F7F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713160" y="2286000"/>
            <a:ext cx="766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’s in a corpus for a typolog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Generative tradi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rpus data (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-languag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) does not con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much to our insight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-languag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major objective of the linguistic enterpr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he only way to find out about it is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trosp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rammaticality judgement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6DF-CC61-4627-986A-F87236678695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37760" y="2206800"/>
            <a:ext cx="838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nce native speakers include lawyers, journalis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ynaecologists, school teachers, engineers, and a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f other specialists, it follows: (a) that no individual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e expected to have an adequate command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ole 'repertoire' (b) that no grammarian can de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equately the grammatical and stylistic propert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whole repertoire from his own unsup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sources: introspection as the sole guiding star is cl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uled 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vartvik and Quirk, 1980: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C89-4020-4571-BEC8-BBC3ECD2C15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509760" y="2278080"/>
            <a:ext cx="829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have two main observations to make. The first is tha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n't think there can be any corpora, however lar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at contain information about all of the areas of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exicon and grammar that I want to explore; all tha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ve seen are inadequate. The second observ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at every corpus that I've had a chance to exami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owever small, has taught me facts that I couldn'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agine finding out about in any oth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illmore, 1992: 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B57-C5FD-4ADD-AD07-425E28EE5079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1261080" y="20606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pora give 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C3D-1E96-4E17-B73E-8D6FDE583AFF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1261800" y="2060640"/>
            <a:ext cx="42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orpora give 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Frequency of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F41-8EA1-4DE4-9967-B1618A4AF151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1269360" y="2060640"/>
            <a:ext cx="521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orpora give 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requency of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.g. spoken versus written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937-BF22-4050-AB42-911D5A8B0B56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76360" y="1917720"/>
            <a:ext cx="6120000" cy="424800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00000" y="2276640"/>
            <a:ext cx="0" cy="40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7560" y="200196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‘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Language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72A-9729-4B13-AA03-AF59680E96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1615320" y="2060640"/>
            <a:ext cx="684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orpora give 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requency of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.g. spoken versus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different age groups: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                                        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GRAMMATIC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36D-7958-4619-BA6D-E69A3CE90651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1302120" y="2060640"/>
            <a:ext cx="477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orpora give 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Frequency of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Context / Discourse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426-19DB-4DB3-A182-0A1DD2351A71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1067040" y="2060640"/>
            <a:ext cx="562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orpora give 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Frequency of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Context / Discourse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Native speakers inacce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far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earlier stages (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dead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91D-B547-4942-A1A6-D215AC5EF531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"/>
          <p:cNvSpPr/>
          <p:nvPr/>
        </p:nvSpPr>
        <p:spPr>
          <a:xfrm>
            <a:off x="1317960" y="2060640"/>
            <a:ext cx="674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orpora give 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Frequency of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Context / Discourse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Native speakers inacce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far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earlier stages (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dead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Method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replication / verification /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580-C908-41D4-8B45-74ACDC1430F5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C4A-50B1-4C56-84A0-446CADDFF222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1249560" y="2060640"/>
            <a:ext cx="269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rallel corp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869-6767-4378-ABC8-77109D2EDE67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250280" y="206064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rallel corp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ranslations of one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13F-32E6-449B-A835-08DF8C645D92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"/>
          <p:cNvSpPr/>
          <p:nvPr/>
        </p:nvSpPr>
        <p:spPr>
          <a:xfrm>
            <a:off x="1250280" y="2060640"/>
            <a:ext cx="380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rallel corp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nslations of one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B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59C-50BE-451A-9FCD-9C26BC8CADE2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29840" y="2060640"/>
            <a:ext cx="54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arallel corp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ranslations of one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B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Le petit prince (St. Exup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46C-7100-4E6F-A5D4-E147DF4C8A23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"/>
          <p:cNvSpPr/>
          <p:nvPr/>
        </p:nvSpPr>
        <p:spPr>
          <a:xfrm>
            <a:off x="1329840" y="2060640"/>
            <a:ext cx="54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arallel corp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ranslations of one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B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Le petit prince (St. Exup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UN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727-6E2B-4B1D-996E-F103E080DB18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76360" y="1917720"/>
            <a:ext cx="6120000" cy="424800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00000" y="2276640"/>
            <a:ext cx="0" cy="40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630864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76480" y="57452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7560" y="200196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‘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Language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169-904D-49D0-B2A8-B2FA0B7B7A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1329840" y="2060640"/>
            <a:ext cx="54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arallel corp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ranslations of one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B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Le petit prince (St. Exup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UN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Harry P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5D0-0981-4758-B90C-9CDD64EEEF56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1329840" y="2060640"/>
            <a:ext cx="546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arallel corp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ranslations of one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B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Le petit prince (St. Exu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UN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Harry P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uff special (W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ä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hli &amp; Cyso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AA0-E665-4FEC-8245-A2F2EF295FB3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1269720" y="236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58B-3445-4125-A941-7524859D62A3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1245960" y="236052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mplex pre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F16-40FE-4195-874F-960EA429DD1E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1329480" y="2073240"/>
            <a:ext cx="35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mplex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096-C8A0-4373-9549-4080F0CB6D0E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329480" y="2073240"/>
            <a:ext cx="357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mplex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 term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ith respec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E65-AAF2-463A-A192-908AB6CD4C34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1329480" y="2073240"/>
            <a:ext cx="357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mplex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 term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ith respec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ru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81A-6EA3-4646-99B2-8B6348991DBC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1357920" y="2073240"/>
            <a:ext cx="394848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omplex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term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with respec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ru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.    [ in terms [ of NP ]</a:t>
            </a:r>
            <a:r>
              <a:rPr b="0" lang="en-GB" sz="2400" spc="-1" strike="noStrike" baseline="-20000">
                <a:solidFill>
                  <a:srgbClr val="ff0000"/>
                </a:solidFill>
                <a:latin typeface="Tahoma"/>
              </a:rPr>
              <a:t>P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]</a:t>
            </a:r>
            <a:r>
              <a:rPr b="0" lang="en-GB" sz="2400" spc="-1" strike="noStrike" baseline="-20000">
                <a:solidFill>
                  <a:srgbClr val="ff0000"/>
                </a:solidFill>
                <a:latin typeface="Tahoma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11C-C18A-4C98-AAB1-46C9A2AE38E6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1357920" y="2073240"/>
            <a:ext cx="394848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omplex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term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with respec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ru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.    [ in terms [ of NP ]</a:t>
            </a:r>
            <a:r>
              <a:rPr b="0" lang="en-GB" sz="2400" spc="-1" strike="noStrike" baseline="-20000">
                <a:solidFill>
                  <a:srgbClr val="ff0000"/>
                </a:solidFill>
                <a:latin typeface="Tahoma"/>
              </a:rPr>
              <a:t>P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]</a:t>
            </a:r>
            <a:r>
              <a:rPr b="0" lang="en-GB" sz="2400" spc="-1" strike="noStrike" baseline="-20000">
                <a:solidFill>
                  <a:srgbClr val="ff0000"/>
                </a:solidFill>
                <a:latin typeface="Tahoma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.    [ in_terms_of NP ]</a:t>
            </a:r>
            <a:r>
              <a:rPr b="0" lang="en-GB" sz="2400" spc="-1" strike="noStrike" baseline="-20000">
                <a:solidFill>
                  <a:srgbClr val="ff0000"/>
                </a:solidFill>
                <a:latin typeface="Tahoma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A90-E127-4703-ACC7-FDA6CE02BE98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"/>
          <p:cNvSpPr/>
          <p:nvPr/>
        </p:nvSpPr>
        <p:spPr>
          <a:xfrm>
            <a:off x="1300320" y="228924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Filled pauses: er, erm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518-E562-41AA-97CD-37B1AA63F7AF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76360" y="1916280"/>
            <a:ext cx="6120000" cy="424800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900000" y="2276640"/>
            <a:ext cx="0" cy="40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630864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76480" y="57452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200196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‘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Language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904200" y="230508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ahoma"/>
              </a:rPr>
              <a:t>∞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B69-7CDF-4DA2-B836-BE32350DEA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1259280" y="2289240"/>
            <a:ext cx="559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Filled pauses: er, erm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ery frequent in spoke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A63-1E6F-4C68-9719-C23A407C70F8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1259280" y="2289240"/>
            <a:ext cx="559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Filled pauses: er, erm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y frequent in spoke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y do they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95D-9924-445C-8036-688091E87047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1259280" y="2289240"/>
            <a:ext cx="559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Filled pauses: er, erm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y frequent in spoke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 do they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hes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677-E2AC-476F-B3AF-B2470205CE8E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259280" y="2289240"/>
            <a:ext cx="559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Filled pauses: er, erm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y frequent in spoke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 do they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hes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F8A-3C1E-47C6-97B3-7A7FC1A32D2C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1245960" y="2289240"/>
            <a:ext cx="732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Filled pauses: er, erm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y frequent in spoke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 do they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hes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flection of the cognitive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nderlying the production of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A1B-EC62-461E-8E6E-5F94B64B3AD1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946080" y="2289240"/>
            <a:ext cx="74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Within sentences these boundaries ar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ppropriate place to stop to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an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 major constituen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. ... This stopping pla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ypically marked by a filled p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lark &amp; Clark 1977: 267-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B56-844D-4778-BE2F-6E49B3BED5C7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946080" y="2289240"/>
            <a:ext cx="745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ithin sentences these boundaries ar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ppropriate place to stop to plan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xt major constituent. ... This stopping pla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ypically marked by a filled p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Clark &amp; Clark 1977: 267-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Filled pauses occur at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esser or medial syntac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boundaries (in addition to major boundaries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Biber et al. 1999: 105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E63-B24A-4F06-8787-364129A36C18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177840" y="2205000"/>
            <a:ext cx="805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ounty council thinks that ... it's a balan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pproach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lin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erm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with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ecretary of State'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viously stated wi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A78-1201-418E-ADFC-36734EFA17C4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4120" y="2205000"/>
            <a:ext cx="850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ounty council thinks that ... it's a balan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pproach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lin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erm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with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ecretary of State'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viously stated wi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Erm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in terms of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orcing people to have it, 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can't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&lt;pause&gt; 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omebody has to want 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look at the possi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677-090F-4D41-BD9D-12A6275E0881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-7200" y="2205000"/>
            <a:ext cx="938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ounty council thinks that ... it's a balan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pproach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lin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erm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with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ecretary of State'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viously stated wi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Erm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in terms of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orcing people to have it, 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can't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&lt;pause&gt; 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omebody has to want 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look at the possi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3) Yes, I readily accept that, er my general pro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connection with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he settlement pattern of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F65-990D-4CAD-A8EC-6B6A24F1EA75}" type="slidenum">
              <a:t>1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1916280"/>
            <a:ext cx="6120000" cy="424800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900000" y="2276640"/>
            <a:ext cx="0" cy="40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630864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76480" y="57452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7560" y="200196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Sample of the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904200" y="230508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ahoma"/>
              </a:rPr>
              <a:t>∞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3789360"/>
            <a:ext cx="28728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5300640"/>
            <a:ext cx="503280" cy="360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4221000"/>
            <a:ext cx="432000" cy="43200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2781360"/>
            <a:ext cx="288720" cy="4316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2637000"/>
            <a:ext cx="360360" cy="287280"/>
          </a:xfrm>
          <a:prstGeom prst="plus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C86-0AEF-4D56-AFEA-E253FE2E27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Pr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900000" y="1557360"/>
            <a:ext cx="7848720" cy="4946760"/>
            <a:chOff x="900000" y="1557360"/>
            <a:chExt cx="7848720" cy="4946760"/>
          </a:xfrm>
        </p:grpSpPr>
        <p:sp>
          <p:nvSpPr>
            <p:cNvPr id="625" name=""/>
            <p:cNvSpPr txBox="1"/>
            <p:nvPr/>
          </p:nvSpPr>
          <p:spPr>
            <a:xfrm>
              <a:off x="900000" y="1557360"/>
              <a:ext cx="7848720" cy="494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82320" y="2140560"/>
              <a:ext cx="6304320" cy="397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82320" y="5674680"/>
              <a:ext cx="630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82320" y="5232960"/>
              <a:ext cx="630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82320" y="4791600"/>
              <a:ext cx="630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282320" y="4349880"/>
              <a:ext cx="630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82320" y="3906720"/>
              <a:ext cx="630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82320" y="3465000"/>
              <a:ext cx="630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82320" y="3023640"/>
              <a:ext cx="630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82320" y="2581920"/>
              <a:ext cx="630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82320" y="2140560"/>
              <a:ext cx="630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82320" y="2140560"/>
              <a:ext cx="6304320" cy="3975480"/>
            </a:xfrm>
            <a:prstGeom prst="rect">
              <a:avLst/>
            </a:prstGeom>
            <a:noFill/>
            <a:ln w="6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53560" y="2670120"/>
              <a:ext cx="632160" cy="3445920"/>
            </a:xfrm>
            <a:prstGeom prst="rect">
              <a:avLst/>
            </a:prstGeom>
            <a:solidFill>
              <a:srgbClr val="00ff00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30000" y="6005160"/>
              <a:ext cx="632160" cy="110520"/>
            </a:xfrm>
            <a:prstGeom prst="rect">
              <a:avLst/>
            </a:prstGeom>
            <a:solidFill>
              <a:srgbClr val="ff9900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06800" y="6005160"/>
              <a:ext cx="630360" cy="110520"/>
            </a:xfrm>
            <a:prstGeom prst="rect">
              <a:avLst/>
            </a:prstGeom>
            <a:solidFill>
              <a:srgbClr val="ffff00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2160" y="2935440"/>
              <a:ext cx="631080" cy="3180600"/>
            </a:xfrm>
            <a:prstGeom prst="rect">
              <a:avLst/>
            </a:prstGeom>
            <a:solidFill>
              <a:srgbClr val="3366ff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82320" y="2140560"/>
              <a:ext cx="720" cy="397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49560" y="6116040"/>
              <a:ext cx="324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49560" y="5674680"/>
              <a:ext cx="324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49560" y="5232960"/>
              <a:ext cx="324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49560" y="4791600"/>
              <a:ext cx="324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49560" y="4349880"/>
              <a:ext cx="324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49560" y="3906720"/>
              <a:ext cx="324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49560" y="3465000"/>
              <a:ext cx="324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49560" y="3023640"/>
              <a:ext cx="324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49560" y="2581920"/>
              <a:ext cx="324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49560" y="2140560"/>
              <a:ext cx="324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282320" y="6116040"/>
              <a:ext cx="630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282320" y="6116040"/>
              <a:ext cx="7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858400" y="6116040"/>
              <a:ext cx="7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4435560" y="6116040"/>
              <a:ext cx="7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010560" y="6116040"/>
              <a:ext cx="7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586640" y="6116040"/>
              <a:ext cx="7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66760" y="2659320"/>
              <a:ext cx="243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number of occurrences (n = 31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43720" y="60534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83240" y="561204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83240" y="517032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83240" y="472788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83240" y="428832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21320" y="384660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21320" y="340344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1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21320" y="296100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1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21320" y="252108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1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21320" y="207972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1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10080" y="6210720"/>
              <a:ext cx="52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Before C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084120" y="6210720"/>
              <a:ext cx="119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Within CP: prenomi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56960" y="6210720"/>
              <a:ext cx="1250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Within CP: postnomi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587280" y="6210720"/>
              <a:ext cx="43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After C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49480" y="3490560"/>
              <a:ext cx="1363320" cy="1336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81240" y="3626640"/>
              <a:ext cx="61560" cy="62640"/>
            </a:xfrm>
            <a:prstGeom prst="rect">
              <a:avLst/>
            </a:prstGeom>
            <a:solidFill>
              <a:srgbClr val="00ff00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51080" y="3600360"/>
              <a:ext cx="52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Before C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81240" y="3960360"/>
              <a:ext cx="61560" cy="62280"/>
            </a:xfrm>
            <a:prstGeom prst="rect">
              <a:avLst/>
            </a:prstGeom>
            <a:solidFill>
              <a:srgbClr val="ff9900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31640" y="3936600"/>
              <a:ext cx="119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Within CP: prenomi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81240" y="4294440"/>
              <a:ext cx="61560" cy="62640"/>
            </a:xfrm>
            <a:prstGeom prst="rect">
              <a:avLst/>
            </a:prstGeom>
            <a:solidFill>
              <a:srgbClr val="ffff00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30200" y="4269240"/>
              <a:ext cx="1250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Within CP: postnomi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81240" y="4628160"/>
              <a:ext cx="61560" cy="62280"/>
            </a:xfrm>
            <a:prstGeom prst="rect">
              <a:avLst/>
            </a:prstGeom>
            <a:solidFill>
              <a:srgbClr val="3366ff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056840" y="4602600"/>
              <a:ext cx="43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After C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978-700E-4471-9FA6-8E5B754DB239}" type="slidenum">
              <a:t>1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Ger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1245960" y="2360520"/>
            <a:ext cx="348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lex pre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er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E36-8891-48EA-8B52-4458A44E4865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Ger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1353240" y="2360520"/>
            <a:ext cx="691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er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He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could have been being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inter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he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might have been being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under trea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18E-FB0A-45F8-B2B0-1C8E28D08892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Ger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1353240" y="2360520"/>
            <a:ext cx="691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er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He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could have been being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inter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he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might have been being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under trea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ow often in BN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DF4-54CD-4A9A-B326-1C625D932AF4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s: Ger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1353240" y="2360520"/>
            <a:ext cx="69166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er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He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could have been being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inter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he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might have been being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under trea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ow often in BNC?       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635-6240-4411-A277-B47B23C7686D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249560" y="236052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Diachro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587-96FA-4456-98A0-E655D408D50E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347840" y="2360520"/>
            <a:ext cx="365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Diachro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BNC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990 -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BE4-C447-4ED4-A1D1-69CE4D93E154}" type="slidenum">
              <a:t>1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1347840" y="2360520"/>
            <a:ext cx="365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Diachro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NC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990 -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OB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960 - 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76360" y="3571920"/>
            <a:ext cx="43164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0B3-ADF4-4E84-8896-2F5003835BD6}" type="slidenum">
              <a:t>1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1347840" y="2360520"/>
            <a:ext cx="365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Diachro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NC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990 -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OB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960 - 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BNC2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940 - 19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76360" y="3571920"/>
            <a:ext cx="43164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76360" y="4292640"/>
            <a:ext cx="43164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327-7D61-432C-97EC-26C80EC8C2E7}" type="slidenum">
              <a:t>1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1347840" y="2360520"/>
            <a:ext cx="365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Diachro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NC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990 -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OB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960 - 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NC2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940 - 19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BNC3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~ 1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76360" y="3571920"/>
            <a:ext cx="43164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76360" y="4292640"/>
            <a:ext cx="43164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5011560"/>
            <a:ext cx="4316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445-4133-4EAA-A919-D23AB3A0CF9B}" type="slidenum">
              <a:t>1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1916280"/>
            <a:ext cx="6120000" cy="424800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900000" y="2276640"/>
            <a:ext cx="0" cy="40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630864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76480" y="57452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7560" y="200196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Sample of the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904200" y="230508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ahoma"/>
              </a:rPr>
              <a:t>∞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3645000"/>
            <a:ext cx="1584360" cy="136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19640" y="4005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436572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465300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364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4005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364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0872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160000">
            <a:off x="5364000" y="277920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25D-ED0F-47F7-8D86-377320E9A1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rpus and Ty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>
            <a:off x="1347840" y="2360520"/>
            <a:ext cx="365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Diachro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NC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990 -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OB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960 - 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NC2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940 - 19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NC3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~ 1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476360" y="3571920"/>
            <a:ext cx="43164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476360" y="4292640"/>
            <a:ext cx="43164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476360" y="5010840"/>
            <a:ext cx="4316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19640" y="3141720"/>
            <a:ext cx="432000" cy="2592360"/>
          </a:xfrm>
          <a:custGeom>
            <a:avLst/>
            <a:gdLst>
              <a:gd name="textAreaLeft" fmla="*/ 0 w 432000"/>
              <a:gd name="textAreaRight" fmla="*/ 155880 w 432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08840" y="3284640"/>
            <a:ext cx="205056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ine-gr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h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C76-4DE3-4849-9670-A502C12B7DC1}" type="slidenum">
              <a:t>1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820-3A39-466B-86E3-2BFF9486222A}" type="slidenum">
              <a:t>1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>
            <a:off x="1331640" y="236052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ecision and Re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BBF-560A-4E1E-8F67-815497AE487F}" type="slidenum">
              <a:t>1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recision and 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1370520" y="2360520"/>
            <a:ext cx="62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at are the meaning and use of ‘will’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6DC-659E-4775-B6A8-125F599201B8}" type="slidenum">
              <a:t>1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recision and 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1370520" y="2360520"/>
            <a:ext cx="62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are the meaning and use of ‘will’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irst query: “will”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51,2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229-6994-4521-95C0-3FFCB3561554}" type="slidenum">
              <a:t>1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recision and 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1370520" y="2360520"/>
            <a:ext cx="621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 are the meaning and use of ‘will’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irst query: “will”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51,2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ut: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oun, proper noun, verb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207-8805-41B5-BC97-5C053284F732}" type="slidenum">
              <a:t>1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recision and 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1370520" y="2360520"/>
            <a:ext cx="621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 are the meaning and use of ‘will’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irst query: “will”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51,2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ut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un, proper noun, verb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econd query: “will=VM0”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244,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516720" y="3573360"/>
            <a:ext cx="287280" cy="935280"/>
          </a:xfrm>
          <a:prstGeom prst="downArrow">
            <a:avLst>
              <a:gd name="adj1" fmla="val 50000"/>
              <a:gd name="adj2" fmla="val 8139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0BA-84EF-48C2-AE31-C9DE3D263954}" type="slidenum">
              <a:t>1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r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1601640" y="2017800"/>
          <a:ext cx="6139080" cy="36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017800"/>
                    <a:ext cx="613908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1435680" y="56023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cision: 9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87280" y="5445000"/>
            <a:ext cx="288000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3A7-0224-4572-94BE-F9503415F8F2}" type="slidenum">
              <a:t>1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recision and 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1364040" y="236052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ut: is this all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FFF-F43B-4519-AD5F-ACA73D4BEEBF}" type="slidenum">
              <a:t>1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recision and 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1358280" y="2360520"/>
            <a:ext cx="286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: is this all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e’ll se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’ll reconsider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’ll have to go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7C8-EFD9-4AE1-9FE6-5D4ABED906F1}" type="slidenum">
              <a:t>1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76360" y="1916280"/>
            <a:ext cx="6120000" cy="424800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900000" y="2276640"/>
            <a:ext cx="0" cy="40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630864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76480" y="57452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7560" y="200196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Sample of the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04200" y="230508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ahoma"/>
              </a:rPr>
              <a:t>∞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3645000"/>
            <a:ext cx="1584360" cy="136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4005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436572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465300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64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4005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27640" y="364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1197000"/>
            <a:ext cx="1440000" cy="1944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ic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8181000">
            <a:off x="5722560" y="2709360"/>
            <a:ext cx="1873440" cy="287640"/>
          </a:xfrm>
          <a:prstGeom prst="rightArrow">
            <a:avLst>
              <a:gd name="adj1" fmla="val 50000"/>
              <a:gd name="adj2" fmla="val 1628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87E-1765-4A92-9148-2588EE5063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recision and 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1366920" y="2360520"/>
            <a:ext cx="570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ut: is this all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e’ll se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’ll reconsider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e’ll have to go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hird query: “’ll”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69,2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BC8-D0C1-46A7-98C9-83BF3960C628}" type="slidenum">
              <a:t>1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1131120" y="558972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all: 7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4360" y="5445000"/>
            <a:ext cx="287964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1601640" y="2017800"/>
          <a:ext cx="6066000" cy="35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017800"/>
                    <a:ext cx="606600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0D7-6D3D-4180-BF3F-716624ADBB99}" type="slidenum">
              <a:t>1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recision and 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349640" y="2360520"/>
            <a:ext cx="63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recision can be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calculated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(elim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012-12B0-4CAC-B4C5-1FF1D666AC7B}" type="slidenum">
              <a:t>1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recision and 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1349640" y="2360520"/>
            <a:ext cx="634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ision can b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alcula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elim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call can only b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esti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790-4BA5-41A4-B9B8-AF3E89148C2A}" type="slidenum">
              <a:t>1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recision and 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1350000" y="2360520"/>
            <a:ext cx="634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cision can be calculated (elim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call can only be esti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call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487-A8DE-4593-B2B1-43C2867DE750}" type="slidenum">
              <a:t>1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8" name=""/>
          <p:cNvSpPr/>
          <p:nvPr/>
        </p:nvSpPr>
        <p:spPr>
          <a:xfrm>
            <a:off x="1331640" y="2360520"/>
            <a:ext cx="3675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cision and Re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949-3DF2-4373-857F-5ECA80E142F7}" type="slidenum">
              <a:t>1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849240" y="24336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of cleft constr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AB3-D0AD-44C8-B663-F3F00614B8E5}" type="slidenum">
              <a:t>1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873720" y="2433600"/>
            <a:ext cx="76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of cleft constr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t is their interest you want, not their sympath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265-F471-4DC8-99ED-CCC25240F396}" type="slidenum">
              <a:t>1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873720" y="2433600"/>
            <a:ext cx="76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of cleft constr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t is their interest you want, not their sympath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s revie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.6 / 10,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C52-F2AD-43FC-9570-12ADA59B8880}" type="slidenum">
              <a:t>1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873720" y="2433600"/>
            <a:ext cx="76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of cleft constr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t is their interest you want, not their sympath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s revie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.6 / 10,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C57-C7D1-466E-872A-A66053CE5EB1}" type="slidenum">
              <a:t>1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4C3-82D1-4C96-90FB-6A73737ED6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2514600"/>
            <a:ext cx="70581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collection of pieces of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 are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selec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orde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explicit linguistic criteri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 order to be used as a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sample of the langua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F35-C3DB-4BE2-90D4-8F7DDBD20A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873720" y="2433600"/>
            <a:ext cx="76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of cleft constr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t is their interest you want, not their sympath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s revie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.6 / 10,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man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6.8 / 10,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646-BE71-4219-8706-77E72E0E431F}" type="slidenum">
              <a:t>2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873720" y="2433600"/>
            <a:ext cx="76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of cleft constr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t is their interest you want, not their sympath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s revie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.6 / 10,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man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6.8 / 10,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ut: acceptable way to comp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BD0-E587-4856-9263-AEB6B3C995C8}" type="slidenum">
              <a:t>2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2" name=""/>
          <p:cNvSpPr/>
          <p:nvPr/>
        </p:nvSpPr>
        <p:spPr>
          <a:xfrm>
            <a:off x="551160" y="243360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umber of 3-letter words per 10,000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AD8-6A20-4E35-A314-32C6D99C9ADE}" type="slidenum">
              <a:t>2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551160" y="2433600"/>
            <a:ext cx="679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3-letter words per 10,000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umber of present tenses 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2F3-7617-4C57-9B5A-D746FA50E1B0}" type="slidenum">
              <a:t>2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6" name=""/>
          <p:cNvSpPr/>
          <p:nvPr/>
        </p:nvSpPr>
        <p:spPr>
          <a:xfrm>
            <a:off x="473040" y="2433600"/>
            <a:ext cx="83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3-letter words per 10.000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umber of present tenses on number of tensed 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D26-B7A3-4A61-A98A-ECABAC0DF1AC}" type="slidenum">
              <a:t>2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473040" y="2433600"/>
            <a:ext cx="832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3-letter words per 10.000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present tenses on number of tensed 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umber of interrogative clauses 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296-727C-4D36-99E0-597281D54553}" type="slidenum">
              <a:t>2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66560" y="2433600"/>
            <a:ext cx="846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3-letter words per 10.000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present tenses on number of tensed 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umber of interrogative clauses on number of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982-7198-4E0C-BFE7-21BFF0B0D69B}" type="slidenum">
              <a:t>2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66560" y="2433600"/>
            <a:ext cx="84650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3-letter words per 10.000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present tenses on number of tensed 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interrogative clauses on number of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umber of times on number o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8EE-4F90-4FEE-BB16-F264B88DEDAD}" type="slidenum">
              <a:t>2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942480" y="2433600"/>
            <a:ext cx="66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e of cleft constr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ss review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7.6 / 10,000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omanc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6.8 / 10,000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ceptable way to comp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0C4-3A77-4021-98C4-B2DA8CA1DCA2}" type="slidenum">
              <a:t>2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942480" y="2433600"/>
            <a:ext cx="663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e of cleft constr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ss review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7.6 / 10,000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ean sl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21.7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omanc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6.8 / 10,000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ean sl: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1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D63-B271-4DBA-8659-90A4CA04DEF2}" type="slidenum">
              <a:t>2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514600"/>
            <a:ext cx="70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collection of pieces of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 are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selec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orde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explicit linguistic criteri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 order to be used as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presentativ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sample of the langua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D3E-04D1-4C74-995D-7970DDB7A2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826920" y="2433600"/>
            <a:ext cx="792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e of cleft constr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ss review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7.6 / 10,000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16.5 / 1000 sentenc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omanc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6.8 / 10,000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9.1 / 1000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705-ABC9-4581-9A71-63847B55F40F}" type="slidenum">
              <a:t>2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468360" y="2693880"/>
          <a:ext cx="3809880" cy="27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93880"/>
                    <a:ext cx="380988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DD6-72EC-44DD-AD10-A1A7927B76CC}" type="slidenum">
              <a:t>2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468360" y="2693880"/>
          <a:ext cx="3809880" cy="27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93880"/>
                    <a:ext cx="380988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4286160" y="2709720"/>
          <a:ext cx="3997440" cy="276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2709720"/>
                    <a:ext cx="399744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0DD-6F9F-4870-9A76-64CDEB357D14}" type="slidenum">
              <a:t>2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104480" y="2492280"/>
            <a:ext cx="71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nd now for some intuition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A13-1231-4A7E-A46E-3D20870DE703}" type="slidenum">
              <a:t>2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104480" y="2492280"/>
            <a:ext cx="717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nd now for some intuition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British national corpus (~ 100,000,000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ubcorpus spoken language (~ 10,000,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73D-D72E-4EB9-9B83-20419DC79BB9}" type="slidenum">
              <a:t>2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1336320" y="2308320"/>
            <a:ext cx="1448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E15-1A48-473F-A314-DA00401E4FE3}" type="slidenum">
              <a:t>2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1336320" y="2308320"/>
            <a:ext cx="4191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120-31C2-43A2-BF83-ED8F1041BE8F}" type="slidenum">
              <a:t>2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1336320" y="2308320"/>
            <a:ext cx="4191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8B2-BC1A-4EB4-AEB2-424B9A147747}" type="slidenum">
              <a:t>2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1336320" y="2308320"/>
            <a:ext cx="4191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FC7-85F6-4F75-8922-1B9D6BFA0FA7}" type="slidenum">
              <a:t>2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1336320" y="2308320"/>
            <a:ext cx="4191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9AD-D78C-42F9-A811-5B7CA75075FF}" type="slidenum">
              <a:t>2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2514600"/>
            <a:ext cx="70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collection of pieces of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 are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selec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orde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explicit linguistic criteri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 order to be used as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presentativ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sample of the langua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4005360"/>
            <a:ext cx="230508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72160" y="5059440"/>
            <a:ext cx="15476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Of 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F0E-7397-49CD-88AE-0CF1030EAA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1336320" y="2308320"/>
            <a:ext cx="1448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EE3-3488-442C-A543-C9F2A6C80EEC}" type="slidenum">
              <a:t>2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1392480" y="2308320"/>
            <a:ext cx="5644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NE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676  /  1,0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6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5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3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34D-C7FB-4B40-96BD-DE0C84AB6A8B}" type="slidenum">
              <a:t>2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1380960" y="2060640"/>
            <a:ext cx="682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 /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713-F258-4CF8-B091-A3651F13534B}" type="slidenum">
              <a:t>2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1380960" y="2060640"/>
            <a:ext cx="682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 /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698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6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193-BEB6-475C-8096-F316B45FA7B8}" type="slidenum">
              <a:t>2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1380960" y="2060640"/>
            <a:ext cx="682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 /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698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6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769-5B8C-49F9-9295-12BBF728738A}" type="slidenum">
              <a:t>2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1380960" y="2060640"/>
            <a:ext cx="682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 /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698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6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R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90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7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2A7-CD55-4C5F-B855-220EA217E2E2}" type="slidenum">
              <a:t>2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1380960" y="2060640"/>
            <a:ext cx="682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 /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698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6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R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90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7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1CE-9C0D-45CC-A313-8641D194A866}" type="slidenum">
              <a:t>2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1380960" y="2060640"/>
            <a:ext cx="682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 /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698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6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R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90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7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OUS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596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A9B-45CE-492E-A9A1-FE9D3F1B985C}" type="slidenum">
              <a:t>2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1380960" y="2060640"/>
            <a:ext cx="682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 /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698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6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R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90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7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OUS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596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2B9-6416-4426-945B-6C3ABC5BB380}" type="slidenum">
              <a:t>2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1380960" y="2060640"/>
            <a:ext cx="682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 /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698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6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R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90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7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OUS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596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OV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497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FCE-F63B-4085-8A74-CCE2C830DD31}" type="slidenum">
              <a:t>2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35400" y="20908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5BB-7B5B-4729-A314-42A294DCB3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1380960" y="2060640"/>
            <a:ext cx="682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 /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698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6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R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90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7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OUS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596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OV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497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36B-3A4A-4777-8F4F-8A55B8EFEA87}" type="slidenum">
              <a:t>2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1380960" y="2060640"/>
            <a:ext cx="682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 /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698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6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R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90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7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OUS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596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OV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497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JOB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291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3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729-FE8F-4C27-B346-76073C17F968}" type="slidenum">
              <a:t>2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uitions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1336320" y="2060640"/>
            <a:ext cx="693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 /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ONEY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5c325"/>
                </a:solidFill>
                <a:latin typeface="Tahoma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R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5c325"/>
                </a:solidFill>
                <a:latin typeface="Tahoma"/>
              </a:rPr>
              <a:t>HOUSE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OUS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CAR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OV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OV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5c325"/>
                </a:solidFill>
                <a:latin typeface="Tahoma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JOB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JOB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C80-5C8D-474B-A4A8-BB5DC993863D}" type="slidenum">
              <a:t>2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886200" y="2971800"/>
            <a:ext cx="100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01A-CC46-49D8-A371-C90142304AFD}" type="slidenum">
              <a:t>2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535400" y="2090880"/>
            <a:ext cx="39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a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7CA-CB54-4646-923F-7940C4DB44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566360" y="2090880"/>
            <a:ext cx="49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04B-7CE7-4878-A864-24F4344202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566360" y="2090880"/>
            <a:ext cx="498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ci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D30-CAF7-4F89-A87F-4BCCB7B4A9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566360" y="2090880"/>
            <a:ext cx="498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ci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g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D89-08EF-4933-960C-DA760011BD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566360" y="2090880"/>
            <a:ext cx="498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ci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g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1BE-694E-4209-AD8F-5DFFA3EA96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566360" y="2090880"/>
            <a:ext cx="49856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ci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g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105-ADE3-4A3D-9EEB-50A870E4AE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939240" y="2693880"/>
            <a:ext cx="37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 is a corp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70E-BE93-48FE-8B54-96D2C7D68A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566360" y="2090880"/>
            <a:ext cx="49856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ci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g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‘Clas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959-34D2-410F-B584-5E7E168D6E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566360" y="2090880"/>
            <a:ext cx="49856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ci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g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‘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las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ultilingu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F80-BB8A-4123-8C51-FBDCB30C75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566360" y="2090880"/>
            <a:ext cx="498564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ci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g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‘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las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ultilingu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985-1670-496D-B1F2-EE72B8BE90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592640" y="2090880"/>
            <a:ext cx="5680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cial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as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ultilingu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od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spoken; written; email; 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CEC-CC01-4FC7-A71F-E28065F1B7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592640" y="2090880"/>
            <a:ext cx="56804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cial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as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ultilingu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 (spoken; written; email; 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enre: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401-BFEC-4523-9188-282F070D19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13440" y="2090880"/>
            <a:ext cx="320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sport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advert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6A5-550D-467A-8F72-66EDB284A9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513440" y="2090880"/>
            <a:ext cx="320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port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advert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Tab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DA5-07E8-4E99-83C2-82D5BDA955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513440" y="2090880"/>
            <a:ext cx="320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port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advert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Tab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Romantic f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633-8B2B-4423-AC07-FC4EE4EE59A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563120" y="2090880"/>
            <a:ext cx="5820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port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advert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Tab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Romantic f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ewsreaders (written to be sp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3D2-E2F0-42C2-9A84-9A251E2342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563120" y="2090880"/>
            <a:ext cx="582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sport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advert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Tab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Romantic f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ewsreaders (written to be sp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Bi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C75-DAB1-425E-BAFC-0137FF0905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939240" y="2693880"/>
            <a:ext cx="372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a corp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xisting corp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8EF-1DB0-4718-A2C4-5042C84F07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563120" y="2090880"/>
            <a:ext cx="5820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port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advert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Tab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Romantic f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Newsreaders (written to be sp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i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Academic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DB4-8220-4774-AC06-E3713F0C9D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592640" y="2090880"/>
            <a:ext cx="568044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cial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as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ultilingu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 (spoken; written; email; 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111-5157-49CF-B4FA-147C99A47F7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592640" y="2090880"/>
            <a:ext cx="56804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cial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‘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las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ultilingu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e (spoken; written; email; 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urce (informal; newspapers;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082000" y="2085840"/>
            <a:ext cx="333000" cy="436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2819520"/>
            <a:ext cx="914400" cy="3733560"/>
          </a:xfrm>
          <a:custGeom>
            <a:avLst/>
            <a:gdLst>
              <a:gd name="textAreaLeft" fmla="*/ 0 w 914400"/>
              <a:gd name="textAreaRight" fmla="*/ 330120 w 91440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0C9-2CB1-4449-A1A6-431A8140214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618920" y="2090880"/>
            <a:ext cx="5413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presentative Of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lace (dialec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ime (synchrony vs diach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cial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‘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las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ultilingu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e (spoken; written; em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ource (informal; newspapers;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82000" y="2085840"/>
            <a:ext cx="333000" cy="436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2819520"/>
            <a:ext cx="914400" cy="3733560"/>
          </a:xfrm>
          <a:custGeom>
            <a:avLst/>
            <a:gdLst>
              <a:gd name="textAreaLeft" fmla="*/ 0 w 914400"/>
              <a:gd name="textAreaRight" fmla="*/ 330120 w 91440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682120" y="1916280"/>
            <a:ext cx="333000" cy="4667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c325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c325"/>
                </a:solidFill>
                <a:latin typeface="Courier New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c325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c325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c325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c325"/>
                </a:solidFill>
                <a:latin typeface="Courier New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c325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5c325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59640" y="4365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DBC-20C6-4D3F-8A30-E8A92FB3DD8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2514600"/>
            <a:ext cx="70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collection of pieces of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 are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selec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orde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explicit linguistic criteri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 order to be used as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presentativ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sample of the langua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4005360"/>
            <a:ext cx="230508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72160" y="5059440"/>
            <a:ext cx="15476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Of 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4360" y="4365720"/>
            <a:ext cx="1800360" cy="201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6720" y="5086440"/>
            <a:ext cx="503280" cy="5032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E22-0A9B-4B21-9F4D-BD3D7169CE8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2819520"/>
            <a:ext cx="4162320" cy="356868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816-9068-454F-B95E-630EB11C9E4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2832120"/>
            <a:ext cx="4162320" cy="356868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4495680"/>
            <a:ext cx="8384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4495680"/>
            <a:ext cx="838440" cy="99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49528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EFB-915E-4A2B-91DC-490D3A268BB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2832120"/>
            <a:ext cx="4162320" cy="356868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4495680"/>
            <a:ext cx="8384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4495680"/>
            <a:ext cx="838440" cy="99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8920" y="2031840"/>
            <a:ext cx="2179800" cy="161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- Place (dialect/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Time (synchrony vs diachron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Social parameter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G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Edu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‘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lass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ultilinguali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ode (spoken; written; emai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49528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10080" y="373392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62E-D445-4F04-98B7-3BC4F529E69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2832120"/>
            <a:ext cx="4162320" cy="3568680"/>
          </a:xfrm>
          <a:prstGeom prst="ellipse">
            <a:avLst/>
          </a:prstGeom>
          <a:solidFill>
            <a:srgbClr val="00e4a8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495680"/>
            <a:ext cx="8384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4495680"/>
            <a:ext cx="838440" cy="99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2031840"/>
            <a:ext cx="2179800" cy="161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- Place (dialect/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Time (synchrony vs diachron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Social parameter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G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Edu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‘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lass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ultilinguali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ode (spoken; written; emai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49528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1560" y="2155680"/>
            <a:ext cx="988920" cy="12733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373392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24382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A6C-E36A-4A09-B405-98124A530F2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7621560" y="2155680"/>
            <a:ext cx="988920" cy="12733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81680" y="24382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8920" y="2031840"/>
            <a:ext cx="2179800" cy="161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- Place (dialect/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Time (synchrony vs diachron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Social parameter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G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Edu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‘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lass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ultilinguali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ode (spoken; written; emai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34120" y="4562640"/>
            <a:ext cx="140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91520" y="2895480"/>
            <a:ext cx="7617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2743200"/>
            <a:ext cx="3200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56000" y="312408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666520" y="2666880"/>
            <a:ext cx="266724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4648320"/>
            <a:ext cx="1981080" cy="380880"/>
          </a:xfrm>
          <a:prstGeom prst="leftArrow">
            <a:avLst>
              <a:gd name="adj1" fmla="val 50000"/>
              <a:gd name="adj2" fmla="val 1300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6C2-BE11-4A65-B214-744A1A8E8F6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01800" y="2693880"/>
            <a:ext cx="495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a corp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isting corp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eatures and deside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899-0EBE-4B38-88D7-5CFAF61D96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037520" y="2217600"/>
            <a:ext cx="36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anguage depend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A38B-397D-4FAF-BE3C-5D43E2E3B1C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1067040" y="2217600"/>
            <a:ext cx="6693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depend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assive associated with formal langu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rge set of formal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ntrol corpus of informa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55C-4118-4EC5-A0D9-B8C70E7264A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1067040" y="2217600"/>
            <a:ext cx="66938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anguage depend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ssive associated with formal langu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arge set of formal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trol corpus of informa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re than one strate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different subcorpora of equal 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.g. spoken vs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F8B-13E6-498B-A03F-8CABFE06EB6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2206800" y="2352600"/>
            <a:ext cx="4039560" cy="2911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REPRESENT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9CA-ED46-4D26-AD51-A8756CFC6EA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v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2206800" y="2352600"/>
            <a:ext cx="4039560" cy="2911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REPRESENT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32000" y="2060640"/>
            <a:ext cx="7416720" cy="42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39640" y="2276640"/>
            <a:ext cx="8064720" cy="374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164-1E00-4181-8F3E-E4C0FBABB47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get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2514600"/>
            <a:ext cx="76176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41A-AD55-482C-B337-A403780FADF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get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4191120" y="2514600"/>
            <a:ext cx="76176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437920" y="2971800"/>
            <a:ext cx="1752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99480" y="3843360"/>
            <a:ext cx="1674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912-6405-499A-91B5-69CD5C791A7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get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2514600"/>
            <a:ext cx="76176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437920" y="2971800"/>
            <a:ext cx="1752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99480" y="3843360"/>
            <a:ext cx="1674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36280" y="3832200"/>
            <a:ext cx="1390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89548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DF5-29AF-42DA-8247-B53BF2CB8CA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get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2514600"/>
            <a:ext cx="76176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437920" y="2971800"/>
            <a:ext cx="1752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99480" y="3843360"/>
            <a:ext cx="1674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6280" y="3832200"/>
            <a:ext cx="1390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289548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72600" y="3816360"/>
            <a:ext cx="1390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3e1"/>
                </a:solidFill>
                <a:latin typeface="Tahoma"/>
              </a:rPr>
              <a:t>Ex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c03e1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3e1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E2A-B1E3-4520-B6F5-F22EB2B76CB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get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2514600"/>
            <a:ext cx="76176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437920" y="2971800"/>
            <a:ext cx="1752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99480" y="3843360"/>
            <a:ext cx="1674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cac6"/>
                </a:solidFill>
                <a:latin typeface="Tahoma"/>
              </a:rPr>
              <a:t>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cac6"/>
                </a:solidFill>
                <a:latin typeface="Tahoma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cac6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36280" y="3832200"/>
            <a:ext cx="1390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289548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72600" y="3816360"/>
            <a:ext cx="1390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cac6"/>
                </a:solidFill>
                <a:latin typeface="Tahoma"/>
              </a:rPr>
              <a:t>Ex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ecac6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cac6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3429000"/>
            <a:ext cx="2376360" cy="22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E68-7FDC-4DCF-9E74-89834522C67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54720" y="2693880"/>
            <a:ext cx="730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a corp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isting corp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atures and deside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 does a corpus give a typolog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7EF-6C8B-4F90-B355-AB4D962A63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116000" y="2514600"/>
            <a:ext cx="7058160" cy="289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llection of pieces of language that are selected and ordered according to explicit linguistic criteria in order to be used as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presentativ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ample of the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ter 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959-F044-4DA4-9C6B-463ECEDECE4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2514600"/>
            <a:ext cx="7058160" cy="271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igitaliz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llection of pieces of language that are selected and ordered according to explicit linguistic criteria in order to be used as a representative sample of the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ter 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749-B945-4142-963D-4EC39CF1197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116000" y="2514600"/>
            <a:ext cx="7058160" cy="271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igitaliz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llection of pieces of language that are selected and ordered according to explicit linguistic criteria in order to be used as a representative sample of the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ter 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676520" y="2971800"/>
            <a:ext cx="2133360" cy="2666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78880" y="5638680"/>
            <a:ext cx="44748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50A-987A-4352-AC91-679C5ADE322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116000" y="2514600"/>
            <a:ext cx="7058160" cy="271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igitaliz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llection of pieces of language that are selected and ordered according to explicit linguistic criteria in order to be used as a representative sample of the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ter 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83320" y="5443560"/>
            <a:ext cx="45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RGE SCAL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657600" y="3048120"/>
            <a:ext cx="380880" cy="2438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4C2-B9B0-4088-A9EF-4D3D1403279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116000" y="2514600"/>
            <a:ext cx="7058160" cy="271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igitaliz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llection of pieces of language that are selected and ordered according to explicit linguistic criteria in order to be used as a representat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ple of the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ter 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657600" y="3048120"/>
            <a:ext cx="380880" cy="2438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15720" y="548640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RGE SCAL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ARGE SCALE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36F-7BEB-48D9-8011-251A224D4B0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1116000" y="2514600"/>
            <a:ext cx="7058160" cy="271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igitaliz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llection of pieces of language that are selected and ordered according to explicit linguistic criteria in order to be used as a representat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ple of the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ter 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657600" y="3048120"/>
            <a:ext cx="380880" cy="2438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67440" y="562752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75480" y="5699160"/>
            <a:ext cx="212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Corpus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5720" y="548640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RGE SCAL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ARGE SCALE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3ED-4071-45BA-B07D-33EC76D07D6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E84-3E9D-4657-A6DC-A613296D9C8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722520" y="2395440"/>
            <a:ext cx="787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irst digitalized corpus of reasonable 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indhoven Corpus of Dutch (1975)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20.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786-FD90-4E55-9C48-F669BA0A2E4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722520" y="2395440"/>
            <a:ext cx="787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irst digitalized corpus of reasonable 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indhoven Corpus of Dutch (1975)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20.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en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spaper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in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mi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vel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pular-Scientif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ok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138-ACA5-4174-84A4-E8040C7F934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722520" y="2395440"/>
            <a:ext cx="787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irst digitalized corpus of reasonable 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indhoven Corpus of Dutch (1975)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20.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en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Newspaper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Opin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Fami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25c325"/>
                </a:solidFill>
                <a:latin typeface="Tahoma"/>
              </a:rPr>
              <a:t>6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Novel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Popular-Scientif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64000" y="4365720"/>
            <a:ext cx="647640" cy="1655640"/>
          </a:xfrm>
          <a:custGeom>
            <a:avLst/>
            <a:gdLst>
              <a:gd name="textAreaLeft" fmla="*/ 0 w 647640"/>
              <a:gd name="textAreaRight" fmla="*/ 234000 w 64764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A11-461B-4E02-BD6D-7E27457F17B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954720" y="2693880"/>
            <a:ext cx="7304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a corp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isting corp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atures and deside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does a corpus give a typolog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ome methodological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033-577A-4318-B6D9-4E7D88C43F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722520" y="2395440"/>
            <a:ext cx="787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irst digitalized corpus of reasonable 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indhoven Corpus of Dutch (1975)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20.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en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spaper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in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mi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vel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pular-Scientifi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ok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434340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64400" y="51055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800 pag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6E7-7F53-401A-841C-959D06EBE30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722520" y="2395440"/>
            <a:ext cx="78768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irst digitalized corpus of reasonable 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indhoven Corpus of Dutch (1975)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20.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ai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requency dictionnar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contemporary d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F3E-1BB6-403C-98BB-DD286130E7D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618120" y="21337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no 2007 …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0C6-F206-48E9-82C0-7AD21B4B8D0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773640" y="2133720"/>
            <a:ext cx="72316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no 2007 …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us Gesproken Nederland (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 Dutc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lands.let.kun.nl/cg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00 – 2004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0.000.000 tokens (=1000 hou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C25-D613-47F8-B0E2-35413F854A5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738360" y="2133720"/>
            <a:ext cx="79815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no 2007 …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us Gesproken Nederland (Spoken Du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lands.let.kun.nl/cg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00 – 2004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0.000.000 tokens (=1000 hou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itish National Corpus (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Writt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90%;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k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www.natcorp.ox.ac.u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91 – 1994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100.000.000 tok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522-9251-490C-9DA5-C573FE3B6AB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614880" y="2133720"/>
            <a:ext cx="62474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no 2007 …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us del Esp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l (Historical Spani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orpusdelespanol.org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00-1999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00.000.000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264-7240-477B-936E-45EC1E1ED7F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614880" y="2133720"/>
            <a:ext cx="624744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no 2007 …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us del Esp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l (Historical Spani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orpusdelespanol.org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00-1999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00.000.000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us IPI PAN (Poli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korpus.p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50.000.000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12A-8AE9-44FB-8B2F-BE1F0C8287F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977400" y="2133720"/>
            <a:ext cx="735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no 2007 …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FIS (written Ital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alphalinguistica.sns.it/CoLFIS/CoLFIS_Presentation.htm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500.000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2C7-08E2-4A23-9875-0AAC27BD859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977400" y="2133720"/>
            <a:ext cx="735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no 2007 …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FIS (written Ital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alphalinguistica.sns.it/CoLFIS/CoLFIS_Presentation.htm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500.000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Hindi, Urdu, Nepalese, Mandarin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8DE-07CA-4E1B-9519-CA94A9A6412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540360" y="21337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Fundamental problems for typologist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65B-6F41-47CA-8B67-CA4C514553B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2514600"/>
            <a:ext cx="70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collection of pieces of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 are selected and ordered accord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icit linguistic criteria in order to be used as a sample of the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D12-13D4-40BA-96DC-AB5D4BDBB2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557640" y="2133720"/>
            <a:ext cx="651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damental problems for typologis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availability corpus for sample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029-8CA6-410A-AE29-AC5E5D1F020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557640" y="2133720"/>
            <a:ext cx="65188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damental problems for typologis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availability corpus for sample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- knowledge of object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575-83C5-4CC3-AF59-4D6C9851082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: BN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B2D-C1C4-477B-BD08-BFBDB9F9D3B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: BN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1476360" y="2492280"/>
            <a:ext cx="2448000" cy="144720"/>
          </a:xfrm>
          <a:prstGeom prst="rect">
            <a:avLst/>
          </a:prstGeom>
          <a:solidFill>
            <a:srgbClr val="8c0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851280" y="2133360"/>
            <a:ext cx="180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99960" y="1906560"/>
            <a:ext cx="2681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to be 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059-B546-4881-80A0-156EA047E55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: BN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1476360" y="2492280"/>
            <a:ext cx="2448000" cy="144720"/>
          </a:xfrm>
          <a:prstGeom prst="rect">
            <a:avLst/>
          </a:prstGeom>
          <a:solidFill>
            <a:srgbClr val="8c0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76360" y="2637000"/>
            <a:ext cx="2448000" cy="144360"/>
          </a:xfrm>
          <a:prstGeom prst="rect">
            <a:avLst/>
          </a:prstGeom>
          <a:solidFill>
            <a:srgbClr val="d41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851280" y="2133360"/>
            <a:ext cx="180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2708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99960" y="1906560"/>
            <a:ext cx="2681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to be 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78360" y="2517840"/>
            <a:ext cx="2631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un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BD8-CEBD-4E74-AE10-3F5B5030E70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: BN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1476360" y="2492280"/>
            <a:ext cx="2448000" cy="144720"/>
          </a:xfrm>
          <a:prstGeom prst="rect">
            <a:avLst/>
          </a:prstGeom>
          <a:solidFill>
            <a:srgbClr val="8c0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76360" y="2637000"/>
            <a:ext cx="2448000" cy="144360"/>
          </a:xfrm>
          <a:prstGeom prst="rect">
            <a:avLst/>
          </a:prstGeom>
          <a:solidFill>
            <a:srgbClr val="d41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76360" y="2781360"/>
            <a:ext cx="2448000" cy="144360"/>
          </a:xfrm>
          <a:prstGeom prst="rect">
            <a:avLst/>
          </a:prstGeom>
          <a:solidFill>
            <a:srgbClr val="e06d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851280" y="2133360"/>
            <a:ext cx="180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2360" y="2708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51280" y="2781360"/>
            <a:ext cx="187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9960" y="1906560"/>
            <a:ext cx="2681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to be 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78360" y="2517840"/>
            <a:ext cx="2631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un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0600" y="3166920"/>
            <a:ext cx="231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1E1-8A0A-40CD-9C47-8E63A06D486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: BN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476360" y="2492280"/>
            <a:ext cx="2448000" cy="144720"/>
          </a:xfrm>
          <a:prstGeom prst="rect">
            <a:avLst/>
          </a:prstGeom>
          <a:solidFill>
            <a:srgbClr val="8c0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76360" y="2637000"/>
            <a:ext cx="2448000" cy="144360"/>
          </a:xfrm>
          <a:prstGeom prst="rect">
            <a:avLst/>
          </a:prstGeom>
          <a:solidFill>
            <a:srgbClr val="d41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76360" y="2565360"/>
            <a:ext cx="24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9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851280" y="2133360"/>
            <a:ext cx="180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92360" y="2708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2781360"/>
            <a:ext cx="187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9960" y="1906560"/>
            <a:ext cx="2681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to be 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78360" y="2517840"/>
            <a:ext cx="2631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un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0600" y="3166920"/>
            <a:ext cx="231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76360" y="2781360"/>
            <a:ext cx="2448000" cy="144360"/>
          </a:xfrm>
          <a:prstGeom prst="rect">
            <a:avLst/>
          </a:prstGeom>
          <a:solidFill>
            <a:srgbClr val="e06d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6AD-DEC8-4A87-A18E-DE1EDFC3C5C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: BN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1476360" y="2492280"/>
            <a:ext cx="2448000" cy="144720"/>
          </a:xfrm>
          <a:prstGeom prst="rect">
            <a:avLst/>
          </a:prstGeom>
          <a:solidFill>
            <a:srgbClr val="8c0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76360" y="2637000"/>
            <a:ext cx="2448000" cy="144360"/>
          </a:xfrm>
          <a:prstGeom prst="rect">
            <a:avLst/>
          </a:prstGeom>
          <a:solidFill>
            <a:srgbClr val="d41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76360" y="2781360"/>
            <a:ext cx="2448000" cy="144360"/>
          </a:xfrm>
          <a:prstGeom prst="rect">
            <a:avLst/>
          </a:prstGeom>
          <a:solidFill>
            <a:srgbClr val="e06d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76360" y="2924280"/>
            <a:ext cx="2448000" cy="504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0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851280" y="2133360"/>
            <a:ext cx="180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92360" y="2708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51280" y="2781360"/>
            <a:ext cx="187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64000" y="3141720"/>
            <a:ext cx="3095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99960" y="1906560"/>
            <a:ext cx="2681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to be 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78360" y="2517840"/>
            <a:ext cx="2631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un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90600" y="3166920"/>
            <a:ext cx="231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2160" y="3814920"/>
            <a:ext cx="106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76360" y="2565360"/>
            <a:ext cx="24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9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6EB-5DF2-46D6-8F28-853335E14BE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: BN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476360" y="2492280"/>
            <a:ext cx="2448000" cy="144720"/>
          </a:xfrm>
          <a:prstGeom prst="rect">
            <a:avLst/>
          </a:prstGeom>
          <a:solidFill>
            <a:srgbClr val="8c0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76360" y="2637000"/>
            <a:ext cx="2448000" cy="144360"/>
          </a:xfrm>
          <a:prstGeom prst="rect">
            <a:avLst/>
          </a:prstGeom>
          <a:solidFill>
            <a:srgbClr val="d41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76360" y="2781360"/>
            <a:ext cx="2448000" cy="144360"/>
          </a:xfrm>
          <a:prstGeom prst="rect">
            <a:avLst/>
          </a:prstGeom>
          <a:solidFill>
            <a:srgbClr val="e06d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76360" y="2924280"/>
            <a:ext cx="2448000" cy="504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0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3429000"/>
            <a:ext cx="2448000" cy="936720"/>
          </a:xfrm>
          <a:prstGeom prst="rect">
            <a:avLst/>
          </a:prstGeom>
          <a:solidFill>
            <a:srgbClr val="25c3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851280" y="2133360"/>
            <a:ext cx="180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92360" y="2708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51280" y="2781360"/>
            <a:ext cx="187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64000" y="3141720"/>
            <a:ext cx="3095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4005360"/>
            <a:ext cx="338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99960" y="1906560"/>
            <a:ext cx="2681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to be 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78360" y="2517840"/>
            <a:ext cx="2631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un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90600" y="3166920"/>
            <a:ext cx="231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52160" y="3814920"/>
            <a:ext cx="106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53240" y="4462560"/>
            <a:ext cx="1477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iod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76360" y="2565360"/>
            <a:ext cx="24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9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6AF-70D1-4011-A990-C6C9196CC41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corpus: BN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476360" y="2492280"/>
            <a:ext cx="2448000" cy="144720"/>
          </a:xfrm>
          <a:prstGeom prst="rect">
            <a:avLst/>
          </a:prstGeom>
          <a:solidFill>
            <a:srgbClr val="8c0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76360" y="2637000"/>
            <a:ext cx="2448000" cy="144360"/>
          </a:xfrm>
          <a:prstGeom prst="rect">
            <a:avLst/>
          </a:prstGeom>
          <a:solidFill>
            <a:srgbClr val="d41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76360" y="2781360"/>
            <a:ext cx="2448000" cy="144360"/>
          </a:xfrm>
          <a:prstGeom prst="rect">
            <a:avLst/>
          </a:prstGeom>
          <a:solidFill>
            <a:srgbClr val="e06d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76360" y="2924280"/>
            <a:ext cx="2448000" cy="504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0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76360" y="3429000"/>
            <a:ext cx="2448000" cy="936720"/>
          </a:xfrm>
          <a:prstGeom prst="rect">
            <a:avLst/>
          </a:prstGeom>
          <a:solidFill>
            <a:srgbClr val="25c3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476360" y="4365720"/>
            <a:ext cx="2448000" cy="1942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1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851280" y="2133360"/>
            <a:ext cx="180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92360" y="2708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51280" y="2781360"/>
            <a:ext cx="187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64000" y="3141720"/>
            <a:ext cx="3095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4005360"/>
            <a:ext cx="338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48000" y="5373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9960" y="1906560"/>
            <a:ext cx="2681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to be 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78360" y="2517840"/>
            <a:ext cx="2631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un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90600" y="3166920"/>
            <a:ext cx="231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ritten 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752160" y="3814920"/>
            <a:ext cx="106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53240" y="4462560"/>
            <a:ext cx="1477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iod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77360" y="5183280"/>
            <a:ext cx="912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76360" y="2565360"/>
            <a:ext cx="24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9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A66-D702-429A-B9AB-5FC4259EF3F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corp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2514600"/>
            <a:ext cx="70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orpus is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llection of pieces of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 are selected and ordered accord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icit linguistic criteria in order to be used as a sample of the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clair (1996: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1D6-C2EB-414B-95D9-F9463943D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E25-0AA3-4838-A759-B56E41BD9F1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58280" y="2517840"/>
            <a:ext cx="834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mponent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6F9-8E00-4C17-8892-70E6E90CAD4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 :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458280" y="2517840"/>
            <a:ext cx="834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ntent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of the corpus should b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known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he user in order for them to mak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inguistic interpretation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f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A68-8FAD-458C-83B1-19224A5BD8D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Si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458280" y="2517840"/>
            <a:ext cx="834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z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14B-4F04-4D98-9ADD-6E2EE8435B9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Si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458280" y="251784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ig is beautiful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790-18A0-49B9-9422-9EDE6122889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Si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458280" y="251784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ig is beautiful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?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YE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but quality &gt;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3A8-7DE9-4695-850B-BB6448D49A0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Si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458280" y="2517840"/>
            <a:ext cx="834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ig is beautiful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?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YE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but quality &gt;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in Eindhoven corpus (n = 720.00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dder, tap, doorknob, sink, gutter, bath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8EC-FDA2-47F9-8631-D0DD4A8499D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Si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503640" y="2517840"/>
            <a:ext cx="834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ig is beautiful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? 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YE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but quality &gt;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in Eindhoven corpus (n = 720.00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dder, tap, doorknob, sink, gutter, bath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nstructions: passive, raising, clefts, tags,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57F-EDB1-4128-B6DE-B8483F301E4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458280" y="2517840"/>
            <a:ext cx="834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. Complete corpus v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2F9-6DEB-4E9C-ABD7-C4F21C1C129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us features: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458280" y="2517840"/>
            <a:ext cx="834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mponents ( ~ representativenes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relevant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ze of corpus or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. Complete corpus vs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andom stretches vs complete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Corpo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E89-3A41-42EF-94D6-96F775F58BE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4:32:28Z</dcterms:created>
  <dc:creator>bakker</dc:creator>
  <dc:description/>
  <dc:language>en-US</dc:language>
  <cp:lastModifiedBy>Dik Bakker</cp:lastModifiedBy>
  <dcterms:modified xsi:type="dcterms:W3CDTF">2007-07-25T22:23:22Z</dcterms:modified>
  <cp:revision>1031</cp:revision>
  <dc:subject/>
  <dc:title>Semantic Parameters of the Grammaticalization of Agreement</dc:title>
</cp:coreProperties>
</file>