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24.xml.rels" ContentType="application/vnd.openxmlformats-package.relationships+xml"/>
  <Override PartName="/ppt/slides/_rels/slide196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95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94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75.xml.rels" ContentType="application/vnd.openxmlformats-package.relationships+xml"/>
  <Override PartName="/ppt/slides/_rels/slide180.xml.rels" ContentType="application/vnd.openxmlformats-package.relationships+xml"/>
  <Override PartName="/ppt/slides/_rels/slide6.xml.rels" ContentType="application/vnd.openxmlformats-package.relationships+xml"/>
  <Override PartName="/ppt/slides/_rels/slide176.xml.rels" ContentType="application/vnd.openxmlformats-package.relationships+xml"/>
  <Override PartName="/ppt/slides/_rels/slide99.xml.rels" ContentType="application/vnd.openxmlformats-package.relationships+xml"/>
  <Override PartName="/ppt/slides/_rels/slide2.xml.rels" ContentType="application/vnd.openxmlformats-package.relationships+xml"/>
  <Override PartName="/ppt/slides/_rels/slide168.xml.rels" ContentType="application/vnd.openxmlformats-package.relationships+xml"/>
  <Override PartName="/ppt/slides/_rels/slide40.xml.rels" ContentType="application/vnd.openxmlformats-package.relationships+xml"/>
  <Override PartName="/ppt/slides/_rels/slide177.xml.rels" ContentType="application/vnd.openxmlformats-package.relationships+xml"/>
  <Override PartName="/ppt/slides/_rels/slide3.xml.rels" ContentType="application/vnd.openxmlformats-package.relationships+xml"/>
  <Override PartName="/ppt/slides/_rels/slide120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8.xml.rels" ContentType="application/vnd.openxmlformats-package.relationships+xml"/>
  <Override PartName="/ppt/slides/_rels/slide14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89.xml.rels" ContentType="application/vnd.openxmlformats-package.relationships+xml"/>
  <Override PartName="/ppt/slides/_rels/slide166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99.xml.rels" ContentType="application/vnd.openxmlformats-package.relationships+xml"/>
  <Override PartName="/ppt/slides/_rels/slide27.xml.rels" ContentType="application/vnd.openxmlformats-package.relationships+xml"/>
  <Override PartName="/ppt/slides/_rels/slide179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22.xml.rels" ContentType="application/vnd.openxmlformats-package.relationships+xml"/>
  <Override PartName="/ppt/slides/_rels/slide156.xml.rels" ContentType="application/vnd.openxmlformats-package.relationships+xml"/>
  <Override PartName="/ppt/slides/_rels/slide178.xml.rels" ContentType="application/vnd.openxmlformats-package.relationships+xml"/>
  <Override PartName="/ppt/slides/_rels/slide17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18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83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21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131.xml.rels" ContentType="application/vnd.openxmlformats-package.relationships+xml"/>
  <Override PartName="/ppt/slides/_rels/slide17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149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53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51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9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132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02.xml.rels" ContentType="application/vnd.openxmlformats-package.relationships+xml"/>
  <Override PartName="/ppt/slides/_rels/slide25.xml.rels" ContentType="application/vnd.openxmlformats-package.relationships+xml"/>
  <Override PartName="/ppt/slides/_rels/slide197.xml.rels" ContentType="application/vnd.openxmlformats-package.relationships+xml"/>
  <Override PartName="/ppt/slides/_rels/slide93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85.xml.rels" ContentType="application/vnd.openxmlformats-package.relationships+xml"/>
  <Override PartName="/ppt/slides/_rels/slide13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125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83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24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95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94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2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50.xml" ContentType="application/vnd.openxmlformats-officedocument.presentationml.slide+xml"/>
  <Override PartName="/ppt/slides/slide149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8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29.xml" ContentType="application/vnd.openxmlformats-officedocument.presentationml.slide+xml"/>
  <Override PartName="/ppt/slides/slide197.xml" ContentType="application/vnd.openxmlformats-officedocument.presentationml.slide+xml"/>
  <Override PartName="/ppt/slides/slide157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98.xml" ContentType="application/vnd.openxmlformats-officedocument.presentationml.slide+xml"/>
  <Override PartName="/ppt/slides/slide158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99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47.xml" ContentType="application/vnd.openxmlformats-officedocument.presentationml.slide+xml"/>
  <Override PartName="/ppt/slides/slide146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9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16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  <p:sldId id="408" r:id="rId155"/>
    <p:sldId id="409" r:id="rId156"/>
    <p:sldId id="410" r:id="rId157"/>
    <p:sldId id="411" r:id="rId158"/>
    <p:sldId id="412" r:id="rId159"/>
    <p:sldId id="413" r:id="rId160"/>
    <p:sldId id="414" r:id="rId161"/>
    <p:sldId id="415" r:id="rId162"/>
    <p:sldId id="416" r:id="rId163"/>
    <p:sldId id="417" r:id="rId164"/>
    <p:sldId id="418" r:id="rId165"/>
    <p:sldId id="419" r:id="rId166"/>
    <p:sldId id="420" r:id="rId167"/>
    <p:sldId id="421" r:id="rId168"/>
    <p:sldId id="422" r:id="rId169"/>
    <p:sldId id="423" r:id="rId170"/>
    <p:sldId id="424" r:id="rId171"/>
    <p:sldId id="425" r:id="rId172"/>
    <p:sldId id="426" r:id="rId173"/>
    <p:sldId id="427" r:id="rId174"/>
    <p:sldId id="428" r:id="rId175"/>
    <p:sldId id="429" r:id="rId176"/>
    <p:sldId id="430" r:id="rId177"/>
    <p:sldId id="431" r:id="rId178"/>
    <p:sldId id="432" r:id="rId179"/>
    <p:sldId id="433" r:id="rId180"/>
    <p:sldId id="434" r:id="rId181"/>
    <p:sldId id="435" r:id="rId182"/>
    <p:sldId id="436" r:id="rId183"/>
    <p:sldId id="437" r:id="rId184"/>
    <p:sldId id="438" r:id="rId185"/>
    <p:sldId id="439" r:id="rId186"/>
    <p:sldId id="440" r:id="rId187"/>
    <p:sldId id="441" r:id="rId188"/>
    <p:sldId id="442" r:id="rId189"/>
    <p:sldId id="443" r:id="rId190"/>
    <p:sldId id="444" r:id="rId191"/>
    <p:sldId id="445" r:id="rId192"/>
    <p:sldId id="446" r:id="rId193"/>
    <p:sldId id="447" r:id="rId194"/>
    <p:sldId id="448" r:id="rId195"/>
    <p:sldId id="449" r:id="rId196"/>
    <p:sldId id="450" r:id="rId197"/>
    <p:sldId id="451" r:id="rId198"/>
    <p:sldId id="452" r:id="rId199"/>
    <p:sldId id="453" r:id="rId200"/>
    <p:sldId id="454" r:id="rId20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slide" Target="slides/slide153.xml"/><Relationship Id="rId156" Type="http://schemas.openxmlformats.org/officeDocument/2006/relationships/slide" Target="slides/slide154.xml"/><Relationship Id="rId157" Type="http://schemas.openxmlformats.org/officeDocument/2006/relationships/slide" Target="slides/slide155.xml"/><Relationship Id="rId158" Type="http://schemas.openxmlformats.org/officeDocument/2006/relationships/slide" Target="slides/slide156.xml"/><Relationship Id="rId159" Type="http://schemas.openxmlformats.org/officeDocument/2006/relationships/slide" Target="slides/slide157.xml"/><Relationship Id="rId160" Type="http://schemas.openxmlformats.org/officeDocument/2006/relationships/slide" Target="slides/slide158.xml"/><Relationship Id="rId161" Type="http://schemas.openxmlformats.org/officeDocument/2006/relationships/slide" Target="slides/slide159.xml"/><Relationship Id="rId162" Type="http://schemas.openxmlformats.org/officeDocument/2006/relationships/slide" Target="slides/slide160.xml"/><Relationship Id="rId163" Type="http://schemas.openxmlformats.org/officeDocument/2006/relationships/slide" Target="slides/slide161.xml"/><Relationship Id="rId164" Type="http://schemas.openxmlformats.org/officeDocument/2006/relationships/slide" Target="slides/slide162.xml"/><Relationship Id="rId165" Type="http://schemas.openxmlformats.org/officeDocument/2006/relationships/slide" Target="slides/slide163.xml"/><Relationship Id="rId166" Type="http://schemas.openxmlformats.org/officeDocument/2006/relationships/slide" Target="slides/slide164.xml"/><Relationship Id="rId167" Type="http://schemas.openxmlformats.org/officeDocument/2006/relationships/slide" Target="slides/slide165.xml"/><Relationship Id="rId168" Type="http://schemas.openxmlformats.org/officeDocument/2006/relationships/slide" Target="slides/slide166.xml"/><Relationship Id="rId169" Type="http://schemas.openxmlformats.org/officeDocument/2006/relationships/slide" Target="slides/slide167.xml"/><Relationship Id="rId170" Type="http://schemas.openxmlformats.org/officeDocument/2006/relationships/slide" Target="slides/slide168.xml"/><Relationship Id="rId171" Type="http://schemas.openxmlformats.org/officeDocument/2006/relationships/slide" Target="slides/slide169.xml"/><Relationship Id="rId172" Type="http://schemas.openxmlformats.org/officeDocument/2006/relationships/slide" Target="slides/slide170.xml"/><Relationship Id="rId173" Type="http://schemas.openxmlformats.org/officeDocument/2006/relationships/slide" Target="slides/slide171.xml"/><Relationship Id="rId174" Type="http://schemas.openxmlformats.org/officeDocument/2006/relationships/slide" Target="slides/slide172.xml"/><Relationship Id="rId175" Type="http://schemas.openxmlformats.org/officeDocument/2006/relationships/slide" Target="slides/slide173.xml"/><Relationship Id="rId176" Type="http://schemas.openxmlformats.org/officeDocument/2006/relationships/slide" Target="slides/slide174.xml"/><Relationship Id="rId177" Type="http://schemas.openxmlformats.org/officeDocument/2006/relationships/slide" Target="slides/slide175.xml"/><Relationship Id="rId178" Type="http://schemas.openxmlformats.org/officeDocument/2006/relationships/slide" Target="slides/slide176.xml"/><Relationship Id="rId179" Type="http://schemas.openxmlformats.org/officeDocument/2006/relationships/slide" Target="slides/slide177.xml"/><Relationship Id="rId180" Type="http://schemas.openxmlformats.org/officeDocument/2006/relationships/slide" Target="slides/slide178.xml"/><Relationship Id="rId181" Type="http://schemas.openxmlformats.org/officeDocument/2006/relationships/slide" Target="slides/slide179.xml"/><Relationship Id="rId182" Type="http://schemas.openxmlformats.org/officeDocument/2006/relationships/slide" Target="slides/slide180.xml"/><Relationship Id="rId183" Type="http://schemas.openxmlformats.org/officeDocument/2006/relationships/slide" Target="slides/slide181.xml"/><Relationship Id="rId184" Type="http://schemas.openxmlformats.org/officeDocument/2006/relationships/slide" Target="slides/slide182.xml"/><Relationship Id="rId185" Type="http://schemas.openxmlformats.org/officeDocument/2006/relationships/slide" Target="slides/slide183.xml"/><Relationship Id="rId186" Type="http://schemas.openxmlformats.org/officeDocument/2006/relationships/slide" Target="slides/slide184.xml"/><Relationship Id="rId187" Type="http://schemas.openxmlformats.org/officeDocument/2006/relationships/slide" Target="slides/slide185.xml"/><Relationship Id="rId188" Type="http://schemas.openxmlformats.org/officeDocument/2006/relationships/slide" Target="slides/slide186.xml"/><Relationship Id="rId189" Type="http://schemas.openxmlformats.org/officeDocument/2006/relationships/slide" Target="slides/slide187.xml"/><Relationship Id="rId190" Type="http://schemas.openxmlformats.org/officeDocument/2006/relationships/slide" Target="slides/slide188.xml"/><Relationship Id="rId191" Type="http://schemas.openxmlformats.org/officeDocument/2006/relationships/slide" Target="slides/slide189.xml"/><Relationship Id="rId192" Type="http://schemas.openxmlformats.org/officeDocument/2006/relationships/slide" Target="slides/slide190.xml"/><Relationship Id="rId193" Type="http://schemas.openxmlformats.org/officeDocument/2006/relationships/slide" Target="slides/slide191.xml"/><Relationship Id="rId194" Type="http://schemas.openxmlformats.org/officeDocument/2006/relationships/slide" Target="slides/slide192.xml"/><Relationship Id="rId195" Type="http://schemas.openxmlformats.org/officeDocument/2006/relationships/slide" Target="slides/slide193.xml"/><Relationship Id="rId196" Type="http://schemas.openxmlformats.org/officeDocument/2006/relationships/slide" Target="slides/slide194.xml"/><Relationship Id="rId197" Type="http://schemas.openxmlformats.org/officeDocument/2006/relationships/slide" Target="slides/slide195.xml"/><Relationship Id="rId198" Type="http://schemas.openxmlformats.org/officeDocument/2006/relationships/slide" Target="slides/slide196.xml"/><Relationship Id="rId199" Type="http://schemas.openxmlformats.org/officeDocument/2006/relationships/slide" Target="slides/slide197.xml"/><Relationship Id="rId200" Type="http://schemas.openxmlformats.org/officeDocument/2006/relationships/slide" Target="slides/slide198.xml"/><Relationship Id="rId201" Type="http://schemas.openxmlformats.org/officeDocument/2006/relationships/slide" Target="slides/slide199.xml"/><Relationship Id="rId20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69D1-E7A2-4737-8DC6-9F254076B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6ABC-F18E-414D-8CD8-2420DFA72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25D2-6CBD-4382-B5D8-45517CC7D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9254-907B-41F3-97AA-253BEED0C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BA82-6BAC-486D-B2A5-74D08FB5D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4E89-4890-4883-A162-2AB383999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65B5-E6DF-498A-BE79-4B352E05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AA4E-C370-41BC-846F-8995E223C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A275-F97E-4E12-A10A-498A4225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7269-8695-4808-83F1-CACA2BA61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08A9-DFA9-4231-AFFE-7A5351EE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D737-07DE-4568-B250-E3F9E0A6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1DDD0-A197-4110-B4A4-BD06941C3419}" type="slidenum">
              <a:rPr b="0" lang="nl-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2362320"/>
            <a:ext cx="84582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  <a:ea typeface="Times New Roman"/>
              </a:rPr>
              <a:t>Other </a:t>
            </a:r>
            <a:br>
              <a:rPr sz="4400"/>
            </a:br>
            <a:r>
              <a:rPr b="0" lang="en-GB" sz="4400" spc="-1" strike="noStrike">
                <a:solidFill>
                  <a:srgbClr val="3333cc"/>
                </a:solidFill>
                <a:latin typeface="Tahoma"/>
                <a:ea typeface="Times New Roman"/>
              </a:rPr>
              <a:t>Computer Applications</a:t>
            </a:r>
            <a:br>
              <a:rPr sz="4400"/>
            </a:br>
            <a:r>
              <a:rPr b="0" lang="en-GB" sz="4400" spc="-1" strike="noStrike">
                <a:solidFill>
                  <a:srgbClr val="3333cc"/>
                </a:solidFill>
                <a:latin typeface="Tahoma"/>
                <a:ea typeface="Times New Roman"/>
              </a:rPr>
              <a:t>in</a:t>
            </a:r>
            <a:br>
              <a:rPr sz="4400"/>
            </a:br>
            <a:r>
              <a:rPr b="0" lang="en-GB" sz="4400" spc="-1" strike="noStrike">
                <a:solidFill>
                  <a:srgbClr val="3333cc"/>
                </a:solidFill>
                <a:latin typeface="Tahoma"/>
                <a:ea typeface="Times New Roman"/>
              </a:rPr>
              <a:t>Typology</a:t>
            </a: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4952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Anna Siewierska &amp; Dik Bakk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A4DA-A3B6-4BB3-869A-3BB60CB3DC3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erence of univers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"/>
          <p:cNvSpPr/>
          <p:nvPr/>
        </p:nvSpPr>
        <p:spPr>
          <a:xfrm>
            <a:off x="1355760" y="2395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62120" y="2133720"/>
            <a:ext cx="63792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43040" y="2471760"/>
            <a:ext cx="8081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Greenberg (1963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1.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In declarative sentences with nominal su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and object, the dominant order is almost alw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one in which the subject precedes the o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UBSTANTIVE: (UNIVERSAL) 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3.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Languages with dominant VSO order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always preposit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IMPLICATIONAL: </a:t>
            </a: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VSO </a:t>
            </a:r>
            <a:r>
              <a:rPr b="1" lang="en-US" sz="2400" spc="-1" strike="noStrike">
                <a:solidFill>
                  <a:srgbClr val="00cc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 Pr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6074-63D6-4033-A3D9-6854B151A72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F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6" name=""/>
          <p:cNvSpPr/>
          <p:nvPr/>
        </p:nvSpPr>
        <p:spPr>
          <a:xfrm>
            <a:off x="288000" y="2200320"/>
            <a:ext cx="8776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urier New"/>
              </a:rPr>
              <a:t>Third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 run: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	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urier New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otential implication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138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ccepted implication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1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quivalence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bsolute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Statistical: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  1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8ACD-A9F5-4059-B6A5-684BF32C8BD0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F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8" name=""/>
          <p:cNvSpPr/>
          <p:nvPr/>
        </p:nvSpPr>
        <p:spPr>
          <a:xfrm>
            <a:off x="517320" y="2286000"/>
            <a:ext cx="7861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0000"/>
                </a:solidFill>
                <a:uFillTx/>
                <a:latin typeface="Courier New"/>
                <a:ea typeface="MS Mincho"/>
              </a:rPr>
              <a:t>OLD FRI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57.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DRY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RPO=4 =&gt;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DRY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REL=1    n=29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0.49 [5] - 0.73 [7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[Fr=0.486, Fa=0.983, Fc=0.655, Fn=0.511, chi2&lt;0.5%] STAT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Relationship between the Order of Objec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Verb-object and prepositional (VO&amp;Prep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=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Order of Relative Clause and Nou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Relative clause follows noun (NRel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EXC: cnt hak mnd squ tu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AD21-17A1-4676-814F-93BDECFC6888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F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0" name=""/>
          <p:cNvSpPr/>
          <p:nvPr/>
        </p:nvSpPr>
        <p:spPr>
          <a:xfrm>
            <a:off x="517320" y="2286000"/>
            <a:ext cx="7861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0000"/>
                </a:solidFill>
                <a:uFillTx/>
                <a:latin typeface="Courier New"/>
                <a:ea typeface="MS Mincho"/>
              </a:rPr>
              <a:t>OLD FRI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57.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DRY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RPO=4 =&gt;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DRY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REL=1    n=29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0.49 [5] - 0.73 [7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[Fr=0.486, Fa=0.983, Fc=0.655, Fn=0.511, chi2&lt;0.5%] STAT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Relationship between the Order of Objec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Verb-object and prepositional (VO&amp;Prep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=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Order of Relative Clause and Nou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Relative clause follows noun (NRel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EXC: cnt hak mnd squ tu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F1D3-43B2-4919-A1A9-A6592CBFF17A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F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2" name=""/>
          <p:cNvSpPr/>
          <p:nvPr/>
        </p:nvSpPr>
        <p:spPr>
          <a:xfrm>
            <a:off x="517320" y="2286000"/>
            <a:ext cx="7861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0000"/>
                </a:solidFill>
                <a:uFillTx/>
                <a:latin typeface="Courier New"/>
                <a:ea typeface="MS Mincho"/>
              </a:rPr>
              <a:t>OLD FRI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57.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DRY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RPO=4 =&gt;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DRY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REL=1    n=29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0.49 [5] - 0.73 [7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[Fr=0.486, Fa=0.983, Fc=0.655, Fn=0.511, chi2&lt;0.5%] STAT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Relationship between the Order of Objec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Verb-object and prepositional (VO&amp;Prep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=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cc00"/>
                </a:solidFill>
                <a:latin typeface="Courier New"/>
                <a:ea typeface="MS Mincho"/>
              </a:rPr>
              <a:t>Order of Relative Clause and Nou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cc00"/>
                </a:solidFill>
                <a:latin typeface="Courier New"/>
                <a:ea typeface="MS Mincho"/>
              </a:rPr>
              <a:t>Relative clause follows noun (NRel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EXC: cnt hak mnd squ tu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EC2B-89DC-4650-AE92-D9D33A77B6AD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F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"/>
          <p:cNvSpPr/>
          <p:nvPr/>
        </p:nvSpPr>
        <p:spPr>
          <a:xfrm>
            <a:off x="517320" y="2286000"/>
            <a:ext cx="7861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0000"/>
                </a:solidFill>
                <a:uFillTx/>
                <a:latin typeface="Courier New"/>
                <a:ea typeface="MS Mincho"/>
              </a:rPr>
              <a:t>OLD FRI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57.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DRY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RPO=4 =&gt;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DRY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REL=1    n=29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0.49 [5] - 0.73 [7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[Fr=0.486, Fa=0.983, Fc=0.655, Fn=0.511, chi2&lt;0.5%] STAT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Relationship between the Order of Objec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Verb-object and prepositional (VO&amp;Prep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=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cc00"/>
                </a:solidFill>
                <a:latin typeface="Courier New"/>
                <a:ea typeface="MS Mincho"/>
              </a:rPr>
              <a:t>Order of Relative Clause and Nou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cc00"/>
                </a:solidFill>
                <a:latin typeface="Courier New"/>
                <a:ea typeface="MS Mincho"/>
              </a:rPr>
              <a:t>Relative clause follows noun (NRel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EXC: cnt hak mnd squ tu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372360" y="4292640"/>
            <a:ext cx="431640" cy="1368360"/>
          </a:xfrm>
          <a:custGeom>
            <a:avLst/>
            <a:gdLst>
              <a:gd name="textAreaLeft" fmla="*/ 0 w 431640"/>
              <a:gd name="textAreaRight" fmla="*/ 155880 w 43164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7174080" y="4365720"/>
            <a:ext cx="936720" cy="119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M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7056-EC5D-4337-B75D-9B1B44EEF60D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F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"/>
          <p:cNvSpPr/>
          <p:nvPr/>
        </p:nvSpPr>
        <p:spPr>
          <a:xfrm>
            <a:off x="518760" y="2286000"/>
            <a:ext cx="8227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0000"/>
                </a:solidFill>
                <a:uFillTx/>
                <a:latin typeface="Courier New"/>
                <a:ea typeface="MS Mincho"/>
              </a:rPr>
              <a:t>OLD FRI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57.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DRY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RPO=4 =&gt;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DRY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REL=1    n=29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0.49 [5] - 0.73 [7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[Fr=0.486, 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MS Mincho"/>
              </a:rPr>
              <a:t>Fa=0.983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, Fc=0.655, Fn=0.511, chi2&lt;0.5%] STAT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Relationship between the Order of Objec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Verb-object and prepositional (VO&amp;Prep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=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Order of Relative Clause and Nou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Relative clause follows noun (NRel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MS Mincho"/>
              </a:rPr>
              <a:t>EXC: cnt hak mnd squ tuk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(= Ethnolog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059280" y="4076640"/>
            <a:ext cx="0" cy="2016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2D54-6E74-4CA4-A8EF-0EA47DA5F2F7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F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1" name=""/>
          <p:cNvSpPr/>
          <p:nvPr/>
        </p:nvSpPr>
        <p:spPr>
          <a:xfrm>
            <a:off x="520200" y="2286000"/>
            <a:ext cx="8684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0000"/>
                </a:solidFill>
                <a:uFillTx/>
                <a:latin typeface="Courier New"/>
                <a:ea typeface="MS Mincho"/>
              </a:rPr>
              <a:t>OLD FRI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57.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DRY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RPO=4 =&gt;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DRY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REL=1    n=29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0.49 [5] - 0.73 [7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[Fr=0.486, 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MS Mincho"/>
              </a:rPr>
              <a:t>Fa=0.983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, Fc=0.655, Fn=0.511, 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MS Mincho"/>
              </a:rPr>
              <a:t>chi2&lt;0.5%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]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STAT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Relationship between the Order of Objec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Verb-object and prepositional (VO&amp;Prep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=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Order of Relative Clause and Nou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Relative clause follows noun (NRel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MS Mincho"/>
              </a:rPr>
              <a:t>EXC: cnt hak mnd squ tu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059280" y="4076640"/>
            <a:ext cx="0" cy="2016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516720" y="3357720"/>
            <a:ext cx="1800360" cy="1079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20BB-3E12-4626-A627-F97D82A3C96C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F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5" name=""/>
          <p:cNvSpPr/>
          <p:nvPr/>
        </p:nvSpPr>
        <p:spPr>
          <a:xfrm>
            <a:off x="517320" y="2209680"/>
            <a:ext cx="7861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Courier New"/>
                <a:ea typeface="MS Mincho"/>
              </a:rPr>
              <a:t>NEW FRIEND?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99.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CYS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VRB=3 =&gt;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CYS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IND=3    n= 7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0.40 [5] - 0.60 [5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[Fr=0.395,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Fa=0.949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, Fc=0.625, Fn=0.628, chi2&lt;0.5%]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STAT</a:t>
            </a:r>
            <a:br>
              <a:rPr sz="1800"/>
            </a:b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Inclusive/Exclusive Distinction in Verb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No inclusive/exclusive opposi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=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Inclusive/Exclusive Distinction in Indep: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No inclusive/exclusive op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EXC: abk cle map mrd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A298-0BA9-4079-BA6E-B9B57E99223C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F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7" name=""/>
          <p:cNvSpPr/>
          <p:nvPr/>
        </p:nvSpPr>
        <p:spPr>
          <a:xfrm>
            <a:off x="517320" y="2209680"/>
            <a:ext cx="7861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Courier New"/>
                <a:ea typeface="MS Mincho"/>
              </a:rPr>
              <a:t>NEW FRIEND?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99.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CYS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VRB=3 =&gt;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CYS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IND=3    n= 7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0.40 [5] - 0.60 [5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[Fr=0.395,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Fa=0.949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, Fc=0.625, Fn=0.628, chi2&lt;0.5%]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STAT</a:t>
            </a:r>
            <a:br>
              <a:rPr sz="1800"/>
            </a:br>
            <a:br>
              <a:rPr sz="1800"/>
            </a:b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Inclusive/Exclusive Distinction in Verb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No inclusive/exclusive opposi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=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Inclusive/Exclusive Distinction in Indep: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No inclusive/exclusive op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EXC: abk cle map mrd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EC8E-1BD3-49F1-A3E2-2B632222B236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F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9" name=""/>
          <p:cNvSpPr/>
          <p:nvPr/>
        </p:nvSpPr>
        <p:spPr>
          <a:xfrm>
            <a:off x="517320" y="2209680"/>
            <a:ext cx="7861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Courier New"/>
                <a:ea typeface="MS Mincho"/>
              </a:rPr>
              <a:t>NEW FRIEND?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99.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CYS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VRB=3 =&gt;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CYS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IND=3    n= 7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0.40 [5] - 0.60 [5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[Fr=0.395,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Fa=0.949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, Fc=0.625, Fn=0.628, chi2&lt;0.5%]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STAT</a:t>
            </a:r>
            <a:br>
              <a:rPr sz="1800"/>
            </a:br>
            <a:br>
              <a:rPr sz="1800"/>
            </a:b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Inclusive/Exclusive Distinction in Verb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No inclusive/exclusive opposi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=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cc00"/>
                </a:solidFill>
                <a:latin typeface="Courier New"/>
                <a:ea typeface="MS Mincho"/>
              </a:rPr>
              <a:t>Inclusive/Exclusive Distinction in Indep:</a:t>
            </a:r>
            <a:br>
              <a:rPr sz="1800"/>
            </a:br>
            <a:r>
              <a:rPr b="1" lang="en-GB" sz="1800" spc="-1" strike="noStrike">
                <a:solidFill>
                  <a:srgbClr val="00cc00"/>
                </a:solidFill>
                <a:latin typeface="Courier New"/>
                <a:ea typeface="MS Mincho"/>
              </a:rPr>
              <a:t>No inclusive/exclusive op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EXC: abk cle map mrd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748A-38E6-4291-BAA2-7BB3C9802EF1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erence of univers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1355760" y="2395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62120" y="2133720"/>
            <a:ext cx="63792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14600" y="2471760"/>
            <a:ext cx="693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3.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Languages with dominant VSO order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always preposit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IMPLICATIONAL: </a:t>
            </a: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VSO </a:t>
            </a:r>
            <a:r>
              <a:rPr b="1" lang="en-US" sz="2400" spc="-1" strike="noStrike">
                <a:solidFill>
                  <a:srgbClr val="00cc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 Pr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7C77-21DD-4E8D-80C1-AA4DF02E17E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F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1" name=""/>
          <p:cNvSpPr/>
          <p:nvPr/>
        </p:nvSpPr>
        <p:spPr>
          <a:xfrm>
            <a:off x="517320" y="2209680"/>
            <a:ext cx="7861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Courier New"/>
                <a:ea typeface="MS Mincho"/>
              </a:rPr>
              <a:t>NEW FRIEND?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99.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CYS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VRB=3 =&gt;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CYS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IND=3    n= 7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0.40 [5] - 0.60 [5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[Fr=0.395,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Fa=0.949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, Fc=0.625, Fn=0.628, chi2&lt;0.5%]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STAT</a:t>
            </a:r>
            <a:br>
              <a:rPr sz="1800"/>
            </a:br>
            <a:br>
              <a:rPr sz="1800"/>
            </a:b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Inclusive/Exclusive Distinction in Verb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No inclusive/exclusive opposi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=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cc00"/>
                </a:solidFill>
                <a:latin typeface="Courier New"/>
                <a:ea typeface="MS Mincho"/>
              </a:rPr>
              <a:t>Inclusive/Exclusive Distinction in Indep:</a:t>
            </a:r>
            <a:br>
              <a:rPr sz="1800"/>
            </a:br>
            <a:r>
              <a:rPr b="1" lang="en-GB" sz="1800" spc="-1" strike="noStrike">
                <a:solidFill>
                  <a:srgbClr val="00cc00"/>
                </a:solidFill>
                <a:latin typeface="Courier New"/>
                <a:ea typeface="MS Mincho"/>
              </a:rPr>
              <a:t>No inclusive/exclusive op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EXC: abk cle map mrd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6372360" y="4149720"/>
            <a:ext cx="431640" cy="1368360"/>
          </a:xfrm>
          <a:custGeom>
            <a:avLst/>
            <a:gdLst>
              <a:gd name="textAreaLeft" fmla="*/ 0 w 431640"/>
              <a:gd name="textAreaRight" fmla="*/ 155880 w 43164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7167960" y="4219560"/>
            <a:ext cx="1520280" cy="119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00"/>
                </a:solidFill>
                <a:latin typeface="Tahoma"/>
              </a:rPr>
              <a:t>P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AGR M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87E7-16AB-4919-8921-197858AE92A8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F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5" name=""/>
          <p:cNvSpPr/>
          <p:nvPr/>
        </p:nvSpPr>
        <p:spPr>
          <a:xfrm>
            <a:off x="517320" y="2209680"/>
            <a:ext cx="7861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Courier New"/>
                <a:ea typeface="MS Mincho"/>
              </a:rPr>
              <a:t>NEW FRIEND?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99.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CYS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VRB=3 =&gt;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CYS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IND=3    n= 7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0.40 [5] - 0.60 [5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[Fr=0.395,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Fa=0.949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, Fc=0.625, Fn=0.628, chi2&lt;0.5%]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STAT</a:t>
            </a:r>
            <a:br>
              <a:rPr sz="1800"/>
            </a:br>
            <a:br>
              <a:rPr sz="1800"/>
            </a:b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Inclusive/Exclusive Distinction in Verb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No inclusive/exclusive opposi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=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cc00"/>
                </a:solidFill>
                <a:latin typeface="Courier New"/>
                <a:ea typeface="MS Mincho"/>
              </a:rPr>
              <a:t>Inclusive/Exclusive Distinction in Indep:</a:t>
            </a:r>
            <a:br>
              <a:rPr sz="1800"/>
            </a:br>
            <a:r>
              <a:rPr b="1" lang="en-GB" sz="1800" spc="-1" strike="noStrike">
                <a:solidFill>
                  <a:srgbClr val="00cc00"/>
                </a:solidFill>
                <a:latin typeface="Courier New"/>
                <a:ea typeface="MS Mincho"/>
              </a:rPr>
              <a:t>No inclusive/exclusive op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EXC: abk cle map mrd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372360" y="4149720"/>
            <a:ext cx="431640" cy="1368360"/>
          </a:xfrm>
          <a:custGeom>
            <a:avLst/>
            <a:gdLst>
              <a:gd name="textAreaLeft" fmla="*/ 0 w 431640"/>
              <a:gd name="textAreaRight" fmla="*/ 155880 w 43164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167960" y="4219560"/>
            <a:ext cx="1520280" cy="1922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00"/>
                </a:solidFill>
                <a:latin typeface="Tahoma"/>
              </a:rPr>
              <a:t>P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AGR M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LOS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708360" y="5877000"/>
            <a:ext cx="3095640" cy="216000"/>
          </a:xfrm>
          <a:prstGeom prst="rightArrow">
            <a:avLst>
              <a:gd name="adj1" fmla="val 50000"/>
              <a:gd name="adj2" fmla="val 358292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D2EF-CC0E-4CBB-8EE7-B0FB784DB87C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BUT 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0" name=""/>
          <p:cNvSpPr/>
          <p:nvPr/>
        </p:nvSpPr>
        <p:spPr>
          <a:xfrm>
            <a:off x="379440" y="2351160"/>
            <a:ext cx="8431200" cy="24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low frequ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e of the well-established universals at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Often between variables of one author/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B631-B653-4695-9E10-0AA78EFE6F14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F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2" name=""/>
          <p:cNvSpPr/>
          <p:nvPr/>
        </p:nvSpPr>
        <p:spPr>
          <a:xfrm>
            <a:off x="743760" y="2200320"/>
            <a:ext cx="6764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urier New"/>
              </a:rPr>
              <a:t>Fourth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 r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ll language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5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Variables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15 Author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pplicability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verage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levance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gation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i Square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.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DD41-CB35-45E8-96A6-2AFE456B5C7D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F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4" name=""/>
          <p:cNvSpPr/>
          <p:nvPr/>
        </p:nvSpPr>
        <p:spPr>
          <a:xfrm>
            <a:off x="517320" y="2209680"/>
            <a:ext cx="7861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8.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DRY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ADP=1 =&gt;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HAS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NEG=1    n= 8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0.51 [5] - 0.84 [4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[Fr=0.514, Fa=0.956, Fc=0.585, Fn=0.282, chi2&lt;0.5%] ST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Order of Adposition and Noun Phr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Postpos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=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Negative Indefinite Pronouns and Predicate nega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Negative indefinites co-occur with predic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EXC: brs geo oss yaq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D79D-5992-4B58-818F-0BE06D082BE6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F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6" name=""/>
          <p:cNvSpPr/>
          <p:nvPr/>
        </p:nvSpPr>
        <p:spPr>
          <a:xfrm>
            <a:off x="517320" y="2209680"/>
            <a:ext cx="7861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8.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DRY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ADP=1 =&gt;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HAS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NEG=1    n= 8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0.51 [5] - 0.84 [4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[Fr=0.514, Fa=0.956, Fc=0.585, Fn=0.282, chi2&lt;0.5%] ST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Order of Adposition and Noun Phr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Postpos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=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Negative Indefinite Pronouns and Predicate nega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Negative indefinites co-occur with predic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EXC: brs geo oss yaq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1042-5751-4C07-99FC-B2B98A149FE9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F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8" name=""/>
          <p:cNvSpPr/>
          <p:nvPr/>
        </p:nvSpPr>
        <p:spPr>
          <a:xfrm>
            <a:off x="517320" y="2209680"/>
            <a:ext cx="7861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8.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DRY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ADP=1 =&gt;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HAS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NEG=1    n= 8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0.51 [5] - 0.84 [4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[Fr=0.514, Fa=0.956, Fc=0.585, Fn=0.282, chi2&lt;0.5%] ST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Order of Adposition and Noun Phr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Postpos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=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cc00"/>
                </a:solidFill>
                <a:latin typeface="Courier New"/>
                <a:ea typeface="MS Mincho"/>
              </a:rPr>
              <a:t>Negative Indefinite Pronouns and Predicate nega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cc00"/>
                </a:solidFill>
                <a:latin typeface="Courier New"/>
                <a:ea typeface="MS Mincho"/>
              </a:rPr>
              <a:t>Negative indefinites co-occur with predic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EXC: brs geo oss yaq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C5F4-3C1B-46A5-9A0F-A7B82FC362D8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F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0" name=""/>
          <p:cNvSpPr/>
          <p:nvPr/>
        </p:nvSpPr>
        <p:spPr>
          <a:xfrm>
            <a:off x="517320" y="2209680"/>
            <a:ext cx="7861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12.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DRY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PRE=2 =&gt;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BIC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FUS=1    n= 59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0.43 [6] - 0.76 [7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[Fr=0.426, Fa=0.937, Fc=0.527, Fn=0.376, chi2&lt;0.5%] ST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Prefixing vs. Suffixing in Inflectiona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Predominantly suffix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=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Fusion of Selected Inflectional Forma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Exclusively concaten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EXC: ind kho ter tru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CA4E-A8C5-408D-AA12-79E5BB268F92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F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2" name=""/>
          <p:cNvSpPr/>
          <p:nvPr/>
        </p:nvSpPr>
        <p:spPr>
          <a:xfrm>
            <a:off x="517320" y="2209680"/>
            <a:ext cx="7861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12.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DRY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PRE=2 =&gt;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BIC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FUS=1    n= 59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0.43 [6] - 0.76 [7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[Fr=0.426, Fa=0.937, Fc=0.527, Fn=0.376, chi2&lt;0.5%] ST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Prefixing vs. Suffixing in Inflectiona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Predominantly suffix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=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Fusion of Selected Inflectional Forma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Exclusively concaten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EXC: ind kho ter tru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CF1F-FAF8-40AE-826E-47C72E50A167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F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4" name=""/>
          <p:cNvSpPr/>
          <p:nvPr/>
        </p:nvSpPr>
        <p:spPr>
          <a:xfrm>
            <a:off x="517320" y="2209680"/>
            <a:ext cx="7861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12.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DRY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PRE=2 =&gt;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BIC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FUS=1    n= 59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0.43 [6] - 0.76 [7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[Fr=0.426, Fa=0.937, Fc=0.527, Fn=0.376, chi2&lt;0.5%] ST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Prefixing vs. Suffixing in Inflectiona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Predominantly suffix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=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cc00"/>
                </a:solidFill>
                <a:latin typeface="Courier New"/>
                <a:ea typeface="MS Mincho"/>
              </a:rPr>
              <a:t>Fusion of Selected Inflectional Forma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cc00"/>
                </a:solidFill>
                <a:latin typeface="Courier New"/>
                <a:ea typeface="MS Mincho"/>
              </a:rPr>
              <a:t>Exclusively concaten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EXC: ind kho ter tru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050C-A834-4E05-88DF-3B3DF5DB7DBD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erence of univers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355760" y="2395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62120" y="2133720"/>
            <a:ext cx="63792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41600" y="2471760"/>
            <a:ext cx="693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3.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Languages with dominant VSO order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lways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preposit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IMPLICATIONAL 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olute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): </a:t>
            </a: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VSO </a:t>
            </a:r>
            <a:r>
              <a:rPr b="1" lang="en-US" sz="2400" spc="-1" strike="noStrike">
                <a:solidFill>
                  <a:srgbClr val="00cc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 Pr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FFC6-55EB-475A-9613-6F235E54C3A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F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6" name=""/>
          <p:cNvSpPr/>
          <p:nvPr/>
        </p:nvSpPr>
        <p:spPr>
          <a:xfrm>
            <a:off x="517320" y="2209680"/>
            <a:ext cx="7861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12.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DRY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PRE=2 =&gt;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BIC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FUS=1    n= 59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0.43 [6] - 0.76 [7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[Fr=0.426, Fa=0.937, Fc=0.527, Fn=0.376, chi2&lt;0.5%] ST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Prefixing vs. Suffixing in Inflectiona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Predominantly suffix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=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cc00"/>
                </a:solidFill>
                <a:latin typeface="Courier New"/>
                <a:ea typeface="MS Mincho"/>
              </a:rPr>
              <a:t>Fusion of Selected Inflectional Forma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cc00"/>
                </a:solidFill>
                <a:latin typeface="Courier New"/>
                <a:ea typeface="MS Mincho"/>
              </a:rPr>
              <a:t>Exclusively concatenative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(others: isolating / to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EXC: ind kho ter tru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B9AE-CBE7-49D5-9EA0-64395808CD3C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BUT 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8" name=""/>
          <p:cNvSpPr/>
          <p:nvPr/>
        </p:nvSpPr>
        <p:spPr>
          <a:xfrm>
            <a:off x="379440" y="2351160"/>
            <a:ext cx="8431200" cy="29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low frequ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e of the well-established universals at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ften between variables of one author/doma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Pure chance shows implications in any lar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DCB0-CA54-4E6B-81FB-B158D3A2BBA0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F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0" name=""/>
          <p:cNvSpPr/>
          <p:nvPr/>
        </p:nvSpPr>
        <p:spPr>
          <a:xfrm>
            <a:off x="1219680" y="2289240"/>
            <a:ext cx="202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LINF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Monte Car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C19E-D0EB-4545-B4DF-764A30A8D1D7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F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2" name=""/>
          <p:cNvSpPr/>
          <p:nvPr/>
        </p:nvSpPr>
        <p:spPr>
          <a:xfrm>
            <a:off x="1071720" y="2289240"/>
            <a:ext cx="6915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LINF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Monte Car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andom assignment values (same distribu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DD7C-FC9D-462C-87C4-A9CAFC21FBBD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F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4" name=""/>
          <p:cNvSpPr/>
          <p:nvPr/>
        </p:nvSpPr>
        <p:spPr>
          <a:xfrm>
            <a:off x="826920" y="2730600"/>
            <a:ext cx="759636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run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10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826920" y="3141720"/>
            <a:ext cx="763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69FA-1D0E-4CB2-86D8-DFC6C1E828E8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F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7" name=""/>
          <p:cNvSpPr/>
          <p:nvPr/>
        </p:nvSpPr>
        <p:spPr>
          <a:xfrm>
            <a:off x="826920" y="2730600"/>
            <a:ext cx="7596360" cy="119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run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Implications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202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52.3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(me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826920" y="3141720"/>
            <a:ext cx="763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32FD-5090-4681-AB72-E58F58864653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F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0" name=""/>
          <p:cNvSpPr/>
          <p:nvPr/>
        </p:nvSpPr>
        <p:spPr>
          <a:xfrm>
            <a:off x="826920" y="2730600"/>
            <a:ext cx="7596360" cy="2288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run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ications (mean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20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52.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. dev.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2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012000" y="2708280"/>
            <a:ext cx="0" cy="230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826920" y="3141720"/>
            <a:ext cx="763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3995640" y="2708280"/>
            <a:ext cx="0" cy="230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C543-22EF-4A06-B42F-09578C8197DF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F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5" name=""/>
          <p:cNvSpPr/>
          <p:nvPr/>
        </p:nvSpPr>
        <p:spPr>
          <a:xfrm>
            <a:off x="826920" y="2730600"/>
            <a:ext cx="7596360" cy="2288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run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ications (mean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20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52.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. dev.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2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6012000" y="2708280"/>
            <a:ext cx="0" cy="230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826920" y="3141720"/>
            <a:ext cx="763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95640" y="2708280"/>
            <a:ext cx="0" cy="230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486600" y="5529240"/>
            <a:ext cx="29908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75% are ‘real’ (??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A18D-2597-4F96-97DD-0B299EEE3C3F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BUT 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1" name=""/>
          <p:cNvSpPr/>
          <p:nvPr/>
        </p:nvSpPr>
        <p:spPr>
          <a:xfrm>
            <a:off x="379440" y="2351160"/>
            <a:ext cx="8431200" cy="31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low frequ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e of the well-established universals at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ften between variables of one author/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ure chance gives implications in any large DB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4000" spc="-1" strike="noStrike">
                <a:solidFill>
                  <a:srgbClr val="ff0000"/>
                </a:solidFill>
                <a:latin typeface="Tahoma"/>
              </a:rPr>
              <a:t>What is an interesting universa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35FE-B225-4A76-BE5A-32712E0B6447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3" name=""/>
          <p:cNvSpPr/>
          <p:nvPr/>
        </p:nvSpPr>
        <p:spPr>
          <a:xfrm>
            <a:off x="1355760" y="2395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662120" y="2133720"/>
            <a:ext cx="63792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314720" y="2266920"/>
            <a:ext cx="472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ference of univers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6C0D-5321-4448-9146-9297956298AB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erence of univers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1355760" y="2395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62120" y="2133720"/>
            <a:ext cx="63792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39800" y="2471760"/>
            <a:ext cx="7652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3.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Languages with dominant VSO order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lways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preposit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IMPLICATIONAL 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olute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): </a:t>
            </a: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VSO </a:t>
            </a:r>
            <a:r>
              <a:rPr b="1" lang="en-US" sz="2400" spc="-1" strike="noStrike">
                <a:solidFill>
                  <a:srgbClr val="00cc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 Pr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4.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With overwhelmingly greater than ch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frequency, languages with normal SOV ord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are postposit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03F0-EEE1-4D7C-88CC-2F4740CBB18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7" name=""/>
          <p:cNvSpPr/>
          <p:nvPr/>
        </p:nvSpPr>
        <p:spPr>
          <a:xfrm>
            <a:off x="1355760" y="2395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662120" y="2133720"/>
            <a:ext cx="63792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314720" y="2266920"/>
            <a:ext cx="4723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ference of univers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2. Lexical bor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F2C5-D074-4B5D-ACE7-5E1A73046E12}" type="slidenum">
              <a:t>1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Lexical Borrow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1" name=""/>
          <p:cNvSpPr/>
          <p:nvPr/>
        </p:nvSpPr>
        <p:spPr>
          <a:xfrm>
            <a:off x="1662120" y="2133720"/>
            <a:ext cx="63792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89C5-DB53-4043-B399-7E06B29ADABC}" type="slidenum">
              <a:t>1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Lexical Borrow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3" name=""/>
          <p:cNvSpPr/>
          <p:nvPr/>
        </p:nvSpPr>
        <p:spPr>
          <a:xfrm>
            <a:off x="1355760" y="2395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662120" y="2133720"/>
            <a:ext cx="63792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654480" y="2471760"/>
            <a:ext cx="750168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Borrowing Hypothe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Borrowing between languages is mai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motivated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on functional grounds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constrained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by formal aspects of L</a:t>
            </a:r>
            <a:r>
              <a:rPr b="1" lang="en-GB" sz="2400" spc="-1" strike="noStrike" baseline="-25000">
                <a:solidFill>
                  <a:srgbClr val="3333cc"/>
                </a:solidFill>
                <a:latin typeface="Tahoma"/>
              </a:rPr>
              <a:t>Target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and L</a:t>
            </a:r>
            <a:r>
              <a:rPr b="1" lang="en-GB" sz="2400" spc="-1" strike="noStrike" baseline="-25000">
                <a:solidFill>
                  <a:srgbClr val="3333cc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1A1A-3406-4780-AC30-3B9B1DA0AA0B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Lexical Borrow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7" name=""/>
          <p:cNvSpPr/>
          <p:nvPr/>
        </p:nvSpPr>
        <p:spPr>
          <a:xfrm>
            <a:off x="1355760" y="2395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1662120" y="2133720"/>
            <a:ext cx="63792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654480" y="2471760"/>
            <a:ext cx="750168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Borrowing Hypothe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Borrowing between languages is mai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motivated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on functional grounds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constrained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by formal aspects of L</a:t>
            </a:r>
            <a:r>
              <a:rPr b="1" lang="en-GB" sz="2400" spc="-1" strike="noStrike" baseline="-25000">
                <a:solidFill>
                  <a:srgbClr val="3333cc"/>
                </a:solidFill>
                <a:latin typeface="Tahoma"/>
              </a:rPr>
              <a:t>Target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and L</a:t>
            </a:r>
            <a:r>
              <a:rPr b="1" lang="en-GB" sz="2400" spc="-1" strike="noStrike" baseline="-25000">
                <a:solidFill>
                  <a:srgbClr val="3333cc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755640" y="4292640"/>
            <a:ext cx="1800360" cy="360360"/>
          </a:xfrm>
          <a:prstGeom prst="rightArrow">
            <a:avLst>
              <a:gd name="adj1" fmla="val 50000"/>
              <a:gd name="adj2" fmla="val 1249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00CF-DDDD-4031-AB2D-AD0E424B91DB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Lexical Borrow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2" name=""/>
          <p:cNvSpPr/>
          <p:nvPr/>
        </p:nvSpPr>
        <p:spPr>
          <a:xfrm>
            <a:off x="1355760" y="2395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1662120" y="2133720"/>
            <a:ext cx="63792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83560" y="2471760"/>
            <a:ext cx="8071920" cy="34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Borrowing Hypothe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Borrowing between languages is mai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motivated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on functional grounds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constrained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by formal aspects of L</a:t>
            </a:r>
            <a:r>
              <a:rPr b="1" lang="en-GB" sz="2400" spc="-1" strike="noStrike" baseline="-25000">
                <a:solidFill>
                  <a:srgbClr val="3333cc"/>
                </a:solidFill>
                <a:latin typeface="Tahoma"/>
              </a:rPr>
              <a:t>Source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and L</a:t>
            </a:r>
            <a:r>
              <a:rPr b="1" lang="en-GB" sz="2400" spc="-1" strike="noStrike" baseline="-25000">
                <a:solidFill>
                  <a:srgbClr val="3333cc"/>
                </a:solidFill>
                <a:latin typeface="Tahoma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What is borrowed and what not is co-determin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typological differences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between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55640" y="4292640"/>
            <a:ext cx="1800360" cy="360360"/>
          </a:xfrm>
          <a:prstGeom prst="rightArrow">
            <a:avLst>
              <a:gd name="adj1" fmla="val 50000"/>
              <a:gd name="adj2" fmla="val 1249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E483-148E-42B8-BCEA-47D8B980B08D}" type="slidenum">
              <a:t>1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Lexical Borrow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7" name=""/>
          <p:cNvSpPr/>
          <p:nvPr/>
        </p:nvSpPr>
        <p:spPr>
          <a:xfrm>
            <a:off x="1355760" y="2395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662120" y="2133720"/>
            <a:ext cx="63792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7280" y="3429000"/>
            <a:ext cx="1584360" cy="14400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518B-0EBF-4258-8344-E3E6028762A5}" type="slidenum">
              <a:t>1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Lexical Borrow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1" name=""/>
          <p:cNvSpPr/>
          <p:nvPr/>
        </p:nvSpPr>
        <p:spPr>
          <a:xfrm>
            <a:off x="1355760" y="2395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662120" y="2133720"/>
            <a:ext cx="63792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1187280" y="3429000"/>
            <a:ext cx="1584360" cy="14400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4859280" y="2205000"/>
            <a:ext cx="1152720" cy="108108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V="1">
            <a:off x="2698920" y="2852640"/>
            <a:ext cx="208908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4896-3405-4661-B34D-38A7CB27AB80}" type="slidenum">
              <a:t>1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Lexical Borrow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7" name=""/>
          <p:cNvSpPr/>
          <p:nvPr/>
        </p:nvSpPr>
        <p:spPr>
          <a:xfrm>
            <a:off x="1355760" y="2395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662120" y="2133720"/>
            <a:ext cx="63792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187280" y="3429000"/>
            <a:ext cx="1584360" cy="14400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859280" y="2205000"/>
            <a:ext cx="1152720" cy="108108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859280" y="3643200"/>
            <a:ext cx="1152720" cy="1081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V="1">
            <a:off x="2698920" y="2852640"/>
            <a:ext cx="208908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771640" y="422100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BAA1-CD74-4DCF-8D76-1939DCDD00CF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Lexical Borrow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5" name=""/>
          <p:cNvSpPr/>
          <p:nvPr/>
        </p:nvSpPr>
        <p:spPr>
          <a:xfrm>
            <a:off x="1355760" y="2395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1662120" y="2133720"/>
            <a:ext cx="63792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7280" y="3429000"/>
            <a:ext cx="1584360" cy="14400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859280" y="2205000"/>
            <a:ext cx="1152720" cy="108108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859280" y="3643200"/>
            <a:ext cx="1152720" cy="1081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859280" y="5084640"/>
            <a:ext cx="1152720" cy="10810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flipV="1">
            <a:off x="2698920" y="2852640"/>
            <a:ext cx="208908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771640" y="422100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482920" y="4724280"/>
            <a:ext cx="230508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B52C-A1AE-4CB5-BFC1-547631D476A6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Lexical Borrow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5" name=""/>
          <p:cNvSpPr/>
          <p:nvPr/>
        </p:nvSpPr>
        <p:spPr>
          <a:xfrm>
            <a:off x="1355760" y="2395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662120" y="2133720"/>
            <a:ext cx="63792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1187280" y="3429000"/>
            <a:ext cx="1584360" cy="14400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859280" y="2205000"/>
            <a:ext cx="1152720" cy="108108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859280" y="3643200"/>
            <a:ext cx="1152720" cy="1081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4859280" y="5084640"/>
            <a:ext cx="1152720" cy="10810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V="1">
            <a:off x="2698920" y="2852640"/>
            <a:ext cx="208908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2771640" y="422100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482920" y="4724280"/>
            <a:ext cx="230508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324080" y="5097600"/>
            <a:ext cx="1369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e4a8"/>
                </a:solidFill>
                <a:latin typeface="Tahoma"/>
              </a:rPr>
              <a:t>Span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470A-A61B-4BC9-BC8C-DEB42D1458C6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erence of univers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1355760" y="2395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62120" y="2133720"/>
            <a:ext cx="63792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9800" y="2471760"/>
            <a:ext cx="7652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3.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Languages with dominant VSO order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lways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preposit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IMPLICATIONAL 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olute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): </a:t>
            </a: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VSO </a:t>
            </a:r>
            <a:r>
              <a:rPr b="1" lang="en-US" sz="2400" spc="-1" strike="noStrike">
                <a:solidFill>
                  <a:srgbClr val="00cc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 Pr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4.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With overwhelmingly greater than ch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frequency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, languages with normal SOV ord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are postposit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IMPLICATIONAL 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istical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): </a:t>
            </a: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SOV </a:t>
            </a:r>
            <a:r>
              <a:rPr b="1" lang="en-US" sz="2400" spc="-1" strike="noStrike">
                <a:solidFill>
                  <a:srgbClr val="00cc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 P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0285-368B-4E4B-AF72-6CCCDF40524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Lexical Borrow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6" name=""/>
          <p:cNvSpPr/>
          <p:nvPr/>
        </p:nvSpPr>
        <p:spPr>
          <a:xfrm>
            <a:off x="1355760" y="2395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662120" y="2133720"/>
            <a:ext cx="63792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187280" y="3429000"/>
            <a:ext cx="1584360" cy="14400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859280" y="2205000"/>
            <a:ext cx="1152720" cy="108108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859280" y="3643200"/>
            <a:ext cx="1152720" cy="1081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859280" y="5084640"/>
            <a:ext cx="1152720" cy="10810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V="1">
            <a:off x="2698920" y="2852640"/>
            <a:ext cx="208908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2771640" y="422100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2482920" y="4724280"/>
            <a:ext cx="230508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324080" y="5097600"/>
            <a:ext cx="1369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e4a8"/>
                </a:solidFill>
                <a:latin typeface="Tahoma"/>
              </a:rPr>
              <a:t>Span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410880" y="2421000"/>
            <a:ext cx="1136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f01"/>
                </a:solidFill>
                <a:latin typeface="Tahoma"/>
              </a:rPr>
              <a:t>Oto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239520" y="3970440"/>
            <a:ext cx="1543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Quech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300360" y="5373720"/>
            <a:ext cx="1401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Guar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E76F-D14C-4BBF-A07E-07AA54F3D30D}" type="slidenum">
              <a:t>1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Lexical Borrow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0" name=""/>
          <p:cNvSpPr/>
          <p:nvPr/>
        </p:nvSpPr>
        <p:spPr>
          <a:xfrm>
            <a:off x="1355760" y="2395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1662120" y="2133720"/>
            <a:ext cx="63792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187280" y="3429000"/>
            <a:ext cx="1584360" cy="14400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4859280" y="2205000"/>
            <a:ext cx="1152720" cy="108108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4859280" y="3643200"/>
            <a:ext cx="1152720" cy="1081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859280" y="5084640"/>
            <a:ext cx="1152720" cy="10810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 flipV="1">
            <a:off x="2698920" y="2852640"/>
            <a:ext cx="208908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2771640" y="422100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2482920" y="4724280"/>
            <a:ext cx="230508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324080" y="5097600"/>
            <a:ext cx="1369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e4a8"/>
                </a:solidFill>
                <a:latin typeface="Tahoma"/>
              </a:rPr>
              <a:t>Span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410880" y="2421000"/>
            <a:ext cx="1136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f01"/>
                </a:solidFill>
                <a:latin typeface="Tahoma"/>
              </a:rPr>
              <a:t>Oto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6239520" y="3970440"/>
            <a:ext cx="1543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Quech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300360" y="5373720"/>
            <a:ext cx="1401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Guar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324000" y="1989000"/>
            <a:ext cx="8712000" cy="4319640"/>
          </a:xfrm>
          <a:prstGeom prst="ellipse">
            <a:avLst/>
          </a:prstGeom>
          <a:noFill/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2325240" y="2314440"/>
            <a:ext cx="21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 u="sng">
                <a:solidFill>
                  <a:srgbClr val="cc0099"/>
                </a:solidFill>
                <a:uFillTx/>
                <a:latin typeface="Tahoma"/>
              </a:rPr>
              <a:t>Latin Ame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C1C2-4131-42CB-8D11-D3D32A4E651D}" type="slidenum">
              <a:t>1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Lexical Borrow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6" name=""/>
          <p:cNvSpPr/>
          <p:nvPr/>
        </p:nvSpPr>
        <p:spPr>
          <a:xfrm>
            <a:off x="1355760" y="2395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1662120" y="2133720"/>
            <a:ext cx="63792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1187280" y="3429000"/>
            <a:ext cx="1584360" cy="14400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4859280" y="2205000"/>
            <a:ext cx="1152720" cy="108108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4859280" y="3643200"/>
            <a:ext cx="1152720" cy="1081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4859280" y="5084640"/>
            <a:ext cx="1152720" cy="10810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V="1">
            <a:off x="2698920" y="2852640"/>
            <a:ext cx="208908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771640" y="422100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482920" y="4724280"/>
            <a:ext cx="230508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324080" y="5097600"/>
            <a:ext cx="1369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e4a8"/>
                </a:solidFill>
                <a:latin typeface="Tahoma"/>
              </a:rPr>
              <a:t>Span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410880" y="2421000"/>
            <a:ext cx="1136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f01"/>
                </a:solidFill>
                <a:latin typeface="Tahoma"/>
              </a:rPr>
              <a:t>Oto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239520" y="3970440"/>
            <a:ext cx="1543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Quech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6300360" y="5373720"/>
            <a:ext cx="1401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Guar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804000" y="3068640"/>
            <a:ext cx="360360" cy="72072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804000" y="4508640"/>
            <a:ext cx="360360" cy="72072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FAFD-0C15-4BE3-B159-2F24F236EC41}" type="slidenum">
              <a:t>1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Lexical Borrow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2" name=""/>
          <p:cNvSpPr/>
          <p:nvPr/>
        </p:nvSpPr>
        <p:spPr>
          <a:xfrm>
            <a:off x="1355760" y="2395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1662120" y="2133720"/>
            <a:ext cx="63792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670320" y="2205000"/>
            <a:ext cx="16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Typolog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9880-56B8-4493-9AA2-A5FAEA77F558}" type="slidenum">
              <a:t>1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Lexical Borrow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6" name=""/>
          <p:cNvSpPr/>
          <p:nvPr/>
        </p:nvSpPr>
        <p:spPr>
          <a:xfrm>
            <a:off x="1355760" y="2395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1662120" y="2133720"/>
            <a:ext cx="63792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823320" y="2205000"/>
            <a:ext cx="544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Typolog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Spanish: SVO; prep; {V, N, Adj, Adv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404D-3F6B-4218-95B8-BEB14C1E50E8}" type="slidenum">
              <a:t>1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Lexical Borrow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0" name=""/>
          <p:cNvSpPr/>
          <p:nvPr/>
        </p:nvSpPr>
        <p:spPr>
          <a:xfrm>
            <a:off x="1355760" y="2395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1662120" y="2133720"/>
            <a:ext cx="63792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866520" y="2205000"/>
            <a:ext cx="5815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Typolog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panish: SVO; prep; {V, N, Adj, Adv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Otomi: VOS (+SVO); prep; {V, N}; N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9CD8-6EAE-45FC-AE9A-0D43A6E44D8E}" type="slidenum">
              <a:t>1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Lexical Borrow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4" name=""/>
          <p:cNvSpPr/>
          <p:nvPr/>
        </p:nvSpPr>
        <p:spPr>
          <a:xfrm>
            <a:off x="1355760" y="2395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1662120" y="2133720"/>
            <a:ext cx="63792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866520" y="2205000"/>
            <a:ext cx="5815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Typolog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panish: SVO; prep; {V, N, Adj, Adv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Otomi: VOS (+SVO); prep; {V, N}; N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Quechua: SOV; post; {V, non-V}; VE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3334-59D7-4C35-B5F9-AF3385C408C9}" type="slidenum">
              <a:t>1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Lexical Borrow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8" name=""/>
          <p:cNvSpPr/>
          <p:nvPr/>
        </p:nvSpPr>
        <p:spPr>
          <a:xfrm>
            <a:off x="1355760" y="2395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1662120" y="2133720"/>
            <a:ext cx="63792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925200" y="2205000"/>
            <a:ext cx="667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Typolog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panish: SVO; prep; {V, N, Adj, Adv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Otomi: VOS (+SVO); prep; {V, N}; N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Quechua: SOV; post; {V, non-V}; VE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Guarani: SVO (+free); post; {V, non-V}; VE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34DD-CFB9-435D-B059-5EBF60BEFDC1}" type="slidenum">
              <a:t>1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D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2" name=""/>
          <p:cNvSpPr/>
          <p:nvPr/>
        </p:nvSpPr>
        <p:spPr>
          <a:xfrm>
            <a:off x="0" y="2651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0" y="374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0590-712E-4A73-A24E-F54B4266BF30}" type="slidenum">
              <a:t>1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Data: </a:t>
            </a:r>
            <a:r>
              <a:rPr b="0" lang="nl-NL" sz="4400" spc="-1" strike="noStrike">
                <a:solidFill>
                  <a:srgbClr val="ff0000"/>
                </a:solidFill>
                <a:latin typeface="Tahoma"/>
              </a:rPr>
              <a:t>Otomí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5" name=""/>
          <p:cNvSpPr/>
          <p:nvPr/>
        </p:nvSpPr>
        <p:spPr>
          <a:xfrm>
            <a:off x="0" y="2651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0" y="374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7" name=""/>
          <p:cNvGraphicFramePr/>
          <p:nvPr/>
        </p:nvGraphicFramePr>
        <p:xfrm>
          <a:off x="826920" y="2193840"/>
          <a:ext cx="7772400" cy="2057400"/>
        </p:xfrm>
        <a:graphic>
          <a:graphicData uri="http://schemas.openxmlformats.org/drawingml/2006/table">
            <a:tbl>
              <a:tblPr/>
              <a:tblGrid>
                <a:gridCol w="2414880"/>
                <a:gridCol w="1630080"/>
                <a:gridCol w="1568520"/>
                <a:gridCol w="215892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ngu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eak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alec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ke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OTOM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10,5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2D86-009B-4ACE-BB24-4CC60B69B237}" type="slidenum">
              <a:t>1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erence of univers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1355760" y="2395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62120" y="2133720"/>
            <a:ext cx="63792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52280" y="5589720"/>
            <a:ext cx="190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VSO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Pr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(absolu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1E5F-FC98-4B6C-BF34-F54D3E56CAC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Data: </a:t>
            </a:r>
            <a:r>
              <a:rPr b="0" lang="nl-NL" sz="4400" spc="-1" strike="noStrike">
                <a:solidFill>
                  <a:srgbClr val="ff0000"/>
                </a:solidFill>
                <a:latin typeface="Tahoma"/>
              </a:rPr>
              <a:t>Quechu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9" name=""/>
          <p:cNvSpPr/>
          <p:nvPr/>
        </p:nvSpPr>
        <p:spPr>
          <a:xfrm>
            <a:off x="0" y="2651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0" name=""/>
          <p:cNvGraphicFramePr/>
          <p:nvPr/>
        </p:nvGraphicFramePr>
        <p:xfrm>
          <a:off x="836640" y="2276640"/>
          <a:ext cx="7551720" cy="2917800"/>
        </p:xfrm>
        <a:graphic>
          <a:graphicData uri="http://schemas.openxmlformats.org/drawingml/2006/table">
            <a:tbl>
              <a:tblPr/>
              <a:tblGrid>
                <a:gridCol w="2346120"/>
                <a:gridCol w="1582920"/>
                <a:gridCol w="1525680"/>
                <a:gridCol w="2097000"/>
              </a:tblGrid>
              <a:tr h="97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ngu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eak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alec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ke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OM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,5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QUECHU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9,7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66C7-6F95-43AB-AEAF-16ECF29972A9}" type="slidenum">
              <a:t>1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Data: </a:t>
            </a:r>
            <a:r>
              <a:rPr b="0" lang="nl-NL" sz="4400" spc="-1" strike="noStrike">
                <a:solidFill>
                  <a:srgbClr val="ff0000"/>
                </a:solidFill>
                <a:latin typeface="Tahoma"/>
              </a:rPr>
              <a:t>Guaran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42" name=""/>
          <p:cNvGraphicFramePr/>
          <p:nvPr/>
        </p:nvGraphicFramePr>
        <p:xfrm>
          <a:off x="826920" y="2122560"/>
          <a:ext cx="7772040" cy="4113720"/>
        </p:xfrm>
        <a:graphic>
          <a:graphicData uri="http://schemas.openxmlformats.org/drawingml/2006/table">
            <a:tbl>
              <a:tblPr/>
              <a:tblGrid>
                <a:gridCol w="2414160"/>
                <a:gridCol w="1629720"/>
                <a:gridCol w="1569600"/>
                <a:gridCol w="2158560"/>
              </a:tblGrid>
              <a:tr h="102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ngu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eak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alec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ke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OM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,5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ECHU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,7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GUARAN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7,8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EBAF-5A0A-4C9C-8B3F-27295FB33E8E}" type="slidenum">
              <a:t>1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3" name=""/>
          <p:cNvGrpSpPr/>
          <p:nvPr/>
        </p:nvGrpSpPr>
        <p:grpSpPr>
          <a:xfrm>
            <a:off x="609480" y="1981080"/>
            <a:ext cx="8305560" cy="4495680"/>
            <a:chOff x="609480" y="1981080"/>
            <a:chExt cx="8305560" cy="4495680"/>
          </a:xfrm>
        </p:grpSpPr>
        <p:grpSp>
          <p:nvGrpSpPr>
            <p:cNvPr id="1044" name=""/>
            <p:cNvGrpSpPr/>
            <p:nvPr/>
          </p:nvGrpSpPr>
          <p:grpSpPr>
            <a:xfrm>
              <a:off x="615960" y="1986840"/>
              <a:ext cx="8291520" cy="4482720"/>
              <a:chOff x="615960" y="1986840"/>
              <a:chExt cx="8291520" cy="4482720"/>
            </a:xfrm>
          </p:grpSpPr>
          <p:grpSp>
            <p:nvGrpSpPr>
              <p:cNvPr id="1045" name=""/>
              <p:cNvGrpSpPr/>
              <p:nvPr/>
            </p:nvGrpSpPr>
            <p:grpSpPr>
              <a:xfrm>
                <a:off x="615960" y="1986840"/>
                <a:ext cx="2805840" cy="974160"/>
                <a:chOff x="615960" y="1986840"/>
                <a:chExt cx="2805840" cy="974160"/>
              </a:xfrm>
            </p:grpSpPr>
            <p:sp>
              <p:nvSpPr>
                <p:cNvPr id="1046" name=""/>
                <p:cNvSpPr/>
                <p:nvPr/>
              </p:nvSpPr>
              <p:spPr>
                <a:xfrm>
                  <a:off x="678240" y="1986840"/>
                  <a:ext cx="2680920" cy="97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ntrevista corregida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(marzo 2004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615960" y="1986840"/>
                  <a:ext cx="2805840" cy="97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8" name=""/>
              <p:cNvGrpSpPr/>
              <p:nvPr/>
            </p:nvGrpSpPr>
            <p:grpSpPr>
              <a:xfrm>
                <a:off x="3422160" y="1986840"/>
                <a:ext cx="2678400" cy="974160"/>
                <a:chOff x="3422160" y="1986840"/>
                <a:chExt cx="2678400" cy="974160"/>
              </a:xfrm>
            </p:grpSpPr>
            <p:sp>
              <p:nvSpPr>
                <p:cNvPr id="1049" name=""/>
                <p:cNvSpPr/>
                <p:nvPr/>
              </p:nvSpPr>
              <p:spPr>
                <a:xfrm>
                  <a:off x="3484800" y="1986840"/>
                  <a:ext cx="2553120" cy="97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ntrevistada: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Juana Juárez Pérez (44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3422160" y="1986840"/>
                  <a:ext cx="2678400" cy="97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1" name=""/>
              <p:cNvGrpSpPr/>
              <p:nvPr/>
            </p:nvGrpSpPr>
            <p:grpSpPr>
              <a:xfrm>
                <a:off x="6100920" y="1986840"/>
                <a:ext cx="2806200" cy="974160"/>
                <a:chOff x="6100920" y="1986840"/>
                <a:chExt cx="2806200" cy="974160"/>
              </a:xfrm>
            </p:grpSpPr>
            <p:sp>
              <p:nvSpPr>
                <p:cNvPr id="1052" name=""/>
                <p:cNvSpPr/>
                <p:nvPr/>
              </p:nvSpPr>
              <p:spPr>
                <a:xfrm>
                  <a:off x="6163560" y="1986840"/>
                  <a:ext cx="2680200" cy="97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ntrevistador: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Oswaldo Chaparr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6100920" y="1986840"/>
                  <a:ext cx="2806200" cy="97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4" name=""/>
              <p:cNvGrpSpPr/>
              <p:nvPr/>
            </p:nvGrpSpPr>
            <p:grpSpPr>
              <a:xfrm>
                <a:off x="615960" y="2961360"/>
                <a:ext cx="4145400" cy="3508200"/>
                <a:chOff x="615960" y="2961360"/>
                <a:chExt cx="4145400" cy="3508200"/>
              </a:xfrm>
            </p:grpSpPr>
            <p:sp>
              <p:nvSpPr>
                <p:cNvPr id="1055" name=""/>
                <p:cNvSpPr/>
                <p:nvPr/>
              </p:nvSpPr>
              <p:spPr>
                <a:xfrm>
                  <a:off x="678240" y="2961360"/>
                  <a:ext cx="4020480" cy="350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Ar bätsi kät’ar tx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, ar tx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kät’ar </a:t>
                  </a:r>
                  <a:r>
                    <a:rPr b="1" i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apo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o jar xito ne ‘b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o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nd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war xayu.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Ar </a:t>
                  </a:r>
                  <a:r>
                    <a:rPr b="1" i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apo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bí b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o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x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jar xito.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Ner bätsi bí ‘ñähä ... ähwar tx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ne ‘bond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wa ya thiza ne ‘b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o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nd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war xayu.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Ner bätsi ya bí nangi </a:t>
                  </a:r>
                  <a:r>
                    <a:rPr b="1" i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ko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r tx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ne ‘b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o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nd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war xayu ne ‘b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t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war xito ne bí b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o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xár </a:t>
                  </a:r>
                  <a:r>
                    <a:rPr b="1" i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apo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ne ‘bond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wa ya </a:t>
                  </a:r>
                  <a:r>
                    <a:rPr b="1" i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bota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.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Ar ... ar bätsi hongar </a:t>
                  </a:r>
                  <a:r>
                    <a:rPr b="1" i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apo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... k’ät ... ya ‘b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n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ár </a:t>
                  </a:r>
                  <a:r>
                    <a:rPr b="1" i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bota 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ner tx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bí fot’ár ñä jar xito ... ne ar bätsi ya bí nangi ... ya bí nangi ... ne nör tx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xi fotár ñä jar xito.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615960" y="2961360"/>
                  <a:ext cx="4145400" cy="3508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7" name=""/>
              <p:cNvGrpSpPr/>
              <p:nvPr/>
            </p:nvGrpSpPr>
            <p:grpSpPr>
              <a:xfrm>
                <a:off x="4761720" y="2961360"/>
                <a:ext cx="4145760" cy="3508200"/>
                <a:chOff x="4761720" y="2961360"/>
                <a:chExt cx="4145760" cy="3508200"/>
              </a:xfrm>
            </p:grpSpPr>
            <p:sp>
              <p:nvSpPr>
                <p:cNvPr id="1058" name=""/>
                <p:cNvSpPr/>
                <p:nvPr/>
              </p:nvSpPr>
              <p:spPr>
                <a:xfrm>
                  <a:off x="4824360" y="2961360"/>
                  <a:ext cx="4019760" cy="350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-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l ... el niño está viendo </a:t>
                  </a:r>
                  <a:r>
                    <a:rPr b="1" i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(-) 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l perro, el perro está viendo </a:t>
                  </a:r>
                  <a:r>
                    <a:rPr b="1" i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(-) 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l ... el sapo, su camisa está </a:t>
                  </a:r>
                  <a:r>
                    <a:rPr b="1" i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tirado 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n el suelo.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El ... el niño está dormido con su perro y su camisa está </a:t>
                  </a:r>
                  <a:r>
                    <a:rPr b="1" i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tirado 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ahí. El sapo ya salió </a:t>
                  </a:r>
                  <a:r>
                    <a:rPr b="1" i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(-) 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la botella.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El niño ya se </a:t>
                  </a:r>
                  <a:r>
                    <a:rPr b="1" i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despiertó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con su perro. Y el ... su camisa está </a:t>
                  </a:r>
                  <a:r>
                    <a:rPr b="1" i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tirado 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ahí.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El niño está buscando </a:t>
                  </a:r>
                  <a:r>
                    <a:rPr b="1" i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(-) 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u ... su sapo. El perro </a:t>
                  </a:r>
                  <a:r>
                    <a:rPr b="1" i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e metió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la cabeza en la botella.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El perro </a:t>
                  </a:r>
                  <a:r>
                    <a:rPr b="1" i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e metió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</a:t>
                  </a:r>
                  <a:r>
                    <a:rPr b="1" i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u cabeza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en </a:t>
                  </a:r>
                  <a:r>
                    <a:rPr b="1" i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l ... la botella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y el niño está gritando.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El ... el ... el perro se cayó. El niño está </a:t>
                  </a:r>
                  <a:r>
                    <a:rPr b="1" i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omando 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la ventana.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4761720" y="2961360"/>
                  <a:ext cx="4145760" cy="3508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60" name=""/>
            <p:cNvSpPr/>
            <p:nvPr/>
          </p:nvSpPr>
          <p:spPr>
            <a:xfrm>
              <a:off x="609480" y="1981080"/>
              <a:ext cx="8305560" cy="44956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data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0004-B767-41FD-B1CB-F4C7D08EDCFB}" type="slidenum">
              <a:t>1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"/>
          <p:cNvGrpSpPr/>
          <p:nvPr/>
        </p:nvGrpSpPr>
        <p:grpSpPr>
          <a:xfrm>
            <a:off x="609480" y="1981080"/>
            <a:ext cx="8305560" cy="4495680"/>
            <a:chOff x="609480" y="1981080"/>
            <a:chExt cx="8305560" cy="4495680"/>
          </a:xfrm>
        </p:grpSpPr>
        <p:grpSp>
          <p:nvGrpSpPr>
            <p:cNvPr id="1063" name=""/>
            <p:cNvGrpSpPr/>
            <p:nvPr/>
          </p:nvGrpSpPr>
          <p:grpSpPr>
            <a:xfrm>
              <a:off x="615960" y="1986840"/>
              <a:ext cx="8291520" cy="4482720"/>
              <a:chOff x="615960" y="1986840"/>
              <a:chExt cx="8291520" cy="4482720"/>
            </a:xfrm>
          </p:grpSpPr>
          <p:grpSp>
            <p:nvGrpSpPr>
              <p:cNvPr id="1064" name=""/>
              <p:cNvGrpSpPr/>
              <p:nvPr/>
            </p:nvGrpSpPr>
            <p:grpSpPr>
              <a:xfrm>
                <a:off x="615960" y="1986840"/>
                <a:ext cx="2805840" cy="974160"/>
                <a:chOff x="615960" y="1986840"/>
                <a:chExt cx="2805840" cy="974160"/>
              </a:xfrm>
            </p:grpSpPr>
            <p:sp>
              <p:nvSpPr>
                <p:cNvPr id="1065" name=""/>
                <p:cNvSpPr/>
                <p:nvPr/>
              </p:nvSpPr>
              <p:spPr>
                <a:xfrm>
                  <a:off x="678240" y="1986840"/>
                  <a:ext cx="2680920" cy="97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ntrevista corregida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(marzo 2004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615960" y="1986840"/>
                  <a:ext cx="2805840" cy="97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7" name=""/>
              <p:cNvGrpSpPr/>
              <p:nvPr/>
            </p:nvGrpSpPr>
            <p:grpSpPr>
              <a:xfrm>
                <a:off x="3422160" y="1986840"/>
                <a:ext cx="2678400" cy="974160"/>
                <a:chOff x="3422160" y="1986840"/>
                <a:chExt cx="2678400" cy="974160"/>
              </a:xfrm>
            </p:grpSpPr>
            <p:sp>
              <p:nvSpPr>
                <p:cNvPr id="1068" name=""/>
                <p:cNvSpPr/>
                <p:nvPr/>
              </p:nvSpPr>
              <p:spPr>
                <a:xfrm>
                  <a:off x="3484800" y="1986840"/>
                  <a:ext cx="2553120" cy="97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ntrevistada: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Juana Juárez Pérez (44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3422160" y="1986840"/>
                  <a:ext cx="2678400" cy="97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0" name=""/>
              <p:cNvGrpSpPr/>
              <p:nvPr/>
            </p:nvGrpSpPr>
            <p:grpSpPr>
              <a:xfrm>
                <a:off x="6100920" y="1986840"/>
                <a:ext cx="2806200" cy="974160"/>
                <a:chOff x="6100920" y="1986840"/>
                <a:chExt cx="2806200" cy="974160"/>
              </a:xfrm>
            </p:grpSpPr>
            <p:sp>
              <p:nvSpPr>
                <p:cNvPr id="1071" name=""/>
                <p:cNvSpPr/>
                <p:nvPr/>
              </p:nvSpPr>
              <p:spPr>
                <a:xfrm>
                  <a:off x="6163560" y="1986840"/>
                  <a:ext cx="2680200" cy="97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ntrevistador: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Oswaldo Chaparr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6100920" y="1986840"/>
                  <a:ext cx="2806200" cy="97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3" name=""/>
              <p:cNvGrpSpPr/>
              <p:nvPr/>
            </p:nvGrpSpPr>
            <p:grpSpPr>
              <a:xfrm>
                <a:off x="615960" y="2961360"/>
                <a:ext cx="4145400" cy="3508200"/>
                <a:chOff x="615960" y="2961360"/>
                <a:chExt cx="4145400" cy="3508200"/>
              </a:xfrm>
            </p:grpSpPr>
            <p:sp>
              <p:nvSpPr>
                <p:cNvPr id="1074" name=""/>
                <p:cNvSpPr/>
                <p:nvPr/>
              </p:nvSpPr>
              <p:spPr>
                <a:xfrm>
                  <a:off x="678240" y="2961360"/>
                  <a:ext cx="4020480" cy="350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-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Ar bätsi kät’ar tx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, ar tx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kät’ar </a:t>
                  </a:r>
                  <a:r>
                    <a:rPr b="1" i="1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sapo</a:t>
                  </a:r>
                  <a:r>
                    <a:rPr b="0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 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o jar xito ne ‘b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o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nd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war xayu.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-Ar </a:t>
                  </a:r>
                  <a:r>
                    <a:rPr b="1" i="1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sapo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bí b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o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x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jar xito.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-Ner bätsi bí ‘ñähä ... ähwar tx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ne ‘bond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wa ya thiza ne ‘b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o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nd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war xayu.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-Ner bätsi ya bí nangi </a:t>
                  </a:r>
                  <a:r>
                    <a:rPr b="1" i="1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ko</a:t>
                  </a:r>
                  <a:r>
                    <a:rPr b="0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r 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tx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ne ‘b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o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nd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war xayu ne ‘b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t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war xito ne bí b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o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xár </a:t>
                  </a:r>
                  <a:r>
                    <a:rPr b="1" i="1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sapo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ne ‘bond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wa ya </a:t>
                  </a:r>
                  <a:r>
                    <a:rPr b="1" i="1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bota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.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-Ar ... ar bätsi hongar </a:t>
                  </a:r>
                  <a:r>
                    <a:rPr b="1" i="1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sapo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... k’ät ... ya ‘b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n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ár </a:t>
                  </a:r>
                  <a:r>
                    <a:rPr b="1" i="1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bota</a:t>
                  </a:r>
                  <a:r>
                    <a:rPr b="1" i="1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ner tx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bí fot’ár ñä jar xito ... ne ar bätsi ya bí nangi ... ya bí nangi ... ne nör tx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xi fotár ñä jar xito.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3333cc"/>
                      </a:solidFill>
                      <a:latin typeface="Courier New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615960" y="2961360"/>
                  <a:ext cx="4145400" cy="3508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6" name=""/>
              <p:cNvGrpSpPr/>
              <p:nvPr/>
            </p:nvGrpSpPr>
            <p:grpSpPr>
              <a:xfrm>
                <a:off x="4761720" y="2961360"/>
                <a:ext cx="4145760" cy="3508200"/>
                <a:chOff x="4761720" y="2961360"/>
                <a:chExt cx="4145760" cy="3508200"/>
              </a:xfrm>
            </p:grpSpPr>
            <p:sp>
              <p:nvSpPr>
                <p:cNvPr id="1077" name=""/>
                <p:cNvSpPr/>
                <p:nvPr/>
              </p:nvSpPr>
              <p:spPr>
                <a:xfrm>
                  <a:off x="4824360" y="2961360"/>
                  <a:ext cx="4019760" cy="350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-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l ... el niño está viendo </a:t>
                  </a:r>
                  <a:r>
                    <a:rPr b="1" i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(-) 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l perro, el perro está viendo </a:t>
                  </a:r>
                  <a:r>
                    <a:rPr b="1" i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(-) 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l ... el sapo, su camisa está </a:t>
                  </a:r>
                  <a:r>
                    <a:rPr b="1" i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tirado 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n el suelo.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El ... el niño está dormido con su perro y su camisa está </a:t>
                  </a:r>
                  <a:r>
                    <a:rPr b="1" i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tirado 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ahí. El sapo ya salió </a:t>
                  </a:r>
                  <a:r>
                    <a:rPr b="1" i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(-) 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la botella.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El niño ya se </a:t>
                  </a:r>
                  <a:r>
                    <a:rPr b="1" i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despiertó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con su perro. Y el ... su camisa está </a:t>
                  </a:r>
                  <a:r>
                    <a:rPr b="1" i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tirado 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ahí.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El niño está buscando </a:t>
                  </a:r>
                  <a:r>
                    <a:rPr b="1" i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(-) 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u ... su sapo. El perro </a:t>
                  </a:r>
                  <a:r>
                    <a:rPr b="1" i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e metió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la cabeza en la botella.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El perro </a:t>
                  </a:r>
                  <a:r>
                    <a:rPr b="1" i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e metió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</a:t>
                  </a:r>
                  <a:r>
                    <a:rPr b="1" i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u cabeza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en </a:t>
                  </a:r>
                  <a:r>
                    <a:rPr b="1" i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l ... la botella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y el niño está gritando.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El ... el ... el perro se cayó. El niño está </a:t>
                  </a:r>
                  <a:r>
                    <a:rPr b="1" i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omando 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la ventana.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>
                  <a:off x="4761720" y="2961360"/>
                  <a:ext cx="4145760" cy="3508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79" name=""/>
            <p:cNvSpPr/>
            <p:nvPr/>
          </p:nvSpPr>
          <p:spPr>
            <a:xfrm>
              <a:off x="609480" y="1981080"/>
              <a:ext cx="8305560" cy="44956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data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8C5D-CB8A-464A-9035-F419FAF4B2B3}" type="slidenum">
              <a:t>1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1" name=""/>
          <p:cNvGrpSpPr/>
          <p:nvPr/>
        </p:nvGrpSpPr>
        <p:grpSpPr>
          <a:xfrm>
            <a:off x="609480" y="1981080"/>
            <a:ext cx="8305560" cy="4495680"/>
            <a:chOff x="609480" y="1981080"/>
            <a:chExt cx="8305560" cy="4495680"/>
          </a:xfrm>
        </p:grpSpPr>
        <p:grpSp>
          <p:nvGrpSpPr>
            <p:cNvPr id="1082" name=""/>
            <p:cNvGrpSpPr/>
            <p:nvPr/>
          </p:nvGrpSpPr>
          <p:grpSpPr>
            <a:xfrm>
              <a:off x="615960" y="1986840"/>
              <a:ext cx="8291520" cy="4482720"/>
              <a:chOff x="615960" y="1986840"/>
              <a:chExt cx="8291520" cy="4482720"/>
            </a:xfrm>
          </p:grpSpPr>
          <p:grpSp>
            <p:nvGrpSpPr>
              <p:cNvPr id="1083" name=""/>
              <p:cNvGrpSpPr/>
              <p:nvPr/>
            </p:nvGrpSpPr>
            <p:grpSpPr>
              <a:xfrm>
                <a:off x="615960" y="1986840"/>
                <a:ext cx="2805840" cy="974160"/>
                <a:chOff x="615960" y="1986840"/>
                <a:chExt cx="2805840" cy="974160"/>
              </a:xfrm>
            </p:grpSpPr>
            <p:sp>
              <p:nvSpPr>
                <p:cNvPr id="1084" name=""/>
                <p:cNvSpPr/>
                <p:nvPr/>
              </p:nvSpPr>
              <p:spPr>
                <a:xfrm>
                  <a:off x="678240" y="1986840"/>
                  <a:ext cx="2680920" cy="97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ntrevista corregida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(marzo 200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615960" y="1986840"/>
                  <a:ext cx="2805840" cy="97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6" name=""/>
              <p:cNvGrpSpPr/>
              <p:nvPr/>
            </p:nvGrpSpPr>
            <p:grpSpPr>
              <a:xfrm>
                <a:off x="3422160" y="1986840"/>
                <a:ext cx="2678400" cy="974160"/>
                <a:chOff x="3422160" y="1986840"/>
                <a:chExt cx="2678400" cy="974160"/>
              </a:xfrm>
            </p:grpSpPr>
            <p:sp>
              <p:nvSpPr>
                <p:cNvPr id="1087" name=""/>
                <p:cNvSpPr/>
                <p:nvPr/>
              </p:nvSpPr>
              <p:spPr>
                <a:xfrm>
                  <a:off x="3484800" y="1986840"/>
                  <a:ext cx="2553120" cy="97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ntrevistada: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Juana Juárez Pérez (44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3422160" y="1986840"/>
                  <a:ext cx="2678400" cy="97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9" name=""/>
              <p:cNvGrpSpPr/>
              <p:nvPr/>
            </p:nvGrpSpPr>
            <p:grpSpPr>
              <a:xfrm>
                <a:off x="6100920" y="1986840"/>
                <a:ext cx="2806200" cy="974160"/>
                <a:chOff x="6100920" y="1986840"/>
                <a:chExt cx="2806200" cy="974160"/>
              </a:xfrm>
            </p:grpSpPr>
            <p:sp>
              <p:nvSpPr>
                <p:cNvPr id="1090" name=""/>
                <p:cNvSpPr/>
                <p:nvPr/>
              </p:nvSpPr>
              <p:spPr>
                <a:xfrm>
                  <a:off x="6163560" y="1986840"/>
                  <a:ext cx="2680200" cy="97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ntrevistador: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Oswaldo Chaparr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6100920" y="1986840"/>
                  <a:ext cx="2806200" cy="97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2" name=""/>
              <p:cNvGrpSpPr/>
              <p:nvPr/>
            </p:nvGrpSpPr>
            <p:grpSpPr>
              <a:xfrm>
                <a:off x="615960" y="2961360"/>
                <a:ext cx="4145400" cy="3508200"/>
                <a:chOff x="615960" y="2961360"/>
                <a:chExt cx="4145400" cy="3508200"/>
              </a:xfrm>
            </p:grpSpPr>
            <p:sp>
              <p:nvSpPr>
                <p:cNvPr id="1093" name=""/>
                <p:cNvSpPr/>
                <p:nvPr/>
              </p:nvSpPr>
              <p:spPr>
                <a:xfrm>
                  <a:off x="678240" y="2961360"/>
                  <a:ext cx="4020480" cy="350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-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Ar bätsi kät’ar tx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, ar tx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kät’ar </a:t>
                  </a:r>
                  <a:r>
                    <a:rPr b="1" i="1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sapo</a:t>
                  </a:r>
                  <a:r>
                    <a:rPr b="0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 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o jar xito ne ‘b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o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nd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war xayu.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-Ar </a:t>
                  </a:r>
                  <a:r>
                    <a:rPr b="1" i="1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sapo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bí b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o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x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jar xito.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-Ner bätsi bí ‘ñähä ... ähwar tx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ne ‘bond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wa ya thiza ne ‘b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o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nd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war xayu.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-Ner bätsi ya bí nangi </a:t>
                  </a:r>
                  <a:r>
                    <a:rPr b="1" i="1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ko</a:t>
                  </a:r>
                  <a:r>
                    <a:rPr b="0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r 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tx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ne ‘b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o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nd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war xayu ne ‘b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t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war xito ne bí b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o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xár </a:t>
                  </a:r>
                  <a:r>
                    <a:rPr b="1" i="1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sapo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ne ‘bond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wa ya </a:t>
                  </a:r>
                  <a:r>
                    <a:rPr b="1" i="1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bota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.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-Ar ... ar bätsi hongar </a:t>
                  </a:r>
                  <a:r>
                    <a:rPr b="1" i="1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sapo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... k’ät ... ya ‘b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n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ár </a:t>
                  </a:r>
                  <a:r>
                    <a:rPr b="1" i="1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bota</a:t>
                  </a:r>
                  <a:r>
                    <a:rPr b="1" i="1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ner tx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bí fot’ár ñä jar xito ... ne ar bätsi ya bí nangi ... ya bí nangi ... ne nör tx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xi fotár ñä jar xito.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3333cc"/>
                      </a:solidFill>
                      <a:latin typeface="Courier New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615960" y="2961360"/>
                  <a:ext cx="4145400" cy="3508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5" name=""/>
              <p:cNvGrpSpPr/>
              <p:nvPr/>
            </p:nvGrpSpPr>
            <p:grpSpPr>
              <a:xfrm>
                <a:off x="4761720" y="2961360"/>
                <a:ext cx="4145760" cy="3508200"/>
                <a:chOff x="4761720" y="2961360"/>
                <a:chExt cx="4145760" cy="3508200"/>
              </a:xfrm>
            </p:grpSpPr>
            <p:sp>
              <p:nvSpPr>
                <p:cNvPr id="1096" name=""/>
                <p:cNvSpPr/>
                <p:nvPr/>
              </p:nvSpPr>
              <p:spPr>
                <a:xfrm>
                  <a:off x="4824360" y="2961360"/>
                  <a:ext cx="4019760" cy="350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-</a:t>
                  </a:r>
                  <a:r>
                    <a:rPr b="0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El ... el niño está viendo </a:t>
                  </a:r>
                  <a:r>
                    <a:rPr b="1" i="1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(-) </a:t>
                  </a:r>
                  <a:r>
                    <a:rPr b="0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el perro, el perro está viendo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</a:t>
                  </a:r>
                  <a:r>
                    <a:rPr b="1" i="1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(-)</a:t>
                  </a:r>
                  <a:r>
                    <a:rPr b="1" i="1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 </a:t>
                  </a:r>
                  <a:r>
                    <a:rPr b="0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el ... el sapo, su camisa está </a:t>
                  </a:r>
                  <a:r>
                    <a:rPr b="1" i="1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tirado</a:t>
                  </a:r>
                  <a:r>
                    <a:rPr b="1" i="1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 </a:t>
                  </a:r>
                  <a:r>
                    <a:rPr b="0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en el suelo.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-El ... el niño está dormido con su perro y su camisa está </a:t>
                  </a:r>
                  <a:r>
                    <a:rPr b="1" i="1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tirado</a:t>
                  </a:r>
                  <a:r>
                    <a:rPr b="1" i="1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 </a:t>
                  </a:r>
                  <a:r>
                    <a:rPr b="0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ahí. El sapo ya salió </a:t>
                  </a:r>
                  <a:r>
                    <a:rPr b="1" i="1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(-) </a:t>
                  </a:r>
                  <a:r>
                    <a:rPr b="0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la botella.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-El niño ya se </a:t>
                  </a:r>
                  <a:r>
                    <a:rPr b="1" i="1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despiertó</a:t>
                  </a:r>
                  <a:r>
                    <a:rPr b="0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 con su perro. Y el ... su camisa está </a:t>
                  </a:r>
                  <a:r>
                    <a:rPr b="1" i="1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tirado</a:t>
                  </a:r>
                  <a:r>
                    <a:rPr b="1" i="1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 </a:t>
                  </a:r>
                  <a:r>
                    <a:rPr b="0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ahí.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-El niño está buscando </a:t>
                  </a:r>
                  <a:r>
                    <a:rPr b="1" i="1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(-) </a:t>
                  </a:r>
                  <a:r>
                    <a:rPr b="0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su ... su sapo. El perro </a:t>
                  </a:r>
                  <a:r>
                    <a:rPr b="1" i="1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se metió</a:t>
                  </a:r>
                  <a:r>
                    <a:rPr b="0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 la cabeza en la botella.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-El perro </a:t>
                  </a:r>
                  <a:r>
                    <a:rPr b="1" i="1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se metió</a:t>
                  </a:r>
                  <a:r>
                    <a:rPr b="0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 </a:t>
                  </a:r>
                  <a:r>
                    <a:rPr b="1" i="1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su cabeza</a:t>
                  </a:r>
                  <a:r>
                    <a:rPr b="0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 en </a:t>
                  </a:r>
                  <a:r>
                    <a:rPr b="1" i="1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el</a:t>
                  </a:r>
                  <a:r>
                    <a:rPr b="1" i="1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 ... </a:t>
                  </a:r>
                  <a:r>
                    <a:rPr b="1" i="1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la botella</a:t>
                  </a:r>
                  <a:r>
                    <a:rPr b="0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 y el niño está gritando.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-El ... el ... el perro se cayó. El niño está </a:t>
                  </a:r>
                  <a:r>
                    <a:rPr b="1" i="1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somando</a:t>
                  </a:r>
                  <a:r>
                    <a:rPr b="1" i="1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 </a:t>
                  </a:r>
                  <a:r>
                    <a:rPr b="0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la ventana.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3333cc"/>
                      </a:solidFill>
                      <a:latin typeface="Courier New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4761720" y="2961360"/>
                  <a:ext cx="4145760" cy="3508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98" name=""/>
            <p:cNvSpPr/>
            <p:nvPr/>
          </p:nvSpPr>
          <p:spPr>
            <a:xfrm>
              <a:off x="609480" y="1981080"/>
              <a:ext cx="8305560" cy="44956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data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A160-F5E6-478F-999E-E7CCA40DF735}" type="slidenum">
              <a:t>1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italized data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1" name=""/>
          <p:cNvSpPr/>
          <p:nvPr/>
        </p:nvSpPr>
        <p:spPr>
          <a:xfrm>
            <a:off x="838080" y="2209680"/>
            <a:ext cx="7848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Informant: Simon Eleuterio Lucio (S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Target: Otom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Source: Españ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Ne nör 'yo mi hong</a:t>
            </a:r>
            <a:r>
              <a:rPr b="1" lang="nl-NL" sz="2000" spc="-1" strike="noStrike" u="sng">
                <a:solidFill>
                  <a:srgbClr val="3333cc"/>
                </a:solidFill>
                <a:uFillTx/>
                <a:latin typeface="Courier New"/>
                <a:ea typeface="Times New Roman"/>
              </a:rPr>
              <a:t>u</a:t>
            </a:r>
            <a:r>
              <a:rPr b="1" lang="en-GB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ja ya ... ja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cc00"/>
                </a:solidFill>
                <a:latin typeface="Courier New"/>
                <a:ea typeface="MS Mincho"/>
              </a:rPr>
              <a:t>/</a:t>
            </a:r>
            <a:r>
              <a:rPr b="1" lang="en-GB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kolmenä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N-HR</a:t>
            </a:r>
            <a:r>
              <a:rPr b="1" lang="en-GB" sz="2000" spc="-1" strike="noStrike">
                <a:solidFill>
                  <a:srgbClr val="00cc00"/>
                </a:solidFill>
                <a:latin typeface="Courier New"/>
                <a:ea typeface="MS Mincho"/>
              </a:rPr>
              <a:t>/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&lt; . . .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Bí kaku jar ... jar ñö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cc00"/>
                </a:solidFill>
                <a:latin typeface="Courier New"/>
                <a:ea typeface="MS Mincho"/>
              </a:rPr>
              <a:t>/</a:t>
            </a:r>
            <a:r>
              <a:rPr b="1" lang="en-GB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kong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PR</a:t>
            </a:r>
            <a:r>
              <a:rPr b="1" lang="en-GB" sz="2000" spc="-1" strike="noStrike">
                <a:solidFill>
                  <a:srgbClr val="00cc00"/>
                </a:solidFill>
                <a:latin typeface="Courier New"/>
                <a:ea typeface="MS Mincho"/>
              </a:rPr>
              <a:t>/</a:t>
            </a:r>
            <a:r>
              <a:rPr b="1" lang="en-GB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a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... </a:t>
            </a:r>
            <a:r>
              <a:rPr b="1" lang="en-GB" sz="2000" spc="-1" strike="noStrike">
                <a:solidFill>
                  <a:srgbClr val="00cc00"/>
                </a:solidFill>
                <a:latin typeface="Courier New"/>
                <a:ea typeface="MS Mincho"/>
              </a:rPr>
              <a:t>/</a:t>
            </a:r>
            <a:r>
              <a:rPr b="1" lang="en-GB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kong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PR</a:t>
            </a:r>
            <a:r>
              <a:rPr b="1" lang="en-GB" sz="2000" spc="-1" strike="noStrike">
                <a:solidFill>
                  <a:srgbClr val="00cc00"/>
                </a:solidFill>
                <a:latin typeface="Courier New"/>
                <a:ea typeface="MS Mincho"/>
              </a:rPr>
              <a:t>/</a:t>
            </a:r>
            <a:r>
              <a:rPr b="1" lang="en-GB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a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'y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&lt; . . .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yo mi ... mi hong</a:t>
            </a:r>
            <a:r>
              <a:rPr b="1" lang="nl-NL" sz="2000" spc="-1" strike="noStrike" u="sng">
                <a:solidFill>
                  <a:srgbClr val="3333cc"/>
                </a:solidFill>
                <a:uFillTx/>
                <a:latin typeface="Courier New"/>
                <a:ea typeface="Times New Roman"/>
              </a:rPr>
              <a:t>u</a:t>
            </a:r>
            <a:r>
              <a:rPr b="1" lang="nl-NL" sz="20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 jar </a:t>
            </a:r>
            <a:r>
              <a:rPr b="1" lang="nl-NL" sz="2000" spc="-1" strike="noStrike">
                <a:solidFill>
                  <a:srgbClr val="00cc00"/>
                </a:solidFill>
                <a:latin typeface="Courier New"/>
                <a:ea typeface="Times New Roman"/>
              </a:rPr>
              <a:t>/</a:t>
            </a:r>
            <a:r>
              <a:rPr b="1" lang="nl-NL" sz="20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frask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-HR</a:t>
            </a:r>
            <a:r>
              <a:rPr b="1" lang="nl-NL" sz="2000" spc="-1" strike="noStrike">
                <a:solidFill>
                  <a:srgbClr val="00cc00"/>
                </a:solidFill>
                <a:latin typeface="Courier New"/>
                <a:ea typeface="Times New Roman"/>
              </a:rPr>
              <a:t>/</a:t>
            </a:r>
            <a:r>
              <a:rPr b="1" lang="nl-NL" sz="20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&lt; . . .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1A98-84A5-4656-A3B9-BBF9CA37A495}" type="slidenum">
              <a:t>1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italized data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3" name=""/>
          <p:cNvSpPr/>
          <p:nvPr/>
        </p:nvSpPr>
        <p:spPr>
          <a:xfrm>
            <a:off x="838080" y="2209680"/>
            <a:ext cx="7848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Informant: Simon Eleuterio Lucio (S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Target: Otom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Source: Españ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Ne nör 'yo mi hong</a:t>
            </a:r>
            <a:r>
              <a:rPr b="1" lang="nl-NL" sz="2000" spc="-1" strike="noStrike" u="sng">
                <a:solidFill>
                  <a:srgbClr val="3333cc"/>
                </a:solidFill>
                <a:uFillTx/>
                <a:latin typeface="Courier New"/>
                <a:ea typeface="Times New Roman"/>
              </a:rPr>
              <a:t>u</a:t>
            </a:r>
            <a:r>
              <a:rPr b="1" lang="en-GB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ja ya ... ja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cc00"/>
                </a:solidFill>
                <a:latin typeface="Courier New"/>
                <a:ea typeface="MS Mincho"/>
              </a:rPr>
              <a:t>/</a:t>
            </a:r>
            <a:r>
              <a:rPr b="1" lang="en-GB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kolmenä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N-HR</a:t>
            </a:r>
            <a:r>
              <a:rPr b="1" lang="en-GB" sz="2000" spc="-1" strike="noStrike">
                <a:solidFill>
                  <a:srgbClr val="00cc00"/>
                </a:solidFill>
                <a:latin typeface="Courier New"/>
                <a:ea typeface="MS Mincho"/>
              </a:rPr>
              <a:t>/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&lt; . . .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Bí kaku jar ... jar ñö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cc00"/>
                </a:solidFill>
                <a:latin typeface="Courier New"/>
                <a:ea typeface="MS Mincho"/>
              </a:rPr>
              <a:t>/</a:t>
            </a:r>
            <a:r>
              <a:rPr b="1" lang="en-GB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kong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PR</a:t>
            </a:r>
            <a:r>
              <a:rPr b="1" lang="en-GB" sz="2000" spc="-1" strike="noStrike">
                <a:solidFill>
                  <a:srgbClr val="00cc00"/>
                </a:solidFill>
                <a:latin typeface="Courier New"/>
                <a:ea typeface="MS Mincho"/>
              </a:rPr>
              <a:t>/</a:t>
            </a:r>
            <a:r>
              <a:rPr b="1" lang="en-GB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a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... </a:t>
            </a:r>
            <a:r>
              <a:rPr b="1" lang="en-GB" sz="2000" spc="-1" strike="noStrike">
                <a:solidFill>
                  <a:srgbClr val="00cc00"/>
                </a:solidFill>
                <a:latin typeface="Courier New"/>
                <a:ea typeface="MS Mincho"/>
              </a:rPr>
              <a:t>/</a:t>
            </a:r>
            <a:r>
              <a:rPr b="1" lang="en-GB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kong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PR</a:t>
            </a:r>
            <a:r>
              <a:rPr b="1" lang="en-GB" sz="2000" spc="-1" strike="noStrike">
                <a:solidFill>
                  <a:srgbClr val="00cc00"/>
                </a:solidFill>
                <a:latin typeface="Courier New"/>
                <a:ea typeface="MS Mincho"/>
              </a:rPr>
              <a:t>/</a:t>
            </a:r>
            <a:r>
              <a:rPr b="1" lang="en-GB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a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'y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&lt; . . .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yo mi ... mi hong</a:t>
            </a:r>
            <a:r>
              <a:rPr b="1" lang="nl-NL" sz="2000" spc="-1" strike="noStrike" u="sng">
                <a:solidFill>
                  <a:srgbClr val="3333cc"/>
                </a:solidFill>
                <a:uFillTx/>
                <a:latin typeface="Courier New"/>
                <a:ea typeface="Times New Roman"/>
              </a:rPr>
              <a:t>u</a:t>
            </a:r>
            <a:r>
              <a:rPr b="1" lang="nl-NL" sz="20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 jar </a:t>
            </a:r>
            <a:r>
              <a:rPr b="1" lang="nl-NL" sz="2000" spc="-1" strike="noStrike">
                <a:solidFill>
                  <a:srgbClr val="00cc00"/>
                </a:solidFill>
                <a:latin typeface="Courier New"/>
                <a:ea typeface="Times New Roman"/>
              </a:rPr>
              <a:t>/</a:t>
            </a:r>
            <a:r>
              <a:rPr b="1" lang="nl-NL" sz="20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frask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-HR</a:t>
            </a:r>
            <a:r>
              <a:rPr b="1" lang="nl-NL" sz="2000" spc="-1" strike="noStrike">
                <a:solidFill>
                  <a:srgbClr val="00cc00"/>
                </a:solidFill>
                <a:latin typeface="Courier New"/>
                <a:ea typeface="Times New Roman"/>
              </a:rPr>
              <a:t>/</a:t>
            </a:r>
            <a:r>
              <a:rPr b="1" lang="nl-NL" sz="20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&lt; . . .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5867280" y="3200400"/>
            <a:ext cx="213372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E4D4-D6DC-41C1-A776-91A9B3F35263}" type="slidenum">
              <a:t>1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italized data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6" name=""/>
          <p:cNvSpPr/>
          <p:nvPr/>
        </p:nvSpPr>
        <p:spPr>
          <a:xfrm>
            <a:off x="838080" y="2209680"/>
            <a:ext cx="7848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Informant: Simon Eleuterio Lucio (S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Target: Otom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Source: Españ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Ne nör 'yo mi hong</a:t>
            </a:r>
            <a:r>
              <a:rPr b="1" lang="nl-NL" sz="2000" spc="-1" strike="noStrike" u="sng">
                <a:solidFill>
                  <a:srgbClr val="3333cc"/>
                </a:solidFill>
                <a:uFillTx/>
                <a:latin typeface="Courier New"/>
                <a:ea typeface="Times New Roman"/>
              </a:rPr>
              <a:t>u</a:t>
            </a:r>
            <a:r>
              <a:rPr b="1" lang="en-GB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ja ya ... ja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cc00"/>
                </a:solidFill>
                <a:latin typeface="Courier New"/>
                <a:ea typeface="MS Mincho"/>
              </a:rPr>
              <a:t>/</a:t>
            </a:r>
            <a:r>
              <a:rPr b="1" lang="en-GB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kolmenä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N-HR</a:t>
            </a:r>
            <a:r>
              <a:rPr b="1" lang="en-GB" sz="2000" spc="-1" strike="noStrike">
                <a:solidFill>
                  <a:srgbClr val="00cc00"/>
                </a:solidFill>
                <a:latin typeface="Courier New"/>
                <a:ea typeface="MS Mincho"/>
              </a:rPr>
              <a:t>/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&lt; . . .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Bí kaku jar ... jar ñö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cc00"/>
                </a:solidFill>
                <a:latin typeface="Courier New"/>
                <a:ea typeface="MS Mincho"/>
              </a:rPr>
              <a:t>/</a:t>
            </a:r>
            <a:r>
              <a:rPr b="1" lang="en-GB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kong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PR</a:t>
            </a:r>
            <a:r>
              <a:rPr b="1" lang="en-GB" sz="2000" spc="-1" strike="noStrike">
                <a:solidFill>
                  <a:srgbClr val="00cc00"/>
                </a:solidFill>
                <a:latin typeface="Courier New"/>
                <a:ea typeface="MS Mincho"/>
              </a:rPr>
              <a:t>/</a:t>
            </a:r>
            <a:r>
              <a:rPr b="1" lang="en-GB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a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... </a:t>
            </a:r>
            <a:r>
              <a:rPr b="1" lang="en-GB" sz="2000" spc="-1" strike="noStrike">
                <a:solidFill>
                  <a:srgbClr val="00cc00"/>
                </a:solidFill>
                <a:latin typeface="Courier New"/>
                <a:ea typeface="MS Mincho"/>
              </a:rPr>
              <a:t>/</a:t>
            </a:r>
            <a:r>
              <a:rPr b="1" lang="en-GB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kong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PR</a:t>
            </a:r>
            <a:r>
              <a:rPr b="1" lang="en-GB" sz="2000" spc="-1" strike="noStrike">
                <a:solidFill>
                  <a:srgbClr val="00cc00"/>
                </a:solidFill>
                <a:latin typeface="Courier New"/>
                <a:ea typeface="MS Mincho"/>
              </a:rPr>
              <a:t>/</a:t>
            </a:r>
            <a:r>
              <a:rPr b="1" lang="en-GB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a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'y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&lt; . . .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yo mi ... mi hong</a:t>
            </a:r>
            <a:r>
              <a:rPr b="1" lang="nl-NL" sz="2000" spc="-1" strike="noStrike" u="sng">
                <a:solidFill>
                  <a:srgbClr val="3333cc"/>
                </a:solidFill>
                <a:uFillTx/>
                <a:latin typeface="Courier New"/>
                <a:ea typeface="Times New Roman"/>
              </a:rPr>
              <a:t>u</a:t>
            </a:r>
            <a:r>
              <a:rPr b="1" lang="nl-NL" sz="20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 jar </a:t>
            </a:r>
            <a:r>
              <a:rPr b="1" lang="nl-NL" sz="2000" spc="-1" strike="noStrike">
                <a:solidFill>
                  <a:srgbClr val="00cc00"/>
                </a:solidFill>
                <a:latin typeface="Courier New"/>
                <a:ea typeface="Times New Roman"/>
              </a:rPr>
              <a:t>/</a:t>
            </a:r>
            <a:r>
              <a:rPr b="1" lang="nl-NL" sz="20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frask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-HR</a:t>
            </a:r>
            <a:r>
              <a:rPr b="1" lang="nl-NL" sz="2000" spc="-1" strike="noStrike">
                <a:solidFill>
                  <a:srgbClr val="00cc00"/>
                </a:solidFill>
                <a:latin typeface="Courier New"/>
                <a:ea typeface="Times New Roman"/>
              </a:rPr>
              <a:t>/</a:t>
            </a:r>
            <a:r>
              <a:rPr b="1" lang="nl-NL" sz="20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&lt; . . .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4238640" y="3860640"/>
            <a:ext cx="213372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4D71-FFBA-42A2-A9F9-CD4EC634DD72}" type="slidenum">
              <a:t>1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xample LexAnalyzer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9" name=""/>
          <p:cNvSpPr/>
          <p:nvPr/>
        </p:nvSpPr>
        <p:spPr>
          <a:xfrm>
            <a:off x="1258920" y="3068640"/>
            <a:ext cx="1873080" cy="18730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iling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r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C418-D948-4F91-AB7A-36997525E1D1}" type="slidenum">
              <a:t>1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xample LexAnalyzer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1" name=""/>
          <p:cNvSpPr/>
          <p:nvPr/>
        </p:nvSpPr>
        <p:spPr>
          <a:xfrm>
            <a:off x="1258920" y="3068640"/>
            <a:ext cx="1873080" cy="18730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iling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r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4067280" y="3284640"/>
            <a:ext cx="1512720" cy="1224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x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3132000" y="3933720"/>
            <a:ext cx="93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1910-049C-4D2B-8E02-B2CAEF4B4337}" type="slidenum">
              <a:t>1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erence of univers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355760" y="2395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62120" y="2133720"/>
            <a:ext cx="63792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3500280"/>
            <a:ext cx="1943280" cy="18003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05520" y="3619440"/>
            <a:ext cx="8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r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52280" y="5589720"/>
            <a:ext cx="190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VSO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Pr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(absolu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2288-892E-494F-868C-AF7D43FCA68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xample LexAnalyzer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5" name=""/>
          <p:cNvSpPr/>
          <p:nvPr/>
        </p:nvSpPr>
        <p:spPr>
          <a:xfrm>
            <a:off x="1258920" y="3068640"/>
            <a:ext cx="1873080" cy="18730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iling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r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067280" y="3284640"/>
            <a:ext cx="1512720" cy="1224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x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6588000" y="2779560"/>
            <a:ext cx="1513080" cy="331344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iling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xi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3132000" y="3933720"/>
            <a:ext cx="93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5581800" y="3933720"/>
            <a:ext cx="93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4E00-ACB5-4541-8F71-0346FB5B71D2}" type="slidenum">
              <a:t>1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xample LexAnalyzer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1" name=""/>
          <p:cNvSpPr/>
          <p:nvPr/>
        </p:nvSpPr>
        <p:spPr>
          <a:xfrm>
            <a:off x="1258920" y="3068640"/>
            <a:ext cx="1873080" cy="18730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iling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r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4067280" y="3284640"/>
            <a:ext cx="1512720" cy="1224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x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6588000" y="2779560"/>
            <a:ext cx="1513080" cy="331344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iling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xi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3132000" y="3933720"/>
            <a:ext cx="93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581800" y="3933720"/>
            <a:ext cx="93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195640" y="5661000"/>
            <a:ext cx="439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flipV="1">
            <a:off x="2195640" y="4941720"/>
            <a:ext cx="0" cy="7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A6F5-32F1-4127-BEDC-00CE2BFCFF45}" type="slidenum">
              <a:t>1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xample LexAnalyzer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9" name=""/>
          <p:cNvSpPr/>
          <p:nvPr/>
        </p:nvSpPr>
        <p:spPr>
          <a:xfrm>
            <a:off x="838080" y="2209680"/>
            <a:ext cx="7848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#31. Frequencies for file: SEL.t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Informant: Simon Eleuterio Lu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Target: Otom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Source: </a:t>
            </a:r>
            <a:r>
              <a:rPr b="1" lang="en-GB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Españ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Courier New"/>
                <a:ea typeface="MS Mincho"/>
              </a:rPr>
              <a:t>Source (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Courier New"/>
                <a:ea typeface="MS Mincho"/>
              </a:rPr>
              <a:t>Español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urier New"/>
                <a:ea typeface="MS Mincho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i C   O_O                      1    nsp= 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ke S   O_O                     3    nsp= 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ko P  O_O                      3    nsp=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kolmenä N   O_O                2    nsp= 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kong- P  O_o                  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panal N HR O_O                 2    nsp= 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panal N MR O_O                 1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572000" y="1981080"/>
            <a:ext cx="213372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376C-98E9-4D19-80A1-ADB8D32FB5DE}" type="slidenum">
              <a:t>1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xample LexAnalyzer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2" name=""/>
          <p:cNvSpPr/>
          <p:nvPr/>
        </p:nvSpPr>
        <p:spPr>
          <a:xfrm>
            <a:off x="838080" y="2209680"/>
            <a:ext cx="784872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#31. Frequencies for file: SEL.t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Informant: Simon Eleuterio Lu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Target: Otom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Source: </a:t>
            </a:r>
            <a:r>
              <a:rPr b="1" lang="en-GB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Españ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Courier New"/>
                <a:ea typeface="MS Mincho"/>
              </a:rPr>
              <a:t>Source (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Courier New"/>
                <a:ea typeface="MS Mincho"/>
              </a:rPr>
              <a:t>Español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urier New"/>
                <a:ea typeface="MS Mincho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i C   O_O                      1    nsp= 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ke S   O_O                     3    nsp= 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ko P  O_O                      3    nsp=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kolmenä N   O_O                2    nsp= 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kong- P  O_o                  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MS Mincho"/>
              </a:rPr>
              <a:t>panal N HR O_O            2    nsp= 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MS Mincho"/>
              </a:rPr>
              <a:t>panal N MR O_O            1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572000" y="1981080"/>
            <a:ext cx="213372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762120" y="5638680"/>
            <a:ext cx="7467480" cy="838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7B5F-786D-455E-993A-AD3F56F90285}" type="slidenum">
              <a:t>1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xample LexAnalyzer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6" name=""/>
          <p:cNvSpPr/>
          <p:nvPr/>
        </p:nvSpPr>
        <p:spPr>
          <a:xfrm>
            <a:off x="838080" y="2209680"/>
            <a:ext cx="7848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TOTALS FOR FILE </a:t>
            </a:r>
            <a:r>
              <a:rPr b="1" lang="en-GB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SEL.t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TARGET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Otomí           Español     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Types     137 (</a:t>
            </a:r>
            <a:r>
              <a:rPr b="1" lang="en-GB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94.48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%)    8 (</a:t>
            </a:r>
            <a:r>
              <a:rPr b="1" lang="en-GB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5.52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%)    1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Tokens    326 (</a:t>
            </a:r>
            <a:r>
              <a:rPr b="1" lang="en-GB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94.77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%)   18 (</a:t>
            </a:r>
            <a:r>
              <a:rPr b="1" lang="en-GB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5.23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%)    3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TTR       0.42           0.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895480" y="1981080"/>
            <a:ext cx="213372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A315-6A57-4FA2-9DA6-57E03794ADAE}" type="slidenum">
              <a:t>1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xample LexAnalyzer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9" name=""/>
          <p:cNvSpPr/>
          <p:nvPr/>
        </p:nvSpPr>
        <p:spPr>
          <a:xfrm>
            <a:off x="838080" y="2209680"/>
            <a:ext cx="7848720" cy="38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TOTALS FOR FILE </a:t>
            </a:r>
            <a:r>
              <a:rPr b="1" lang="en-GB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SEL.t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TARGET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Otomí           Español     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Types     137 (</a:t>
            </a:r>
            <a:r>
              <a:rPr b="1" lang="en-GB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94.48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%)    8 (</a:t>
            </a:r>
            <a:r>
              <a:rPr b="1" lang="en-GB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5.52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%)    1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Tokens    326 (</a:t>
            </a:r>
            <a:r>
              <a:rPr b="1" lang="en-GB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94.77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%)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18 (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MS Mincho"/>
              </a:rPr>
              <a:t>5.23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%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 3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TTR       0.42           0.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2895480" y="1981080"/>
            <a:ext cx="213372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572000" y="4191120"/>
            <a:ext cx="2133720" cy="761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F410-8151-47A9-B79E-49B3F4BECFF7}" type="slidenum">
              <a:t>1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xample LexAnalyzer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3" name=""/>
          <p:cNvSpPr/>
          <p:nvPr/>
        </p:nvSpPr>
        <p:spPr>
          <a:xfrm>
            <a:off x="838080" y="2209680"/>
            <a:ext cx="7848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TOTALS FOR </a:t>
            </a:r>
            <a:r>
              <a:rPr b="1" lang="en-GB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ALL FILES (n = 5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TARGET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Otomí           Español      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Types      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5344 (</a:t>
            </a:r>
            <a:r>
              <a:rPr b="1" lang="nl-NL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8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1</a:t>
            </a:r>
            <a:r>
              <a:rPr b="1" lang="nl-NL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.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0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%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1255 (</a:t>
            </a:r>
            <a:r>
              <a:rPr b="1" lang="nl-NL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19.0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%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65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Tokens    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61693 (</a:t>
            </a:r>
            <a:r>
              <a:rPr b="1" lang="nl-NL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85.9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%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8841 (</a:t>
            </a:r>
            <a:r>
              <a:rPr b="1" lang="nl-NL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14.1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%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705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TTR       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.09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0.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de switches: </a:t>
            </a:r>
            <a:r>
              <a:rPr b="1" lang="en-GB" sz="20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90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 tokens: 372; mean length:   </a:t>
            </a:r>
            <a:r>
              <a:rPr b="1" lang="en-GB" sz="20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4.1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2362320" y="1905120"/>
            <a:ext cx="335268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439A-3F7B-4C73-A40A-FD0318960F0A}" type="slidenum">
              <a:t>1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xample LexAnalyzer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6" name=""/>
          <p:cNvSpPr/>
          <p:nvPr/>
        </p:nvSpPr>
        <p:spPr>
          <a:xfrm>
            <a:off x="838080" y="2209680"/>
            <a:ext cx="784872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TOTALS FOR </a:t>
            </a:r>
            <a:r>
              <a:rPr b="1" lang="en-GB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ALL FILES (n = 5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TARGET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Otomí           Español      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Types      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5344 (</a:t>
            </a:r>
            <a:r>
              <a:rPr b="1" lang="nl-NL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8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1</a:t>
            </a:r>
            <a:r>
              <a:rPr b="1" lang="nl-NL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.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0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%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1255 (</a:t>
            </a:r>
            <a:r>
              <a:rPr b="1" lang="nl-NL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19.0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%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65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Tokens    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61693 (</a:t>
            </a:r>
            <a:r>
              <a:rPr b="1" lang="nl-NL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85.9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%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1" lang="nl-NL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8841 (</a:t>
            </a:r>
            <a:r>
              <a:rPr b="1" lang="nl-NL" sz="2400" spc="-1" strike="noStrike">
                <a:solidFill>
                  <a:srgbClr val="ff0000"/>
                </a:solidFill>
                <a:latin typeface="Courier New"/>
                <a:ea typeface="MS Mincho"/>
              </a:rPr>
              <a:t>14.1</a:t>
            </a:r>
            <a:r>
              <a:rPr b="1" lang="nl-NL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%)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705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TTR       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.09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0.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de switches: </a:t>
            </a:r>
            <a:r>
              <a:rPr b="1" lang="en-GB" sz="20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90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 tokens: 372; mean length:   </a:t>
            </a:r>
            <a:r>
              <a:rPr b="1" lang="en-GB" sz="20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4.1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2362320" y="1905120"/>
            <a:ext cx="335268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800600" y="4191120"/>
            <a:ext cx="2133720" cy="761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84D4-3B8C-4624-81DD-2B3FD2D2EDF1}" type="slidenum">
              <a:t>1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xample LexAnalyzer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0" name=""/>
          <p:cNvSpPr/>
          <p:nvPr/>
        </p:nvSpPr>
        <p:spPr>
          <a:xfrm>
            <a:off x="3240" y="1247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3240" y="49705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3240" y="9036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240" y="594684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240" y="72864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5" name=""/>
          <p:cNvGrpSpPr/>
          <p:nvPr/>
        </p:nvGrpSpPr>
        <p:grpSpPr>
          <a:xfrm>
            <a:off x="746280" y="2274840"/>
            <a:ext cx="5730840" cy="3668760"/>
            <a:chOff x="746280" y="2274840"/>
            <a:chExt cx="5730840" cy="3668760"/>
          </a:xfrm>
        </p:grpSpPr>
        <p:grpSp>
          <p:nvGrpSpPr>
            <p:cNvPr id="1156" name=""/>
            <p:cNvGrpSpPr/>
            <p:nvPr/>
          </p:nvGrpSpPr>
          <p:grpSpPr>
            <a:xfrm>
              <a:off x="750960" y="2279520"/>
              <a:ext cx="5721480" cy="3659400"/>
              <a:chOff x="750960" y="2279520"/>
              <a:chExt cx="5721480" cy="3659400"/>
            </a:xfrm>
          </p:grpSpPr>
          <p:grpSp>
            <p:nvGrpSpPr>
              <p:cNvPr id="1157" name=""/>
              <p:cNvGrpSpPr/>
              <p:nvPr/>
            </p:nvGrpSpPr>
            <p:grpSpPr>
              <a:xfrm>
                <a:off x="750960" y="2279520"/>
                <a:ext cx="1636560" cy="731880"/>
                <a:chOff x="750960" y="2279520"/>
                <a:chExt cx="1636560" cy="731880"/>
              </a:xfrm>
            </p:grpSpPr>
            <p:sp>
              <p:nvSpPr>
                <p:cNvPr id="1158" name=""/>
                <p:cNvSpPr/>
                <p:nvPr/>
              </p:nvSpPr>
              <p:spPr>
                <a:xfrm>
                  <a:off x="795240" y="22795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750960" y="22795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0" name=""/>
              <p:cNvGrpSpPr/>
              <p:nvPr/>
            </p:nvGrpSpPr>
            <p:grpSpPr>
              <a:xfrm>
                <a:off x="2387520" y="2279520"/>
                <a:ext cx="1395720" cy="731880"/>
                <a:chOff x="2387520" y="2279520"/>
                <a:chExt cx="1395720" cy="731880"/>
              </a:xfrm>
            </p:grpSpPr>
            <p:sp>
              <p:nvSpPr>
                <p:cNvPr id="1161" name=""/>
                <p:cNvSpPr/>
                <p:nvPr/>
              </p:nvSpPr>
              <p:spPr>
                <a:xfrm>
                  <a:off x="2432160" y="2279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2387520" y="2279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3" name=""/>
              <p:cNvGrpSpPr/>
              <p:nvPr/>
            </p:nvGrpSpPr>
            <p:grpSpPr>
              <a:xfrm>
                <a:off x="3783240" y="2279520"/>
                <a:ext cx="1293480" cy="731880"/>
                <a:chOff x="3783240" y="2279520"/>
                <a:chExt cx="1293480" cy="731880"/>
              </a:xfrm>
            </p:grpSpPr>
            <p:sp>
              <p:nvSpPr>
                <p:cNvPr id="1164" name=""/>
                <p:cNvSpPr/>
                <p:nvPr/>
              </p:nvSpPr>
              <p:spPr>
                <a:xfrm>
                  <a:off x="3827520" y="22795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3783240" y="22795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6" name=""/>
              <p:cNvGrpSpPr/>
              <p:nvPr/>
            </p:nvGrpSpPr>
            <p:grpSpPr>
              <a:xfrm>
                <a:off x="5076720" y="2279520"/>
                <a:ext cx="1395720" cy="731880"/>
                <a:chOff x="5076720" y="2279520"/>
                <a:chExt cx="1395720" cy="731880"/>
              </a:xfrm>
            </p:grpSpPr>
            <p:sp>
              <p:nvSpPr>
                <p:cNvPr id="1167" name=""/>
                <p:cNvSpPr/>
                <p:nvPr/>
              </p:nvSpPr>
              <p:spPr>
                <a:xfrm>
                  <a:off x="5121360" y="2279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5076720" y="2279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9" name=""/>
              <p:cNvGrpSpPr/>
              <p:nvPr/>
            </p:nvGrpSpPr>
            <p:grpSpPr>
              <a:xfrm>
                <a:off x="750960" y="3011400"/>
                <a:ext cx="1636560" cy="731880"/>
                <a:chOff x="750960" y="3011400"/>
                <a:chExt cx="1636560" cy="731880"/>
              </a:xfrm>
            </p:grpSpPr>
            <p:sp>
              <p:nvSpPr>
                <p:cNvPr id="1170" name=""/>
                <p:cNvSpPr/>
                <p:nvPr/>
              </p:nvSpPr>
              <p:spPr>
                <a:xfrm>
                  <a:off x="795240" y="30114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Mimimu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750960" y="30114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2" name=""/>
              <p:cNvGrpSpPr/>
              <p:nvPr/>
            </p:nvGrpSpPr>
            <p:grpSpPr>
              <a:xfrm>
                <a:off x="2387520" y="3011400"/>
                <a:ext cx="1395720" cy="731880"/>
                <a:chOff x="2387520" y="3011400"/>
                <a:chExt cx="1395720" cy="731880"/>
              </a:xfrm>
            </p:grpSpPr>
            <p:sp>
              <p:nvSpPr>
                <p:cNvPr id="1173" name=""/>
                <p:cNvSpPr/>
                <p:nvPr/>
              </p:nvSpPr>
              <p:spPr>
                <a:xfrm>
                  <a:off x="2432160" y="30114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4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2387520" y="30114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5" name=""/>
              <p:cNvGrpSpPr/>
              <p:nvPr/>
            </p:nvGrpSpPr>
            <p:grpSpPr>
              <a:xfrm>
                <a:off x="3783240" y="3011400"/>
                <a:ext cx="1293480" cy="731880"/>
                <a:chOff x="3783240" y="3011400"/>
                <a:chExt cx="1293480" cy="731880"/>
              </a:xfrm>
            </p:grpSpPr>
            <p:sp>
              <p:nvSpPr>
                <p:cNvPr id="1176" name=""/>
                <p:cNvSpPr/>
                <p:nvPr/>
              </p:nvSpPr>
              <p:spPr>
                <a:xfrm>
                  <a:off x="3827520" y="30114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5.7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3783240" y="30114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8" name=""/>
              <p:cNvGrpSpPr/>
              <p:nvPr/>
            </p:nvGrpSpPr>
            <p:grpSpPr>
              <a:xfrm>
                <a:off x="5076720" y="3011400"/>
                <a:ext cx="1395720" cy="731880"/>
                <a:chOff x="5076720" y="3011400"/>
                <a:chExt cx="1395720" cy="731880"/>
              </a:xfrm>
            </p:grpSpPr>
            <p:sp>
              <p:nvSpPr>
                <p:cNvPr id="1179" name=""/>
                <p:cNvSpPr/>
                <p:nvPr/>
              </p:nvSpPr>
              <p:spPr>
                <a:xfrm>
                  <a:off x="5121360" y="30114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6.7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5076720" y="30114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1" name=""/>
              <p:cNvGrpSpPr/>
              <p:nvPr/>
            </p:nvGrpSpPr>
            <p:grpSpPr>
              <a:xfrm>
                <a:off x="750960" y="3743280"/>
                <a:ext cx="1636560" cy="731880"/>
                <a:chOff x="750960" y="3743280"/>
                <a:chExt cx="1636560" cy="731880"/>
              </a:xfrm>
            </p:grpSpPr>
            <p:sp>
              <p:nvSpPr>
                <p:cNvPr id="1182" name=""/>
                <p:cNvSpPr/>
                <p:nvPr/>
              </p:nvSpPr>
              <p:spPr>
                <a:xfrm>
                  <a:off x="795240" y="374328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Maximu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750960" y="374328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4" name=""/>
              <p:cNvGrpSpPr/>
              <p:nvPr/>
            </p:nvGrpSpPr>
            <p:grpSpPr>
              <a:xfrm>
                <a:off x="2387520" y="3743280"/>
                <a:ext cx="1395720" cy="731880"/>
                <a:chOff x="2387520" y="3743280"/>
                <a:chExt cx="1395720" cy="731880"/>
              </a:xfrm>
            </p:grpSpPr>
            <p:sp>
              <p:nvSpPr>
                <p:cNvPr id="1185" name=""/>
                <p:cNvSpPr/>
                <p:nvPr/>
              </p:nvSpPr>
              <p:spPr>
                <a:xfrm>
                  <a:off x="2432160" y="37432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27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2387520" y="37432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7" name=""/>
              <p:cNvGrpSpPr/>
              <p:nvPr/>
            </p:nvGrpSpPr>
            <p:grpSpPr>
              <a:xfrm>
                <a:off x="3783240" y="3743280"/>
                <a:ext cx="1293480" cy="731880"/>
                <a:chOff x="3783240" y="3743280"/>
                <a:chExt cx="1293480" cy="731880"/>
              </a:xfrm>
            </p:grpSpPr>
            <p:sp>
              <p:nvSpPr>
                <p:cNvPr id="1188" name=""/>
                <p:cNvSpPr/>
                <p:nvPr/>
              </p:nvSpPr>
              <p:spPr>
                <a:xfrm>
                  <a:off x="3827520" y="374328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28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3783240" y="374328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0" name=""/>
              <p:cNvGrpSpPr/>
              <p:nvPr/>
            </p:nvGrpSpPr>
            <p:grpSpPr>
              <a:xfrm>
                <a:off x="5076720" y="3743280"/>
                <a:ext cx="1395720" cy="731880"/>
                <a:chOff x="5076720" y="3743280"/>
                <a:chExt cx="1395720" cy="731880"/>
              </a:xfrm>
            </p:grpSpPr>
            <p:sp>
              <p:nvSpPr>
                <p:cNvPr id="1191" name=""/>
                <p:cNvSpPr/>
                <p:nvPr/>
              </p:nvSpPr>
              <p:spPr>
                <a:xfrm>
                  <a:off x="5121360" y="37432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26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5076720" y="37432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3" name=""/>
              <p:cNvGrpSpPr/>
              <p:nvPr/>
            </p:nvGrpSpPr>
            <p:grpSpPr>
              <a:xfrm>
                <a:off x="750960" y="4475160"/>
                <a:ext cx="1636560" cy="731880"/>
                <a:chOff x="750960" y="4475160"/>
                <a:chExt cx="1636560" cy="731880"/>
              </a:xfrm>
            </p:grpSpPr>
            <p:sp>
              <p:nvSpPr>
                <p:cNvPr id="1194" name=""/>
                <p:cNvSpPr/>
                <p:nvPr/>
              </p:nvSpPr>
              <p:spPr>
                <a:xfrm>
                  <a:off x="795240" y="447516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Mea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750960" y="447516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6" name=""/>
              <p:cNvGrpSpPr/>
              <p:nvPr/>
            </p:nvGrpSpPr>
            <p:grpSpPr>
              <a:xfrm>
                <a:off x="2387520" y="4475160"/>
                <a:ext cx="1395720" cy="731880"/>
                <a:chOff x="2387520" y="4475160"/>
                <a:chExt cx="1395720" cy="731880"/>
              </a:xfrm>
            </p:grpSpPr>
            <p:sp>
              <p:nvSpPr>
                <p:cNvPr id="1197" name=""/>
                <p:cNvSpPr/>
                <p:nvPr/>
              </p:nvSpPr>
              <p:spPr>
                <a:xfrm>
                  <a:off x="2432160" y="44751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18.9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2387520" y="44751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9" name=""/>
              <p:cNvGrpSpPr/>
              <p:nvPr/>
            </p:nvGrpSpPr>
            <p:grpSpPr>
              <a:xfrm>
                <a:off x="3783240" y="4475160"/>
                <a:ext cx="1293480" cy="731880"/>
                <a:chOff x="3783240" y="4475160"/>
                <a:chExt cx="1293480" cy="731880"/>
              </a:xfrm>
            </p:grpSpPr>
            <p:sp>
              <p:nvSpPr>
                <p:cNvPr id="1200" name=""/>
                <p:cNvSpPr/>
                <p:nvPr/>
              </p:nvSpPr>
              <p:spPr>
                <a:xfrm>
                  <a:off x="3827520" y="447516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17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3783240" y="447516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2" name=""/>
              <p:cNvGrpSpPr/>
              <p:nvPr/>
            </p:nvGrpSpPr>
            <p:grpSpPr>
              <a:xfrm>
                <a:off x="5076720" y="4475160"/>
                <a:ext cx="1395720" cy="731880"/>
                <a:chOff x="5076720" y="4475160"/>
                <a:chExt cx="1395720" cy="731880"/>
              </a:xfrm>
            </p:grpSpPr>
            <p:sp>
              <p:nvSpPr>
                <p:cNvPr id="1203" name=""/>
                <p:cNvSpPr/>
                <p:nvPr/>
              </p:nvSpPr>
              <p:spPr>
                <a:xfrm>
                  <a:off x="5121360" y="44751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14.1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5076720" y="44751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5" name=""/>
              <p:cNvGrpSpPr/>
              <p:nvPr/>
            </p:nvGrpSpPr>
            <p:grpSpPr>
              <a:xfrm>
                <a:off x="750960" y="5207040"/>
                <a:ext cx="1636560" cy="731880"/>
                <a:chOff x="750960" y="5207040"/>
                <a:chExt cx="1636560" cy="731880"/>
              </a:xfrm>
            </p:grpSpPr>
            <p:sp>
              <p:nvSpPr>
                <p:cNvPr id="1206" name=""/>
                <p:cNvSpPr/>
                <p:nvPr/>
              </p:nvSpPr>
              <p:spPr>
                <a:xfrm>
                  <a:off x="795240" y="520704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SD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750960" y="520704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8" name=""/>
              <p:cNvGrpSpPr/>
              <p:nvPr/>
            </p:nvGrpSpPr>
            <p:grpSpPr>
              <a:xfrm>
                <a:off x="2387520" y="5207040"/>
                <a:ext cx="1395720" cy="731880"/>
                <a:chOff x="2387520" y="5207040"/>
                <a:chExt cx="1395720" cy="731880"/>
              </a:xfrm>
            </p:grpSpPr>
            <p:sp>
              <p:nvSpPr>
                <p:cNvPr id="1209" name=""/>
                <p:cNvSpPr/>
                <p:nvPr/>
              </p:nvSpPr>
              <p:spPr>
                <a:xfrm>
                  <a:off x="2432160" y="520704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8.9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2387520" y="520704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1" name=""/>
              <p:cNvGrpSpPr/>
              <p:nvPr/>
            </p:nvGrpSpPr>
            <p:grpSpPr>
              <a:xfrm>
                <a:off x="3783240" y="5207040"/>
                <a:ext cx="1293480" cy="731880"/>
                <a:chOff x="3783240" y="5207040"/>
                <a:chExt cx="1293480" cy="731880"/>
              </a:xfrm>
            </p:grpSpPr>
            <p:sp>
              <p:nvSpPr>
                <p:cNvPr id="1212" name=""/>
                <p:cNvSpPr/>
                <p:nvPr/>
              </p:nvSpPr>
              <p:spPr>
                <a:xfrm>
                  <a:off x="3827520" y="520704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6.4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3783240" y="520704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4" name=""/>
              <p:cNvGrpSpPr/>
              <p:nvPr/>
            </p:nvGrpSpPr>
            <p:grpSpPr>
              <a:xfrm>
                <a:off x="5076720" y="5207040"/>
                <a:ext cx="1395720" cy="731880"/>
                <a:chOff x="5076720" y="5207040"/>
                <a:chExt cx="1395720" cy="731880"/>
              </a:xfrm>
            </p:grpSpPr>
            <p:sp>
              <p:nvSpPr>
                <p:cNvPr id="1215" name=""/>
                <p:cNvSpPr/>
                <p:nvPr/>
              </p:nvSpPr>
              <p:spPr>
                <a:xfrm>
                  <a:off x="5121360" y="520704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3.97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>
                  <a:off x="5076720" y="520704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17" name=""/>
            <p:cNvSpPr/>
            <p:nvPr/>
          </p:nvSpPr>
          <p:spPr>
            <a:xfrm>
              <a:off x="746280" y="2274840"/>
              <a:ext cx="5730840" cy="36687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8" name=""/>
          <p:cNvSpPr/>
          <p:nvPr/>
        </p:nvSpPr>
        <p:spPr>
          <a:xfrm>
            <a:off x="3240" y="521496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A71B-20D4-45E2-A768-8A377DBBE692}" type="slidenum">
              <a:t>1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xample LexAnalyzer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0" name=""/>
          <p:cNvSpPr/>
          <p:nvPr/>
        </p:nvSpPr>
        <p:spPr>
          <a:xfrm>
            <a:off x="3240" y="1247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3240" y="49705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3240" y="9036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3240" y="594684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3240" y="72864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746280" y="2274840"/>
            <a:ext cx="5730840" cy="3668760"/>
            <a:chOff x="746280" y="2274840"/>
            <a:chExt cx="5730840" cy="3668760"/>
          </a:xfrm>
        </p:grpSpPr>
        <p:grpSp>
          <p:nvGrpSpPr>
            <p:cNvPr id="1226" name=""/>
            <p:cNvGrpSpPr/>
            <p:nvPr/>
          </p:nvGrpSpPr>
          <p:grpSpPr>
            <a:xfrm>
              <a:off x="750960" y="2279520"/>
              <a:ext cx="5721480" cy="3659400"/>
              <a:chOff x="750960" y="2279520"/>
              <a:chExt cx="5721480" cy="3659400"/>
            </a:xfrm>
          </p:grpSpPr>
          <p:grpSp>
            <p:nvGrpSpPr>
              <p:cNvPr id="1227" name=""/>
              <p:cNvGrpSpPr/>
              <p:nvPr/>
            </p:nvGrpSpPr>
            <p:grpSpPr>
              <a:xfrm>
                <a:off x="750960" y="2279520"/>
                <a:ext cx="1636560" cy="731880"/>
                <a:chOff x="750960" y="2279520"/>
                <a:chExt cx="1636560" cy="731880"/>
              </a:xfrm>
            </p:grpSpPr>
            <p:sp>
              <p:nvSpPr>
                <p:cNvPr id="1228" name=""/>
                <p:cNvSpPr/>
                <p:nvPr/>
              </p:nvSpPr>
              <p:spPr>
                <a:xfrm>
                  <a:off x="795240" y="22795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750960" y="22795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0" name=""/>
              <p:cNvGrpSpPr/>
              <p:nvPr/>
            </p:nvGrpSpPr>
            <p:grpSpPr>
              <a:xfrm>
                <a:off x="2387520" y="2279520"/>
                <a:ext cx="1395720" cy="731880"/>
                <a:chOff x="2387520" y="2279520"/>
                <a:chExt cx="1395720" cy="731880"/>
              </a:xfrm>
            </p:grpSpPr>
            <p:sp>
              <p:nvSpPr>
                <p:cNvPr id="1231" name=""/>
                <p:cNvSpPr/>
                <p:nvPr/>
              </p:nvSpPr>
              <p:spPr>
                <a:xfrm>
                  <a:off x="2432160" y="2279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2387520" y="2279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3" name=""/>
              <p:cNvGrpSpPr/>
              <p:nvPr/>
            </p:nvGrpSpPr>
            <p:grpSpPr>
              <a:xfrm>
                <a:off x="3783240" y="2279520"/>
                <a:ext cx="1293480" cy="731880"/>
                <a:chOff x="3783240" y="2279520"/>
                <a:chExt cx="1293480" cy="731880"/>
              </a:xfrm>
            </p:grpSpPr>
            <p:sp>
              <p:nvSpPr>
                <p:cNvPr id="1234" name=""/>
                <p:cNvSpPr/>
                <p:nvPr/>
              </p:nvSpPr>
              <p:spPr>
                <a:xfrm>
                  <a:off x="3827520" y="22795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3783240" y="22795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6" name=""/>
              <p:cNvGrpSpPr/>
              <p:nvPr/>
            </p:nvGrpSpPr>
            <p:grpSpPr>
              <a:xfrm>
                <a:off x="5076720" y="2279520"/>
                <a:ext cx="1395720" cy="731880"/>
                <a:chOff x="5076720" y="2279520"/>
                <a:chExt cx="1395720" cy="731880"/>
              </a:xfrm>
            </p:grpSpPr>
            <p:sp>
              <p:nvSpPr>
                <p:cNvPr id="1237" name=""/>
                <p:cNvSpPr/>
                <p:nvPr/>
              </p:nvSpPr>
              <p:spPr>
                <a:xfrm>
                  <a:off x="5121360" y="2279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5076720" y="2279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9" name=""/>
              <p:cNvGrpSpPr/>
              <p:nvPr/>
            </p:nvGrpSpPr>
            <p:grpSpPr>
              <a:xfrm>
                <a:off x="750960" y="3011400"/>
                <a:ext cx="1636560" cy="731880"/>
                <a:chOff x="750960" y="3011400"/>
                <a:chExt cx="1636560" cy="731880"/>
              </a:xfrm>
            </p:grpSpPr>
            <p:sp>
              <p:nvSpPr>
                <p:cNvPr id="1240" name=""/>
                <p:cNvSpPr/>
                <p:nvPr/>
              </p:nvSpPr>
              <p:spPr>
                <a:xfrm>
                  <a:off x="795240" y="30114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Mimimu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750960" y="30114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2" name=""/>
              <p:cNvGrpSpPr/>
              <p:nvPr/>
            </p:nvGrpSpPr>
            <p:grpSpPr>
              <a:xfrm>
                <a:off x="2387520" y="3011400"/>
                <a:ext cx="1395720" cy="731880"/>
                <a:chOff x="2387520" y="3011400"/>
                <a:chExt cx="1395720" cy="731880"/>
              </a:xfrm>
            </p:grpSpPr>
            <p:sp>
              <p:nvSpPr>
                <p:cNvPr id="1243" name=""/>
                <p:cNvSpPr/>
                <p:nvPr/>
              </p:nvSpPr>
              <p:spPr>
                <a:xfrm>
                  <a:off x="2432160" y="30114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4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2387520" y="30114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5" name=""/>
              <p:cNvGrpSpPr/>
              <p:nvPr/>
            </p:nvGrpSpPr>
            <p:grpSpPr>
              <a:xfrm>
                <a:off x="3783240" y="3011400"/>
                <a:ext cx="1293480" cy="731880"/>
                <a:chOff x="3783240" y="3011400"/>
                <a:chExt cx="1293480" cy="731880"/>
              </a:xfrm>
            </p:grpSpPr>
            <p:sp>
              <p:nvSpPr>
                <p:cNvPr id="1246" name=""/>
                <p:cNvSpPr/>
                <p:nvPr/>
              </p:nvSpPr>
              <p:spPr>
                <a:xfrm>
                  <a:off x="3827520" y="30114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5.7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3783240" y="30114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8" name=""/>
              <p:cNvGrpSpPr/>
              <p:nvPr/>
            </p:nvGrpSpPr>
            <p:grpSpPr>
              <a:xfrm>
                <a:off x="5076720" y="3011400"/>
                <a:ext cx="1395720" cy="731880"/>
                <a:chOff x="5076720" y="3011400"/>
                <a:chExt cx="1395720" cy="731880"/>
              </a:xfrm>
            </p:grpSpPr>
            <p:sp>
              <p:nvSpPr>
                <p:cNvPr id="1249" name=""/>
                <p:cNvSpPr/>
                <p:nvPr/>
              </p:nvSpPr>
              <p:spPr>
                <a:xfrm>
                  <a:off x="5121360" y="30114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6.7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5076720" y="30114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1" name=""/>
              <p:cNvGrpSpPr/>
              <p:nvPr/>
            </p:nvGrpSpPr>
            <p:grpSpPr>
              <a:xfrm>
                <a:off x="750960" y="3743280"/>
                <a:ext cx="1636560" cy="731880"/>
                <a:chOff x="750960" y="3743280"/>
                <a:chExt cx="1636560" cy="731880"/>
              </a:xfrm>
            </p:grpSpPr>
            <p:sp>
              <p:nvSpPr>
                <p:cNvPr id="1252" name=""/>
                <p:cNvSpPr/>
                <p:nvPr/>
              </p:nvSpPr>
              <p:spPr>
                <a:xfrm>
                  <a:off x="795240" y="374328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Maximu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750960" y="374328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4" name=""/>
              <p:cNvGrpSpPr/>
              <p:nvPr/>
            </p:nvGrpSpPr>
            <p:grpSpPr>
              <a:xfrm>
                <a:off x="2387520" y="3743280"/>
                <a:ext cx="1395720" cy="731880"/>
                <a:chOff x="2387520" y="3743280"/>
                <a:chExt cx="1395720" cy="731880"/>
              </a:xfrm>
            </p:grpSpPr>
            <p:sp>
              <p:nvSpPr>
                <p:cNvPr id="1255" name=""/>
                <p:cNvSpPr/>
                <p:nvPr/>
              </p:nvSpPr>
              <p:spPr>
                <a:xfrm>
                  <a:off x="2432160" y="37432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27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2387520" y="37432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7" name=""/>
              <p:cNvGrpSpPr/>
              <p:nvPr/>
            </p:nvGrpSpPr>
            <p:grpSpPr>
              <a:xfrm>
                <a:off x="3783240" y="3743280"/>
                <a:ext cx="1293480" cy="731880"/>
                <a:chOff x="3783240" y="3743280"/>
                <a:chExt cx="1293480" cy="731880"/>
              </a:xfrm>
            </p:grpSpPr>
            <p:sp>
              <p:nvSpPr>
                <p:cNvPr id="1258" name=""/>
                <p:cNvSpPr/>
                <p:nvPr/>
              </p:nvSpPr>
              <p:spPr>
                <a:xfrm>
                  <a:off x="3827520" y="374328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28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>
                  <a:off x="3783240" y="374328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0" name=""/>
              <p:cNvGrpSpPr/>
              <p:nvPr/>
            </p:nvGrpSpPr>
            <p:grpSpPr>
              <a:xfrm>
                <a:off x="5076720" y="3743280"/>
                <a:ext cx="1395720" cy="731880"/>
                <a:chOff x="5076720" y="3743280"/>
                <a:chExt cx="1395720" cy="731880"/>
              </a:xfrm>
            </p:grpSpPr>
            <p:sp>
              <p:nvSpPr>
                <p:cNvPr id="1261" name=""/>
                <p:cNvSpPr/>
                <p:nvPr/>
              </p:nvSpPr>
              <p:spPr>
                <a:xfrm>
                  <a:off x="5121360" y="37432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26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5076720" y="37432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3" name=""/>
              <p:cNvGrpSpPr/>
              <p:nvPr/>
            </p:nvGrpSpPr>
            <p:grpSpPr>
              <a:xfrm>
                <a:off x="750960" y="4475160"/>
                <a:ext cx="1636560" cy="731880"/>
                <a:chOff x="750960" y="4475160"/>
                <a:chExt cx="1636560" cy="731880"/>
              </a:xfrm>
            </p:grpSpPr>
            <p:sp>
              <p:nvSpPr>
                <p:cNvPr id="1264" name=""/>
                <p:cNvSpPr/>
                <p:nvPr/>
              </p:nvSpPr>
              <p:spPr>
                <a:xfrm>
                  <a:off x="795240" y="447516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Mea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750960" y="447516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6" name=""/>
              <p:cNvGrpSpPr/>
              <p:nvPr/>
            </p:nvGrpSpPr>
            <p:grpSpPr>
              <a:xfrm>
                <a:off x="2387520" y="4475160"/>
                <a:ext cx="1395720" cy="731880"/>
                <a:chOff x="2387520" y="4475160"/>
                <a:chExt cx="1395720" cy="731880"/>
              </a:xfrm>
            </p:grpSpPr>
            <p:sp>
              <p:nvSpPr>
                <p:cNvPr id="1267" name=""/>
                <p:cNvSpPr/>
                <p:nvPr/>
              </p:nvSpPr>
              <p:spPr>
                <a:xfrm>
                  <a:off x="2432160" y="44751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Courier New"/>
                      <a:ea typeface="Courier New"/>
                    </a:rPr>
                    <a:t>18.9%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2387520" y="44751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9" name=""/>
              <p:cNvGrpSpPr/>
              <p:nvPr/>
            </p:nvGrpSpPr>
            <p:grpSpPr>
              <a:xfrm>
                <a:off x="3783240" y="4475160"/>
                <a:ext cx="1293480" cy="731880"/>
                <a:chOff x="3783240" y="4475160"/>
                <a:chExt cx="1293480" cy="731880"/>
              </a:xfrm>
            </p:grpSpPr>
            <p:sp>
              <p:nvSpPr>
                <p:cNvPr id="1270" name=""/>
                <p:cNvSpPr/>
                <p:nvPr/>
              </p:nvSpPr>
              <p:spPr>
                <a:xfrm>
                  <a:off x="3827520" y="447516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Courier New"/>
                      <a:ea typeface="Courier New"/>
                    </a:rPr>
                    <a:t>17.4%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3783240" y="447516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2" name=""/>
              <p:cNvGrpSpPr/>
              <p:nvPr/>
            </p:nvGrpSpPr>
            <p:grpSpPr>
              <a:xfrm>
                <a:off x="5076720" y="4475160"/>
                <a:ext cx="1395720" cy="731880"/>
                <a:chOff x="5076720" y="4475160"/>
                <a:chExt cx="1395720" cy="731880"/>
              </a:xfrm>
            </p:grpSpPr>
            <p:sp>
              <p:nvSpPr>
                <p:cNvPr id="1273" name=""/>
                <p:cNvSpPr/>
                <p:nvPr/>
              </p:nvSpPr>
              <p:spPr>
                <a:xfrm>
                  <a:off x="5121360" y="44751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Courier New"/>
                      <a:ea typeface="Courier New"/>
                    </a:rPr>
                    <a:t>14.1%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5076720" y="44751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5" name=""/>
              <p:cNvGrpSpPr/>
              <p:nvPr/>
            </p:nvGrpSpPr>
            <p:grpSpPr>
              <a:xfrm>
                <a:off x="750960" y="5207040"/>
                <a:ext cx="1636560" cy="731880"/>
                <a:chOff x="750960" y="5207040"/>
                <a:chExt cx="1636560" cy="731880"/>
              </a:xfrm>
            </p:grpSpPr>
            <p:sp>
              <p:nvSpPr>
                <p:cNvPr id="1276" name=""/>
                <p:cNvSpPr/>
                <p:nvPr/>
              </p:nvSpPr>
              <p:spPr>
                <a:xfrm>
                  <a:off x="795240" y="520704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SD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750960" y="520704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8" name=""/>
              <p:cNvGrpSpPr/>
              <p:nvPr/>
            </p:nvGrpSpPr>
            <p:grpSpPr>
              <a:xfrm>
                <a:off x="2387520" y="5207040"/>
                <a:ext cx="1395720" cy="731880"/>
                <a:chOff x="2387520" y="5207040"/>
                <a:chExt cx="1395720" cy="731880"/>
              </a:xfrm>
            </p:grpSpPr>
            <p:sp>
              <p:nvSpPr>
                <p:cNvPr id="1279" name=""/>
                <p:cNvSpPr/>
                <p:nvPr/>
              </p:nvSpPr>
              <p:spPr>
                <a:xfrm>
                  <a:off x="2432160" y="520704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8.9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2387520" y="520704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1" name=""/>
              <p:cNvGrpSpPr/>
              <p:nvPr/>
            </p:nvGrpSpPr>
            <p:grpSpPr>
              <a:xfrm>
                <a:off x="3783240" y="5207040"/>
                <a:ext cx="1293480" cy="731880"/>
                <a:chOff x="3783240" y="5207040"/>
                <a:chExt cx="1293480" cy="731880"/>
              </a:xfrm>
            </p:grpSpPr>
            <p:sp>
              <p:nvSpPr>
                <p:cNvPr id="1282" name=""/>
                <p:cNvSpPr/>
                <p:nvPr/>
              </p:nvSpPr>
              <p:spPr>
                <a:xfrm>
                  <a:off x="3827520" y="520704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6.4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3783240" y="520704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4" name=""/>
              <p:cNvGrpSpPr/>
              <p:nvPr/>
            </p:nvGrpSpPr>
            <p:grpSpPr>
              <a:xfrm>
                <a:off x="5076720" y="5207040"/>
                <a:ext cx="1395720" cy="731880"/>
                <a:chOff x="5076720" y="5207040"/>
                <a:chExt cx="1395720" cy="731880"/>
              </a:xfrm>
            </p:grpSpPr>
            <p:sp>
              <p:nvSpPr>
                <p:cNvPr id="1285" name=""/>
                <p:cNvSpPr/>
                <p:nvPr/>
              </p:nvSpPr>
              <p:spPr>
                <a:xfrm>
                  <a:off x="5121360" y="520704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3.97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5076720" y="520704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87" name=""/>
            <p:cNvSpPr/>
            <p:nvPr/>
          </p:nvSpPr>
          <p:spPr>
            <a:xfrm>
              <a:off x="746280" y="2274840"/>
              <a:ext cx="5730840" cy="36687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8" name=""/>
          <p:cNvSpPr/>
          <p:nvPr/>
        </p:nvSpPr>
        <p:spPr>
          <a:xfrm>
            <a:off x="3240" y="521496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3657600" y="4419720"/>
            <a:ext cx="144792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5105520" y="4419720"/>
            <a:ext cx="144756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2209680" y="4419720"/>
            <a:ext cx="144792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62DF-272C-4F33-9EE0-F614FFE41DA2}" type="slidenum">
              <a:t>1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erence of univers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1355760" y="2395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62120" y="2133720"/>
            <a:ext cx="63792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08360" y="3500280"/>
            <a:ext cx="1943280" cy="18003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05520" y="3619440"/>
            <a:ext cx="8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r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95640" y="4005360"/>
            <a:ext cx="1441440" cy="1224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V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52280" y="5589720"/>
            <a:ext cx="190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VSO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Pr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(absolu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B6B4-DD94-4281-843A-2A47055E8CA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xample LexAnalyzer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3" name=""/>
          <p:cNvSpPr/>
          <p:nvPr/>
        </p:nvSpPr>
        <p:spPr>
          <a:xfrm>
            <a:off x="3240" y="1247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240" y="49705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240" y="9036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3240" y="594684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3240" y="72864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8" name=""/>
          <p:cNvGrpSpPr/>
          <p:nvPr/>
        </p:nvGrpSpPr>
        <p:grpSpPr>
          <a:xfrm>
            <a:off x="746280" y="2274840"/>
            <a:ext cx="5730840" cy="3668760"/>
            <a:chOff x="746280" y="2274840"/>
            <a:chExt cx="5730840" cy="3668760"/>
          </a:xfrm>
        </p:grpSpPr>
        <p:grpSp>
          <p:nvGrpSpPr>
            <p:cNvPr id="1299" name=""/>
            <p:cNvGrpSpPr/>
            <p:nvPr/>
          </p:nvGrpSpPr>
          <p:grpSpPr>
            <a:xfrm>
              <a:off x="750960" y="2279520"/>
              <a:ext cx="5721480" cy="3659400"/>
              <a:chOff x="750960" y="2279520"/>
              <a:chExt cx="5721480" cy="3659400"/>
            </a:xfrm>
          </p:grpSpPr>
          <p:grpSp>
            <p:nvGrpSpPr>
              <p:cNvPr id="1300" name=""/>
              <p:cNvGrpSpPr/>
              <p:nvPr/>
            </p:nvGrpSpPr>
            <p:grpSpPr>
              <a:xfrm>
                <a:off x="750960" y="2279520"/>
                <a:ext cx="1636560" cy="731880"/>
                <a:chOff x="750960" y="2279520"/>
                <a:chExt cx="1636560" cy="731880"/>
              </a:xfrm>
            </p:grpSpPr>
            <p:sp>
              <p:nvSpPr>
                <p:cNvPr id="1301" name=""/>
                <p:cNvSpPr/>
                <p:nvPr/>
              </p:nvSpPr>
              <p:spPr>
                <a:xfrm>
                  <a:off x="795240" y="22795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750960" y="22795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3" name=""/>
              <p:cNvGrpSpPr/>
              <p:nvPr/>
            </p:nvGrpSpPr>
            <p:grpSpPr>
              <a:xfrm>
                <a:off x="2387520" y="2279520"/>
                <a:ext cx="1395720" cy="731880"/>
                <a:chOff x="2387520" y="2279520"/>
                <a:chExt cx="1395720" cy="731880"/>
              </a:xfrm>
            </p:grpSpPr>
            <p:sp>
              <p:nvSpPr>
                <p:cNvPr id="1304" name=""/>
                <p:cNvSpPr/>
                <p:nvPr/>
              </p:nvSpPr>
              <p:spPr>
                <a:xfrm>
                  <a:off x="2432160" y="2279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>
                  <a:off x="2387520" y="2279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6" name=""/>
              <p:cNvGrpSpPr/>
              <p:nvPr/>
            </p:nvGrpSpPr>
            <p:grpSpPr>
              <a:xfrm>
                <a:off x="3783240" y="2279520"/>
                <a:ext cx="1293480" cy="731880"/>
                <a:chOff x="3783240" y="2279520"/>
                <a:chExt cx="1293480" cy="731880"/>
              </a:xfrm>
            </p:grpSpPr>
            <p:sp>
              <p:nvSpPr>
                <p:cNvPr id="1307" name=""/>
                <p:cNvSpPr/>
                <p:nvPr/>
              </p:nvSpPr>
              <p:spPr>
                <a:xfrm>
                  <a:off x="3827520" y="22795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>
                  <a:off x="3783240" y="22795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9" name=""/>
              <p:cNvGrpSpPr/>
              <p:nvPr/>
            </p:nvGrpSpPr>
            <p:grpSpPr>
              <a:xfrm>
                <a:off x="5076720" y="2279520"/>
                <a:ext cx="1395720" cy="731880"/>
                <a:chOff x="5076720" y="2279520"/>
                <a:chExt cx="1395720" cy="731880"/>
              </a:xfrm>
            </p:grpSpPr>
            <p:sp>
              <p:nvSpPr>
                <p:cNvPr id="1310" name=""/>
                <p:cNvSpPr/>
                <p:nvPr/>
              </p:nvSpPr>
              <p:spPr>
                <a:xfrm>
                  <a:off x="5121360" y="2279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5076720" y="2279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2" name=""/>
              <p:cNvGrpSpPr/>
              <p:nvPr/>
            </p:nvGrpSpPr>
            <p:grpSpPr>
              <a:xfrm>
                <a:off x="750960" y="3011400"/>
                <a:ext cx="1636560" cy="731880"/>
                <a:chOff x="750960" y="3011400"/>
                <a:chExt cx="1636560" cy="731880"/>
              </a:xfrm>
            </p:grpSpPr>
            <p:sp>
              <p:nvSpPr>
                <p:cNvPr id="1313" name=""/>
                <p:cNvSpPr/>
                <p:nvPr/>
              </p:nvSpPr>
              <p:spPr>
                <a:xfrm>
                  <a:off x="795240" y="30114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Mimimu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750960" y="30114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5" name=""/>
              <p:cNvGrpSpPr/>
              <p:nvPr/>
            </p:nvGrpSpPr>
            <p:grpSpPr>
              <a:xfrm>
                <a:off x="2387520" y="3011400"/>
                <a:ext cx="1395720" cy="731880"/>
                <a:chOff x="2387520" y="3011400"/>
                <a:chExt cx="1395720" cy="731880"/>
              </a:xfrm>
            </p:grpSpPr>
            <p:sp>
              <p:nvSpPr>
                <p:cNvPr id="1316" name=""/>
                <p:cNvSpPr/>
                <p:nvPr/>
              </p:nvSpPr>
              <p:spPr>
                <a:xfrm>
                  <a:off x="2432160" y="30114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4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2387520" y="30114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8" name=""/>
              <p:cNvGrpSpPr/>
              <p:nvPr/>
            </p:nvGrpSpPr>
            <p:grpSpPr>
              <a:xfrm>
                <a:off x="3783240" y="3011400"/>
                <a:ext cx="1293480" cy="731880"/>
                <a:chOff x="3783240" y="3011400"/>
                <a:chExt cx="1293480" cy="731880"/>
              </a:xfrm>
            </p:grpSpPr>
            <p:sp>
              <p:nvSpPr>
                <p:cNvPr id="1319" name=""/>
                <p:cNvSpPr/>
                <p:nvPr/>
              </p:nvSpPr>
              <p:spPr>
                <a:xfrm>
                  <a:off x="3827520" y="30114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5.7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>
                  <a:off x="3783240" y="30114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1" name=""/>
              <p:cNvGrpSpPr/>
              <p:nvPr/>
            </p:nvGrpSpPr>
            <p:grpSpPr>
              <a:xfrm>
                <a:off x="5076720" y="3011400"/>
                <a:ext cx="1395720" cy="731880"/>
                <a:chOff x="5076720" y="3011400"/>
                <a:chExt cx="1395720" cy="731880"/>
              </a:xfrm>
            </p:grpSpPr>
            <p:sp>
              <p:nvSpPr>
                <p:cNvPr id="1322" name=""/>
                <p:cNvSpPr/>
                <p:nvPr/>
              </p:nvSpPr>
              <p:spPr>
                <a:xfrm>
                  <a:off x="5121360" y="30114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6.7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5076720" y="30114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4" name=""/>
              <p:cNvGrpSpPr/>
              <p:nvPr/>
            </p:nvGrpSpPr>
            <p:grpSpPr>
              <a:xfrm>
                <a:off x="750960" y="3743280"/>
                <a:ext cx="1636560" cy="731880"/>
                <a:chOff x="750960" y="3743280"/>
                <a:chExt cx="1636560" cy="731880"/>
              </a:xfrm>
            </p:grpSpPr>
            <p:sp>
              <p:nvSpPr>
                <p:cNvPr id="1325" name=""/>
                <p:cNvSpPr/>
                <p:nvPr/>
              </p:nvSpPr>
              <p:spPr>
                <a:xfrm>
                  <a:off x="795240" y="374328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Maximu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>
                  <a:off x="750960" y="374328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7" name=""/>
              <p:cNvGrpSpPr/>
              <p:nvPr/>
            </p:nvGrpSpPr>
            <p:grpSpPr>
              <a:xfrm>
                <a:off x="2387520" y="3743280"/>
                <a:ext cx="1395720" cy="731880"/>
                <a:chOff x="2387520" y="3743280"/>
                <a:chExt cx="1395720" cy="731880"/>
              </a:xfrm>
            </p:grpSpPr>
            <p:sp>
              <p:nvSpPr>
                <p:cNvPr id="1328" name=""/>
                <p:cNvSpPr/>
                <p:nvPr/>
              </p:nvSpPr>
              <p:spPr>
                <a:xfrm>
                  <a:off x="2432160" y="37432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27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2387520" y="37432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0" name=""/>
              <p:cNvGrpSpPr/>
              <p:nvPr/>
            </p:nvGrpSpPr>
            <p:grpSpPr>
              <a:xfrm>
                <a:off x="3783240" y="3743280"/>
                <a:ext cx="1293480" cy="731880"/>
                <a:chOff x="3783240" y="3743280"/>
                <a:chExt cx="1293480" cy="731880"/>
              </a:xfrm>
            </p:grpSpPr>
            <p:sp>
              <p:nvSpPr>
                <p:cNvPr id="1331" name=""/>
                <p:cNvSpPr/>
                <p:nvPr/>
              </p:nvSpPr>
              <p:spPr>
                <a:xfrm>
                  <a:off x="3827520" y="374328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28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3783240" y="374328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3" name=""/>
              <p:cNvGrpSpPr/>
              <p:nvPr/>
            </p:nvGrpSpPr>
            <p:grpSpPr>
              <a:xfrm>
                <a:off x="5076720" y="3743280"/>
                <a:ext cx="1395720" cy="731880"/>
                <a:chOff x="5076720" y="3743280"/>
                <a:chExt cx="1395720" cy="731880"/>
              </a:xfrm>
            </p:grpSpPr>
            <p:sp>
              <p:nvSpPr>
                <p:cNvPr id="1334" name=""/>
                <p:cNvSpPr/>
                <p:nvPr/>
              </p:nvSpPr>
              <p:spPr>
                <a:xfrm>
                  <a:off x="5121360" y="37432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26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>
                  <a:off x="5076720" y="37432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6" name=""/>
              <p:cNvGrpSpPr/>
              <p:nvPr/>
            </p:nvGrpSpPr>
            <p:grpSpPr>
              <a:xfrm>
                <a:off x="750960" y="4475160"/>
                <a:ext cx="1636560" cy="731880"/>
                <a:chOff x="750960" y="4475160"/>
                <a:chExt cx="1636560" cy="731880"/>
              </a:xfrm>
            </p:grpSpPr>
            <p:sp>
              <p:nvSpPr>
                <p:cNvPr id="1337" name=""/>
                <p:cNvSpPr/>
                <p:nvPr/>
              </p:nvSpPr>
              <p:spPr>
                <a:xfrm>
                  <a:off x="795240" y="447516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Mea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750960" y="447516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9" name=""/>
              <p:cNvGrpSpPr/>
              <p:nvPr/>
            </p:nvGrpSpPr>
            <p:grpSpPr>
              <a:xfrm>
                <a:off x="2387520" y="4475160"/>
                <a:ext cx="1395720" cy="731880"/>
                <a:chOff x="2387520" y="4475160"/>
                <a:chExt cx="1395720" cy="731880"/>
              </a:xfrm>
            </p:grpSpPr>
            <p:sp>
              <p:nvSpPr>
                <p:cNvPr id="1340" name=""/>
                <p:cNvSpPr/>
                <p:nvPr/>
              </p:nvSpPr>
              <p:spPr>
                <a:xfrm>
                  <a:off x="2432160" y="44751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Courier New"/>
                      <a:ea typeface="Courier New"/>
                    </a:rPr>
                    <a:t>18.9%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2387520" y="44751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2" name=""/>
              <p:cNvGrpSpPr/>
              <p:nvPr/>
            </p:nvGrpSpPr>
            <p:grpSpPr>
              <a:xfrm>
                <a:off x="3783240" y="4475160"/>
                <a:ext cx="1293480" cy="731880"/>
                <a:chOff x="3783240" y="4475160"/>
                <a:chExt cx="1293480" cy="731880"/>
              </a:xfrm>
            </p:grpSpPr>
            <p:sp>
              <p:nvSpPr>
                <p:cNvPr id="1343" name=""/>
                <p:cNvSpPr/>
                <p:nvPr/>
              </p:nvSpPr>
              <p:spPr>
                <a:xfrm>
                  <a:off x="3827520" y="447516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Courier New"/>
                      <a:ea typeface="Courier New"/>
                    </a:rPr>
                    <a:t>17.4%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>
                  <a:off x="3783240" y="447516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5" name=""/>
              <p:cNvGrpSpPr/>
              <p:nvPr/>
            </p:nvGrpSpPr>
            <p:grpSpPr>
              <a:xfrm>
                <a:off x="5076720" y="4475160"/>
                <a:ext cx="1395720" cy="731880"/>
                <a:chOff x="5076720" y="4475160"/>
                <a:chExt cx="1395720" cy="731880"/>
              </a:xfrm>
            </p:grpSpPr>
            <p:sp>
              <p:nvSpPr>
                <p:cNvPr id="1346" name=""/>
                <p:cNvSpPr/>
                <p:nvPr/>
              </p:nvSpPr>
              <p:spPr>
                <a:xfrm>
                  <a:off x="5121360" y="44751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Courier New"/>
                      <a:ea typeface="Courier New"/>
                    </a:rPr>
                    <a:t>14.1%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5076720" y="44751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8" name=""/>
              <p:cNvGrpSpPr/>
              <p:nvPr/>
            </p:nvGrpSpPr>
            <p:grpSpPr>
              <a:xfrm>
                <a:off x="750960" y="5207040"/>
                <a:ext cx="1636560" cy="731880"/>
                <a:chOff x="750960" y="5207040"/>
                <a:chExt cx="1636560" cy="731880"/>
              </a:xfrm>
            </p:grpSpPr>
            <p:sp>
              <p:nvSpPr>
                <p:cNvPr id="1349" name=""/>
                <p:cNvSpPr/>
                <p:nvPr/>
              </p:nvSpPr>
              <p:spPr>
                <a:xfrm>
                  <a:off x="795240" y="520704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SD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750960" y="520704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1" name=""/>
              <p:cNvGrpSpPr/>
              <p:nvPr/>
            </p:nvGrpSpPr>
            <p:grpSpPr>
              <a:xfrm>
                <a:off x="2387520" y="5207040"/>
                <a:ext cx="1395720" cy="731880"/>
                <a:chOff x="2387520" y="5207040"/>
                <a:chExt cx="1395720" cy="731880"/>
              </a:xfrm>
            </p:grpSpPr>
            <p:sp>
              <p:nvSpPr>
                <p:cNvPr id="1352" name=""/>
                <p:cNvSpPr/>
                <p:nvPr/>
              </p:nvSpPr>
              <p:spPr>
                <a:xfrm>
                  <a:off x="2432160" y="520704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8.9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3" name=""/>
                <p:cNvSpPr/>
                <p:nvPr/>
              </p:nvSpPr>
              <p:spPr>
                <a:xfrm>
                  <a:off x="2387520" y="520704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4" name=""/>
              <p:cNvGrpSpPr/>
              <p:nvPr/>
            </p:nvGrpSpPr>
            <p:grpSpPr>
              <a:xfrm>
                <a:off x="3783240" y="5207040"/>
                <a:ext cx="1293480" cy="731880"/>
                <a:chOff x="3783240" y="5207040"/>
                <a:chExt cx="1293480" cy="731880"/>
              </a:xfrm>
            </p:grpSpPr>
            <p:sp>
              <p:nvSpPr>
                <p:cNvPr id="1355" name=""/>
                <p:cNvSpPr/>
                <p:nvPr/>
              </p:nvSpPr>
              <p:spPr>
                <a:xfrm>
                  <a:off x="3827520" y="520704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6.4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3783240" y="520704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7" name=""/>
              <p:cNvGrpSpPr/>
              <p:nvPr/>
            </p:nvGrpSpPr>
            <p:grpSpPr>
              <a:xfrm>
                <a:off x="5076720" y="5207040"/>
                <a:ext cx="1395720" cy="731880"/>
                <a:chOff x="5076720" y="5207040"/>
                <a:chExt cx="1395720" cy="731880"/>
              </a:xfrm>
            </p:grpSpPr>
            <p:sp>
              <p:nvSpPr>
                <p:cNvPr id="1358" name=""/>
                <p:cNvSpPr/>
                <p:nvPr/>
              </p:nvSpPr>
              <p:spPr>
                <a:xfrm>
                  <a:off x="5121360" y="520704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3.97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>
                  <a:off x="5076720" y="520704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60" name=""/>
            <p:cNvSpPr/>
            <p:nvPr/>
          </p:nvSpPr>
          <p:spPr>
            <a:xfrm>
              <a:off x="746280" y="2274840"/>
              <a:ext cx="5730840" cy="36687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1" name=""/>
          <p:cNvSpPr/>
          <p:nvPr/>
        </p:nvSpPr>
        <p:spPr>
          <a:xfrm>
            <a:off x="3240" y="521496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3657600" y="4419720"/>
            <a:ext cx="144792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5105520" y="4419720"/>
            <a:ext cx="144756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209680" y="4419720"/>
            <a:ext cx="144792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6823800" y="4245120"/>
            <a:ext cx="1811520" cy="82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gnific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t 0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F83F-003D-4A24-B440-0ABCA337AAE6}" type="slidenum">
              <a:t>1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xample LexAnalyzer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7" name=""/>
          <p:cNvSpPr/>
          <p:nvPr/>
        </p:nvSpPr>
        <p:spPr>
          <a:xfrm>
            <a:off x="3240" y="865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8" name=""/>
          <p:cNvGrpSpPr/>
          <p:nvPr/>
        </p:nvGrpSpPr>
        <p:grpSpPr>
          <a:xfrm>
            <a:off x="762120" y="2351160"/>
            <a:ext cx="5730840" cy="3668760"/>
            <a:chOff x="762120" y="2351160"/>
            <a:chExt cx="5730840" cy="3668760"/>
          </a:xfrm>
        </p:grpSpPr>
        <p:grpSp>
          <p:nvGrpSpPr>
            <p:cNvPr id="1369" name=""/>
            <p:cNvGrpSpPr/>
            <p:nvPr/>
          </p:nvGrpSpPr>
          <p:grpSpPr>
            <a:xfrm>
              <a:off x="766800" y="2355840"/>
              <a:ext cx="5721480" cy="3659040"/>
              <a:chOff x="766800" y="2355840"/>
              <a:chExt cx="5721480" cy="3659040"/>
            </a:xfrm>
          </p:grpSpPr>
          <p:grpSp>
            <p:nvGrpSpPr>
              <p:cNvPr id="1370" name=""/>
              <p:cNvGrpSpPr/>
              <p:nvPr/>
            </p:nvGrpSpPr>
            <p:grpSpPr>
              <a:xfrm>
                <a:off x="766800" y="2355840"/>
                <a:ext cx="1636560" cy="731880"/>
                <a:chOff x="766800" y="2355840"/>
                <a:chExt cx="1636560" cy="731880"/>
              </a:xfrm>
            </p:grpSpPr>
            <p:sp>
              <p:nvSpPr>
                <p:cNvPr id="1371" name=""/>
                <p:cNvSpPr/>
                <p:nvPr/>
              </p:nvSpPr>
              <p:spPr>
                <a:xfrm>
                  <a:off x="811080" y="235584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766800" y="235584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3" name=""/>
              <p:cNvGrpSpPr/>
              <p:nvPr/>
            </p:nvGrpSpPr>
            <p:grpSpPr>
              <a:xfrm>
                <a:off x="2403360" y="2355840"/>
                <a:ext cx="1395720" cy="731880"/>
                <a:chOff x="2403360" y="2355840"/>
                <a:chExt cx="1395720" cy="731880"/>
              </a:xfrm>
            </p:grpSpPr>
            <p:sp>
              <p:nvSpPr>
                <p:cNvPr id="1374" name=""/>
                <p:cNvSpPr/>
                <p:nvPr/>
              </p:nvSpPr>
              <p:spPr>
                <a:xfrm>
                  <a:off x="2448000" y="235584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>
                  <a:off x="2403360" y="235584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6" name=""/>
              <p:cNvGrpSpPr/>
              <p:nvPr/>
            </p:nvGrpSpPr>
            <p:grpSpPr>
              <a:xfrm>
                <a:off x="3799080" y="2355840"/>
                <a:ext cx="1293480" cy="731880"/>
                <a:chOff x="3799080" y="2355840"/>
                <a:chExt cx="1293480" cy="731880"/>
              </a:xfrm>
            </p:grpSpPr>
            <p:sp>
              <p:nvSpPr>
                <p:cNvPr id="1377" name=""/>
                <p:cNvSpPr/>
                <p:nvPr/>
              </p:nvSpPr>
              <p:spPr>
                <a:xfrm>
                  <a:off x="3843360" y="235584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3799080" y="235584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9" name=""/>
              <p:cNvGrpSpPr/>
              <p:nvPr/>
            </p:nvGrpSpPr>
            <p:grpSpPr>
              <a:xfrm>
                <a:off x="5092560" y="2355840"/>
                <a:ext cx="1395720" cy="731880"/>
                <a:chOff x="5092560" y="2355840"/>
                <a:chExt cx="1395720" cy="731880"/>
              </a:xfrm>
            </p:grpSpPr>
            <p:sp>
              <p:nvSpPr>
                <p:cNvPr id="1380" name=""/>
                <p:cNvSpPr/>
                <p:nvPr/>
              </p:nvSpPr>
              <p:spPr>
                <a:xfrm>
                  <a:off x="5137200" y="235584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5092560" y="235584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2" name=""/>
              <p:cNvGrpSpPr/>
              <p:nvPr/>
            </p:nvGrpSpPr>
            <p:grpSpPr>
              <a:xfrm>
                <a:off x="766800" y="3087720"/>
                <a:ext cx="1636560" cy="731880"/>
                <a:chOff x="766800" y="3087720"/>
                <a:chExt cx="1636560" cy="731880"/>
              </a:xfrm>
            </p:grpSpPr>
            <p:sp>
              <p:nvSpPr>
                <p:cNvPr id="1383" name=""/>
                <p:cNvSpPr/>
                <p:nvPr/>
              </p:nvSpPr>
              <p:spPr>
                <a:xfrm>
                  <a:off x="811080" y="30877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766800" y="30877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5" name=""/>
              <p:cNvGrpSpPr/>
              <p:nvPr/>
            </p:nvGrpSpPr>
            <p:grpSpPr>
              <a:xfrm>
                <a:off x="2403360" y="3087720"/>
                <a:ext cx="1395720" cy="731880"/>
                <a:chOff x="2403360" y="3087720"/>
                <a:chExt cx="1395720" cy="731880"/>
              </a:xfrm>
            </p:grpSpPr>
            <p:sp>
              <p:nvSpPr>
                <p:cNvPr id="1386" name=""/>
                <p:cNvSpPr/>
                <p:nvPr/>
              </p:nvSpPr>
              <p:spPr>
                <a:xfrm>
                  <a:off x="2448000" y="30877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54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2403360" y="30877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8" name=""/>
              <p:cNvGrpSpPr/>
              <p:nvPr/>
            </p:nvGrpSpPr>
            <p:grpSpPr>
              <a:xfrm>
                <a:off x="3799080" y="3087720"/>
                <a:ext cx="1293480" cy="731880"/>
                <a:chOff x="3799080" y="3087720"/>
                <a:chExt cx="1293480" cy="731880"/>
              </a:xfrm>
            </p:grpSpPr>
            <p:sp>
              <p:nvSpPr>
                <p:cNvPr id="1389" name=""/>
                <p:cNvSpPr/>
                <p:nvPr/>
              </p:nvSpPr>
              <p:spPr>
                <a:xfrm>
                  <a:off x="3843360" y="30877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37.2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>
                  <a:off x="3799080" y="30877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1" name=""/>
              <p:cNvGrpSpPr/>
              <p:nvPr/>
            </p:nvGrpSpPr>
            <p:grpSpPr>
              <a:xfrm>
                <a:off x="5092560" y="3087720"/>
                <a:ext cx="1395720" cy="731880"/>
                <a:chOff x="5092560" y="3087720"/>
                <a:chExt cx="1395720" cy="731880"/>
              </a:xfrm>
            </p:grpSpPr>
            <p:sp>
              <p:nvSpPr>
                <p:cNvPr id="1392" name=""/>
                <p:cNvSpPr/>
                <p:nvPr/>
              </p:nvSpPr>
              <p:spPr>
                <a:xfrm>
                  <a:off x="5137200" y="30877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0.7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5092560" y="30877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4" name=""/>
              <p:cNvGrpSpPr/>
              <p:nvPr/>
            </p:nvGrpSpPr>
            <p:grpSpPr>
              <a:xfrm>
                <a:off x="766800" y="3819600"/>
                <a:ext cx="1636560" cy="731880"/>
                <a:chOff x="766800" y="3819600"/>
                <a:chExt cx="1636560" cy="731880"/>
              </a:xfrm>
            </p:grpSpPr>
            <p:sp>
              <p:nvSpPr>
                <p:cNvPr id="1395" name=""/>
                <p:cNvSpPr/>
                <p:nvPr/>
              </p:nvSpPr>
              <p:spPr>
                <a:xfrm>
                  <a:off x="811080" y="38196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V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>
                  <a:off x="766800" y="38196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7" name=""/>
              <p:cNvGrpSpPr/>
              <p:nvPr/>
            </p:nvGrpSpPr>
            <p:grpSpPr>
              <a:xfrm>
                <a:off x="2403360" y="3819600"/>
                <a:ext cx="1395720" cy="731880"/>
                <a:chOff x="2403360" y="3819600"/>
                <a:chExt cx="1395720" cy="731880"/>
              </a:xfrm>
            </p:grpSpPr>
            <p:sp>
              <p:nvSpPr>
                <p:cNvPr id="1398" name=""/>
                <p:cNvSpPr/>
                <p:nvPr/>
              </p:nvSpPr>
              <p:spPr>
                <a:xfrm>
                  <a:off x="2448000" y="38196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7.7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2403360" y="38196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0" name=""/>
              <p:cNvGrpSpPr/>
              <p:nvPr/>
            </p:nvGrpSpPr>
            <p:grpSpPr>
              <a:xfrm>
                <a:off x="3799080" y="3819600"/>
                <a:ext cx="1293480" cy="731880"/>
                <a:chOff x="3799080" y="3819600"/>
                <a:chExt cx="1293480" cy="731880"/>
              </a:xfrm>
            </p:grpSpPr>
            <p:sp>
              <p:nvSpPr>
                <p:cNvPr id="1401" name=""/>
                <p:cNvSpPr/>
                <p:nvPr/>
              </p:nvSpPr>
              <p:spPr>
                <a:xfrm>
                  <a:off x="3843360" y="38196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8.3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>
                  <a:off x="3799080" y="38196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3" name=""/>
              <p:cNvGrpSpPr/>
              <p:nvPr/>
            </p:nvGrpSpPr>
            <p:grpSpPr>
              <a:xfrm>
                <a:off x="5092560" y="3819600"/>
                <a:ext cx="1395720" cy="731880"/>
                <a:chOff x="5092560" y="3819600"/>
                <a:chExt cx="1395720" cy="731880"/>
              </a:xfrm>
            </p:grpSpPr>
            <p:sp>
              <p:nvSpPr>
                <p:cNvPr id="1404" name=""/>
                <p:cNvSpPr/>
                <p:nvPr/>
              </p:nvSpPr>
              <p:spPr>
                <a:xfrm>
                  <a:off x="5137200" y="38196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8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5092560" y="38196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6" name=""/>
              <p:cNvGrpSpPr/>
              <p:nvPr/>
            </p:nvGrpSpPr>
            <p:grpSpPr>
              <a:xfrm>
                <a:off x="766800" y="4551480"/>
                <a:ext cx="1636560" cy="731520"/>
                <a:chOff x="766800" y="4551480"/>
                <a:chExt cx="1636560" cy="731520"/>
              </a:xfrm>
            </p:grpSpPr>
            <p:sp>
              <p:nvSpPr>
                <p:cNvPr id="1407" name=""/>
                <p:cNvSpPr/>
                <p:nvPr/>
              </p:nvSpPr>
              <p:spPr>
                <a:xfrm>
                  <a:off x="811080" y="4551480"/>
                  <a:ext cx="1548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766800" y="4551480"/>
                  <a:ext cx="163656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9" name=""/>
              <p:cNvGrpSpPr/>
              <p:nvPr/>
            </p:nvGrpSpPr>
            <p:grpSpPr>
              <a:xfrm>
                <a:off x="2403360" y="4551480"/>
                <a:ext cx="1395720" cy="731520"/>
                <a:chOff x="2403360" y="4551480"/>
                <a:chExt cx="1395720" cy="731520"/>
              </a:xfrm>
            </p:grpSpPr>
            <p:sp>
              <p:nvSpPr>
                <p:cNvPr id="1410" name=""/>
                <p:cNvSpPr/>
                <p:nvPr/>
              </p:nvSpPr>
              <p:spPr>
                <a:xfrm>
                  <a:off x="2448000" y="455148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8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2403360" y="455148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2" name=""/>
              <p:cNvGrpSpPr/>
              <p:nvPr/>
            </p:nvGrpSpPr>
            <p:grpSpPr>
              <a:xfrm>
                <a:off x="3799080" y="4551480"/>
                <a:ext cx="1293480" cy="731520"/>
                <a:chOff x="3799080" y="4551480"/>
                <a:chExt cx="1293480" cy="731520"/>
              </a:xfrm>
            </p:grpSpPr>
            <p:sp>
              <p:nvSpPr>
                <p:cNvPr id="1413" name=""/>
                <p:cNvSpPr/>
                <p:nvPr/>
              </p:nvSpPr>
              <p:spPr>
                <a:xfrm>
                  <a:off x="3843360" y="4551480"/>
                  <a:ext cx="120492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7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>
                  <a:off x="3799080" y="4551480"/>
                  <a:ext cx="129348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5" name=""/>
              <p:cNvGrpSpPr/>
              <p:nvPr/>
            </p:nvGrpSpPr>
            <p:grpSpPr>
              <a:xfrm>
                <a:off x="5092560" y="4551480"/>
                <a:ext cx="1395720" cy="731520"/>
                <a:chOff x="5092560" y="4551480"/>
                <a:chExt cx="1395720" cy="731520"/>
              </a:xfrm>
            </p:grpSpPr>
            <p:sp>
              <p:nvSpPr>
                <p:cNvPr id="1416" name=""/>
                <p:cNvSpPr/>
                <p:nvPr/>
              </p:nvSpPr>
              <p:spPr>
                <a:xfrm>
                  <a:off x="5137200" y="455148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.9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7" name=""/>
                <p:cNvSpPr/>
                <p:nvPr/>
              </p:nvSpPr>
              <p:spPr>
                <a:xfrm>
                  <a:off x="5092560" y="455148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8" name=""/>
              <p:cNvGrpSpPr/>
              <p:nvPr/>
            </p:nvGrpSpPr>
            <p:grpSpPr>
              <a:xfrm>
                <a:off x="766800" y="5283000"/>
                <a:ext cx="1636560" cy="731880"/>
                <a:chOff x="766800" y="5283000"/>
                <a:chExt cx="1636560" cy="731880"/>
              </a:xfrm>
            </p:grpSpPr>
            <p:sp>
              <p:nvSpPr>
                <p:cNvPr id="1419" name=""/>
                <p:cNvSpPr/>
                <p:nvPr/>
              </p:nvSpPr>
              <p:spPr>
                <a:xfrm>
                  <a:off x="811080" y="52830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Tota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766800" y="52830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1" name=""/>
              <p:cNvGrpSpPr/>
              <p:nvPr/>
            </p:nvGrpSpPr>
            <p:grpSpPr>
              <a:xfrm>
                <a:off x="2403360" y="5283000"/>
                <a:ext cx="1395720" cy="731880"/>
                <a:chOff x="2403360" y="5283000"/>
                <a:chExt cx="1395720" cy="731880"/>
              </a:xfrm>
            </p:grpSpPr>
            <p:sp>
              <p:nvSpPr>
                <p:cNvPr id="1422" name=""/>
                <p:cNvSpPr/>
                <p:nvPr/>
              </p:nvSpPr>
              <p:spPr>
                <a:xfrm>
                  <a:off x="2448000" y="52830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80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2403360" y="52830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4" name=""/>
              <p:cNvGrpSpPr/>
              <p:nvPr/>
            </p:nvGrpSpPr>
            <p:grpSpPr>
              <a:xfrm>
                <a:off x="3799080" y="5283000"/>
                <a:ext cx="1293480" cy="731880"/>
                <a:chOff x="3799080" y="5283000"/>
                <a:chExt cx="1293480" cy="731880"/>
              </a:xfrm>
            </p:grpSpPr>
            <p:sp>
              <p:nvSpPr>
                <p:cNvPr id="1425" name=""/>
                <p:cNvSpPr/>
                <p:nvPr/>
              </p:nvSpPr>
              <p:spPr>
                <a:xfrm>
                  <a:off x="3843360" y="52830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72.7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6" name=""/>
                <p:cNvSpPr/>
                <p:nvPr/>
              </p:nvSpPr>
              <p:spPr>
                <a:xfrm>
                  <a:off x="3799080" y="52830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7" name=""/>
              <p:cNvGrpSpPr/>
              <p:nvPr/>
            </p:nvGrpSpPr>
            <p:grpSpPr>
              <a:xfrm>
                <a:off x="5092560" y="5283000"/>
                <a:ext cx="1395720" cy="731880"/>
                <a:chOff x="5092560" y="5283000"/>
                <a:chExt cx="1395720" cy="731880"/>
              </a:xfrm>
            </p:grpSpPr>
            <p:sp>
              <p:nvSpPr>
                <p:cNvPr id="1428" name=""/>
                <p:cNvSpPr/>
                <p:nvPr/>
              </p:nvSpPr>
              <p:spPr>
                <a:xfrm>
                  <a:off x="5137200" y="52830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7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9" name=""/>
                <p:cNvSpPr/>
                <p:nvPr/>
              </p:nvSpPr>
              <p:spPr>
                <a:xfrm>
                  <a:off x="5092560" y="52830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30" name=""/>
            <p:cNvSpPr/>
            <p:nvPr/>
          </p:nvSpPr>
          <p:spPr>
            <a:xfrm>
              <a:off x="762120" y="2351160"/>
              <a:ext cx="5730840" cy="36687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1" name=""/>
          <p:cNvSpPr/>
          <p:nvPr/>
        </p:nvSpPr>
        <p:spPr>
          <a:xfrm>
            <a:off x="3240" y="5261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6796800" y="2471760"/>
            <a:ext cx="2068920" cy="82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ol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rcen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0466-6657-4874-A36B-76D5CBDF9899}" type="slidenum">
              <a:t>1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xample LexAnalyzer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4" name=""/>
          <p:cNvSpPr/>
          <p:nvPr/>
        </p:nvSpPr>
        <p:spPr>
          <a:xfrm>
            <a:off x="3240" y="865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5" name=""/>
          <p:cNvGrpSpPr/>
          <p:nvPr/>
        </p:nvGrpSpPr>
        <p:grpSpPr>
          <a:xfrm>
            <a:off x="762120" y="2351160"/>
            <a:ext cx="5730840" cy="3668760"/>
            <a:chOff x="762120" y="2351160"/>
            <a:chExt cx="5730840" cy="3668760"/>
          </a:xfrm>
        </p:grpSpPr>
        <p:grpSp>
          <p:nvGrpSpPr>
            <p:cNvPr id="1436" name=""/>
            <p:cNvGrpSpPr/>
            <p:nvPr/>
          </p:nvGrpSpPr>
          <p:grpSpPr>
            <a:xfrm>
              <a:off x="766800" y="2355840"/>
              <a:ext cx="5721480" cy="3659040"/>
              <a:chOff x="766800" y="2355840"/>
              <a:chExt cx="5721480" cy="3659040"/>
            </a:xfrm>
          </p:grpSpPr>
          <p:grpSp>
            <p:nvGrpSpPr>
              <p:cNvPr id="1437" name=""/>
              <p:cNvGrpSpPr/>
              <p:nvPr/>
            </p:nvGrpSpPr>
            <p:grpSpPr>
              <a:xfrm>
                <a:off x="766800" y="2355840"/>
                <a:ext cx="1636560" cy="731880"/>
                <a:chOff x="766800" y="2355840"/>
                <a:chExt cx="1636560" cy="731880"/>
              </a:xfrm>
            </p:grpSpPr>
            <p:sp>
              <p:nvSpPr>
                <p:cNvPr id="1438" name=""/>
                <p:cNvSpPr/>
                <p:nvPr/>
              </p:nvSpPr>
              <p:spPr>
                <a:xfrm>
                  <a:off x="811080" y="235584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9" name=""/>
                <p:cNvSpPr/>
                <p:nvPr/>
              </p:nvSpPr>
              <p:spPr>
                <a:xfrm>
                  <a:off x="766800" y="235584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0" name=""/>
              <p:cNvGrpSpPr/>
              <p:nvPr/>
            </p:nvGrpSpPr>
            <p:grpSpPr>
              <a:xfrm>
                <a:off x="2403360" y="2355840"/>
                <a:ext cx="1395720" cy="731880"/>
                <a:chOff x="2403360" y="2355840"/>
                <a:chExt cx="1395720" cy="731880"/>
              </a:xfrm>
            </p:grpSpPr>
            <p:sp>
              <p:nvSpPr>
                <p:cNvPr id="1441" name=""/>
                <p:cNvSpPr/>
                <p:nvPr/>
              </p:nvSpPr>
              <p:spPr>
                <a:xfrm>
                  <a:off x="2448000" y="235584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2" name=""/>
                <p:cNvSpPr/>
                <p:nvPr/>
              </p:nvSpPr>
              <p:spPr>
                <a:xfrm>
                  <a:off x="2403360" y="235584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3" name=""/>
              <p:cNvGrpSpPr/>
              <p:nvPr/>
            </p:nvGrpSpPr>
            <p:grpSpPr>
              <a:xfrm>
                <a:off x="3799080" y="2355840"/>
                <a:ext cx="1293480" cy="731880"/>
                <a:chOff x="3799080" y="2355840"/>
                <a:chExt cx="1293480" cy="731880"/>
              </a:xfrm>
            </p:grpSpPr>
            <p:sp>
              <p:nvSpPr>
                <p:cNvPr id="1444" name=""/>
                <p:cNvSpPr/>
                <p:nvPr/>
              </p:nvSpPr>
              <p:spPr>
                <a:xfrm>
                  <a:off x="3843360" y="235584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5" name=""/>
                <p:cNvSpPr/>
                <p:nvPr/>
              </p:nvSpPr>
              <p:spPr>
                <a:xfrm>
                  <a:off x="3799080" y="235584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6" name=""/>
              <p:cNvGrpSpPr/>
              <p:nvPr/>
            </p:nvGrpSpPr>
            <p:grpSpPr>
              <a:xfrm>
                <a:off x="5092560" y="2355840"/>
                <a:ext cx="1395720" cy="731880"/>
                <a:chOff x="5092560" y="2355840"/>
                <a:chExt cx="1395720" cy="731880"/>
              </a:xfrm>
            </p:grpSpPr>
            <p:sp>
              <p:nvSpPr>
                <p:cNvPr id="1447" name=""/>
                <p:cNvSpPr/>
                <p:nvPr/>
              </p:nvSpPr>
              <p:spPr>
                <a:xfrm>
                  <a:off x="5137200" y="235584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8" name=""/>
                <p:cNvSpPr/>
                <p:nvPr/>
              </p:nvSpPr>
              <p:spPr>
                <a:xfrm>
                  <a:off x="5092560" y="235584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9" name=""/>
              <p:cNvGrpSpPr/>
              <p:nvPr/>
            </p:nvGrpSpPr>
            <p:grpSpPr>
              <a:xfrm>
                <a:off x="766800" y="3087720"/>
                <a:ext cx="1636560" cy="731880"/>
                <a:chOff x="766800" y="3087720"/>
                <a:chExt cx="1636560" cy="731880"/>
              </a:xfrm>
            </p:grpSpPr>
            <p:sp>
              <p:nvSpPr>
                <p:cNvPr id="1450" name=""/>
                <p:cNvSpPr/>
                <p:nvPr/>
              </p:nvSpPr>
              <p:spPr>
                <a:xfrm>
                  <a:off x="811080" y="30877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1" name=""/>
                <p:cNvSpPr/>
                <p:nvPr/>
              </p:nvSpPr>
              <p:spPr>
                <a:xfrm>
                  <a:off x="766800" y="30877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2" name=""/>
              <p:cNvGrpSpPr/>
              <p:nvPr/>
            </p:nvGrpSpPr>
            <p:grpSpPr>
              <a:xfrm>
                <a:off x="2403360" y="3087720"/>
                <a:ext cx="1395720" cy="731880"/>
                <a:chOff x="2403360" y="3087720"/>
                <a:chExt cx="1395720" cy="731880"/>
              </a:xfrm>
            </p:grpSpPr>
            <p:sp>
              <p:nvSpPr>
                <p:cNvPr id="1453" name=""/>
                <p:cNvSpPr/>
                <p:nvPr/>
              </p:nvSpPr>
              <p:spPr>
                <a:xfrm>
                  <a:off x="2448000" y="30877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54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4" name=""/>
                <p:cNvSpPr/>
                <p:nvPr/>
              </p:nvSpPr>
              <p:spPr>
                <a:xfrm>
                  <a:off x="2403360" y="30877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5" name=""/>
              <p:cNvGrpSpPr/>
              <p:nvPr/>
            </p:nvGrpSpPr>
            <p:grpSpPr>
              <a:xfrm>
                <a:off x="3799080" y="3087720"/>
                <a:ext cx="1293480" cy="731880"/>
                <a:chOff x="3799080" y="3087720"/>
                <a:chExt cx="1293480" cy="731880"/>
              </a:xfrm>
            </p:grpSpPr>
            <p:sp>
              <p:nvSpPr>
                <p:cNvPr id="1456" name=""/>
                <p:cNvSpPr/>
                <p:nvPr/>
              </p:nvSpPr>
              <p:spPr>
                <a:xfrm>
                  <a:off x="3843360" y="30877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37.2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7" name=""/>
                <p:cNvSpPr/>
                <p:nvPr/>
              </p:nvSpPr>
              <p:spPr>
                <a:xfrm>
                  <a:off x="3799080" y="30877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8" name=""/>
              <p:cNvGrpSpPr/>
              <p:nvPr/>
            </p:nvGrpSpPr>
            <p:grpSpPr>
              <a:xfrm>
                <a:off x="5092560" y="3087720"/>
                <a:ext cx="1395720" cy="731880"/>
                <a:chOff x="5092560" y="3087720"/>
                <a:chExt cx="1395720" cy="731880"/>
              </a:xfrm>
            </p:grpSpPr>
            <p:sp>
              <p:nvSpPr>
                <p:cNvPr id="1459" name=""/>
                <p:cNvSpPr/>
                <p:nvPr/>
              </p:nvSpPr>
              <p:spPr>
                <a:xfrm>
                  <a:off x="5137200" y="30877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40.7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0" name=""/>
                <p:cNvSpPr/>
                <p:nvPr/>
              </p:nvSpPr>
              <p:spPr>
                <a:xfrm>
                  <a:off x="5092560" y="30877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1" name=""/>
              <p:cNvGrpSpPr/>
              <p:nvPr/>
            </p:nvGrpSpPr>
            <p:grpSpPr>
              <a:xfrm>
                <a:off x="766800" y="3819600"/>
                <a:ext cx="1636560" cy="731880"/>
                <a:chOff x="766800" y="3819600"/>
                <a:chExt cx="1636560" cy="731880"/>
              </a:xfrm>
            </p:grpSpPr>
            <p:sp>
              <p:nvSpPr>
                <p:cNvPr id="1462" name=""/>
                <p:cNvSpPr/>
                <p:nvPr/>
              </p:nvSpPr>
              <p:spPr>
                <a:xfrm>
                  <a:off x="811080" y="38196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V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3" name=""/>
                <p:cNvSpPr/>
                <p:nvPr/>
              </p:nvSpPr>
              <p:spPr>
                <a:xfrm>
                  <a:off x="766800" y="38196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4" name=""/>
              <p:cNvGrpSpPr/>
              <p:nvPr/>
            </p:nvGrpSpPr>
            <p:grpSpPr>
              <a:xfrm>
                <a:off x="2403360" y="3819600"/>
                <a:ext cx="1395720" cy="731880"/>
                <a:chOff x="2403360" y="3819600"/>
                <a:chExt cx="1395720" cy="731880"/>
              </a:xfrm>
            </p:grpSpPr>
            <p:sp>
              <p:nvSpPr>
                <p:cNvPr id="1465" name=""/>
                <p:cNvSpPr/>
                <p:nvPr/>
              </p:nvSpPr>
              <p:spPr>
                <a:xfrm>
                  <a:off x="2448000" y="38196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7.7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6" name=""/>
                <p:cNvSpPr/>
                <p:nvPr/>
              </p:nvSpPr>
              <p:spPr>
                <a:xfrm>
                  <a:off x="2403360" y="38196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7" name=""/>
              <p:cNvGrpSpPr/>
              <p:nvPr/>
            </p:nvGrpSpPr>
            <p:grpSpPr>
              <a:xfrm>
                <a:off x="3799080" y="3819600"/>
                <a:ext cx="1293480" cy="731880"/>
                <a:chOff x="3799080" y="3819600"/>
                <a:chExt cx="1293480" cy="731880"/>
              </a:xfrm>
            </p:grpSpPr>
            <p:sp>
              <p:nvSpPr>
                <p:cNvPr id="1468" name=""/>
                <p:cNvSpPr/>
                <p:nvPr/>
              </p:nvSpPr>
              <p:spPr>
                <a:xfrm>
                  <a:off x="3843360" y="38196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8.3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9" name=""/>
                <p:cNvSpPr/>
                <p:nvPr/>
              </p:nvSpPr>
              <p:spPr>
                <a:xfrm>
                  <a:off x="3799080" y="38196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0" name=""/>
              <p:cNvGrpSpPr/>
              <p:nvPr/>
            </p:nvGrpSpPr>
            <p:grpSpPr>
              <a:xfrm>
                <a:off x="5092560" y="3819600"/>
                <a:ext cx="1395720" cy="731880"/>
                <a:chOff x="5092560" y="3819600"/>
                <a:chExt cx="1395720" cy="731880"/>
              </a:xfrm>
            </p:grpSpPr>
            <p:sp>
              <p:nvSpPr>
                <p:cNvPr id="1471" name=""/>
                <p:cNvSpPr/>
                <p:nvPr/>
              </p:nvSpPr>
              <p:spPr>
                <a:xfrm>
                  <a:off x="5137200" y="38196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8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>
                  <a:off x="5092560" y="38196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3" name=""/>
              <p:cNvGrpSpPr/>
              <p:nvPr/>
            </p:nvGrpSpPr>
            <p:grpSpPr>
              <a:xfrm>
                <a:off x="766800" y="4551480"/>
                <a:ext cx="1636560" cy="731520"/>
                <a:chOff x="766800" y="4551480"/>
                <a:chExt cx="1636560" cy="731520"/>
              </a:xfrm>
            </p:grpSpPr>
            <p:sp>
              <p:nvSpPr>
                <p:cNvPr id="1474" name=""/>
                <p:cNvSpPr/>
                <p:nvPr/>
              </p:nvSpPr>
              <p:spPr>
                <a:xfrm>
                  <a:off x="811080" y="4551480"/>
                  <a:ext cx="1548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>
                  <a:off x="766800" y="4551480"/>
                  <a:ext cx="163656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6" name=""/>
              <p:cNvGrpSpPr/>
              <p:nvPr/>
            </p:nvGrpSpPr>
            <p:grpSpPr>
              <a:xfrm>
                <a:off x="2403360" y="4551480"/>
                <a:ext cx="1395720" cy="731520"/>
                <a:chOff x="2403360" y="4551480"/>
                <a:chExt cx="1395720" cy="731520"/>
              </a:xfrm>
            </p:grpSpPr>
            <p:sp>
              <p:nvSpPr>
                <p:cNvPr id="1477" name=""/>
                <p:cNvSpPr/>
                <p:nvPr/>
              </p:nvSpPr>
              <p:spPr>
                <a:xfrm>
                  <a:off x="2448000" y="455148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8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8" name=""/>
                <p:cNvSpPr/>
                <p:nvPr/>
              </p:nvSpPr>
              <p:spPr>
                <a:xfrm>
                  <a:off x="2403360" y="455148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9" name=""/>
              <p:cNvGrpSpPr/>
              <p:nvPr/>
            </p:nvGrpSpPr>
            <p:grpSpPr>
              <a:xfrm>
                <a:off x="3799080" y="4551480"/>
                <a:ext cx="1293480" cy="731520"/>
                <a:chOff x="3799080" y="4551480"/>
                <a:chExt cx="1293480" cy="731520"/>
              </a:xfrm>
            </p:grpSpPr>
            <p:sp>
              <p:nvSpPr>
                <p:cNvPr id="1480" name=""/>
                <p:cNvSpPr/>
                <p:nvPr/>
              </p:nvSpPr>
              <p:spPr>
                <a:xfrm>
                  <a:off x="3843360" y="4551480"/>
                  <a:ext cx="120492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7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1" name=""/>
                <p:cNvSpPr/>
                <p:nvPr/>
              </p:nvSpPr>
              <p:spPr>
                <a:xfrm>
                  <a:off x="3799080" y="4551480"/>
                  <a:ext cx="129348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2" name=""/>
              <p:cNvGrpSpPr/>
              <p:nvPr/>
            </p:nvGrpSpPr>
            <p:grpSpPr>
              <a:xfrm>
                <a:off x="5092560" y="4551480"/>
                <a:ext cx="1395720" cy="731520"/>
                <a:chOff x="5092560" y="4551480"/>
                <a:chExt cx="1395720" cy="731520"/>
              </a:xfrm>
            </p:grpSpPr>
            <p:sp>
              <p:nvSpPr>
                <p:cNvPr id="1483" name=""/>
                <p:cNvSpPr/>
                <p:nvPr/>
              </p:nvSpPr>
              <p:spPr>
                <a:xfrm>
                  <a:off x="5137200" y="455148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.9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4" name=""/>
                <p:cNvSpPr/>
                <p:nvPr/>
              </p:nvSpPr>
              <p:spPr>
                <a:xfrm>
                  <a:off x="5092560" y="455148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5" name=""/>
              <p:cNvGrpSpPr/>
              <p:nvPr/>
            </p:nvGrpSpPr>
            <p:grpSpPr>
              <a:xfrm>
                <a:off x="766800" y="5283000"/>
                <a:ext cx="1636560" cy="731880"/>
                <a:chOff x="766800" y="5283000"/>
                <a:chExt cx="1636560" cy="731880"/>
              </a:xfrm>
            </p:grpSpPr>
            <p:sp>
              <p:nvSpPr>
                <p:cNvPr id="1486" name=""/>
                <p:cNvSpPr/>
                <p:nvPr/>
              </p:nvSpPr>
              <p:spPr>
                <a:xfrm>
                  <a:off x="811080" y="52830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Tota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7" name=""/>
                <p:cNvSpPr/>
                <p:nvPr/>
              </p:nvSpPr>
              <p:spPr>
                <a:xfrm>
                  <a:off x="766800" y="52830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8" name=""/>
              <p:cNvGrpSpPr/>
              <p:nvPr/>
            </p:nvGrpSpPr>
            <p:grpSpPr>
              <a:xfrm>
                <a:off x="2403360" y="5283000"/>
                <a:ext cx="1395720" cy="731880"/>
                <a:chOff x="2403360" y="5283000"/>
                <a:chExt cx="1395720" cy="731880"/>
              </a:xfrm>
            </p:grpSpPr>
            <p:sp>
              <p:nvSpPr>
                <p:cNvPr id="1489" name=""/>
                <p:cNvSpPr/>
                <p:nvPr/>
              </p:nvSpPr>
              <p:spPr>
                <a:xfrm>
                  <a:off x="2448000" y="52830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80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0" name=""/>
                <p:cNvSpPr/>
                <p:nvPr/>
              </p:nvSpPr>
              <p:spPr>
                <a:xfrm>
                  <a:off x="2403360" y="52830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1" name=""/>
              <p:cNvGrpSpPr/>
              <p:nvPr/>
            </p:nvGrpSpPr>
            <p:grpSpPr>
              <a:xfrm>
                <a:off x="3799080" y="5283000"/>
                <a:ext cx="1293480" cy="731880"/>
                <a:chOff x="3799080" y="5283000"/>
                <a:chExt cx="1293480" cy="731880"/>
              </a:xfrm>
            </p:grpSpPr>
            <p:sp>
              <p:nvSpPr>
                <p:cNvPr id="1492" name=""/>
                <p:cNvSpPr/>
                <p:nvPr/>
              </p:nvSpPr>
              <p:spPr>
                <a:xfrm>
                  <a:off x="3843360" y="52830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72.7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3" name=""/>
                <p:cNvSpPr/>
                <p:nvPr/>
              </p:nvSpPr>
              <p:spPr>
                <a:xfrm>
                  <a:off x="3799080" y="52830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4" name=""/>
              <p:cNvGrpSpPr/>
              <p:nvPr/>
            </p:nvGrpSpPr>
            <p:grpSpPr>
              <a:xfrm>
                <a:off x="5092560" y="5283000"/>
                <a:ext cx="1395720" cy="731880"/>
                <a:chOff x="5092560" y="5283000"/>
                <a:chExt cx="1395720" cy="731880"/>
              </a:xfrm>
            </p:grpSpPr>
            <p:sp>
              <p:nvSpPr>
                <p:cNvPr id="1495" name=""/>
                <p:cNvSpPr/>
                <p:nvPr/>
              </p:nvSpPr>
              <p:spPr>
                <a:xfrm>
                  <a:off x="5137200" y="52830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7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6" name=""/>
                <p:cNvSpPr/>
                <p:nvPr/>
              </p:nvSpPr>
              <p:spPr>
                <a:xfrm>
                  <a:off x="5092560" y="52830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97" name=""/>
            <p:cNvSpPr/>
            <p:nvPr/>
          </p:nvSpPr>
          <p:spPr>
            <a:xfrm>
              <a:off x="762120" y="2351160"/>
              <a:ext cx="5730840" cy="36687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8" name=""/>
          <p:cNvSpPr/>
          <p:nvPr/>
        </p:nvSpPr>
        <p:spPr>
          <a:xfrm>
            <a:off x="3240" y="5261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6796800" y="2471760"/>
            <a:ext cx="2068920" cy="82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ol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rcen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2340000" y="2852640"/>
            <a:ext cx="4105080" cy="863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4E31-7A87-42A4-8867-5E9A5D82A245}" type="slidenum">
              <a:t>1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xample LexAnalyzer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2" name=""/>
          <p:cNvSpPr/>
          <p:nvPr/>
        </p:nvSpPr>
        <p:spPr>
          <a:xfrm>
            <a:off x="3240" y="865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3" name=""/>
          <p:cNvGrpSpPr/>
          <p:nvPr/>
        </p:nvGrpSpPr>
        <p:grpSpPr>
          <a:xfrm>
            <a:off x="762120" y="2351160"/>
            <a:ext cx="5730840" cy="3668760"/>
            <a:chOff x="762120" y="2351160"/>
            <a:chExt cx="5730840" cy="3668760"/>
          </a:xfrm>
        </p:grpSpPr>
        <p:grpSp>
          <p:nvGrpSpPr>
            <p:cNvPr id="1504" name=""/>
            <p:cNvGrpSpPr/>
            <p:nvPr/>
          </p:nvGrpSpPr>
          <p:grpSpPr>
            <a:xfrm>
              <a:off x="766800" y="2355840"/>
              <a:ext cx="5721480" cy="3659040"/>
              <a:chOff x="766800" y="2355840"/>
              <a:chExt cx="5721480" cy="3659040"/>
            </a:xfrm>
          </p:grpSpPr>
          <p:grpSp>
            <p:nvGrpSpPr>
              <p:cNvPr id="1505" name=""/>
              <p:cNvGrpSpPr/>
              <p:nvPr/>
            </p:nvGrpSpPr>
            <p:grpSpPr>
              <a:xfrm>
                <a:off x="766800" y="2355840"/>
                <a:ext cx="1636560" cy="731880"/>
                <a:chOff x="766800" y="2355840"/>
                <a:chExt cx="1636560" cy="731880"/>
              </a:xfrm>
            </p:grpSpPr>
            <p:sp>
              <p:nvSpPr>
                <p:cNvPr id="1506" name=""/>
                <p:cNvSpPr/>
                <p:nvPr/>
              </p:nvSpPr>
              <p:spPr>
                <a:xfrm>
                  <a:off x="811080" y="235584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7" name=""/>
                <p:cNvSpPr/>
                <p:nvPr/>
              </p:nvSpPr>
              <p:spPr>
                <a:xfrm>
                  <a:off x="766800" y="235584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8" name=""/>
              <p:cNvGrpSpPr/>
              <p:nvPr/>
            </p:nvGrpSpPr>
            <p:grpSpPr>
              <a:xfrm>
                <a:off x="2403360" y="2355840"/>
                <a:ext cx="1395720" cy="731880"/>
                <a:chOff x="2403360" y="2355840"/>
                <a:chExt cx="1395720" cy="731880"/>
              </a:xfrm>
            </p:grpSpPr>
            <p:sp>
              <p:nvSpPr>
                <p:cNvPr id="1509" name=""/>
                <p:cNvSpPr/>
                <p:nvPr/>
              </p:nvSpPr>
              <p:spPr>
                <a:xfrm>
                  <a:off x="2448000" y="235584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0" name=""/>
                <p:cNvSpPr/>
                <p:nvPr/>
              </p:nvSpPr>
              <p:spPr>
                <a:xfrm>
                  <a:off x="2403360" y="235584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1" name=""/>
              <p:cNvGrpSpPr/>
              <p:nvPr/>
            </p:nvGrpSpPr>
            <p:grpSpPr>
              <a:xfrm>
                <a:off x="3799080" y="2355840"/>
                <a:ext cx="1293480" cy="731880"/>
                <a:chOff x="3799080" y="2355840"/>
                <a:chExt cx="1293480" cy="731880"/>
              </a:xfrm>
            </p:grpSpPr>
            <p:sp>
              <p:nvSpPr>
                <p:cNvPr id="1512" name=""/>
                <p:cNvSpPr/>
                <p:nvPr/>
              </p:nvSpPr>
              <p:spPr>
                <a:xfrm>
                  <a:off x="3843360" y="235584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3" name=""/>
                <p:cNvSpPr/>
                <p:nvPr/>
              </p:nvSpPr>
              <p:spPr>
                <a:xfrm>
                  <a:off x="3799080" y="235584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4" name=""/>
              <p:cNvGrpSpPr/>
              <p:nvPr/>
            </p:nvGrpSpPr>
            <p:grpSpPr>
              <a:xfrm>
                <a:off x="5092560" y="2355840"/>
                <a:ext cx="1395720" cy="731880"/>
                <a:chOff x="5092560" y="2355840"/>
                <a:chExt cx="1395720" cy="731880"/>
              </a:xfrm>
            </p:grpSpPr>
            <p:sp>
              <p:nvSpPr>
                <p:cNvPr id="1515" name=""/>
                <p:cNvSpPr/>
                <p:nvPr/>
              </p:nvSpPr>
              <p:spPr>
                <a:xfrm>
                  <a:off x="5137200" y="235584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>
                  <a:off x="5092560" y="235584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7" name=""/>
              <p:cNvGrpSpPr/>
              <p:nvPr/>
            </p:nvGrpSpPr>
            <p:grpSpPr>
              <a:xfrm>
                <a:off x="766800" y="3087720"/>
                <a:ext cx="1636560" cy="731880"/>
                <a:chOff x="766800" y="3087720"/>
                <a:chExt cx="1636560" cy="731880"/>
              </a:xfrm>
            </p:grpSpPr>
            <p:sp>
              <p:nvSpPr>
                <p:cNvPr id="1518" name=""/>
                <p:cNvSpPr/>
                <p:nvPr/>
              </p:nvSpPr>
              <p:spPr>
                <a:xfrm>
                  <a:off x="811080" y="30877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9" name=""/>
                <p:cNvSpPr/>
                <p:nvPr/>
              </p:nvSpPr>
              <p:spPr>
                <a:xfrm>
                  <a:off x="766800" y="30877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0" name=""/>
              <p:cNvGrpSpPr/>
              <p:nvPr/>
            </p:nvGrpSpPr>
            <p:grpSpPr>
              <a:xfrm>
                <a:off x="2403360" y="3087720"/>
                <a:ext cx="1395720" cy="731880"/>
                <a:chOff x="2403360" y="3087720"/>
                <a:chExt cx="1395720" cy="731880"/>
              </a:xfrm>
            </p:grpSpPr>
            <p:sp>
              <p:nvSpPr>
                <p:cNvPr id="1521" name=""/>
                <p:cNvSpPr/>
                <p:nvPr/>
              </p:nvSpPr>
              <p:spPr>
                <a:xfrm>
                  <a:off x="2448000" y="30877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54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2" name=""/>
                <p:cNvSpPr/>
                <p:nvPr/>
              </p:nvSpPr>
              <p:spPr>
                <a:xfrm>
                  <a:off x="2403360" y="30877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3" name=""/>
              <p:cNvGrpSpPr/>
              <p:nvPr/>
            </p:nvGrpSpPr>
            <p:grpSpPr>
              <a:xfrm>
                <a:off x="3799080" y="3087720"/>
                <a:ext cx="1293480" cy="731880"/>
                <a:chOff x="3799080" y="3087720"/>
                <a:chExt cx="1293480" cy="731880"/>
              </a:xfrm>
            </p:grpSpPr>
            <p:sp>
              <p:nvSpPr>
                <p:cNvPr id="1524" name=""/>
                <p:cNvSpPr/>
                <p:nvPr/>
              </p:nvSpPr>
              <p:spPr>
                <a:xfrm>
                  <a:off x="3843360" y="30877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37.2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5" name=""/>
                <p:cNvSpPr/>
                <p:nvPr/>
              </p:nvSpPr>
              <p:spPr>
                <a:xfrm>
                  <a:off x="3799080" y="30877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6" name=""/>
              <p:cNvGrpSpPr/>
              <p:nvPr/>
            </p:nvGrpSpPr>
            <p:grpSpPr>
              <a:xfrm>
                <a:off x="5092560" y="3087720"/>
                <a:ext cx="1395720" cy="731880"/>
                <a:chOff x="5092560" y="3087720"/>
                <a:chExt cx="1395720" cy="731880"/>
              </a:xfrm>
            </p:grpSpPr>
            <p:sp>
              <p:nvSpPr>
                <p:cNvPr id="1527" name=""/>
                <p:cNvSpPr/>
                <p:nvPr/>
              </p:nvSpPr>
              <p:spPr>
                <a:xfrm>
                  <a:off x="5137200" y="30877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0.7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8" name=""/>
                <p:cNvSpPr/>
                <p:nvPr/>
              </p:nvSpPr>
              <p:spPr>
                <a:xfrm>
                  <a:off x="5092560" y="30877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9" name=""/>
              <p:cNvGrpSpPr/>
              <p:nvPr/>
            </p:nvGrpSpPr>
            <p:grpSpPr>
              <a:xfrm>
                <a:off x="766800" y="3819600"/>
                <a:ext cx="1636560" cy="731880"/>
                <a:chOff x="766800" y="3819600"/>
                <a:chExt cx="1636560" cy="731880"/>
              </a:xfrm>
            </p:grpSpPr>
            <p:sp>
              <p:nvSpPr>
                <p:cNvPr id="1530" name=""/>
                <p:cNvSpPr/>
                <p:nvPr/>
              </p:nvSpPr>
              <p:spPr>
                <a:xfrm>
                  <a:off x="811080" y="38196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V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1" name=""/>
                <p:cNvSpPr/>
                <p:nvPr/>
              </p:nvSpPr>
              <p:spPr>
                <a:xfrm>
                  <a:off x="766800" y="38196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2" name=""/>
              <p:cNvGrpSpPr/>
              <p:nvPr/>
            </p:nvGrpSpPr>
            <p:grpSpPr>
              <a:xfrm>
                <a:off x="2403360" y="3819600"/>
                <a:ext cx="1395720" cy="731880"/>
                <a:chOff x="2403360" y="3819600"/>
                <a:chExt cx="1395720" cy="731880"/>
              </a:xfrm>
            </p:grpSpPr>
            <p:sp>
              <p:nvSpPr>
                <p:cNvPr id="1533" name=""/>
                <p:cNvSpPr/>
                <p:nvPr/>
              </p:nvSpPr>
              <p:spPr>
                <a:xfrm>
                  <a:off x="2448000" y="38196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17.7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4" name=""/>
                <p:cNvSpPr/>
                <p:nvPr/>
              </p:nvSpPr>
              <p:spPr>
                <a:xfrm>
                  <a:off x="2403360" y="38196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5" name=""/>
              <p:cNvGrpSpPr/>
              <p:nvPr/>
            </p:nvGrpSpPr>
            <p:grpSpPr>
              <a:xfrm>
                <a:off x="3799080" y="3819600"/>
                <a:ext cx="1293480" cy="731880"/>
                <a:chOff x="3799080" y="3819600"/>
                <a:chExt cx="1293480" cy="731880"/>
              </a:xfrm>
            </p:grpSpPr>
            <p:sp>
              <p:nvSpPr>
                <p:cNvPr id="1536" name=""/>
                <p:cNvSpPr/>
                <p:nvPr/>
              </p:nvSpPr>
              <p:spPr>
                <a:xfrm>
                  <a:off x="3843360" y="38196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18.3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>
                  <a:off x="3799080" y="38196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8" name=""/>
              <p:cNvGrpSpPr/>
              <p:nvPr/>
            </p:nvGrpSpPr>
            <p:grpSpPr>
              <a:xfrm>
                <a:off x="5092560" y="3819600"/>
                <a:ext cx="1395720" cy="731880"/>
                <a:chOff x="5092560" y="3819600"/>
                <a:chExt cx="1395720" cy="731880"/>
              </a:xfrm>
            </p:grpSpPr>
            <p:sp>
              <p:nvSpPr>
                <p:cNvPr id="1539" name=""/>
                <p:cNvSpPr/>
                <p:nvPr/>
              </p:nvSpPr>
              <p:spPr>
                <a:xfrm>
                  <a:off x="5137200" y="38196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4.8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>
                  <a:off x="5092560" y="38196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1" name=""/>
              <p:cNvGrpSpPr/>
              <p:nvPr/>
            </p:nvGrpSpPr>
            <p:grpSpPr>
              <a:xfrm>
                <a:off x="766800" y="4551480"/>
                <a:ext cx="1636560" cy="731520"/>
                <a:chOff x="766800" y="4551480"/>
                <a:chExt cx="1636560" cy="731520"/>
              </a:xfrm>
            </p:grpSpPr>
            <p:sp>
              <p:nvSpPr>
                <p:cNvPr id="1542" name=""/>
                <p:cNvSpPr/>
                <p:nvPr/>
              </p:nvSpPr>
              <p:spPr>
                <a:xfrm>
                  <a:off x="811080" y="4551480"/>
                  <a:ext cx="1548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3" name=""/>
                <p:cNvSpPr/>
                <p:nvPr/>
              </p:nvSpPr>
              <p:spPr>
                <a:xfrm>
                  <a:off x="766800" y="4551480"/>
                  <a:ext cx="163656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4" name=""/>
              <p:cNvGrpSpPr/>
              <p:nvPr/>
            </p:nvGrpSpPr>
            <p:grpSpPr>
              <a:xfrm>
                <a:off x="2403360" y="4551480"/>
                <a:ext cx="1395720" cy="731520"/>
                <a:chOff x="2403360" y="4551480"/>
                <a:chExt cx="1395720" cy="731520"/>
              </a:xfrm>
            </p:grpSpPr>
            <p:sp>
              <p:nvSpPr>
                <p:cNvPr id="1545" name=""/>
                <p:cNvSpPr/>
                <p:nvPr/>
              </p:nvSpPr>
              <p:spPr>
                <a:xfrm>
                  <a:off x="2448000" y="455148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8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6" name=""/>
                <p:cNvSpPr/>
                <p:nvPr/>
              </p:nvSpPr>
              <p:spPr>
                <a:xfrm>
                  <a:off x="2403360" y="455148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7" name=""/>
              <p:cNvGrpSpPr/>
              <p:nvPr/>
            </p:nvGrpSpPr>
            <p:grpSpPr>
              <a:xfrm>
                <a:off x="3799080" y="4551480"/>
                <a:ext cx="1293480" cy="731520"/>
                <a:chOff x="3799080" y="4551480"/>
                <a:chExt cx="1293480" cy="731520"/>
              </a:xfrm>
            </p:grpSpPr>
            <p:sp>
              <p:nvSpPr>
                <p:cNvPr id="1548" name=""/>
                <p:cNvSpPr/>
                <p:nvPr/>
              </p:nvSpPr>
              <p:spPr>
                <a:xfrm>
                  <a:off x="3843360" y="4551480"/>
                  <a:ext cx="120492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7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9" name=""/>
                <p:cNvSpPr/>
                <p:nvPr/>
              </p:nvSpPr>
              <p:spPr>
                <a:xfrm>
                  <a:off x="3799080" y="4551480"/>
                  <a:ext cx="129348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0" name=""/>
              <p:cNvGrpSpPr/>
              <p:nvPr/>
            </p:nvGrpSpPr>
            <p:grpSpPr>
              <a:xfrm>
                <a:off x="5092560" y="4551480"/>
                <a:ext cx="1395720" cy="731520"/>
                <a:chOff x="5092560" y="4551480"/>
                <a:chExt cx="1395720" cy="731520"/>
              </a:xfrm>
            </p:grpSpPr>
            <p:sp>
              <p:nvSpPr>
                <p:cNvPr id="1551" name=""/>
                <p:cNvSpPr/>
                <p:nvPr/>
              </p:nvSpPr>
              <p:spPr>
                <a:xfrm>
                  <a:off x="5137200" y="455148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.9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>
                  <a:off x="5092560" y="455148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3" name=""/>
              <p:cNvGrpSpPr/>
              <p:nvPr/>
            </p:nvGrpSpPr>
            <p:grpSpPr>
              <a:xfrm>
                <a:off x="766800" y="5283000"/>
                <a:ext cx="1636560" cy="731880"/>
                <a:chOff x="766800" y="5283000"/>
                <a:chExt cx="1636560" cy="731880"/>
              </a:xfrm>
            </p:grpSpPr>
            <p:sp>
              <p:nvSpPr>
                <p:cNvPr id="1554" name=""/>
                <p:cNvSpPr/>
                <p:nvPr/>
              </p:nvSpPr>
              <p:spPr>
                <a:xfrm>
                  <a:off x="811080" y="52830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Tota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>
                  <a:off x="766800" y="52830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6" name=""/>
              <p:cNvGrpSpPr/>
              <p:nvPr/>
            </p:nvGrpSpPr>
            <p:grpSpPr>
              <a:xfrm>
                <a:off x="2403360" y="5283000"/>
                <a:ext cx="1395720" cy="731880"/>
                <a:chOff x="2403360" y="5283000"/>
                <a:chExt cx="1395720" cy="731880"/>
              </a:xfrm>
            </p:grpSpPr>
            <p:sp>
              <p:nvSpPr>
                <p:cNvPr id="1557" name=""/>
                <p:cNvSpPr/>
                <p:nvPr/>
              </p:nvSpPr>
              <p:spPr>
                <a:xfrm>
                  <a:off x="2448000" y="52830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80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>
                  <a:off x="2403360" y="52830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9" name=""/>
              <p:cNvGrpSpPr/>
              <p:nvPr/>
            </p:nvGrpSpPr>
            <p:grpSpPr>
              <a:xfrm>
                <a:off x="3799080" y="5283000"/>
                <a:ext cx="1293480" cy="731880"/>
                <a:chOff x="3799080" y="5283000"/>
                <a:chExt cx="1293480" cy="731880"/>
              </a:xfrm>
            </p:grpSpPr>
            <p:sp>
              <p:nvSpPr>
                <p:cNvPr id="1560" name=""/>
                <p:cNvSpPr/>
                <p:nvPr/>
              </p:nvSpPr>
              <p:spPr>
                <a:xfrm>
                  <a:off x="3843360" y="52830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72.7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1" name=""/>
                <p:cNvSpPr/>
                <p:nvPr/>
              </p:nvSpPr>
              <p:spPr>
                <a:xfrm>
                  <a:off x="3799080" y="52830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2" name=""/>
              <p:cNvGrpSpPr/>
              <p:nvPr/>
            </p:nvGrpSpPr>
            <p:grpSpPr>
              <a:xfrm>
                <a:off x="5092560" y="5283000"/>
                <a:ext cx="1395720" cy="731880"/>
                <a:chOff x="5092560" y="5283000"/>
                <a:chExt cx="1395720" cy="731880"/>
              </a:xfrm>
            </p:grpSpPr>
            <p:sp>
              <p:nvSpPr>
                <p:cNvPr id="1563" name=""/>
                <p:cNvSpPr/>
                <p:nvPr/>
              </p:nvSpPr>
              <p:spPr>
                <a:xfrm>
                  <a:off x="5137200" y="52830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7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>
                  <a:off x="5092560" y="52830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65" name=""/>
            <p:cNvSpPr/>
            <p:nvPr/>
          </p:nvSpPr>
          <p:spPr>
            <a:xfrm>
              <a:off x="762120" y="2351160"/>
              <a:ext cx="5730840" cy="36687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6" name=""/>
          <p:cNvSpPr/>
          <p:nvPr/>
        </p:nvSpPr>
        <p:spPr>
          <a:xfrm>
            <a:off x="3240" y="5261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6796800" y="2471760"/>
            <a:ext cx="2068920" cy="82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ol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rcen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2340000" y="3573360"/>
            <a:ext cx="4105080" cy="863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6B0E-29B2-4DD6-A089-A7A8C7757A2D}" type="slidenum">
              <a:t>1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xample LexAnalyzer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0" name=""/>
          <p:cNvSpPr/>
          <p:nvPr/>
        </p:nvSpPr>
        <p:spPr>
          <a:xfrm>
            <a:off x="3240" y="865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1" name=""/>
          <p:cNvGrpSpPr/>
          <p:nvPr/>
        </p:nvGrpSpPr>
        <p:grpSpPr>
          <a:xfrm>
            <a:off x="762120" y="2351160"/>
            <a:ext cx="5730840" cy="3668760"/>
            <a:chOff x="762120" y="2351160"/>
            <a:chExt cx="5730840" cy="3668760"/>
          </a:xfrm>
        </p:grpSpPr>
        <p:grpSp>
          <p:nvGrpSpPr>
            <p:cNvPr id="1572" name=""/>
            <p:cNvGrpSpPr/>
            <p:nvPr/>
          </p:nvGrpSpPr>
          <p:grpSpPr>
            <a:xfrm>
              <a:off x="766800" y="2355840"/>
              <a:ext cx="5721480" cy="3659040"/>
              <a:chOff x="766800" y="2355840"/>
              <a:chExt cx="5721480" cy="3659040"/>
            </a:xfrm>
          </p:grpSpPr>
          <p:grpSp>
            <p:nvGrpSpPr>
              <p:cNvPr id="1573" name=""/>
              <p:cNvGrpSpPr/>
              <p:nvPr/>
            </p:nvGrpSpPr>
            <p:grpSpPr>
              <a:xfrm>
                <a:off x="766800" y="2355840"/>
                <a:ext cx="1636560" cy="731880"/>
                <a:chOff x="766800" y="2355840"/>
                <a:chExt cx="1636560" cy="731880"/>
              </a:xfrm>
            </p:grpSpPr>
            <p:sp>
              <p:nvSpPr>
                <p:cNvPr id="1574" name=""/>
                <p:cNvSpPr/>
                <p:nvPr/>
              </p:nvSpPr>
              <p:spPr>
                <a:xfrm>
                  <a:off x="811080" y="235584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" name=""/>
                <p:cNvSpPr/>
                <p:nvPr/>
              </p:nvSpPr>
              <p:spPr>
                <a:xfrm>
                  <a:off x="766800" y="235584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6" name=""/>
              <p:cNvGrpSpPr/>
              <p:nvPr/>
            </p:nvGrpSpPr>
            <p:grpSpPr>
              <a:xfrm>
                <a:off x="2403360" y="2355840"/>
                <a:ext cx="1395720" cy="731880"/>
                <a:chOff x="2403360" y="2355840"/>
                <a:chExt cx="1395720" cy="731880"/>
              </a:xfrm>
            </p:grpSpPr>
            <p:sp>
              <p:nvSpPr>
                <p:cNvPr id="1577" name=""/>
                <p:cNvSpPr/>
                <p:nvPr/>
              </p:nvSpPr>
              <p:spPr>
                <a:xfrm>
                  <a:off x="2448000" y="235584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" name=""/>
                <p:cNvSpPr/>
                <p:nvPr/>
              </p:nvSpPr>
              <p:spPr>
                <a:xfrm>
                  <a:off x="2403360" y="235584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9" name=""/>
              <p:cNvGrpSpPr/>
              <p:nvPr/>
            </p:nvGrpSpPr>
            <p:grpSpPr>
              <a:xfrm>
                <a:off x="3799080" y="2355840"/>
                <a:ext cx="1293480" cy="731880"/>
                <a:chOff x="3799080" y="2355840"/>
                <a:chExt cx="1293480" cy="731880"/>
              </a:xfrm>
            </p:grpSpPr>
            <p:sp>
              <p:nvSpPr>
                <p:cNvPr id="1580" name=""/>
                <p:cNvSpPr/>
                <p:nvPr/>
              </p:nvSpPr>
              <p:spPr>
                <a:xfrm>
                  <a:off x="3843360" y="235584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>
                  <a:off x="3799080" y="235584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2" name=""/>
              <p:cNvGrpSpPr/>
              <p:nvPr/>
            </p:nvGrpSpPr>
            <p:grpSpPr>
              <a:xfrm>
                <a:off x="5092560" y="2355840"/>
                <a:ext cx="1395720" cy="731880"/>
                <a:chOff x="5092560" y="2355840"/>
                <a:chExt cx="1395720" cy="731880"/>
              </a:xfrm>
            </p:grpSpPr>
            <p:sp>
              <p:nvSpPr>
                <p:cNvPr id="1583" name=""/>
                <p:cNvSpPr/>
                <p:nvPr/>
              </p:nvSpPr>
              <p:spPr>
                <a:xfrm>
                  <a:off x="5137200" y="235584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>
                  <a:off x="5092560" y="235584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5" name=""/>
              <p:cNvGrpSpPr/>
              <p:nvPr/>
            </p:nvGrpSpPr>
            <p:grpSpPr>
              <a:xfrm>
                <a:off x="766800" y="3087720"/>
                <a:ext cx="1636560" cy="731880"/>
                <a:chOff x="766800" y="3087720"/>
                <a:chExt cx="1636560" cy="731880"/>
              </a:xfrm>
            </p:grpSpPr>
            <p:sp>
              <p:nvSpPr>
                <p:cNvPr id="1586" name=""/>
                <p:cNvSpPr/>
                <p:nvPr/>
              </p:nvSpPr>
              <p:spPr>
                <a:xfrm>
                  <a:off x="811080" y="30877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>
                  <a:off x="766800" y="30877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8" name=""/>
              <p:cNvGrpSpPr/>
              <p:nvPr/>
            </p:nvGrpSpPr>
            <p:grpSpPr>
              <a:xfrm>
                <a:off x="2403360" y="3087720"/>
                <a:ext cx="1395720" cy="731880"/>
                <a:chOff x="2403360" y="3087720"/>
                <a:chExt cx="1395720" cy="731880"/>
              </a:xfrm>
            </p:grpSpPr>
            <p:sp>
              <p:nvSpPr>
                <p:cNvPr id="1589" name=""/>
                <p:cNvSpPr/>
                <p:nvPr/>
              </p:nvSpPr>
              <p:spPr>
                <a:xfrm>
                  <a:off x="2448000" y="30877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54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>
                  <a:off x="2403360" y="30877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1" name=""/>
              <p:cNvGrpSpPr/>
              <p:nvPr/>
            </p:nvGrpSpPr>
            <p:grpSpPr>
              <a:xfrm>
                <a:off x="3799080" y="3087720"/>
                <a:ext cx="1293480" cy="731880"/>
                <a:chOff x="3799080" y="3087720"/>
                <a:chExt cx="1293480" cy="731880"/>
              </a:xfrm>
            </p:grpSpPr>
            <p:sp>
              <p:nvSpPr>
                <p:cNvPr id="1592" name=""/>
                <p:cNvSpPr/>
                <p:nvPr/>
              </p:nvSpPr>
              <p:spPr>
                <a:xfrm>
                  <a:off x="3843360" y="30877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37.2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" name=""/>
                <p:cNvSpPr/>
                <p:nvPr/>
              </p:nvSpPr>
              <p:spPr>
                <a:xfrm>
                  <a:off x="3799080" y="30877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4" name=""/>
              <p:cNvGrpSpPr/>
              <p:nvPr/>
            </p:nvGrpSpPr>
            <p:grpSpPr>
              <a:xfrm>
                <a:off x="5092560" y="3087720"/>
                <a:ext cx="1395720" cy="731880"/>
                <a:chOff x="5092560" y="3087720"/>
                <a:chExt cx="1395720" cy="731880"/>
              </a:xfrm>
            </p:grpSpPr>
            <p:sp>
              <p:nvSpPr>
                <p:cNvPr id="1595" name=""/>
                <p:cNvSpPr/>
                <p:nvPr/>
              </p:nvSpPr>
              <p:spPr>
                <a:xfrm>
                  <a:off x="5137200" y="30877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0.7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" name=""/>
                <p:cNvSpPr/>
                <p:nvPr/>
              </p:nvSpPr>
              <p:spPr>
                <a:xfrm>
                  <a:off x="5092560" y="30877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7" name=""/>
              <p:cNvGrpSpPr/>
              <p:nvPr/>
            </p:nvGrpSpPr>
            <p:grpSpPr>
              <a:xfrm>
                <a:off x="766800" y="3819600"/>
                <a:ext cx="1636560" cy="731880"/>
                <a:chOff x="766800" y="3819600"/>
                <a:chExt cx="1636560" cy="731880"/>
              </a:xfrm>
            </p:grpSpPr>
            <p:sp>
              <p:nvSpPr>
                <p:cNvPr id="1598" name=""/>
                <p:cNvSpPr/>
                <p:nvPr/>
              </p:nvSpPr>
              <p:spPr>
                <a:xfrm>
                  <a:off x="811080" y="38196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V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" name=""/>
                <p:cNvSpPr/>
                <p:nvPr/>
              </p:nvSpPr>
              <p:spPr>
                <a:xfrm>
                  <a:off x="766800" y="38196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0" name=""/>
              <p:cNvGrpSpPr/>
              <p:nvPr/>
            </p:nvGrpSpPr>
            <p:grpSpPr>
              <a:xfrm>
                <a:off x="2403360" y="3819600"/>
                <a:ext cx="1395720" cy="731880"/>
                <a:chOff x="2403360" y="3819600"/>
                <a:chExt cx="1395720" cy="731880"/>
              </a:xfrm>
            </p:grpSpPr>
            <p:sp>
              <p:nvSpPr>
                <p:cNvPr id="1601" name=""/>
                <p:cNvSpPr/>
                <p:nvPr/>
              </p:nvSpPr>
              <p:spPr>
                <a:xfrm>
                  <a:off x="2448000" y="38196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7.7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" name=""/>
                <p:cNvSpPr/>
                <p:nvPr/>
              </p:nvSpPr>
              <p:spPr>
                <a:xfrm>
                  <a:off x="2403360" y="38196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3" name=""/>
              <p:cNvGrpSpPr/>
              <p:nvPr/>
            </p:nvGrpSpPr>
            <p:grpSpPr>
              <a:xfrm>
                <a:off x="3799080" y="3819600"/>
                <a:ext cx="1293480" cy="731880"/>
                <a:chOff x="3799080" y="3819600"/>
                <a:chExt cx="1293480" cy="731880"/>
              </a:xfrm>
            </p:grpSpPr>
            <p:sp>
              <p:nvSpPr>
                <p:cNvPr id="1604" name=""/>
                <p:cNvSpPr/>
                <p:nvPr/>
              </p:nvSpPr>
              <p:spPr>
                <a:xfrm>
                  <a:off x="3843360" y="38196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8.3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" name=""/>
                <p:cNvSpPr/>
                <p:nvPr/>
              </p:nvSpPr>
              <p:spPr>
                <a:xfrm>
                  <a:off x="3799080" y="38196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6" name=""/>
              <p:cNvGrpSpPr/>
              <p:nvPr/>
            </p:nvGrpSpPr>
            <p:grpSpPr>
              <a:xfrm>
                <a:off x="5092560" y="3819600"/>
                <a:ext cx="1395720" cy="731880"/>
                <a:chOff x="5092560" y="3819600"/>
                <a:chExt cx="1395720" cy="731880"/>
              </a:xfrm>
            </p:grpSpPr>
            <p:sp>
              <p:nvSpPr>
                <p:cNvPr id="1607" name=""/>
                <p:cNvSpPr/>
                <p:nvPr/>
              </p:nvSpPr>
              <p:spPr>
                <a:xfrm>
                  <a:off x="5137200" y="38196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8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" name=""/>
                <p:cNvSpPr/>
                <p:nvPr/>
              </p:nvSpPr>
              <p:spPr>
                <a:xfrm>
                  <a:off x="5092560" y="38196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9" name=""/>
              <p:cNvGrpSpPr/>
              <p:nvPr/>
            </p:nvGrpSpPr>
            <p:grpSpPr>
              <a:xfrm>
                <a:off x="766800" y="4551480"/>
                <a:ext cx="1636560" cy="731520"/>
                <a:chOff x="766800" y="4551480"/>
                <a:chExt cx="1636560" cy="731520"/>
              </a:xfrm>
            </p:grpSpPr>
            <p:sp>
              <p:nvSpPr>
                <p:cNvPr id="1610" name=""/>
                <p:cNvSpPr/>
                <p:nvPr/>
              </p:nvSpPr>
              <p:spPr>
                <a:xfrm>
                  <a:off x="811080" y="4551480"/>
                  <a:ext cx="1548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" name=""/>
                <p:cNvSpPr/>
                <p:nvPr/>
              </p:nvSpPr>
              <p:spPr>
                <a:xfrm>
                  <a:off x="766800" y="4551480"/>
                  <a:ext cx="163656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2" name=""/>
              <p:cNvGrpSpPr/>
              <p:nvPr/>
            </p:nvGrpSpPr>
            <p:grpSpPr>
              <a:xfrm>
                <a:off x="2403360" y="4551480"/>
                <a:ext cx="1395720" cy="731520"/>
                <a:chOff x="2403360" y="4551480"/>
                <a:chExt cx="1395720" cy="731520"/>
              </a:xfrm>
            </p:grpSpPr>
            <p:sp>
              <p:nvSpPr>
                <p:cNvPr id="1613" name=""/>
                <p:cNvSpPr/>
                <p:nvPr/>
              </p:nvSpPr>
              <p:spPr>
                <a:xfrm>
                  <a:off x="2448000" y="455148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8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>
                  <a:off x="2403360" y="455148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5" name=""/>
              <p:cNvGrpSpPr/>
              <p:nvPr/>
            </p:nvGrpSpPr>
            <p:grpSpPr>
              <a:xfrm>
                <a:off x="3799080" y="4551480"/>
                <a:ext cx="1293480" cy="731520"/>
                <a:chOff x="3799080" y="4551480"/>
                <a:chExt cx="1293480" cy="731520"/>
              </a:xfrm>
            </p:grpSpPr>
            <p:sp>
              <p:nvSpPr>
                <p:cNvPr id="1616" name=""/>
                <p:cNvSpPr/>
                <p:nvPr/>
              </p:nvSpPr>
              <p:spPr>
                <a:xfrm>
                  <a:off x="3843360" y="4551480"/>
                  <a:ext cx="120492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7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>
                  <a:off x="3799080" y="4551480"/>
                  <a:ext cx="129348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8" name=""/>
              <p:cNvGrpSpPr/>
              <p:nvPr/>
            </p:nvGrpSpPr>
            <p:grpSpPr>
              <a:xfrm>
                <a:off x="5092560" y="4551480"/>
                <a:ext cx="1395720" cy="731520"/>
                <a:chOff x="5092560" y="4551480"/>
                <a:chExt cx="1395720" cy="731520"/>
              </a:xfrm>
            </p:grpSpPr>
            <p:sp>
              <p:nvSpPr>
                <p:cNvPr id="1619" name=""/>
                <p:cNvSpPr/>
                <p:nvPr/>
              </p:nvSpPr>
              <p:spPr>
                <a:xfrm>
                  <a:off x="5137200" y="455148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1.9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" name=""/>
                <p:cNvSpPr/>
                <p:nvPr/>
              </p:nvSpPr>
              <p:spPr>
                <a:xfrm>
                  <a:off x="5092560" y="455148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1" name=""/>
              <p:cNvGrpSpPr/>
              <p:nvPr/>
            </p:nvGrpSpPr>
            <p:grpSpPr>
              <a:xfrm>
                <a:off x="766800" y="5283000"/>
                <a:ext cx="1636560" cy="731880"/>
                <a:chOff x="766800" y="5283000"/>
                <a:chExt cx="1636560" cy="731880"/>
              </a:xfrm>
            </p:grpSpPr>
            <p:sp>
              <p:nvSpPr>
                <p:cNvPr id="1622" name=""/>
                <p:cNvSpPr/>
                <p:nvPr/>
              </p:nvSpPr>
              <p:spPr>
                <a:xfrm>
                  <a:off x="811080" y="52830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Tota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" name=""/>
                <p:cNvSpPr/>
                <p:nvPr/>
              </p:nvSpPr>
              <p:spPr>
                <a:xfrm>
                  <a:off x="766800" y="52830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4" name=""/>
              <p:cNvGrpSpPr/>
              <p:nvPr/>
            </p:nvGrpSpPr>
            <p:grpSpPr>
              <a:xfrm>
                <a:off x="2403360" y="5283000"/>
                <a:ext cx="1395720" cy="731880"/>
                <a:chOff x="2403360" y="5283000"/>
                <a:chExt cx="1395720" cy="731880"/>
              </a:xfrm>
            </p:grpSpPr>
            <p:sp>
              <p:nvSpPr>
                <p:cNvPr id="1625" name=""/>
                <p:cNvSpPr/>
                <p:nvPr/>
              </p:nvSpPr>
              <p:spPr>
                <a:xfrm>
                  <a:off x="2448000" y="52830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80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" name=""/>
                <p:cNvSpPr/>
                <p:nvPr/>
              </p:nvSpPr>
              <p:spPr>
                <a:xfrm>
                  <a:off x="2403360" y="52830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7" name=""/>
              <p:cNvGrpSpPr/>
              <p:nvPr/>
            </p:nvGrpSpPr>
            <p:grpSpPr>
              <a:xfrm>
                <a:off x="3799080" y="5283000"/>
                <a:ext cx="1293480" cy="731880"/>
                <a:chOff x="3799080" y="5283000"/>
                <a:chExt cx="1293480" cy="731880"/>
              </a:xfrm>
            </p:grpSpPr>
            <p:sp>
              <p:nvSpPr>
                <p:cNvPr id="1628" name=""/>
                <p:cNvSpPr/>
                <p:nvPr/>
              </p:nvSpPr>
              <p:spPr>
                <a:xfrm>
                  <a:off x="3843360" y="52830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72.7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" name=""/>
                <p:cNvSpPr/>
                <p:nvPr/>
              </p:nvSpPr>
              <p:spPr>
                <a:xfrm>
                  <a:off x="3799080" y="52830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0" name=""/>
              <p:cNvGrpSpPr/>
              <p:nvPr/>
            </p:nvGrpSpPr>
            <p:grpSpPr>
              <a:xfrm>
                <a:off x="5092560" y="5283000"/>
                <a:ext cx="1395720" cy="731880"/>
                <a:chOff x="5092560" y="5283000"/>
                <a:chExt cx="1395720" cy="731880"/>
              </a:xfrm>
            </p:grpSpPr>
            <p:sp>
              <p:nvSpPr>
                <p:cNvPr id="1631" name=""/>
                <p:cNvSpPr/>
                <p:nvPr/>
              </p:nvSpPr>
              <p:spPr>
                <a:xfrm>
                  <a:off x="5137200" y="52830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7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" name=""/>
                <p:cNvSpPr/>
                <p:nvPr/>
              </p:nvSpPr>
              <p:spPr>
                <a:xfrm>
                  <a:off x="5092560" y="52830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33" name=""/>
            <p:cNvSpPr/>
            <p:nvPr/>
          </p:nvSpPr>
          <p:spPr>
            <a:xfrm>
              <a:off x="762120" y="2351160"/>
              <a:ext cx="5730840" cy="36687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4" name=""/>
          <p:cNvSpPr/>
          <p:nvPr/>
        </p:nvSpPr>
        <p:spPr>
          <a:xfrm>
            <a:off x="3240" y="5261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6796800" y="2471760"/>
            <a:ext cx="2068920" cy="82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ol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rcen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2340000" y="4294080"/>
            <a:ext cx="4105080" cy="863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7DF8-AE4A-4E93-AD8B-0DF5AFA18397}" type="slidenum">
              <a:t>1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xample LexAnalyzer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8" name=""/>
          <p:cNvSpPr/>
          <p:nvPr/>
        </p:nvSpPr>
        <p:spPr>
          <a:xfrm>
            <a:off x="3240" y="865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6753240" y="2471760"/>
            <a:ext cx="2155680" cy="2288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el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rcenta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ma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 - N -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3240" y="5904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1" name=""/>
          <p:cNvGrpSpPr/>
          <p:nvPr/>
        </p:nvGrpSpPr>
        <p:grpSpPr>
          <a:xfrm>
            <a:off x="1371600" y="2228760"/>
            <a:ext cx="5028840" cy="4019400"/>
            <a:chOff x="1371600" y="2228760"/>
            <a:chExt cx="5028840" cy="4019400"/>
          </a:xfrm>
        </p:grpSpPr>
        <p:grpSp>
          <p:nvGrpSpPr>
            <p:cNvPr id="1642" name=""/>
            <p:cNvGrpSpPr/>
            <p:nvPr/>
          </p:nvGrpSpPr>
          <p:grpSpPr>
            <a:xfrm>
              <a:off x="1376640" y="2233440"/>
              <a:ext cx="5017680" cy="4009320"/>
              <a:chOff x="1376640" y="2233440"/>
              <a:chExt cx="5017680" cy="4009320"/>
            </a:xfrm>
          </p:grpSpPr>
          <p:grpSp>
            <p:nvGrpSpPr>
              <p:cNvPr id="1643" name=""/>
              <p:cNvGrpSpPr/>
              <p:nvPr/>
            </p:nvGrpSpPr>
            <p:grpSpPr>
              <a:xfrm>
                <a:off x="1376640" y="2233440"/>
                <a:ext cx="1194120" cy="745560"/>
                <a:chOff x="1376640" y="2233440"/>
                <a:chExt cx="1194120" cy="745560"/>
              </a:xfrm>
            </p:grpSpPr>
            <p:sp>
              <p:nvSpPr>
                <p:cNvPr id="1644" name=""/>
                <p:cNvSpPr/>
                <p:nvPr/>
              </p:nvSpPr>
              <p:spPr>
                <a:xfrm>
                  <a:off x="1427040" y="2233440"/>
                  <a:ext cx="1093320" cy="74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" name=""/>
                <p:cNvSpPr/>
                <p:nvPr/>
              </p:nvSpPr>
              <p:spPr>
                <a:xfrm>
                  <a:off x="1376640" y="2233440"/>
                  <a:ext cx="1194120" cy="74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6" name=""/>
              <p:cNvGrpSpPr/>
              <p:nvPr/>
            </p:nvGrpSpPr>
            <p:grpSpPr>
              <a:xfrm>
                <a:off x="2571120" y="2233440"/>
                <a:ext cx="1274040" cy="745560"/>
                <a:chOff x="2571120" y="2233440"/>
                <a:chExt cx="1274040" cy="745560"/>
              </a:xfrm>
            </p:grpSpPr>
            <p:sp>
              <p:nvSpPr>
                <p:cNvPr id="1647" name=""/>
                <p:cNvSpPr/>
                <p:nvPr/>
              </p:nvSpPr>
              <p:spPr>
                <a:xfrm>
                  <a:off x="2621880" y="2233440"/>
                  <a:ext cx="1172520" cy="74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8" name=""/>
                <p:cNvSpPr/>
                <p:nvPr/>
              </p:nvSpPr>
              <p:spPr>
                <a:xfrm>
                  <a:off x="2571120" y="2233440"/>
                  <a:ext cx="1274040" cy="74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9" name=""/>
              <p:cNvGrpSpPr/>
              <p:nvPr/>
            </p:nvGrpSpPr>
            <p:grpSpPr>
              <a:xfrm>
                <a:off x="3845880" y="2233440"/>
                <a:ext cx="1273680" cy="745560"/>
                <a:chOff x="3845880" y="2233440"/>
                <a:chExt cx="1273680" cy="745560"/>
              </a:xfrm>
            </p:grpSpPr>
            <p:sp>
              <p:nvSpPr>
                <p:cNvPr id="1650" name=""/>
                <p:cNvSpPr/>
                <p:nvPr/>
              </p:nvSpPr>
              <p:spPr>
                <a:xfrm>
                  <a:off x="3896280" y="2233440"/>
                  <a:ext cx="1172880" cy="74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1" name=""/>
                <p:cNvSpPr/>
                <p:nvPr/>
              </p:nvSpPr>
              <p:spPr>
                <a:xfrm>
                  <a:off x="3845880" y="2233440"/>
                  <a:ext cx="1273680" cy="74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2" name=""/>
              <p:cNvGrpSpPr/>
              <p:nvPr/>
            </p:nvGrpSpPr>
            <p:grpSpPr>
              <a:xfrm>
                <a:off x="5120280" y="2233440"/>
                <a:ext cx="1274040" cy="745560"/>
                <a:chOff x="5120280" y="2233440"/>
                <a:chExt cx="1274040" cy="745560"/>
              </a:xfrm>
            </p:grpSpPr>
            <p:sp>
              <p:nvSpPr>
                <p:cNvPr id="1653" name=""/>
                <p:cNvSpPr/>
                <p:nvPr/>
              </p:nvSpPr>
              <p:spPr>
                <a:xfrm>
                  <a:off x="5171040" y="2233440"/>
                  <a:ext cx="1172520" cy="74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4" name=""/>
                <p:cNvSpPr/>
                <p:nvPr/>
              </p:nvSpPr>
              <p:spPr>
                <a:xfrm>
                  <a:off x="5120280" y="2233440"/>
                  <a:ext cx="1274040" cy="74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5" name=""/>
              <p:cNvGrpSpPr/>
              <p:nvPr/>
            </p:nvGrpSpPr>
            <p:grpSpPr>
              <a:xfrm>
                <a:off x="1376640" y="2979360"/>
                <a:ext cx="1194120" cy="745560"/>
                <a:chOff x="1376640" y="2979360"/>
                <a:chExt cx="1194120" cy="745560"/>
              </a:xfrm>
            </p:grpSpPr>
            <p:sp>
              <p:nvSpPr>
                <p:cNvPr id="1656" name=""/>
                <p:cNvSpPr/>
                <p:nvPr/>
              </p:nvSpPr>
              <p:spPr>
                <a:xfrm>
                  <a:off x="1427040" y="2979360"/>
                  <a:ext cx="1093320" cy="74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7" name=""/>
                <p:cNvSpPr/>
                <p:nvPr/>
              </p:nvSpPr>
              <p:spPr>
                <a:xfrm>
                  <a:off x="1376640" y="2979360"/>
                  <a:ext cx="1194120" cy="74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8" name=""/>
              <p:cNvGrpSpPr/>
              <p:nvPr/>
            </p:nvGrpSpPr>
            <p:grpSpPr>
              <a:xfrm>
                <a:off x="2571120" y="2979360"/>
                <a:ext cx="1274040" cy="745560"/>
                <a:chOff x="2571120" y="2979360"/>
                <a:chExt cx="1274040" cy="745560"/>
              </a:xfrm>
            </p:grpSpPr>
            <p:sp>
              <p:nvSpPr>
                <p:cNvPr id="1659" name=""/>
                <p:cNvSpPr/>
                <p:nvPr/>
              </p:nvSpPr>
              <p:spPr>
                <a:xfrm>
                  <a:off x="2621880" y="2979360"/>
                  <a:ext cx="1172520" cy="74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7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0" name=""/>
                <p:cNvSpPr/>
                <p:nvPr/>
              </p:nvSpPr>
              <p:spPr>
                <a:xfrm>
                  <a:off x="2571120" y="2979360"/>
                  <a:ext cx="1274040" cy="74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1" name=""/>
              <p:cNvGrpSpPr/>
              <p:nvPr/>
            </p:nvGrpSpPr>
            <p:grpSpPr>
              <a:xfrm>
                <a:off x="3845880" y="2979360"/>
                <a:ext cx="1273680" cy="745560"/>
                <a:chOff x="3845880" y="2979360"/>
                <a:chExt cx="1273680" cy="745560"/>
              </a:xfrm>
            </p:grpSpPr>
            <p:sp>
              <p:nvSpPr>
                <p:cNvPr id="1662" name=""/>
                <p:cNvSpPr/>
                <p:nvPr/>
              </p:nvSpPr>
              <p:spPr>
                <a:xfrm>
                  <a:off x="3896280" y="2979360"/>
                  <a:ext cx="1172880" cy="74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9.1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3" name=""/>
                <p:cNvSpPr/>
                <p:nvPr/>
              </p:nvSpPr>
              <p:spPr>
                <a:xfrm>
                  <a:off x="3845880" y="2979360"/>
                  <a:ext cx="1273680" cy="74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4" name=""/>
              <p:cNvGrpSpPr/>
              <p:nvPr/>
            </p:nvGrpSpPr>
            <p:grpSpPr>
              <a:xfrm>
                <a:off x="5120280" y="2979360"/>
                <a:ext cx="1274040" cy="745560"/>
                <a:chOff x="5120280" y="2979360"/>
                <a:chExt cx="1274040" cy="745560"/>
              </a:xfrm>
            </p:grpSpPr>
            <p:sp>
              <p:nvSpPr>
                <p:cNvPr id="1665" name=""/>
                <p:cNvSpPr/>
                <p:nvPr/>
              </p:nvSpPr>
              <p:spPr>
                <a:xfrm>
                  <a:off x="5171040" y="2979360"/>
                  <a:ext cx="1172520" cy="74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5.9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6" name=""/>
                <p:cNvSpPr/>
                <p:nvPr/>
              </p:nvSpPr>
              <p:spPr>
                <a:xfrm>
                  <a:off x="5120280" y="2979360"/>
                  <a:ext cx="1274040" cy="74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7" name=""/>
              <p:cNvGrpSpPr/>
              <p:nvPr/>
            </p:nvGrpSpPr>
            <p:grpSpPr>
              <a:xfrm>
                <a:off x="1376640" y="3725280"/>
                <a:ext cx="1194120" cy="745200"/>
                <a:chOff x="1376640" y="3725280"/>
                <a:chExt cx="1194120" cy="745200"/>
              </a:xfrm>
            </p:grpSpPr>
            <p:sp>
              <p:nvSpPr>
                <p:cNvPr id="1668" name=""/>
                <p:cNvSpPr/>
                <p:nvPr/>
              </p:nvSpPr>
              <p:spPr>
                <a:xfrm>
                  <a:off x="1427040" y="3725280"/>
                  <a:ext cx="1093320" cy="74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9" name=""/>
                <p:cNvSpPr/>
                <p:nvPr/>
              </p:nvSpPr>
              <p:spPr>
                <a:xfrm>
                  <a:off x="1376640" y="3725280"/>
                  <a:ext cx="1194120" cy="74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0" name=""/>
              <p:cNvGrpSpPr/>
              <p:nvPr/>
            </p:nvGrpSpPr>
            <p:grpSpPr>
              <a:xfrm>
                <a:off x="2571120" y="3725280"/>
                <a:ext cx="1274040" cy="745200"/>
                <a:chOff x="2571120" y="3725280"/>
                <a:chExt cx="1274040" cy="745200"/>
              </a:xfrm>
            </p:grpSpPr>
            <p:sp>
              <p:nvSpPr>
                <p:cNvPr id="1671" name=""/>
                <p:cNvSpPr/>
                <p:nvPr/>
              </p:nvSpPr>
              <p:spPr>
                <a:xfrm>
                  <a:off x="2621880" y="3725280"/>
                  <a:ext cx="1172520" cy="74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2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2" name=""/>
                <p:cNvSpPr/>
                <p:nvPr/>
              </p:nvSpPr>
              <p:spPr>
                <a:xfrm>
                  <a:off x="2571120" y="3725280"/>
                  <a:ext cx="1274040" cy="74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3" name=""/>
              <p:cNvGrpSpPr/>
              <p:nvPr/>
            </p:nvGrpSpPr>
            <p:grpSpPr>
              <a:xfrm>
                <a:off x="3845880" y="3725280"/>
                <a:ext cx="1273680" cy="745200"/>
                <a:chOff x="3845880" y="3725280"/>
                <a:chExt cx="1273680" cy="745200"/>
              </a:xfrm>
            </p:grpSpPr>
            <p:sp>
              <p:nvSpPr>
                <p:cNvPr id="1674" name=""/>
                <p:cNvSpPr/>
                <p:nvPr/>
              </p:nvSpPr>
              <p:spPr>
                <a:xfrm>
                  <a:off x="3896280" y="3725280"/>
                  <a:ext cx="1172880" cy="74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9.1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5" name=""/>
                <p:cNvSpPr/>
                <p:nvPr/>
              </p:nvSpPr>
              <p:spPr>
                <a:xfrm>
                  <a:off x="3845880" y="3725280"/>
                  <a:ext cx="1273680" cy="74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6" name=""/>
              <p:cNvGrpSpPr/>
              <p:nvPr/>
            </p:nvGrpSpPr>
            <p:grpSpPr>
              <a:xfrm>
                <a:off x="5120280" y="3725280"/>
                <a:ext cx="1274040" cy="745200"/>
                <a:chOff x="5120280" y="3725280"/>
                <a:chExt cx="1274040" cy="745200"/>
              </a:xfrm>
            </p:grpSpPr>
            <p:sp>
              <p:nvSpPr>
                <p:cNvPr id="1677" name=""/>
                <p:cNvSpPr/>
                <p:nvPr/>
              </p:nvSpPr>
              <p:spPr>
                <a:xfrm>
                  <a:off x="5171040" y="3725280"/>
                  <a:ext cx="1172520" cy="74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.1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8" name=""/>
                <p:cNvSpPr/>
                <p:nvPr/>
              </p:nvSpPr>
              <p:spPr>
                <a:xfrm>
                  <a:off x="5120280" y="3725280"/>
                  <a:ext cx="1274040" cy="74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9" name=""/>
              <p:cNvGrpSpPr/>
              <p:nvPr/>
            </p:nvGrpSpPr>
            <p:grpSpPr>
              <a:xfrm>
                <a:off x="1376640" y="4471200"/>
                <a:ext cx="1194120" cy="745560"/>
                <a:chOff x="1376640" y="4471200"/>
                <a:chExt cx="1194120" cy="745560"/>
              </a:xfrm>
            </p:grpSpPr>
            <p:sp>
              <p:nvSpPr>
                <p:cNvPr id="1680" name=""/>
                <p:cNvSpPr/>
                <p:nvPr/>
              </p:nvSpPr>
              <p:spPr>
                <a:xfrm>
                  <a:off x="1427040" y="4471200"/>
                  <a:ext cx="1093320" cy="74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1" name=""/>
                <p:cNvSpPr/>
                <p:nvPr/>
              </p:nvSpPr>
              <p:spPr>
                <a:xfrm>
                  <a:off x="1376640" y="4471200"/>
                  <a:ext cx="1194120" cy="74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2" name=""/>
              <p:cNvGrpSpPr/>
              <p:nvPr/>
            </p:nvGrpSpPr>
            <p:grpSpPr>
              <a:xfrm>
                <a:off x="2571120" y="4471200"/>
                <a:ext cx="1274040" cy="745560"/>
                <a:chOff x="2571120" y="4471200"/>
                <a:chExt cx="1274040" cy="745560"/>
              </a:xfrm>
            </p:grpSpPr>
            <p:sp>
              <p:nvSpPr>
                <p:cNvPr id="1683" name=""/>
                <p:cNvSpPr/>
                <p:nvPr/>
              </p:nvSpPr>
              <p:spPr>
                <a:xfrm>
                  <a:off x="2621880" y="4471200"/>
                  <a:ext cx="1172520" cy="74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4" name=""/>
                <p:cNvSpPr/>
                <p:nvPr/>
              </p:nvSpPr>
              <p:spPr>
                <a:xfrm>
                  <a:off x="2571120" y="4471200"/>
                  <a:ext cx="1274040" cy="74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5" name=""/>
              <p:cNvGrpSpPr/>
              <p:nvPr/>
            </p:nvGrpSpPr>
            <p:grpSpPr>
              <a:xfrm>
                <a:off x="3845880" y="4471200"/>
                <a:ext cx="1273680" cy="745560"/>
                <a:chOff x="3845880" y="4471200"/>
                <a:chExt cx="1273680" cy="745560"/>
              </a:xfrm>
            </p:grpSpPr>
            <p:sp>
              <p:nvSpPr>
                <p:cNvPr id="1686" name=""/>
                <p:cNvSpPr/>
                <p:nvPr/>
              </p:nvSpPr>
              <p:spPr>
                <a:xfrm>
                  <a:off x="3896280" y="4471200"/>
                  <a:ext cx="1172880" cy="74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.8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7" name=""/>
                <p:cNvSpPr/>
                <p:nvPr/>
              </p:nvSpPr>
              <p:spPr>
                <a:xfrm>
                  <a:off x="3845880" y="4471200"/>
                  <a:ext cx="1273680" cy="74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8" name=""/>
              <p:cNvGrpSpPr/>
              <p:nvPr/>
            </p:nvGrpSpPr>
            <p:grpSpPr>
              <a:xfrm>
                <a:off x="5120280" y="4471200"/>
                <a:ext cx="1274040" cy="745560"/>
                <a:chOff x="5120280" y="4471200"/>
                <a:chExt cx="1274040" cy="745560"/>
              </a:xfrm>
            </p:grpSpPr>
            <p:sp>
              <p:nvSpPr>
                <p:cNvPr id="1689" name=""/>
                <p:cNvSpPr/>
                <p:nvPr/>
              </p:nvSpPr>
              <p:spPr>
                <a:xfrm>
                  <a:off x="5171040" y="4471200"/>
                  <a:ext cx="1172520" cy="74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0" name=""/>
                <p:cNvSpPr/>
                <p:nvPr/>
              </p:nvSpPr>
              <p:spPr>
                <a:xfrm>
                  <a:off x="5120280" y="4471200"/>
                  <a:ext cx="1274040" cy="74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1" name=""/>
              <p:cNvGrpSpPr/>
              <p:nvPr/>
            </p:nvGrpSpPr>
            <p:grpSpPr>
              <a:xfrm>
                <a:off x="1376640" y="5217120"/>
                <a:ext cx="1194120" cy="1025640"/>
                <a:chOff x="1376640" y="5217120"/>
                <a:chExt cx="1194120" cy="1025640"/>
              </a:xfrm>
            </p:grpSpPr>
            <p:sp>
              <p:nvSpPr>
                <p:cNvPr id="1692" name=""/>
                <p:cNvSpPr/>
                <p:nvPr/>
              </p:nvSpPr>
              <p:spPr>
                <a:xfrm>
                  <a:off x="1427040" y="5217120"/>
                  <a:ext cx="1093320" cy="102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OTA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3" name=""/>
                <p:cNvSpPr/>
                <p:nvPr/>
              </p:nvSpPr>
              <p:spPr>
                <a:xfrm>
                  <a:off x="1376640" y="5217120"/>
                  <a:ext cx="1194120" cy="102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4" name=""/>
              <p:cNvGrpSpPr/>
              <p:nvPr/>
            </p:nvGrpSpPr>
            <p:grpSpPr>
              <a:xfrm>
                <a:off x="2571120" y="5217120"/>
                <a:ext cx="1274040" cy="1025640"/>
                <a:chOff x="2571120" y="5217120"/>
                <a:chExt cx="1274040" cy="1025640"/>
              </a:xfrm>
            </p:grpSpPr>
            <p:sp>
              <p:nvSpPr>
                <p:cNvPr id="1695" name=""/>
                <p:cNvSpPr/>
                <p:nvPr/>
              </p:nvSpPr>
              <p:spPr>
                <a:xfrm>
                  <a:off x="2621880" y="5217120"/>
                  <a:ext cx="1172520" cy="102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6" name=""/>
                <p:cNvSpPr/>
                <p:nvPr/>
              </p:nvSpPr>
              <p:spPr>
                <a:xfrm>
                  <a:off x="2571120" y="5217120"/>
                  <a:ext cx="1274040" cy="102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7" name=""/>
              <p:cNvGrpSpPr/>
              <p:nvPr/>
            </p:nvGrpSpPr>
            <p:grpSpPr>
              <a:xfrm>
                <a:off x="3845880" y="5217120"/>
                <a:ext cx="1273680" cy="1025640"/>
                <a:chOff x="3845880" y="5217120"/>
                <a:chExt cx="1273680" cy="1025640"/>
              </a:xfrm>
            </p:grpSpPr>
            <p:sp>
              <p:nvSpPr>
                <p:cNvPr id="1698" name=""/>
                <p:cNvSpPr/>
                <p:nvPr/>
              </p:nvSpPr>
              <p:spPr>
                <a:xfrm>
                  <a:off x="3896280" y="5217120"/>
                  <a:ext cx="1172880" cy="102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9" name=""/>
                <p:cNvSpPr/>
                <p:nvPr/>
              </p:nvSpPr>
              <p:spPr>
                <a:xfrm>
                  <a:off x="3845880" y="5217120"/>
                  <a:ext cx="1273680" cy="102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0" name=""/>
              <p:cNvGrpSpPr/>
              <p:nvPr/>
            </p:nvGrpSpPr>
            <p:grpSpPr>
              <a:xfrm>
                <a:off x="5120280" y="5217120"/>
                <a:ext cx="1274040" cy="1025640"/>
                <a:chOff x="5120280" y="5217120"/>
                <a:chExt cx="1274040" cy="1025640"/>
              </a:xfrm>
            </p:grpSpPr>
            <p:sp>
              <p:nvSpPr>
                <p:cNvPr id="1701" name=""/>
                <p:cNvSpPr/>
                <p:nvPr/>
              </p:nvSpPr>
              <p:spPr>
                <a:xfrm>
                  <a:off x="5171040" y="5217120"/>
                  <a:ext cx="1172520" cy="102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2" name=""/>
                <p:cNvSpPr/>
                <p:nvPr/>
              </p:nvSpPr>
              <p:spPr>
                <a:xfrm>
                  <a:off x="5120280" y="5217120"/>
                  <a:ext cx="1274040" cy="102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03" name=""/>
            <p:cNvSpPr/>
            <p:nvPr/>
          </p:nvSpPr>
          <p:spPr>
            <a:xfrm>
              <a:off x="1371600" y="2228760"/>
              <a:ext cx="5028840" cy="40194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4" name=""/>
          <p:cNvSpPr/>
          <p:nvPr/>
        </p:nvSpPr>
        <p:spPr>
          <a:xfrm>
            <a:off x="3240" y="5535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5B43-01A6-4298-9131-832DC6762866}" type="slidenum">
              <a:t>1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xample LexAnalyzer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6" name=""/>
          <p:cNvSpPr/>
          <p:nvPr/>
        </p:nvSpPr>
        <p:spPr>
          <a:xfrm>
            <a:off x="3240" y="865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6753240" y="2471760"/>
            <a:ext cx="2155680" cy="2288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l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rcenta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ma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 - N -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3240" y="5904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9" name=""/>
          <p:cNvGrpSpPr/>
          <p:nvPr/>
        </p:nvGrpSpPr>
        <p:grpSpPr>
          <a:xfrm>
            <a:off x="1371600" y="2228760"/>
            <a:ext cx="5028840" cy="4019400"/>
            <a:chOff x="1371600" y="2228760"/>
            <a:chExt cx="5028840" cy="4019400"/>
          </a:xfrm>
        </p:grpSpPr>
        <p:grpSp>
          <p:nvGrpSpPr>
            <p:cNvPr id="1710" name=""/>
            <p:cNvGrpSpPr/>
            <p:nvPr/>
          </p:nvGrpSpPr>
          <p:grpSpPr>
            <a:xfrm>
              <a:off x="1376640" y="2233440"/>
              <a:ext cx="5017680" cy="4009320"/>
              <a:chOff x="1376640" y="2233440"/>
              <a:chExt cx="5017680" cy="4009320"/>
            </a:xfrm>
          </p:grpSpPr>
          <p:grpSp>
            <p:nvGrpSpPr>
              <p:cNvPr id="1711" name=""/>
              <p:cNvGrpSpPr/>
              <p:nvPr/>
            </p:nvGrpSpPr>
            <p:grpSpPr>
              <a:xfrm>
                <a:off x="1376640" y="2233440"/>
                <a:ext cx="1194120" cy="745560"/>
                <a:chOff x="1376640" y="2233440"/>
                <a:chExt cx="1194120" cy="745560"/>
              </a:xfrm>
            </p:grpSpPr>
            <p:sp>
              <p:nvSpPr>
                <p:cNvPr id="1712" name=""/>
                <p:cNvSpPr/>
                <p:nvPr/>
              </p:nvSpPr>
              <p:spPr>
                <a:xfrm>
                  <a:off x="1427040" y="2233440"/>
                  <a:ext cx="1093320" cy="74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800" spc="-1" strike="noStrike">
                      <a:solidFill>
                        <a:srgbClr val="ff0000"/>
                      </a:solidFill>
                      <a:latin typeface="Tahoma"/>
                      <a:ea typeface="Courier New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3" name=""/>
                <p:cNvSpPr/>
                <p:nvPr/>
              </p:nvSpPr>
              <p:spPr>
                <a:xfrm>
                  <a:off x="1376640" y="2233440"/>
                  <a:ext cx="1194120" cy="74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4" name=""/>
              <p:cNvGrpSpPr/>
              <p:nvPr/>
            </p:nvGrpSpPr>
            <p:grpSpPr>
              <a:xfrm>
                <a:off x="2571120" y="2233440"/>
                <a:ext cx="1274040" cy="745560"/>
                <a:chOff x="2571120" y="2233440"/>
                <a:chExt cx="1274040" cy="745560"/>
              </a:xfrm>
            </p:grpSpPr>
            <p:sp>
              <p:nvSpPr>
                <p:cNvPr id="1715" name=""/>
                <p:cNvSpPr/>
                <p:nvPr/>
              </p:nvSpPr>
              <p:spPr>
                <a:xfrm>
                  <a:off x="2621880" y="2233440"/>
                  <a:ext cx="1172520" cy="74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0000"/>
                      </a:solidFill>
                      <a:latin typeface="Tahoma"/>
                      <a:ea typeface="Times New Roman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6" name=""/>
                <p:cNvSpPr/>
                <p:nvPr/>
              </p:nvSpPr>
              <p:spPr>
                <a:xfrm>
                  <a:off x="2571120" y="2233440"/>
                  <a:ext cx="1274040" cy="74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7" name=""/>
              <p:cNvGrpSpPr/>
              <p:nvPr/>
            </p:nvGrpSpPr>
            <p:grpSpPr>
              <a:xfrm>
                <a:off x="3845880" y="2233440"/>
                <a:ext cx="1273680" cy="745560"/>
                <a:chOff x="3845880" y="2233440"/>
                <a:chExt cx="1273680" cy="745560"/>
              </a:xfrm>
            </p:grpSpPr>
            <p:sp>
              <p:nvSpPr>
                <p:cNvPr id="1718" name=""/>
                <p:cNvSpPr/>
                <p:nvPr/>
              </p:nvSpPr>
              <p:spPr>
                <a:xfrm>
                  <a:off x="3896280" y="2233440"/>
                  <a:ext cx="1172880" cy="74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0000"/>
                      </a:solidFill>
                      <a:latin typeface="Tahoma"/>
                      <a:ea typeface="Times New Roman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9" name=""/>
                <p:cNvSpPr/>
                <p:nvPr/>
              </p:nvSpPr>
              <p:spPr>
                <a:xfrm>
                  <a:off x="3845880" y="2233440"/>
                  <a:ext cx="1273680" cy="74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0" name=""/>
              <p:cNvGrpSpPr/>
              <p:nvPr/>
            </p:nvGrpSpPr>
            <p:grpSpPr>
              <a:xfrm>
                <a:off x="5120280" y="2233440"/>
                <a:ext cx="1274040" cy="745560"/>
                <a:chOff x="5120280" y="2233440"/>
                <a:chExt cx="1274040" cy="745560"/>
              </a:xfrm>
            </p:grpSpPr>
            <p:sp>
              <p:nvSpPr>
                <p:cNvPr id="1721" name=""/>
                <p:cNvSpPr/>
                <p:nvPr/>
              </p:nvSpPr>
              <p:spPr>
                <a:xfrm>
                  <a:off x="5171040" y="2233440"/>
                  <a:ext cx="1172520" cy="74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3333cc"/>
                      </a:solidFill>
                      <a:latin typeface="Tahoma"/>
                      <a:ea typeface="Times New Roman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2" name=""/>
                <p:cNvSpPr/>
                <p:nvPr/>
              </p:nvSpPr>
              <p:spPr>
                <a:xfrm>
                  <a:off x="5120280" y="2233440"/>
                  <a:ext cx="1274040" cy="74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3" name=""/>
              <p:cNvGrpSpPr/>
              <p:nvPr/>
            </p:nvGrpSpPr>
            <p:grpSpPr>
              <a:xfrm>
                <a:off x="1376640" y="2979360"/>
                <a:ext cx="1194120" cy="745560"/>
                <a:chOff x="1376640" y="2979360"/>
                <a:chExt cx="1194120" cy="745560"/>
              </a:xfrm>
            </p:grpSpPr>
            <p:sp>
              <p:nvSpPr>
                <p:cNvPr id="1724" name=""/>
                <p:cNvSpPr/>
                <p:nvPr/>
              </p:nvSpPr>
              <p:spPr>
                <a:xfrm>
                  <a:off x="1427040" y="2979360"/>
                  <a:ext cx="1093320" cy="74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5" name=""/>
                <p:cNvSpPr/>
                <p:nvPr/>
              </p:nvSpPr>
              <p:spPr>
                <a:xfrm>
                  <a:off x="1376640" y="2979360"/>
                  <a:ext cx="1194120" cy="74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6" name=""/>
              <p:cNvGrpSpPr/>
              <p:nvPr/>
            </p:nvGrpSpPr>
            <p:grpSpPr>
              <a:xfrm>
                <a:off x="2571120" y="2979360"/>
                <a:ext cx="1274040" cy="745560"/>
                <a:chOff x="2571120" y="2979360"/>
                <a:chExt cx="1274040" cy="745560"/>
              </a:xfrm>
            </p:grpSpPr>
            <p:sp>
              <p:nvSpPr>
                <p:cNvPr id="1727" name=""/>
                <p:cNvSpPr/>
                <p:nvPr/>
              </p:nvSpPr>
              <p:spPr>
                <a:xfrm>
                  <a:off x="2621880" y="2979360"/>
                  <a:ext cx="1172520" cy="74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0000"/>
                      </a:solidFill>
                      <a:latin typeface="Tahoma"/>
                      <a:ea typeface="Times New Roman"/>
                    </a:rPr>
                    <a:t>67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8" name=""/>
                <p:cNvSpPr/>
                <p:nvPr/>
              </p:nvSpPr>
              <p:spPr>
                <a:xfrm>
                  <a:off x="2571120" y="2979360"/>
                  <a:ext cx="1274040" cy="74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9" name=""/>
              <p:cNvGrpSpPr/>
              <p:nvPr/>
            </p:nvGrpSpPr>
            <p:grpSpPr>
              <a:xfrm>
                <a:off x="3845880" y="2979360"/>
                <a:ext cx="1273680" cy="745560"/>
                <a:chOff x="3845880" y="2979360"/>
                <a:chExt cx="1273680" cy="745560"/>
              </a:xfrm>
            </p:grpSpPr>
            <p:sp>
              <p:nvSpPr>
                <p:cNvPr id="1730" name=""/>
                <p:cNvSpPr/>
                <p:nvPr/>
              </p:nvSpPr>
              <p:spPr>
                <a:xfrm>
                  <a:off x="3896280" y="2979360"/>
                  <a:ext cx="1172880" cy="74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0000"/>
                      </a:solidFill>
                      <a:latin typeface="Tahoma"/>
                      <a:ea typeface="Times New Roman"/>
                    </a:rPr>
                    <a:t>59.1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1" name=""/>
                <p:cNvSpPr/>
                <p:nvPr/>
              </p:nvSpPr>
              <p:spPr>
                <a:xfrm>
                  <a:off x="3845880" y="2979360"/>
                  <a:ext cx="1273680" cy="74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2" name=""/>
              <p:cNvGrpSpPr/>
              <p:nvPr/>
            </p:nvGrpSpPr>
            <p:grpSpPr>
              <a:xfrm>
                <a:off x="5120280" y="2979360"/>
                <a:ext cx="1274040" cy="745560"/>
                <a:chOff x="5120280" y="2979360"/>
                <a:chExt cx="1274040" cy="745560"/>
              </a:xfrm>
            </p:grpSpPr>
            <p:sp>
              <p:nvSpPr>
                <p:cNvPr id="1733" name=""/>
                <p:cNvSpPr/>
                <p:nvPr/>
              </p:nvSpPr>
              <p:spPr>
                <a:xfrm>
                  <a:off x="5171040" y="2979360"/>
                  <a:ext cx="1172520" cy="74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3333cc"/>
                      </a:solidFill>
                      <a:latin typeface="Tahoma"/>
                      <a:ea typeface="Times New Roman"/>
                    </a:rPr>
                    <a:t>85.9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4" name=""/>
                <p:cNvSpPr/>
                <p:nvPr/>
              </p:nvSpPr>
              <p:spPr>
                <a:xfrm>
                  <a:off x="5120280" y="2979360"/>
                  <a:ext cx="1274040" cy="74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5" name=""/>
              <p:cNvGrpSpPr/>
              <p:nvPr/>
            </p:nvGrpSpPr>
            <p:grpSpPr>
              <a:xfrm>
                <a:off x="1376640" y="3725280"/>
                <a:ext cx="1194120" cy="745200"/>
                <a:chOff x="1376640" y="3725280"/>
                <a:chExt cx="1194120" cy="745200"/>
              </a:xfrm>
            </p:grpSpPr>
            <p:sp>
              <p:nvSpPr>
                <p:cNvPr id="1736" name=""/>
                <p:cNvSpPr/>
                <p:nvPr/>
              </p:nvSpPr>
              <p:spPr>
                <a:xfrm>
                  <a:off x="1427040" y="3725280"/>
                  <a:ext cx="1093320" cy="74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V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7" name=""/>
                <p:cNvSpPr/>
                <p:nvPr/>
              </p:nvSpPr>
              <p:spPr>
                <a:xfrm>
                  <a:off x="1376640" y="3725280"/>
                  <a:ext cx="1194120" cy="74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8" name=""/>
              <p:cNvGrpSpPr/>
              <p:nvPr/>
            </p:nvGrpSpPr>
            <p:grpSpPr>
              <a:xfrm>
                <a:off x="2571120" y="3725280"/>
                <a:ext cx="1274040" cy="745200"/>
                <a:chOff x="2571120" y="3725280"/>
                <a:chExt cx="1274040" cy="745200"/>
              </a:xfrm>
            </p:grpSpPr>
            <p:sp>
              <p:nvSpPr>
                <p:cNvPr id="1739" name=""/>
                <p:cNvSpPr/>
                <p:nvPr/>
              </p:nvSpPr>
              <p:spPr>
                <a:xfrm>
                  <a:off x="2621880" y="3725280"/>
                  <a:ext cx="1172520" cy="74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0000"/>
                      </a:solidFill>
                      <a:latin typeface="Tahoma"/>
                      <a:ea typeface="Times New Roman"/>
                    </a:rPr>
                    <a:t>22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0" name=""/>
                <p:cNvSpPr/>
                <p:nvPr/>
              </p:nvSpPr>
              <p:spPr>
                <a:xfrm>
                  <a:off x="2571120" y="3725280"/>
                  <a:ext cx="1274040" cy="74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1" name=""/>
              <p:cNvGrpSpPr/>
              <p:nvPr/>
            </p:nvGrpSpPr>
            <p:grpSpPr>
              <a:xfrm>
                <a:off x="3845880" y="3725280"/>
                <a:ext cx="1273680" cy="745200"/>
                <a:chOff x="3845880" y="3725280"/>
                <a:chExt cx="1273680" cy="745200"/>
              </a:xfrm>
            </p:grpSpPr>
            <p:sp>
              <p:nvSpPr>
                <p:cNvPr id="1742" name=""/>
                <p:cNvSpPr/>
                <p:nvPr/>
              </p:nvSpPr>
              <p:spPr>
                <a:xfrm>
                  <a:off x="3896280" y="3725280"/>
                  <a:ext cx="1172880" cy="74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0000"/>
                      </a:solidFill>
                      <a:latin typeface="Tahoma"/>
                      <a:ea typeface="Times New Roman"/>
                    </a:rPr>
                    <a:t>29.1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3" name=""/>
                <p:cNvSpPr/>
                <p:nvPr/>
              </p:nvSpPr>
              <p:spPr>
                <a:xfrm>
                  <a:off x="3845880" y="3725280"/>
                  <a:ext cx="1273680" cy="74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4" name=""/>
              <p:cNvGrpSpPr/>
              <p:nvPr/>
            </p:nvGrpSpPr>
            <p:grpSpPr>
              <a:xfrm>
                <a:off x="5120280" y="3725280"/>
                <a:ext cx="1274040" cy="745200"/>
                <a:chOff x="5120280" y="3725280"/>
                <a:chExt cx="1274040" cy="745200"/>
              </a:xfrm>
            </p:grpSpPr>
            <p:sp>
              <p:nvSpPr>
                <p:cNvPr id="1745" name=""/>
                <p:cNvSpPr/>
                <p:nvPr/>
              </p:nvSpPr>
              <p:spPr>
                <a:xfrm>
                  <a:off x="5171040" y="3725280"/>
                  <a:ext cx="1172520" cy="74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3333cc"/>
                      </a:solidFill>
                      <a:latin typeface="Tahoma"/>
                      <a:ea typeface="Times New Roman"/>
                    </a:rPr>
                    <a:t>10.1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6" name=""/>
                <p:cNvSpPr/>
                <p:nvPr/>
              </p:nvSpPr>
              <p:spPr>
                <a:xfrm>
                  <a:off x="5120280" y="3725280"/>
                  <a:ext cx="1274040" cy="74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7" name=""/>
              <p:cNvGrpSpPr/>
              <p:nvPr/>
            </p:nvGrpSpPr>
            <p:grpSpPr>
              <a:xfrm>
                <a:off x="1376640" y="4471200"/>
                <a:ext cx="1194120" cy="745560"/>
                <a:chOff x="1376640" y="4471200"/>
                <a:chExt cx="1194120" cy="745560"/>
              </a:xfrm>
            </p:grpSpPr>
            <p:sp>
              <p:nvSpPr>
                <p:cNvPr id="1748" name=""/>
                <p:cNvSpPr/>
                <p:nvPr/>
              </p:nvSpPr>
              <p:spPr>
                <a:xfrm>
                  <a:off x="1427040" y="4471200"/>
                  <a:ext cx="1093320" cy="74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9" name=""/>
                <p:cNvSpPr/>
                <p:nvPr/>
              </p:nvSpPr>
              <p:spPr>
                <a:xfrm>
                  <a:off x="1376640" y="4471200"/>
                  <a:ext cx="1194120" cy="74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0" name=""/>
              <p:cNvGrpSpPr/>
              <p:nvPr/>
            </p:nvGrpSpPr>
            <p:grpSpPr>
              <a:xfrm>
                <a:off x="2571120" y="4471200"/>
                <a:ext cx="1274040" cy="745560"/>
                <a:chOff x="2571120" y="4471200"/>
                <a:chExt cx="1274040" cy="745560"/>
              </a:xfrm>
            </p:grpSpPr>
            <p:sp>
              <p:nvSpPr>
                <p:cNvPr id="1751" name=""/>
                <p:cNvSpPr/>
                <p:nvPr/>
              </p:nvSpPr>
              <p:spPr>
                <a:xfrm>
                  <a:off x="2621880" y="4471200"/>
                  <a:ext cx="1172520" cy="74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0000"/>
                      </a:solidFill>
                      <a:latin typeface="Tahoma"/>
                      <a:ea typeface="Times New Roman"/>
                    </a:rPr>
                    <a:t>10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2" name=""/>
                <p:cNvSpPr/>
                <p:nvPr/>
              </p:nvSpPr>
              <p:spPr>
                <a:xfrm>
                  <a:off x="2571120" y="4471200"/>
                  <a:ext cx="1274040" cy="74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3" name=""/>
              <p:cNvGrpSpPr/>
              <p:nvPr/>
            </p:nvGrpSpPr>
            <p:grpSpPr>
              <a:xfrm>
                <a:off x="3845880" y="4471200"/>
                <a:ext cx="1273680" cy="745560"/>
                <a:chOff x="3845880" y="4471200"/>
                <a:chExt cx="1273680" cy="745560"/>
              </a:xfrm>
            </p:grpSpPr>
            <p:sp>
              <p:nvSpPr>
                <p:cNvPr id="1754" name=""/>
                <p:cNvSpPr/>
                <p:nvPr/>
              </p:nvSpPr>
              <p:spPr>
                <a:xfrm>
                  <a:off x="3896280" y="4471200"/>
                  <a:ext cx="1172880" cy="74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0000"/>
                      </a:solidFill>
                      <a:latin typeface="Tahoma"/>
                      <a:ea typeface="Times New Roman"/>
                    </a:rPr>
                    <a:t>11.8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5" name=""/>
                <p:cNvSpPr/>
                <p:nvPr/>
              </p:nvSpPr>
              <p:spPr>
                <a:xfrm>
                  <a:off x="3845880" y="4471200"/>
                  <a:ext cx="1273680" cy="74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6" name=""/>
              <p:cNvGrpSpPr/>
              <p:nvPr/>
            </p:nvGrpSpPr>
            <p:grpSpPr>
              <a:xfrm>
                <a:off x="5120280" y="4471200"/>
                <a:ext cx="1274040" cy="745560"/>
                <a:chOff x="5120280" y="4471200"/>
                <a:chExt cx="1274040" cy="745560"/>
              </a:xfrm>
            </p:grpSpPr>
            <p:sp>
              <p:nvSpPr>
                <p:cNvPr id="1757" name=""/>
                <p:cNvSpPr/>
                <p:nvPr/>
              </p:nvSpPr>
              <p:spPr>
                <a:xfrm>
                  <a:off x="5171040" y="4471200"/>
                  <a:ext cx="1172520" cy="74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3333cc"/>
                      </a:solidFill>
                      <a:latin typeface="Tahoma"/>
                      <a:ea typeface="Times New Roman"/>
                    </a:rPr>
                    <a:t>4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8" name=""/>
                <p:cNvSpPr/>
                <p:nvPr/>
              </p:nvSpPr>
              <p:spPr>
                <a:xfrm>
                  <a:off x="5120280" y="4471200"/>
                  <a:ext cx="1274040" cy="74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9" name=""/>
              <p:cNvGrpSpPr/>
              <p:nvPr/>
            </p:nvGrpSpPr>
            <p:grpSpPr>
              <a:xfrm>
                <a:off x="1376640" y="5217120"/>
                <a:ext cx="1194120" cy="1025640"/>
                <a:chOff x="1376640" y="5217120"/>
                <a:chExt cx="1194120" cy="1025640"/>
              </a:xfrm>
            </p:grpSpPr>
            <p:sp>
              <p:nvSpPr>
                <p:cNvPr id="1760" name=""/>
                <p:cNvSpPr/>
                <p:nvPr/>
              </p:nvSpPr>
              <p:spPr>
                <a:xfrm>
                  <a:off x="1427040" y="5217120"/>
                  <a:ext cx="1093320" cy="102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TOTA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1" name=""/>
                <p:cNvSpPr/>
                <p:nvPr/>
              </p:nvSpPr>
              <p:spPr>
                <a:xfrm>
                  <a:off x="1376640" y="5217120"/>
                  <a:ext cx="1194120" cy="102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2" name=""/>
              <p:cNvGrpSpPr/>
              <p:nvPr/>
            </p:nvGrpSpPr>
            <p:grpSpPr>
              <a:xfrm>
                <a:off x="2571120" y="5217120"/>
                <a:ext cx="1274040" cy="1025640"/>
                <a:chOff x="2571120" y="5217120"/>
                <a:chExt cx="1274040" cy="1025640"/>
              </a:xfrm>
            </p:grpSpPr>
            <p:sp>
              <p:nvSpPr>
                <p:cNvPr id="1763" name=""/>
                <p:cNvSpPr/>
                <p:nvPr/>
              </p:nvSpPr>
              <p:spPr>
                <a:xfrm>
                  <a:off x="2621880" y="5217120"/>
                  <a:ext cx="1172520" cy="102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10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4" name=""/>
                <p:cNvSpPr/>
                <p:nvPr/>
              </p:nvSpPr>
              <p:spPr>
                <a:xfrm>
                  <a:off x="2571120" y="5217120"/>
                  <a:ext cx="1274040" cy="102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5" name=""/>
              <p:cNvGrpSpPr/>
              <p:nvPr/>
            </p:nvGrpSpPr>
            <p:grpSpPr>
              <a:xfrm>
                <a:off x="3845880" y="5217120"/>
                <a:ext cx="1273680" cy="1025640"/>
                <a:chOff x="3845880" y="5217120"/>
                <a:chExt cx="1273680" cy="1025640"/>
              </a:xfrm>
            </p:grpSpPr>
            <p:sp>
              <p:nvSpPr>
                <p:cNvPr id="1766" name=""/>
                <p:cNvSpPr/>
                <p:nvPr/>
              </p:nvSpPr>
              <p:spPr>
                <a:xfrm>
                  <a:off x="3896280" y="5217120"/>
                  <a:ext cx="1172880" cy="102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10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7" name=""/>
                <p:cNvSpPr/>
                <p:nvPr/>
              </p:nvSpPr>
              <p:spPr>
                <a:xfrm>
                  <a:off x="3845880" y="5217120"/>
                  <a:ext cx="1273680" cy="102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8" name=""/>
              <p:cNvGrpSpPr/>
              <p:nvPr/>
            </p:nvGrpSpPr>
            <p:grpSpPr>
              <a:xfrm>
                <a:off x="5120280" y="5217120"/>
                <a:ext cx="1274040" cy="1025640"/>
                <a:chOff x="5120280" y="5217120"/>
                <a:chExt cx="1274040" cy="1025640"/>
              </a:xfrm>
            </p:grpSpPr>
            <p:sp>
              <p:nvSpPr>
                <p:cNvPr id="1769" name=""/>
                <p:cNvSpPr/>
                <p:nvPr/>
              </p:nvSpPr>
              <p:spPr>
                <a:xfrm>
                  <a:off x="5171040" y="5217120"/>
                  <a:ext cx="1172520" cy="102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10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0" name=""/>
                <p:cNvSpPr/>
                <p:nvPr/>
              </p:nvSpPr>
              <p:spPr>
                <a:xfrm>
                  <a:off x="5120280" y="5217120"/>
                  <a:ext cx="1274040" cy="102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71" name=""/>
            <p:cNvSpPr/>
            <p:nvPr/>
          </p:nvSpPr>
          <p:spPr>
            <a:xfrm>
              <a:off x="1371600" y="2228760"/>
              <a:ext cx="5028840" cy="40194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2" name=""/>
          <p:cNvSpPr/>
          <p:nvPr/>
        </p:nvSpPr>
        <p:spPr>
          <a:xfrm>
            <a:off x="3240" y="5535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4852440" y="28494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4852440" y="36115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4852440" y="437364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3556800" y="28494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~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3556800" y="36115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~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3556800" y="437364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~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E803-018D-4A59-AA1A-90E12FAE6761}" type="slidenum">
              <a:t>1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Lexical Borrow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0" name=""/>
          <p:cNvSpPr/>
          <p:nvPr/>
        </p:nvSpPr>
        <p:spPr>
          <a:xfrm>
            <a:off x="1355760" y="2395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1662120" y="2133720"/>
            <a:ext cx="63792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925200" y="2205000"/>
            <a:ext cx="667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Typolog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panish: SVO; prep; {V, N, Adj, Adv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Otomi: VOS (+SVO); prep; {V, N}; N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Quechua: SOV; post; {V, non-V}; VE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Guarani: SVO (+free); post; {V, non-V}; VE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0E7E-2D99-4087-98AA-ADF84125CA54}" type="slidenum">
              <a:t>1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Lexical Borrow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4" name=""/>
          <p:cNvSpPr/>
          <p:nvPr/>
        </p:nvSpPr>
        <p:spPr>
          <a:xfrm>
            <a:off x="1355760" y="2395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1662120" y="2133720"/>
            <a:ext cx="63792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925200" y="2205000"/>
            <a:ext cx="667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Typolog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panish: SVO; prep; {V, N, Adj, Adv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Otomi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: VOS (+SVO); prep;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{V, N}; N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Quechua: SOV; post; {V, non-V}; VE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Guarani: SVO (+free); post; {V, non-V}; VE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23A0-8F90-4AD5-8361-5F33364A0053}" type="slidenum">
              <a:t>1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Lexical Borrow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8" name=""/>
          <p:cNvSpPr/>
          <p:nvPr/>
        </p:nvSpPr>
        <p:spPr>
          <a:xfrm>
            <a:off x="1355760" y="2395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1662120" y="2133720"/>
            <a:ext cx="63792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925200" y="2205000"/>
            <a:ext cx="667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Typolog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panish: SVO; prep; {V, N, Adj, Adv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Otomi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: VOS (+SVO); prep;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{V, N}; N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Quechua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: SOV; post;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{V, non-V}; VE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Guarani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: SVO (+free); post;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{V, non-V}; VE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E33F-58EC-40A3-A83B-3DF06484F272}" type="slidenum">
              <a:t>1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erence of univers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1355760" y="2395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62120" y="2133720"/>
            <a:ext cx="63792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08360" y="3500280"/>
            <a:ext cx="1943280" cy="18003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205520" y="3619440"/>
            <a:ext cx="8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r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95640" y="4005360"/>
            <a:ext cx="1441440" cy="1224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V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52280" y="5589720"/>
            <a:ext cx="190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VSO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Pr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(absolu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97880" y="5589720"/>
            <a:ext cx="185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OV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P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(statis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F398-2C26-4409-AFFD-19F739FCDC0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xample LexAnalyzer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2" name=""/>
          <p:cNvSpPr/>
          <p:nvPr/>
        </p:nvSpPr>
        <p:spPr>
          <a:xfrm>
            <a:off x="3240" y="1063800"/>
            <a:ext cx="91440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3240" y="51544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3240" y="1430280"/>
            <a:ext cx="91440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3240" y="460548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3240" y="1430280"/>
            <a:ext cx="91440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7" name=""/>
          <p:cNvGrpSpPr/>
          <p:nvPr/>
        </p:nvGrpSpPr>
        <p:grpSpPr>
          <a:xfrm>
            <a:off x="1447920" y="2747880"/>
            <a:ext cx="5895720" cy="2205000"/>
            <a:chOff x="1447920" y="2747880"/>
            <a:chExt cx="5895720" cy="2205000"/>
          </a:xfrm>
        </p:grpSpPr>
        <p:grpSp>
          <p:nvGrpSpPr>
            <p:cNvPr id="1798" name=""/>
            <p:cNvGrpSpPr/>
            <p:nvPr/>
          </p:nvGrpSpPr>
          <p:grpSpPr>
            <a:xfrm>
              <a:off x="1452600" y="2752920"/>
              <a:ext cx="5886360" cy="2195280"/>
              <a:chOff x="1452600" y="2752920"/>
              <a:chExt cx="5886360" cy="2195280"/>
            </a:xfrm>
          </p:grpSpPr>
          <p:grpSp>
            <p:nvGrpSpPr>
              <p:cNvPr id="1799" name=""/>
              <p:cNvGrpSpPr/>
              <p:nvPr/>
            </p:nvGrpSpPr>
            <p:grpSpPr>
              <a:xfrm>
                <a:off x="1452600" y="2752920"/>
                <a:ext cx="2190600" cy="731520"/>
                <a:chOff x="1452600" y="2752920"/>
                <a:chExt cx="2190600" cy="731520"/>
              </a:xfrm>
            </p:grpSpPr>
            <p:sp>
              <p:nvSpPr>
                <p:cNvPr id="1800" name=""/>
                <p:cNvSpPr/>
                <p:nvPr/>
              </p:nvSpPr>
              <p:spPr>
                <a:xfrm>
                  <a:off x="1496880" y="2752920"/>
                  <a:ext cx="21020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1" name=""/>
                <p:cNvSpPr/>
                <p:nvPr/>
              </p:nvSpPr>
              <p:spPr>
                <a:xfrm>
                  <a:off x="1452600" y="2752920"/>
                  <a:ext cx="219060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2" name=""/>
              <p:cNvGrpSpPr/>
              <p:nvPr/>
            </p:nvGrpSpPr>
            <p:grpSpPr>
              <a:xfrm>
                <a:off x="3643200" y="2752920"/>
                <a:ext cx="1231920" cy="731520"/>
                <a:chOff x="3643200" y="2752920"/>
                <a:chExt cx="1231920" cy="731520"/>
              </a:xfrm>
            </p:grpSpPr>
            <p:sp>
              <p:nvSpPr>
                <p:cNvPr id="1803" name=""/>
                <p:cNvSpPr/>
                <p:nvPr/>
              </p:nvSpPr>
              <p:spPr>
                <a:xfrm>
                  <a:off x="3687840" y="2752920"/>
                  <a:ext cx="1143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>
                  <a:off x="3643200" y="2752920"/>
                  <a:ext cx="12319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5" name=""/>
              <p:cNvGrpSpPr/>
              <p:nvPr/>
            </p:nvGrpSpPr>
            <p:grpSpPr>
              <a:xfrm>
                <a:off x="4875120" y="2752920"/>
                <a:ext cx="1231920" cy="731520"/>
                <a:chOff x="4875120" y="2752920"/>
                <a:chExt cx="1231920" cy="731520"/>
              </a:xfrm>
            </p:grpSpPr>
            <p:sp>
              <p:nvSpPr>
                <p:cNvPr id="1806" name=""/>
                <p:cNvSpPr/>
                <p:nvPr/>
              </p:nvSpPr>
              <p:spPr>
                <a:xfrm>
                  <a:off x="4919760" y="2752920"/>
                  <a:ext cx="1143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7" name=""/>
                <p:cNvSpPr/>
                <p:nvPr/>
              </p:nvSpPr>
              <p:spPr>
                <a:xfrm>
                  <a:off x="4875120" y="2752920"/>
                  <a:ext cx="12319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8" name=""/>
              <p:cNvGrpSpPr/>
              <p:nvPr/>
            </p:nvGrpSpPr>
            <p:grpSpPr>
              <a:xfrm>
                <a:off x="6107040" y="2752920"/>
                <a:ext cx="1231920" cy="731520"/>
                <a:chOff x="6107040" y="2752920"/>
                <a:chExt cx="1231920" cy="731520"/>
              </a:xfrm>
            </p:grpSpPr>
            <p:sp>
              <p:nvSpPr>
                <p:cNvPr id="1809" name=""/>
                <p:cNvSpPr/>
                <p:nvPr/>
              </p:nvSpPr>
              <p:spPr>
                <a:xfrm>
                  <a:off x="6151680" y="2752920"/>
                  <a:ext cx="1143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0" name=""/>
                <p:cNvSpPr/>
                <p:nvPr/>
              </p:nvSpPr>
              <p:spPr>
                <a:xfrm>
                  <a:off x="6107040" y="2752920"/>
                  <a:ext cx="12319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1" name=""/>
              <p:cNvGrpSpPr/>
              <p:nvPr/>
            </p:nvGrpSpPr>
            <p:grpSpPr>
              <a:xfrm>
                <a:off x="1452600" y="3484440"/>
                <a:ext cx="2190600" cy="731880"/>
                <a:chOff x="1452600" y="3484440"/>
                <a:chExt cx="2190600" cy="731880"/>
              </a:xfrm>
            </p:grpSpPr>
            <p:sp>
              <p:nvSpPr>
                <p:cNvPr id="1812" name=""/>
                <p:cNvSpPr/>
                <p:nvPr/>
              </p:nvSpPr>
              <p:spPr>
                <a:xfrm>
                  <a:off x="1496880" y="3484440"/>
                  <a:ext cx="21020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LEXICA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>
                  <a:off x="1452600" y="3484440"/>
                  <a:ext cx="219060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4" name=""/>
              <p:cNvGrpSpPr/>
              <p:nvPr/>
            </p:nvGrpSpPr>
            <p:grpSpPr>
              <a:xfrm>
                <a:off x="3643200" y="3484440"/>
                <a:ext cx="1231920" cy="731880"/>
                <a:chOff x="3643200" y="3484440"/>
                <a:chExt cx="1231920" cy="731880"/>
              </a:xfrm>
            </p:grpSpPr>
            <p:sp>
              <p:nvSpPr>
                <p:cNvPr id="1815" name=""/>
                <p:cNvSpPr/>
                <p:nvPr/>
              </p:nvSpPr>
              <p:spPr>
                <a:xfrm>
                  <a:off x="3687840" y="348444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84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6" name=""/>
                <p:cNvSpPr/>
                <p:nvPr/>
              </p:nvSpPr>
              <p:spPr>
                <a:xfrm>
                  <a:off x="3643200" y="348444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7" name=""/>
              <p:cNvGrpSpPr/>
              <p:nvPr/>
            </p:nvGrpSpPr>
            <p:grpSpPr>
              <a:xfrm>
                <a:off x="4875120" y="3484440"/>
                <a:ext cx="1231920" cy="731880"/>
                <a:chOff x="4875120" y="3484440"/>
                <a:chExt cx="1231920" cy="731880"/>
              </a:xfrm>
            </p:grpSpPr>
            <p:sp>
              <p:nvSpPr>
                <p:cNvPr id="1818" name=""/>
                <p:cNvSpPr/>
                <p:nvPr/>
              </p:nvSpPr>
              <p:spPr>
                <a:xfrm>
                  <a:off x="4919760" y="348444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5.3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9" name=""/>
                <p:cNvSpPr/>
                <p:nvPr/>
              </p:nvSpPr>
              <p:spPr>
                <a:xfrm>
                  <a:off x="4875120" y="348444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0" name=""/>
              <p:cNvGrpSpPr/>
              <p:nvPr/>
            </p:nvGrpSpPr>
            <p:grpSpPr>
              <a:xfrm>
                <a:off x="6107040" y="3484440"/>
                <a:ext cx="1231920" cy="731880"/>
                <a:chOff x="6107040" y="3484440"/>
                <a:chExt cx="1231920" cy="731880"/>
              </a:xfrm>
            </p:grpSpPr>
            <p:sp>
              <p:nvSpPr>
                <p:cNvPr id="1821" name=""/>
                <p:cNvSpPr/>
                <p:nvPr/>
              </p:nvSpPr>
              <p:spPr>
                <a:xfrm>
                  <a:off x="6151680" y="348444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51.9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2" name=""/>
                <p:cNvSpPr/>
                <p:nvPr/>
              </p:nvSpPr>
              <p:spPr>
                <a:xfrm>
                  <a:off x="6107040" y="348444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3" name=""/>
              <p:cNvGrpSpPr/>
              <p:nvPr/>
            </p:nvGrpSpPr>
            <p:grpSpPr>
              <a:xfrm>
                <a:off x="1452600" y="4216320"/>
                <a:ext cx="2190600" cy="731880"/>
                <a:chOff x="1452600" y="4216320"/>
                <a:chExt cx="2190600" cy="731880"/>
              </a:xfrm>
            </p:grpSpPr>
            <p:sp>
              <p:nvSpPr>
                <p:cNvPr id="1824" name=""/>
                <p:cNvSpPr/>
                <p:nvPr/>
              </p:nvSpPr>
              <p:spPr>
                <a:xfrm>
                  <a:off x="1496880" y="4216320"/>
                  <a:ext cx="21020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GRAMMATICAL    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5" name=""/>
                <p:cNvSpPr/>
                <p:nvPr/>
              </p:nvSpPr>
              <p:spPr>
                <a:xfrm>
                  <a:off x="1452600" y="4216320"/>
                  <a:ext cx="219060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6" name=""/>
              <p:cNvGrpSpPr/>
              <p:nvPr/>
            </p:nvGrpSpPr>
            <p:grpSpPr>
              <a:xfrm>
                <a:off x="3643200" y="4216320"/>
                <a:ext cx="1231920" cy="731880"/>
                <a:chOff x="3643200" y="4216320"/>
                <a:chExt cx="1231920" cy="731880"/>
              </a:xfrm>
            </p:grpSpPr>
            <p:sp>
              <p:nvSpPr>
                <p:cNvPr id="1827" name=""/>
                <p:cNvSpPr/>
                <p:nvPr/>
              </p:nvSpPr>
              <p:spPr>
                <a:xfrm>
                  <a:off x="3687840" y="421632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6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8" name=""/>
                <p:cNvSpPr/>
                <p:nvPr/>
              </p:nvSpPr>
              <p:spPr>
                <a:xfrm>
                  <a:off x="3643200" y="421632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9" name=""/>
              <p:cNvGrpSpPr/>
              <p:nvPr/>
            </p:nvGrpSpPr>
            <p:grpSpPr>
              <a:xfrm>
                <a:off x="4875120" y="4216320"/>
                <a:ext cx="1231920" cy="731880"/>
                <a:chOff x="4875120" y="4216320"/>
                <a:chExt cx="1231920" cy="731880"/>
              </a:xfrm>
            </p:grpSpPr>
            <p:sp>
              <p:nvSpPr>
                <p:cNvPr id="1830" name=""/>
                <p:cNvSpPr/>
                <p:nvPr/>
              </p:nvSpPr>
              <p:spPr>
                <a:xfrm>
                  <a:off x="4919760" y="421632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34.7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1" name=""/>
                <p:cNvSpPr/>
                <p:nvPr/>
              </p:nvSpPr>
              <p:spPr>
                <a:xfrm>
                  <a:off x="4875120" y="421632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2" name=""/>
              <p:cNvGrpSpPr/>
              <p:nvPr/>
            </p:nvGrpSpPr>
            <p:grpSpPr>
              <a:xfrm>
                <a:off x="6107040" y="4216320"/>
                <a:ext cx="1231920" cy="731880"/>
                <a:chOff x="6107040" y="4216320"/>
                <a:chExt cx="1231920" cy="731880"/>
              </a:xfrm>
            </p:grpSpPr>
            <p:sp>
              <p:nvSpPr>
                <p:cNvPr id="1833" name=""/>
                <p:cNvSpPr/>
                <p:nvPr/>
              </p:nvSpPr>
              <p:spPr>
                <a:xfrm>
                  <a:off x="6151680" y="421632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8.1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4" name=""/>
                <p:cNvSpPr/>
                <p:nvPr/>
              </p:nvSpPr>
              <p:spPr>
                <a:xfrm>
                  <a:off x="6107040" y="421632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35" name=""/>
            <p:cNvSpPr/>
            <p:nvPr/>
          </p:nvSpPr>
          <p:spPr>
            <a:xfrm>
              <a:off x="1447920" y="2747880"/>
              <a:ext cx="5895720" cy="22050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6" name=""/>
          <p:cNvSpPr/>
          <p:nvPr/>
        </p:nvSpPr>
        <p:spPr>
          <a:xfrm>
            <a:off x="3240" y="460548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532A-9046-4118-BE0B-C653A10B4E33}" type="slidenum">
              <a:t>1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xample LexAnalyzer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8" name=""/>
          <p:cNvSpPr/>
          <p:nvPr/>
        </p:nvSpPr>
        <p:spPr>
          <a:xfrm>
            <a:off x="3240" y="1063800"/>
            <a:ext cx="91440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3240" y="51544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3240" y="1430280"/>
            <a:ext cx="91440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3240" y="460548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3240" y="1430280"/>
            <a:ext cx="91440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3" name=""/>
          <p:cNvGrpSpPr/>
          <p:nvPr/>
        </p:nvGrpSpPr>
        <p:grpSpPr>
          <a:xfrm>
            <a:off x="1447920" y="2747880"/>
            <a:ext cx="5895720" cy="2205000"/>
            <a:chOff x="1447920" y="2747880"/>
            <a:chExt cx="5895720" cy="2205000"/>
          </a:xfrm>
        </p:grpSpPr>
        <p:grpSp>
          <p:nvGrpSpPr>
            <p:cNvPr id="1844" name=""/>
            <p:cNvGrpSpPr/>
            <p:nvPr/>
          </p:nvGrpSpPr>
          <p:grpSpPr>
            <a:xfrm>
              <a:off x="1452600" y="2752920"/>
              <a:ext cx="5886360" cy="2195280"/>
              <a:chOff x="1452600" y="2752920"/>
              <a:chExt cx="5886360" cy="2195280"/>
            </a:xfrm>
          </p:grpSpPr>
          <p:grpSp>
            <p:nvGrpSpPr>
              <p:cNvPr id="1845" name=""/>
              <p:cNvGrpSpPr/>
              <p:nvPr/>
            </p:nvGrpSpPr>
            <p:grpSpPr>
              <a:xfrm>
                <a:off x="1452600" y="2752920"/>
                <a:ext cx="2190600" cy="731520"/>
                <a:chOff x="1452600" y="2752920"/>
                <a:chExt cx="2190600" cy="731520"/>
              </a:xfrm>
            </p:grpSpPr>
            <p:sp>
              <p:nvSpPr>
                <p:cNvPr id="1846" name=""/>
                <p:cNvSpPr/>
                <p:nvPr/>
              </p:nvSpPr>
              <p:spPr>
                <a:xfrm>
                  <a:off x="1496880" y="2752920"/>
                  <a:ext cx="21020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7" name=""/>
                <p:cNvSpPr/>
                <p:nvPr/>
              </p:nvSpPr>
              <p:spPr>
                <a:xfrm>
                  <a:off x="1452600" y="2752920"/>
                  <a:ext cx="219060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8" name=""/>
              <p:cNvGrpSpPr/>
              <p:nvPr/>
            </p:nvGrpSpPr>
            <p:grpSpPr>
              <a:xfrm>
                <a:off x="3643200" y="2752920"/>
                <a:ext cx="1231920" cy="731520"/>
                <a:chOff x="3643200" y="2752920"/>
                <a:chExt cx="1231920" cy="731520"/>
              </a:xfrm>
            </p:grpSpPr>
            <p:sp>
              <p:nvSpPr>
                <p:cNvPr id="1849" name=""/>
                <p:cNvSpPr/>
                <p:nvPr/>
              </p:nvSpPr>
              <p:spPr>
                <a:xfrm>
                  <a:off x="3687840" y="2752920"/>
                  <a:ext cx="1143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0" name=""/>
                <p:cNvSpPr/>
                <p:nvPr/>
              </p:nvSpPr>
              <p:spPr>
                <a:xfrm>
                  <a:off x="3643200" y="2752920"/>
                  <a:ext cx="12319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1" name=""/>
              <p:cNvGrpSpPr/>
              <p:nvPr/>
            </p:nvGrpSpPr>
            <p:grpSpPr>
              <a:xfrm>
                <a:off x="4875120" y="2752920"/>
                <a:ext cx="1231920" cy="731520"/>
                <a:chOff x="4875120" y="2752920"/>
                <a:chExt cx="1231920" cy="731520"/>
              </a:xfrm>
            </p:grpSpPr>
            <p:sp>
              <p:nvSpPr>
                <p:cNvPr id="1852" name=""/>
                <p:cNvSpPr/>
                <p:nvPr/>
              </p:nvSpPr>
              <p:spPr>
                <a:xfrm>
                  <a:off x="4919760" y="2752920"/>
                  <a:ext cx="1143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3" name=""/>
                <p:cNvSpPr/>
                <p:nvPr/>
              </p:nvSpPr>
              <p:spPr>
                <a:xfrm>
                  <a:off x="4875120" y="2752920"/>
                  <a:ext cx="12319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4" name=""/>
              <p:cNvGrpSpPr/>
              <p:nvPr/>
            </p:nvGrpSpPr>
            <p:grpSpPr>
              <a:xfrm>
                <a:off x="6107040" y="2752920"/>
                <a:ext cx="1231920" cy="731520"/>
                <a:chOff x="6107040" y="2752920"/>
                <a:chExt cx="1231920" cy="731520"/>
              </a:xfrm>
            </p:grpSpPr>
            <p:sp>
              <p:nvSpPr>
                <p:cNvPr id="1855" name=""/>
                <p:cNvSpPr/>
                <p:nvPr/>
              </p:nvSpPr>
              <p:spPr>
                <a:xfrm>
                  <a:off x="6151680" y="2752920"/>
                  <a:ext cx="1143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6" name=""/>
                <p:cNvSpPr/>
                <p:nvPr/>
              </p:nvSpPr>
              <p:spPr>
                <a:xfrm>
                  <a:off x="6107040" y="2752920"/>
                  <a:ext cx="12319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7" name=""/>
              <p:cNvGrpSpPr/>
              <p:nvPr/>
            </p:nvGrpSpPr>
            <p:grpSpPr>
              <a:xfrm>
                <a:off x="1452600" y="3484440"/>
                <a:ext cx="2190600" cy="731880"/>
                <a:chOff x="1452600" y="3484440"/>
                <a:chExt cx="2190600" cy="731880"/>
              </a:xfrm>
            </p:grpSpPr>
            <p:sp>
              <p:nvSpPr>
                <p:cNvPr id="1858" name=""/>
                <p:cNvSpPr/>
                <p:nvPr/>
              </p:nvSpPr>
              <p:spPr>
                <a:xfrm>
                  <a:off x="1496880" y="3484440"/>
                  <a:ext cx="21020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LEXICA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9" name=""/>
                <p:cNvSpPr/>
                <p:nvPr/>
              </p:nvSpPr>
              <p:spPr>
                <a:xfrm>
                  <a:off x="1452600" y="3484440"/>
                  <a:ext cx="219060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0" name=""/>
              <p:cNvGrpSpPr/>
              <p:nvPr/>
            </p:nvGrpSpPr>
            <p:grpSpPr>
              <a:xfrm>
                <a:off x="3643200" y="3484440"/>
                <a:ext cx="1231920" cy="731880"/>
                <a:chOff x="3643200" y="3484440"/>
                <a:chExt cx="1231920" cy="731880"/>
              </a:xfrm>
            </p:grpSpPr>
            <p:sp>
              <p:nvSpPr>
                <p:cNvPr id="1861" name=""/>
                <p:cNvSpPr/>
                <p:nvPr/>
              </p:nvSpPr>
              <p:spPr>
                <a:xfrm>
                  <a:off x="3687840" y="348444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84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2" name=""/>
                <p:cNvSpPr/>
                <p:nvPr/>
              </p:nvSpPr>
              <p:spPr>
                <a:xfrm>
                  <a:off x="3643200" y="348444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3" name=""/>
              <p:cNvGrpSpPr/>
              <p:nvPr/>
            </p:nvGrpSpPr>
            <p:grpSpPr>
              <a:xfrm>
                <a:off x="4875120" y="3484440"/>
                <a:ext cx="1231920" cy="731880"/>
                <a:chOff x="4875120" y="3484440"/>
                <a:chExt cx="1231920" cy="731880"/>
              </a:xfrm>
            </p:grpSpPr>
            <p:sp>
              <p:nvSpPr>
                <p:cNvPr id="1864" name=""/>
                <p:cNvSpPr/>
                <p:nvPr/>
              </p:nvSpPr>
              <p:spPr>
                <a:xfrm>
                  <a:off x="4919760" y="348444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5.3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5" name=""/>
                <p:cNvSpPr/>
                <p:nvPr/>
              </p:nvSpPr>
              <p:spPr>
                <a:xfrm>
                  <a:off x="4875120" y="348444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6" name=""/>
              <p:cNvGrpSpPr/>
              <p:nvPr/>
            </p:nvGrpSpPr>
            <p:grpSpPr>
              <a:xfrm>
                <a:off x="6107040" y="3484440"/>
                <a:ext cx="1231920" cy="731880"/>
                <a:chOff x="6107040" y="3484440"/>
                <a:chExt cx="1231920" cy="731880"/>
              </a:xfrm>
            </p:grpSpPr>
            <p:sp>
              <p:nvSpPr>
                <p:cNvPr id="1867" name=""/>
                <p:cNvSpPr/>
                <p:nvPr/>
              </p:nvSpPr>
              <p:spPr>
                <a:xfrm>
                  <a:off x="6151680" y="348444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51.9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8" name=""/>
                <p:cNvSpPr/>
                <p:nvPr/>
              </p:nvSpPr>
              <p:spPr>
                <a:xfrm>
                  <a:off x="6107040" y="348444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9" name=""/>
              <p:cNvGrpSpPr/>
              <p:nvPr/>
            </p:nvGrpSpPr>
            <p:grpSpPr>
              <a:xfrm>
                <a:off x="1452600" y="4216320"/>
                <a:ext cx="2190600" cy="731880"/>
                <a:chOff x="1452600" y="4216320"/>
                <a:chExt cx="2190600" cy="731880"/>
              </a:xfrm>
            </p:grpSpPr>
            <p:sp>
              <p:nvSpPr>
                <p:cNvPr id="1870" name=""/>
                <p:cNvSpPr/>
                <p:nvPr/>
              </p:nvSpPr>
              <p:spPr>
                <a:xfrm>
                  <a:off x="1496880" y="4216320"/>
                  <a:ext cx="21020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GRAMMATICAL    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1" name=""/>
                <p:cNvSpPr/>
                <p:nvPr/>
              </p:nvSpPr>
              <p:spPr>
                <a:xfrm>
                  <a:off x="1452600" y="4216320"/>
                  <a:ext cx="219060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2" name=""/>
              <p:cNvGrpSpPr/>
              <p:nvPr/>
            </p:nvGrpSpPr>
            <p:grpSpPr>
              <a:xfrm>
                <a:off x="3643200" y="4216320"/>
                <a:ext cx="1231920" cy="731880"/>
                <a:chOff x="3643200" y="4216320"/>
                <a:chExt cx="1231920" cy="731880"/>
              </a:xfrm>
            </p:grpSpPr>
            <p:sp>
              <p:nvSpPr>
                <p:cNvPr id="1873" name=""/>
                <p:cNvSpPr/>
                <p:nvPr/>
              </p:nvSpPr>
              <p:spPr>
                <a:xfrm>
                  <a:off x="3687840" y="421632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16.0%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4" name=""/>
                <p:cNvSpPr/>
                <p:nvPr/>
              </p:nvSpPr>
              <p:spPr>
                <a:xfrm>
                  <a:off x="3643200" y="421632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5" name=""/>
              <p:cNvGrpSpPr/>
              <p:nvPr/>
            </p:nvGrpSpPr>
            <p:grpSpPr>
              <a:xfrm>
                <a:off x="4875120" y="4216320"/>
                <a:ext cx="1231920" cy="731880"/>
                <a:chOff x="4875120" y="4216320"/>
                <a:chExt cx="1231920" cy="731880"/>
              </a:xfrm>
            </p:grpSpPr>
            <p:sp>
              <p:nvSpPr>
                <p:cNvPr id="1876" name=""/>
                <p:cNvSpPr/>
                <p:nvPr/>
              </p:nvSpPr>
              <p:spPr>
                <a:xfrm>
                  <a:off x="4919760" y="421632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34.7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7" name=""/>
                <p:cNvSpPr/>
                <p:nvPr/>
              </p:nvSpPr>
              <p:spPr>
                <a:xfrm>
                  <a:off x="4875120" y="421632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8" name=""/>
              <p:cNvGrpSpPr/>
              <p:nvPr/>
            </p:nvGrpSpPr>
            <p:grpSpPr>
              <a:xfrm>
                <a:off x="6107040" y="4216320"/>
                <a:ext cx="1231920" cy="731880"/>
                <a:chOff x="6107040" y="4216320"/>
                <a:chExt cx="1231920" cy="731880"/>
              </a:xfrm>
            </p:grpSpPr>
            <p:sp>
              <p:nvSpPr>
                <p:cNvPr id="1879" name=""/>
                <p:cNvSpPr/>
                <p:nvPr/>
              </p:nvSpPr>
              <p:spPr>
                <a:xfrm>
                  <a:off x="6151680" y="421632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48.1%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0" name=""/>
                <p:cNvSpPr/>
                <p:nvPr/>
              </p:nvSpPr>
              <p:spPr>
                <a:xfrm>
                  <a:off x="6107040" y="421632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81" name=""/>
            <p:cNvSpPr/>
            <p:nvPr/>
          </p:nvSpPr>
          <p:spPr>
            <a:xfrm>
              <a:off x="1447920" y="2747880"/>
              <a:ext cx="5895720" cy="22050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2" name=""/>
          <p:cNvSpPr/>
          <p:nvPr/>
        </p:nvSpPr>
        <p:spPr>
          <a:xfrm>
            <a:off x="6019920" y="4191120"/>
            <a:ext cx="144756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3419640" y="4191120"/>
            <a:ext cx="144756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7715520" y="1828800"/>
            <a:ext cx="762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8A66-BF9B-408B-8FB7-A0E0D44AB6CB}" type="slidenum">
              <a:t>1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xample LexAnalyzer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6" name=""/>
          <p:cNvSpPr/>
          <p:nvPr/>
        </p:nvSpPr>
        <p:spPr>
          <a:xfrm>
            <a:off x="3240" y="87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7" name=""/>
          <p:cNvGrpSpPr/>
          <p:nvPr/>
        </p:nvGrpSpPr>
        <p:grpSpPr>
          <a:xfrm>
            <a:off x="762120" y="2076480"/>
            <a:ext cx="5730840" cy="4400640"/>
            <a:chOff x="762120" y="2076480"/>
            <a:chExt cx="5730840" cy="4400640"/>
          </a:xfrm>
        </p:grpSpPr>
        <p:grpSp>
          <p:nvGrpSpPr>
            <p:cNvPr id="1888" name=""/>
            <p:cNvGrpSpPr/>
            <p:nvPr/>
          </p:nvGrpSpPr>
          <p:grpSpPr>
            <a:xfrm>
              <a:off x="766800" y="2081520"/>
              <a:ext cx="5721480" cy="4390920"/>
              <a:chOff x="766800" y="2081520"/>
              <a:chExt cx="5721480" cy="4390920"/>
            </a:xfrm>
          </p:grpSpPr>
          <p:grpSp>
            <p:nvGrpSpPr>
              <p:cNvPr id="1889" name=""/>
              <p:cNvGrpSpPr/>
              <p:nvPr/>
            </p:nvGrpSpPr>
            <p:grpSpPr>
              <a:xfrm>
                <a:off x="766800" y="2081520"/>
                <a:ext cx="1636560" cy="731880"/>
                <a:chOff x="766800" y="2081520"/>
                <a:chExt cx="1636560" cy="731880"/>
              </a:xfrm>
            </p:grpSpPr>
            <p:sp>
              <p:nvSpPr>
                <p:cNvPr id="1890" name=""/>
                <p:cNvSpPr/>
                <p:nvPr/>
              </p:nvSpPr>
              <p:spPr>
                <a:xfrm>
                  <a:off x="811080" y="20815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1" name=""/>
                <p:cNvSpPr/>
                <p:nvPr/>
              </p:nvSpPr>
              <p:spPr>
                <a:xfrm>
                  <a:off x="766800" y="20815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2" name=""/>
              <p:cNvGrpSpPr/>
              <p:nvPr/>
            </p:nvGrpSpPr>
            <p:grpSpPr>
              <a:xfrm>
                <a:off x="2403360" y="2081520"/>
                <a:ext cx="1395720" cy="731880"/>
                <a:chOff x="2403360" y="2081520"/>
                <a:chExt cx="1395720" cy="731880"/>
              </a:xfrm>
            </p:grpSpPr>
            <p:sp>
              <p:nvSpPr>
                <p:cNvPr id="1893" name=""/>
                <p:cNvSpPr/>
                <p:nvPr/>
              </p:nvSpPr>
              <p:spPr>
                <a:xfrm>
                  <a:off x="24480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4" name=""/>
                <p:cNvSpPr/>
                <p:nvPr/>
              </p:nvSpPr>
              <p:spPr>
                <a:xfrm>
                  <a:off x="24033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5" name=""/>
              <p:cNvGrpSpPr/>
              <p:nvPr/>
            </p:nvGrpSpPr>
            <p:grpSpPr>
              <a:xfrm>
                <a:off x="3799080" y="2081520"/>
                <a:ext cx="1293480" cy="731880"/>
                <a:chOff x="3799080" y="2081520"/>
                <a:chExt cx="1293480" cy="731880"/>
              </a:xfrm>
            </p:grpSpPr>
            <p:sp>
              <p:nvSpPr>
                <p:cNvPr id="1896" name=""/>
                <p:cNvSpPr/>
                <p:nvPr/>
              </p:nvSpPr>
              <p:spPr>
                <a:xfrm>
                  <a:off x="3843360" y="20815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7" name=""/>
                <p:cNvSpPr/>
                <p:nvPr/>
              </p:nvSpPr>
              <p:spPr>
                <a:xfrm>
                  <a:off x="3799080" y="20815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8" name=""/>
              <p:cNvGrpSpPr/>
              <p:nvPr/>
            </p:nvGrpSpPr>
            <p:grpSpPr>
              <a:xfrm>
                <a:off x="5092560" y="2081520"/>
                <a:ext cx="1395720" cy="731880"/>
                <a:chOff x="5092560" y="2081520"/>
                <a:chExt cx="1395720" cy="731880"/>
              </a:xfrm>
            </p:grpSpPr>
            <p:sp>
              <p:nvSpPr>
                <p:cNvPr id="1899" name=""/>
                <p:cNvSpPr/>
                <p:nvPr/>
              </p:nvSpPr>
              <p:spPr>
                <a:xfrm>
                  <a:off x="51372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0" name=""/>
                <p:cNvSpPr/>
                <p:nvPr/>
              </p:nvSpPr>
              <p:spPr>
                <a:xfrm>
                  <a:off x="50925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1" name=""/>
              <p:cNvGrpSpPr/>
              <p:nvPr/>
            </p:nvGrpSpPr>
            <p:grpSpPr>
              <a:xfrm>
                <a:off x="766800" y="2813400"/>
                <a:ext cx="1636560" cy="731520"/>
                <a:chOff x="766800" y="2813400"/>
                <a:chExt cx="1636560" cy="731520"/>
              </a:xfrm>
            </p:grpSpPr>
            <p:sp>
              <p:nvSpPr>
                <p:cNvPr id="1902" name=""/>
                <p:cNvSpPr/>
                <p:nvPr/>
              </p:nvSpPr>
              <p:spPr>
                <a:xfrm>
                  <a:off x="811080" y="2813400"/>
                  <a:ext cx="1548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dpo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3" name=""/>
                <p:cNvSpPr/>
                <p:nvPr/>
              </p:nvSpPr>
              <p:spPr>
                <a:xfrm>
                  <a:off x="766800" y="2813400"/>
                  <a:ext cx="163656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4" name=""/>
              <p:cNvGrpSpPr/>
              <p:nvPr/>
            </p:nvGrpSpPr>
            <p:grpSpPr>
              <a:xfrm>
                <a:off x="2403360" y="2813400"/>
                <a:ext cx="1395720" cy="731520"/>
                <a:chOff x="2403360" y="2813400"/>
                <a:chExt cx="1395720" cy="731520"/>
              </a:xfrm>
            </p:grpSpPr>
            <p:sp>
              <p:nvSpPr>
                <p:cNvPr id="1905" name=""/>
                <p:cNvSpPr/>
                <p:nvPr/>
              </p:nvSpPr>
              <p:spPr>
                <a:xfrm>
                  <a:off x="24480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6" name=""/>
                <p:cNvSpPr/>
                <p:nvPr/>
              </p:nvSpPr>
              <p:spPr>
                <a:xfrm>
                  <a:off x="24033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7" name=""/>
              <p:cNvGrpSpPr/>
              <p:nvPr/>
            </p:nvGrpSpPr>
            <p:grpSpPr>
              <a:xfrm>
                <a:off x="3799080" y="2813400"/>
                <a:ext cx="1293480" cy="731520"/>
                <a:chOff x="3799080" y="2813400"/>
                <a:chExt cx="1293480" cy="731520"/>
              </a:xfrm>
            </p:grpSpPr>
            <p:sp>
              <p:nvSpPr>
                <p:cNvPr id="1908" name=""/>
                <p:cNvSpPr/>
                <p:nvPr/>
              </p:nvSpPr>
              <p:spPr>
                <a:xfrm>
                  <a:off x="3843360" y="2813400"/>
                  <a:ext cx="120492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9" name=""/>
                <p:cNvSpPr/>
                <p:nvPr/>
              </p:nvSpPr>
              <p:spPr>
                <a:xfrm>
                  <a:off x="3799080" y="2813400"/>
                  <a:ext cx="129348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0" name=""/>
              <p:cNvGrpSpPr/>
              <p:nvPr/>
            </p:nvGrpSpPr>
            <p:grpSpPr>
              <a:xfrm>
                <a:off x="5092560" y="2813400"/>
                <a:ext cx="1395720" cy="731520"/>
                <a:chOff x="5092560" y="2813400"/>
                <a:chExt cx="1395720" cy="731520"/>
              </a:xfrm>
            </p:grpSpPr>
            <p:sp>
              <p:nvSpPr>
                <p:cNvPr id="1911" name=""/>
                <p:cNvSpPr/>
                <p:nvPr/>
              </p:nvSpPr>
              <p:spPr>
                <a:xfrm>
                  <a:off x="51372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21.2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2" name=""/>
                <p:cNvSpPr/>
                <p:nvPr/>
              </p:nvSpPr>
              <p:spPr>
                <a:xfrm>
                  <a:off x="50925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3" name=""/>
              <p:cNvGrpSpPr/>
              <p:nvPr/>
            </p:nvGrpSpPr>
            <p:grpSpPr>
              <a:xfrm>
                <a:off x="766800" y="3544920"/>
                <a:ext cx="1636560" cy="731880"/>
                <a:chOff x="766800" y="3544920"/>
                <a:chExt cx="1636560" cy="731880"/>
              </a:xfrm>
            </p:grpSpPr>
            <p:sp>
              <p:nvSpPr>
                <p:cNvPr id="1914" name=""/>
                <p:cNvSpPr/>
                <p:nvPr/>
              </p:nvSpPr>
              <p:spPr>
                <a:xfrm>
                  <a:off x="811080" y="35449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rt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5" name=""/>
                <p:cNvSpPr/>
                <p:nvPr/>
              </p:nvSpPr>
              <p:spPr>
                <a:xfrm>
                  <a:off x="766800" y="35449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6" name=""/>
              <p:cNvGrpSpPr/>
              <p:nvPr/>
            </p:nvGrpSpPr>
            <p:grpSpPr>
              <a:xfrm>
                <a:off x="2403360" y="3544920"/>
                <a:ext cx="1395720" cy="731880"/>
                <a:chOff x="2403360" y="3544920"/>
                <a:chExt cx="1395720" cy="731880"/>
              </a:xfrm>
            </p:grpSpPr>
            <p:sp>
              <p:nvSpPr>
                <p:cNvPr id="1917" name=""/>
                <p:cNvSpPr/>
                <p:nvPr/>
              </p:nvSpPr>
              <p:spPr>
                <a:xfrm>
                  <a:off x="24480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8" name=""/>
                <p:cNvSpPr/>
                <p:nvPr/>
              </p:nvSpPr>
              <p:spPr>
                <a:xfrm>
                  <a:off x="24033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9" name=""/>
              <p:cNvGrpSpPr/>
              <p:nvPr/>
            </p:nvGrpSpPr>
            <p:grpSpPr>
              <a:xfrm>
                <a:off x="3799080" y="3544920"/>
                <a:ext cx="1293480" cy="731880"/>
                <a:chOff x="3799080" y="3544920"/>
                <a:chExt cx="1293480" cy="731880"/>
              </a:xfrm>
            </p:grpSpPr>
            <p:sp>
              <p:nvSpPr>
                <p:cNvPr id="1920" name=""/>
                <p:cNvSpPr/>
                <p:nvPr/>
              </p:nvSpPr>
              <p:spPr>
                <a:xfrm>
                  <a:off x="3843360" y="35449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9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1" name=""/>
                <p:cNvSpPr/>
                <p:nvPr/>
              </p:nvSpPr>
              <p:spPr>
                <a:xfrm>
                  <a:off x="3799080" y="35449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2" name=""/>
              <p:cNvGrpSpPr/>
              <p:nvPr/>
            </p:nvGrpSpPr>
            <p:grpSpPr>
              <a:xfrm>
                <a:off x="5092560" y="3544920"/>
                <a:ext cx="1395720" cy="731880"/>
                <a:chOff x="5092560" y="3544920"/>
                <a:chExt cx="1395720" cy="731880"/>
              </a:xfrm>
            </p:grpSpPr>
            <p:sp>
              <p:nvSpPr>
                <p:cNvPr id="1923" name=""/>
                <p:cNvSpPr/>
                <p:nvPr/>
              </p:nvSpPr>
              <p:spPr>
                <a:xfrm>
                  <a:off x="51372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4" name=""/>
                <p:cNvSpPr/>
                <p:nvPr/>
              </p:nvSpPr>
              <p:spPr>
                <a:xfrm>
                  <a:off x="50925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5" name=""/>
              <p:cNvGrpSpPr/>
              <p:nvPr/>
            </p:nvGrpSpPr>
            <p:grpSpPr>
              <a:xfrm>
                <a:off x="766800" y="4276800"/>
                <a:ext cx="1636560" cy="731880"/>
                <a:chOff x="766800" y="4276800"/>
                <a:chExt cx="1636560" cy="731880"/>
              </a:xfrm>
            </p:grpSpPr>
            <p:sp>
              <p:nvSpPr>
                <p:cNvPr id="1926" name=""/>
                <p:cNvSpPr/>
                <p:nvPr/>
              </p:nvSpPr>
              <p:spPr>
                <a:xfrm>
                  <a:off x="811080" y="42768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DisMrk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7" name=""/>
                <p:cNvSpPr/>
                <p:nvPr/>
              </p:nvSpPr>
              <p:spPr>
                <a:xfrm>
                  <a:off x="766800" y="42768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8" name=""/>
              <p:cNvGrpSpPr/>
              <p:nvPr/>
            </p:nvGrpSpPr>
            <p:grpSpPr>
              <a:xfrm>
                <a:off x="2403360" y="4276800"/>
                <a:ext cx="1395720" cy="731880"/>
                <a:chOff x="2403360" y="4276800"/>
                <a:chExt cx="1395720" cy="731880"/>
              </a:xfrm>
            </p:grpSpPr>
            <p:sp>
              <p:nvSpPr>
                <p:cNvPr id="1929" name=""/>
                <p:cNvSpPr/>
                <p:nvPr/>
              </p:nvSpPr>
              <p:spPr>
                <a:xfrm>
                  <a:off x="24480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0" name=""/>
                <p:cNvSpPr/>
                <p:nvPr/>
              </p:nvSpPr>
              <p:spPr>
                <a:xfrm>
                  <a:off x="24033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1" name=""/>
              <p:cNvGrpSpPr/>
              <p:nvPr/>
            </p:nvGrpSpPr>
            <p:grpSpPr>
              <a:xfrm>
                <a:off x="3799080" y="4276800"/>
                <a:ext cx="1293480" cy="731880"/>
                <a:chOff x="3799080" y="4276800"/>
                <a:chExt cx="1293480" cy="731880"/>
              </a:xfrm>
            </p:grpSpPr>
            <p:sp>
              <p:nvSpPr>
                <p:cNvPr id="1932" name=""/>
                <p:cNvSpPr/>
                <p:nvPr/>
              </p:nvSpPr>
              <p:spPr>
                <a:xfrm>
                  <a:off x="3843360" y="42768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8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3" name=""/>
                <p:cNvSpPr/>
                <p:nvPr/>
              </p:nvSpPr>
              <p:spPr>
                <a:xfrm>
                  <a:off x="3799080" y="42768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4" name=""/>
              <p:cNvGrpSpPr/>
              <p:nvPr/>
            </p:nvGrpSpPr>
            <p:grpSpPr>
              <a:xfrm>
                <a:off x="5092560" y="4276800"/>
                <a:ext cx="1395720" cy="731880"/>
                <a:chOff x="5092560" y="4276800"/>
                <a:chExt cx="1395720" cy="731880"/>
              </a:xfrm>
            </p:grpSpPr>
            <p:sp>
              <p:nvSpPr>
                <p:cNvPr id="1935" name=""/>
                <p:cNvSpPr/>
                <p:nvPr/>
              </p:nvSpPr>
              <p:spPr>
                <a:xfrm>
                  <a:off x="51372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6" name=""/>
                <p:cNvSpPr/>
                <p:nvPr/>
              </p:nvSpPr>
              <p:spPr>
                <a:xfrm>
                  <a:off x="50925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7" name=""/>
              <p:cNvGrpSpPr/>
              <p:nvPr/>
            </p:nvGrpSpPr>
            <p:grpSpPr>
              <a:xfrm>
                <a:off x="766800" y="5008680"/>
                <a:ext cx="1636560" cy="731880"/>
                <a:chOff x="766800" y="5008680"/>
                <a:chExt cx="1636560" cy="731880"/>
              </a:xfrm>
            </p:grpSpPr>
            <p:sp>
              <p:nvSpPr>
                <p:cNvPr id="1938" name=""/>
                <p:cNvSpPr/>
                <p:nvPr/>
              </p:nvSpPr>
              <p:spPr>
                <a:xfrm>
                  <a:off x="811080" y="500868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Subj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9" name=""/>
                <p:cNvSpPr/>
                <p:nvPr/>
              </p:nvSpPr>
              <p:spPr>
                <a:xfrm>
                  <a:off x="766800" y="500868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0" name=""/>
              <p:cNvGrpSpPr/>
              <p:nvPr/>
            </p:nvGrpSpPr>
            <p:grpSpPr>
              <a:xfrm>
                <a:off x="2403360" y="5008680"/>
                <a:ext cx="1395720" cy="731880"/>
                <a:chOff x="2403360" y="5008680"/>
                <a:chExt cx="1395720" cy="731880"/>
              </a:xfrm>
            </p:grpSpPr>
            <p:sp>
              <p:nvSpPr>
                <p:cNvPr id="1941" name=""/>
                <p:cNvSpPr/>
                <p:nvPr/>
              </p:nvSpPr>
              <p:spPr>
                <a:xfrm>
                  <a:off x="24480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2" name=""/>
                <p:cNvSpPr/>
                <p:nvPr/>
              </p:nvSpPr>
              <p:spPr>
                <a:xfrm>
                  <a:off x="24033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3" name=""/>
              <p:cNvGrpSpPr/>
              <p:nvPr/>
            </p:nvGrpSpPr>
            <p:grpSpPr>
              <a:xfrm>
                <a:off x="3799080" y="5008680"/>
                <a:ext cx="1293480" cy="731880"/>
                <a:chOff x="3799080" y="5008680"/>
                <a:chExt cx="1293480" cy="731880"/>
              </a:xfrm>
            </p:grpSpPr>
            <p:sp>
              <p:nvSpPr>
                <p:cNvPr id="1944" name=""/>
                <p:cNvSpPr/>
                <p:nvPr/>
              </p:nvSpPr>
              <p:spPr>
                <a:xfrm>
                  <a:off x="3843360" y="500868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5" name=""/>
                <p:cNvSpPr/>
                <p:nvPr/>
              </p:nvSpPr>
              <p:spPr>
                <a:xfrm>
                  <a:off x="3799080" y="500868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6" name=""/>
              <p:cNvGrpSpPr/>
              <p:nvPr/>
            </p:nvGrpSpPr>
            <p:grpSpPr>
              <a:xfrm>
                <a:off x="5092560" y="5008680"/>
                <a:ext cx="1395720" cy="731880"/>
                <a:chOff x="5092560" y="5008680"/>
                <a:chExt cx="1395720" cy="731880"/>
              </a:xfrm>
            </p:grpSpPr>
            <p:sp>
              <p:nvSpPr>
                <p:cNvPr id="1947" name=""/>
                <p:cNvSpPr/>
                <p:nvPr/>
              </p:nvSpPr>
              <p:spPr>
                <a:xfrm>
                  <a:off x="51372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1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8" name=""/>
                <p:cNvSpPr/>
                <p:nvPr/>
              </p:nvSpPr>
              <p:spPr>
                <a:xfrm>
                  <a:off x="50925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9" name=""/>
              <p:cNvGrpSpPr/>
              <p:nvPr/>
            </p:nvGrpSpPr>
            <p:grpSpPr>
              <a:xfrm>
                <a:off x="766800" y="5740560"/>
                <a:ext cx="1636560" cy="731880"/>
                <a:chOff x="766800" y="5740560"/>
                <a:chExt cx="1636560" cy="731880"/>
              </a:xfrm>
            </p:grpSpPr>
            <p:sp>
              <p:nvSpPr>
                <p:cNvPr id="1950" name=""/>
                <p:cNvSpPr/>
                <p:nvPr/>
              </p:nvSpPr>
              <p:spPr>
                <a:xfrm>
                  <a:off x="811080" y="574056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1" name=""/>
                <p:cNvSpPr/>
                <p:nvPr/>
              </p:nvSpPr>
              <p:spPr>
                <a:xfrm>
                  <a:off x="766800" y="574056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2" name=""/>
              <p:cNvGrpSpPr/>
              <p:nvPr/>
            </p:nvGrpSpPr>
            <p:grpSpPr>
              <a:xfrm>
                <a:off x="2403360" y="5740560"/>
                <a:ext cx="1395720" cy="731880"/>
                <a:chOff x="2403360" y="5740560"/>
                <a:chExt cx="1395720" cy="731880"/>
              </a:xfrm>
            </p:grpSpPr>
            <p:sp>
              <p:nvSpPr>
                <p:cNvPr id="1953" name=""/>
                <p:cNvSpPr/>
                <p:nvPr/>
              </p:nvSpPr>
              <p:spPr>
                <a:xfrm>
                  <a:off x="24480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4" name=""/>
                <p:cNvSpPr/>
                <p:nvPr/>
              </p:nvSpPr>
              <p:spPr>
                <a:xfrm>
                  <a:off x="24033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5" name=""/>
              <p:cNvGrpSpPr/>
              <p:nvPr/>
            </p:nvGrpSpPr>
            <p:grpSpPr>
              <a:xfrm>
                <a:off x="3799080" y="5740560"/>
                <a:ext cx="1293480" cy="731880"/>
                <a:chOff x="3799080" y="5740560"/>
                <a:chExt cx="1293480" cy="731880"/>
              </a:xfrm>
            </p:grpSpPr>
            <p:sp>
              <p:nvSpPr>
                <p:cNvPr id="1956" name=""/>
                <p:cNvSpPr/>
                <p:nvPr/>
              </p:nvSpPr>
              <p:spPr>
                <a:xfrm>
                  <a:off x="3843360" y="574056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7" name=""/>
                <p:cNvSpPr/>
                <p:nvPr/>
              </p:nvSpPr>
              <p:spPr>
                <a:xfrm>
                  <a:off x="3799080" y="574056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8" name=""/>
              <p:cNvGrpSpPr/>
              <p:nvPr/>
            </p:nvGrpSpPr>
            <p:grpSpPr>
              <a:xfrm>
                <a:off x="5092560" y="5740560"/>
                <a:ext cx="1395720" cy="731880"/>
                <a:chOff x="5092560" y="5740560"/>
                <a:chExt cx="1395720" cy="731880"/>
              </a:xfrm>
            </p:grpSpPr>
            <p:sp>
              <p:nvSpPr>
                <p:cNvPr id="1959" name=""/>
                <p:cNvSpPr/>
                <p:nvPr/>
              </p:nvSpPr>
              <p:spPr>
                <a:xfrm>
                  <a:off x="51372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0" name=""/>
                <p:cNvSpPr/>
                <p:nvPr/>
              </p:nvSpPr>
              <p:spPr>
                <a:xfrm>
                  <a:off x="50925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61" name=""/>
            <p:cNvSpPr/>
            <p:nvPr/>
          </p:nvSpPr>
          <p:spPr>
            <a:xfrm>
              <a:off x="762120" y="2076480"/>
              <a:ext cx="5730840" cy="4400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2" name=""/>
          <p:cNvSpPr/>
          <p:nvPr/>
        </p:nvSpPr>
        <p:spPr>
          <a:xfrm>
            <a:off x="3240" y="57643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FB59-8CF1-4141-A522-71CF83A489B5}" type="slidenum">
              <a:t>1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xample LexAnalyzer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4" name=""/>
          <p:cNvSpPr/>
          <p:nvPr/>
        </p:nvSpPr>
        <p:spPr>
          <a:xfrm>
            <a:off x="3240" y="87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5" name=""/>
          <p:cNvGrpSpPr/>
          <p:nvPr/>
        </p:nvGrpSpPr>
        <p:grpSpPr>
          <a:xfrm>
            <a:off x="762120" y="2076480"/>
            <a:ext cx="5730840" cy="4400640"/>
            <a:chOff x="762120" y="2076480"/>
            <a:chExt cx="5730840" cy="4400640"/>
          </a:xfrm>
        </p:grpSpPr>
        <p:grpSp>
          <p:nvGrpSpPr>
            <p:cNvPr id="1966" name=""/>
            <p:cNvGrpSpPr/>
            <p:nvPr/>
          </p:nvGrpSpPr>
          <p:grpSpPr>
            <a:xfrm>
              <a:off x="766800" y="2081520"/>
              <a:ext cx="5721480" cy="4390920"/>
              <a:chOff x="766800" y="2081520"/>
              <a:chExt cx="5721480" cy="4390920"/>
            </a:xfrm>
          </p:grpSpPr>
          <p:grpSp>
            <p:nvGrpSpPr>
              <p:cNvPr id="1967" name=""/>
              <p:cNvGrpSpPr/>
              <p:nvPr/>
            </p:nvGrpSpPr>
            <p:grpSpPr>
              <a:xfrm>
                <a:off x="766800" y="2081520"/>
                <a:ext cx="1636560" cy="731880"/>
                <a:chOff x="766800" y="2081520"/>
                <a:chExt cx="1636560" cy="731880"/>
              </a:xfrm>
            </p:grpSpPr>
            <p:sp>
              <p:nvSpPr>
                <p:cNvPr id="1968" name=""/>
                <p:cNvSpPr/>
                <p:nvPr/>
              </p:nvSpPr>
              <p:spPr>
                <a:xfrm>
                  <a:off x="811080" y="20815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9" name=""/>
                <p:cNvSpPr/>
                <p:nvPr/>
              </p:nvSpPr>
              <p:spPr>
                <a:xfrm>
                  <a:off x="766800" y="20815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0" name=""/>
              <p:cNvGrpSpPr/>
              <p:nvPr/>
            </p:nvGrpSpPr>
            <p:grpSpPr>
              <a:xfrm>
                <a:off x="2403360" y="2081520"/>
                <a:ext cx="1395720" cy="731880"/>
                <a:chOff x="2403360" y="2081520"/>
                <a:chExt cx="1395720" cy="731880"/>
              </a:xfrm>
            </p:grpSpPr>
            <p:sp>
              <p:nvSpPr>
                <p:cNvPr id="1971" name=""/>
                <p:cNvSpPr/>
                <p:nvPr/>
              </p:nvSpPr>
              <p:spPr>
                <a:xfrm>
                  <a:off x="24480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2" name=""/>
                <p:cNvSpPr/>
                <p:nvPr/>
              </p:nvSpPr>
              <p:spPr>
                <a:xfrm>
                  <a:off x="24033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3" name=""/>
              <p:cNvGrpSpPr/>
              <p:nvPr/>
            </p:nvGrpSpPr>
            <p:grpSpPr>
              <a:xfrm>
                <a:off x="3799080" y="2081520"/>
                <a:ext cx="1293480" cy="731880"/>
                <a:chOff x="3799080" y="2081520"/>
                <a:chExt cx="1293480" cy="731880"/>
              </a:xfrm>
            </p:grpSpPr>
            <p:sp>
              <p:nvSpPr>
                <p:cNvPr id="1974" name=""/>
                <p:cNvSpPr/>
                <p:nvPr/>
              </p:nvSpPr>
              <p:spPr>
                <a:xfrm>
                  <a:off x="3843360" y="20815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5" name=""/>
                <p:cNvSpPr/>
                <p:nvPr/>
              </p:nvSpPr>
              <p:spPr>
                <a:xfrm>
                  <a:off x="3799080" y="20815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6" name=""/>
              <p:cNvGrpSpPr/>
              <p:nvPr/>
            </p:nvGrpSpPr>
            <p:grpSpPr>
              <a:xfrm>
                <a:off x="5092560" y="2081520"/>
                <a:ext cx="1395720" cy="731880"/>
                <a:chOff x="5092560" y="2081520"/>
                <a:chExt cx="1395720" cy="731880"/>
              </a:xfrm>
            </p:grpSpPr>
            <p:sp>
              <p:nvSpPr>
                <p:cNvPr id="1977" name=""/>
                <p:cNvSpPr/>
                <p:nvPr/>
              </p:nvSpPr>
              <p:spPr>
                <a:xfrm>
                  <a:off x="51372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8" name=""/>
                <p:cNvSpPr/>
                <p:nvPr/>
              </p:nvSpPr>
              <p:spPr>
                <a:xfrm>
                  <a:off x="50925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9" name=""/>
              <p:cNvGrpSpPr/>
              <p:nvPr/>
            </p:nvGrpSpPr>
            <p:grpSpPr>
              <a:xfrm>
                <a:off x="766800" y="2813400"/>
                <a:ext cx="1636560" cy="731520"/>
                <a:chOff x="766800" y="2813400"/>
                <a:chExt cx="1636560" cy="731520"/>
              </a:xfrm>
            </p:grpSpPr>
            <p:sp>
              <p:nvSpPr>
                <p:cNvPr id="1980" name=""/>
                <p:cNvSpPr/>
                <p:nvPr/>
              </p:nvSpPr>
              <p:spPr>
                <a:xfrm>
                  <a:off x="811080" y="2813400"/>
                  <a:ext cx="1548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dpo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( = PREP)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1" name=""/>
                <p:cNvSpPr/>
                <p:nvPr/>
              </p:nvSpPr>
              <p:spPr>
                <a:xfrm>
                  <a:off x="766800" y="2813400"/>
                  <a:ext cx="163656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2" name=""/>
              <p:cNvGrpSpPr/>
              <p:nvPr/>
            </p:nvGrpSpPr>
            <p:grpSpPr>
              <a:xfrm>
                <a:off x="2403360" y="2813400"/>
                <a:ext cx="1395720" cy="731520"/>
                <a:chOff x="2403360" y="2813400"/>
                <a:chExt cx="1395720" cy="731520"/>
              </a:xfrm>
            </p:grpSpPr>
            <p:sp>
              <p:nvSpPr>
                <p:cNvPr id="1983" name=""/>
                <p:cNvSpPr/>
                <p:nvPr/>
              </p:nvSpPr>
              <p:spPr>
                <a:xfrm>
                  <a:off x="24480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4" name=""/>
                <p:cNvSpPr/>
                <p:nvPr/>
              </p:nvSpPr>
              <p:spPr>
                <a:xfrm>
                  <a:off x="24033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5" name=""/>
              <p:cNvGrpSpPr/>
              <p:nvPr/>
            </p:nvGrpSpPr>
            <p:grpSpPr>
              <a:xfrm>
                <a:off x="3799080" y="2813400"/>
                <a:ext cx="1293480" cy="731520"/>
                <a:chOff x="3799080" y="2813400"/>
                <a:chExt cx="1293480" cy="731520"/>
              </a:xfrm>
            </p:grpSpPr>
            <p:sp>
              <p:nvSpPr>
                <p:cNvPr id="1986" name=""/>
                <p:cNvSpPr/>
                <p:nvPr/>
              </p:nvSpPr>
              <p:spPr>
                <a:xfrm>
                  <a:off x="3843360" y="2813400"/>
                  <a:ext cx="120492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7" name=""/>
                <p:cNvSpPr/>
                <p:nvPr/>
              </p:nvSpPr>
              <p:spPr>
                <a:xfrm>
                  <a:off x="3799080" y="2813400"/>
                  <a:ext cx="129348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8" name=""/>
              <p:cNvGrpSpPr/>
              <p:nvPr/>
            </p:nvGrpSpPr>
            <p:grpSpPr>
              <a:xfrm>
                <a:off x="5092560" y="2813400"/>
                <a:ext cx="1395720" cy="731520"/>
                <a:chOff x="5092560" y="2813400"/>
                <a:chExt cx="1395720" cy="731520"/>
              </a:xfrm>
            </p:grpSpPr>
            <p:sp>
              <p:nvSpPr>
                <p:cNvPr id="1989" name=""/>
                <p:cNvSpPr/>
                <p:nvPr/>
              </p:nvSpPr>
              <p:spPr>
                <a:xfrm>
                  <a:off x="51372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21.2%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0" name=""/>
                <p:cNvSpPr/>
                <p:nvPr/>
              </p:nvSpPr>
              <p:spPr>
                <a:xfrm>
                  <a:off x="50925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1" name=""/>
              <p:cNvGrpSpPr/>
              <p:nvPr/>
            </p:nvGrpSpPr>
            <p:grpSpPr>
              <a:xfrm>
                <a:off x="766800" y="3544920"/>
                <a:ext cx="1636560" cy="731880"/>
                <a:chOff x="766800" y="3544920"/>
                <a:chExt cx="1636560" cy="731880"/>
              </a:xfrm>
            </p:grpSpPr>
            <p:sp>
              <p:nvSpPr>
                <p:cNvPr id="1992" name=""/>
                <p:cNvSpPr/>
                <p:nvPr/>
              </p:nvSpPr>
              <p:spPr>
                <a:xfrm>
                  <a:off x="811080" y="35449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rt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3" name=""/>
                <p:cNvSpPr/>
                <p:nvPr/>
              </p:nvSpPr>
              <p:spPr>
                <a:xfrm>
                  <a:off x="766800" y="35449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4" name=""/>
              <p:cNvGrpSpPr/>
              <p:nvPr/>
            </p:nvGrpSpPr>
            <p:grpSpPr>
              <a:xfrm>
                <a:off x="2403360" y="3544920"/>
                <a:ext cx="1395720" cy="731880"/>
                <a:chOff x="2403360" y="3544920"/>
                <a:chExt cx="1395720" cy="731880"/>
              </a:xfrm>
            </p:grpSpPr>
            <p:sp>
              <p:nvSpPr>
                <p:cNvPr id="1995" name=""/>
                <p:cNvSpPr/>
                <p:nvPr/>
              </p:nvSpPr>
              <p:spPr>
                <a:xfrm>
                  <a:off x="24480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6" name=""/>
                <p:cNvSpPr/>
                <p:nvPr/>
              </p:nvSpPr>
              <p:spPr>
                <a:xfrm>
                  <a:off x="24033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7" name=""/>
              <p:cNvGrpSpPr/>
              <p:nvPr/>
            </p:nvGrpSpPr>
            <p:grpSpPr>
              <a:xfrm>
                <a:off x="3799080" y="3544920"/>
                <a:ext cx="1293480" cy="731880"/>
                <a:chOff x="3799080" y="3544920"/>
                <a:chExt cx="1293480" cy="731880"/>
              </a:xfrm>
            </p:grpSpPr>
            <p:sp>
              <p:nvSpPr>
                <p:cNvPr id="1998" name=""/>
                <p:cNvSpPr/>
                <p:nvPr/>
              </p:nvSpPr>
              <p:spPr>
                <a:xfrm>
                  <a:off x="3843360" y="35449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9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9" name=""/>
                <p:cNvSpPr/>
                <p:nvPr/>
              </p:nvSpPr>
              <p:spPr>
                <a:xfrm>
                  <a:off x="3799080" y="35449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0" name=""/>
              <p:cNvGrpSpPr/>
              <p:nvPr/>
            </p:nvGrpSpPr>
            <p:grpSpPr>
              <a:xfrm>
                <a:off x="5092560" y="3544920"/>
                <a:ext cx="1395720" cy="731880"/>
                <a:chOff x="5092560" y="3544920"/>
                <a:chExt cx="1395720" cy="731880"/>
              </a:xfrm>
            </p:grpSpPr>
            <p:sp>
              <p:nvSpPr>
                <p:cNvPr id="2001" name=""/>
                <p:cNvSpPr/>
                <p:nvPr/>
              </p:nvSpPr>
              <p:spPr>
                <a:xfrm>
                  <a:off x="51372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50925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3" name=""/>
              <p:cNvGrpSpPr/>
              <p:nvPr/>
            </p:nvGrpSpPr>
            <p:grpSpPr>
              <a:xfrm>
                <a:off x="766800" y="4276800"/>
                <a:ext cx="1636560" cy="731880"/>
                <a:chOff x="766800" y="4276800"/>
                <a:chExt cx="1636560" cy="731880"/>
              </a:xfrm>
            </p:grpSpPr>
            <p:sp>
              <p:nvSpPr>
                <p:cNvPr id="2004" name=""/>
                <p:cNvSpPr/>
                <p:nvPr/>
              </p:nvSpPr>
              <p:spPr>
                <a:xfrm>
                  <a:off x="811080" y="42768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DsMrk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>
                  <a:off x="766800" y="42768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6" name=""/>
              <p:cNvGrpSpPr/>
              <p:nvPr/>
            </p:nvGrpSpPr>
            <p:grpSpPr>
              <a:xfrm>
                <a:off x="2403360" y="4276800"/>
                <a:ext cx="1395720" cy="731880"/>
                <a:chOff x="2403360" y="4276800"/>
                <a:chExt cx="1395720" cy="731880"/>
              </a:xfrm>
            </p:grpSpPr>
            <p:sp>
              <p:nvSpPr>
                <p:cNvPr id="2007" name=""/>
                <p:cNvSpPr/>
                <p:nvPr/>
              </p:nvSpPr>
              <p:spPr>
                <a:xfrm>
                  <a:off x="24480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24033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9" name=""/>
              <p:cNvGrpSpPr/>
              <p:nvPr/>
            </p:nvGrpSpPr>
            <p:grpSpPr>
              <a:xfrm>
                <a:off x="3799080" y="4276800"/>
                <a:ext cx="1293480" cy="731880"/>
                <a:chOff x="3799080" y="4276800"/>
                <a:chExt cx="1293480" cy="731880"/>
              </a:xfrm>
            </p:grpSpPr>
            <p:sp>
              <p:nvSpPr>
                <p:cNvPr id="2010" name=""/>
                <p:cNvSpPr/>
                <p:nvPr/>
              </p:nvSpPr>
              <p:spPr>
                <a:xfrm>
                  <a:off x="3843360" y="42768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8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>
                  <a:off x="3799080" y="42768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2" name=""/>
              <p:cNvGrpSpPr/>
              <p:nvPr/>
            </p:nvGrpSpPr>
            <p:grpSpPr>
              <a:xfrm>
                <a:off x="5092560" y="4276800"/>
                <a:ext cx="1395720" cy="731880"/>
                <a:chOff x="5092560" y="4276800"/>
                <a:chExt cx="1395720" cy="731880"/>
              </a:xfrm>
            </p:grpSpPr>
            <p:sp>
              <p:nvSpPr>
                <p:cNvPr id="2013" name=""/>
                <p:cNvSpPr/>
                <p:nvPr/>
              </p:nvSpPr>
              <p:spPr>
                <a:xfrm>
                  <a:off x="51372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>
                  <a:off x="50925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5" name=""/>
              <p:cNvGrpSpPr/>
              <p:nvPr/>
            </p:nvGrpSpPr>
            <p:grpSpPr>
              <a:xfrm>
                <a:off x="766800" y="5008680"/>
                <a:ext cx="1636560" cy="731880"/>
                <a:chOff x="766800" y="5008680"/>
                <a:chExt cx="1636560" cy="731880"/>
              </a:xfrm>
            </p:grpSpPr>
            <p:sp>
              <p:nvSpPr>
                <p:cNvPr id="2016" name=""/>
                <p:cNvSpPr/>
                <p:nvPr/>
              </p:nvSpPr>
              <p:spPr>
                <a:xfrm>
                  <a:off x="811080" y="500868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Subj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766800" y="500868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8" name=""/>
              <p:cNvGrpSpPr/>
              <p:nvPr/>
            </p:nvGrpSpPr>
            <p:grpSpPr>
              <a:xfrm>
                <a:off x="2403360" y="5008680"/>
                <a:ext cx="1395720" cy="731880"/>
                <a:chOff x="2403360" y="5008680"/>
                <a:chExt cx="1395720" cy="731880"/>
              </a:xfrm>
            </p:grpSpPr>
            <p:sp>
              <p:nvSpPr>
                <p:cNvPr id="2019" name=""/>
                <p:cNvSpPr/>
                <p:nvPr/>
              </p:nvSpPr>
              <p:spPr>
                <a:xfrm>
                  <a:off x="24480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>
                  <a:off x="24033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1" name=""/>
              <p:cNvGrpSpPr/>
              <p:nvPr/>
            </p:nvGrpSpPr>
            <p:grpSpPr>
              <a:xfrm>
                <a:off x="3799080" y="5008680"/>
                <a:ext cx="1293480" cy="731880"/>
                <a:chOff x="3799080" y="5008680"/>
                <a:chExt cx="1293480" cy="731880"/>
              </a:xfrm>
            </p:grpSpPr>
            <p:sp>
              <p:nvSpPr>
                <p:cNvPr id="2022" name=""/>
                <p:cNvSpPr/>
                <p:nvPr/>
              </p:nvSpPr>
              <p:spPr>
                <a:xfrm>
                  <a:off x="3843360" y="500868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3799080" y="500868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4" name=""/>
              <p:cNvGrpSpPr/>
              <p:nvPr/>
            </p:nvGrpSpPr>
            <p:grpSpPr>
              <a:xfrm>
                <a:off x="5092560" y="5008680"/>
                <a:ext cx="1395720" cy="731880"/>
                <a:chOff x="5092560" y="5008680"/>
                <a:chExt cx="1395720" cy="731880"/>
              </a:xfrm>
            </p:grpSpPr>
            <p:sp>
              <p:nvSpPr>
                <p:cNvPr id="2025" name=""/>
                <p:cNvSpPr/>
                <p:nvPr/>
              </p:nvSpPr>
              <p:spPr>
                <a:xfrm>
                  <a:off x="51372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1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>
                  <a:off x="50925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7" name=""/>
              <p:cNvGrpSpPr/>
              <p:nvPr/>
            </p:nvGrpSpPr>
            <p:grpSpPr>
              <a:xfrm>
                <a:off x="766800" y="5740560"/>
                <a:ext cx="1636560" cy="731880"/>
                <a:chOff x="766800" y="5740560"/>
                <a:chExt cx="1636560" cy="731880"/>
              </a:xfrm>
            </p:grpSpPr>
            <p:sp>
              <p:nvSpPr>
                <p:cNvPr id="2028" name=""/>
                <p:cNvSpPr/>
                <p:nvPr/>
              </p:nvSpPr>
              <p:spPr>
                <a:xfrm>
                  <a:off x="811080" y="574056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Conj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>
                  <a:off x="766800" y="574056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0" name=""/>
              <p:cNvGrpSpPr/>
              <p:nvPr/>
            </p:nvGrpSpPr>
            <p:grpSpPr>
              <a:xfrm>
                <a:off x="2403360" y="5740560"/>
                <a:ext cx="1395720" cy="731880"/>
                <a:chOff x="2403360" y="5740560"/>
                <a:chExt cx="1395720" cy="731880"/>
              </a:xfrm>
            </p:grpSpPr>
            <p:sp>
              <p:nvSpPr>
                <p:cNvPr id="2031" name=""/>
                <p:cNvSpPr/>
                <p:nvPr/>
              </p:nvSpPr>
              <p:spPr>
                <a:xfrm>
                  <a:off x="24480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9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>
                  <a:off x="24033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3" name=""/>
              <p:cNvGrpSpPr/>
              <p:nvPr/>
            </p:nvGrpSpPr>
            <p:grpSpPr>
              <a:xfrm>
                <a:off x="3799080" y="5740560"/>
                <a:ext cx="1293480" cy="731880"/>
                <a:chOff x="3799080" y="5740560"/>
                <a:chExt cx="1293480" cy="731880"/>
              </a:xfrm>
            </p:grpSpPr>
            <p:sp>
              <p:nvSpPr>
                <p:cNvPr id="2034" name=""/>
                <p:cNvSpPr/>
                <p:nvPr/>
              </p:nvSpPr>
              <p:spPr>
                <a:xfrm>
                  <a:off x="3843360" y="574056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>
                  <a:off x="3799080" y="574056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6" name=""/>
              <p:cNvGrpSpPr/>
              <p:nvPr/>
            </p:nvGrpSpPr>
            <p:grpSpPr>
              <a:xfrm>
                <a:off x="5092560" y="5740560"/>
                <a:ext cx="1395720" cy="731880"/>
                <a:chOff x="5092560" y="5740560"/>
                <a:chExt cx="1395720" cy="731880"/>
              </a:xfrm>
            </p:grpSpPr>
            <p:sp>
              <p:nvSpPr>
                <p:cNvPr id="2037" name=""/>
                <p:cNvSpPr/>
                <p:nvPr/>
              </p:nvSpPr>
              <p:spPr>
                <a:xfrm>
                  <a:off x="51372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7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50925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39" name=""/>
            <p:cNvSpPr/>
            <p:nvPr/>
          </p:nvSpPr>
          <p:spPr>
            <a:xfrm>
              <a:off x="762120" y="2076480"/>
              <a:ext cx="5730840" cy="4400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0" name=""/>
          <p:cNvSpPr/>
          <p:nvPr/>
        </p:nvSpPr>
        <p:spPr>
          <a:xfrm>
            <a:off x="3240" y="57643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5029200" y="2743200"/>
            <a:ext cx="144792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457200" y="3581280"/>
            <a:ext cx="64771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E65D-F52D-42C6-8B8B-1DA9843C0F31}" type="slidenum">
              <a:t>1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Lexical Borrow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4" name=""/>
          <p:cNvSpPr/>
          <p:nvPr/>
        </p:nvSpPr>
        <p:spPr>
          <a:xfrm>
            <a:off x="1355760" y="2395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1662120" y="2133720"/>
            <a:ext cx="63792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925200" y="2205000"/>
            <a:ext cx="667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Typolog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Spanish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: SVO;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prep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; {V, N, Adj, Adv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Otomi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: VOS (+SVO);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prep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; {V, N}; N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Quechua: SOV; post; {V, non-V}; VE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Guarani: SVO (+free); post; {V, non-V}; VE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9D78-0EA6-47FF-A5B3-239E1B426872}" type="slidenum">
              <a:t>1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Lexical Borrow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8" name=""/>
          <p:cNvSpPr/>
          <p:nvPr/>
        </p:nvSpPr>
        <p:spPr>
          <a:xfrm>
            <a:off x="1355760" y="2395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1662120" y="2133720"/>
            <a:ext cx="63792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925200" y="2205000"/>
            <a:ext cx="667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Typolog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Spanish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: SVO;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prep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; {V, N, Adj, Adv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Otomi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: VOS (+SVO);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prep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; {V, N}; N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Quechua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: SOV;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post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; {V, non-V}; VE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Guarani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: SVO (+free);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post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; {V, non-V}; VE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5283-A3C6-47B2-B536-59EBEDDC1B23}" type="slidenum">
              <a:t>1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xample LexAnalyzer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2" name=""/>
          <p:cNvSpPr/>
          <p:nvPr/>
        </p:nvSpPr>
        <p:spPr>
          <a:xfrm>
            <a:off x="0" y="280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just"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53" name=""/>
          <p:cNvGraphicFramePr/>
          <p:nvPr/>
        </p:nvGraphicFramePr>
        <p:xfrm>
          <a:off x="814320" y="2133720"/>
          <a:ext cx="7861320" cy="4032000"/>
        </p:xfrm>
        <a:graphic>
          <a:graphicData uri="http://schemas.openxmlformats.org/drawingml/2006/table">
            <a:tbl>
              <a:tblPr/>
              <a:tblGrid>
                <a:gridCol w="1749600"/>
                <a:gridCol w="2112840"/>
                <a:gridCol w="2000160"/>
                <a:gridCol w="1998720"/>
              </a:tblGrid>
              <a:tr h="176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echu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aran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om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22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4" name=""/>
          <p:cNvSpPr/>
          <p:nvPr/>
        </p:nvSpPr>
        <p:spPr>
          <a:xfrm>
            <a:off x="0" y="40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0C81-49C0-488C-AB6B-36DF8CFFE815}" type="slidenum">
              <a:t>1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xample LexAnalyzer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6" name=""/>
          <p:cNvSpPr/>
          <p:nvPr/>
        </p:nvSpPr>
        <p:spPr>
          <a:xfrm>
            <a:off x="0" y="280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just"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57" name=""/>
          <p:cNvGraphicFramePr/>
          <p:nvPr/>
        </p:nvGraphicFramePr>
        <p:xfrm>
          <a:off x="814320" y="2133720"/>
          <a:ext cx="7861320" cy="4032000"/>
        </p:xfrm>
        <a:graphic>
          <a:graphicData uri="http://schemas.openxmlformats.org/drawingml/2006/table">
            <a:tbl>
              <a:tblPr/>
              <a:tblGrid>
                <a:gridCol w="1749600"/>
                <a:gridCol w="2112840"/>
                <a:gridCol w="2000160"/>
                <a:gridCol w="1998720"/>
              </a:tblGrid>
              <a:tr h="176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echu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aran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om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22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M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6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7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8" name=""/>
          <p:cNvSpPr/>
          <p:nvPr/>
        </p:nvSpPr>
        <p:spPr>
          <a:xfrm>
            <a:off x="0" y="40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117C-EC64-4A0A-8D40-C7B0E6FBFCF4}" type="slidenum">
              <a:t>1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xample LexAnalyzer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0" name=""/>
          <p:cNvSpPr/>
          <p:nvPr/>
        </p:nvSpPr>
        <p:spPr>
          <a:xfrm>
            <a:off x="0" y="280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just"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1" name=""/>
          <p:cNvGraphicFramePr/>
          <p:nvPr/>
        </p:nvGraphicFramePr>
        <p:xfrm>
          <a:off x="814320" y="2133720"/>
          <a:ext cx="7861320" cy="4032000"/>
        </p:xfrm>
        <a:graphic>
          <a:graphicData uri="http://schemas.openxmlformats.org/drawingml/2006/table">
            <a:tbl>
              <a:tblPr/>
              <a:tblGrid>
                <a:gridCol w="1749600"/>
                <a:gridCol w="2112840"/>
                <a:gridCol w="2000160"/>
                <a:gridCol w="1998720"/>
              </a:tblGrid>
              <a:tr h="176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echu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aran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om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22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H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M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22.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6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26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7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62" name=""/>
          <p:cNvSpPr/>
          <p:nvPr/>
        </p:nvSpPr>
        <p:spPr>
          <a:xfrm>
            <a:off x="0" y="40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6343920" y="42894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cc00"/>
                </a:solidFill>
                <a:latin typeface="Tahoma"/>
              </a:rPr>
              <a:t>&gt;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53DE-5ACF-4054-B888-E78FA9C78A24}" type="slidenum">
              <a:t>1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xample LexAnalyzer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5" name=""/>
          <p:cNvSpPr/>
          <p:nvPr/>
        </p:nvSpPr>
        <p:spPr>
          <a:xfrm>
            <a:off x="0" y="280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just"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6" name=""/>
          <p:cNvGraphicFramePr/>
          <p:nvPr/>
        </p:nvGraphicFramePr>
        <p:xfrm>
          <a:off x="814320" y="2133720"/>
          <a:ext cx="7861320" cy="4032000"/>
        </p:xfrm>
        <a:graphic>
          <a:graphicData uri="http://schemas.openxmlformats.org/drawingml/2006/table">
            <a:tbl>
              <a:tblPr/>
              <a:tblGrid>
                <a:gridCol w="1749600"/>
                <a:gridCol w="2112840"/>
                <a:gridCol w="2000160"/>
                <a:gridCol w="1998720"/>
              </a:tblGrid>
              <a:tr h="176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echu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aran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om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22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H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M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22.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6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26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7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40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67" name=""/>
          <p:cNvSpPr/>
          <p:nvPr/>
        </p:nvSpPr>
        <p:spPr>
          <a:xfrm>
            <a:off x="0" y="40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6343920" y="42894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&gt;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6329520" y="3857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cc00"/>
                </a:solidFill>
                <a:latin typeface="Tahoma"/>
              </a:rPr>
              <a:t>&lt;&l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B952-45E2-44B0-B88F-AB17914A7E23}" type="slidenum">
              <a:t>1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erence of univers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1355760" y="2395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62120" y="2133720"/>
            <a:ext cx="63792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08360" y="3500280"/>
            <a:ext cx="1943280" cy="18003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05520" y="3619440"/>
            <a:ext cx="8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r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95640" y="4005360"/>
            <a:ext cx="1441440" cy="1224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V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752280" y="5589720"/>
            <a:ext cx="190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VSO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Pr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(absolu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732720" y="3500280"/>
            <a:ext cx="1942920" cy="18003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249680" y="3619440"/>
            <a:ext cx="84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97880" y="5589720"/>
            <a:ext cx="185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OV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P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(statis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53A8-85FB-4863-B603-914538BEB87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Lexical Borrow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1" name=""/>
          <p:cNvSpPr/>
          <p:nvPr/>
        </p:nvSpPr>
        <p:spPr>
          <a:xfrm>
            <a:off x="1355760" y="2395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1662120" y="2133720"/>
            <a:ext cx="63792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925200" y="2205000"/>
            <a:ext cx="667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Typolog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panish: SVO; prep; {V, N, Adj, Adv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Otomi: VOS (+SVO); prep; {V, N}; N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Quechua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: SOV; post; {V,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non-V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}; VE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Guarani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: SVO (+free); post; {V,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non-V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}; VE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9DA8-7A88-45E3-82C0-9DB972AB5E7A}" type="slidenum">
              <a:t>1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Lexical Borrow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5" name=""/>
          <p:cNvSpPr/>
          <p:nvPr/>
        </p:nvSpPr>
        <p:spPr>
          <a:xfrm>
            <a:off x="1355760" y="2395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1662120" y="2133720"/>
            <a:ext cx="63792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925200" y="2205000"/>
            <a:ext cx="667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Typolog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panish: SVO; prep; {V, N, Adj, Adv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Tahoma"/>
              </a:rPr>
              <a:t>Otomi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: VOS (+SVO); prep; {</a:t>
            </a:r>
            <a:r>
              <a:rPr b="1" lang="en-GB" sz="2400" spc="-1" strike="noStrike">
                <a:solidFill>
                  <a:srgbClr val="333399"/>
                </a:solidFill>
                <a:latin typeface="Tahoma"/>
              </a:rPr>
              <a:t>V, N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}; N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Quechua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: SOV; post; {V,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non-V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}; VE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Guarani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: SVO (+free); post; {V,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non-V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}; VE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2AFB-E25E-4C81-8FDE-789C10B4A1F1}" type="slidenum">
              <a:t>1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ONCLUDING 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5937-E804-47FC-B665-9EC5C7BE66B9}" type="slidenum">
              <a:t>1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ypology + Compu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0" name=""/>
          <p:cNvSpPr/>
          <p:nvPr/>
        </p:nvSpPr>
        <p:spPr>
          <a:xfrm>
            <a:off x="250920" y="2205000"/>
            <a:ext cx="1511280" cy="15112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naly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ADD4-DB80-447C-864A-4E3FF6E5F17D}" type="slidenum">
              <a:t>1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ypology + Compu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2" name=""/>
          <p:cNvSpPr/>
          <p:nvPr/>
        </p:nvSpPr>
        <p:spPr>
          <a:xfrm>
            <a:off x="250920" y="2205000"/>
            <a:ext cx="1511280" cy="15112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naly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250920" y="4654440"/>
            <a:ext cx="1511280" cy="15112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r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568A-AB00-4F4A-8627-F1D61689FCA1}" type="slidenum">
              <a:t>1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ypology + Compu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5" name=""/>
          <p:cNvSpPr/>
          <p:nvPr/>
        </p:nvSpPr>
        <p:spPr>
          <a:xfrm>
            <a:off x="250920" y="2205000"/>
            <a:ext cx="1511280" cy="15112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naly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250920" y="4654440"/>
            <a:ext cx="1511280" cy="15112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r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2124000" y="3645000"/>
            <a:ext cx="1656000" cy="100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(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1619280" y="3500280"/>
            <a:ext cx="360360" cy="50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 flipV="1">
            <a:off x="1547640" y="4365360"/>
            <a:ext cx="50328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DDB6-B21E-4F05-9146-608D65563D48}" type="slidenum">
              <a:t>1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ypology + Compu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1" name=""/>
          <p:cNvSpPr/>
          <p:nvPr/>
        </p:nvSpPr>
        <p:spPr>
          <a:xfrm>
            <a:off x="250920" y="2205000"/>
            <a:ext cx="1511280" cy="15112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naly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250920" y="4654440"/>
            <a:ext cx="1511280" cy="15112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r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2124000" y="3645000"/>
            <a:ext cx="1656000" cy="100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(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4211640" y="2060640"/>
            <a:ext cx="1944720" cy="1728720"/>
          </a:xfrm>
          <a:prstGeom prst="flowChartDocumen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ypo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1619280" y="3500280"/>
            <a:ext cx="360360" cy="50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 flipV="1">
            <a:off x="1547640" y="4365360"/>
            <a:ext cx="50328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 flipV="1">
            <a:off x="3780000" y="3068640"/>
            <a:ext cx="28728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48E8-AF8E-4E1E-9D4C-1F3E9FFB69E7}" type="slidenum">
              <a:t>1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ypology + Compu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9" name=""/>
          <p:cNvSpPr/>
          <p:nvPr/>
        </p:nvSpPr>
        <p:spPr>
          <a:xfrm>
            <a:off x="250920" y="2205000"/>
            <a:ext cx="1511280" cy="15112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naly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250920" y="4654440"/>
            <a:ext cx="1511280" cy="15112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r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2124000" y="3645000"/>
            <a:ext cx="1656000" cy="100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(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4211640" y="2060640"/>
            <a:ext cx="1944720" cy="1728720"/>
          </a:xfrm>
          <a:prstGeom prst="flowChartDocumen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ypo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4211640" y="4579920"/>
            <a:ext cx="1944720" cy="1728720"/>
          </a:xfrm>
          <a:prstGeom prst="flowChartDocumen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nfi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xi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ypo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1619280" y="3500280"/>
            <a:ext cx="360360" cy="50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 flipV="1">
            <a:off x="1547640" y="4365360"/>
            <a:ext cx="50328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 flipV="1">
            <a:off x="3780000" y="3068640"/>
            <a:ext cx="28728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3780000" y="4653000"/>
            <a:ext cx="28728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106D-D130-4929-99EF-B99536803D35}" type="slidenum">
              <a:t>1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ypology + Compu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9" name=""/>
          <p:cNvSpPr/>
          <p:nvPr/>
        </p:nvSpPr>
        <p:spPr>
          <a:xfrm>
            <a:off x="250920" y="2205000"/>
            <a:ext cx="1511280" cy="15112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naly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250920" y="4654440"/>
            <a:ext cx="1511280" cy="15112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r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2124000" y="3645000"/>
            <a:ext cx="1656000" cy="100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(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4211640" y="2060640"/>
            <a:ext cx="1944720" cy="1728720"/>
          </a:xfrm>
          <a:prstGeom prst="flowChartDocumen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ypo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4211640" y="4579920"/>
            <a:ext cx="1944720" cy="1728720"/>
          </a:xfrm>
          <a:prstGeom prst="flowChartDocumen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nfi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xi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ypo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6877080" y="2060640"/>
            <a:ext cx="2087640" cy="40323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ngu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1619280" y="3500280"/>
            <a:ext cx="360360" cy="50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 flipV="1">
            <a:off x="1547640" y="4365360"/>
            <a:ext cx="50328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 flipV="1">
            <a:off x="3780000" y="3068640"/>
            <a:ext cx="28728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3780000" y="4653000"/>
            <a:ext cx="28728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6300720" y="515772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6300720" y="292428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695E-D7E3-448F-AA0D-C56E1F4279B1}" type="slidenum">
              <a:t>1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700"/>
            </a:br>
            <a:br>
              <a:rPr sz="11700"/>
            </a:br>
            <a:br>
              <a:rPr sz="11700"/>
            </a:br>
            <a:br>
              <a:rPr sz="11700"/>
            </a:br>
            <a:br>
              <a:rPr sz="11700"/>
            </a:br>
            <a:br>
              <a:rPr sz="11700"/>
            </a:br>
            <a:br>
              <a:rPr sz="11700"/>
            </a:br>
            <a:br>
              <a:rPr sz="11700"/>
            </a:br>
            <a:endParaRPr b="0" lang="en-US" sz="11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2" name=""/>
          <p:cNvSpPr/>
          <p:nvPr/>
        </p:nvSpPr>
        <p:spPr>
          <a:xfrm>
            <a:off x="4286520" y="3092400"/>
            <a:ext cx="762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E407-B07D-45A9-B093-21B485398A1F}" type="slidenum">
              <a:t>1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"/>
          <p:cNvSpPr/>
          <p:nvPr/>
        </p:nvSpPr>
        <p:spPr>
          <a:xfrm>
            <a:off x="1355760" y="2395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62120" y="2133720"/>
            <a:ext cx="63792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3772-40AA-4CDF-8A7E-14EE88BC9A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erence of univers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1355760" y="2395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62120" y="2133720"/>
            <a:ext cx="63792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708360" y="3500280"/>
            <a:ext cx="1943280" cy="18003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05520" y="3619440"/>
            <a:ext cx="8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r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95640" y="4005360"/>
            <a:ext cx="1441440" cy="1224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V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752280" y="5589720"/>
            <a:ext cx="190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VSO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Pr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(absolu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32720" y="3500280"/>
            <a:ext cx="1942920" cy="18003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249680" y="3619440"/>
            <a:ext cx="84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018200" y="4149720"/>
            <a:ext cx="1441440" cy="1224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S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97880" y="5589720"/>
            <a:ext cx="185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OV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P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(statis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BA6D-7BE1-4539-A783-0C527DBDFA0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erence of univers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1355760" y="2395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62120" y="2133720"/>
            <a:ext cx="63792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708360" y="3500280"/>
            <a:ext cx="1943280" cy="18003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05520" y="3619440"/>
            <a:ext cx="8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r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95640" y="4005360"/>
            <a:ext cx="1441440" cy="1224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V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752280" y="5589720"/>
            <a:ext cx="190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VSO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Pr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(absolu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32720" y="3500280"/>
            <a:ext cx="1942920" cy="18003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249680" y="3619440"/>
            <a:ext cx="84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18200" y="4149720"/>
            <a:ext cx="144144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S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797880" y="5589720"/>
            <a:ext cx="185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OV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P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(statis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6659640" y="5373720"/>
            <a:ext cx="86364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65760" y="5010120"/>
            <a:ext cx="869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SO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¬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 P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73F2-4638-408F-A398-D6B2C4FDEFD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erence of univers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1355760" y="2395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62120" y="2133720"/>
            <a:ext cx="63792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708360" y="3500280"/>
            <a:ext cx="1943280" cy="18003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05520" y="3619440"/>
            <a:ext cx="8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r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95640" y="4005360"/>
            <a:ext cx="1441440" cy="1224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V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752280" y="5589720"/>
            <a:ext cx="190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VSO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Pr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(absolu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32720" y="3500280"/>
            <a:ext cx="1942920" cy="18003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249680" y="3619440"/>
            <a:ext cx="84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018200" y="4149720"/>
            <a:ext cx="1441440" cy="1224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S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97880" y="5589720"/>
            <a:ext cx="185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OV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P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(statis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5320" y="5589720"/>
            <a:ext cx="207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(equivalen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8B97-B684-4801-86D8-BAF4F42604A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erence of univers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1355760" y="2395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62120" y="2133720"/>
            <a:ext cx="63792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708360" y="3500280"/>
            <a:ext cx="1943280" cy="18003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205520" y="3619440"/>
            <a:ext cx="8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r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95640" y="4005360"/>
            <a:ext cx="1441440" cy="1224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V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752280" y="5589720"/>
            <a:ext cx="190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VSO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Pr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(absolu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732720" y="3500280"/>
            <a:ext cx="1942920" cy="18003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249680" y="3619440"/>
            <a:ext cx="84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018200" y="4149720"/>
            <a:ext cx="1441440" cy="1224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S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797880" y="5589720"/>
            <a:ext cx="185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OV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P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(statis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55640" y="3500280"/>
            <a:ext cx="1943280" cy="18003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03000" y="3619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5320" y="5589720"/>
            <a:ext cx="207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(equivalen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CFC5-7A19-4D47-9C7F-58F31E217EF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erence of univers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1355760" y="2395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62120" y="2133720"/>
            <a:ext cx="63792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708360" y="3500280"/>
            <a:ext cx="1943280" cy="18003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05520" y="3619440"/>
            <a:ext cx="8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r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995640" y="4005360"/>
            <a:ext cx="1441440" cy="1224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V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752280" y="5589720"/>
            <a:ext cx="190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VSO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Pr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(absolu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732720" y="3500280"/>
            <a:ext cx="1942920" cy="18003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249680" y="3619440"/>
            <a:ext cx="84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018200" y="4149720"/>
            <a:ext cx="1441440" cy="1224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S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797880" y="5589720"/>
            <a:ext cx="185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OV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P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(statis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55640" y="3500280"/>
            <a:ext cx="1943280" cy="18003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03000" y="3619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15320" y="5589720"/>
            <a:ext cx="207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(equivalen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5640" y="3500280"/>
            <a:ext cx="1943280" cy="180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56640" y="3692520"/>
            <a:ext cx="37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F467-6731-4E11-B66E-234BFBF65AB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erence of univers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1355760" y="2395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62120" y="2133720"/>
            <a:ext cx="63792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708360" y="3500280"/>
            <a:ext cx="1943280" cy="18003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05520" y="3619440"/>
            <a:ext cx="8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r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95640" y="4005360"/>
            <a:ext cx="1441440" cy="1224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V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52280" y="5589720"/>
            <a:ext cx="190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VSO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Pr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(absolu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732720" y="3500280"/>
            <a:ext cx="1942920" cy="18003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249680" y="3619440"/>
            <a:ext cx="84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018200" y="4149720"/>
            <a:ext cx="1441440" cy="1224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S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97880" y="5589720"/>
            <a:ext cx="185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OV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P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(statis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55640" y="3500280"/>
            <a:ext cx="1943280" cy="18003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03000" y="3619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54920" y="5589720"/>
            <a:ext cx="199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X = Y 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(tautology?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55640" y="3500280"/>
            <a:ext cx="1943280" cy="180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556640" y="3692520"/>
            <a:ext cx="37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DA68-207D-49C5-8E01-4586AA921C8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erence of univers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1355760" y="2395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62120" y="2133720"/>
            <a:ext cx="63792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66160" y="2133720"/>
            <a:ext cx="384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How to find a univers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3C26-BEEF-4F12-BFD4-60069701125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erence of univers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1355760" y="2395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662120" y="2133720"/>
            <a:ext cx="63792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94960" y="2133720"/>
            <a:ext cx="664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ow to find a univers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Go to the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Konstanz Universals Archiv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;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7EB5-35B7-455F-9B89-DCA288D76D7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erence of univers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1355760" y="2395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62120" y="2133720"/>
            <a:ext cx="63792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94960" y="2133720"/>
            <a:ext cx="6645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ow to find a univers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Go to the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Konstanz Universals Archiv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;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tumbl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upon one;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C198-F096-4C8C-9DD6-4FD232C0833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erence of univers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1355760" y="2395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662120" y="2133720"/>
            <a:ext cx="63792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82720" y="2133720"/>
            <a:ext cx="7498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ow to find a univers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Go to the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Konstanz Universals Archiv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;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tumbl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upon one;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pecifically testing on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while studying an are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f typology, i.e. a small subset of the  va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umber of possible linguistic variables;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4D3E-559E-485D-BCFD-362289EB3A8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"/>
          <p:cNvSpPr/>
          <p:nvPr/>
        </p:nvSpPr>
        <p:spPr>
          <a:xfrm>
            <a:off x="1355760" y="2395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62120" y="2133720"/>
            <a:ext cx="63792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99160" y="2266920"/>
            <a:ext cx="495540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nference of univers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(+ Analytical da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2516-FB91-4F11-BB9B-CC76322424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erence of univers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1355760" y="2395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62120" y="2133720"/>
            <a:ext cx="63792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82720" y="2133720"/>
            <a:ext cx="749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ow to find a univers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Go to the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Konstanz Universals Archiv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;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tumbl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upon one;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pecifically testing on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while studying an are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f typology, i.e. a small subset of the  va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umber of possible linguistic variables;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ystematically exploring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the body of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crip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5C16-AFE9-454B-AF76-63D3FD6BBE2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erence of univers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1355760" y="2309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62120" y="2133720"/>
            <a:ext cx="63792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42960" y="2276640"/>
            <a:ext cx="769104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ystematically exploring the body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vailable descriptive data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A79D-2AA7-4FE0-91D2-108BE8C5C48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erence of univers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1355760" y="2395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62120" y="2133720"/>
            <a:ext cx="63792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42960" y="2362320"/>
            <a:ext cx="769104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Systematically exploring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the body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vailable descriptiv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38080" y="342900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38080" y="51055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52480" y="4724280"/>
            <a:ext cx="152424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5DFE-D7F6-4A61-A69A-416D8BDFB09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erence of univers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"/>
          <p:cNvSpPr/>
          <p:nvPr/>
        </p:nvSpPr>
        <p:spPr>
          <a:xfrm>
            <a:off x="1355760" y="2395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62120" y="2133720"/>
            <a:ext cx="63792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2960" y="2362320"/>
            <a:ext cx="769104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Systematically exploring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the </a:t>
            </a:r>
            <a:r>
              <a:rPr b="1" lang="en-US" sz="3200" spc="-1" strike="noStrike">
                <a:solidFill>
                  <a:srgbClr val="00cc00"/>
                </a:solidFill>
                <a:latin typeface="Tahoma"/>
              </a:rPr>
              <a:t>body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ahoma"/>
              </a:rPr>
              <a:t>available descriptiv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38080" y="342900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8080" y="51055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752480" y="4724280"/>
            <a:ext cx="152424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952880" y="4038480"/>
            <a:ext cx="3124440" cy="22100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5105520"/>
            <a:ext cx="16761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3BE3-BB72-4A27-A6A5-0427CEDB286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erence of univers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"/>
          <p:cNvSpPr/>
          <p:nvPr/>
        </p:nvSpPr>
        <p:spPr>
          <a:xfrm>
            <a:off x="1371600" y="2895480"/>
            <a:ext cx="15238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0" y="2209680"/>
            <a:ext cx="3124080" cy="22100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95480" y="327672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5F32-394F-4AD5-80E1-1C6872AFB68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erence of univers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"/>
          <p:cNvSpPr/>
          <p:nvPr/>
        </p:nvSpPr>
        <p:spPr>
          <a:xfrm>
            <a:off x="1371600" y="2895480"/>
            <a:ext cx="1523880" cy="838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0" y="2209680"/>
            <a:ext cx="3124080" cy="22100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895480" y="327672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5211-B2D8-45B7-85EA-A0C06DDFB01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erence of univers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1371600" y="2895480"/>
            <a:ext cx="1523880" cy="838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0" y="2209680"/>
            <a:ext cx="3124080" cy="22100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27672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1294920" y="3733920"/>
            <a:ext cx="76212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3520" y="4952880"/>
            <a:ext cx="1523880" cy="838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PS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2C8B-17A2-4573-82B0-895C6FE3C38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erence of univers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"/>
          <p:cNvSpPr/>
          <p:nvPr/>
        </p:nvSpPr>
        <p:spPr>
          <a:xfrm>
            <a:off x="1371600" y="2895480"/>
            <a:ext cx="1523880" cy="838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0" y="2209680"/>
            <a:ext cx="3124080" cy="22100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895480" y="327672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1294920" y="3733920"/>
            <a:ext cx="76212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33520" y="4952880"/>
            <a:ext cx="1523880" cy="838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PS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666880" y="4800600"/>
            <a:ext cx="1905120" cy="1676520"/>
          </a:xfrm>
          <a:prstGeom prst="flowChartDocumen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ro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tab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057400" y="5410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3AA2-CC39-445B-9FED-6D2722BA1D1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erence of univers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3240" y="132552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240" y="471168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514320" y="2057400"/>
            <a:ext cx="21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ahoma"/>
              </a:rPr>
              <a:t>Universal U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8575-489E-47DA-8004-45CFE1DE0F0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erence of univers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3" name=""/>
          <p:cNvSpPr/>
          <p:nvPr/>
        </p:nvSpPr>
        <p:spPr>
          <a:xfrm>
            <a:off x="3240" y="132552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1371600" y="2666880"/>
            <a:ext cx="6476760" cy="3733560"/>
            <a:chOff x="1371600" y="2666880"/>
            <a:chExt cx="6476760" cy="3733560"/>
          </a:xfrm>
        </p:grpSpPr>
        <p:grpSp>
          <p:nvGrpSpPr>
            <p:cNvPr id="285" name=""/>
            <p:cNvGrpSpPr/>
            <p:nvPr/>
          </p:nvGrpSpPr>
          <p:grpSpPr>
            <a:xfrm>
              <a:off x="1377720" y="2673360"/>
              <a:ext cx="6463440" cy="3718800"/>
              <a:chOff x="1377720" y="2673360"/>
              <a:chExt cx="6463440" cy="371880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1377720" y="2673360"/>
                <a:ext cx="1545840" cy="929160"/>
                <a:chOff x="1377720" y="2673360"/>
                <a:chExt cx="1545840" cy="92916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1436400" y="2673360"/>
                  <a:ext cx="142776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1377720" y="2673360"/>
                  <a:ext cx="154584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2923920" y="2673360"/>
                <a:ext cx="1638720" cy="929160"/>
                <a:chOff x="2923920" y="2673360"/>
                <a:chExt cx="1638720" cy="92916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2982600" y="2673360"/>
                  <a:ext cx="152064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ep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2923920" y="2673360"/>
                  <a:ext cx="163872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4563360" y="2673360"/>
                <a:ext cx="1638720" cy="929160"/>
                <a:chOff x="4563360" y="2673360"/>
                <a:chExt cx="1638720" cy="92916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4622040" y="2673360"/>
                  <a:ext cx="152064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n-Prep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4563360" y="2673360"/>
                  <a:ext cx="163872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6202440" y="2673360"/>
                <a:ext cx="1638720" cy="929160"/>
                <a:chOff x="6202440" y="2673360"/>
                <a:chExt cx="1638720" cy="92916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6261120" y="2673360"/>
                  <a:ext cx="152064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otal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6202440" y="2673360"/>
                  <a:ext cx="163872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1377720" y="3602880"/>
                <a:ext cx="1545840" cy="929160"/>
                <a:chOff x="1377720" y="3602880"/>
                <a:chExt cx="1545840" cy="92916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1436400" y="3602880"/>
                  <a:ext cx="142776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SO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1377720" y="3602880"/>
                  <a:ext cx="154584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2923920" y="3602880"/>
                <a:ext cx="1638720" cy="929160"/>
                <a:chOff x="2923920" y="3602880"/>
                <a:chExt cx="1638720" cy="92916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2982600" y="3602880"/>
                  <a:ext cx="152064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8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2923920" y="3602880"/>
                  <a:ext cx="163872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4563360" y="3602880"/>
                <a:ext cx="1638720" cy="929160"/>
                <a:chOff x="4563360" y="3602880"/>
                <a:chExt cx="1638720" cy="92916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4622040" y="3602880"/>
                  <a:ext cx="152064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4563360" y="3602880"/>
                  <a:ext cx="163872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6202440" y="3602880"/>
                <a:ext cx="1638720" cy="929160"/>
                <a:chOff x="6202440" y="3602880"/>
                <a:chExt cx="1638720" cy="92916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6261120" y="3602880"/>
                  <a:ext cx="152064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8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6202440" y="3602880"/>
                  <a:ext cx="163872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1377720" y="4532760"/>
                <a:ext cx="1545840" cy="929880"/>
                <a:chOff x="1377720" y="4532760"/>
                <a:chExt cx="1545840" cy="92988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1436400" y="4532760"/>
                  <a:ext cx="1427760" cy="92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n-VSO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1377720" y="4532760"/>
                  <a:ext cx="1545840" cy="92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2923920" y="4532760"/>
                <a:ext cx="1638720" cy="929880"/>
                <a:chOff x="2923920" y="4532760"/>
                <a:chExt cx="1638720" cy="92988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2982600" y="4532760"/>
                  <a:ext cx="1520640" cy="92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7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2923920" y="4532760"/>
                  <a:ext cx="1638720" cy="92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4563360" y="4532760"/>
                <a:ext cx="1638720" cy="929880"/>
                <a:chOff x="4563360" y="4532760"/>
                <a:chExt cx="1638720" cy="92988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4622040" y="4532760"/>
                  <a:ext cx="1520640" cy="92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55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4563360" y="4532760"/>
                  <a:ext cx="1638720" cy="92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6202440" y="4532760"/>
                <a:ext cx="1638720" cy="929880"/>
                <a:chOff x="6202440" y="4532760"/>
                <a:chExt cx="1638720" cy="92988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6261120" y="4532760"/>
                  <a:ext cx="1520640" cy="92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4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6202440" y="4532760"/>
                  <a:ext cx="1638720" cy="92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1377720" y="5463000"/>
                <a:ext cx="1545840" cy="929160"/>
                <a:chOff x="1377720" y="5463000"/>
                <a:chExt cx="1545840" cy="92916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1436400" y="5463000"/>
                  <a:ext cx="142776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otal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1377720" y="5463000"/>
                  <a:ext cx="154584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2923920" y="5463000"/>
                <a:ext cx="1638720" cy="929160"/>
                <a:chOff x="2923920" y="5463000"/>
                <a:chExt cx="1638720" cy="92916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2982600" y="5463000"/>
                  <a:ext cx="152064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5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2923920" y="5463000"/>
                  <a:ext cx="163872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4563360" y="5463000"/>
                <a:ext cx="1638720" cy="929160"/>
                <a:chOff x="4563360" y="5463000"/>
                <a:chExt cx="1638720" cy="92916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4622040" y="5463000"/>
                  <a:ext cx="152064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55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4563360" y="5463000"/>
                  <a:ext cx="163872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202440" y="5463000"/>
                <a:ext cx="1638720" cy="929160"/>
                <a:chOff x="6202440" y="5463000"/>
                <a:chExt cx="1638720" cy="92916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6261120" y="5463000"/>
                  <a:ext cx="152064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1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202440" y="5463000"/>
                  <a:ext cx="163872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4" name=""/>
            <p:cNvSpPr/>
            <p:nvPr/>
          </p:nvSpPr>
          <p:spPr>
            <a:xfrm>
              <a:off x="1371600" y="2666880"/>
              <a:ext cx="6476760" cy="37335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3240" y="471168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514320" y="2057400"/>
            <a:ext cx="21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ahoma"/>
              </a:rPr>
              <a:t>Universal U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1804-1729-4885-A7A3-3A7AFF75C80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"/>
          <p:cNvSpPr/>
          <p:nvPr/>
        </p:nvSpPr>
        <p:spPr>
          <a:xfrm>
            <a:off x="1355760" y="2395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62120" y="2133720"/>
            <a:ext cx="63792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99160" y="2266920"/>
            <a:ext cx="4955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ference of univers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(+ Analytical da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2. Lexical borrow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(+ Corp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8A3D-A79D-4C21-AECC-EFBF8AB45B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erence of univers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8" name=""/>
          <p:cNvSpPr/>
          <p:nvPr/>
        </p:nvSpPr>
        <p:spPr>
          <a:xfrm>
            <a:off x="3240" y="132552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1371600" y="2666880"/>
            <a:ext cx="6476760" cy="3733560"/>
            <a:chOff x="1371600" y="2666880"/>
            <a:chExt cx="6476760" cy="3733560"/>
          </a:xfrm>
        </p:grpSpPr>
        <p:grpSp>
          <p:nvGrpSpPr>
            <p:cNvPr id="340" name=""/>
            <p:cNvGrpSpPr/>
            <p:nvPr/>
          </p:nvGrpSpPr>
          <p:grpSpPr>
            <a:xfrm>
              <a:off x="1377720" y="2673360"/>
              <a:ext cx="6463440" cy="3718800"/>
              <a:chOff x="1377720" y="2673360"/>
              <a:chExt cx="6463440" cy="3718800"/>
            </a:xfrm>
          </p:grpSpPr>
          <p:grpSp>
            <p:nvGrpSpPr>
              <p:cNvPr id="341" name=""/>
              <p:cNvGrpSpPr/>
              <p:nvPr/>
            </p:nvGrpSpPr>
            <p:grpSpPr>
              <a:xfrm>
                <a:off x="1377720" y="2673360"/>
                <a:ext cx="1545840" cy="929160"/>
                <a:chOff x="1377720" y="2673360"/>
                <a:chExt cx="1545840" cy="92916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1436400" y="2673360"/>
                  <a:ext cx="142776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1377720" y="2673360"/>
                  <a:ext cx="154584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" name=""/>
              <p:cNvGrpSpPr/>
              <p:nvPr/>
            </p:nvGrpSpPr>
            <p:grpSpPr>
              <a:xfrm>
                <a:off x="2923920" y="2673360"/>
                <a:ext cx="1638720" cy="929160"/>
                <a:chOff x="2923920" y="2673360"/>
                <a:chExt cx="1638720" cy="92916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2982600" y="2673360"/>
                  <a:ext cx="152064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00cc00"/>
                      </a:solidFill>
                      <a:latin typeface="Times New Roman"/>
                      <a:ea typeface="Times New Roman"/>
                    </a:rPr>
                    <a:t>Prep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2923920" y="2673360"/>
                  <a:ext cx="163872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4563360" y="2673360"/>
                <a:ext cx="1638720" cy="929160"/>
                <a:chOff x="4563360" y="2673360"/>
                <a:chExt cx="1638720" cy="92916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4622040" y="2673360"/>
                  <a:ext cx="152064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Non-Prep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4563360" y="2673360"/>
                  <a:ext cx="163872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6202440" y="2673360"/>
                <a:ext cx="1638720" cy="929160"/>
                <a:chOff x="6202440" y="2673360"/>
                <a:chExt cx="1638720" cy="92916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6261120" y="2673360"/>
                  <a:ext cx="152064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otal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6202440" y="2673360"/>
                  <a:ext cx="163872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1377720" y="3602880"/>
                <a:ext cx="1545840" cy="929160"/>
                <a:chOff x="1377720" y="3602880"/>
                <a:chExt cx="1545840" cy="92916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1436400" y="3602880"/>
                  <a:ext cx="142776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28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SO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377720" y="3602880"/>
                  <a:ext cx="154584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2923920" y="3602880"/>
                <a:ext cx="1638720" cy="929160"/>
                <a:chOff x="2923920" y="3602880"/>
                <a:chExt cx="1638720" cy="92916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2982600" y="3602880"/>
                  <a:ext cx="152064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2800" spc="-1" strike="noStrike">
                      <a:solidFill>
                        <a:srgbClr val="00cc00"/>
                      </a:solidFill>
                      <a:latin typeface="Times New Roman"/>
                      <a:ea typeface="Times New Roman"/>
                    </a:rPr>
                    <a:t>68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2923920" y="3602880"/>
                  <a:ext cx="163872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"/>
              <p:cNvGrpSpPr/>
              <p:nvPr/>
            </p:nvGrpSpPr>
            <p:grpSpPr>
              <a:xfrm>
                <a:off x="4563360" y="3602880"/>
                <a:ext cx="1638720" cy="929160"/>
                <a:chOff x="4563360" y="3602880"/>
                <a:chExt cx="1638720" cy="92916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4622040" y="3602880"/>
                  <a:ext cx="152064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60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4563360" y="3602880"/>
                  <a:ext cx="163872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6202440" y="3602880"/>
                <a:ext cx="1638720" cy="929160"/>
                <a:chOff x="6202440" y="3602880"/>
                <a:chExt cx="1638720" cy="92916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6261120" y="3602880"/>
                  <a:ext cx="152064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8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6202440" y="3602880"/>
                  <a:ext cx="163872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1377720" y="4532760"/>
                <a:ext cx="1545840" cy="929880"/>
                <a:chOff x="1377720" y="4532760"/>
                <a:chExt cx="1545840" cy="92988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1436400" y="4532760"/>
                  <a:ext cx="1427760" cy="92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n-VSO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1377720" y="4532760"/>
                  <a:ext cx="1545840" cy="92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" name=""/>
              <p:cNvGrpSpPr/>
              <p:nvPr/>
            </p:nvGrpSpPr>
            <p:grpSpPr>
              <a:xfrm>
                <a:off x="2923920" y="4532760"/>
                <a:ext cx="1638720" cy="929880"/>
                <a:chOff x="2923920" y="4532760"/>
                <a:chExt cx="1638720" cy="92988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2982600" y="4532760"/>
                  <a:ext cx="1520640" cy="92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7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2923920" y="4532760"/>
                  <a:ext cx="1638720" cy="92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" name=""/>
              <p:cNvGrpSpPr/>
              <p:nvPr/>
            </p:nvGrpSpPr>
            <p:grpSpPr>
              <a:xfrm>
                <a:off x="4563360" y="4532760"/>
                <a:ext cx="1638720" cy="929880"/>
                <a:chOff x="4563360" y="4532760"/>
                <a:chExt cx="1638720" cy="92988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4622040" y="4532760"/>
                  <a:ext cx="1520640" cy="92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55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4563360" y="4532760"/>
                  <a:ext cx="1638720" cy="92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6202440" y="4532760"/>
                <a:ext cx="1638720" cy="929880"/>
                <a:chOff x="6202440" y="4532760"/>
                <a:chExt cx="1638720" cy="92988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6261120" y="4532760"/>
                  <a:ext cx="1520640" cy="92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4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6202440" y="4532760"/>
                  <a:ext cx="1638720" cy="92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1377720" y="5463000"/>
                <a:ext cx="1545840" cy="929160"/>
                <a:chOff x="1377720" y="5463000"/>
                <a:chExt cx="1545840" cy="92916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1436400" y="5463000"/>
                  <a:ext cx="142776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otal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377720" y="5463000"/>
                  <a:ext cx="154584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2923920" y="5463000"/>
                <a:ext cx="1638720" cy="929160"/>
                <a:chOff x="2923920" y="5463000"/>
                <a:chExt cx="1638720" cy="92916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2982600" y="5463000"/>
                  <a:ext cx="152064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5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2923920" y="5463000"/>
                  <a:ext cx="163872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"/>
              <p:cNvGrpSpPr/>
              <p:nvPr/>
            </p:nvGrpSpPr>
            <p:grpSpPr>
              <a:xfrm>
                <a:off x="4563360" y="5463000"/>
                <a:ext cx="1638720" cy="929160"/>
                <a:chOff x="4563360" y="5463000"/>
                <a:chExt cx="1638720" cy="92916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4622040" y="5463000"/>
                  <a:ext cx="152064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55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4563360" y="5463000"/>
                  <a:ext cx="163872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"/>
              <p:cNvGrpSpPr/>
              <p:nvPr/>
            </p:nvGrpSpPr>
            <p:grpSpPr>
              <a:xfrm>
                <a:off x="6202440" y="5463000"/>
                <a:ext cx="1638720" cy="929160"/>
                <a:chOff x="6202440" y="5463000"/>
                <a:chExt cx="1638720" cy="92916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6261120" y="5463000"/>
                  <a:ext cx="152064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1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6202440" y="5463000"/>
                  <a:ext cx="163872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89" name=""/>
            <p:cNvSpPr/>
            <p:nvPr/>
          </p:nvSpPr>
          <p:spPr>
            <a:xfrm>
              <a:off x="1371600" y="2666880"/>
              <a:ext cx="6476760" cy="37335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3240" y="471168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715480" y="2057400"/>
            <a:ext cx="371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ahoma"/>
              </a:rPr>
              <a:t>Universal U3 (absolu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04920" y="3733920"/>
            <a:ext cx="914400" cy="609480"/>
          </a:xfrm>
          <a:prstGeom prst="rightArrow">
            <a:avLst>
              <a:gd name="adj1" fmla="val 50000"/>
              <a:gd name="adj2" fmla="val 3750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D4EE-DC88-4E6E-BDE4-D5DC151374B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erence of univers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4" name=""/>
          <p:cNvSpPr/>
          <p:nvPr/>
        </p:nvSpPr>
        <p:spPr>
          <a:xfrm>
            <a:off x="3240" y="132552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1371600" y="2666880"/>
            <a:ext cx="6476760" cy="3733560"/>
            <a:chOff x="1371600" y="2666880"/>
            <a:chExt cx="6476760" cy="3733560"/>
          </a:xfrm>
        </p:grpSpPr>
        <p:grpSp>
          <p:nvGrpSpPr>
            <p:cNvPr id="396" name=""/>
            <p:cNvGrpSpPr/>
            <p:nvPr/>
          </p:nvGrpSpPr>
          <p:grpSpPr>
            <a:xfrm>
              <a:off x="1377720" y="2673360"/>
              <a:ext cx="6463440" cy="3718800"/>
              <a:chOff x="1377720" y="2673360"/>
              <a:chExt cx="6463440" cy="3718800"/>
            </a:xfrm>
          </p:grpSpPr>
          <p:grpSp>
            <p:nvGrpSpPr>
              <p:cNvPr id="397" name=""/>
              <p:cNvGrpSpPr/>
              <p:nvPr/>
            </p:nvGrpSpPr>
            <p:grpSpPr>
              <a:xfrm>
                <a:off x="1377720" y="2673360"/>
                <a:ext cx="1545840" cy="929160"/>
                <a:chOff x="1377720" y="2673360"/>
                <a:chExt cx="1545840" cy="92916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1436400" y="2673360"/>
                  <a:ext cx="142776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1377720" y="2673360"/>
                  <a:ext cx="154584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2923920" y="2673360"/>
                <a:ext cx="1638720" cy="929160"/>
                <a:chOff x="2923920" y="2673360"/>
                <a:chExt cx="1638720" cy="92916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2982600" y="2673360"/>
                  <a:ext cx="152064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00cc00"/>
                      </a:solidFill>
                      <a:latin typeface="Times New Roman"/>
                      <a:ea typeface="Times New Roman"/>
                    </a:rPr>
                    <a:t>Prep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2923920" y="2673360"/>
                  <a:ext cx="163872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" name=""/>
              <p:cNvGrpSpPr/>
              <p:nvPr/>
            </p:nvGrpSpPr>
            <p:grpSpPr>
              <a:xfrm>
                <a:off x="4563360" y="2673360"/>
                <a:ext cx="1638720" cy="929160"/>
                <a:chOff x="4563360" y="2673360"/>
                <a:chExt cx="1638720" cy="92916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4622040" y="2673360"/>
                  <a:ext cx="152064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Non-Prep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4563360" y="2673360"/>
                  <a:ext cx="163872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6202440" y="2673360"/>
                <a:ext cx="1638720" cy="929160"/>
                <a:chOff x="6202440" y="2673360"/>
                <a:chExt cx="1638720" cy="92916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6261120" y="2673360"/>
                  <a:ext cx="152064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otal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6202440" y="2673360"/>
                  <a:ext cx="163872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1377720" y="3602880"/>
                <a:ext cx="1545840" cy="929160"/>
                <a:chOff x="1377720" y="3602880"/>
                <a:chExt cx="1545840" cy="92916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1436400" y="3602880"/>
                  <a:ext cx="142776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28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SO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1377720" y="3602880"/>
                  <a:ext cx="154584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2923920" y="3602880"/>
                <a:ext cx="1638720" cy="929160"/>
                <a:chOff x="2923920" y="3602880"/>
                <a:chExt cx="1638720" cy="92916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2982600" y="3602880"/>
                  <a:ext cx="152064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2800" spc="-1" strike="noStrike">
                      <a:solidFill>
                        <a:srgbClr val="00cc00"/>
                      </a:solidFill>
                      <a:latin typeface="Times New Roman"/>
                      <a:ea typeface="Times New Roman"/>
                    </a:rPr>
                    <a:t>68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923920" y="3602880"/>
                  <a:ext cx="163872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4563360" y="3602880"/>
                <a:ext cx="1638720" cy="929160"/>
                <a:chOff x="4563360" y="3602880"/>
                <a:chExt cx="1638720" cy="92916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4622040" y="3602880"/>
                  <a:ext cx="152064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60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4563360" y="3602880"/>
                  <a:ext cx="163872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6202440" y="3602880"/>
                <a:ext cx="1638720" cy="929160"/>
                <a:chOff x="6202440" y="3602880"/>
                <a:chExt cx="1638720" cy="92916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6261120" y="3602880"/>
                  <a:ext cx="152064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8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6202440" y="3602880"/>
                  <a:ext cx="163872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1" name=""/>
              <p:cNvGrpSpPr/>
              <p:nvPr/>
            </p:nvGrpSpPr>
            <p:grpSpPr>
              <a:xfrm>
                <a:off x="1377720" y="4532760"/>
                <a:ext cx="1545840" cy="929880"/>
                <a:chOff x="1377720" y="4532760"/>
                <a:chExt cx="1545840" cy="92988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1436400" y="4532760"/>
                  <a:ext cx="1427760" cy="92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n-VSO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1377720" y="4532760"/>
                  <a:ext cx="1545840" cy="92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2923920" y="4532760"/>
                <a:ext cx="1638720" cy="929880"/>
                <a:chOff x="2923920" y="4532760"/>
                <a:chExt cx="1638720" cy="92988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2982600" y="4532760"/>
                  <a:ext cx="1520640" cy="92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7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2923920" y="4532760"/>
                  <a:ext cx="1638720" cy="92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7" name=""/>
              <p:cNvGrpSpPr/>
              <p:nvPr/>
            </p:nvGrpSpPr>
            <p:grpSpPr>
              <a:xfrm>
                <a:off x="4563360" y="4532760"/>
                <a:ext cx="1638720" cy="929880"/>
                <a:chOff x="4563360" y="4532760"/>
                <a:chExt cx="1638720" cy="92988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4622040" y="4532760"/>
                  <a:ext cx="1520640" cy="92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55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4563360" y="4532760"/>
                  <a:ext cx="1638720" cy="92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6202440" y="4532760"/>
                <a:ext cx="1638720" cy="929880"/>
                <a:chOff x="6202440" y="4532760"/>
                <a:chExt cx="1638720" cy="92988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6261120" y="4532760"/>
                  <a:ext cx="1520640" cy="92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4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6202440" y="4532760"/>
                  <a:ext cx="1638720" cy="92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3" name=""/>
              <p:cNvGrpSpPr/>
              <p:nvPr/>
            </p:nvGrpSpPr>
            <p:grpSpPr>
              <a:xfrm>
                <a:off x="1377720" y="5463000"/>
                <a:ext cx="1545840" cy="929160"/>
                <a:chOff x="1377720" y="5463000"/>
                <a:chExt cx="1545840" cy="92916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1436400" y="5463000"/>
                  <a:ext cx="142776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otal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1377720" y="5463000"/>
                  <a:ext cx="154584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2923920" y="5463000"/>
                <a:ext cx="1638720" cy="929160"/>
                <a:chOff x="2923920" y="5463000"/>
                <a:chExt cx="1638720" cy="92916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2982600" y="5463000"/>
                  <a:ext cx="152064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5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2923920" y="5463000"/>
                  <a:ext cx="163872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9" name=""/>
              <p:cNvGrpSpPr/>
              <p:nvPr/>
            </p:nvGrpSpPr>
            <p:grpSpPr>
              <a:xfrm>
                <a:off x="4563360" y="5463000"/>
                <a:ext cx="1638720" cy="929160"/>
                <a:chOff x="4563360" y="5463000"/>
                <a:chExt cx="1638720" cy="92916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4622040" y="5463000"/>
                  <a:ext cx="152064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55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4563360" y="5463000"/>
                  <a:ext cx="163872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2" name=""/>
              <p:cNvGrpSpPr/>
              <p:nvPr/>
            </p:nvGrpSpPr>
            <p:grpSpPr>
              <a:xfrm>
                <a:off x="6202440" y="5463000"/>
                <a:ext cx="1638720" cy="929160"/>
                <a:chOff x="6202440" y="5463000"/>
                <a:chExt cx="1638720" cy="92916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6261120" y="5463000"/>
                  <a:ext cx="152064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1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6202440" y="5463000"/>
                  <a:ext cx="163872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5" name=""/>
            <p:cNvSpPr/>
            <p:nvPr/>
          </p:nvSpPr>
          <p:spPr>
            <a:xfrm>
              <a:off x="1371600" y="2666880"/>
              <a:ext cx="6476760" cy="37335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3240" y="471168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715480" y="2057400"/>
            <a:ext cx="371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ahoma"/>
              </a:rPr>
              <a:t>Universal U3 (absolu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4920" y="3733920"/>
            <a:ext cx="914400" cy="609480"/>
          </a:xfrm>
          <a:prstGeom prst="rightArrow">
            <a:avLst>
              <a:gd name="adj1" fmla="val 50000"/>
              <a:gd name="adj2" fmla="val 3750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00000" y="4365720"/>
            <a:ext cx="7344000" cy="1295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09FB-213C-4045-9ECD-AF1C956545E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erence of univers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1" name=""/>
          <p:cNvSpPr/>
          <p:nvPr/>
        </p:nvSpPr>
        <p:spPr>
          <a:xfrm>
            <a:off x="3240" y="132552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371600" y="2666880"/>
            <a:ext cx="6476760" cy="3733560"/>
            <a:chOff x="1371600" y="2666880"/>
            <a:chExt cx="6476760" cy="3733560"/>
          </a:xfrm>
        </p:grpSpPr>
        <p:grpSp>
          <p:nvGrpSpPr>
            <p:cNvPr id="453" name=""/>
            <p:cNvGrpSpPr/>
            <p:nvPr/>
          </p:nvGrpSpPr>
          <p:grpSpPr>
            <a:xfrm>
              <a:off x="1377720" y="2673360"/>
              <a:ext cx="6463440" cy="3718800"/>
              <a:chOff x="1377720" y="2673360"/>
              <a:chExt cx="6463440" cy="3718800"/>
            </a:xfrm>
          </p:grpSpPr>
          <p:grpSp>
            <p:nvGrpSpPr>
              <p:cNvPr id="454" name=""/>
              <p:cNvGrpSpPr/>
              <p:nvPr/>
            </p:nvGrpSpPr>
            <p:grpSpPr>
              <a:xfrm>
                <a:off x="1377720" y="2673360"/>
                <a:ext cx="1545840" cy="929160"/>
                <a:chOff x="1377720" y="2673360"/>
                <a:chExt cx="1545840" cy="92916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1436400" y="2673360"/>
                  <a:ext cx="142776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1377720" y="2673360"/>
                  <a:ext cx="154584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7" name=""/>
              <p:cNvGrpSpPr/>
              <p:nvPr/>
            </p:nvGrpSpPr>
            <p:grpSpPr>
              <a:xfrm>
                <a:off x="2923920" y="2673360"/>
                <a:ext cx="1638720" cy="929160"/>
                <a:chOff x="2923920" y="2673360"/>
                <a:chExt cx="1638720" cy="92916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2982600" y="2673360"/>
                  <a:ext cx="152064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00cc00"/>
                      </a:solidFill>
                      <a:latin typeface="Times New Roman"/>
                      <a:ea typeface="Times New Roman"/>
                    </a:rPr>
                    <a:t>Prep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2923920" y="2673360"/>
                  <a:ext cx="163872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0" name=""/>
              <p:cNvGrpSpPr/>
              <p:nvPr/>
            </p:nvGrpSpPr>
            <p:grpSpPr>
              <a:xfrm>
                <a:off x="4563360" y="2673360"/>
                <a:ext cx="1638720" cy="929160"/>
                <a:chOff x="4563360" y="2673360"/>
                <a:chExt cx="1638720" cy="92916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4622040" y="2673360"/>
                  <a:ext cx="152064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Non-Prep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4563360" y="2673360"/>
                  <a:ext cx="163872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3" name=""/>
              <p:cNvGrpSpPr/>
              <p:nvPr/>
            </p:nvGrpSpPr>
            <p:grpSpPr>
              <a:xfrm>
                <a:off x="6202440" y="2673360"/>
                <a:ext cx="1638720" cy="929160"/>
                <a:chOff x="6202440" y="2673360"/>
                <a:chExt cx="1638720" cy="92916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6261120" y="2673360"/>
                  <a:ext cx="152064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otal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6202440" y="2673360"/>
                  <a:ext cx="163872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6" name=""/>
              <p:cNvGrpSpPr/>
              <p:nvPr/>
            </p:nvGrpSpPr>
            <p:grpSpPr>
              <a:xfrm>
                <a:off x="1377720" y="3602880"/>
                <a:ext cx="1545840" cy="929160"/>
                <a:chOff x="1377720" y="3602880"/>
                <a:chExt cx="1545840" cy="92916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1436400" y="3602880"/>
                  <a:ext cx="142776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28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SO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1377720" y="3602880"/>
                  <a:ext cx="154584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9" name=""/>
              <p:cNvGrpSpPr/>
              <p:nvPr/>
            </p:nvGrpSpPr>
            <p:grpSpPr>
              <a:xfrm>
                <a:off x="2923920" y="3602880"/>
                <a:ext cx="1638720" cy="929160"/>
                <a:chOff x="2923920" y="3602880"/>
                <a:chExt cx="1638720" cy="929160"/>
              </a:xfrm>
            </p:grpSpPr>
            <p:sp>
              <p:nvSpPr>
                <p:cNvPr id="470" name=""/>
                <p:cNvSpPr/>
                <p:nvPr/>
              </p:nvSpPr>
              <p:spPr>
                <a:xfrm>
                  <a:off x="2982600" y="3602880"/>
                  <a:ext cx="152064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2800" spc="-1" strike="noStrike">
                      <a:solidFill>
                        <a:srgbClr val="00cc00"/>
                      </a:solidFill>
                      <a:latin typeface="Times New Roman"/>
                      <a:ea typeface="Times New Roman"/>
                    </a:rPr>
                    <a:t>68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2923920" y="3602880"/>
                  <a:ext cx="163872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2" name=""/>
              <p:cNvGrpSpPr/>
              <p:nvPr/>
            </p:nvGrpSpPr>
            <p:grpSpPr>
              <a:xfrm>
                <a:off x="4563360" y="3602880"/>
                <a:ext cx="1638720" cy="929160"/>
                <a:chOff x="4563360" y="3602880"/>
                <a:chExt cx="1638720" cy="929160"/>
              </a:xfrm>
            </p:grpSpPr>
            <p:sp>
              <p:nvSpPr>
                <p:cNvPr id="473" name=""/>
                <p:cNvSpPr/>
                <p:nvPr/>
              </p:nvSpPr>
              <p:spPr>
                <a:xfrm>
                  <a:off x="4622040" y="3602880"/>
                  <a:ext cx="152064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60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4563360" y="3602880"/>
                  <a:ext cx="163872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5" name=""/>
              <p:cNvGrpSpPr/>
              <p:nvPr/>
            </p:nvGrpSpPr>
            <p:grpSpPr>
              <a:xfrm>
                <a:off x="6202440" y="3602880"/>
                <a:ext cx="1638720" cy="929160"/>
                <a:chOff x="6202440" y="3602880"/>
                <a:chExt cx="1638720" cy="929160"/>
              </a:xfrm>
            </p:grpSpPr>
            <p:sp>
              <p:nvSpPr>
                <p:cNvPr id="476" name=""/>
                <p:cNvSpPr/>
                <p:nvPr/>
              </p:nvSpPr>
              <p:spPr>
                <a:xfrm>
                  <a:off x="6261120" y="3602880"/>
                  <a:ext cx="152064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8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6202440" y="3602880"/>
                  <a:ext cx="163872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8" name=""/>
              <p:cNvGrpSpPr/>
              <p:nvPr/>
            </p:nvGrpSpPr>
            <p:grpSpPr>
              <a:xfrm>
                <a:off x="1377720" y="4532760"/>
                <a:ext cx="1545840" cy="929880"/>
                <a:chOff x="1377720" y="4532760"/>
                <a:chExt cx="1545840" cy="92988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1436400" y="4532760"/>
                  <a:ext cx="1427760" cy="92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n-VSO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1377720" y="4532760"/>
                  <a:ext cx="1545840" cy="92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1" name=""/>
              <p:cNvGrpSpPr/>
              <p:nvPr/>
            </p:nvGrpSpPr>
            <p:grpSpPr>
              <a:xfrm>
                <a:off x="2923920" y="4532760"/>
                <a:ext cx="1638720" cy="929880"/>
                <a:chOff x="2923920" y="4532760"/>
                <a:chExt cx="1638720" cy="929880"/>
              </a:xfrm>
            </p:grpSpPr>
            <p:sp>
              <p:nvSpPr>
                <p:cNvPr id="482" name=""/>
                <p:cNvSpPr/>
                <p:nvPr/>
              </p:nvSpPr>
              <p:spPr>
                <a:xfrm>
                  <a:off x="2982600" y="4532760"/>
                  <a:ext cx="1520640" cy="92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6000" spc="-1" strike="noStrike">
                      <a:solidFill>
                        <a:srgbClr val="ff0000"/>
                      </a:solidFill>
                      <a:latin typeface="Tahoma"/>
                    </a:rPr>
                    <a:t>0</a:t>
                  </a:r>
                  <a:r>
                    <a:rPr b="1" lang="fr-FR" sz="2400" spc="-1" strike="noStrike">
                      <a:solidFill>
                        <a:srgbClr val="ff0000"/>
                      </a:solidFill>
                      <a:latin typeface="Tahoma"/>
                    </a:rPr>
                    <a:t>=eqv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2923920" y="4532760"/>
                  <a:ext cx="1638720" cy="92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4" name=""/>
              <p:cNvGrpSpPr/>
              <p:nvPr/>
            </p:nvGrpSpPr>
            <p:grpSpPr>
              <a:xfrm>
                <a:off x="4563360" y="4532760"/>
                <a:ext cx="1638720" cy="929880"/>
                <a:chOff x="4563360" y="4532760"/>
                <a:chExt cx="1638720" cy="92988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4622040" y="4532760"/>
                  <a:ext cx="1520640" cy="92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4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4563360" y="4532760"/>
                  <a:ext cx="1638720" cy="92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7" name=""/>
              <p:cNvGrpSpPr/>
              <p:nvPr/>
            </p:nvGrpSpPr>
            <p:grpSpPr>
              <a:xfrm>
                <a:off x="6202440" y="4532760"/>
                <a:ext cx="1638720" cy="929880"/>
                <a:chOff x="6202440" y="4532760"/>
                <a:chExt cx="1638720" cy="92988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6261120" y="4532760"/>
                  <a:ext cx="1520640" cy="92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4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6202440" y="4532760"/>
                  <a:ext cx="1638720" cy="92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0" name=""/>
              <p:cNvGrpSpPr/>
              <p:nvPr/>
            </p:nvGrpSpPr>
            <p:grpSpPr>
              <a:xfrm>
                <a:off x="1377720" y="5463000"/>
                <a:ext cx="1545840" cy="929160"/>
                <a:chOff x="1377720" y="5463000"/>
                <a:chExt cx="1545840" cy="92916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1436400" y="5463000"/>
                  <a:ext cx="142776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otal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1377720" y="5463000"/>
                  <a:ext cx="154584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3" name=""/>
              <p:cNvGrpSpPr/>
              <p:nvPr/>
            </p:nvGrpSpPr>
            <p:grpSpPr>
              <a:xfrm>
                <a:off x="2923920" y="5463000"/>
                <a:ext cx="1638720" cy="929160"/>
                <a:chOff x="2923920" y="5463000"/>
                <a:chExt cx="1638720" cy="929160"/>
              </a:xfrm>
            </p:grpSpPr>
            <p:sp>
              <p:nvSpPr>
                <p:cNvPr id="494" name=""/>
                <p:cNvSpPr/>
                <p:nvPr/>
              </p:nvSpPr>
              <p:spPr>
                <a:xfrm>
                  <a:off x="2982600" y="5463000"/>
                  <a:ext cx="152064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5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2923920" y="5463000"/>
                  <a:ext cx="163872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6" name=""/>
              <p:cNvGrpSpPr/>
              <p:nvPr/>
            </p:nvGrpSpPr>
            <p:grpSpPr>
              <a:xfrm>
                <a:off x="4563360" y="5463000"/>
                <a:ext cx="1638720" cy="929160"/>
                <a:chOff x="4563360" y="5463000"/>
                <a:chExt cx="1638720" cy="92916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4622040" y="5463000"/>
                  <a:ext cx="152064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55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4563360" y="5463000"/>
                  <a:ext cx="163872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9" name=""/>
              <p:cNvGrpSpPr/>
              <p:nvPr/>
            </p:nvGrpSpPr>
            <p:grpSpPr>
              <a:xfrm>
                <a:off x="6202440" y="5463000"/>
                <a:ext cx="1638720" cy="929160"/>
                <a:chOff x="6202440" y="5463000"/>
                <a:chExt cx="1638720" cy="929160"/>
              </a:xfrm>
            </p:grpSpPr>
            <p:sp>
              <p:nvSpPr>
                <p:cNvPr id="500" name=""/>
                <p:cNvSpPr/>
                <p:nvPr/>
              </p:nvSpPr>
              <p:spPr>
                <a:xfrm>
                  <a:off x="6261120" y="5463000"/>
                  <a:ext cx="152064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1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6202440" y="5463000"/>
                  <a:ext cx="163872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2" name=""/>
            <p:cNvSpPr/>
            <p:nvPr/>
          </p:nvSpPr>
          <p:spPr>
            <a:xfrm>
              <a:off x="1371600" y="2666880"/>
              <a:ext cx="6476760" cy="37335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0" y="472428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715480" y="2057400"/>
            <a:ext cx="371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ahoma"/>
              </a:rPr>
              <a:t>Universal U3 (absolu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04920" y="3733920"/>
            <a:ext cx="914400" cy="609480"/>
          </a:xfrm>
          <a:prstGeom prst="rightArrow">
            <a:avLst>
              <a:gd name="adj1" fmla="val 50000"/>
              <a:gd name="adj2" fmla="val 3750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900000" y="4365720"/>
            <a:ext cx="7344000" cy="1295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430F-E525-4722-B72C-43005E1509C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erence of univers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"/>
          <p:cNvSpPr/>
          <p:nvPr/>
        </p:nvSpPr>
        <p:spPr>
          <a:xfrm>
            <a:off x="3240" y="132552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240" y="471168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514320" y="2057400"/>
            <a:ext cx="21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ahoma"/>
              </a:rPr>
              <a:t>Universal U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03B2-A371-4B28-AE8C-4925422BDDB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erence of univers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2" name=""/>
          <p:cNvSpPr/>
          <p:nvPr/>
        </p:nvSpPr>
        <p:spPr>
          <a:xfrm>
            <a:off x="3240" y="132552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1371600" y="2666880"/>
            <a:ext cx="6476760" cy="3733560"/>
            <a:chOff x="1371600" y="2666880"/>
            <a:chExt cx="6476760" cy="3733560"/>
          </a:xfrm>
        </p:grpSpPr>
        <p:grpSp>
          <p:nvGrpSpPr>
            <p:cNvPr id="514" name=""/>
            <p:cNvGrpSpPr/>
            <p:nvPr/>
          </p:nvGrpSpPr>
          <p:grpSpPr>
            <a:xfrm>
              <a:off x="1377720" y="2673360"/>
              <a:ext cx="6463440" cy="3718800"/>
              <a:chOff x="1377720" y="2673360"/>
              <a:chExt cx="6463440" cy="3718800"/>
            </a:xfrm>
          </p:grpSpPr>
          <p:grpSp>
            <p:nvGrpSpPr>
              <p:cNvPr id="515" name=""/>
              <p:cNvGrpSpPr/>
              <p:nvPr/>
            </p:nvGrpSpPr>
            <p:grpSpPr>
              <a:xfrm>
                <a:off x="1377720" y="2673360"/>
                <a:ext cx="1545840" cy="929160"/>
                <a:chOff x="1377720" y="2673360"/>
                <a:chExt cx="1545840" cy="92916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1436400" y="2673360"/>
                  <a:ext cx="142776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1377720" y="2673360"/>
                  <a:ext cx="154584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" name=""/>
              <p:cNvGrpSpPr/>
              <p:nvPr/>
            </p:nvGrpSpPr>
            <p:grpSpPr>
              <a:xfrm>
                <a:off x="2923920" y="2673360"/>
                <a:ext cx="1638720" cy="929160"/>
                <a:chOff x="2923920" y="2673360"/>
                <a:chExt cx="1638720" cy="92916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2982600" y="2673360"/>
                  <a:ext cx="152064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00cc00"/>
                      </a:solidFill>
                      <a:latin typeface="Times New Roman"/>
                      <a:ea typeface="Times New Roman"/>
                    </a:rPr>
                    <a:t>Post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2923920" y="2673360"/>
                  <a:ext cx="163872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4563360" y="2673360"/>
                <a:ext cx="1638720" cy="929160"/>
                <a:chOff x="4563360" y="2673360"/>
                <a:chExt cx="1638720" cy="92916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4622040" y="2673360"/>
                  <a:ext cx="152064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Non-Post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4563360" y="2673360"/>
                  <a:ext cx="163872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6202440" y="2673360"/>
                <a:ext cx="1638720" cy="929160"/>
                <a:chOff x="6202440" y="2673360"/>
                <a:chExt cx="1638720" cy="92916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6261120" y="2673360"/>
                  <a:ext cx="152064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otal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6202440" y="2673360"/>
                  <a:ext cx="163872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1377720" y="3602880"/>
                <a:ext cx="1545840" cy="929160"/>
                <a:chOff x="1377720" y="3602880"/>
                <a:chExt cx="1545840" cy="92916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1436400" y="3602880"/>
                  <a:ext cx="142776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28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SOV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1377720" y="3602880"/>
                  <a:ext cx="154584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2923920" y="3602880"/>
                <a:ext cx="1638720" cy="929160"/>
                <a:chOff x="2923920" y="3602880"/>
                <a:chExt cx="1638720" cy="92916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2982600" y="3602880"/>
                  <a:ext cx="152064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2800" spc="-1" strike="noStrike">
                      <a:solidFill>
                        <a:srgbClr val="00cc00"/>
                      </a:solidFill>
                      <a:latin typeface="Times New Roman"/>
                      <a:ea typeface="Times New Roman"/>
                    </a:rPr>
                    <a:t>21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2923920" y="3602880"/>
                  <a:ext cx="163872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4563360" y="3602880"/>
                <a:ext cx="1638720" cy="929160"/>
                <a:chOff x="4563360" y="3602880"/>
                <a:chExt cx="1638720" cy="92916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4622040" y="3602880"/>
                  <a:ext cx="152064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28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4563360" y="3602880"/>
                  <a:ext cx="163872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6" name=""/>
              <p:cNvGrpSpPr/>
              <p:nvPr/>
            </p:nvGrpSpPr>
            <p:grpSpPr>
              <a:xfrm>
                <a:off x="6202440" y="3602880"/>
                <a:ext cx="1638720" cy="929160"/>
                <a:chOff x="6202440" y="3602880"/>
                <a:chExt cx="1638720" cy="92916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6261120" y="3602880"/>
                  <a:ext cx="152064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5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6202440" y="3602880"/>
                  <a:ext cx="163872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9" name=""/>
              <p:cNvGrpSpPr/>
              <p:nvPr/>
            </p:nvGrpSpPr>
            <p:grpSpPr>
              <a:xfrm>
                <a:off x="1377720" y="4532760"/>
                <a:ext cx="1545840" cy="929880"/>
                <a:chOff x="1377720" y="4532760"/>
                <a:chExt cx="1545840" cy="929880"/>
              </a:xfrm>
            </p:grpSpPr>
            <p:sp>
              <p:nvSpPr>
                <p:cNvPr id="540" name=""/>
                <p:cNvSpPr/>
                <p:nvPr/>
              </p:nvSpPr>
              <p:spPr>
                <a:xfrm>
                  <a:off x="1436400" y="4532760"/>
                  <a:ext cx="1427760" cy="92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n-SOV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1377720" y="4532760"/>
                  <a:ext cx="1545840" cy="92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2" name=""/>
              <p:cNvGrpSpPr/>
              <p:nvPr/>
            </p:nvGrpSpPr>
            <p:grpSpPr>
              <a:xfrm>
                <a:off x="2923920" y="4532760"/>
                <a:ext cx="1638720" cy="929880"/>
                <a:chOff x="2923920" y="4532760"/>
                <a:chExt cx="1638720" cy="92988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2982600" y="4532760"/>
                  <a:ext cx="1520640" cy="92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3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2923920" y="4532760"/>
                  <a:ext cx="1638720" cy="92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5" name=""/>
              <p:cNvGrpSpPr/>
              <p:nvPr/>
            </p:nvGrpSpPr>
            <p:grpSpPr>
              <a:xfrm>
                <a:off x="4563360" y="4532760"/>
                <a:ext cx="1638720" cy="929880"/>
                <a:chOff x="4563360" y="4532760"/>
                <a:chExt cx="1638720" cy="92988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4622040" y="4532760"/>
                  <a:ext cx="1520640" cy="92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4563360" y="4532760"/>
                  <a:ext cx="1638720" cy="92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6202440" y="4532760"/>
                <a:ext cx="1638720" cy="929880"/>
                <a:chOff x="6202440" y="4532760"/>
                <a:chExt cx="1638720" cy="92988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6261120" y="4532760"/>
                  <a:ext cx="1520640" cy="92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95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6202440" y="4532760"/>
                  <a:ext cx="1638720" cy="92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1" name=""/>
              <p:cNvGrpSpPr/>
              <p:nvPr/>
            </p:nvGrpSpPr>
            <p:grpSpPr>
              <a:xfrm>
                <a:off x="1377720" y="5463000"/>
                <a:ext cx="1545840" cy="929160"/>
                <a:chOff x="1377720" y="5463000"/>
                <a:chExt cx="1545840" cy="92916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1436400" y="5463000"/>
                  <a:ext cx="142776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otal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1377720" y="5463000"/>
                  <a:ext cx="154584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" name=""/>
              <p:cNvGrpSpPr/>
              <p:nvPr/>
            </p:nvGrpSpPr>
            <p:grpSpPr>
              <a:xfrm>
                <a:off x="2923920" y="5463000"/>
                <a:ext cx="1638720" cy="929160"/>
                <a:chOff x="2923920" y="5463000"/>
                <a:chExt cx="1638720" cy="92916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2982600" y="5463000"/>
                  <a:ext cx="152064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3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2923920" y="5463000"/>
                  <a:ext cx="163872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4563360" y="5463000"/>
                <a:ext cx="1638720" cy="929160"/>
                <a:chOff x="4563360" y="5463000"/>
                <a:chExt cx="1638720" cy="92916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4622040" y="5463000"/>
                  <a:ext cx="152064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7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4563360" y="5463000"/>
                  <a:ext cx="163872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6202440" y="5463000"/>
                <a:ext cx="1638720" cy="929160"/>
                <a:chOff x="6202440" y="5463000"/>
                <a:chExt cx="1638720" cy="92916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6261120" y="5463000"/>
                  <a:ext cx="152064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1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6202440" y="5463000"/>
                  <a:ext cx="163872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63" name=""/>
            <p:cNvSpPr/>
            <p:nvPr/>
          </p:nvSpPr>
          <p:spPr>
            <a:xfrm>
              <a:off x="1371600" y="2666880"/>
              <a:ext cx="6476760" cy="37335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" name=""/>
          <p:cNvSpPr/>
          <p:nvPr/>
        </p:nvSpPr>
        <p:spPr>
          <a:xfrm>
            <a:off x="3240" y="471168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624760" y="2057400"/>
            <a:ext cx="389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ahoma"/>
              </a:rPr>
              <a:t>Universal U4 (statis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04920" y="3733920"/>
            <a:ext cx="914400" cy="609480"/>
          </a:xfrm>
          <a:prstGeom prst="rightArrow">
            <a:avLst>
              <a:gd name="adj1" fmla="val 50000"/>
              <a:gd name="adj2" fmla="val 3750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3FE5-8F3A-417E-A5E3-2A1615F38C2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erence of univers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8" name=""/>
          <p:cNvSpPr/>
          <p:nvPr/>
        </p:nvSpPr>
        <p:spPr>
          <a:xfrm>
            <a:off x="3240" y="132552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1371600" y="2666880"/>
            <a:ext cx="6476760" cy="3733560"/>
            <a:chOff x="1371600" y="2666880"/>
            <a:chExt cx="6476760" cy="3733560"/>
          </a:xfrm>
        </p:grpSpPr>
        <p:grpSp>
          <p:nvGrpSpPr>
            <p:cNvPr id="570" name=""/>
            <p:cNvGrpSpPr/>
            <p:nvPr/>
          </p:nvGrpSpPr>
          <p:grpSpPr>
            <a:xfrm>
              <a:off x="1377720" y="2673360"/>
              <a:ext cx="6463440" cy="3718800"/>
              <a:chOff x="1377720" y="2673360"/>
              <a:chExt cx="6463440" cy="3718800"/>
            </a:xfrm>
          </p:grpSpPr>
          <p:grpSp>
            <p:nvGrpSpPr>
              <p:cNvPr id="571" name=""/>
              <p:cNvGrpSpPr/>
              <p:nvPr/>
            </p:nvGrpSpPr>
            <p:grpSpPr>
              <a:xfrm>
                <a:off x="1377720" y="2673360"/>
                <a:ext cx="1545840" cy="929160"/>
                <a:chOff x="1377720" y="2673360"/>
                <a:chExt cx="1545840" cy="929160"/>
              </a:xfrm>
            </p:grpSpPr>
            <p:sp>
              <p:nvSpPr>
                <p:cNvPr id="572" name=""/>
                <p:cNvSpPr/>
                <p:nvPr/>
              </p:nvSpPr>
              <p:spPr>
                <a:xfrm>
                  <a:off x="1436400" y="2673360"/>
                  <a:ext cx="142776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1377720" y="2673360"/>
                  <a:ext cx="154584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4" name=""/>
              <p:cNvGrpSpPr/>
              <p:nvPr/>
            </p:nvGrpSpPr>
            <p:grpSpPr>
              <a:xfrm>
                <a:off x="2923920" y="2673360"/>
                <a:ext cx="1638720" cy="929160"/>
                <a:chOff x="2923920" y="2673360"/>
                <a:chExt cx="1638720" cy="929160"/>
              </a:xfrm>
            </p:grpSpPr>
            <p:sp>
              <p:nvSpPr>
                <p:cNvPr id="575" name=""/>
                <p:cNvSpPr/>
                <p:nvPr/>
              </p:nvSpPr>
              <p:spPr>
                <a:xfrm>
                  <a:off x="2982600" y="2673360"/>
                  <a:ext cx="152064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00cc00"/>
                      </a:solidFill>
                      <a:latin typeface="Times New Roman"/>
                      <a:ea typeface="Times New Roman"/>
                    </a:rPr>
                    <a:t>Post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2923920" y="2673360"/>
                  <a:ext cx="163872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7" name=""/>
              <p:cNvGrpSpPr/>
              <p:nvPr/>
            </p:nvGrpSpPr>
            <p:grpSpPr>
              <a:xfrm>
                <a:off x="4563360" y="2673360"/>
                <a:ext cx="1638720" cy="929160"/>
                <a:chOff x="4563360" y="2673360"/>
                <a:chExt cx="1638720" cy="929160"/>
              </a:xfrm>
            </p:grpSpPr>
            <p:sp>
              <p:nvSpPr>
                <p:cNvPr id="578" name=""/>
                <p:cNvSpPr/>
                <p:nvPr/>
              </p:nvSpPr>
              <p:spPr>
                <a:xfrm>
                  <a:off x="4622040" y="2673360"/>
                  <a:ext cx="152064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Non-Post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4563360" y="2673360"/>
                  <a:ext cx="163872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0" name=""/>
              <p:cNvGrpSpPr/>
              <p:nvPr/>
            </p:nvGrpSpPr>
            <p:grpSpPr>
              <a:xfrm>
                <a:off x="6202440" y="2673360"/>
                <a:ext cx="1638720" cy="929160"/>
                <a:chOff x="6202440" y="2673360"/>
                <a:chExt cx="1638720" cy="929160"/>
              </a:xfrm>
            </p:grpSpPr>
            <p:sp>
              <p:nvSpPr>
                <p:cNvPr id="581" name=""/>
                <p:cNvSpPr/>
                <p:nvPr/>
              </p:nvSpPr>
              <p:spPr>
                <a:xfrm>
                  <a:off x="6261120" y="2673360"/>
                  <a:ext cx="152064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otal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6202440" y="2673360"/>
                  <a:ext cx="163872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3" name=""/>
              <p:cNvGrpSpPr/>
              <p:nvPr/>
            </p:nvGrpSpPr>
            <p:grpSpPr>
              <a:xfrm>
                <a:off x="1377720" y="3602880"/>
                <a:ext cx="1545840" cy="929160"/>
                <a:chOff x="1377720" y="3602880"/>
                <a:chExt cx="1545840" cy="929160"/>
              </a:xfrm>
            </p:grpSpPr>
            <p:sp>
              <p:nvSpPr>
                <p:cNvPr id="584" name=""/>
                <p:cNvSpPr/>
                <p:nvPr/>
              </p:nvSpPr>
              <p:spPr>
                <a:xfrm>
                  <a:off x="1436400" y="3602880"/>
                  <a:ext cx="142776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28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SOV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1377720" y="3602880"/>
                  <a:ext cx="154584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6" name=""/>
              <p:cNvGrpSpPr/>
              <p:nvPr/>
            </p:nvGrpSpPr>
            <p:grpSpPr>
              <a:xfrm>
                <a:off x="2923920" y="3602880"/>
                <a:ext cx="1638720" cy="929160"/>
                <a:chOff x="2923920" y="3602880"/>
                <a:chExt cx="1638720" cy="929160"/>
              </a:xfrm>
            </p:grpSpPr>
            <p:sp>
              <p:nvSpPr>
                <p:cNvPr id="587" name=""/>
                <p:cNvSpPr/>
                <p:nvPr/>
              </p:nvSpPr>
              <p:spPr>
                <a:xfrm>
                  <a:off x="2982600" y="3602880"/>
                  <a:ext cx="152064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2800" spc="-1" strike="noStrike">
                      <a:solidFill>
                        <a:srgbClr val="00cc00"/>
                      </a:solidFill>
                      <a:latin typeface="Times New Roman"/>
                      <a:ea typeface="Times New Roman"/>
                    </a:rPr>
                    <a:t>21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2923920" y="3602880"/>
                  <a:ext cx="163872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9" name=""/>
              <p:cNvGrpSpPr/>
              <p:nvPr/>
            </p:nvGrpSpPr>
            <p:grpSpPr>
              <a:xfrm>
                <a:off x="4563360" y="3602880"/>
                <a:ext cx="1638720" cy="929160"/>
                <a:chOff x="4563360" y="3602880"/>
                <a:chExt cx="1638720" cy="929160"/>
              </a:xfrm>
            </p:grpSpPr>
            <p:sp>
              <p:nvSpPr>
                <p:cNvPr id="590" name=""/>
                <p:cNvSpPr/>
                <p:nvPr/>
              </p:nvSpPr>
              <p:spPr>
                <a:xfrm>
                  <a:off x="4622040" y="3602880"/>
                  <a:ext cx="152064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60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4563360" y="3602880"/>
                  <a:ext cx="163872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2" name=""/>
              <p:cNvGrpSpPr/>
              <p:nvPr/>
            </p:nvGrpSpPr>
            <p:grpSpPr>
              <a:xfrm>
                <a:off x="6202440" y="3602880"/>
                <a:ext cx="1638720" cy="929160"/>
                <a:chOff x="6202440" y="3602880"/>
                <a:chExt cx="1638720" cy="92916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6261120" y="3602880"/>
                  <a:ext cx="152064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5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6202440" y="3602880"/>
                  <a:ext cx="163872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5" name=""/>
              <p:cNvGrpSpPr/>
              <p:nvPr/>
            </p:nvGrpSpPr>
            <p:grpSpPr>
              <a:xfrm>
                <a:off x="1377720" y="4532760"/>
                <a:ext cx="1545840" cy="929880"/>
                <a:chOff x="1377720" y="4532760"/>
                <a:chExt cx="1545840" cy="929880"/>
              </a:xfrm>
            </p:grpSpPr>
            <p:sp>
              <p:nvSpPr>
                <p:cNvPr id="596" name=""/>
                <p:cNvSpPr/>
                <p:nvPr/>
              </p:nvSpPr>
              <p:spPr>
                <a:xfrm>
                  <a:off x="1436400" y="4532760"/>
                  <a:ext cx="1427760" cy="92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n-SOV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1377720" y="4532760"/>
                  <a:ext cx="1545840" cy="92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8" name=""/>
              <p:cNvGrpSpPr/>
              <p:nvPr/>
            </p:nvGrpSpPr>
            <p:grpSpPr>
              <a:xfrm>
                <a:off x="2923920" y="4532760"/>
                <a:ext cx="1638720" cy="929880"/>
                <a:chOff x="2923920" y="4532760"/>
                <a:chExt cx="1638720" cy="929880"/>
              </a:xfrm>
            </p:grpSpPr>
            <p:sp>
              <p:nvSpPr>
                <p:cNvPr id="599" name=""/>
                <p:cNvSpPr/>
                <p:nvPr/>
              </p:nvSpPr>
              <p:spPr>
                <a:xfrm>
                  <a:off x="2982600" y="4532760"/>
                  <a:ext cx="1520640" cy="92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3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2923920" y="4532760"/>
                  <a:ext cx="1638720" cy="92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1" name=""/>
              <p:cNvGrpSpPr/>
              <p:nvPr/>
            </p:nvGrpSpPr>
            <p:grpSpPr>
              <a:xfrm>
                <a:off x="4563360" y="4532760"/>
                <a:ext cx="1638720" cy="929880"/>
                <a:chOff x="4563360" y="4532760"/>
                <a:chExt cx="1638720" cy="929880"/>
              </a:xfrm>
            </p:grpSpPr>
            <p:sp>
              <p:nvSpPr>
                <p:cNvPr id="602" name=""/>
                <p:cNvSpPr/>
                <p:nvPr/>
              </p:nvSpPr>
              <p:spPr>
                <a:xfrm>
                  <a:off x="4622040" y="4532760"/>
                  <a:ext cx="1520640" cy="92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4563360" y="4532760"/>
                  <a:ext cx="1638720" cy="92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4" name=""/>
              <p:cNvGrpSpPr/>
              <p:nvPr/>
            </p:nvGrpSpPr>
            <p:grpSpPr>
              <a:xfrm>
                <a:off x="6202440" y="4532760"/>
                <a:ext cx="1638720" cy="929880"/>
                <a:chOff x="6202440" y="4532760"/>
                <a:chExt cx="1638720" cy="929880"/>
              </a:xfrm>
            </p:grpSpPr>
            <p:sp>
              <p:nvSpPr>
                <p:cNvPr id="605" name=""/>
                <p:cNvSpPr/>
                <p:nvPr/>
              </p:nvSpPr>
              <p:spPr>
                <a:xfrm>
                  <a:off x="6261120" y="4532760"/>
                  <a:ext cx="1520640" cy="92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95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6202440" y="4532760"/>
                  <a:ext cx="1638720" cy="92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7" name=""/>
              <p:cNvGrpSpPr/>
              <p:nvPr/>
            </p:nvGrpSpPr>
            <p:grpSpPr>
              <a:xfrm>
                <a:off x="1377720" y="5463000"/>
                <a:ext cx="1545840" cy="929160"/>
                <a:chOff x="1377720" y="5463000"/>
                <a:chExt cx="1545840" cy="929160"/>
              </a:xfrm>
            </p:grpSpPr>
            <p:sp>
              <p:nvSpPr>
                <p:cNvPr id="608" name=""/>
                <p:cNvSpPr/>
                <p:nvPr/>
              </p:nvSpPr>
              <p:spPr>
                <a:xfrm>
                  <a:off x="1436400" y="5463000"/>
                  <a:ext cx="142776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otal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1377720" y="5463000"/>
                  <a:ext cx="154584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0" name=""/>
              <p:cNvGrpSpPr/>
              <p:nvPr/>
            </p:nvGrpSpPr>
            <p:grpSpPr>
              <a:xfrm>
                <a:off x="2923920" y="5463000"/>
                <a:ext cx="1638720" cy="929160"/>
                <a:chOff x="2923920" y="5463000"/>
                <a:chExt cx="1638720" cy="929160"/>
              </a:xfrm>
            </p:grpSpPr>
            <p:sp>
              <p:nvSpPr>
                <p:cNvPr id="611" name=""/>
                <p:cNvSpPr/>
                <p:nvPr/>
              </p:nvSpPr>
              <p:spPr>
                <a:xfrm>
                  <a:off x="2982600" y="5463000"/>
                  <a:ext cx="152064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3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2923920" y="5463000"/>
                  <a:ext cx="163872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3" name=""/>
              <p:cNvGrpSpPr/>
              <p:nvPr/>
            </p:nvGrpSpPr>
            <p:grpSpPr>
              <a:xfrm>
                <a:off x="4563360" y="5463000"/>
                <a:ext cx="1638720" cy="929160"/>
                <a:chOff x="4563360" y="5463000"/>
                <a:chExt cx="1638720" cy="929160"/>
              </a:xfrm>
            </p:grpSpPr>
            <p:sp>
              <p:nvSpPr>
                <p:cNvPr id="614" name=""/>
                <p:cNvSpPr/>
                <p:nvPr/>
              </p:nvSpPr>
              <p:spPr>
                <a:xfrm>
                  <a:off x="4622040" y="5463000"/>
                  <a:ext cx="152064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7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4563360" y="5463000"/>
                  <a:ext cx="163872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6" name=""/>
              <p:cNvGrpSpPr/>
              <p:nvPr/>
            </p:nvGrpSpPr>
            <p:grpSpPr>
              <a:xfrm>
                <a:off x="6202440" y="5463000"/>
                <a:ext cx="1638720" cy="929160"/>
                <a:chOff x="6202440" y="5463000"/>
                <a:chExt cx="1638720" cy="929160"/>
              </a:xfrm>
            </p:grpSpPr>
            <p:sp>
              <p:nvSpPr>
                <p:cNvPr id="617" name=""/>
                <p:cNvSpPr/>
                <p:nvPr/>
              </p:nvSpPr>
              <p:spPr>
                <a:xfrm>
                  <a:off x="6261120" y="5463000"/>
                  <a:ext cx="152064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1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6202440" y="5463000"/>
                  <a:ext cx="163872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19" name=""/>
            <p:cNvSpPr/>
            <p:nvPr/>
          </p:nvSpPr>
          <p:spPr>
            <a:xfrm>
              <a:off x="1371600" y="2666880"/>
              <a:ext cx="6476760" cy="37335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3240" y="471168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24760" y="2057400"/>
            <a:ext cx="389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ahoma"/>
              </a:rPr>
              <a:t>Universal U4 (statis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04920" y="3733920"/>
            <a:ext cx="914400" cy="609480"/>
          </a:xfrm>
          <a:prstGeom prst="rightArrow">
            <a:avLst>
              <a:gd name="adj1" fmla="val 50000"/>
              <a:gd name="adj2" fmla="val 3750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ED60-D7C2-4469-93BE-345FCEDE78E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erence of univers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4" name=""/>
          <p:cNvSpPr/>
          <p:nvPr/>
        </p:nvSpPr>
        <p:spPr>
          <a:xfrm>
            <a:off x="3240" y="132552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1371600" y="2666880"/>
            <a:ext cx="6476760" cy="3733560"/>
            <a:chOff x="1371600" y="2666880"/>
            <a:chExt cx="6476760" cy="3733560"/>
          </a:xfrm>
        </p:grpSpPr>
        <p:grpSp>
          <p:nvGrpSpPr>
            <p:cNvPr id="626" name=""/>
            <p:cNvGrpSpPr/>
            <p:nvPr/>
          </p:nvGrpSpPr>
          <p:grpSpPr>
            <a:xfrm>
              <a:off x="1377720" y="2673360"/>
              <a:ext cx="6463440" cy="3718800"/>
              <a:chOff x="1377720" y="2673360"/>
              <a:chExt cx="6463440" cy="3718800"/>
            </a:xfrm>
          </p:grpSpPr>
          <p:grpSp>
            <p:nvGrpSpPr>
              <p:cNvPr id="627" name=""/>
              <p:cNvGrpSpPr/>
              <p:nvPr/>
            </p:nvGrpSpPr>
            <p:grpSpPr>
              <a:xfrm>
                <a:off x="1377720" y="2673360"/>
                <a:ext cx="1545840" cy="929160"/>
                <a:chOff x="1377720" y="2673360"/>
                <a:chExt cx="1545840" cy="929160"/>
              </a:xfrm>
            </p:grpSpPr>
            <p:sp>
              <p:nvSpPr>
                <p:cNvPr id="628" name=""/>
                <p:cNvSpPr/>
                <p:nvPr/>
              </p:nvSpPr>
              <p:spPr>
                <a:xfrm>
                  <a:off x="1436400" y="2673360"/>
                  <a:ext cx="142776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1377720" y="2673360"/>
                  <a:ext cx="154584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0" name=""/>
              <p:cNvGrpSpPr/>
              <p:nvPr/>
            </p:nvGrpSpPr>
            <p:grpSpPr>
              <a:xfrm>
                <a:off x="2923920" y="2673360"/>
                <a:ext cx="1638720" cy="929160"/>
                <a:chOff x="2923920" y="2673360"/>
                <a:chExt cx="1638720" cy="929160"/>
              </a:xfrm>
            </p:grpSpPr>
            <p:sp>
              <p:nvSpPr>
                <p:cNvPr id="631" name=""/>
                <p:cNvSpPr/>
                <p:nvPr/>
              </p:nvSpPr>
              <p:spPr>
                <a:xfrm>
                  <a:off x="2982600" y="2673360"/>
                  <a:ext cx="152064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00cc00"/>
                      </a:solidFill>
                      <a:latin typeface="Times New Roman"/>
                      <a:ea typeface="Times New Roman"/>
                    </a:rPr>
                    <a:t>Post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2923920" y="2673360"/>
                  <a:ext cx="163872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4563360" y="2673360"/>
                <a:ext cx="1638720" cy="929160"/>
                <a:chOff x="4563360" y="2673360"/>
                <a:chExt cx="1638720" cy="92916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4622040" y="2673360"/>
                  <a:ext cx="152064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Non-Post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4563360" y="2673360"/>
                  <a:ext cx="163872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6" name=""/>
              <p:cNvGrpSpPr/>
              <p:nvPr/>
            </p:nvGrpSpPr>
            <p:grpSpPr>
              <a:xfrm>
                <a:off x="6202440" y="2673360"/>
                <a:ext cx="1638720" cy="929160"/>
                <a:chOff x="6202440" y="2673360"/>
                <a:chExt cx="1638720" cy="929160"/>
              </a:xfrm>
            </p:grpSpPr>
            <p:sp>
              <p:nvSpPr>
                <p:cNvPr id="637" name=""/>
                <p:cNvSpPr/>
                <p:nvPr/>
              </p:nvSpPr>
              <p:spPr>
                <a:xfrm>
                  <a:off x="6261120" y="2673360"/>
                  <a:ext cx="152064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otal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6202440" y="2673360"/>
                  <a:ext cx="163872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9" name=""/>
              <p:cNvGrpSpPr/>
              <p:nvPr/>
            </p:nvGrpSpPr>
            <p:grpSpPr>
              <a:xfrm>
                <a:off x="1377720" y="3602880"/>
                <a:ext cx="1545840" cy="929160"/>
                <a:chOff x="1377720" y="3602880"/>
                <a:chExt cx="1545840" cy="929160"/>
              </a:xfrm>
            </p:grpSpPr>
            <p:sp>
              <p:nvSpPr>
                <p:cNvPr id="640" name=""/>
                <p:cNvSpPr/>
                <p:nvPr/>
              </p:nvSpPr>
              <p:spPr>
                <a:xfrm>
                  <a:off x="1436400" y="3602880"/>
                  <a:ext cx="142776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28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SOV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1377720" y="3602880"/>
                  <a:ext cx="154584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2" name=""/>
              <p:cNvGrpSpPr/>
              <p:nvPr/>
            </p:nvGrpSpPr>
            <p:grpSpPr>
              <a:xfrm>
                <a:off x="2923920" y="3602880"/>
                <a:ext cx="1638720" cy="929160"/>
                <a:chOff x="2923920" y="3602880"/>
                <a:chExt cx="1638720" cy="929160"/>
              </a:xfrm>
            </p:grpSpPr>
            <p:sp>
              <p:nvSpPr>
                <p:cNvPr id="643" name=""/>
                <p:cNvSpPr/>
                <p:nvPr/>
              </p:nvSpPr>
              <p:spPr>
                <a:xfrm>
                  <a:off x="2982600" y="3602880"/>
                  <a:ext cx="152064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2800" spc="-1" strike="noStrike">
                      <a:solidFill>
                        <a:srgbClr val="00cc00"/>
                      </a:solidFill>
                      <a:latin typeface="Times New Roman"/>
                      <a:ea typeface="Times New Roman"/>
                    </a:rPr>
                    <a:t>21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2923920" y="3602880"/>
                  <a:ext cx="163872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5" name=""/>
              <p:cNvGrpSpPr/>
              <p:nvPr/>
            </p:nvGrpSpPr>
            <p:grpSpPr>
              <a:xfrm>
                <a:off x="4563360" y="3602880"/>
                <a:ext cx="1638720" cy="929160"/>
                <a:chOff x="4563360" y="3602880"/>
                <a:chExt cx="1638720" cy="929160"/>
              </a:xfrm>
            </p:grpSpPr>
            <p:sp>
              <p:nvSpPr>
                <p:cNvPr id="646" name=""/>
                <p:cNvSpPr/>
                <p:nvPr/>
              </p:nvSpPr>
              <p:spPr>
                <a:xfrm>
                  <a:off x="4622040" y="3602880"/>
                  <a:ext cx="152064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28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4563360" y="3602880"/>
                  <a:ext cx="163872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8" name=""/>
              <p:cNvGrpSpPr/>
              <p:nvPr/>
            </p:nvGrpSpPr>
            <p:grpSpPr>
              <a:xfrm>
                <a:off x="6202440" y="3602880"/>
                <a:ext cx="1638720" cy="929160"/>
                <a:chOff x="6202440" y="3602880"/>
                <a:chExt cx="1638720" cy="929160"/>
              </a:xfrm>
            </p:grpSpPr>
            <p:sp>
              <p:nvSpPr>
                <p:cNvPr id="649" name=""/>
                <p:cNvSpPr/>
                <p:nvPr/>
              </p:nvSpPr>
              <p:spPr>
                <a:xfrm>
                  <a:off x="6261120" y="3602880"/>
                  <a:ext cx="152064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5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6202440" y="3602880"/>
                  <a:ext cx="163872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1" name=""/>
              <p:cNvGrpSpPr/>
              <p:nvPr/>
            </p:nvGrpSpPr>
            <p:grpSpPr>
              <a:xfrm>
                <a:off x="1377720" y="4532760"/>
                <a:ext cx="1545840" cy="929880"/>
                <a:chOff x="1377720" y="4532760"/>
                <a:chExt cx="1545840" cy="929880"/>
              </a:xfrm>
            </p:grpSpPr>
            <p:sp>
              <p:nvSpPr>
                <p:cNvPr id="652" name=""/>
                <p:cNvSpPr/>
                <p:nvPr/>
              </p:nvSpPr>
              <p:spPr>
                <a:xfrm>
                  <a:off x="1436400" y="4532760"/>
                  <a:ext cx="1427760" cy="92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n-SOV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1377720" y="4532760"/>
                  <a:ext cx="1545840" cy="92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4" name=""/>
              <p:cNvGrpSpPr/>
              <p:nvPr/>
            </p:nvGrpSpPr>
            <p:grpSpPr>
              <a:xfrm>
                <a:off x="2923920" y="4532760"/>
                <a:ext cx="1638720" cy="929880"/>
                <a:chOff x="2923920" y="4532760"/>
                <a:chExt cx="1638720" cy="929880"/>
              </a:xfrm>
            </p:grpSpPr>
            <p:sp>
              <p:nvSpPr>
                <p:cNvPr id="655" name=""/>
                <p:cNvSpPr/>
                <p:nvPr/>
              </p:nvSpPr>
              <p:spPr>
                <a:xfrm>
                  <a:off x="2982600" y="4532760"/>
                  <a:ext cx="1520640" cy="92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3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2923920" y="4532760"/>
                  <a:ext cx="1638720" cy="92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7" name=""/>
              <p:cNvGrpSpPr/>
              <p:nvPr/>
            </p:nvGrpSpPr>
            <p:grpSpPr>
              <a:xfrm>
                <a:off x="4563360" y="4532760"/>
                <a:ext cx="1638720" cy="929880"/>
                <a:chOff x="4563360" y="4532760"/>
                <a:chExt cx="1638720" cy="929880"/>
              </a:xfrm>
            </p:grpSpPr>
            <p:sp>
              <p:nvSpPr>
                <p:cNvPr id="658" name=""/>
                <p:cNvSpPr/>
                <p:nvPr/>
              </p:nvSpPr>
              <p:spPr>
                <a:xfrm>
                  <a:off x="4622040" y="4532760"/>
                  <a:ext cx="1520640" cy="92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4563360" y="4532760"/>
                  <a:ext cx="1638720" cy="92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0" name=""/>
              <p:cNvGrpSpPr/>
              <p:nvPr/>
            </p:nvGrpSpPr>
            <p:grpSpPr>
              <a:xfrm>
                <a:off x="6202440" y="4532760"/>
                <a:ext cx="1638720" cy="929880"/>
                <a:chOff x="6202440" y="4532760"/>
                <a:chExt cx="1638720" cy="929880"/>
              </a:xfrm>
            </p:grpSpPr>
            <p:sp>
              <p:nvSpPr>
                <p:cNvPr id="661" name=""/>
                <p:cNvSpPr/>
                <p:nvPr/>
              </p:nvSpPr>
              <p:spPr>
                <a:xfrm>
                  <a:off x="6261120" y="4532760"/>
                  <a:ext cx="1520640" cy="92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95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6202440" y="4532760"/>
                  <a:ext cx="1638720" cy="92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3" name=""/>
              <p:cNvGrpSpPr/>
              <p:nvPr/>
            </p:nvGrpSpPr>
            <p:grpSpPr>
              <a:xfrm>
                <a:off x="1377720" y="5463000"/>
                <a:ext cx="1545840" cy="929160"/>
                <a:chOff x="1377720" y="5463000"/>
                <a:chExt cx="1545840" cy="929160"/>
              </a:xfrm>
            </p:grpSpPr>
            <p:sp>
              <p:nvSpPr>
                <p:cNvPr id="664" name=""/>
                <p:cNvSpPr/>
                <p:nvPr/>
              </p:nvSpPr>
              <p:spPr>
                <a:xfrm>
                  <a:off x="1436400" y="5463000"/>
                  <a:ext cx="142776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otal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1377720" y="5463000"/>
                  <a:ext cx="154584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6" name=""/>
              <p:cNvGrpSpPr/>
              <p:nvPr/>
            </p:nvGrpSpPr>
            <p:grpSpPr>
              <a:xfrm>
                <a:off x="2923920" y="5463000"/>
                <a:ext cx="1638720" cy="929160"/>
                <a:chOff x="2923920" y="5463000"/>
                <a:chExt cx="1638720" cy="929160"/>
              </a:xfrm>
            </p:grpSpPr>
            <p:sp>
              <p:nvSpPr>
                <p:cNvPr id="667" name=""/>
                <p:cNvSpPr/>
                <p:nvPr/>
              </p:nvSpPr>
              <p:spPr>
                <a:xfrm>
                  <a:off x="2982600" y="5463000"/>
                  <a:ext cx="152064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3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2923920" y="5463000"/>
                  <a:ext cx="163872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9" name=""/>
              <p:cNvGrpSpPr/>
              <p:nvPr/>
            </p:nvGrpSpPr>
            <p:grpSpPr>
              <a:xfrm>
                <a:off x="4563360" y="5463000"/>
                <a:ext cx="1638720" cy="929160"/>
                <a:chOff x="4563360" y="5463000"/>
                <a:chExt cx="1638720" cy="929160"/>
              </a:xfrm>
            </p:grpSpPr>
            <p:sp>
              <p:nvSpPr>
                <p:cNvPr id="670" name=""/>
                <p:cNvSpPr/>
                <p:nvPr/>
              </p:nvSpPr>
              <p:spPr>
                <a:xfrm>
                  <a:off x="4622040" y="5463000"/>
                  <a:ext cx="152064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7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4563360" y="5463000"/>
                  <a:ext cx="163872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2" name=""/>
              <p:cNvGrpSpPr/>
              <p:nvPr/>
            </p:nvGrpSpPr>
            <p:grpSpPr>
              <a:xfrm>
                <a:off x="6202440" y="5463000"/>
                <a:ext cx="1638720" cy="929160"/>
                <a:chOff x="6202440" y="5463000"/>
                <a:chExt cx="1638720" cy="929160"/>
              </a:xfrm>
            </p:grpSpPr>
            <p:sp>
              <p:nvSpPr>
                <p:cNvPr id="673" name=""/>
                <p:cNvSpPr/>
                <p:nvPr/>
              </p:nvSpPr>
              <p:spPr>
                <a:xfrm>
                  <a:off x="6261120" y="5463000"/>
                  <a:ext cx="1520640" cy="9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1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6202440" y="5463000"/>
                  <a:ext cx="1638720" cy="92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75" name=""/>
            <p:cNvSpPr/>
            <p:nvPr/>
          </p:nvSpPr>
          <p:spPr>
            <a:xfrm>
              <a:off x="1371600" y="2666880"/>
              <a:ext cx="6476760" cy="37335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6" name=""/>
          <p:cNvSpPr/>
          <p:nvPr/>
        </p:nvSpPr>
        <p:spPr>
          <a:xfrm>
            <a:off x="3240" y="471168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624760" y="2057400"/>
            <a:ext cx="389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ahoma"/>
              </a:rPr>
              <a:t>Universal U4 (statis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04920" y="3733920"/>
            <a:ext cx="914400" cy="609480"/>
          </a:xfrm>
          <a:prstGeom prst="rightArrow">
            <a:avLst>
              <a:gd name="adj1" fmla="val 50000"/>
              <a:gd name="adj2" fmla="val 3750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495680" y="36576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878880" y="1752480"/>
            <a:ext cx="20203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Fisher ex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hi squ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V="1">
            <a:off x="5105520" y="2361960"/>
            <a:ext cx="1752480" cy="1447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3492000" y="4076640"/>
            <a:ext cx="1008360" cy="1440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003640" y="4076640"/>
            <a:ext cx="50508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3CBB-D55B-48D8-A0FA-892275B2988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erence of univers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5" name=""/>
          <p:cNvSpPr/>
          <p:nvPr/>
        </p:nvSpPr>
        <p:spPr>
          <a:xfrm>
            <a:off x="1371600" y="2895480"/>
            <a:ext cx="1523880" cy="838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572000" y="2209680"/>
            <a:ext cx="3124080" cy="22100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895480" y="327672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1294920" y="3733920"/>
            <a:ext cx="76212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33520" y="4952880"/>
            <a:ext cx="1523880" cy="838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PS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666880" y="4800600"/>
            <a:ext cx="1905120" cy="1676520"/>
          </a:xfrm>
          <a:prstGeom prst="flowChartDocumen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ro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tab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057400" y="5410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429880" y="5129280"/>
            <a:ext cx="2716560" cy="947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ahoma"/>
              </a:rPr>
              <a:t>BUT: &lt; 1%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ahoma"/>
              </a:rPr>
              <a:t>tables relev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CDC4-1C5A-411E-8A55-EBBAA18172F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erence of univers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4" name=""/>
          <p:cNvSpPr/>
          <p:nvPr/>
        </p:nvSpPr>
        <p:spPr>
          <a:xfrm>
            <a:off x="1371600" y="2895480"/>
            <a:ext cx="1523880" cy="838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572000" y="2209680"/>
            <a:ext cx="3124080" cy="22100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895480" y="327672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1294920" y="3733920"/>
            <a:ext cx="76212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33520" y="4952880"/>
            <a:ext cx="1523880" cy="838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IN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666880" y="4800600"/>
            <a:ext cx="1905120" cy="1676520"/>
          </a:xfrm>
          <a:prstGeom prst="flowChartDocumen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h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ccep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057400" y="5410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C042-CC20-4955-BD7E-FFC7B16F29EB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erence of univers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2" name=""/>
          <p:cNvSpPr/>
          <p:nvPr/>
        </p:nvSpPr>
        <p:spPr>
          <a:xfrm>
            <a:off x="1371600" y="2895480"/>
            <a:ext cx="1523880" cy="838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572000" y="2209680"/>
            <a:ext cx="3124080" cy="22100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95480" y="327672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H="1">
            <a:off x="1294920" y="3733920"/>
            <a:ext cx="76212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33520" y="4952880"/>
            <a:ext cx="1523880" cy="838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IN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514600" y="4800600"/>
            <a:ext cx="1676520" cy="10666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H="1">
            <a:off x="3886200" y="403848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57400" y="5334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E0ED-8B3B-4A31-8CC3-C6376D4CCD5E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erence of univers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1662120" y="2133720"/>
            <a:ext cx="63792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3867-E050-4D47-8176-2AD2BDD8737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erence of univers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1" name=""/>
          <p:cNvSpPr/>
          <p:nvPr/>
        </p:nvSpPr>
        <p:spPr>
          <a:xfrm>
            <a:off x="1254240" y="2289240"/>
            <a:ext cx="269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WALS – datab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1FBC-12E9-42BC-802F-58C6337D3E4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erence of univers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3" name=""/>
          <p:cNvSpPr/>
          <p:nvPr/>
        </p:nvSpPr>
        <p:spPr>
          <a:xfrm>
            <a:off x="1251720" y="2289240"/>
            <a:ext cx="669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WALS – datab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Variables: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139 (Phon; Morph; Synt; Lex;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C34E-0FB6-4DD6-A263-D1A4F8F8B5CC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erence of univers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5" name=""/>
          <p:cNvSpPr/>
          <p:nvPr/>
        </p:nvSpPr>
        <p:spPr>
          <a:xfrm>
            <a:off x="1251720" y="2289240"/>
            <a:ext cx="6692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WALS – datab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Variables: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139 (Phon; Morph; Synt; Lex;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25  autho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BIC(k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COR(be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DRY(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GIL()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HAS(pelma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SIE(wierska)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B51E-406C-41DB-9190-A9FC1CF2586E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erence of univers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7" name=""/>
          <p:cNvSpPr/>
          <p:nvPr/>
        </p:nvSpPr>
        <p:spPr>
          <a:xfrm>
            <a:off x="1251720" y="2289240"/>
            <a:ext cx="6692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WALS – datab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Variables: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139 (Phon; Morph; Synt; Lex;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25  autho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BIC(kel)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+ F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COR(bet)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+ SE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DRY(er)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+ CO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GIL()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+ T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HAS(pelmath)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+ N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SIE(wierska)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+ 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6072-F07B-4FD6-A075-48EF0D8BBC0E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erence of univers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9" name=""/>
          <p:cNvSpPr/>
          <p:nvPr/>
        </p:nvSpPr>
        <p:spPr>
          <a:xfrm>
            <a:off x="1251720" y="2289240"/>
            <a:ext cx="6692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WALS – datab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Variables: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139 (Phon; Morph; Synt; Lex;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Values: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2 to 9 (mean 4.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6C1C-619C-442D-B9FC-9B49E542C3F8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erence of univers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1" name=""/>
          <p:cNvSpPr/>
          <p:nvPr/>
        </p:nvSpPr>
        <p:spPr>
          <a:xfrm>
            <a:off x="1251720" y="2289240"/>
            <a:ext cx="6692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WALS – datab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Variables: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139 (Phon; Morph; Synt; Lex;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2 to 9 (mean 4.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Languages: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25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46B8-7FD3-4B8A-9150-B7DD5D55E75A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erence of univers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3" name=""/>
          <p:cNvSpPr/>
          <p:nvPr/>
        </p:nvSpPr>
        <p:spPr>
          <a:xfrm>
            <a:off x="1252800" y="2289240"/>
            <a:ext cx="6733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WALS – datab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Variables: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139 (Phon; Morph; Synt; Lex;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2 to 9 (mean 4.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anguages: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25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But: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85% empty cells (sparse matrix)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- 417 lgs/var (min 116; max 134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- 23 vars/lgs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3E69-5493-450E-9424-08BC708B268D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4" name=""/>
          <p:cNvGraphicFramePr/>
          <p:nvPr/>
        </p:nvGraphicFramePr>
        <p:xfrm>
          <a:off x="1763640" y="907920"/>
          <a:ext cx="6129000" cy="5146560"/>
        </p:xfrm>
        <a:graphic>
          <a:graphicData uri="http://schemas.openxmlformats.org/drawingml/2006/table">
            <a:tbl>
              <a:tblPr/>
              <a:tblGrid>
                <a:gridCol w="767520"/>
                <a:gridCol w="762840"/>
                <a:gridCol w="768240"/>
                <a:gridCol w="765360"/>
                <a:gridCol w="766080"/>
                <a:gridCol w="768240"/>
                <a:gridCol w="762480"/>
                <a:gridCol w="768240"/>
              </a:tblGrid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2563-25D0-4588-A2B2-77678A8157D9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erence of univers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6" name=""/>
          <p:cNvSpPr/>
          <p:nvPr/>
        </p:nvSpPr>
        <p:spPr>
          <a:xfrm>
            <a:off x="1252800" y="2289240"/>
            <a:ext cx="6733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WALS – datab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Variables: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139 (Phon; Morph; Synt; Lex;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2 to 9 (mean 4.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anguages: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25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ut: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85% empty cells (sparse matrix)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- 417 lgs/var (min 116; max 134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- 23 vars/lg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Still: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58,000 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B785-AAEE-44C5-90C4-F2FDF7AD2E94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F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8" name=""/>
          <p:cNvSpPr/>
          <p:nvPr/>
        </p:nvSpPr>
        <p:spPr>
          <a:xfrm>
            <a:off x="1237320" y="2289240"/>
            <a:ext cx="24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LINFER metho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CBAC-6068-4E7A-B6A6-520362961416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erence of univers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1355760" y="2395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62120" y="2133720"/>
            <a:ext cx="63792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43040" y="2471760"/>
            <a:ext cx="808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Greenberg (1963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1.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In declarative sentences with nominal su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and object, the dominant order is almost alw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one in which the subject precedes the o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AA31-74F8-4137-A8EB-7D54B60B3D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F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0" name=""/>
          <p:cNvSpPr/>
          <p:nvPr/>
        </p:nvSpPr>
        <p:spPr>
          <a:xfrm>
            <a:off x="1199160" y="2289240"/>
            <a:ext cx="275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LINFER metho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Generate and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4D0B-BE78-4EC2-A9A0-2F680903FA25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F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2" name=""/>
          <p:cNvSpPr/>
          <p:nvPr/>
        </p:nvSpPr>
        <p:spPr>
          <a:xfrm>
            <a:off x="1327680" y="2289240"/>
            <a:ext cx="2875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LINFER metho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enerate and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V1=v1.1 </a:t>
            </a:r>
            <a:r>
              <a:rPr b="0" lang="en-GB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 V2=v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B40C-D8DF-4BB7-A13A-267B3515D108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F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4" name=""/>
          <p:cNvSpPr/>
          <p:nvPr/>
        </p:nvSpPr>
        <p:spPr>
          <a:xfrm>
            <a:off x="1410480" y="2289240"/>
            <a:ext cx="6919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LINFER metho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enerate and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V1=v1.1 </a:t>
            </a:r>
            <a:r>
              <a:rPr b="0" lang="en-GB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 V2=v2.1 (e.g. BICFUS=1 </a:t>
            </a:r>
            <a:r>
              <a:rPr b="0" lang="en-GB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 SIEALI=1)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9D00-5925-4E7E-B734-CF9EAF1C228C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F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6" name=""/>
          <p:cNvSpPr/>
          <p:nvPr/>
        </p:nvSpPr>
        <p:spPr>
          <a:xfrm>
            <a:off x="1247040" y="2289240"/>
            <a:ext cx="7151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LINFER metho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enerate and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V1=v1.1 </a:t>
            </a:r>
            <a:r>
              <a:rPr b="0" lang="en-GB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 V2=v2.1 (e.g. BICFUS=1 </a:t>
            </a:r>
            <a:r>
              <a:rPr b="0" lang="en-GB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 SIEALI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Test distribution (5% / 1% / 0.5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BE52-FA54-4938-9996-725ECB27D236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F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8" name=""/>
          <p:cNvSpPr/>
          <p:nvPr/>
        </p:nvSpPr>
        <p:spPr>
          <a:xfrm>
            <a:off x="1335600" y="2289240"/>
            <a:ext cx="2954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LINFER metho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enerate and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V1=v1.1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V2=v2.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V1=v1.1 </a:t>
            </a:r>
            <a:r>
              <a:rPr b="0" lang="en-GB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 V2=v2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8563-AF66-4DE6-B532-9F133A31112B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F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0" name=""/>
          <p:cNvSpPr/>
          <p:nvPr/>
        </p:nvSpPr>
        <p:spPr>
          <a:xfrm>
            <a:off x="1307520" y="2289240"/>
            <a:ext cx="4344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LINFER metho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enerate and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V1=v1.1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V2=v2.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V1=v1.1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V2=v2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V138=v138.9 </a:t>
            </a:r>
            <a:r>
              <a:rPr b="0" lang="en-GB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 V139=v139.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5D20-5C51-49C5-9748-F7538430E032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F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2" name=""/>
          <p:cNvSpPr/>
          <p:nvPr/>
        </p:nvSpPr>
        <p:spPr>
          <a:xfrm>
            <a:off x="1299600" y="2289240"/>
            <a:ext cx="4264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LINFER metho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enerate and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V1=v1.1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V2=v2.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V1=v1.1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V2=v2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V138=v138.9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V139=v13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TOTAL pairs in WALS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0770-EB55-44AA-A496-A7330F1BFD52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F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4" name=""/>
          <p:cNvSpPr/>
          <p:nvPr/>
        </p:nvSpPr>
        <p:spPr>
          <a:xfrm>
            <a:off x="1344960" y="2289240"/>
            <a:ext cx="5882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LINFER metho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enerate and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V1=v1.1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V2=v2.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V1=v1.1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V2=v2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V138=v138.9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V139=v13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TOTAL pairs in WALS: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413,8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71AF-F025-449A-9809-374A5919590E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F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6" name=""/>
          <p:cNvSpPr/>
          <p:nvPr/>
        </p:nvSpPr>
        <p:spPr>
          <a:xfrm>
            <a:off x="745560" y="2200320"/>
            <a:ext cx="4569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urier New"/>
              </a:rPr>
              <a:t>First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 r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ll language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5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ll variable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3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Applicability: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1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verage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levance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gation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FE/Chi Square: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1.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B617-A196-46D5-94A4-08FDFA5CF8DA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F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8" name=""/>
          <p:cNvSpPr/>
          <p:nvPr/>
        </p:nvSpPr>
        <p:spPr>
          <a:xfrm>
            <a:off x="288000" y="2200320"/>
            <a:ext cx="8776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urier New"/>
              </a:rPr>
              <a:t>First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 run: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	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urier New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otential implication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138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ccepted implication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13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quivalence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1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bsolute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12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atistical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9520-2995-423B-B482-5D7EE0857E67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erence of univers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1355760" y="2395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62120" y="2133720"/>
            <a:ext cx="63792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3040" y="2471760"/>
            <a:ext cx="8081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Greenberg (1963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1.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In declarative sentences with nominal su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and object, the dominant order is almost alw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one in which the subject precedes the o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3.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Languages with dominant VSO order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always preposit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1ABD-5180-4BDB-BB65-F226BC0F913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F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"/>
          <p:cNvSpPr/>
          <p:nvPr/>
        </p:nvSpPr>
        <p:spPr>
          <a:xfrm>
            <a:off x="288000" y="2200320"/>
            <a:ext cx="877608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urier New"/>
              </a:rPr>
              <a:t>First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 run: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	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urier New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Potential implications: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4138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Accepted implications: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    </a:t>
            </a:r>
            <a:r>
              <a:rPr b="1" lang="en-US" sz="4000" spc="-1" strike="noStrike">
                <a:solidFill>
                  <a:srgbClr val="ff0000"/>
                </a:solidFill>
                <a:latin typeface="Courier New"/>
              </a:rPr>
              <a:t>138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Equivalence: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  1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Absolute: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 12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Statistical: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877080" y="3284640"/>
            <a:ext cx="2087640" cy="792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H="1">
            <a:off x="6372360" y="3933720"/>
            <a:ext cx="7207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H="1">
            <a:off x="6012000" y="3645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H="1" flipV="1">
            <a:off x="6659640" y="299700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7093080" y="4076640"/>
            <a:ext cx="35856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956720" y="4076640"/>
            <a:ext cx="21564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8604360" y="3933720"/>
            <a:ext cx="53964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8604360" y="306828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7885080" y="2781360"/>
            <a:ext cx="7164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11F4-4D21-4FA8-A3E7-5B878E474DB4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F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1" name=""/>
          <p:cNvSpPr/>
          <p:nvPr/>
        </p:nvSpPr>
        <p:spPr>
          <a:xfrm>
            <a:off x="522000" y="2678040"/>
            <a:ext cx="79988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1. CORSEX=1 &lt;=&gt; CORNUM=1    n=14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0.56 [3] - 0.56 [5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[Fr=0.563, Fa=1.000, Fc=1.000, Fn=1.000, chi2&lt;0.5%] EQU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Sex-based and Non-sex-based Gender Syste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No gender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&lt;=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Number of Gender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944E-CD6C-4691-8762-3EF69DAD7978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F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3" name=""/>
          <p:cNvSpPr/>
          <p:nvPr/>
        </p:nvSpPr>
        <p:spPr>
          <a:xfrm>
            <a:off x="522000" y="2678040"/>
            <a:ext cx="79988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1.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CORSEX=1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&lt;=&gt; CORNUM=1    n=14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0.56 [3] - 0.56 [5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[Fr=0.563, Fa=1.000, Fc=1.000, Fn=1.000, chi2&lt;0.5%] EQU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Sex-based and Non-sex-based Gender Syste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No gender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&lt;=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Number of Gender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H="1">
            <a:off x="1258920" y="2997360"/>
            <a:ext cx="504720" cy="115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E88B-45C0-472D-8D86-726D0A71D865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F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6" name=""/>
          <p:cNvSpPr/>
          <p:nvPr/>
        </p:nvSpPr>
        <p:spPr>
          <a:xfrm>
            <a:off x="522000" y="2678040"/>
            <a:ext cx="79988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1.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CORSEX=1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&lt;=&gt; </a:t>
            </a:r>
            <a:r>
              <a:rPr b="1" lang="en-GB" sz="1800" spc="-1" strike="noStrike">
                <a:solidFill>
                  <a:srgbClr val="3333cc"/>
                </a:solidFill>
                <a:latin typeface="Courier New"/>
                <a:ea typeface="MS Mincho"/>
              </a:rPr>
              <a:t>CORNUM=1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n=14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0.56 [3] - 0.56 [5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[Fr=0.563, Fa=1.000, Fc=1.000, Fn=1.000, chi2&lt;0.5%] EQU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Sex-based and Non-sex-based Gender Syste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No gender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&lt;=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Courier New"/>
                <a:ea typeface="MS Mincho"/>
              </a:rPr>
              <a:t>Number of Gender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Courier New"/>
                <a:ea typeface="MS Mincho"/>
              </a:rPr>
              <a:t>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H="1">
            <a:off x="1258920" y="2997360"/>
            <a:ext cx="504720" cy="115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>
            <a:off x="2050920" y="2997360"/>
            <a:ext cx="1368720" cy="194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90B2-C1AC-4833-916F-2DE2445904DC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F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0" name=""/>
          <p:cNvSpPr/>
          <p:nvPr/>
        </p:nvSpPr>
        <p:spPr>
          <a:xfrm>
            <a:off x="522000" y="2678040"/>
            <a:ext cx="79988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1.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CORSEX=1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00cc00"/>
                </a:solidFill>
                <a:latin typeface="Courier New"/>
                <a:ea typeface="MS Mincho"/>
              </a:rPr>
              <a:t>&lt;=&gt;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3333cc"/>
                </a:solidFill>
                <a:latin typeface="Courier New"/>
                <a:ea typeface="MS Mincho"/>
              </a:rPr>
              <a:t>CORNUM=1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n=14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0.56 [3] - 0.56 [5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[Fr=0.563, Fa=1.000, Fc=1.000, Fn=1.000, chi2&lt;0.5%] EQU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Sex-based and Non-sex-based Gender Syste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No gender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GB" sz="1800" spc="-1" strike="noStrike">
                <a:solidFill>
                  <a:srgbClr val="00cc00"/>
                </a:solidFill>
                <a:latin typeface="Courier New"/>
                <a:ea typeface="MS Mincho"/>
              </a:rPr>
              <a:t>&lt;=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Courier New"/>
                <a:ea typeface="MS Mincho"/>
              </a:rPr>
              <a:t>Number of Gender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Courier New"/>
                <a:ea typeface="MS Mincho"/>
              </a:rPr>
              <a:t>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0B05-93A7-4E5A-90DB-F679CC4DF4B8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F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2" name=""/>
          <p:cNvSpPr/>
          <p:nvPr/>
        </p:nvSpPr>
        <p:spPr>
          <a:xfrm>
            <a:off x="522000" y="2611440"/>
            <a:ext cx="7998840" cy="32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1.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CORSEX=1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00cc00"/>
                </a:solidFill>
                <a:latin typeface="Courier New"/>
                <a:ea typeface="MS Mincho"/>
              </a:rPr>
              <a:t>&lt;=&gt;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3333cc"/>
                </a:solidFill>
                <a:latin typeface="Courier New"/>
                <a:ea typeface="MS Mincho"/>
              </a:rPr>
              <a:t>CORNUM=1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1" lang="en-GB" sz="2400" spc="-1" strike="noStrike">
                <a:solidFill>
                  <a:srgbClr val="cc0099"/>
                </a:solidFill>
                <a:latin typeface="Courier New"/>
                <a:ea typeface="MS Mincho"/>
              </a:rPr>
              <a:t>n=144</a:t>
            </a:r>
            <a:r>
              <a:rPr b="1" lang="en-GB" sz="1800" spc="-1" strike="noStrike">
                <a:solidFill>
                  <a:srgbClr val="cc0099"/>
                </a:solidFill>
                <a:latin typeface="Courier New"/>
                <a:ea typeface="MS Minch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0.56 [3] - 0.56 [5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[Fr=0.563, Fa=1.000, Fc=1.000, Fn=1.000, chi2&lt;0.5%] EQU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Sex-based and Non-sex-based Gender Syste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No gender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&lt;=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Number of Gender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F7F9-5985-429B-BFAA-B5A87442C6D0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F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4" name=""/>
          <p:cNvSpPr/>
          <p:nvPr/>
        </p:nvSpPr>
        <p:spPr>
          <a:xfrm>
            <a:off x="523080" y="2611440"/>
            <a:ext cx="8364600" cy="329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1.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CORSEX=1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00cc00"/>
                </a:solidFill>
                <a:latin typeface="Courier New"/>
                <a:ea typeface="MS Mincho"/>
              </a:rPr>
              <a:t>&lt;=&gt;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3333cc"/>
                </a:solidFill>
                <a:latin typeface="Courier New"/>
                <a:ea typeface="MS Mincho"/>
              </a:rPr>
              <a:t>CORNUM=1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1" lang="en-GB" sz="2400" spc="-1" strike="noStrike">
                <a:solidFill>
                  <a:srgbClr val="cc0099"/>
                </a:solidFill>
                <a:latin typeface="Courier New"/>
                <a:ea typeface="MS Mincho"/>
              </a:rPr>
              <a:t>n=144</a:t>
            </a:r>
            <a:r>
              <a:rPr b="1" lang="en-GB" sz="1800" spc="-1" strike="noStrike">
                <a:solidFill>
                  <a:srgbClr val="cc0099"/>
                </a:solidFill>
                <a:latin typeface="Courier New"/>
                <a:ea typeface="MS Minch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0.56 [3] - 0.56 [5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[Fr=0.563, 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MS Mincho"/>
              </a:rPr>
              <a:t>Fa=1.000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, Fc=1.000, Fn=1.000, chi2&lt;0.5%] EQU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Sex-based and Non-sex-based Gender Syste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No gender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&lt;=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Number of Gender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2E9D-AF7D-4A63-BDE3-299F2940E391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F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6" name=""/>
          <p:cNvSpPr/>
          <p:nvPr/>
        </p:nvSpPr>
        <p:spPr>
          <a:xfrm>
            <a:off x="525600" y="2611440"/>
            <a:ext cx="8318880" cy="329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1.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CORSEX=1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00cc00"/>
                </a:solidFill>
                <a:latin typeface="Courier New"/>
                <a:ea typeface="MS Mincho"/>
              </a:rPr>
              <a:t>&lt;=&gt;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3333cc"/>
                </a:solidFill>
                <a:latin typeface="Courier New"/>
                <a:ea typeface="MS Mincho"/>
              </a:rPr>
              <a:t>CORNUM=1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1" lang="en-GB" sz="2400" spc="-1" strike="noStrike">
                <a:solidFill>
                  <a:srgbClr val="cc0099"/>
                </a:solidFill>
                <a:latin typeface="Courier New"/>
                <a:ea typeface="MS Mincho"/>
              </a:rPr>
              <a:t>n=144</a:t>
            </a:r>
            <a:r>
              <a:rPr b="1" lang="en-GB" sz="1800" spc="-1" strike="noStrike">
                <a:solidFill>
                  <a:srgbClr val="cc0099"/>
                </a:solidFill>
                <a:latin typeface="Courier New"/>
                <a:ea typeface="MS Minch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0.56 [3] - 0.56 [5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[Fr=0.563, 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MS Mincho"/>
              </a:rPr>
              <a:t>Fa=1.000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, Fc=1.000, 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MS Mincho"/>
              </a:rPr>
              <a:t>Fn=1.000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, chi2&lt;0.5%] E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Sex-based and Non-sex-based Gender Syste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No gender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&lt;=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Number of Gender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913C-07AD-4DFB-883A-B07A5645BF4E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F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8" name=""/>
          <p:cNvSpPr/>
          <p:nvPr/>
        </p:nvSpPr>
        <p:spPr>
          <a:xfrm>
            <a:off x="525600" y="2611440"/>
            <a:ext cx="8318880" cy="329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1.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CORSEX=1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00cc00"/>
                </a:solidFill>
                <a:latin typeface="Courier New"/>
                <a:ea typeface="MS Mincho"/>
              </a:rPr>
              <a:t>&lt;=&gt;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3333cc"/>
                </a:solidFill>
                <a:latin typeface="Courier New"/>
                <a:ea typeface="MS Mincho"/>
              </a:rPr>
              <a:t>CORNUM=1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1" lang="en-GB" sz="2400" spc="-1" strike="noStrike">
                <a:solidFill>
                  <a:srgbClr val="cc0099"/>
                </a:solidFill>
                <a:latin typeface="Courier New"/>
                <a:ea typeface="MS Mincho"/>
              </a:rPr>
              <a:t>n=144</a:t>
            </a:r>
            <a:r>
              <a:rPr b="1" lang="en-GB" sz="1800" spc="-1" strike="noStrike">
                <a:solidFill>
                  <a:srgbClr val="cc0099"/>
                </a:solidFill>
                <a:latin typeface="Courier New"/>
                <a:ea typeface="MS Minch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0.56 [3] - 0.56 [5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[Fr=0.563, 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MS Mincho"/>
              </a:rPr>
              <a:t>Fa=1.000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, Fc=1.000, 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MS Mincho"/>
              </a:rPr>
              <a:t>Fn=1.000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, chi2&lt;0.5%] E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Sex-based and Non-sex-based Gender Syste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No gender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&lt;=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Number of Gender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rot="19608600">
            <a:off x="2242800" y="3644640"/>
            <a:ext cx="4777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0000"/>
                </a:solidFill>
                <a:latin typeface="Tahoma"/>
              </a:rPr>
              <a:t>T R I V I A 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19B1-1B68-4390-9444-83E5CF19E772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F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1" name=""/>
          <p:cNvSpPr/>
          <p:nvPr/>
        </p:nvSpPr>
        <p:spPr>
          <a:xfrm>
            <a:off x="517320" y="2724120"/>
            <a:ext cx="7998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7.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DRY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IND=5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&lt;=&gt;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DRY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DEF=5    n=18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0.44 [5] - 0.44 [5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[Fr=0.436, Fa=1.000, Fc=1.000, Fn=1.000, chi2&lt;0.5%]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EQU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Indefinite Articl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Neither indefinite nor definit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&lt;=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Definite Articl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Neither definite nor indefinite arti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27EC-AFA9-4722-BA79-362E6F8CE114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erence of univers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"/>
          <p:cNvSpPr/>
          <p:nvPr/>
        </p:nvSpPr>
        <p:spPr>
          <a:xfrm>
            <a:off x="1355760" y="2395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62120" y="2133720"/>
            <a:ext cx="63792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43040" y="2471760"/>
            <a:ext cx="8081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Greenberg (1963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1.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In declarative sentences with nominal su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and object, the dominant order is almost alw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one in which the subject precedes the o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UBSTANTIVE: (UNIVERSAL) 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3.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Languages with dominant VSO order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always preposit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DE5F-C105-4470-8A52-66EFC148C24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F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3" name=""/>
          <p:cNvSpPr/>
          <p:nvPr/>
        </p:nvSpPr>
        <p:spPr>
          <a:xfrm>
            <a:off x="517320" y="2724120"/>
            <a:ext cx="7998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15.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KAY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BCC=4 &lt;=&gt;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VES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TAM=2    n= 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0.13 [7] - 0.13 [4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[Fr=0.133, Fa=1.000, Fc=1.000, Fn=1.000, chi2&lt;0.5%]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EQU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Number of Basic Colour Categori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7 or between 7 and 8 catego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&lt;=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Suppletion According to Tense and Aspec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Suppletion according to asp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1E42-DE98-44DA-AB79-F84BEB8DFFCE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F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5" name=""/>
          <p:cNvSpPr/>
          <p:nvPr/>
        </p:nvSpPr>
        <p:spPr>
          <a:xfrm>
            <a:off x="517320" y="2724120"/>
            <a:ext cx="7998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15.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KAY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BCC=4 &lt;=&gt;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VES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TAM=2    n= 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0.13 [7] - 0.13 [4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[Fr=0.133, Fa=1.000, Fc=1.000, Fn=1.000, chi2&lt;0.5%]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EQU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Number of Basic Colour Categori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7 or between 7 and 8 catego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&lt;=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Suppletion According to Tense and Aspec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Suppletion according to asp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03D2-02FD-48AC-8730-24DC6D052852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F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7" name=""/>
          <p:cNvSpPr/>
          <p:nvPr/>
        </p:nvSpPr>
        <p:spPr>
          <a:xfrm>
            <a:off x="517320" y="2724120"/>
            <a:ext cx="7998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15.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KAY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BCC=4 &lt;=&gt;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VES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TAM=2    n= 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0.13 [7] - 0.13 [4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[Fr=0.133, Fa=1.000, Fc=1.000, Fn=1.000, chi2&lt;0.5%]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EQU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Number of Basic Colour Categori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7 or between 7 and 8 catego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&lt;=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cc00"/>
                </a:solidFill>
                <a:latin typeface="Courier New"/>
                <a:ea typeface="MS Mincho"/>
              </a:rPr>
              <a:t>Suppletion According to Tense and Aspec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cc00"/>
                </a:solidFill>
                <a:latin typeface="Courier New"/>
                <a:ea typeface="MS Mincho"/>
              </a:rPr>
              <a:t>Suppletion according to asp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B3F2-7CA0-4D52-8067-6458CD60F028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F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9" name=""/>
          <p:cNvSpPr/>
          <p:nvPr/>
        </p:nvSpPr>
        <p:spPr>
          <a:xfrm>
            <a:off x="517320" y="2657520"/>
            <a:ext cx="799884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15.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KAY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BCC=4 &lt;=&gt;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VES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TAM=2    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MS Mincho"/>
              </a:rPr>
              <a:t>n=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0.13 [7] - 0.13 [4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[Fr=0.133, Fa=1.000, Fc=1.000, Fn=1.000, chi2&lt;0.5%]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EQU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Number of Basic Colour Categori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7 or between 7 and 8 catego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&lt;=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Suppletion According to Tense and Aspec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Suppletion according to asp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643280" y="2637000"/>
            <a:ext cx="1441440" cy="50472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EC08-F166-4689-BB4A-527AD6996ACE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F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2" name=""/>
          <p:cNvSpPr/>
          <p:nvPr/>
        </p:nvSpPr>
        <p:spPr>
          <a:xfrm>
            <a:off x="517320" y="2724120"/>
            <a:ext cx="7861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187.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HAS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NPL=6 =&gt;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BRO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FIN=2    n=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49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0.49 [6] - 0.93 [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[Fr=0.490, Fa=1.000, Fc=0.527, Fn=0.137, chi2&lt;1.0%] AB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Occurrence of Nominal Plur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Plural in all nouns, always obliga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=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Finger and Han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Differentiation: one word denotes 'hand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5234-AD18-4147-BC9B-A92858D68306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F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4" name=""/>
          <p:cNvSpPr/>
          <p:nvPr/>
        </p:nvSpPr>
        <p:spPr>
          <a:xfrm>
            <a:off x="517320" y="2724120"/>
            <a:ext cx="7861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187.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HAS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NPL=6 =&gt;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BRO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FIN=2    n=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49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0.49 [6] - 0.93 [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[Fr=0.490, Fa=1.000, Fc=0.527, Fn=0.137, chi2&lt;1.0%] AB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Occurrence of Nominal Plur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Plural in all nouns, always obliga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=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Finger and Han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Differentiation: one word denotes 'hand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FEED-4994-4B35-8024-56D92B427E0C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F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6" name=""/>
          <p:cNvSpPr/>
          <p:nvPr/>
        </p:nvSpPr>
        <p:spPr>
          <a:xfrm>
            <a:off x="517320" y="2724120"/>
            <a:ext cx="7861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187.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HAS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NPL=6 =&gt;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BRO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FIN=2    n=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49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0.49 [6] - 0.93 [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[Fr=0.490, Fa=1.000, Fc=0.527, Fn=0.137, chi2&lt;1.0%] AB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Occurrence of Nominal Plur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Plural in all nouns, always obliga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=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cc00"/>
                </a:solidFill>
                <a:latin typeface="Courier New"/>
                <a:ea typeface="MS Mincho"/>
              </a:rPr>
              <a:t>Finger and Han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cc00"/>
                </a:solidFill>
                <a:latin typeface="Courier New"/>
                <a:ea typeface="MS Mincho"/>
              </a:rPr>
              <a:t>Differentiation: one word denotes 'hand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6CBF-64FE-4ABD-B166-3673EAE8F0C8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F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8" name=""/>
          <p:cNvSpPr/>
          <p:nvPr/>
        </p:nvSpPr>
        <p:spPr>
          <a:xfrm>
            <a:off x="518760" y="2724120"/>
            <a:ext cx="822744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187.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HAS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NPL=6 =&gt;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BRO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FIN=2    n=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49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0.49 [6] - 0.93 [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[Fr=0.490, Fa=1.000, Fc=0.527, 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MS Mincho"/>
              </a:rPr>
              <a:t>Fn=0.137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, chi2&lt;1.0%] AB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Occurrence of Nominal Plur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Plural in all nouns, always obliga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=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Finger and Han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Differentiation: one word denotes 'hand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H="1">
            <a:off x="5867280" y="2205000"/>
            <a:ext cx="1152720" cy="136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5BF9-FF35-4361-BF52-E9F9897E936D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4067280" y="3645000"/>
            <a:ext cx="1152360" cy="10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Ob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l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BD33-6A34-4FEE-B1B7-F1C9E086B918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/>
          <p:nvPr/>
        </p:nvSpPr>
        <p:spPr>
          <a:xfrm>
            <a:off x="2124000" y="2133720"/>
            <a:ext cx="5184720" cy="4319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4059360" y="2217600"/>
            <a:ext cx="117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ing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H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067280" y="3645000"/>
            <a:ext cx="1152360" cy="10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Ob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l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229360" y="3944880"/>
            <a:ext cx="12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13.7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8026-A97D-44A7-9277-11F5ECAD68A8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erence of univers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"/>
          <p:cNvSpPr/>
          <p:nvPr/>
        </p:nvSpPr>
        <p:spPr>
          <a:xfrm>
            <a:off x="1355760" y="2395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62120" y="2133720"/>
            <a:ext cx="63792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43040" y="2471760"/>
            <a:ext cx="8081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Greenberg (1963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1.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In declarative sentences with nominal su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and object, the dominant order is almost alw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one in which the subject precedes the o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UBSTANTIVE: (UNIVERSAL) 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3.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Languages with dominant VSO order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always preposit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IMPLIC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41BD-98C8-4992-B06A-1640E41BF4A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5" name=""/>
          <p:cNvGraphicFramePr/>
          <p:nvPr/>
        </p:nvGraphicFramePr>
        <p:xfrm>
          <a:off x="324000" y="2189160"/>
          <a:ext cx="8496000" cy="42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189160"/>
                    <a:ext cx="8496000" cy="42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C012-3E87-44D4-A06F-2A7A262A4303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T 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8" name=""/>
          <p:cNvSpPr/>
          <p:nvPr/>
        </p:nvSpPr>
        <p:spPr>
          <a:xfrm>
            <a:off x="1013040" y="2203560"/>
            <a:ext cx="39049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PROBLE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Very low frequ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399E-868A-41E5-8C06-51EE90745E36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F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0" name=""/>
          <p:cNvSpPr/>
          <p:nvPr/>
        </p:nvSpPr>
        <p:spPr>
          <a:xfrm>
            <a:off x="745560" y="2200320"/>
            <a:ext cx="4569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urier New"/>
              </a:rPr>
              <a:t>Second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 r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ll language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5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ll variable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3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pplicability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Coverage: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Relevance: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gation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i Square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.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FA4E-7EC6-4277-A790-1029200D62B4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F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2" name=""/>
          <p:cNvSpPr/>
          <p:nvPr/>
        </p:nvSpPr>
        <p:spPr>
          <a:xfrm>
            <a:off x="288000" y="2200320"/>
            <a:ext cx="8776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urier New"/>
              </a:rPr>
              <a:t>First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 run: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	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urier New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otential implication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138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ccepted implication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13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quivalence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1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bsolute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12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atistical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C262-FCAF-47BF-A2AE-A7ECF3EB94F5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F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4" name=""/>
          <p:cNvSpPr/>
          <p:nvPr/>
        </p:nvSpPr>
        <p:spPr>
          <a:xfrm>
            <a:off x="745200" y="2200320"/>
            <a:ext cx="7861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urier New"/>
              </a:rPr>
              <a:t>Second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 run: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	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urier New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otential implication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138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ccepted implication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quivalence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bsolute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atistical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2FB5-A45C-4C77-90F0-0DC59D346AF6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F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6" name=""/>
          <p:cNvSpPr/>
          <p:nvPr/>
        </p:nvSpPr>
        <p:spPr>
          <a:xfrm>
            <a:off x="517680" y="2724120"/>
            <a:ext cx="7724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Arial Unicode MS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35.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Arial Unicode MS"/>
              </a:rPr>
              <a:t>KAY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BCC=7 =&gt;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Arial Unicode MS"/>
              </a:rPr>
              <a:t>SI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AS=1    n= 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Arial Unicode MS"/>
              </a:rPr>
              <a:t>7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0.28 [7] - 0.48 [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[Fr=0.280, Fa=1.000, Fc=0.583, Fn=0.722, chi2&lt;0.5%] A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Number of Basic Colour Categorie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More than 10 catego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=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assive Constru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There is a passive constr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Arial Unicode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3554-3BFE-4B76-B028-FBDDE4275E66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F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8" name=""/>
          <p:cNvSpPr/>
          <p:nvPr/>
        </p:nvSpPr>
        <p:spPr>
          <a:xfrm>
            <a:off x="517680" y="2724120"/>
            <a:ext cx="7724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46.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Arial Unicode MS"/>
              </a:rPr>
              <a:t>SI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PV=2 =&gt;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Arial Unicode MS"/>
              </a:rPr>
              <a:t>SI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VPA=5    n= 9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0.25 [5] - 0.51 [5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[Fr=0.255, Fa=1.000, Fc=0.500, Fn=0.658, chi2&lt;0.5%] A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Order of Person Markers on the Verb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 precedes 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=&g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Verbal Person Mark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erson marking of both the A and P arg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0D7B-6A2A-4B58-8445-4DADBB29CBD0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BUT 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0" name=""/>
          <p:cNvSpPr/>
          <p:nvPr/>
        </p:nvSpPr>
        <p:spPr>
          <a:xfrm>
            <a:off x="379440" y="2351160"/>
            <a:ext cx="843120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low frequ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None of the well-established universals at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B634-3465-451E-990E-65D3A006C594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F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2" name=""/>
          <p:cNvSpPr/>
          <p:nvPr/>
        </p:nvSpPr>
        <p:spPr>
          <a:xfrm>
            <a:off x="745560" y="2200320"/>
            <a:ext cx="4569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Third r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ll language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5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ll variable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3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Applicability: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0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verage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levance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gation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i Square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.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6F70-B417-462E-BBA4-687CBA76C572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F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4" name=""/>
          <p:cNvSpPr/>
          <p:nvPr/>
        </p:nvSpPr>
        <p:spPr>
          <a:xfrm>
            <a:off x="745200" y="2200320"/>
            <a:ext cx="7861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urier New"/>
              </a:rPr>
              <a:t>Second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 run: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	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urier New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otential implication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138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ccepted implication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quivalence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bsolute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atistical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ther computer appl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1E7B-844E-4C2C-A91C-50BDAE22549B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1T20:03:04Z</dcterms:created>
  <dc:creator>Compaq</dc:creator>
  <dc:description/>
  <dc:language>en-US</dc:language>
  <cp:lastModifiedBy>Dik Bakker</cp:lastModifiedBy>
  <dcterms:modified xsi:type="dcterms:W3CDTF">2007-07-27T02:17:14Z</dcterms:modified>
  <cp:revision>1044</cp:revision>
  <dc:subject/>
  <dc:title>PowerPoint Presentation</dc:title>
</cp:coreProperties>
</file>