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6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73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66EF9-D0A5-4388-9977-E5ACD241A3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Nederlands of Engels? Let op de naam van het IC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- Universiteit van Amsterdam altijd in het Nederland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Vul je teksten 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Let op, animatie zit in het ontwe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Vul je teksten 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Let op, animatie zit in het ontwe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Vul je teksten 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Let op, animatie zit in het ontwe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Vul je teksten 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Let op, animatie zit in het ontwe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Vul je teksten 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Let op, animatie zit in het ontwe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Vul je teksten 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Let op, animatie zit in het ontwe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Vul je teksten 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Let op, animatie zit in het ontwe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Vul je teksten 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Let op, animatie zit in het ontwe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Vul je teksten 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Let op, animatie zit in het ontwe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Vul je teksten 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Let op, animatie zit in het ontwe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Vul je teksten 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Let op, animatie zit in het ontwe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Vul je teksten 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Let op, animatie zit in het ontwe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Vul je teksten 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Let op, animatie zit in het ontwe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Vul je teksten 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Let op, animatie zit in het ontwe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175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0"/>
            <a:ext cx="58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104760"/>
            <a:ext cx="782640" cy="6444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2651040"/>
            <a:ext cx="793800" cy="4206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 rot="16200000">
            <a:off x="-865800" y="271080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Informatiseringscent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1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1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rcator.ic.uva.nl/sakai_review/nightly/beta/trunk/www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qalab.sourceforge.net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ercator.ic.uva.nl/sakai_review/nightly/beta/trunk/www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ndbugs.sourceforge.net/" TargetMode="External"/><Relationship Id="rId2" Type="http://schemas.openxmlformats.org/officeDocument/2006/relationships/hyperlink" Target="http://qjpro.sourceforge.net/" TargetMode="External"/><Relationship Id="rId3" Type="http://schemas.openxmlformats.org/officeDocument/2006/relationships/hyperlink" Target="http://pmd.sourceforge.net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rcator.ic.uva.nl/sakai_review/nightly/beta/trunk/www/api//org/sakaiproject/site/api/Site.java.html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rcator.ic.uva.nl/sakai_review/nightly/beta/trunk/www/api//org/sakaiproject/entity/api/ResourceProperties.java.html" TargetMode="External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09760" y="1246320"/>
            <a:ext cx="6319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utomatic Code Re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30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faster than the speed of l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01920" y="3557520"/>
            <a:ext cx="2952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Central Computing services</a:t>
            </a:r>
            <a:br>
              <a:rPr sz="1200"/>
            </a:b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Alan 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Education and Research Services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7560" y="3475080"/>
            <a:ext cx="7566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01920" y="2998800"/>
            <a:ext cx="32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Universiteit van Amster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10400" y="3452760"/>
            <a:ext cx="1681200" cy="42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19000" y="870120"/>
            <a:ext cx="53136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62560" y="843120"/>
            <a:ext cx="1681200" cy="42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2000" y="1079640"/>
            <a:ext cx="748836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onLiteralsFirstInComparisons (959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0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Subtle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osition literals first in String comparisons - that way if the String is null you won't get a NullPointerException, it'll just return fal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844640"/>
            <a:ext cx="355608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option.equals("post")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6119640"/>
            <a:ext cx="73803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D with pretty default set of rules = 66 unique rules trigg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3060720"/>
            <a:ext cx="52340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onospace"/>
                <a:ea typeface="Monospace"/>
              </a:rPr>
              <a:t>String first=</a:t>
            </a:r>
            <a:r>
              <a:rPr b="0" lang="en-GB" sz="1000" spc="-1" strike="noStrike">
                <a:solidFill>
                  <a:srgbClr val="2a00ff"/>
                </a:solidFill>
                <a:latin typeface="Monospace"/>
                <a:ea typeface="Monospace"/>
              </a:rPr>
              <a:t>"one"</a:t>
            </a:r>
            <a:r>
              <a:rPr b="0" lang="en-GB" sz="1000" spc="-1" strike="noStrike">
                <a:solidFill>
                  <a:srgbClr val="000000"/>
                </a:solidFill>
                <a:latin typeface="Monospace"/>
                <a:ea typeface="Monospace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onospace"/>
                <a:ea typeface="Monospace"/>
              </a:rPr>
              <a:t>String second= </a:t>
            </a:r>
            <a:r>
              <a:rPr b="1" lang="en-GB" sz="1000" spc="-1" strike="noStrike">
                <a:solidFill>
                  <a:srgbClr val="7f0055"/>
                </a:solidFill>
                <a:latin typeface="Monospace"/>
                <a:ea typeface="Monospace"/>
              </a:rPr>
              <a:t>new</a:t>
            </a:r>
            <a:r>
              <a:rPr b="0" lang="en-GB" sz="1000" spc="-1" strike="noStrike">
                <a:solidFill>
                  <a:srgbClr val="000000"/>
                </a:solidFill>
                <a:latin typeface="Monospace"/>
                <a:ea typeface="Monospace"/>
              </a:rPr>
              <a:t> String(</a:t>
            </a:r>
            <a:r>
              <a:rPr b="0" lang="en-GB" sz="1000" spc="-1" strike="noStrike">
                <a:solidFill>
                  <a:srgbClr val="2a00ff"/>
                </a:solidFill>
                <a:latin typeface="Monospace"/>
                <a:ea typeface="Monospace"/>
              </a:rPr>
              <a:t>"one"</a:t>
            </a:r>
            <a:r>
              <a:rPr b="0" lang="en-GB" sz="1000" spc="-1" strike="noStrike">
                <a:solidFill>
                  <a:srgbClr val="000000"/>
                </a:solidFill>
                <a:latin typeface="Monospace"/>
                <a:ea typeface="Monospace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7f0055"/>
                </a:solidFill>
                <a:latin typeface="Monospace"/>
                <a:ea typeface="Monospace"/>
              </a:rPr>
              <a:t>if</a:t>
            </a:r>
            <a:r>
              <a:rPr b="0" lang="en-GB" sz="1000" spc="-1" strike="noStrike">
                <a:solidFill>
                  <a:srgbClr val="000000"/>
                </a:solidFill>
                <a:latin typeface="Monospace"/>
                <a:ea typeface="Monospace"/>
              </a:rPr>
              <a:t> (first!=second)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onospace"/>
                <a:ea typeface="Monospace"/>
              </a:rPr>
              <a:t>System.</a:t>
            </a:r>
            <a:r>
              <a:rPr b="0" i="1" lang="en-GB" sz="1000" spc="-1" strike="noStrike">
                <a:solidFill>
                  <a:srgbClr val="0000c0"/>
                </a:solidFill>
                <a:latin typeface="Monospace"/>
                <a:ea typeface="Monospace"/>
              </a:rPr>
              <a:t>out</a:t>
            </a:r>
            <a:r>
              <a:rPr b="0" lang="en-GB" sz="1000" spc="-1" strike="noStrike">
                <a:solidFill>
                  <a:srgbClr val="000000"/>
                </a:solidFill>
                <a:latin typeface="Monospace"/>
                <a:ea typeface="Monospace"/>
              </a:rPr>
              <a:t>.println(</a:t>
            </a:r>
            <a:r>
              <a:rPr b="0" lang="en-GB" sz="1000" spc="-1" strike="noStrike">
                <a:solidFill>
                  <a:srgbClr val="2a00ff"/>
                </a:solidFill>
                <a:latin typeface="Monospace"/>
                <a:ea typeface="Monospace"/>
              </a:rPr>
              <a:t>"Strange Captain"</a:t>
            </a:r>
            <a:r>
              <a:rPr b="0" lang="en-GB" sz="1000" spc="-1" strike="noStrike">
                <a:solidFill>
                  <a:srgbClr val="000000"/>
                </a:solidFill>
                <a:latin typeface="Monospace"/>
                <a:ea typeface="Monospace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onospace"/>
                <a:ea typeface="Monospace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4319640"/>
            <a:ext cx="755964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683     public void setTempSubject(String tempSubj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684    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685         // if there's a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686         if (tempSubject != m_tempSubj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687        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688             // remember the n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689             m_tempSubject = tempSubjec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690        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69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692     } // setTempSubject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2685960"/>
            <a:ext cx="50403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dObjectsWithEquals (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1120" y="1260000"/>
            <a:ext cx="8228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ops too long to show examples (2521 pmd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8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s ,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8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orts (coup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8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plication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7 classes &gt; 1000 lines in length (Perl c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est 14,358 lines long (Wow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g.sakaiproject.content.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60720" y="4500720"/>
            <a:ext cx="1440" cy="1979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00360" y="5940360"/>
            <a:ext cx="46796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79800" y="4500720"/>
            <a:ext cx="700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59280" y="6119640"/>
            <a:ext cx="1081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54240" y="4273560"/>
            <a:ext cx="3500280" cy="1690560"/>
          </a:xfrm>
          <a:custGeom>
            <a:avLst/>
            <a:gdLst/>
            <a:ahLst/>
            <a:rect l="l" t="t" r="r" b="b"/>
            <a:pathLst>
              <a:path w="9725" h="4695">
                <a:moveTo>
                  <a:pt x="0" y="4631"/>
                </a:moveTo>
                <a:cubicBezTo>
                  <a:pt x="350" y="4690"/>
                  <a:pt x="707" y="4694"/>
                  <a:pt x="1058" y="4664"/>
                </a:cubicBezTo>
                <a:cubicBezTo>
                  <a:pt x="1435" y="4632"/>
                  <a:pt x="1813" y="4683"/>
                  <a:pt x="2183" y="4597"/>
                </a:cubicBezTo>
                <a:cubicBezTo>
                  <a:pt x="2531" y="4516"/>
                  <a:pt x="2887" y="4495"/>
                  <a:pt x="3241" y="4465"/>
                </a:cubicBezTo>
                <a:cubicBezTo>
                  <a:pt x="3619" y="4433"/>
                  <a:pt x="3969" y="4290"/>
                  <a:pt x="4333" y="4201"/>
                </a:cubicBezTo>
                <a:cubicBezTo>
                  <a:pt x="4711" y="4109"/>
                  <a:pt x="5065" y="3917"/>
                  <a:pt x="5457" y="3870"/>
                </a:cubicBezTo>
                <a:cubicBezTo>
                  <a:pt x="5811" y="3828"/>
                  <a:pt x="6137" y="3658"/>
                  <a:pt x="6482" y="3572"/>
                </a:cubicBezTo>
                <a:cubicBezTo>
                  <a:pt x="6838" y="3484"/>
                  <a:pt x="7138" y="3301"/>
                  <a:pt x="7475" y="3175"/>
                </a:cubicBezTo>
                <a:cubicBezTo>
                  <a:pt x="7869" y="3028"/>
                  <a:pt x="8185" y="2727"/>
                  <a:pt x="8500" y="2448"/>
                </a:cubicBezTo>
                <a:cubicBezTo>
                  <a:pt x="8819" y="2165"/>
                  <a:pt x="9221" y="1878"/>
                  <a:pt x="9294" y="1456"/>
                </a:cubicBezTo>
                <a:cubicBezTo>
                  <a:pt x="9362" y="1065"/>
                  <a:pt x="9637" y="832"/>
                  <a:pt x="9690" y="463"/>
                </a:cubicBezTo>
                <a:lnTo>
                  <a:pt x="9724" y="100"/>
                </a:lnTo>
                <a:lnTo>
                  <a:pt x="969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98600" y="431640"/>
            <a:ext cx="67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how us the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9000" y="870120"/>
            <a:ext cx="53136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62560" y="843120"/>
            <a:ext cx="1681200" cy="42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53960" y="1052640"/>
            <a:ext cx="57150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mercator.ic.uva.nl/sakai_review/nightly/beta/trunk/www/</a:t>
            </a:r>
            <a:br>
              <a:rPr sz="2000"/>
            </a:br>
            <a:r>
              <a:rPr b="1" lang="en-GB" sz="20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619280" y="1601640"/>
            <a:ext cx="6246720" cy="487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0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98600" y="431640"/>
            <a:ext cx="67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hy Static Code Analy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9000" y="870120"/>
            <a:ext cx="53136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62560" y="843120"/>
            <a:ext cx="1681200" cy="42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92200" y="1255680"/>
            <a:ext cx="5715000" cy="62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dbugs quote: “most software contains many bugs that are easy to find”. From experience I find this to be tr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be automated and fits snugly in nightly buil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0% 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[False positives and nag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od for training purposes for common programming fa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nts at defect clustering and code complexity [Refactoring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a gross level can give an indicator of qualit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0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98600" y="431640"/>
            <a:ext cx="67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hy Static Code Analy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9000" y="870120"/>
            <a:ext cx="53136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62560" y="843120"/>
            <a:ext cx="1681200" cy="42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87600" y="1434960"/>
            <a:ext cx="57150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uter power still doubling every 18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c Analysis tools improving rapi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like Functional tests checks all code thus improves general qualit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0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98600" y="431640"/>
            <a:ext cx="67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hy Static Code Analysis -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9000" y="870120"/>
            <a:ext cx="53136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62560" y="843120"/>
            <a:ext cx="1681200" cy="42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1680" y="1407960"/>
            <a:ext cx="5715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lse 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lains over minor infrin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ioritising is an issu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evelopers need to be motiv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read the report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gs patterns can be at times obsc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rong part of the development cycl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0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879480" y="1433520"/>
            <a:ext cx="7599240" cy="5396040"/>
            <a:chOff x="879480" y="1433520"/>
            <a:chExt cx="7599240" cy="5396040"/>
          </a:xfrm>
        </p:grpSpPr>
        <p:sp>
          <p:nvSpPr>
            <p:cNvPr id="124" name=""/>
            <p:cNvSpPr/>
            <p:nvPr/>
          </p:nvSpPr>
          <p:spPr>
            <a:xfrm>
              <a:off x="879480" y="1433520"/>
              <a:ext cx="7599240" cy="5396040"/>
            </a:xfrm>
            <a:custGeom>
              <a:avLst/>
              <a:gdLst/>
              <a:ahLst/>
              <a:rect l="l" t="t" r="r" b="b"/>
              <a:pathLst>
                <a:path w="21110" h="14989">
                  <a:moveTo>
                    <a:pt x="657" y="1005"/>
                  </a:moveTo>
                  <a:cubicBezTo>
                    <a:pt x="1036" y="981"/>
                    <a:pt x="1417" y="1047"/>
                    <a:pt x="1795" y="894"/>
                  </a:cubicBezTo>
                  <a:cubicBezTo>
                    <a:pt x="2169" y="745"/>
                    <a:pt x="2548" y="610"/>
                    <a:pt x="2931" y="512"/>
                  </a:cubicBezTo>
                  <a:cubicBezTo>
                    <a:pt x="3280" y="423"/>
                    <a:pt x="3629" y="370"/>
                    <a:pt x="3969" y="239"/>
                  </a:cubicBezTo>
                  <a:cubicBezTo>
                    <a:pt x="4379" y="85"/>
                    <a:pt x="4797" y="231"/>
                    <a:pt x="5206" y="132"/>
                  </a:cubicBezTo>
                  <a:cubicBezTo>
                    <a:pt x="5632" y="29"/>
                    <a:pt x="6054" y="43"/>
                    <a:pt x="6478" y="22"/>
                  </a:cubicBezTo>
                  <a:cubicBezTo>
                    <a:pt x="6896" y="0"/>
                    <a:pt x="7317" y="82"/>
                    <a:pt x="7715" y="350"/>
                  </a:cubicBezTo>
                  <a:cubicBezTo>
                    <a:pt x="8113" y="614"/>
                    <a:pt x="8545" y="719"/>
                    <a:pt x="8954" y="949"/>
                  </a:cubicBezTo>
                  <a:cubicBezTo>
                    <a:pt x="9303" y="1145"/>
                    <a:pt x="9654" y="1353"/>
                    <a:pt x="10024" y="1439"/>
                  </a:cubicBezTo>
                  <a:cubicBezTo>
                    <a:pt x="10422" y="1535"/>
                    <a:pt x="10826" y="1492"/>
                    <a:pt x="11228" y="1492"/>
                  </a:cubicBezTo>
                  <a:cubicBezTo>
                    <a:pt x="11672" y="1492"/>
                    <a:pt x="12129" y="1606"/>
                    <a:pt x="12566" y="1439"/>
                  </a:cubicBezTo>
                  <a:cubicBezTo>
                    <a:pt x="13078" y="1242"/>
                    <a:pt x="13583" y="1350"/>
                    <a:pt x="14105" y="1221"/>
                  </a:cubicBezTo>
                  <a:cubicBezTo>
                    <a:pt x="14579" y="1103"/>
                    <a:pt x="15066" y="1151"/>
                    <a:pt x="15544" y="1221"/>
                  </a:cubicBezTo>
                  <a:cubicBezTo>
                    <a:pt x="15915" y="1274"/>
                    <a:pt x="16245" y="1048"/>
                    <a:pt x="16613" y="1112"/>
                  </a:cubicBezTo>
                  <a:cubicBezTo>
                    <a:pt x="17057" y="1189"/>
                    <a:pt x="17498" y="1175"/>
                    <a:pt x="17952" y="1221"/>
                  </a:cubicBezTo>
                  <a:cubicBezTo>
                    <a:pt x="18368" y="1261"/>
                    <a:pt x="18787" y="1214"/>
                    <a:pt x="19157" y="1492"/>
                  </a:cubicBezTo>
                  <a:cubicBezTo>
                    <a:pt x="19555" y="1793"/>
                    <a:pt x="20001" y="2013"/>
                    <a:pt x="20293" y="2584"/>
                  </a:cubicBezTo>
                  <a:cubicBezTo>
                    <a:pt x="20560" y="3106"/>
                    <a:pt x="20798" y="3686"/>
                    <a:pt x="20929" y="4328"/>
                  </a:cubicBezTo>
                  <a:cubicBezTo>
                    <a:pt x="21046" y="4895"/>
                    <a:pt x="21109" y="5541"/>
                    <a:pt x="20997" y="6129"/>
                  </a:cubicBezTo>
                  <a:cubicBezTo>
                    <a:pt x="20882" y="6729"/>
                    <a:pt x="20975" y="7323"/>
                    <a:pt x="20861" y="7926"/>
                  </a:cubicBezTo>
                  <a:cubicBezTo>
                    <a:pt x="20744" y="8553"/>
                    <a:pt x="20649" y="9200"/>
                    <a:pt x="20461" y="9779"/>
                  </a:cubicBezTo>
                  <a:cubicBezTo>
                    <a:pt x="20239" y="10465"/>
                    <a:pt x="19905" y="11065"/>
                    <a:pt x="19524" y="11525"/>
                  </a:cubicBezTo>
                  <a:cubicBezTo>
                    <a:pt x="19204" y="11912"/>
                    <a:pt x="18805" y="12092"/>
                    <a:pt x="18453" y="12396"/>
                  </a:cubicBezTo>
                  <a:cubicBezTo>
                    <a:pt x="18020" y="12771"/>
                    <a:pt x="17580" y="13138"/>
                    <a:pt x="17115" y="13377"/>
                  </a:cubicBezTo>
                  <a:cubicBezTo>
                    <a:pt x="16580" y="13653"/>
                    <a:pt x="16139" y="14248"/>
                    <a:pt x="15577" y="14360"/>
                  </a:cubicBezTo>
                  <a:cubicBezTo>
                    <a:pt x="15175" y="14439"/>
                    <a:pt x="14859" y="14988"/>
                    <a:pt x="14439" y="14903"/>
                  </a:cubicBezTo>
                  <a:cubicBezTo>
                    <a:pt x="13990" y="14814"/>
                    <a:pt x="13539" y="14720"/>
                    <a:pt x="13102" y="14524"/>
                  </a:cubicBezTo>
                  <a:cubicBezTo>
                    <a:pt x="12693" y="14338"/>
                    <a:pt x="12400" y="13781"/>
                    <a:pt x="11997" y="13597"/>
                  </a:cubicBezTo>
                  <a:cubicBezTo>
                    <a:pt x="11503" y="13370"/>
                    <a:pt x="11217" y="12708"/>
                    <a:pt x="10794" y="12287"/>
                  </a:cubicBezTo>
                  <a:cubicBezTo>
                    <a:pt x="10436" y="11933"/>
                    <a:pt x="10086" y="11611"/>
                    <a:pt x="9756" y="11197"/>
                  </a:cubicBezTo>
                  <a:cubicBezTo>
                    <a:pt x="9437" y="10793"/>
                    <a:pt x="9073" y="10477"/>
                    <a:pt x="8685" y="10270"/>
                  </a:cubicBezTo>
                  <a:cubicBezTo>
                    <a:pt x="8351" y="10091"/>
                    <a:pt x="8002" y="9951"/>
                    <a:pt x="7649" y="9943"/>
                  </a:cubicBezTo>
                  <a:cubicBezTo>
                    <a:pt x="7215" y="9934"/>
                    <a:pt x="6778" y="9943"/>
                    <a:pt x="6344" y="9943"/>
                  </a:cubicBezTo>
                  <a:cubicBezTo>
                    <a:pt x="5919" y="9943"/>
                    <a:pt x="5495" y="9977"/>
                    <a:pt x="5073" y="9943"/>
                  </a:cubicBezTo>
                  <a:cubicBezTo>
                    <a:pt x="4604" y="9908"/>
                    <a:pt x="4142" y="9773"/>
                    <a:pt x="3668" y="9725"/>
                  </a:cubicBezTo>
                  <a:cubicBezTo>
                    <a:pt x="3268" y="9683"/>
                    <a:pt x="2853" y="9614"/>
                    <a:pt x="2496" y="9289"/>
                  </a:cubicBezTo>
                  <a:cubicBezTo>
                    <a:pt x="2152" y="8975"/>
                    <a:pt x="1811" y="8660"/>
                    <a:pt x="1460" y="8363"/>
                  </a:cubicBezTo>
                  <a:cubicBezTo>
                    <a:pt x="1059" y="8026"/>
                    <a:pt x="858" y="7414"/>
                    <a:pt x="657" y="6835"/>
                  </a:cubicBezTo>
                  <a:cubicBezTo>
                    <a:pt x="467" y="6289"/>
                    <a:pt x="224" y="5792"/>
                    <a:pt x="155" y="5146"/>
                  </a:cubicBezTo>
                  <a:cubicBezTo>
                    <a:pt x="96" y="4585"/>
                    <a:pt x="45" y="4021"/>
                    <a:pt x="55" y="3456"/>
                  </a:cubicBezTo>
                  <a:cubicBezTo>
                    <a:pt x="66" y="2882"/>
                    <a:pt x="0" y="2219"/>
                    <a:pt x="289" y="1767"/>
                  </a:cubicBezTo>
                  <a:lnTo>
                    <a:pt x="490" y="1221"/>
                  </a:lnTo>
                  <a:lnTo>
                    <a:pt x="557" y="1057"/>
                  </a:lnTo>
                  <a:lnTo>
                    <a:pt x="657" y="1005"/>
                  </a:lnTo>
                </a:path>
              </a:pathLst>
            </a:custGeom>
            <a:solidFill>
              <a:srgbClr val="e6e6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79480" y="3659400"/>
              <a:ext cx="75992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ash/Perl/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MYSQL data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Linu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398600" y="431640"/>
            <a:ext cx="67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The report wrapper – Ad hoc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9000" y="870120"/>
            <a:ext cx="53136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62560" y="843120"/>
            <a:ext cx="1681200" cy="42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60360" y="1800360"/>
            <a:ext cx="180036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a PMD,QJ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0" y="2160720"/>
            <a:ext cx="1979640" cy="90000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 results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00720" y="2160720"/>
            <a:ext cx="2160720" cy="90000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te entrie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3240000"/>
            <a:ext cx="2160720" cy="126072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c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0000" y="3240000"/>
            <a:ext cx="2160360" cy="108108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long to wh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00720" y="4680000"/>
            <a:ext cx="180036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M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60360" y="5400720"/>
            <a:ext cx="2880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r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assumption needed to make all the cod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619280" y="4495680"/>
            <a:ext cx="179280" cy="72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0000" y="952560"/>
            <a:ext cx="34210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an: Use whiteboard if time al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900000"/>
            <a:ext cx="3421080" cy="720720"/>
          </a:xfrm>
          <a:prstGeom prst="wedgeRoundRectCallout">
            <a:avLst>
              <a:gd name="adj1" fmla="val -48939"/>
              <a:gd name="adj2" fmla="val 944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dur="indefinite" fill="hold">
                      <p:stCondLst>
                        <p:cond delay="0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56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phical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 suspiciou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plicat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rted on lin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sits in a database so is easy to manip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thre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ot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s nightly against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have Eclipse PlugIns for training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98600" y="431640"/>
            <a:ext cx="67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9000" y="870120"/>
            <a:ext cx="53136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2560" y="843120"/>
            <a:ext cx="1681200" cy="42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6120" y="1238400"/>
            <a:ext cx="57150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contact with develo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contact with decision 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prototype to a qual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e integration of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ok at qalab for charting?</a:t>
            </a:r>
            <a:br>
              <a:rPr sz="2000"/>
            </a:b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qalab.sourceforge.ne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 service for other Educational project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0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98600" y="431640"/>
            <a:ext cx="67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ETAILED TOUR AND A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19000" y="870120"/>
            <a:ext cx="53136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62560" y="843120"/>
            <a:ext cx="1681200" cy="42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53960" y="1052640"/>
            <a:ext cx="57150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mercator.ic.uva.nl/sakai_review/nightly/beta/trunk/www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do we motivate developers to use this t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mail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arch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Improved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upling with J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Generic backgr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agazine article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dur="indefinite" fill="hold">
                      <p:stCondLst>
                        <p:cond delay="0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What  we are talking about: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tool that looks for bugs in co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runs once a night again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kai co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generates a report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Why three tools?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300" spc="-1" strike="noStrike">
                <a:solidFill>
                  <a:srgbClr val="000000"/>
                </a:solidFill>
                <a:latin typeface="Arial"/>
              </a:rPr>
              <a:t>Evolution of the eye metaphore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1480" y="1618920"/>
            <a:ext cx="8228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s differen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different methods of expanding rul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er at some issues than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saved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have Eclipse plu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can be run from 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otype service so may discard weaker tool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ll known in Market and ope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98600" y="431640"/>
            <a:ext cx="67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9000" y="870120"/>
            <a:ext cx="53136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62560" y="843120"/>
            <a:ext cx="1681200" cy="42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1680" y="1603440"/>
            <a:ext cx="57150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is Static Code Analy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y Static Code Analy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y Static Code Analysis – NOT?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Report wra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admap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00360" y="3600360"/>
            <a:ext cx="4679640" cy="180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0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62560" y="928800"/>
            <a:ext cx="1681200" cy="42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98600" y="431640"/>
            <a:ext cx="67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19000" y="870120"/>
            <a:ext cx="53136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62560" y="843120"/>
            <a:ext cx="1681200" cy="42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60360" y="5759280"/>
            <a:ext cx="558000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57280" y="961920"/>
            <a:ext cx="571500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kai - Large cod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trunk+scorm2004 tool [18</a:t>
            </a:r>
            <a:r>
              <a:rPr b="0" lang="en-GB" sz="20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Augu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3131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721396 lines of code (including comments and white li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440,000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52 sub projects (only in tru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velocity of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PI change between 2.1 --&gt; 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de base stored in subversion and thus easily acce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vA wishes to deploy OSP as soon as possible. Need to know where we 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80360" y="5759280"/>
            <a:ext cx="720720" cy="720720"/>
          </a:xfrm>
          <a:prstGeom prst="smileyFace">
            <a:avLst>
              <a:gd name="adj" fmla="val 465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0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98600" y="431640"/>
            <a:ext cx="67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What is Static Code Analy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9000" y="870120"/>
            <a:ext cx="53136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62560" y="843120"/>
            <a:ext cx="1681200" cy="42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71680" y="1603440"/>
            <a:ext cx="57150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oks at code for bug and style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ff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so looks for duplicat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Generates metrics such as where there is too much complexity.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Findbugs 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ea typeface="DejaVu Sans"/>
                <a:hlinkClick r:id="rId1"/>
              </a:rPr>
              <a:t>http://findbugs.sourceforge.ne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QJPr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ea typeface="DejaVu Sans"/>
                <a:hlinkClick r:id="rId2"/>
              </a:rPr>
              <a:t>http://qjpro.sourceforge.ne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MD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ea typeface="DejaVu Sans"/>
                <a:hlinkClick r:id="rId3"/>
              </a:rPr>
              <a:t>http://pmd.sourceforge.ne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potential pool of roughly 550  checks and r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tatic analysis / Functional tes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19280" y="1604520"/>
            <a:ext cx="7066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tional tests apply only to specific parts of the co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tional tests test the most important parts of the code under specific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ic analysis tests almost al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ic analysis pushes up average code 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coupled with Jira may help support debug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81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ANDOM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XAMPLES 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--&gt; Pushing up base quality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9520" y="3043080"/>
            <a:ext cx="6743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gnoring exceptions (772 examples f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Feedback to user or debug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9000" y="870120"/>
            <a:ext cx="53136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62560" y="843120"/>
            <a:ext cx="1681200" cy="42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1619280"/>
            <a:ext cx="810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88      protected String getPassword(String userna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89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90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System.out.println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("DavRealm.getPassword(" + username + ")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91          return (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92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257720"/>
            <a:ext cx="810108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120         String title = site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121         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122   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123            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Sit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ite = SiteService.getSite(site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124             title = site.getTit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125   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126         catch (Exception igno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127   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128   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4400" y="1050840"/>
            <a:ext cx="674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ystem.out (2096 examples found)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(moving to log4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0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19000" y="870120"/>
            <a:ext cx="53136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62560" y="843120"/>
            <a:ext cx="1681200" cy="42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3800" y="879480"/>
            <a:ext cx="6743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Junk DNA (1418 examples f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remove or exp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85960"/>
            <a:ext cx="810108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553                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ResourceProperties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props = edit.getProperties(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554                 rv[2] = StringUtil.trimToZero(((BaseAliasEdit) edit).m_createdUserId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555                 rv[3] = StringUtil.trimToZero(((BaseAliasEdit) edit).m_lastModifiedUserId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556                 rv[4] = edit.getCreatedTime(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557                 rv[5] = edit.getModifiedTime(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558             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559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560             return rv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561         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31760" y="3765600"/>
            <a:ext cx="674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oolean instancing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(perform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void instantiating Boolean objects; you can reference Boolean.TRUE, Boolean.FALSE, or call Boolean.valueOf() inst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60360" y="4859280"/>
            <a:ext cx="590256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xt.put("allowSubmit", new Boolean(allowSubmit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