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doc" ContentType="application/msword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662738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EFD3A-C54C-4379-B66C-4FFFCEA8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Num" idx="16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856A13-3D46-46FA-BBE1-7DD86255E1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Num" idx="23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B54B1B-56E8-4795-A8E0-A7FDC06382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Num" idx="24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73EA96-E147-492C-935E-2E74C3565DA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Num" idx="25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264CE-A802-432D-AF39-415BF8B767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 the various substitutes for Dutch and what the grap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Num" idx="26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8F1CA0-6513-400C-9647-2BB70509F6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17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47200-0278-4333-BB89-AEA3892F21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je eigenlijk doet is niet: eerst Turks, dan NL, maar achtereenvolgens verschillende theorieen afvinken. Die werkwijze zou je hier ook kunnen aanko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27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345AA3-445B-4AAF-8184-9B61AE0251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Four years – regel verdient wel enig bold of exclamation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Num" idx="28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9AEED7-6495-47FC-81B6-157A8B6FBE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Num" idx="29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C5EDA3-45CF-4D8E-A59B-789205BECC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Num" idx="30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0DC6B6-608C-49B9-A730-52E163499A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31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D53E80-8E91-40B2-9F48-56CB8F336A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Num" idx="32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818676-ECB3-4344-A2E4-DDBD9B30EC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33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4E2D1-A1C4-40EF-A9CE-E685D99DCB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Num" idx="34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116308-2759-4BE5-96B8-D07A9B06A8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18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D2A91D-2506-48CE-A982-DA3726054C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19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246FB4-D32D-482A-94E5-8D841CFED3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20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6AAA46-26AB-4CDB-A4DC-1EC0A7E350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Num" idx="21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54498C-5C75-45A3-9B5A-49E5F5235F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ystal’s leaky 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22"/>
          </p:nvPr>
        </p:nvSpPr>
        <p:spPr>
          <a:xfrm>
            <a:off x="3773520" y="9428040"/>
            <a:ext cx="288720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90F99-9EB3-44EB-8438-79B4E075EA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872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886-F873-4B24-AF43-8DF3155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D6E-5C28-47E7-92D8-7DC9355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42F-8846-4917-808B-AE430E37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412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6400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88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9412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6400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215-44C4-437D-BCBF-A5F720E1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2D3D-4F31-4F96-9CC6-A9C9FE6B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965-3E8E-493B-83FE-296E0B9E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8616-3484-4BC8-B8BA-61CF5FD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0E2F-1ACD-46FA-AB3B-AB01178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5A4B-D96B-42DD-8C5F-46FB823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09920" cy="70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1EAF-A9D6-47AD-B7CB-BD1EF3F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FFE1-DA15-4101-AEF1-100E22C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B47-0856-414E-BF42-0D7D113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5DB-EB8F-473D-8DCF-851E566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A179-6C32-4924-924D-BF740DC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08A-5AA7-452A-9C35-5D56F67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8BE6-7513-434D-9405-5AC2F4D2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9412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6400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52388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9412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6400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20C-59CD-43BE-AA9C-2418D85C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9214-9EE9-4C26-A7A2-0732CC34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942B-D4AD-421F-B6DD-1070486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55E0-5919-4ADF-8510-0EDC89E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DEC3-5C41-40DC-B4EA-F770D92F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1D0A-DEC0-4DFF-89C3-247598C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EAA-74E8-46D1-BDD9-E32C838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09920" cy="70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D07A-5E1C-4CA3-A979-AC64844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E5B9-7199-4F1F-B14D-F31E905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7506-E94C-405D-BBA8-FEE6D4B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BAC8-9B7D-4CE5-973E-C637107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7C5B-15B0-4FD6-A851-EC8F1824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133C-B900-45CE-AFB9-47C2AB53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9412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6400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52388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9412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6400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A6AF-EE67-45CC-997D-8BDA00A0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92C5-38E5-4B45-A4F1-F8FAE454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AF82-EF3E-448B-8B73-1F16D38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50D7-FAB5-4E50-A536-3C9C3601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ECE-DEC1-40FF-AC81-827E35E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E1BA-221D-4BE9-9F5F-AE4C39E2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51DE-084B-4D1F-A2FF-C85F55B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09920" cy="70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11BE-70CD-4F1E-85C1-97CB046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4C02-D827-41FA-893B-AE493F1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3EED-0A1F-458E-9B88-3755525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BEB8-8D1D-4D12-950A-5D3C483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CB876-95E6-4322-B193-2013747C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B227-947E-42B6-A3CC-E967697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9412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64000" y="19051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52388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9412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64000" y="4054320"/>
            <a:ext cx="22568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DC34-C8A0-4A82-9865-21794E2E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92F-2A8A-4057-88AA-C1FBF0EB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09920" cy="70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694-51B5-4DC5-90E2-15E57EE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7D7-9725-4755-BF4E-B166484A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5960" y="40543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29B-2974-4D98-916B-5F3BFAF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5960" y="1905120"/>
            <a:ext cx="34207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054320"/>
            <a:ext cx="7009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99A-939D-41A7-AE77-C453FFF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 flipV="1">
            <a:off x="1371600" y="304560"/>
            <a:ext cx="360" cy="129564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8" hidden="1"/>
          <p:cNvSpPr/>
          <p:nvPr/>
        </p:nvSpPr>
        <p:spPr>
          <a:xfrm>
            <a:off x="152280" y="838080"/>
            <a:ext cx="228240" cy="22824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9" hidden="1"/>
          <p:cNvSpPr/>
          <p:nvPr/>
        </p:nvSpPr>
        <p:spPr>
          <a:xfrm>
            <a:off x="539640" y="838080"/>
            <a:ext cx="228240" cy="2282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10" hidden="1"/>
          <p:cNvSpPr/>
          <p:nvPr/>
        </p:nvSpPr>
        <p:spPr>
          <a:xfrm>
            <a:off x="927000" y="838080"/>
            <a:ext cx="228240" cy="22824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1904760" y="1218960"/>
            <a:ext cx="360" cy="2057400"/>
          </a:xfrm>
          <a:prstGeom prst="line">
            <a:avLst/>
          </a:prstGeom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163440" y="2103480"/>
            <a:ext cx="347400" cy="34740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9"/>
          <p:cNvSpPr/>
          <p:nvPr/>
        </p:nvSpPr>
        <p:spPr>
          <a:xfrm>
            <a:off x="739800" y="2104920"/>
            <a:ext cx="348840" cy="34740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10"/>
          <p:cNvSpPr/>
          <p:nvPr/>
        </p:nvSpPr>
        <p:spPr>
          <a:xfrm>
            <a:off x="1317600" y="2104920"/>
            <a:ext cx="347400" cy="3474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1371600"/>
            <a:ext cx="647676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nl-NL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7086600" y="6248520"/>
            <a:ext cx="1523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2209680" y="6248520"/>
            <a:ext cx="12189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033574-BE78-4633-AD14-1FCA792ED1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7"/>
          <p:cNvSpPr/>
          <p:nvPr/>
        </p:nvSpPr>
        <p:spPr>
          <a:xfrm flipV="1">
            <a:off x="1371600" y="304560"/>
            <a:ext cx="360" cy="129564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52280" y="838080"/>
            <a:ext cx="228240" cy="22824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539640" y="838080"/>
            <a:ext cx="228240" cy="2282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927000" y="838080"/>
            <a:ext cx="228240" cy="22824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99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523880" y="6248520"/>
            <a:ext cx="1294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EE53AE0-388E-48B4-900B-C39EA6BDDF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7"/>
          <p:cNvSpPr/>
          <p:nvPr/>
        </p:nvSpPr>
        <p:spPr>
          <a:xfrm flipV="1">
            <a:off x="1371600" y="304560"/>
            <a:ext cx="360" cy="129564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52280" y="838080"/>
            <a:ext cx="228240" cy="22824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539640" y="838080"/>
            <a:ext cx="228240" cy="2282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927000" y="838080"/>
            <a:ext cx="228240" cy="22824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99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105520" y="190512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99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327672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1523880" y="6248520"/>
            <a:ext cx="1294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B4928D9-9E56-46E9-A124-26C7D3DC2A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7"/>
          <p:cNvSpPr/>
          <p:nvPr/>
        </p:nvSpPr>
        <p:spPr>
          <a:xfrm flipV="1">
            <a:off x="1371600" y="304560"/>
            <a:ext cx="360" cy="129564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52280" y="838080"/>
            <a:ext cx="228240" cy="22824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539640" y="838080"/>
            <a:ext cx="228240" cy="2282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927000" y="838080"/>
            <a:ext cx="228240" cy="22824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27672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1523880" y="6248520"/>
            <a:ext cx="1294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267FCA-DC02-4F18-977D-EE215996B5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7009920" cy="251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71680" indent="-571680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Baker, J. de Jong, A. Orgassa &amp; F. We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llaborato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ARIFLEX projec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Elma Blom &amp; Danie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šen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NWO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grant  254-70-010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entangling bilingualism and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nguage impairment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ISLI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00992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erbal inflection: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is it vulnerable in SLI? 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52360" y="228600"/>
            <a:ext cx="8637120" cy="10141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2665080" cy="925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2385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search variables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4578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rkish: verb inflectio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 agre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tch: verb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ectional agreement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ammatical closure procedures used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rkish: past te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,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st, 2nd, 3rd sing.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tch: present 1st, 2nd, 3rd sing.; 1st, 2nd pl.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tch: tested in main clauses (SVO, OVS)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 subordinate clauses (SOV)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nl-NL" sz="17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nl-NL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view population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Group 115"/>
          <p:cNvGraphicFramePr/>
          <p:nvPr/>
        </p:nvGraphicFramePr>
        <p:xfrm>
          <a:off x="609480" y="1905120"/>
          <a:ext cx="7924320" cy="3984120"/>
        </p:xfrm>
        <a:graphic>
          <a:graphicData uri="http://schemas.openxmlformats.org/drawingml/2006/table">
            <a:tbl>
              <a:tblPr/>
              <a:tblGrid>
                <a:gridCol w="1546200"/>
                <a:gridCol w="663480"/>
                <a:gridCol w="1752480"/>
                <a:gridCol w="1836720"/>
                <a:gridCol w="212544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range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set Dutch expo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Dutch expo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-T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;0-5;11 (4;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-S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;1-7;12 (7;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-T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;7-7;11 (7;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y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-S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;8-8;3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;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L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66ff3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31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20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solidFill>
            <a:schemeClr val="accent2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aring Turkish and Dutch 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125800" y="1900080"/>
          <a:ext cx="6506640" cy="32047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1900080"/>
                    <a:ext cx="6506640" cy="32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5"/>
          <p:cNvSpPr/>
          <p:nvPr/>
        </p:nvSpPr>
        <p:spPr>
          <a:xfrm>
            <a:off x="1295280" y="1600200"/>
            <a:ext cx="624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verb inflection in mai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aring Turkish and Dutch 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125800" y="1900080"/>
          <a:ext cx="6506640" cy="32047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1900080"/>
                    <a:ext cx="6506640" cy="32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4"/>
          <p:cNvSpPr/>
          <p:nvPr/>
        </p:nvSpPr>
        <p:spPr>
          <a:xfrm>
            <a:off x="1295280" y="1600200"/>
            <a:ext cx="624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verb inflection in mai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791320" y="2514600"/>
            <a:ext cx="3200040" cy="18882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gnificant SLI effect in both languages BUT Turkish better than Du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upport for the Sparse Morphology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aring Turkish and Dutch 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2125800" y="1900080"/>
          <a:ext cx="6506640" cy="32047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1900080"/>
                    <a:ext cx="6506640" cy="32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4"/>
          <p:cNvSpPr/>
          <p:nvPr/>
        </p:nvSpPr>
        <p:spPr>
          <a:xfrm>
            <a:off x="1295280" y="1600200"/>
            <a:ext cx="624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verb inflection in mai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791320" y="2514600"/>
            <a:ext cx="3200040" cy="18882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gnificant SLI effect in both languages BUT Turkish better than Du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upport for the Sparse Morphology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057400" y="5410080"/>
            <a:ext cx="6400440" cy="7146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ccuracy rate is high in both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Too high for a general agreement deficit to be plau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 inflection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typ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1" descr=""/>
          <p:cNvPicPr/>
          <p:nvPr/>
        </p:nvPicPr>
        <p:blipFill>
          <a:blip r:embed="rId1"/>
          <a:stretch/>
        </p:blipFill>
        <p:spPr>
          <a:xfrm>
            <a:off x="1523880" y="1587600"/>
            <a:ext cx="6400440" cy="353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 inflection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typ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280" y="5159520"/>
            <a:ext cx="4647960" cy="1217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gnificant difference between adult L2 and all child groups. Adults use more </a:t>
            </a:r>
            <a:r>
              <a:rPr b="0" i="1" lang="nl-NL" sz="1800" spc="-1" strike="noStrike">
                <a:solidFill>
                  <a:srgbClr val="ff0000"/>
                </a:solidFill>
                <a:latin typeface="Arial"/>
              </a:rPr>
              <a:t>-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o support for Procedural Deficit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523880" y="1587600"/>
            <a:ext cx="6400440" cy="353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 inflection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typ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43000" y="2362320"/>
          <a:ext cx="4681080" cy="54860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4681080" cy="54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1066680" y="198108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of substitut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 inflection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typ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1143000" y="2362320"/>
          <a:ext cx="4681080" cy="54860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4681080" cy="54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4"/>
          <p:cNvSpPr/>
          <p:nvPr/>
        </p:nvSpPr>
        <p:spPr>
          <a:xfrm>
            <a:off x="5257800" y="4648320"/>
            <a:ext cx="3580920" cy="12632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 part of paradigm particularly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o support for Clahsen’s 2008 sugg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98108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of substitut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verview of theorie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levant to the various theorie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om Turkish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om Dutch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scussion &amp; Conclusions</a:t>
            </a: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L2 effect in Dutch?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2131920" y="1900080"/>
          <a:ext cx="6435360" cy="316980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1900080"/>
                    <a:ext cx="6435360" cy="31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1295280" y="1600200"/>
            <a:ext cx="624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verb inflection in mai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1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L2 effect in Dutch?</a:t>
            </a: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2131920" y="1900080"/>
          <a:ext cx="6435360" cy="316980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1900080"/>
                    <a:ext cx="6435360" cy="31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1295280" y="1600200"/>
            <a:ext cx="624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verb inflection in mai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791320" y="2514600"/>
            <a:ext cx="3200040" cy="13395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 significant L2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o support for the General Slowing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057400" y="5410080"/>
            <a:ext cx="6400440" cy="63828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r years of input has been sufficient to learn the rule (fairly)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omparing main clauses and subordinate claus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57400" y="3048120"/>
            <a:ext cx="167616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B 3rd pers. sing. only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3965400" y="2138400"/>
          <a:ext cx="5178240" cy="27205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5400" y="2138400"/>
                    <a:ext cx="5178240" cy="27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6"/>
          <p:cNvSpPr/>
          <p:nvPr/>
        </p:nvSpPr>
        <p:spPr>
          <a:xfrm>
            <a:off x="3429000" y="1752480"/>
            <a:ext cx="525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in main and sub.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omparing main clauses and subordinate clauses in Dutch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057400" y="3048120"/>
            <a:ext cx="167616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B 3rd pers. sing. only</a:t>
            </a: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3965400" y="2133720"/>
          <a:ext cx="5178240" cy="27205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5400" y="2133720"/>
                    <a:ext cx="5178240" cy="27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5"/>
          <p:cNvSpPr/>
          <p:nvPr/>
        </p:nvSpPr>
        <p:spPr>
          <a:xfrm>
            <a:off x="3429000" y="1752480"/>
            <a:ext cx="525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accuracy in main and sub.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057400" y="4800600"/>
            <a:ext cx="6705360" cy="16902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gnificantly higher accuracy in subordinate cla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ccuracy so high that rule must have b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Movement rule in main clauses is a source of complexity for all lear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upport for the Vulnerability Feature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7010280" y="3276720"/>
            <a:ext cx="761760" cy="13712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6197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voidance of inflectional contexts</a:t>
            </a: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600200" y="1371600"/>
            <a:ext cx="525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response types in V2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8"/>
          <p:cNvGraphicFramePr/>
          <p:nvPr/>
        </p:nvGraphicFramePr>
        <p:xfrm>
          <a:off x="1511280" y="1833480"/>
          <a:ext cx="7632360" cy="38890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33480"/>
                    <a:ext cx="763236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61976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voidance of inflectional contexts</a:t>
            </a: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600200" y="1371600"/>
            <a:ext cx="5257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centage response types in V2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676520" y="5257800"/>
            <a:ext cx="7162560" cy="13395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mmy auxiliaries and Root Infinitives require no verb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idence of avoidance of these contexts where inflection has to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upport for the Vulnerability Feature Hypo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5"/>
          <p:cNvGraphicFramePr/>
          <p:nvPr/>
        </p:nvGraphicFramePr>
        <p:xfrm>
          <a:off x="1511280" y="1833480"/>
          <a:ext cx="7632360" cy="38890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33480"/>
                    <a:ext cx="763236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solidFill>
            <a:schemeClr val="accent2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DISCUSSION 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nl-NL" sz="4000" spc="-1" strike="noStrike">
                <a:solidFill>
                  <a:srgbClr val="000000"/>
                </a:solidFill>
                <a:latin typeface="Arial"/>
              </a:rPr>
              <a:t>vulnerabl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5943240" cy="350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stinction necessary between learning the verb inflection rule and applying it.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 order is not highly problematic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Orgassa 2009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"/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uting two operations is problematic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d results i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avoidance of the V2 order 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errors in inflection 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at causes problems with computation?</a:t>
            </a: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nl-N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305920" y="5638680"/>
            <a:ext cx="2282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sible model of factors influencing vulnerability of verb inflection</a:t>
            </a: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600200" y="1595520"/>
          <a:ext cx="7009920" cy="526068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95520"/>
                    <a:ext cx="7009920" cy="52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sible model of factors influencing vulnerability of verb inflection</a:t>
            </a: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1600200" y="1595520"/>
          <a:ext cx="7009920" cy="526068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95520"/>
                    <a:ext cx="7009920" cy="52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30"/>
          <p:cNvSpPr/>
          <p:nvPr/>
        </p:nvSpPr>
        <p:spPr>
          <a:xfrm>
            <a:off x="7696080" y="3124080"/>
            <a:ext cx="1447560" cy="36396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lingu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 flipH="1">
            <a:off x="7162560" y="3276360"/>
            <a:ext cx="533520" cy="1526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solidFill>
            <a:schemeClr val="accent2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F THEORIES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guistic theorie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467120" cy="1599840"/>
          </a:xfrm>
          <a:prstGeom prst="rect">
            <a:avLst/>
          </a:prstGeom>
          <a:solidFill>
            <a:srgbClr val="ffff00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Agreement deficit account: Missing knowledge of the system underlying agreement relations. Lack of access to UG.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nl-NL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(e.g. Clahsen 1989, 1993, 2008; van der Lely 1998, 2005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schroeflos"/>
          <p:cNvPicPr/>
          <p:nvPr/>
        </p:nvPicPr>
        <p:blipFill>
          <a:blip r:embed="rId1"/>
          <a:stretch/>
        </p:blipFill>
        <p:spPr>
          <a:xfrm>
            <a:off x="6705720" y="3962520"/>
            <a:ext cx="1863360" cy="2184120"/>
          </a:xfrm>
          <a:prstGeom prst="rect">
            <a:avLst/>
          </a:prstGeom>
          <a:ln w="9525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33520" y="2895480"/>
            <a:ext cx="5638320" cy="362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I child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 make numerous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iou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at variation across languages. Some languages barely show verb inflection problems in S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sibly only part of the paradigm affected?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Clahsen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guistic theorie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467120" cy="1142640"/>
          </a:xfrm>
          <a:prstGeom prst="rect">
            <a:avLst/>
          </a:prstGeom>
          <a:solidFill>
            <a:srgbClr val="ffff00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Procedural deficit account: problem in procedural memory </a:t>
            </a:r>
            <a:r>
              <a:rPr b="0" lang="nl-NL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(Ullman &amp; Pierpoint 2005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chroeflos"/>
          <p:cNvPicPr/>
          <p:nvPr/>
        </p:nvPicPr>
        <p:blipFill>
          <a:blip r:embed="rId1"/>
          <a:stretch/>
        </p:blipFill>
        <p:spPr>
          <a:xfrm>
            <a:off x="6705720" y="3962520"/>
            <a:ext cx="1863360" cy="2184120"/>
          </a:xfrm>
          <a:prstGeom prst="rect">
            <a:avLst/>
          </a:prstGeom>
          <a:ln w="9525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85800" y="2438280"/>
            <a:ext cx="5638320" cy="466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I child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 make similar errors to adult L2 learners since they are relying on declarative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olingual Dutch SLI children make different errors to L2 learners of Dutch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e Jong 1999;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m et al.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lik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cessing theorie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1294920"/>
          </a:xfrm>
          <a:prstGeom prst="rect">
            <a:avLst/>
          </a:prstGeom>
          <a:solidFill>
            <a:srgbClr val="ffff00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Surface hypothesis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Sparse morphology hypothesis</a:t>
            </a:r>
            <a:r>
              <a:rPr b="0" lang="nl-NL" sz="1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nl-NL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nl-NL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(e.g. Leonard 1998, 2000, 2009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701800"/>
            <a:ext cx="5638320" cy="485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 problems with phonetically non-salient morphemes and those that are semantically less transpa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 problems in languages with poor morp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.g. Italian and Hebrew better than English. But total explana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e Jong 1999;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m et al.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filter"/>
          <p:cNvPicPr/>
          <p:nvPr/>
        </p:nvPicPr>
        <p:blipFill>
          <a:blip r:embed="rId1"/>
          <a:stretch/>
        </p:blipFill>
        <p:spPr>
          <a:xfrm>
            <a:off x="6095880" y="3124080"/>
            <a:ext cx="3047760" cy="2342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cessing theorie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990360"/>
          </a:xfrm>
          <a:prstGeom prst="rect">
            <a:avLst/>
          </a:prstGeom>
          <a:solidFill>
            <a:srgbClr val="ffff00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Vulnerability feature hypothesis</a:t>
            </a:r>
            <a:r>
              <a:rPr b="0" lang="nl-NL" sz="1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nl-NL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nl-NL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(e.g. Bishop 1994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5181120" cy="453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formance limitations such as sentence length or phonological complexity will negatively affect the application of the rul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idence of  effects from naturalness of tokens, complexity of tas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Coady et al. 2007; Gillam et al.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428640" cy="4114440"/>
          </a:xfrm>
          <a:prstGeom prst="rect">
            <a:avLst/>
          </a:prstGeom>
          <a:ln w="9525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486400" y="6019920"/>
            <a:ext cx="3504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410080" y="6078600"/>
            <a:ext cx="3733560" cy="779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09920" cy="152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cessing theories</a:t>
            </a: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4840" cy="990360"/>
          </a:xfrm>
          <a:prstGeom prst="rect">
            <a:avLst/>
          </a:prstGeom>
          <a:solidFill>
            <a:srgbClr val="ffff00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General slowing hypothesis for bilingual SLI</a:t>
            </a:r>
            <a:r>
              <a:rPr b="0" lang="nl-NL" sz="1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nl-NL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nl-N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(Windsor, Leonard)</a:t>
            </a: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62120" y="2438280"/>
            <a:ext cx="5638320" cy="414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ay compared to monolingual SLI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t no evidence of delay in  simultaneous biling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quential bilingu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filter"/>
          <p:cNvPicPr/>
          <p:nvPr/>
        </p:nvPicPr>
        <p:blipFill>
          <a:blip r:embed="rId1"/>
          <a:stretch/>
        </p:blipFill>
        <p:spPr>
          <a:xfrm>
            <a:off x="6095880" y="3124080"/>
            <a:ext cx="3047760" cy="2342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09920" cy="4114440"/>
          </a:xfrm>
          <a:prstGeom prst="rect">
            <a:avLst/>
          </a:prstGeom>
          <a:solidFill>
            <a:schemeClr val="accent2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cho">
  <a:themeElements>
    <a:clrScheme name="Echo 10">
      <a:dk1>
        <a:srgbClr val="000000"/>
      </a:dk1>
      <a:lt1>
        <a:srgbClr val="ffffff"/>
      </a:lt1>
      <a:dk2>
        <a:srgbClr val="000000"/>
      </a:dk2>
      <a:lt2>
        <a:srgbClr val="666699"/>
      </a:lt2>
      <a:accent1>
        <a:srgbClr val="666699"/>
      </a:accent1>
      <a:accent2>
        <a:srgbClr val="9999ff"/>
      </a:accent2>
      <a:accent3>
        <a:srgbClr val="ffffff"/>
      </a:accent3>
      <a:accent4>
        <a:srgbClr val="000000"/>
      </a:accent4>
      <a:accent5>
        <a:srgbClr val="b8b8ca"/>
      </a:accent5>
      <a:accent6>
        <a:srgbClr val="8a8ae7"/>
      </a:accent6>
      <a:hlink>
        <a:srgbClr val="3366ff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cho">
  <a:themeElements>
    <a:clrScheme name="Echo 10">
      <a:dk1>
        <a:srgbClr val="000000"/>
      </a:dk1>
      <a:lt1>
        <a:srgbClr val="ffffff"/>
      </a:lt1>
      <a:dk2>
        <a:srgbClr val="000000"/>
      </a:dk2>
      <a:lt2>
        <a:srgbClr val="666699"/>
      </a:lt2>
      <a:accent1>
        <a:srgbClr val="666699"/>
      </a:accent1>
      <a:accent2>
        <a:srgbClr val="9999ff"/>
      </a:accent2>
      <a:accent3>
        <a:srgbClr val="ffffff"/>
      </a:accent3>
      <a:accent4>
        <a:srgbClr val="000000"/>
      </a:accent4>
      <a:accent5>
        <a:srgbClr val="b8b8ca"/>
      </a:accent5>
      <a:accent6>
        <a:srgbClr val="8a8ae7"/>
      </a:accent6>
      <a:hlink>
        <a:srgbClr val="3366ff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cho">
  <a:themeElements>
    <a:clrScheme name="Echo 10">
      <a:dk1>
        <a:srgbClr val="000000"/>
      </a:dk1>
      <a:lt1>
        <a:srgbClr val="ffffff"/>
      </a:lt1>
      <a:dk2>
        <a:srgbClr val="000000"/>
      </a:dk2>
      <a:lt2>
        <a:srgbClr val="666699"/>
      </a:lt2>
      <a:accent1>
        <a:srgbClr val="666699"/>
      </a:accent1>
      <a:accent2>
        <a:srgbClr val="9999ff"/>
      </a:accent2>
      <a:accent3>
        <a:srgbClr val="ffffff"/>
      </a:accent3>
      <a:accent4>
        <a:srgbClr val="000000"/>
      </a:accent4>
      <a:accent5>
        <a:srgbClr val="b8b8ca"/>
      </a:accent5>
      <a:accent6>
        <a:srgbClr val="8a8ae7"/>
      </a:accent6>
      <a:hlink>
        <a:srgbClr val="3366ff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cho">
  <a:themeElements>
    <a:clrScheme name="Echo 10">
      <a:dk1>
        <a:srgbClr val="000000"/>
      </a:dk1>
      <a:lt1>
        <a:srgbClr val="ffffff"/>
      </a:lt1>
      <a:dk2>
        <a:srgbClr val="000000"/>
      </a:dk2>
      <a:lt2>
        <a:srgbClr val="666699"/>
      </a:lt2>
      <a:accent1>
        <a:srgbClr val="666699"/>
      </a:accent1>
      <a:accent2>
        <a:srgbClr val="9999ff"/>
      </a:accent2>
      <a:accent3>
        <a:srgbClr val="ffffff"/>
      </a:accent3>
      <a:accent4>
        <a:srgbClr val="000000"/>
      </a:accent4>
      <a:accent5>
        <a:srgbClr val="b8b8ca"/>
      </a:accent5>
      <a:accent6>
        <a:srgbClr val="8a8ae7"/>
      </a:accent6>
      <a:hlink>
        <a:srgbClr val="3366ff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666699"/>
      </a:lt2>
      <a:accent1>
        <a:srgbClr val="666699"/>
      </a:accent1>
      <a:accent2>
        <a:srgbClr val="9999ff"/>
      </a:accent2>
      <a:accent3>
        <a:srgbClr val="ffffff"/>
      </a:accent3>
      <a:accent4>
        <a:srgbClr val="000000"/>
      </a:accent4>
      <a:accent5>
        <a:srgbClr val="b8b8ca"/>
      </a:accent5>
      <a:accent6>
        <a:srgbClr val="8a8ae7"/>
      </a:accent6>
      <a:hlink>
        <a:srgbClr val="3366ff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  <Words>836</Words>
  <Paragraphs>196</Paragraphs>
  <Company>Universiteit van Amsterd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06:55Z</dcterms:created>
  <dc:creator>aorgassa</dc:creator>
  <dc:description/>
  <dc:language>en-US</dc:language>
  <cp:lastModifiedBy>jdjong5</cp:lastModifiedBy>
  <dcterms:modified xsi:type="dcterms:W3CDTF">2009-07-06T15:03:07Z</dcterms:modified>
  <cp:revision>245</cp:revision>
  <dc:subject/>
  <dc:title> Gender agreement  in SLI en L2-leerder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