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0642-D715-4EFB-8385-3D6B8B4B9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49D4-1E68-4E35-AB79-1F79E0CA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90A3-BD01-4C1F-A3C2-A2D84A482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2A6A-6B6E-418C-AEB4-6D9302899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FFCC-1784-4210-8926-61B85951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21D6-B3CD-4880-A9D6-6D6C98E6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725E-309D-4CF4-81DE-C54CA4F4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C46A-4AA8-41D3-BE18-B2F661B9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4270-1511-4DDC-B263-CDE8FCCD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1CE0-5A33-47C5-8C32-E5ADF42F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281F-A45A-4028-8F59-B1E01A4D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DF1F-0294-43D1-BFC3-FED2113C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975A-4AD1-45BB-BDA8-8FBEAD0A4A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ward systems in art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Wouter de Noo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rasm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University Rotterd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Netherla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belt XXII, New Orleans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sults: type of recruitmen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prestige: prestige attracts transitions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mall bus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eg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yle specialization: no eff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rket position: largest firms have more new acts and fewer transi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hits: associated with transition rather than contin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belt XXII, New Orleans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ransition variab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rket position: dir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wnersh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hit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prestige: dir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yle: transition inside, between, or outside the Dutch popular seg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belt XXII, New Orleans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ransition result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prestige is not a factor on its 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yle does not constrain transi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rket positions do not guide transi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oint ownership enhances the exchange of acts without h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belt XXII, New Orleans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ward systems and cultural prod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bility and dynamic presti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s on the Dutch music indust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belt XXII, New Orleans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tandards and innovat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22440" y="2259000"/>
          <a:ext cx="7835760" cy="3902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2440" y="2259000"/>
                    <a:ext cx="7835760" cy="39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belt XXII, New Orleans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search desig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17480" y="1828800"/>
          <a:ext cx="7543800" cy="4670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7480" y="1828800"/>
                    <a:ext cx="7543800" cy="46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belt XXII, New Orleans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oles and recruitmen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iticians: media exposure - continu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reaucrats: acquired rights and administrative classifications - continuity &amp; limited var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repreneurs: hits &amp; misses - little continuity and var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novators: peer group control - selections from sele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belt XXII, New Orleans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ynamic prestig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33520" y="1600200"/>
          <a:ext cx="6333840" cy="449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600200"/>
                    <a:ext cx="633384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belt XXII, New Orleans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37 record albums of Dutch popular music, 1976-198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: debut, continuation, trans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rket position: transnational, major/independent, other (sm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hit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prestige in preceding ye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yle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belt XXII, New Orleans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tijlen" descr=""/>
          <p:cNvPicPr/>
          <p:nvPr/>
        </p:nvPicPr>
        <p:blipFill>
          <a:blip r:embed="rId2"/>
          <a:stretch/>
        </p:blipFill>
        <p:spPr>
          <a:xfrm>
            <a:off x="968400" y="555480"/>
            <a:ext cx="7205760" cy="5747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belt XXII, New Orleans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vanduin2" descr=""/>
          <p:cNvPicPr/>
          <p:nvPr/>
        </p:nvPicPr>
        <p:blipFill>
          <a:blip r:embed="rId2"/>
          <a:stretch/>
        </p:blipFill>
        <p:spPr>
          <a:xfrm>
            <a:off x="4800600" y="2405160"/>
            <a:ext cx="3962520" cy="2984400"/>
          </a:xfrm>
          <a:prstGeom prst="rect">
            <a:avLst/>
          </a:prstGeom>
          <a:ln w="0">
            <a:noFill/>
          </a:ln>
        </p:spPr>
      </p:pic>
      <p:pic>
        <p:nvPicPr>
          <p:cNvPr id="60" name="earth_fire" descr=""/>
          <p:cNvPicPr/>
          <p:nvPr/>
        </p:nvPicPr>
        <p:blipFill>
          <a:blip r:embed="rId3"/>
          <a:stretch/>
        </p:blipFill>
        <p:spPr>
          <a:xfrm>
            <a:off x="533520" y="2405160"/>
            <a:ext cx="4119480" cy="29811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5400" y="1752480"/>
            <a:ext cx="37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progressive rock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39480" y="5562720"/>
            <a:ext cx="301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utch pop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usical sty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belt XXII, New Orleans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0T15:30:58Z</dcterms:created>
  <dc:creator>Wouter de Nooy</dc:creator>
  <dc:description/>
  <dc:language>en-US</dc:language>
  <cp:lastModifiedBy>Wouter de Nooy</cp:lastModifiedBy>
  <cp:lastPrinted>2002-02-11T13:21:48Z</cp:lastPrinted>
  <dcterms:modified xsi:type="dcterms:W3CDTF">2002-02-11T13:22:26Z</dcterms:modified>
  <cp:revision>19</cp:revision>
  <dc:subject/>
  <dc:title>Geen diatitel</dc:title>
</cp:coreProperties>
</file>