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2BE-A15C-4FB8-B309-BB855C82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5E7-D225-4A0B-937E-9D532AB1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985B-CFA3-4DAC-971F-8768A3B0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31F-239D-49CE-ADB2-6BB1E181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434-1C71-44C3-9CA1-EF6E8334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AD1-654D-43F9-84CB-B384E02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02D-BD3F-466A-B314-50BFC1A5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865-C42D-4E9B-BD32-2C0D01DE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07E-B43A-47DC-923D-F813C420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F302-51EE-49A6-8DEB-BA7A057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EA9C-D7E0-4393-84BD-E05B444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F94-855C-4F35-BA99-2BDCD10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130-EA12-4EEA-8019-9ACB94A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3FF4-E746-4360-9125-EA2056FF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A004-E730-4BBD-BA09-FA2F97C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17F-B9D8-46A0-A473-84717913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945B-1DA3-497A-9E8A-7508245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02BF-1C7C-46E4-AF16-E3F68F0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3703-0ADE-4D45-9FE7-29C2519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E45-41E9-4ACA-AFD0-7F4D6F63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0AF4-FAC7-43AB-9930-1AC00942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E2C-63E2-4A77-8113-B310CF5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0C-0D14-4649-BB69-F8A74B8F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9A0-7F2B-49DA-869F-0889F89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AD8-50D3-4235-BDCD-B064996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C68-958D-47B1-B278-5CA3A74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76E-F0A9-4C6E-B0ED-6F63C2E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B6B-2B2E-4069-A04E-ADFFE776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47A6-A94F-4F14-8C2C-6AFCE7752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1032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EFB-FB26-410D-B5BA-D6A5742D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7623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33"/>
                </a:solidFill>
                <a:latin typeface="Arial"/>
                <a:ea typeface="Times New Roman"/>
              </a:rPr>
              <a:t>К вопросу о языковой интерференции: усвоение позиционных глаголов русско-нидерландскими детьми</a:t>
            </a:r>
            <a:r>
              <a:rPr b="0" lang="nl-NL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07640" y="3933720"/>
            <a:ext cx="66265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ла Пеетерс-Подгаев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блемы онтолингвистики -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4-26 апреля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572436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Анализ 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удности </a:t>
            </a:r>
            <a:r>
              <a:rPr b="0" lang="en-GB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интерференция</a:t>
            </a:r>
            <a:r>
              <a:rPr b="0" lang="en-GB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плотного поверхностного контак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сутствие позиционного глагола в русском язы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742a"/>
                </a:solidFill>
                <a:latin typeface="Times New Roman"/>
                <a:ea typeface="Times New Roman"/>
              </a:rPr>
              <a:t>нидерландская мод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ырь на руке, кольцо на пальц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предметов в контейнере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юдное влияние языков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742a"/>
                </a:solidFill>
                <a:latin typeface="Times New Roman"/>
                <a:ea typeface="Times New Roman"/>
              </a:rPr>
              <a:t>русская мод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в сумке, туфли в коробке, столовый прибор в ящик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liggen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742a"/>
                </a:solidFill>
                <a:latin typeface="Times New Roman"/>
                <a:ea typeface="Times New Roman"/>
              </a:rPr>
              <a:t>нидерландская мод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цо в коробочк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C605-9DE7-460B-B930-9A3B350B6B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позиционного глагола двуязычные русско-нидерландские дети 9-10 лет руководствуются в первую очередь конкретной физической ориентацией предмета в простран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языковой интерференции подвержен глагол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ть/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емантической доминантой является не столько ориентация, сколько фиксация положения в пространств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компоненты значения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дерландского глагол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“плотный поверхностный контакт” и “слабо фиксированное расположение в контейнере”, генерализируются и переносятся в русский язы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 языковой интерференции прослеживается в обоих языках, что подтверждает мысль о взаимном влиянии языков друг на друга вне зависимости от уровня владения и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5612-992D-4EA1-8A22-04C66ED34A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илина Е.В. Когнитивный анализ предметных имен: семантика и сочетаемость. – М., 2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илина Е.В.,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ens 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усистика и типология: лексическая семантика глаголов со значением ‘сидеть’ в русском и нидерландском.//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 Linguistics. – 2003.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 – C. 313-32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rvis S., Pavlenko A. Crosslinguistic influence in language and cognition. – London and New York,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5FE0-111F-448C-B7FF-197B3511F0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Позиционные глаголы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ом и нидерландском языках каноничес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тивная ситуация описывается с помощь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ных глаголов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a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gen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оответств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a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ртикально ориентированные, вытянутые объек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ge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лоские, горизонтально ориентированные объекты (см. Рахилина 2000: 286).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D7F-F5AD-43E7-ABAA-24568376BD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Позиционные глаголы</a:t>
            </a:r>
            <a:r>
              <a:rPr b="0" lang="nl-NL" sz="32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a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оответствие между пространственной ориентацией предмета и его функци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стоит на столе /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kopje staat op tafe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/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ge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дея покоя, несоответствие положения предмета его функц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лежит на столе /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kopje ligt op tafe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аргинальные несоответств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к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оя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чала /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ootj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gg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an de steige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кв. ‘Лодки лежат у причала’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4D46-0D93-46E3-AC42-FD4E779D1F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Позиционные глагол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ть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ое, “сложенное” положение человека или предмета, фиксированность в пространстве (Рахилин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e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3: 316-31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жение/плотный контакт со сред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здь сидит в стене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pijker zit in de mu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ый поверхностный конта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De pleister zit om de ving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Пластырь на пальце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фиксированное расположение в контейне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De cola zit in de f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Кола в бутылке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753-91A9-4D5D-97E9-A5D4AFB04E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Цель исследования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3822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тепени владения двуязычными детьми 9-10 лет позиционными глаголами как в нидерландском, так и в русском язы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тепени языковой интерференции у двуязычных детей в выборе позиционного глагола при описании довольно канонических локативных ситуац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4F5-48ED-4443-A17D-629FD538F4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Эксперимент: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Picture matching task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Испытуем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имультанных билингвов в возрасте 9;6-10;0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группы: сбалансированные билингвы (50% времени говорящие по-русски) и несбалансированные билингвы (25%-30% времени говорящие по-рус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роцед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набора карточек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на основе контекстов употреблений нидерландских глаг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наборов и выбор языка произво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 на русском и нидерландском языках проводилось с интервалом в одну нед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тестирования на обоих языках заняла 30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я на грамматическую правильность ответа не обраща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397400" y="479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9A2-58A6-4C47-B02D-96031F8459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Визуальные стимул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8348-99F7-4A76-B146-49825AAADF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276720" y="2698920"/>
            <a:ext cx="2539800" cy="219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95280" y="2666880"/>
            <a:ext cx="2682720" cy="2230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6084720" y="2666880"/>
            <a:ext cx="2519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Результаты эксперимент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Группа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Возраст  Кол-во 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Лежать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Liggen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  Стоять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Staan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  Сидеть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Z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.     9;6-10;0     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     92%        83%     86%        40%      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баланс.  9;6-10;0   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92%      85%        87%     82%        43%      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F07-5BC3-4120-BEFB-468C1FB02E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Анализ 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3055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хотомия признаков ‘горизонтальность – вертикальность’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a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gen)</a:t>
            </a:r>
            <a:r>
              <a:rPr b="0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а хорош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удност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странственные параметры и ориентация объ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положение объекта, соответствующее выполняемой им функ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с интерпретацией ситуаций, ассоциируемых с глаголо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ть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te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ая фиксированность в пространств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удности </a:t>
            </a:r>
            <a:r>
              <a:rPr b="0" lang="en-GB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конкуренция позиционных глаголов</a:t>
            </a:r>
            <a:r>
              <a:rPr b="0" lang="en-GB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канонического положения насекомых и земноводных</a:t>
            </a:r>
            <a:r>
              <a:rPr b="0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13CF-A0B2-431A-ABB3-68FDCD7469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00:54Z</dcterms:created>
  <dc:creator>Janssen</dc:creator>
  <dc:description/>
  <dc:language>en-US</dc:language>
  <cp:lastModifiedBy>Alla Peeters Podgaevskaja</cp:lastModifiedBy>
  <dcterms:modified xsi:type="dcterms:W3CDTF">2012-05-01T09:38:53Z</dcterms:modified>
  <cp:revision>81</cp:revision>
  <dc:subject/>
  <dc:title>Typological constraints for the acquisition of gender and case. A cross-linguistic comparison of monolingual and bilingual acquisition of gender and case in Polish and Russian. </dc:title>
</cp:coreProperties>
</file>