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B1DB-A2A5-49D7-8EA2-A5F076ACA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2501-C5C5-4FFE-8C14-D001F39E5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5FC9-3C53-4849-8E11-FCB9302F2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35DB-F3FF-4A8E-877D-B5E69F108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1963-1CA8-485C-8F41-E695BB7EE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2DC2-BA15-4F7D-8837-4460B9B90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F1B5-CC8D-4940-A9B4-B797DE03C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A47A-7A77-493D-A2D7-5CBBD65D3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CF01-F006-4680-8D82-A381A6184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FBAC-28DC-46B1-A79F-FC407C141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8119-6122-4E33-AD33-4861C073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008C-9284-415D-9BF5-3EDA7D37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088-F74F-4097-BE50-F06CDE8C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BBF-C868-44EF-A282-6BAAA068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04D1-0B87-43FB-9069-0031BFE0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8905-0902-46F2-ADEF-7114D9E8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F1E4-37E4-4AD3-B8EC-0A23DA30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59AD-C3A9-4286-B287-780A0C3C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6D1D-B2AE-40F2-B5E6-01526166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AC0F-716F-45FF-B82C-4985583B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5881-31D0-4F09-85B4-3ED7E6CA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372F-3911-4D1A-9CE1-2F591E79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5564-DB4E-4DC4-A866-B5DD7972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C7B3-450A-4283-B496-DB43D81A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4048-941D-488D-A857-5296287E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F45C-5CFC-401F-BF25-C8AC195C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06A4-BFC9-41C7-AF9E-B845C860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E7A-1338-40DD-B970-FA795B26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671-F7F0-4965-A5C1-900795A7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4C2-5403-48C9-A338-6B0FBF8C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4ED-E6E5-46EE-ACE1-F7D2DB79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7B6-8EA3-46F6-9BA3-29A06C30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50F-7F47-4DB1-95F1-1581FDFC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F802-F0F5-4267-BE53-130CB088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0E16-50C3-4072-A3C6-D373B7C52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1031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Line 1032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FF11-9478-4575-8F65-4F98B596A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371240"/>
            <a:ext cx="76230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On Russian morphology in bilingual Dutch-Russian children at age 6-7</a:t>
            </a:r>
            <a:r>
              <a:rPr b="0" lang="en-US" sz="46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07640" y="3933720"/>
            <a:ext cx="66265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a Peeters-Podgaevska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urse Coherence in Bilingualism and S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1 January 20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5724360" cy="6858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Animacy: monolingual vs. bilingu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nolingual: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e 4;0 — distinction between animate and inanimate nou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6) Ja vižu  stol-Ø </a:t>
            </a:r>
            <a:r>
              <a:rPr b="0" lang="nl-NL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</a:t>
            </a:r>
            <a:r>
              <a:rPr b="0" lang="nl-NL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vs. </a:t>
            </a:r>
            <a:r>
              <a:rPr b="0" lang="nl-NL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a vižu  ma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’či</a:t>
            </a:r>
            <a:r>
              <a:rPr b="0" lang="nl-NL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</a:t>
            </a:r>
            <a:r>
              <a:rPr b="1" lang="nl-NL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</a:t>
            </a:r>
            <a:r>
              <a:rPr b="0" lang="nl-NL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    see   table-m.sg.acc.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vs.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I    see  boy-m.sg.acc.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 see a table.’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‘I see a boy.’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lingual: age 6;0-7;0 — no distinction between animate and inanimate nou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)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a &lt;etot               mal’čik&gt; [: etogo mal’čik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] davno            znaju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     this-m.sg.nom. boy-m.sg.nom.                     for a long time 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 know this boy for a long time.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AF82-D754-4A20-8B82-2BD1ABC4F5A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Verbal aspect: monolingu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05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wo a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erfective: process, habituality, general idea of action or state, etc.; three tenses (past, present and futur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)     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a govoril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‘I said’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vorju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‘I say’,     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du govorit’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‘I will say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)   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a pisala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‘I wrote’,    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šu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‘I write’,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du pisat’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‘I will writ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fective: totality, terminativity, sequence connection of actions, situations, etc.; two tenses (past and futur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)  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 skazal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‘he said’,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kaže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‘he will say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)  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a napisala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‘she wrote’,   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pišu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‘she will writ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clear idea of aspect competition in the past and future tense — Age 2;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4E2A-E1B5-4E36-98CB-9D3F1249CF1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Verbal aspect: bilingu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e 6;6-7;0 — perfective forms are used in imperfective contex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2) On mne   vsegda &lt;skazal&gt; [: govoril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   to me  always       said-m.sg.per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‘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 always said it to me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the future tense, an auxiliary verb is combined with perfective infini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3) Zavtra   &lt;budem dosmotrit’&gt; [: dosmotrim]  fil’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morrow    will-1pl.  to-the-end-watch-inf.perf.         mo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‘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morrow we will watch the movie to the end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22D7-3AAF-4893-82BE-04FEBE89C3E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Bilingual acquisition: what do they know at age 6-7?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ilingual children master the number category, and make a clear distinction between singular and plural in the nomin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ey make gender distinction between regular feminine and masculin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ey have acquired three to four cases (nominative, genitive and accusative) in the most salient and transparent contex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F0FE-B943-410C-81E9-FBA03260879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Bilingual acquisition: what do they know at age 6-7?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ey have a rich repertory of personal pronouns in different cases and actively use them in many syntactic constru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ey have a limited knowledge of prepositions which they use in various spatial, temporal, causal, and possessive contex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ey correctly form verbal paradigm in the three te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ey actively use imperative and infinitive constru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3FBA-0CC4-4B6A-93C0-225DE9F5284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Arial"/>
              </a:rPr>
              <a:t>Questions?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.V.Peeters-Podgaevskaja@uva.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C168-C56A-4A46-94CA-CABDF976761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33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abyonyshev, M. 1993. Acquisition of the Russian Case System. In C. Phillips (Ed.),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apers on Case and Agreement II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vol. 19 (pp. 1-43). Cambri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ejtlin, S.N. 2009.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čerki po slovoobrazovaniju i formoobrazovaniju v detskoj reči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 Mosk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ordishevsky, G. &amp; Schaeffer, J. 2008. The development and interaction of Case and Number in early Russian. In P.G.Fuentes, M.P. Larranaga &amp; J. Clibens (Eds.),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irst Language Acquisition of Morphology and Syntax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pp. 31-59).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msterdam – Philadelph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iseeva, M.B. 2005. Razvitie reči rebenka: vzgljad lingvista.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ssledovanija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4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 18-2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opova, M.I. 1973.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‘Grammatical Elements of Language in the Speech of Pre-Preschool Children’. In C.A. Ferguson &amp; D.I. Slobin (Eds.)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tudies of Child Language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pp. 269-280). New Y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Voeikova, M.D. 2011. </a:t>
            </a:r>
            <a:r>
              <a:rPr b="0" i="1" lang="nl-N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annie etapy usvoenija det’mi imennoj morfologii russkogo jazyka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 Moskva: Z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emskaja, E.A. (Ed.) 2004. </a:t>
            </a:r>
            <a:r>
              <a:rPr b="0" i="1" lang="nl-N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azyk kak dejatel’nost’.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orfema. Slovo. Reč’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 Mosc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9515-4A9F-42EB-9F55-1BD73B3E828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This presentation</a:t>
            </a:r>
            <a:r>
              <a:rPr b="0" lang="en-US" sz="4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	</a:t>
            </a:r>
            <a:r>
              <a:rPr b="0" lang="en-US" sz="4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	</a:t>
            </a:r>
            <a:r>
              <a:rPr b="0" lang="en-US" sz="4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der disti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der agre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se acqui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im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bal asp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FB66-1CF0-43D5-8653-DE3251D37A0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Gender distinction: rules and challeng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ree g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sculine words end in a consonant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d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eminine words end in -a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á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uter words end in -o/-e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ésto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‘place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eminine words end in a soft consonant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l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sculine words end in -a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á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ophony of a-words and o-words with unstressed reduced inflectional suffix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ýbk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‘little fish’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ýbk</a:t>
            </a: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[ә]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áblok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‘apple’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áblok</a:t>
            </a: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[ә]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3041-B7C7-4B71-A18E-6CC30613C86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Monolingual vs. bilingual gender acquisitio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nolingual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ling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inction between regular feminine and masculine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e 2;0–3;0 (Eliseeva, 2005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e 5;0–6;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inction between regular feminine and neuter words with final str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e 3;0–4;0 (Cejtlin, 2009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e 6;6–7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inction between feminine and neuter words with unstressed e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??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e &gt; 7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081B-0904-4E2A-844A-0D9D92848FE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Gender agreement: monolingu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age 3;6 gender agreement is acquired (Popova, 197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) Moja          krasivaja      kniga            ležala  na st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y-f.sg.nom. nice-f.sg.nom. book-f.sg.nom. lay-f.sg. 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‘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y nice book was on the table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397400" y="4794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B4BF-9F27-40AA-B428-E88005B09E1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Gender agreement: bilingual</a:t>
            </a:r>
            <a:r>
              <a:rPr b="0" lang="en-US" sz="4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	</a:t>
            </a:r>
            <a:r>
              <a:rPr b="0" lang="en-US" sz="4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	</a:t>
            </a:r>
            <a:r>
              <a:rPr b="0" lang="en-US" sz="4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bject-verb non-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2) Koška         eta                rybka          &lt;videl&gt; [: videla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at-f.sg.nom. this-f.sg.nom. fish-f.sg.nom. saw-m.s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‘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 cat saw this fish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un-adjective non-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3) …kogda mama   byla       &lt;malen’kij&gt; [: malen’kaja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en    mamma   was-f.sg.   little-m.sg.no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‘…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en mamma was young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687C-F6E8-4F41-A5FC-6B4FD54457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Case acquisition: monolingu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e 1;8-2;6 — ‘frozen’ nominatives – basic functions and forms of the case system in th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Babyonyshev, 1993; Gordishevsky &amp; Schaeffer, 2008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ejtlin, 2009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e 2;6-4;6 — different case meanings and contexts; animacy; regular inflectional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Zemskaja, 2004; Cejtlin, 2009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e 4;6-6;0/7;0 — complete command of irregular and infrequent inflectional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Eliseeva, 2005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EA71-1FDF-4868-98D7-62E361CA415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Case acquisition: bilingu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e &lt; 4;6 — ‘frozen’ nominatives – mini-paradigm of two case forms in the sing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e &gt; 5;6 — in the singular, nominative-accusative opposition is not acquired without mistak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4) Koška       &lt;eta              rybka&gt; [: etu rubku] vid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at-f.sg.nom.  this-f.sg.nom. fish-f.sg.nom. saw-m.s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‘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 cat saw this fish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2761-DB80-4ED8-AA6C-D2481EE2AE2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  <a:ea typeface="Arial Unicode MS"/>
              </a:rPr>
              <a:t>Case acquisition: bilingu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e &lt; 6;6 — no dative, instrumental or prepositional case inflection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5) 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čto &lt;motocikl&gt; [: motociklu] zdes’ nel’zja   exat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at  motor bike-m.sg.nom.           here    may not   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[You have already said] that the motor bike may not ride here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 Unicode MS"/>
              </a:rPr>
              <a:t>Age &lt; 7;0 — only nominative and default genitive in the plur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966C-82A5-4061-8FC8-34CF03ED353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5:00:54Z</dcterms:created>
  <dc:creator>Janssen</dc:creator>
  <dc:description/>
  <dc:language>en-US</dc:language>
  <cp:lastModifiedBy>Alla Peeters Podgaevskaja</cp:lastModifiedBy>
  <dcterms:modified xsi:type="dcterms:W3CDTF">2012-01-29T16:26:59Z</dcterms:modified>
  <cp:revision>64</cp:revision>
  <dc:subject/>
  <dc:title>Typological constraints for the acquisition of gender and case. A cross-linguistic comparison of monolingual and bilingual acquisition of gender and case in Polish and Russian. </dc:title>
</cp:coreProperties>
</file>