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pecific features of Slavic space: conceptualisation and interpre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project proposal</a:t>
            </a:r>
            <a:r>
              <a:rPr b="1" lang="ru-RU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Peeters-Podgaevskaja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anguage Acquisition depart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lavic Languages and Cultures, U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5, 20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7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metry/Topology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 neighbouring space of the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 contact with the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single contact with the locum’ vs. ‘dispersal contact with the locum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17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re is a speck of paint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 ru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18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re are specks of paint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ll ove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 ru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eing in contact with the vertical locum’ vs. ‘being in cont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with the horizontal locum’; ‘adjacency’ vs. ‘support’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 Du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1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Een schilderij hang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de muu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 painting hangs on the wall.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2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Zijn huis lig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het stra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His house stands on the beach.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8040" cy="317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6094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in contact with container’ vs. ‘being in contact with surface’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21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re is a fly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i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 ro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book i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 t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e stays with her frie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ambridge. (= in the city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3-D location is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from all si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2-D location is an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re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1-D location is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ar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ne or a poin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3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sed on ‘real’ characteristics of locatio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usage of spatial prepos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buildings, rooms, etc. are closed places; interpreted a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IN. Squares, beaches, etc. ar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re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us are used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cation can be view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 ignoring configur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features are not distinctive enough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iguit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and conceptualisation of lo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s used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losur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irc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de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meric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sc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ch OP ‘on’ is used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 zijn ka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in his room’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 zol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in the garret’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3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ycken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3; 27-71) formulates a number of categories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loc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, bounded, porous (car, airport, street, villa, embrace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, bounded, non-porous (finger, fire, ston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, unbounded, porous (mist/fog, clouds, air, universe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, unbounded, non-porous (water, dust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, bounded (face, village, city, England, field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, unbounded (world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-CATEGORI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Podgaevskaja 200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buildings with their functions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compartments in buildings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administrative/political units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bounded enclosed areas] (park, garden, monastery, fortr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enclosed extensive homogenous areas with(out) vegetation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tundra, forest, desert, jungle, prair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enclosed extensive water areas] (strait, gulf, bay, harbo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N-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evations of the earth’s surface, enclosed by water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island, peninsula, continent, hill, mountai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small field-like areas] (field, meadow, plo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small pieces of land, cultivated by people] (plantation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vineyard, market, square, bus stop, playground, cou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strips of land] (street, road, beach, shore, coa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upper part of vertical entities] (garret, attic, tre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water basins surrounded by land] (ocean, sea, river, poo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anal, waterfa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[buildings with functions, surrounded by a piece of land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factory, station, farm, mi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 and ON-categori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opposition of cognitive featur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‑dimensionality’ ↔ ‘two‑dimensionality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completely enclosed’ ↔ ‘partially enclosed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profiled boundaries’  ↔ ‘profiled two-dimensional interior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clear boundaries’       ↔ ‘fuzzy boundaries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verticality’                 ↔ ‘supporting surface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large extendedness’   ↔ ‘small extendedness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homogeneity’             ↔ ‘heterogeneity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down’                         ↔ ‘up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into the space’ ↔ ‘control over the space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familiar/strange’    ↔ ‘familiar’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1371600"/>
            <a:ext cx="72392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gofoca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lavic native speakers focus on either one of two mat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the contained space within the boundaries of a loc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ea of contact between localised and loc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ogvlakA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2246400" cy="966960"/>
          </a:xfrm>
          <a:prstGeom prst="rect">
            <a:avLst/>
          </a:prstGeom>
          <a:ln w="0">
            <a:noFill/>
          </a:ln>
        </p:spPr>
      </p:pic>
      <p:pic>
        <p:nvPicPr>
          <p:cNvPr id="92" name="OogvolumeA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2124000" cy="1271880"/>
          </a:xfrm>
          <a:prstGeom prst="rect">
            <a:avLst/>
          </a:prstGeom>
          <a:ln w="0">
            <a:noFill/>
          </a:ln>
        </p:spPr>
      </p:pic>
      <p:pic>
        <p:nvPicPr>
          <p:cNvPr id="93" name="OogvlakB" descr=""/>
          <p:cNvPicPr/>
          <p:nvPr/>
        </p:nvPicPr>
        <p:blipFill>
          <a:blip r:embed="rId4"/>
          <a:stretch/>
        </p:blipFill>
        <p:spPr>
          <a:xfrm>
            <a:off x="5105520" y="5105520"/>
            <a:ext cx="2324160" cy="996840"/>
          </a:xfrm>
          <a:prstGeom prst="rect">
            <a:avLst/>
          </a:prstGeom>
          <a:ln w="0">
            <a:noFill/>
          </a:ln>
        </p:spPr>
      </p:pic>
      <p:pic>
        <p:nvPicPr>
          <p:cNvPr id="94" name="OogvolumeB" descr=""/>
          <p:cNvPicPr/>
          <p:nvPr/>
        </p:nvPicPr>
        <p:blipFill>
          <a:blip r:embed="rId5"/>
          <a:stretch/>
        </p:blipFill>
        <p:spPr>
          <a:xfrm>
            <a:off x="990720" y="4800600"/>
            <a:ext cx="2065320" cy="12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1219320"/>
            <a:ext cx="723924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ussi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 kux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tolok šël skoš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itchen-LOC ceiling-NOM went ob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kitchen the ceiling was oblique.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kux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zvjakivala kastr’ul’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ON kitchen-LOC was tinkling with pans-IN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as tinkling with the pans in the kitchen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6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ik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w/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zamku nie miesz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body IN/ON castle-LOC not l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body lives at/in the castle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1371600"/>
            <a:ext cx="723924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Frame-of-referenc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rom Levinson (199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Intrinsic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6532560" cy="2774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066680"/>
            <a:ext cx="79250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 space we deal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dynamic eve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motions events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Motion do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atic scenes/situa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opology/Geometry do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server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who orientates himself, objects and locations with respect to himself and to each other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rame-of-reference do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 spatial relationship consis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which have to be placed somewhe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ca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with different shapes and configurations which serve as places, sources and goals/destina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movem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rajector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of objects which are moving from one place to another along a certain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General terms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moving objects” vs. “stationary places” –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raj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ndmar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posed by Langacker (199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“location / place” vs. “located object” –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ou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igu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/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latu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me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 propos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cu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calis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1371600"/>
            <a:ext cx="72392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Relative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556236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Absolute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5392800" cy="257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1371600"/>
            <a:ext cx="7239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zyli ostro zaraz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rz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e away FROM OUT IN FRONT OF house-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ore away from in front of the house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ussi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i vyšli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-z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ut-went FROM OUT BEHIND house-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me from behind the house.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EO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ntrinsic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487656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21932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In shor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highlighting of geometrical configurations of LM in static and dynamic even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presupposed knowledge of the whole motion scene and focus on the final stage of the motion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prefix-preposition harmon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egofocality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mapping of motion events onto given static locative situations; division of space around a location into segments which could be interpreted as bounded entities;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-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 Mincho"/>
              </a:rPr>
              <a:t>relevance of verbal aspect when reaching the goal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209600"/>
            <a:ext cx="792468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EOMinion"/>
                <a:ea typeface="MS Mincho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loom, P., M.A. Peterson et al (eds.) 1996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nguage and Spa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Cambridge – Lond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ckens, H. 1993. ‘The Dutch spatial preposition “in”: A cognitive- semantic analysis’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mantics of Prepos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rlin –  New York. 27-71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Genis, R. 2008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udies on the Polish Verbal Prefix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ze-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[Pegasus Oost-Europese Studies 7]. Amsterd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wkins, B.W. 1988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The Natural Category medium: An Alternative to Selection Restrictions and Similar Constructs’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 in Cognitive Linguis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msterdam – Philadelphia. 221-27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tenroth, P.-M. 1993. ‘Prepositions and object concepts: A contribution to cognitive semantics’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mantics of Prepos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rlin – New York. 179-24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ngacker, R.M. 1991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cept, Image, and Symbol. The Cognitive Basis of Gramm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Berlin – New York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1371600"/>
            <a:ext cx="76201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evinson S.C., 1996. ‘Frames of Reference and Molyneux’s Question: Cross-linguistic Evidence’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nguage and spa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Cambridge – Lond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evinson, S.C. 2003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Space in Language and Cognition: Explorations in Cognitive Diversit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evinson, S.C., Wilkins, D. (eds.) 2006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ammars of Spa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dgaevskaja, A. 2008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Konceptualizacija prostranstva i jejo otraženie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russkom jazyke /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Ruimtelijke conceptualisering in het Russisch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[Pegasus Oost-Europese Studi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]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msterd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ay, E., Seibert, U. (eds.) 2003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Motion, Destination and Location in Languag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Amsterdam – Philadelph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in, D.I. 2006, ‘What makes manner of motion salient? Exploration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uistic typology, discourse, and cognition’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in Languages: Linguistic Systems ans Cognitive Categori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msterdam – Philadelphi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Zee, E. van der, J. Slack (eds.) 2003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resenting Direction in Language and Spa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xf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lmy, L. 2000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gnitive seman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gerer, F., H.J. Schmid 1997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 Introduction to Cognitive Linguis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London – New Y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tion event consis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jec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nd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jectory/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r     motion             source          goal              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He sailed  from Canada to Europe along the shortest ro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r       motion                            source        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2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e came back from the market through the pa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ner of the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r      manner    path                 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3)     We  fell        off into the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     The manner of motion can be packaged together with the path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verb stem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verb-fram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anguages (Talmy 2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    The manner of motion is expressed by a verb and the path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pressed by particles, prepositions, etc.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atellites-fram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angu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manner of motion and the path are expressed by equival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ammatical form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quipollently-fram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anguages (Slobin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lavic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ce betwe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ussi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 id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a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IN theatre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 the theatre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a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IN theatre-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m in the theatre.’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sc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ę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ko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to school-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to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zko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IN school-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at school/ in the school.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8040" cy="31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94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stage of the 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ype of contact betwee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jector and the landmark/goal, is highlight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 and pre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ing in neighbouring space to the landmark/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ussi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 id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šk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WARDS school-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hing the landmark/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 id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ško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 school-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OMinion"/>
              </a:rPr>
              <a:t>-     </a:t>
            </a:r>
            <a:r>
              <a:rPr b="0" lang="en-US" sz="2000" spc="-1" strike="noStrike">
                <a:solidFill>
                  <a:srgbClr val="000000"/>
                </a:solidFill>
                <a:latin typeface="EOMini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ing in contact with the landmark/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 id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ško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IN school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o to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o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ę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to school-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to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fix-preposition harmon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 repetition of th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notion expressed by a verbal prefix in the prepositional noun phr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Genis 200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 Po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2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zł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lic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THROUGH‑walked THROUGH/ACROSS street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crossed the street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 Russi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3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v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šl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ško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IN-came IN school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entered the school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bal a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o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4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zł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licę. –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rf.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THROUGH‑walked THROUGH/ACROSS street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crossed the street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5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zła ulicę. –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rf.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THROUGH‑walked street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crossed the street.’/ ‘Ania walked past the street (she was looking for)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zł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prze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licę. –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Imperf.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walked THROUGH/ACROSS street-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ia crossed the street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8040" cy="31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76720" y="6094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 Peeters Podgaevskaja</cp:lastModifiedBy>
  <dcterms:modified xsi:type="dcterms:W3CDTF">2009-05-18T21:02:22Z</dcterms:modified>
  <cp:revision>96</cp:revision>
  <dc:subject/>
  <dc:title>    Ruimtelijke conceptualisering van fysieke locaties-landmarks  in het Oud-Russisch    </dc:title>
</cp:coreProperties>
</file>