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br>
              <a:rPr sz="4400"/>
            </a:br>
            <a:r>
              <a:rPr b="1" lang="ru-RU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Социолингвистический </a:t>
            </a:r>
            <a:r>
              <a:rPr b="1" lang="ru-RU" sz="3200" spc="-1" strike="noStrike">
                <a:solidFill>
                  <a:srgbClr val="fc0128"/>
                </a:solidFill>
                <a:latin typeface="Times New Roman"/>
              </a:rPr>
              <a:t>и речевой </a:t>
            </a:r>
            <a:r>
              <a:rPr b="1" lang="ru-RU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портрет</a:t>
            </a:r>
            <a:r>
              <a:rPr b="1" lang="ru-RU" sz="3200" spc="-1" strike="noStrike">
                <a:solidFill>
                  <a:srgbClr val="fc0128"/>
                </a:solidFill>
                <a:latin typeface="Times New Roman"/>
              </a:rPr>
              <a:t>ы</a:t>
            </a:r>
            <a:r>
              <a:rPr b="1" lang="ru-RU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двуязычного ребенка. Методические подходы в преподавании </a:t>
            </a:r>
            <a:r>
              <a:rPr b="1" lang="ru-RU" sz="3200" spc="-1" strike="noStrike">
                <a:solidFill>
                  <a:srgbClr val="fc0128"/>
                </a:solidFill>
                <a:latin typeface="Times New Roman"/>
              </a:rPr>
              <a:t>русского языка</a:t>
            </a:r>
            <a:r>
              <a:rPr b="1" lang="ru-RU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как второго. </a:t>
            </a:r>
            <a:br>
              <a:rPr sz="3200"/>
            </a:br>
            <a:r>
              <a:rPr b="0" lang="nl-NL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етерс-Подгаевска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Речевой портрет двуязычного ребенка</a:t>
            </a:r>
            <a:r>
              <a:rPr b="0" lang="ru-RU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6-7 л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Фонетика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/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нтон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увулярно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вместо апикальног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шепелявень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нтонационный рисунок нарушен (особенно в восклицательных и вопросительных предложениях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сутствие согласования в роде между существительными, прилагательными, числительными (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дин-два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) и глаголами прошедшего време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сутствие согласования в падеже между существительными, прилагательными, числительными и притяжательными местоимени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еразличение видовых пар (проявляется прежде всего в будущем време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бразование окончаний в падежах по аналогии, т.е. выравнивание парадигм (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этажёв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ловарёв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бразование по аналогии сравнительной степени прилагательного и наречия (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высокее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ширее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сутствие родительного падежа при отрица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употребление предлога С с творительным инструментальным (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исать с ручкой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бросить с камнем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н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характеризуется высокой морфотактической прозрачность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сутствие морфонологических чередований в корн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выравнивание парадигмы глагола (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целоваю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лакаю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устранение наращивания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ыновья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времени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матери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граниченное употребление предлогов (предлоги ПЕРЕД, НАД, ПОД, ЧЕРЕЗ практически не встречаютс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сутствие корректного глагольного предложно-падежного управлени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использ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какой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в функции относительного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который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определительных придаточ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использование конструкции с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адо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вместо повелительного наклон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использование союзов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тому что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когда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(и иногда 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чтобы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aramond"/>
                <a:ea typeface="Times New Roman"/>
              </a:rPr>
              <a:t>Языковые параллели с детьми метропол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совпадение основного, базового словарного запа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четкое различение единственного и множественного чис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знание глагольной парадигмы как в настоящем, так и в прошедшем времени (поскольку она функционально нагружен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активное употребление повелительного наклонения глаго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правильное употребление личных, вопросительных и отрицательных местоим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знание наречий, вопросительных слов, эмоциональных части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активное использование</a:t>
            </a:r>
            <a:r>
              <a:rPr b="1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уменьшительных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 форм существитель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правильное использование сравнительной степени и аналитической превосходной степени прилагательног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активное использование предлогов В, НА, О, ПРО, У, С, ИЗ, О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знание специфики падежей при обозначении движения, места, времени (в датах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  <a:ea typeface="Times New Roman"/>
              </a:rPr>
              <a:t>те же проблемы с чередованием гласных и согласных в корне, с оглушением – озвончением согласных, с разделительными Ь и 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дл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языч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представляет собой пособ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еников в возрасте 7-12 л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пользования как в стенах школы, так и в домашних услов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льзователя как в Нидерландах, так и за пределами стра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усскому языку дл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языч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 на развитие навыков устной и письменной речи 7-12-летних де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рается на методик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ную на конкретном опы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рующуюся на анализе конкретных языковых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дшую апробацию на конкретном учени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винская, М.Я. 200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и специфические процессы в языке метрополии и эмигра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русского зарубежья. Общие процессы и речевые портре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сква – Вена, 341-48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ева-Монаткина, Н.И. 199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е особенности русской речи потомков Русского Зарубежья во Фран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истика сегод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п. 1, 70-9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ева-Монаткина, Н.И. 1998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ароэмигрантской реч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 типологии современной русской речи Дальнего Зарубежья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истика сегод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п.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88-9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ая, Е.А. 1999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гасании письменной формы русского языка в среде эмигра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Якобсон. Тексты, документы,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сква, 599-6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ая, Е.А. (ред.) 2001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русского зарубежья. Общие процессы и речевые портре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сква – Ве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ая, Е.А. 2004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как деятельность. Морфема. Слово. Реч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ск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улов, Ю.Н. 1992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усском языке зарубежь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языкозн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, 5-1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сова, Е. 1996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усского языка у живущих в Герман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истика сегод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п. 1, 51-7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сова, Е. 1998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усского (первого) языка 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щих в Финлянд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истика сегод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п.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202-20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33516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Социолингвистический порт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язычный реб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русск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хал в дошкольном возрасте (навыков чтения и письма нет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хал после нескольких классов начальной школы (навыки чтения и письма незначительн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говорят по-русски, преобладает устная форма об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е общение с ребенко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мейном круг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о 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кольким часам в д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другими носителями русского язы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r>
              <a:rPr b="0" lang="nl-NL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ние иноязычно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лжен в краткие сроки изучить язык страны пребывания </a:t>
            </a: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тупают механизмы подавления первого родного язы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поощряют изучение иностранного языка, небрежно относятся к первому родному языку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начинают говорить на макараническом язы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осваивается в школе, не дублируется на русском языке </a:t>
            </a: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ые области знания исключены из русскоязычной понятийной сферы. В результате языки вступают в отношения дополнительной дистрибу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имеет сниженный стату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м не говорят друзья, школа и т.д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 способствует новым социальным контактам, не связ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спехом в обществ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м говорят родители, с трудом адаптирующие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овой ситуации и плохо говорящие на язык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ы проживания </a:t>
            </a: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ребенка возника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й комплекс неполноценности собствен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язычный реб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родителей говорит, пишет и думает на литературном русском языке. Важна степень образованности родит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йное общ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сновном на иностранном язы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ние иноязычно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е общение с ребенком ограниче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колькими часами в ден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другими носителями русского языка сведено к миниму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осваивается в школе, не дублируется на русском языке </a:t>
            </a: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ые области знания исключены из русскоязычной понятийной сферы. В результате языки вступают в отношения дополнительной дистрибу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имеет сниженный стату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2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eit van Amsterdam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Garamond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34800" cy="31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1600200"/>
            <a:ext cx="76960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шивать два языка, а следовать принципу «один родитель – один язык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авлять ребенка говорить только по-русски при общении 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язычным родител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ься к максимальной диалогичности реч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таться повысить статус русского язы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 поправлять ошибки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обладать невероятн</a:t>
            </a:r>
            <a:r>
              <a:rPr b="0" lang="ru-RU" sz="2400" spc="-1" strike="noStrike">
                <a:solidFill>
                  <a:srgbClr val="fc0128"/>
                </a:solidFill>
                <a:latin typeface="Times New Roman"/>
              </a:rPr>
              <a:t>ым терпением, </a:t>
            </a:r>
            <a:r>
              <a:rPr b="0" lang="ru-RU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стойкостью характера и не надеяться на сиюминутный результат</a:t>
            </a:r>
            <a:r>
              <a:rPr b="0" lang="ru-RU" sz="2400" spc="-1" strike="noStrike">
                <a:solidFill>
                  <a:srgbClr val="fc0128"/>
                </a:solidFill>
                <a:latin typeface="Times New Roman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 Peeters Podgaevskaja</cp:lastModifiedBy>
  <dcterms:modified xsi:type="dcterms:W3CDTF">2007-11-30T13:07:34Z</dcterms:modified>
  <cp:revision>27</cp:revision>
  <dc:subject/>
  <dc:title>    Ruimtelijke conceptualisering van fysieke locaties-landmarks  in het Oud-Russisch    </dc:title>
</cp:coreProperties>
</file>