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comments/comment1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Baker, A.E." initials="B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01-12T11:10:54.229000000" idx="1">
    <p:pos x="1456" y="2810"/>
    <p:text>laoyout aangepast</p:text>
  </p:cm>
</p:cmLst>
</file>

<file path=ppt/comments/comment5.xml><?xml version="1.0" encoding="utf-8"?>
<p:cmLst xmlns:p="http://schemas.openxmlformats.org/presentationml/2006/main">
  <p:cm authorId="0" dt="2012-01-12T11:36:39.598000000" idx="2">
    <p:pos x="3621" y="1342"/>
    <p:text>has to be plural I think. Also it is not clear fromt he previous slides what you mean by phonological differences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E4F6-3450-42B5-8CB5-7ADA4A8FB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E40D-B48F-4C2A-A899-C6E3AF56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еми годам у ребенка полностью складывается грамматика родного языка. Более 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оварного запаса. Есть явления, которые освоены плохо, числительные, синтаксис сложных предложений. Но основа уже е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если ребенок переехал с иную страну в возрасте 7 лет и старше, шанс того, что его язык сохранится, гораздо вы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F9C6-CD3F-45B4-BB02-2D7988A4D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им, что билингв отстает от монолингва в среднем на два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7FBB-7885-42A7-9C74-A08C0898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ая ситуация с билингвами. Но довольно быстро выравнивается, если правильно и граммотно браться за дело и учить ребенка язы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54AF-2F04-42FB-AC5A-4B6A66E7F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одители ничего не делают, то язык ребенка быстро исчезает, становится примит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ранние, так и поздние билингвы все время сомневаются в правильности своей речи, то чего нет у монолинг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инпута: ребенок вырван из нормальной языковой среды. В монолингвальном социуме окружение заботится о том, чтобы ребенок выучил язык. В иноязычном социуме этим должны заниматься родители. Родители не готовы и не уме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ются мало с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но, кто носитель Я2: отец или 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получают мало информации из фильмов, книг и т.д., мало общаются с родственниками и друзь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и усилия распределяются между двумя языками – сокращение инпу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 – аудитивный канал, через устную речь со всей ее спецификой (элипсисы, опущения, повтроы, реду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оддерживается школьными навыками и тренировкой письменной ре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мотивирован говорить на другом языке, язык – прежде всего коммуникация. С языком 2 связаны определенные ситуации, ассоциации, эмоции, не всегда позитив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C051-E925-4118-8BE9-C367D028E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F7C9-5380-4F29-9902-1E476B89E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откие фразы, повторение местоимения ОН, отсутствие пунктуации, порядок слов, опущение предлогов, влияние разговорной речи в орф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BFE7-4365-44BD-9A61-C2B3D689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зы сложнее, но странный синтаксис, больше ошибок в окончаниях, разговорный стиль, слабое знание падеж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бщения с двуязычными студентами много становится ясным в отношении родителей к поддержанию языка у ребенка. Дети, вырастая, обвиняют родителей в том, что те не сделали усилий, не занимались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67C4-E5BE-4E8E-9B66-852D0025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зы сложнее, но странный синтаксис, больше ошибок в окончаниях, разговорный стиль, слабое занние падеж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0DFD-C100-4774-B03E-020534CEB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говорах с билингвами многое прояснилось прежде всего, что касается стратегий поведения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, есть идеальные родители, которые все делают правиль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ав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здят в Росс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шают родственников 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ляют детей в русские лаге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ы, конкурсы, рус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ут дру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го уровень владения языком, к сожалению, зачастую является результатом выбора, сделанного не им, и родители очень часто забывают об этом. Понятно, что, если они не исправляют речь ребенка, не предлагают ему правильных вариантов, не настаивают на том, чтобы он употреблял грамматически правильные формы и конструкции в своей речи, то, как показывает опыт, такой ребенок будет делать в речи и на письме множество ошибок и всегда будет испытывать неуверенность в том, насколько правильно он говорит или пишет. Если родители не учат ребенка писать и читать по-русски, то он будет лишен новых источников обогащения собственного языка и получения дополнительной информации, никогда не овладеет правилами грамматики, а значит, и его собственная грамматика, не подкрепленная продолжительной письменной тренировкой, будет несовершенной, с большим количеством изъянов, что в конечном счете приведет все к той же неуверенности в правильности своей речи. А это может привести к осознанию некой ущербности и в конце концов к нежеланию общаться на русском языке (см. такж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i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2002: 23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55F6-8DF6-47C4-AE11-61CA1FA6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995F-0499-434D-9E3C-FC94FAF61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лингвист, не психолог, культуролог, этнолог, поэтому меня прежде всего интересует языковая сторона развития билингва. Я не буду говорить о том, что это замечательно, быть билингвом, что это обогащение личности - способность в себе заключать два мира и т.д. Никто не станет спорить с этими постулатами. Я вас не буду агитировать за то, чтобы ваши дети стали билингвами. Вы здесь, а это значит, что вы сделали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у сказать лишь одно: двуязычие – это выбор. Одноязычие – это совершенно нормальное состояние: человек должен говорить на каком-то языке. Двуязычие – это активный выбор не только родителей, но и самого ребенка, это усилие, которое необходимо делать каждый день. Не всякий готов к этому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язычный человек – это не один язык плюс другой. Это особое соотношение языков. В совокупности билингв знает всегда больше монолингва: понятия, реалии и т.л. Например: глаголы движения в русском и англ. или гол. Но по отдельности каждый язык билингва беднее языка монолингва. Язык монолингвов сравним между собой, а соотношение двух языков у билингва всегда своеобразное, иное, не похожее на сосе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A57E-913E-4C35-9F6F-6F3BDF142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NewRomanPSMT"/>
              </a:rPr>
              <a:t>Эти подходы не приносят большого результата, поскольку они направлены на пассивное общение со стороны ребенка. Язык – это говорение, и ребенок научится говорить, если будет говорить, а не только слушать. БОЛЬШОЕ ЗАБЛУЖ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8D75-A427-4D50-9D3B-CA0FF6636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Принцип «Один родитель – один язык» был предложен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usan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Döpke,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которая показал эффективность этого метода. Разграничение языков и носителей необходимо для разграничения языковых кодов в голов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Döpke, S. 1992. </a:t>
            </a:r>
            <a:r>
              <a:rPr b="0" i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One parent one language: an interactional approach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. Amster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NewRomanPSMT"/>
              </a:rPr>
              <a:t>Применение стратегий </a:t>
            </a:r>
            <a:r>
              <a:rPr b="0" i="1" lang="nl-NL" sz="1200" spc="-1" strike="noStrike">
                <a:solidFill>
                  <a:srgbClr val="000000"/>
                </a:solidFill>
                <a:latin typeface="TimesNewRomanPS-ItalicMT"/>
              </a:rPr>
              <a:t>продвижения </a:t>
            </a:r>
            <a:r>
              <a:rPr b="0" lang="nl-NL" sz="1200" spc="-1" strike="noStrike">
                <a:solidFill>
                  <a:srgbClr val="000000"/>
                </a:solidFill>
                <a:latin typeface="TimesNewRomanPSMT"/>
              </a:rPr>
              <a:t>и </a:t>
            </a:r>
            <a:r>
              <a:rPr b="0" i="1" lang="nl-NL" sz="1200" spc="-1" strike="noStrike">
                <a:solidFill>
                  <a:srgbClr val="000000"/>
                </a:solidFill>
                <a:latin typeface="TimesNewRomanPS-ItalicMT"/>
              </a:rPr>
              <a:t>переключения кода/языка, </a:t>
            </a:r>
            <a:r>
              <a:rPr b="0" lang="nl-NL" sz="1200" spc="-1" strike="noStrike">
                <a:solidFill>
                  <a:srgbClr val="000000"/>
                </a:solidFill>
                <a:latin typeface="TimesNewRomanPSMT"/>
              </a:rPr>
              <a:t>при которых ребенок</a:t>
            </a:r>
            <a:r>
              <a:rPr b="0" lang="ru-RU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NewRomanPSMT"/>
              </a:rPr>
              <a:t>выбирает говорить на первом языке и не получает стимуляции для говорения на втором</a:t>
            </a:r>
            <a:r>
              <a:rPr b="0" lang="ru-RU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NewRomanPSMT"/>
              </a:rPr>
              <a:t>языке, скорее всего, приведет к тому, что ребенок вырастет монолингвом и не науч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NewRomanPSMT"/>
              </a:rPr>
              <a:t>говорить на втором языке, хотя будет способен понимать его. </a:t>
            </a:r>
            <a:r>
              <a:rPr b="0" lang="ru-RU" sz="1200" spc="-1" strike="noStrike">
                <a:solidFill>
                  <a:srgbClr val="000000"/>
                </a:solidFill>
                <a:latin typeface="TimesNewRomanPSMT"/>
              </a:rPr>
              <a:t>Хотя  это еще вопрос, в какой мере ребенок понимает пассивно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NewRomanPSMT"/>
              </a:rPr>
              <a:t>Стратегии, стимулирующие</a:t>
            </a:r>
            <a:r>
              <a:rPr b="0" lang="ru-RU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NewRomanPSMT"/>
              </a:rPr>
              <a:t>ребенка говорить на определенном языке, напротив, доказали свою эффективность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NewRomanPSMT"/>
              </a:rPr>
              <a:t>развитии у ребенка способности общаться на двух языках (de Houwer, 2009: 138-1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3. Для ребенка важна коммуникация, не стоит бояться, что ребенок замолчит. Не значит, что сразу получится. Главное – последовательность. Выработка рефлек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овторять, что говорит ребенок, но правиль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росить повторить его, хотя бы фрагмент. Чем старше ребенок становится, тем легче и быстрее он повторя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оправлять НАМЕКОМ. НАЧИНАТЬ СЛОВО, ВОПРОСИТЕЛЬНО СМОТРЕТЬ НА РЕБЕНКА, особенно это касается правильных ф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не думать, что два раза поправил, и ребенок запомнил. Эффект появляется после 100 раз, а иногда через года. Не стоит думать, что это не ваша заслуга, а ребенок сам дошел, как надо правильно говорить. Дойти ребенок не может, ему нужна фиксация внимания на правильных фор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оправлять всегда, но четко различать, что надо поправить сейчас, а к чему вернуться потом. А для этого надо знать, что и когда усваивает ребенок в своем Я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во время беседы прерывать мало. Попытаться запомнить несколько ошибок и оговорить их по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не торопиться закончить за ребенка, давать ему выговориться, где-то помогая, а где-то пусть сам выплывает. Знать, что может сказать ребенок сам, но торопиться, лениться и т.д., а что не сможет сказать и тут помоч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NewRomanPSMT"/>
              </a:rPr>
              <a:t>Мучительно длительный процесс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BBDA-698E-4DF4-889C-6081BF3D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33AC-6BA5-4766-8796-373A40611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Ошибки, которые делает ребенок, связаны 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отсутствием автоматизации: ребенок в принципе знает, как надо сказать, но форма еще не автоматизиров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овторять, что говорит ребенок, но правиль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росить повторить его, хотя бы фрагмент. Чем старше ребенок становится, тем легче и быстрее он повторя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не думать, что два раза поправил, и ребенок запомнил. Эффект появляется после 100 раз, а иногда через года. Не стоит думать, что это не ваша заслуга, а ребенок сам дошел, как надо правильно говорить. Дойти ребенок не может, ему нужна фиксация внимания на правильных фор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оправлять всегда, но четко различать, что надо поправить сейчас, а к чему вернуться потом. А для этого надо знать, что и когда усваивает ребенок в своем Я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во время беседы прерывать мало. Попытаться запомнить несколько ошибок и оговорить их по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не торопиться закончить за ребенка, давать ему выговориться, где-то помогая, а где-то пусть сам выплывает. Знать, что может сказать ребенок сам, но торопится, ленится и т.дд, а что не сможет сказать и тут помоч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Он бьет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Нет, от не бьет, он ....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дер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Два люди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жест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 Две людя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оправляю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 Два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Создавать конфликтные ситу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Как жаль, что быка убивает дядя. – Бык убивает дяд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Мама, ты сам неправильно говоришь.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объясняю, что я не мальчик....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AC18-10D9-4F8E-A0C2-8057A4286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DEBC-3CF0-4169-B2FF-8F03ACDBB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Нужно развивать автоматизацию чтения, длительный процесс, при активном чтении – до двух лет, при пассивном чтении – и через четыре года ребенок читает, как будто он дислек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Надо различать два типа чт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Количественное чтение – наматывание километров для автомат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Качественное чтение – для выучивания новых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остоянно менять типы чтения. Есть у родителя время – углубиться в качетсвенное чтение, нет – количествен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06D9-29CF-4F54-A018-4B595DA19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Вставить букву или переписать слово не достаточ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Диктанты важны – восприятие языка на слух, особенно важно для русского языка с его редукцие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Изложения более сложный тип работы – в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D00A-6A8C-4236-B299-96E777FA2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3F0B-7D9E-42E5-8842-D83AF7C4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4251-C303-40DD-B0EE-338280F2B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усы двуязыч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ый словарный запас на двух языках или на одном из них. Связано с возможностями оперативной и долгосрочной памяти и ее объем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язычный ребенок знает больше слов, конструкций, понятий в совокупности, но в каждом отдельном языке – меньше. Ничего не подел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ало повод говорить о недоразвитии двуязычных детей, в начале и середине 20-го 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Volterra, V. and T. Taeschner.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1978. ‘The acquisition and development of language by bilingual children’. </a:t>
            </a:r>
            <a:r>
              <a:rPr b="0" i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Journal of Child Languag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, pp. 311-3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erra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de-DE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Taeschner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утверждали, что билингвы отстают по своему вербальному развитию, а значит, и в когнитивном отношении они уступают монолинг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лю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ory Control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истема контроля и подавления второстепенной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лове билингва всегда активированы зоны, отвечающие за оба язык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сперименты), но дети способны подавлять зоны второго языка. Ослабление контроля ведет 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ps of the to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ноязычным вкраплениям и т.д. Сами говорим: «Начинаю путаться от усталост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op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мы не говорим о разносторонности личности, о сплаве двух культур, о способности релятивировать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язычие способствует задержке развития Альцгаймера, если проблемы не наследственные. Исследова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en Bialysto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198F-FC1A-492D-A623-50AA0AF0C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й период – период, который знаменует собой границу способности выучить Я2 на уровне носителя языка – монолинг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ные мнения. Сходятся в одном: после 12 лет возможность выучить язык на уровне монолингва исчеза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язано с развитием определенных отделов головного мозга, отвечающих также за половое созрев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язано с артикуляционным аппаратом, не способным более передать специфику фонологического репертуара определенн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ились различные исследованияю Последнее, наиболее значимое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Abrahamsson, N. &amp; Hyltenstam, K. 2009. Age of Onset and Nativelikeness in a Seco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Language: Listener Perception Versus Linguistic Scrutiny. 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Language learning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, 59:2, pp. 249-3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Только одна испытуемая по 9 показателям из 10 соответствовала норме монолинг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Наиболее благоприятный возраст для изучения Я2 – 2 – 3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E213-8F65-43EB-B221-DB05D8476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ый язык – который усваивается при контакте с родителями, матерью в самом начале жизни. Вторичный – тот, который ребенок слышит позднее, в окружении, от других нос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язык – тот которым владеет на уровне носителя. Второй – который выучил позднее или владеет в меньшей степ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D918-B83C-4938-AB71-561B7A55E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гипотеза относится к середине 20-го века. Сейчас пришло понимание, и найдены доказательства того, что языки с самого начала развиваются самостоятельно. Но не значит, что языки не влияют друг на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ся прежде всего к симультанным билингвам. У последоваткльеных билингвов две системы развиваются раздельно. Н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6F1E-1C94-404F-A00D-90F54AAB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шение языков или путаница возникает не всегда осознанно. Имеет разные причины, но всегда обусловлены коммуникацией. Ребенок-носитель хочет что-то донести до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знает слова, конструкции, понятия. Выбирает из языка, в котором он это слово зн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знает слово и т.д., но оно не автоматизировано. Его надо добывать из памяти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ие подавить в себе это желание и осознанно пытаться донести информацию на Я2 путем объяснения, описания и т.д. характерно для более взрослых носителей и требует определенной тренир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ключение кода связано со скоростью и экономией речи, эффективностью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эмоций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tte Pavlenko, Language of Emo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ие или изоляция партнера из этнического социума, окружения, 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 ругаются на другом я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ереходе с одного языка на другой билингвы никогда не делают это посреди слова, синтагмы и т.д., а всегда на границе двух частей, сег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ференц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знает финитного глаг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знает управления глагола и предл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гол там, где его н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ции из г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ференция не всегда из доминантного языка. Позиционные глаголы: следуют наиболее понятной логике – Лодки лежат на в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6FBC-2313-4BB5-909F-2D0897EEF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представить, что ребенок в равной степени владеет двумя языками, у него все равно сохранится некоторая неуверенность в оценке тех фактов, которые он слышит, читает, воспринимает. Так называемый тес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ticality judgeme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к правило, выполняется билингвами хуже, чем монолинг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о, что несбалансированное двуязычие бывает и у ранних и у поздних билинг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D4BF-B108-4622-B987-D05D5442B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говорим с вами о ранних и поздних билингвах, детях, которые переехали в новую страну после того, как начали осваивать или освоили первый родной язы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нутрипадежное смешение оконч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у существительных разных склонений (род. и дат. пад. у сущ. жен. рода; экстраполяция твор. пад. муж. рода на сущ. первого склоне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у прилагательных и местоимений-прилагательных (твор. и предл. па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Смешение сущ. жен. и сред. 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Ненормативное склонение несклоняемых и разносклоняемых сущ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Не усво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категория одушев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третье склонение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luralia tant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стн. пад. н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у сущ. муж. р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род. пад. мн. ч. с нулевой флекс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сущ. с беглой глас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склонение числитель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 Смешение форм склонения у относительных и вопросительных местоим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. Ненормативное образова­ние степени сравнения у прилагательных и наречий (по регулярной модели)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F16-D025-4CC9-8503-88B310F02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DD3-E9EB-45C8-8B63-7FDA58C0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D34-87CD-45F2-8AE4-F83CBB4E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38C-30DD-4EF3-AF1F-1205EBCC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7A5-5A5E-4976-B5FB-5951806A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B1A-F5F9-4696-A490-1090A4F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A21-9658-45E5-9472-3BF3264C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17F-2A78-4BEE-B917-92BC60FB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5F9-5A5A-4F8F-8F66-1DEBF9D3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FB5-C3D6-4ED1-87CE-D63A39BF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FA9-429B-47D6-A8D2-1C68334E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1F1-6019-48C9-A53F-355DE097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F72-E2BE-47F3-98AA-72C8899F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6B6A-84E9-4EA9-99F4-1AE565888775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A.V.Peeters-Podgaevskaja@uva.nl" TargetMode="External"/><Relationship Id="rId2" Type="http://schemas.openxmlformats.org/officeDocument/2006/relationships/hyperlink" Target="mailto:A.V.Peeters-Podgaevskaja@uva.n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3436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и двуязычные де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2971440"/>
            <a:ext cx="7345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  <a:ea typeface="Arial"/>
              </a:rPr>
              <a:t>А.В Пеетерс-Подгаевск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Кафедра Славянских языков и куль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Амстердамский универс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98989"/>
                </a:solidFill>
                <a:latin typeface="Arial"/>
              </a:rPr>
              <a:t>Русская школа в </a:t>
            </a:r>
            <a:r>
              <a:rPr b="0" i="1" lang="en-US" sz="2800" spc="-1" strike="noStrike">
                <a:solidFill>
                  <a:srgbClr val="898989"/>
                </a:solidFill>
                <a:latin typeface="Arial"/>
                <a:ea typeface="Arial Unicode MS"/>
              </a:rPr>
              <a:t>Eindhoven</a:t>
            </a:r>
            <a:r>
              <a:rPr b="0" i="1" lang="ru-RU" sz="28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i="1" lang="nl-NL" sz="2800" spc="-1" strike="noStrike">
                <a:solidFill>
                  <a:srgbClr val="898989"/>
                </a:solidFill>
                <a:latin typeface="Arial"/>
                <a:ea typeface="Arial Unicode MS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727280" y="6004080"/>
            <a:ext cx="5724360" cy="685800"/>
          </a:xfrm>
          <a:prstGeom prst="rect">
            <a:avLst/>
          </a:prstGeom>
          <a:ln w="0">
            <a:noFill/>
          </a:ln>
        </p:spPr>
      </p:pic>
      <p:sp>
        <p:nvSpPr>
          <p:cNvPr id="51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25D0-1B0D-4F2D-93C0-1ABD2EFD22F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освоения русского языка как родного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1905120"/>
            <a:ext cx="82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6 – 7 л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Усвоены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лонение существительных всех разрядов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егор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душевленности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ние мн. числа у существительных с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ащением и сокращением основ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 Окказиональное смешение окончаний у числительных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ушения в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гласовании числительного и существительног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 Видо-временные отношения усвое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 Окказиональное образование причастий и деепричастий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C3A5-52A3-41DD-98CF-6003273533F6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поставление монолингва и билинг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олингв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линг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ение и употребление муж. и жен. ро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– 3 года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6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ение сред. и жен. 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;6 – 7 л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ление вида глаг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– 8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4735-CF0A-4206-8FFD-E98BA9E2FC58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освоения русского языка как второго родно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4920" y="1599840"/>
            <a:ext cx="85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6 – 7 л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宋体"/>
              </a:rPr>
              <a:t>Nast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перь рыбка там и он возьмит [:берёт] &lt;э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ыбка&gt; [:эту рыбку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宋体"/>
              </a:rPr>
              <a:t>Nast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он [:у него] теперь эта рыбка есть, но [:а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шка &lt;эта рыбка видел&gt; [:эту рыбку увидела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宋体"/>
              </a:rPr>
              <a:t>Ex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что кошка дела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宋体"/>
              </a:rPr>
              <a:t>Nast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 [:она] хочет &lt;эта рыбка&gt; [:эту рыбку] покуш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宋体"/>
              </a:rPr>
              <a:t>Ex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га, наверное. А что мужчина дела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宋体"/>
              </a:rPr>
              <a:t>ast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 пойдил [:пошёл] домой и +/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F33C-A826-4A1B-98D7-CD9073911DB0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чины языковой аттриции или неполного освоения язы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4920" y="1599840"/>
            <a:ext cx="85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три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утрата автоматизации речи, упрощение языко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, забвение некоторых языковых стуктур (калькирова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щение конструкций, построения по аналоги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лное освоение язы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усвоение отдельных плас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и лексики Я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ый инп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Я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дитивный канал (устный инпу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внутренней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ность системы Я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D6C0-977B-4CE8-8E03-D0F1AACFFA7E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ы языковой аттриции или неполного освоения язы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E6B3-A0E9-4D88-9FA1-5CBAA4744243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0" name="Tijdelijke aanduiding voor tekst 2" descr=""/>
          <p:cNvPicPr/>
          <p:nvPr/>
        </p:nvPicPr>
        <p:blipFill>
          <a:blip r:embed="rId1"/>
          <a:stretch/>
        </p:blipFill>
        <p:spPr>
          <a:xfrm>
            <a:off x="2438280" y="1428840"/>
            <a:ext cx="4689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ы языковой аттриции или неполного освоения языка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1599840"/>
            <a:ext cx="85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ние билинг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я М. (22) приехала в 4 года, один год ходила в русскую школу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стердаме, с мамой говорила по-русски, прошла годовой курс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верситете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ужчина стоит в трусах. Он делает себе завтрак. Он жарет яйц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он не толко себе делает потомучто кажется что он смотрет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человека. Он выглядит как будто он не знает что делать. А 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жу две тарелки. Может он хотел сюрприз зделать жене. Он хоте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лать приятно но быстро понел что приготовить яица не лехк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раз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FF62-966D-4887-833C-68EBAB3ED39F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ы языковой аттриции или неполного освоения языка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99840"/>
            <a:ext cx="85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ние билинг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я У. (22) приехала в 5 лет, два года ходила в русскую школу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стердаме, с мамой говорила по-русски, прошла годовой курс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верситете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 натуре мой дядя неряшливий, даже я как маленький ребен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ю лудше убирать свои вещи, как мама меня учила. Но по краи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е дядя уже поставил две тарелки, для яишницу, но что из ни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ся, пока еще не знаю. Конечно нелзя смеяться на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рослом человеком которой хочет сделать доброе дело для сво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чке, но выглядет он очень прикольно когда готовит. Мн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о, выучит ли он наконец-то как правельно сготовить хоть чт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будь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A236-E91A-4499-BD44-3C338C42F138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ы языковой аттриции или неполного освоения языка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4920" y="1599840"/>
            <a:ext cx="85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дние билинг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тем В. (28) приехал в 11 лет, с мамой говорил по-русски, язык н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ивал, полгода учил русский язык в университете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ван Иванович, пожелой мусчина, проживает во Франции на сво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льные зароботки до пенсии. С криком проснувшись этим утр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очередной выпивки он забежал в кухню, чтобы насытить с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роинный желудок. Славо богу, в холодилничке лежали д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ытые яйца. Стоя над сковородкой все еще почти голишем, но 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ником, он взял в руки яйца, чтобы их расколоть. И вдру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ича испугнул сильный стук в дверь. Стук был такой громки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се кухонные приборы на стенах загремели. Жуткий страх затрё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а Ивановича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26F2-7D13-41FA-A643-3A2D6F578F9D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дительские стратегии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не желают учить детей русскому языку, стремятся адаптироваться в новом социуме, считают, что дети сами когда-нибудь выучат язы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разговаривают с ребенком по-русски, но делают это непоследовательно, мирятся с макараническим стилем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ограничиваются устной формой общения с ребен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всеми силами пытаются сохранить русский язык у ребенка, однако в своем целенаправленном стремлении используют мног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гативног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ed back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0C89-42FB-482D-93F4-EAB6E0E58AA1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дительские стратегии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82880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язычные родители в смешанных браках не поддерживают стремление партнера воспитать ребенка двуязычным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ние второго ребенка ослабляет мотив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язычные родители максимально поощряют усилия партнера сохранить второй язык у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7418-633B-417C-A97D-E7B71BD13E73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двуязычи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ние (на различном уровне) двумя язы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оение двух языков с рождения или в раннем возрас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ественное двуязыч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усственное двуязыч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C268-847E-4B53-A87E-124C211904B0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дительские стратегии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371600"/>
            <a:ext cx="84470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одитель перефразирует высказывание ребенка, содержащ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бе элементы двух языков, таким образом, чтобы о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учало правильно на определенном языке, но не просит ребен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ить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продви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независимости от выбора ребенком языка общения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сти языковых конструкций, родитель продолжа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овор на определенном языке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лючение к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сли ребенок смешивает оба языка или отдает явн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чтение одному из языков, родитель переключается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язык или смешивает конструкции вслед за ребенком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029C-C5FA-4A2D-9CB4-A153E3AA92F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дительские стратегии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676160"/>
            <a:ext cx="84470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н родитель – один язы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минимального поним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одитель, делая вид, что не понимает высказыван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нуждает ребенка говорить на определенном языке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открытого угады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одитель с помощью вопроса-перевода на целе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высказывания ребенка уточняет смысл сказанн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отвечает на искомом языке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активного по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одитель поправляет ребенка намеком (начиная слово), взглядо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я ребенку возможность самому выбрать правильную форму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136-B65C-46B2-958D-E5EBEC11A5BA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говорить с ребенко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371600"/>
            <a:ext cx="84470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а четкая артикуляция и проговаривание звук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едуцировать и не проглатывать оконч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ить за темпом реч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ускать как можно меньше элипсисов – каждое слово на вес золо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а подача языкового материа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ться говорить на разные т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ытаться употреблять как можно больше синонимов и устойчивых выражений в своей реч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ксировать внимание ребенка на тех выражениях, которые вы употребляе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онтекст ситауции позволяет, повторить слово или выражение несколько раз, слегка обыграв его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вать вопросы и вести диал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BBC2-6A2A-44FA-A161-C9B0B7A86AF8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поправлять ребенк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523520"/>
            <a:ext cx="8447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авлять всегда, но четко различать, что надо поправить сейчас, а к чему вернуться потом. А для этого надо знать, что и когда усваивает ребенок в своем Я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беседы прерывать мало. Попытаться запомнить несколько ошибок и оговорить их по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оропиться закончить за ребенка фразу, угадать, что он хочет сказать. Давать ему выговориться, где-то помогая, а где-то пусть сам выплыв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шибки связаны 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м автоматизации ре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нанием формы, слова или констру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3D39-4397-4F50-BD93-912477F0527B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поправлять ребен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447920"/>
            <a:ext cx="844704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повторить, что говорит ребенок (и попросить повторить за собой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все слово или выраж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только первый слог, а ребенок должен закончить сам в правильной форм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начинательное движение ртом – сигнал, что ребенок сказал что-то неправильно и что ему надо себя исправ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ять, почему ребенок сказал что-то неправильно, где он сделал ошиб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конфликтные ситуации – дает возможность увидеть, почему надо использовать определенные форм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5256-D472-46EB-B79A-E4D3EB104EDA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читать с ребенко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676160"/>
            <a:ext cx="84470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ть ребенок должен с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8 – 9 лет нет смысла заставлять ребенка пересказывать текст в форме монол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дить содержание текста лучше всего в беседе, диалог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ть несколько незнаком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х слов и их оговорить, обыграть, придумать предложения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DA32-C0E7-49F7-864E-B3E0ECF828ED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писать с ребенко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676160"/>
            <a:ext cx="84470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исывание – автоматизация письма, развитие гештальтной памяти (как пишутся слов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ктанты – восприятие языка на слух, абстрагирование от конкретной фонетической реализации сл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письмо – составление описаний по картинк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ь поработать самостоятель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обрать написанное, осмыслить ошиб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ть то же самое еще раз с учетом разб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FE39-5651-4C1A-8838-D0BE8DB936EA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писать с ребенк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а построила гнезд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на йички здел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етот йички раст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лёнки. И ма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итела с червя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цеплёнки йели червя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ни растили балша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разбо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а построила гнезд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искала веточки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ила в гнездо. А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есла яички. Из эт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ички выросли птен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ма прилетела с червя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ормила птенцы. И э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енцы виросли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ую птицу и о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етели из гнезд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0520" y="32000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.V.Peeters-Podgaevskaja@uva.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http://home.medewerker.uva.nl/a.v.peeters-podgaevskaj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07EA-DCB7-470E-B806-A59A860E0D57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ейкова М.Д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нние этапы усвоения детьми имен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рфологии русского язы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сква,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гарина Н.В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новление грамматических категорий русск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агола в детской ре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.-Петербург, 200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дден 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ши трехъязычные де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.-Петербург: Златоус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асова 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одина Н.М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ногоязычие в детском возрас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-Петербург: Златоуст,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йтлин С.Н., Елисеева М.Б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уть в язы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сква,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йтлин С.Н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черки по словообразованию и формообразовани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детской ре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сква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FA24-F811-4718-997F-FA69B37F0E9E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юсы и минусы двуязыч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699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у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ый словарный запа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рость и автоматизация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ю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контрол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ость в переключении фокуса вним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AC2A-B386-4CD2-A3CC-6BFCBDC482C2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ипы билингв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ультанные билинг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ые билингв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д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ий период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-4? 6-7? 10-12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50C7-4337-4B7F-B5EC-C83BB9D8D5D8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отношение языков у двуязычного носите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2514600"/>
            <a:ext cx="8229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ичный и вторичный язы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и второй язы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инантный и слабый язы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8415-6EF6-46D1-A397-3FA10A4C6ABF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заимодействие двух языков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еза «Общей системы языка»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tory language system hypothes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еза «Раздельного развития»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development hypothes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C93C-97DC-4883-8CBB-89F7ADA29BCB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заимодействие двух языков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ы подавления и актив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switch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переключение языкового кода в общ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аверх, яблок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 меня все желт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kj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терфере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ы мн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нкаеш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Дай мн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рнал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Он стоит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ками; Кольцо сидит на пальце; Он шесть лет; Я тв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 для всегда; Она повесила себ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21D5-253E-4AF6-B3EB-9511E6DE3700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можно ли сбалансированное двуязычие?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но стоит огромного т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– несбалансированно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пут на двух языках разный и в количественном и в качественном отношен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пласты Я2 и ситуации не освоены; ребенок не владеет необходимой лексик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грамматические аспекты в Я2 не автоматизирова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B99C-D71C-4020-A8B5-07B87EE0E8C1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освоения русского языка как родного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523520"/>
            <a:ext cx="82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3 – 4 л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нутрипадежное смешение оконч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дядем, из гараж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мешение сущ. жен. и сред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олубая неб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ормативное склонение несклоняемых и разносклоняемых сущ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граю на пианине, хожу в паль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усвоен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я одушевленности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е склон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 числитель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ижу мальчик, белый со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ормативное образование степени сравнения у прилагательных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еч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сокее, шире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блемы с чередованием в основах и на стыке основ и флекс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исоваю, плакаю, сидю, на палеце, в р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довые пары освоены недостаточно.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верный выбор предлогов или их отсутствие (в темпоральны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зальных и других конструкциях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5763-3C6B-467E-BC9A-ECFD8467D99E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5:00:54Z</dcterms:created>
  <dc:creator>Janssen</dc:creator>
  <dc:description/>
  <dc:language>en-US</dc:language>
  <cp:lastModifiedBy>Alla Peeters Podgaevskaja</cp:lastModifiedBy>
  <dcterms:modified xsi:type="dcterms:W3CDTF">2012-09-25T15:04:56Z</dcterms:modified>
  <cp:revision>131</cp:revision>
  <dc:subject/>
  <dc:title>Typological constraints for the acquisition of gender and case. A cross-linguistic comparison of monolingual and bilingual acquisition of gender and case in Polish and Russian. </dc:title>
</cp:coreProperties>
</file>