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662C-D4F5-48FC-AF59-D868F4B6268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C952-962A-42DD-8B55-BD1E4271C28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1514-921D-4615-B044-F88069A7C26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9F91-73F4-42DF-815B-BF9D141E546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6993-A42B-4F98-A5B6-CA7EB29DC1E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ECCC-6F75-4E9D-9E1B-913D09E07D3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4225-17E7-4F27-8A25-9024033B7AE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BEBA-7993-47BE-B183-C30648E5D4E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Sweden enacts new exit tax rules with effect form 1 January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Swedisch Supreme Court 24 Arp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ourt of Appeal Amsterdam 15 July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A8A9-2C52-4594-8A38-BC6E1B6CD32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B508-48B1-4A10-91BE-7E927DAF43C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A334-FE25-4FAA-8D09-5DB9F8B60B4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F561-63F6-452B-9494-AD3C3EB0A0A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1D5-E0E2-4265-A17E-AC97F98A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04D3-ACBF-48F8-B1B9-B76385D9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4019-C202-4BDE-8B43-B9D5FD82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8AEB-6DFD-4642-B525-FC431B59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B041-48CD-4FD9-80E6-9550C807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2E3C-38DF-40E9-B53A-2081D73B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7481-0326-4EE2-95EF-4F7F3CCD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BCF-EA0A-4FB6-B587-70C52C83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CB3-CC9D-490A-8F7B-C8113BAE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AB5C-D266-4CC9-B73A-B51F47AE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B60-FC60-4FAB-A8E8-4D3F5DBE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0B5-EEFF-4345-B3BC-C7574D58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8EEA-1DF9-4F40-B717-1604A4EABD5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0006-C425-4196-BEA0-6108ACF951F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5880" y="1928520"/>
            <a:ext cx="7772400" cy="18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Transfer of seat, crossborder conversion of companies and </a:t>
            </a:r>
            <a:r>
              <a:rPr b="0" i="1" lang="nl-NL" sz="4000" spc="-1" strike="noStrike">
                <a:solidFill>
                  <a:srgbClr val="000000"/>
                </a:solidFill>
                <a:latin typeface="Times New Roman"/>
              </a:rPr>
              <a:t>exit 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99760" y="4572000"/>
            <a:ext cx="64803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. Jan van de Str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versity of Amsterd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Sevic Systems AG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J 13 december 2005, C-411/03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04836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Sevic 20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spute = refusal by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mwandlungsgeset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registrate the merger in the commercial regis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CJ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1) Cross border mergers are – like other reorganizations – particular methods of exercise of the freedom of establish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2) Different treatment cross border mergers vs. internal mergers = restri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rger at issue (i.e. upstream parent-sub-merger)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ffectiv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‘tool’ to continue a activity in a new form without liquid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Hughes de Lasteyrie (2004)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&amp;  N (2006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1031760" y="1898640"/>
            <a:ext cx="80298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mendments Merger Directive 200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4360" y="169992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s from January 1st 2006 rules for transfer registerd office SE/S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hapter V, art. 12 -14 Merger Dir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rt. 12: art. 4-appraoch, i.c. no taxation assets connected with remaining 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ransfer of registerd office SE requiers also transfer of real seat (art. 7/8 SE-statu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hy not other companies, but only SE’s/SCE’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9BE7-2732-4B9D-B25E-FF5B6FFCB54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Communication EC 2006 COM(2006)8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920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steyrie &amp; N have ‘direct implications for exit taxes on companies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C mentions different types of exit taxes, bu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transfer of the real seat of regular companies and Daily Mai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mendments Fiscal Merger Directive ‘are silent to assets which do not remain connected to a 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eyrie &amp; N apply to those assets (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tra guidelines tot avoid ‘mismatch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8200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act assessment 2007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rective cross border conver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istory 1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rporate law directive on transfer of company se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997: Proposal, bridge-function between connecting factors, for instance real seat transfer with change applicable company la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004:  Consultation; result = transfer of formal and real seat a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ifferent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blem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act assessment 200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nsfer of real seat is already possible (?!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nsfer of formal seat is not possible, but EC will wait… 2012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C 2007: Transfer of seat </a:t>
            </a:r>
            <a:r>
              <a:rPr b="0" i="1" lang="nl-NL" sz="4000" spc="-1" strike="noStrike">
                <a:solidFill>
                  <a:srgbClr val="000000"/>
                </a:solidFill>
                <a:latin typeface="Times New Roman"/>
              </a:rPr>
              <a:t>excluding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influence of EC-la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A202-EB34-4049-971B-B90F1BE6D93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92869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C 2007: Transfer of seat </a:t>
            </a:r>
            <a:r>
              <a:rPr b="0" i="1" lang="nl-NL" sz="4000" spc="-1" strike="noStrike">
                <a:solidFill>
                  <a:srgbClr val="000000"/>
                </a:solidFill>
                <a:latin typeface="Times New Roman"/>
              </a:rPr>
              <a:t>including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the influence of EC-la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77F5-FF86-430A-A91F-34B67B8CE5F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57120" y="2571840"/>
            <a:ext cx="933444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Cartesi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CJ 16 december 2008, C-210/0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0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662472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Cartesio 20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08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spute = refusal to amend real seat in Hungarian commercial regis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CJ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1) The question whether art. 43 EC applies to a company is 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limina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question, which can only be solved by the applicabl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ation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aw (10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2) A restriction can only first arise if a company has the right to the freedom of establishment (10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3) However, this is different for a cross border conversion of the company (11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4) SEVIC is similar to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reersing (12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niversity of Amsterd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hD 2008 on conversion of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nst &amp; Young Netherlands Amsterd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250C-CD92-42A5-B24A-929753E2741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Questions after Cartes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4000" y="1484280"/>
            <a:ext cx="7848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Cartesio ‘cross border conversion’ also applicable to transfer of registered offi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ric Kemmer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 / Dutch civil practice: 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cross border conversion also possible if only the exit state permits it? – See V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 company a choice betwe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seering and Cartes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ap Bellingw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x effec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ention of legal personality = retention of tax liability, so no exit 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6672-53F9-4350-AE46-1B98AFD6542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Pending case VALE Építési Kft.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(C-378/1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3D16-DF0D-417A-A6A1-7D37B0B2F9F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6408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Communication Council 2008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(p. 993 Web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2139480"/>
            <a:ext cx="7991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Disappointing) reaction on COM(2006)82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uiding principles are political com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is left to MS’s d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of seat of a company is mentioned (A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uideline C refers to unrealised gains on asse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exit state reserves the option to tax unrealised gains, the host state takes the market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ringement proceedings exit tax on companies 2009-20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44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ain –referred to CJ Oktober 8 2009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ortugal – referred to CJ Oktober 8 2009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nmark – referred to CJ November 24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etherlands – referred to CJ November 24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lgium – formal request EC March 18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weden - clo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50B3-3DDB-4F8B-BC66-6C918E28C01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1360" y="493200"/>
            <a:ext cx="889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Supreme Court Sweden (Regeringsr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tten)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EE75-D6D8-415B-BE2F-9DD14C28D6F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2643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Pending Dutch Case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National Grid Indus BV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-371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50D2-F40C-4CE6-BB92-6EEDC7EF333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763272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Transfer of real seat in the CCCTB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46B5-3E92-4FFA-A307-CE138C1BCA6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4176720" cy="3827520"/>
          </a:xfrm>
          <a:prstGeom prst="rect">
            <a:avLst/>
          </a:prstGeom>
          <a:ln w="0">
            <a:noFill/>
          </a:ln>
        </p:spPr>
      </p:pic>
      <p:cxnSp>
        <p:nvCxnSpPr>
          <p:cNvPr id="122" name="Straight Arrow Connector 7"/>
          <p:cNvCxnSpPr/>
          <p:nvPr/>
        </p:nvCxnSpPr>
        <p:spPr>
          <a:xfrm>
            <a:off x="1763640" y="2565360"/>
            <a:ext cx="929520" cy="3578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3" name="Text Box 8"/>
          <p:cNvSpPr/>
          <p:nvPr/>
        </p:nvSpPr>
        <p:spPr>
          <a:xfrm>
            <a:off x="611280" y="1916280"/>
            <a:ext cx="27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nsoli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395280" y="5516640"/>
            <a:ext cx="839628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zon"/>
          <p:cNvPicPr/>
          <p:nvPr/>
        </p:nvPicPr>
        <p:blipFill>
          <a:blip r:embed="rId1"/>
          <a:stretch/>
        </p:blipFill>
        <p:spPr>
          <a:xfrm>
            <a:off x="1258920" y="260280"/>
            <a:ext cx="1619280" cy="1603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135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mark judgements company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mark judgements exit tax individ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ndments Merger Dir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EC exit t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Assessment transfer s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Cou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ingement procee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ding Dutch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seat in CCC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827463851_14_-XTt"/>
          <p:cNvPicPr/>
          <p:nvPr/>
        </p:nvPicPr>
        <p:blipFill>
          <a:blip r:embed="rId2"/>
          <a:stretch/>
        </p:blipFill>
        <p:spPr>
          <a:xfrm>
            <a:off x="5940360" y="3716280"/>
            <a:ext cx="24447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Daily Mail vs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UK Treasury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J 2 july 1988, 81/8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BB41-5F90-4E81-9485-53D88B81FE2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597672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Daily Mail 198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spute = UK Treasury approval for transfer of head off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CJ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1) Freedom of establishment has two dimens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2) Companies are creatures of la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3) Transfer of real/formal seat falls outside the scope of the EC-trea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4) EC-treaty gives no right to transfer real seat while continuation of legal capac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The big problem with Daily Mail for two decades (1988-200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udoczky (INTERTAX, 200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ct that Daily Mail has was decided on a wrong basis has been expressed by numerous academics and commentators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ily Mail-case is 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ather conspicuou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ily Mail woul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e its legal personality under UK law due to transfer of real s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urt acknowledges this in par. 3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C117-90E6-492D-8DB6-7C28ED69E6F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Is Daily Mail still a live or obsole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imes New Roman"/>
              </a:rPr>
              <a:t>Degree of intergration of the internal market requires more corporate mo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imes New Roman"/>
              </a:rPr>
              <a:t>Case law on the freedom of establisment has developed significantly since 199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imes New Roman"/>
              </a:rPr>
              <a:t>Art. 293 EC-treaty is repealed b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eaty of Lisb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imes New Roman"/>
              </a:rPr>
              <a:t>However, MS company law regadering connecting factor has not changed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E826-E7DA-4731-B685-65D2B8C5D06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Überseering BV vs. NCC GmbH</a:t>
            </a:r>
            <a:br>
              <a:rPr sz="4000"/>
            </a:br>
            <a:r>
              <a:rPr b="0" i="1" lang="nl-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J 5 november 2002, C-208/0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1403280" y="1914480"/>
            <a:ext cx="63374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Überseering 200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spute = refusal b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ivilprozessordnu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legal capacity Dutch BV necessary to sue N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CJ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1) Daily Mail concerned relations between MS of origin and transferring compan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2) This cases concerns the recognition of a (transferred) company by the host state, and fall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utside the scope of the EC-trea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3) The non-recognition = restri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4) Rule of reason cannot justify non-recogni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59CD-942B-417C-B772-86EDA7A9B81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13:29:49Z</dcterms:created>
  <dc:creator>J.L. van de Streek</dc:creator>
  <dc:description/>
  <dc:language>en-US</dc:language>
  <cp:lastModifiedBy>Streek,J.L. van de, Jan</cp:lastModifiedBy>
  <dcterms:modified xsi:type="dcterms:W3CDTF">2011-01-29T13:27:21Z</dcterms:modified>
  <cp:revision>746</cp:revision>
  <dc:subject/>
  <dc:title>Onvolwaardige vorderingen in de Wet VPB 1969 en de  Wet IB 2001</dc:title>
</cp:coreProperties>
</file>