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0B0-978F-48CD-BF8E-331BE942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01F-48B7-48D4-A622-4CA997B5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47A-E1D3-4B8F-AB09-2BC1DE8F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3C1-0DAC-48FC-85FD-175E2989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CCB-9BDC-458B-93DE-2F532581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3D4-6E67-43A6-B36B-44B1427E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CA4-9856-44BA-B8A8-435B69DD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CB9-526A-4913-B258-FED505E8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679-59A1-4EEA-A4AB-3D52731B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C63-5DA0-405C-BED7-9F205D5C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451-47D1-4AB1-B098-2AE18222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579-EFB6-4FB0-B86D-A44A4020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FC04-2FAA-4D01-BC84-A76A8D7FB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Synchrony in Diachrony: The interpretation and analysis of &lt;w&gt; in Mycenaean Gr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roen 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University of Amsterdam / AC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riginal opposition between [kw] and [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] neutrali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*hikwos &gt;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hik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hors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*kwas &gt;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-[k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propert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ut Mycenaean still has opposition between [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] (= &lt;q&gt;) and &lt;kw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t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uk&lt;w&gt;oha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completely made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nom. pl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odak&lt;w&gt;enta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with teeth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nom. pl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g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ug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:ta: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cow-sheper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tehe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jar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dual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o, either [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] is not correctly interpreted, either [kw] (in fact, [kw] should be [k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] and as a result is not subject to this neutr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Synchronic phonotac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requent alternation with [u] suggests labial Po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barakuei/ &gt;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baraku&lt;w&gt;ei] ~ [barak&lt;w&gt;ei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smarag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pa-ra-ku-we ~ pa-ra-ke-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duo:/ &gt;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du&lt;w&gt;o:] ~ [d&lt;w&gt;o: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tw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u-wo ~ d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odakuenta/ &gt;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odaku&lt;w&gt;enta] ~ [odak&lt;w&gt;enta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with teeth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-da-ku-we-ta ~ o-da-ke-we-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ycenaean orthography reflects syllabic structure and thus consonantal strength, given that tautosyllabic onset consonants have falling consonantal str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i-ri-no = [&lt;w&gt;rino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skin of ox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o-ro-ma = [&lt;w&gt;lo:ma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fring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pe-ne-we-ta = [sp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:n&lt;w&gt;enta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with wedges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acc. pl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ko-wo = [kor&lt;w&gt;o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bo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ka-wa-do-ro = [kal&lt;w&gt;andros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proper nam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iven that all onset consonants are written, [&lt;w&gt;r], [&lt;w&gt;l] and [n&lt;w&gt;] are tautosyllabic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das are omitted, consequently [r&lt;w&gt;] and [l&lt;w&gt;] are heterosyllab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his yields the (partial) scale of consonantal stren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 &gt; &lt;w&gt; &gt; l,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hen interpreted as a semivowel [w], *[wr], *[wl], *[r.w], *[l.w] would violate the universal scale of consonantal str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bstruents &gt; nasals &gt; approximants &gt; semivowels &gt; vow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Mycenaean, no reverse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s a result Mycenaean &lt;w&gt; can better be interpreted as a labial approximant: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[υ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This would result in well-formed [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], [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], [r.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], [l.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This interpretation is in harmony with other data: consonants with the same consonantal strength are well-formed tautosyllabic clusters, as long as the Po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dorsal &gt; labial &gt; coronal, otherwise they are heterosyllab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bstruent + obstru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rapte:r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a-pte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dress-mak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tekto:n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te-ko-to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wood-carv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popp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] &lt; /dp/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po-pi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base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instr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nasal + nas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amniso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-mi-ni-so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placenam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emmist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&lt; /nm/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-mi-to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with wag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pproximant + aproxima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[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lo:ma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o-ro-ma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fring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ino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i-ri-no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skin of ox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kor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ko-wo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bo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kal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ndro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ka-wa-do-ro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proper nam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his interpretation results in an asymmetry between coronal and labial approxim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ronal 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semivowel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[j] vs. labial 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approximant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[υ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wever, this asymmetry is systematic and can also be found in diphthongs and consonant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phtho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phthongs with second part [u] are written in full, second part [i] is usually o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eleut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ro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-re-u-te-ro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free from taxe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apukekaumeno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-pu-ke-ka-u-me-no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burn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he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i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-ke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have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3.s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peraigolahija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pe-ra-ko-ra-i-ja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placenam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phthongs with [u] seem to be str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sonant 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/u/ or /i/ changes into a consonant when followed by another vow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pair strategy in order to avoid hi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wever, /u/ results in [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], /i/ in the secondary articulation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ksenua/ &gt;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kse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foreign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acc. pl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barakuei/ &gt;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barak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i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smaragd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dat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lkia/ &gt;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l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bronze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acc. pl.neut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bial /u/ is stronger than coronal /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historical linguistics, the use of diachronic reconstructions and etymology is dominant in interpreting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this presentation, I will explore how 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synchronic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phonotactics can contribute to the interpretation and analysis of these historic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Synchronic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phonotactics: support from a) synchronic analysis of the language itself, and b) cross-linguistic parall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Cross-linguistic parall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f. Classical Gre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Coronal diphthongs inherited from PIE at the end of the word are short in poetry, labial diphthongs are always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Coronal diphthongs at the end of the word participate in deletion just as short vowels do, labial diphthongs and long vowels never 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iphthongs [ai] and [oi] are short for assigning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f. post-classical Gre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au], [eu] &gt; [av], [e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ei], [oi], [ai] &gt; [i], [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f. Armenian (Vaux 1998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u/ alternates with fricative [v]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lezui/ &gt;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lezvi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longue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gen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katuit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s/ &gt;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katvit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s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cat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abl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dzuer/ &gt;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dz</a:t>
            </a:r>
            <a:r>
              <a:rPr b="0" lang="nl-NL" sz="2000" spc="-1" strike="noStrike">
                <a:solidFill>
                  <a:srgbClr val="ffffff"/>
                </a:solidFill>
                <a:latin typeface="Ipa-samd Uclphon1 SILDoulosL"/>
                <a:ea typeface="Ipa-samd Uclphon1 SILDoulosL"/>
              </a:rPr>
              <a:t>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er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egg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i/ alternates with [j]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biur/ &gt;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bjur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mone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liard/ &gt;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ljard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liv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niut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 &gt;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njut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subjec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f. Dut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Labial sonorants are more consonantal than coronal ones (van der Torre 2003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:t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cruel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a</a:t>
            </a:r>
            <a:r>
              <a:rPr b="0" lang="nl-NL" sz="2000" spc="-1" strike="noStrike">
                <a:solidFill>
                  <a:srgbClr val="ffffff"/>
                </a:solidFill>
                <a:latin typeface="Ipa-samd Uclphon1 SILDoulosL"/>
                <a:ea typeface="Ipa-samd Uclphon1 SILDoulosL"/>
              </a:rPr>
              <a:t>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bitt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*[j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achronic approach is based on assumptions and cannot provide more than an approximate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ynchronic data like phonotactics of the language itself and cross-linguistic parallels provide stronger ev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ycenaean &lt;w&gt; should be interpreted as a labial approximant [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his interpretation suggests that labial approximants are stronger and more consonantal than coronal approximants: [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] vs. 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his is exactly in harmony with the systematic asymmetric phonotactics and orthography of labial and coronal approximants, the diachronic neutralization of *kw and *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nd crosslinguist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Selected 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ss, R. (1984).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Phonology: An Introduction to Basic Concepts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mbridge: University Press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Levi, S. V. (2004).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The representation of underlying glides: a cross-linguistic study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, diss. University of Washing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Steriade, D. (1982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Greek prosodies and the nature of syllabification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diss. MIT, Cambridge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an der Torre, E. J. (2003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Dutch sonorants: the role of place of articulation in phonotactics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diss. Universiteit Lei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aux, B. (1998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The phonology of Armenian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Oxford: Clarendon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ntris, M. &amp; J. Chadwick (1972[1956]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Documents in Mycenaean Greek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Cambridge: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is, J. (2008).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Ζητήματα από τη φωνολογία της Μυκηναϊκής Ελληνικής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diss. University of 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West, M. L. (1982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Greek metre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Oxford: Clarendon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ase study: the interpretation and phonotactic analysis of &lt;w&gt; in Mycenaean Gr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otivation: a) interpretational questions with respect to Mycenaean Greek, in particular &lt;w&gt; b) glides are an issue of ongoing linguistic deb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Structure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verview of the language and its orth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raditional interpretation of &lt;w&gt; based on diachronic reco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vidence provided by synchronic phonotac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dditional support by cross-linguistic parall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The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9908040710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551400" cy="4489560"/>
          </a:xfrm>
          <a:prstGeom prst="rect">
            <a:avLst/>
          </a:prstGeom>
          <a:ln w="0">
            <a:noFill/>
          </a:ln>
        </p:spPr>
      </p:pic>
      <p:pic>
        <p:nvPicPr>
          <p:cNvPr id="51" name="linB_tablet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200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reek language, deciphered by Ventris &amp; Chadwick 19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ources: inscriptions, dated at about 1450-1250 b.C., major finding places: Cnossos, Pylos, Mycenae, Thebes and Tiry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riekenland%20lineair%20b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485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rthography by means of syllabograms of the type (C)V (Linear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ranscription of syllabograms is conventional and does not reflect the exact phonetic re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 distinction between laryngeal features (voiceless, voiced, aspirated), long and short vowels, r an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 onset consonants are written by reduplicating the vowel of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das are o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a-ko = [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kos]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‘bronz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-re-ku-tu-ru-wo = [alektru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:n]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‘proper 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o-ro = [pro] or [po:los]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‘pro’ or ‘foa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i-ka-sa-ma = [aiksmans] or [aiksma:s]? ‘arrow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acc.pl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o-pe-re-u = [skopeleus] or [kopreus] or ??? ‘proper 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Traditional interpre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ycenaean &lt;w&gt; corresponds with PIE *w and &lt;F&gt; (digamma) of ancient dial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th PIE *w and ancient &lt;F&gt; are assumed to be the semivowel [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other words: this interpretation is based on assumptions of 3000(?) years earlier and 500 years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6:07:37Z</dcterms:created>
  <dc:creator>Eigenaar</dc:creator>
  <dc:description/>
  <dc:language>en-US</dc:language>
  <cp:lastModifiedBy>Eigenaar</cp:lastModifiedBy>
  <dcterms:modified xsi:type="dcterms:W3CDTF">2009-03-23T13:42:47Z</dcterms:modified>
  <cp:revision>6</cp:revision>
  <dc:subject/>
  <dc:title>Synchrony in Diachrony: The interpretation and analysis of &lt;w&gt; in Mycenaean Greek</dc:title>
</cp:coreProperties>
</file>