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EF4-815A-4B4B-B6FC-68973A9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BB8-9850-46E7-848A-4891A1A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082-1CB1-4BE3-AE47-2CEBE564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B08-9FDE-475F-A32B-66BC308D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638-2737-4159-9EDC-71722E0E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E5A-3C27-4248-8E92-0771899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437-166B-4D6A-808A-ACEE3A6A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CC4-33D2-43C4-9B71-0F516A6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89E-F842-4BA4-ADE3-945B3E9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E8C-5B04-4BF8-8796-306CE1F0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23C-E0BD-4B6C-8BC3-E7140A3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37B-62EC-4F50-8A02-27840AF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74B-EC6B-4E8F-A4CB-9DB3D6BB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Variation in Mycenaean Gr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Jeroen 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University of Amsterdam / AC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97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Siever’s law? -----&gt; NO, because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 syllable + *ij / *uw, light syllable + *j / *w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kno:ssijos] (from Knossos) vs. [a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ha] (bette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rg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n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ultivate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part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sp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: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nta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with wedges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korijandna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coriand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marat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n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fenne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ccurs also with respect to the very same 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meletrija] ~ [melet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mille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e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kijos] ~ [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bronze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lauran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ja] ~ [lauran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h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placenam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hik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ja] ~ [hik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charriot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perusin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 ~ [perusi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yesterday’s</a:t>
            </a:r>
            <a:r>
              <a:rPr b="0" lang="nl-NL" sz="20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:] ~ [d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: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tw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baraku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i] ~ [barak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i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smargd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enualijos] ~ [e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ijos] 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‘proper 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orphological / phonological context? -----&gt; Parti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red realization of certain affixes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-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ent-], [-ijos], [-ij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occurrence of labial 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[υ] (O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&gt; But not cru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ove affixes may surface in both rea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ccurs also with respect to the very same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ialectal different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cept-based corpus linguistics: Measuring convergence and divergence in a concept-based way, an approach for charting distances between language varieties (Geeraerts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cept: hiatus solution of /Ci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/ and /Cu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rpora: All attested complete words on the inscriptions of Pylos (Corpus 1) and Cnossos (Corpu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ormul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986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76520" y="1752480"/>
          <a:ext cx="600048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0004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cluding, no language external parameter (geography, orthography) or structural parameter (Siever’s law, morpho-phonological context) can adequately account for the attested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s a result, the variation should be considered as a dynamic property of the language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Formalizing va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T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ranked constraints (Anttila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arallel grammars (Tzakosta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ochastic constraints (Boersma &amp; Hayes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rank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wo (or more) constraints are unranked with respect to each other. During the evaluation of the hierarchy, a violation mark is assigned to both constraints, resulting in surface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6960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25360" y="622440"/>
          <a:ext cx="8704440" cy="420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622440"/>
                    <a:ext cx="870444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isch (1966): Discussion of variation in Mycenaean Greek (Pylos and Cnossos) with respect to the fe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*mn &gt; ma ~ 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at. s.: -ei ~ 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ord internal e ~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énien normal vs. Mycénien spé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tended to Mycenae by Hajnal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riation of type du-wo ~ dwo, ka-ki-ja ~ ka-za ascribed to orthography but no detailed discussion of possible other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wever, this would predict a distribution of 50% - 50% of both surface forms, which is not the case in Mycenaean Gre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j-anap. vs. fusion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-anap. vs. υ-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80% vs. 20%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0% vs.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olution: adding more constraints (up to 3 per 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ut then we would need 10 constraints to account for the distribution of variation, whereas the phenomenon itself can be analyzed by means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hat in the case of 99% vs. 1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arallel gramm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wo different, but fully ranked grammars are activated by the speak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Grammar A: Integrity &gt;&gt; Unifor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a/ &gt; [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Grammar B: Uniformity &gt;&gt;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a/ &gt; [k</a:t>
            </a:r>
            <a:r>
              <a:rPr b="0" lang="nl-NL" sz="20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alkij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 account of the distribution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86680" y="2181960"/>
            <a:ext cx="737064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ochastic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straints have an evaluation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range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instead of an evaluation 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valuation ranges can overlap partially, thus resulting in surface var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1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   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05520"/>
            <a:ext cx="3048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562720"/>
            <a:ext cx="3048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800600"/>
            <a:ext cx="129564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Uniformity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grity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Identity IO [s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666880"/>
            <a:ext cx="3048120" cy="3812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276720"/>
            <a:ext cx="3048120" cy="380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514600"/>
            <a:ext cx="1143000" cy="1295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95280"/>
              <a:gd name="textAreaBottom" fmla="*/ 1239480 h 129528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800600"/>
            <a:ext cx="3048120" cy="380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5486400"/>
            <a:ext cx="3047760" cy="380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4648320"/>
            <a:ext cx="1143000" cy="1295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95280"/>
              <a:gd name="textAreaBottom" fmla="*/ 1239480 h 129528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105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00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4864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743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nl-NL" sz="2400" spc="-1" strike="noStrike" baseline="30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lkija (80%) vs. k</a:t>
            </a:r>
            <a:r>
              <a:rPr b="0" lang="nl-NL" sz="2400" spc="-1" strike="noStrike" baseline="30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lk</a:t>
            </a:r>
            <a:r>
              <a:rPr b="0" lang="nl-NL" sz="2400" spc="-1" strike="noStrike" baseline="30000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a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l-GR" sz="2400" spc="-1" strike="noStrike">
                <a:solidFill>
                  <a:srgbClr val="ff3300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o: (80%) vs. du</a:t>
            </a:r>
            <a:r>
              <a:rPr b="0" lang="el-GR" sz="2400" spc="-1" strike="noStrike">
                <a:solidFill>
                  <a:srgbClr val="ff3300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3300"/>
                </a:solidFill>
                <a:latin typeface="Times New Roman"/>
              </a:rPr>
              <a:t>o: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 above discussed type of variation -u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- ~ -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- / -ijV- ~ -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- cannot be ascribed to orthography, morphophonological parameters, Siever’s law or geographic di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s a result, it should be interpreted as a dynamic property of the language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ochastic OT can adequately account for the variation and its unequ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tribution of linguistic theory to the interpretation of Mycenaean Greek and v.v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oncept based corpus-linguistics can define in more detail the nature of variation with respect to geographic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ycenaean data provide arguments in favour of stochastic OT as a tool of formalizing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33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elected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Tzakosta, M. (2004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Multiple parallel grammars in the acquisition of stress in Greek L1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diss. Universiteit Lei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Boersma, P. &amp; B. Hayes (2001). “Empirical tests in the gradual learning algorithm”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Linguistic Inquir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32: 45-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aux, B. (1998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The phonology of Armenian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Oxford: Clarendo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Geeraerts, D. (2004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Corpus-based sociolectometr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Classnotes at LOT Summerschool, Universiteit Utre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nttila, A. (1997). “Deriving variation from grammar: a study of Finnish genitives” Hinskens, F. et al. (eds.)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Variation, change and phonological theor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Amsterdam: John Benjamins, 35-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Risch, E. (1966). “Les différences dialectales dans le Mycénien” Palmer, L. &amp; J. Chadwick (eds.)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Proceedings of the Cambridge colloquium on Mycenaean studie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Cambridge: University press, 150-1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Hajnal, I. (1997). </a:t>
            </a:r>
            <a:r>
              <a:rPr b="0" i="1" lang="nl-NL" sz="1800" spc="-1" strike="noStrike">
                <a:solidFill>
                  <a:srgbClr val="ffffff"/>
                </a:solidFill>
                <a:latin typeface="Times New Roman"/>
              </a:rPr>
              <a:t>Sprachgeschichte des mykenischen Griechisch. Zur Frage der Differenzierung zwischen ‘Mycénien normal’ und ‘Mycénien spécial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, suppl. ad Mino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Ai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discuss possible parameters that could lead to variation of this type in Mycenaean Gr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Orth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Siever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orphological / phonological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ialecta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ynamic property of the grammar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formalize the attested alter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explore the contribution of phonolgical theory to Mycenaeology and v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verview of the language and its orthographic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scussion of the nature of alter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 formal analysis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The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ycenaean is a Greek language spoken in the southern Balkans. Its sources consist of ±7000 inscriptions on clay tablets, which are dated at about 1250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4176720" cy="303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32004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Orth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yllabograms of the type (C)V (Linear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onventional transcription in Lati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 =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ryngeal features are not distinct in orth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 onset of the syllable is written in full: pe-re = 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yllable codas are omitted: a-to = 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193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Altern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atus resolution by means of anaptyxis of [j]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segmental f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ios/ &gt;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ijos] ~ [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k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s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bronze’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Ci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/ &gt;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] ~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atus resolution by means of anaptyxis of [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consonant 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perusinua/ &gt; [perusinu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] ~ [perusin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]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‘yesterday’s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nom. 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/Cu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/ &gt;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u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] ~ [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Possible expla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rth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iever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orphological / phonological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alecta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ynamic property of the gramma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rthography? -----&gt; NO, because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is very frequent and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is always of the sam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ccurs systematically only in this phonological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type of variation occurs in other languages, e.g. Armenian, in which it is ascribed to phonological processes (Vaux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7:46:09Z</dcterms:created>
  <dc:creator>Eigenaar</dc:creator>
  <dc:description/>
  <dc:language>en-US</dc:language>
  <cp:lastModifiedBy>Eigenaar</cp:lastModifiedBy>
  <dcterms:modified xsi:type="dcterms:W3CDTF">2009-04-29T13:35:41Z</dcterms:modified>
  <cp:revision>8</cp:revision>
  <dc:subject/>
  <dc:title>Variation in Mycenaean Greek</dc:title>
</cp:coreProperties>
</file>