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1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744-CE77-49DE-A3ED-7E5B7963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4B0-3106-433B-A620-3BF50902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690-AFB3-4597-B0C6-ADC82F8A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26B-D91D-471D-8F2D-A64BA56A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99F-E182-4CD0-9EFC-58A3B058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6DB-5706-4240-8380-66C78E29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3D6-F202-4FB9-A891-D75CF7B3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CE2-3187-4D9F-9AA8-0ED4EFF8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843-8487-49FD-8365-D7C1D027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B43-A454-4A15-908C-1A9D90D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FD6-962D-4EC1-A270-3D49539F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E0D-2F26-4256-90FC-9EF2E07B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B7F5-FE67-475A-B23C-21398FEE6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457200"/>
          <a:ext cx="593856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593856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54120" y="457200"/>
          <a:ext cx="59133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457200"/>
                    <a:ext cx="59133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141560"/>
          <a:ext cx="910908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1560"/>
                    <a:ext cx="91090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1249200"/>
          <a:ext cx="9112320" cy="42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49200"/>
                    <a:ext cx="911232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1170000"/>
          <a:ext cx="912960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0000"/>
                    <a:ext cx="91296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1179360"/>
          <a:ext cx="9109080" cy="42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9360"/>
                    <a:ext cx="910908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1170000"/>
          <a:ext cx="912960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0000"/>
                    <a:ext cx="912960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1160640"/>
          <a:ext cx="910908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0640"/>
                    <a:ext cx="91090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1170000"/>
          <a:ext cx="9112320" cy="42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0000"/>
                    <a:ext cx="91123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160640"/>
          <a:ext cx="9140760" cy="42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0640"/>
                    <a:ext cx="914076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1170000"/>
          <a:ext cx="9137520" cy="42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0000"/>
                    <a:ext cx="91375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3880" y="457200"/>
          <a:ext cx="5916600" cy="59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57200"/>
                    <a:ext cx="59166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1170000"/>
          <a:ext cx="9137520" cy="42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0000"/>
                    <a:ext cx="91375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676520" y="457200"/>
          <a:ext cx="5933880" cy="59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593388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523880" y="457200"/>
          <a:ext cx="590868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57200"/>
                    <a:ext cx="59086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600200" y="457200"/>
          <a:ext cx="5934240" cy="59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93424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35120" y="457200"/>
          <a:ext cx="590868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5120" y="457200"/>
                    <a:ext cx="59086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676520" y="457200"/>
          <a:ext cx="5927760" cy="59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5927760" cy="59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600200" y="457200"/>
          <a:ext cx="59310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9310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558800" y="457200"/>
          <a:ext cx="590868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457200"/>
                    <a:ext cx="59086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1:34:11Z</dcterms:created>
  <dc:creator>Secretariaat ML</dc:creator>
  <dc:description/>
  <dc:language>en-US</dc:language>
  <cp:lastModifiedBy>Secretariaat ML</cp:lastModifiedBy>
  <dcterms:modified xsi:type="dcterms:W3CDTF">2007-01-18T13:18:27Z</dcterms:modified>
  <cp:revision>8</cp:revision>
  <dc:subject/>
  <dc:title>PowerPoint Presentation</dc:title>
</cp:coreProperties>
</file>